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 ranges over constants in P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curity-typed languages [24,27] use type systems that augment the types of data with security labels to statically verify that a program satisfies a security property based on a relationship among those label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curity-typed languages use type systems that augment the types of data with security labels to statically verify that a program satisfies a security property based on a relationship among those label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ttice is used to specify the security goals in terms of labels. if l &lt; l’ then l can flow to l’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(a) L(x) L(z) L(q) get raised to Secret successively. Bu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pple Symbols"/>
              </a:rPr>
              <a:t>L(q) ≼ Public will not hold in the lattice. Therefore constraints fail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pecializing constraints for each context. This may lead too a blow up in constraints. Techniques like k-call strings can be used to limit this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Each list against a constraint Ci  is a list of assignements (of values from the domain to variables) that satisfies that particular constraint. But as we can see only one assignment satisfies all the constraints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-completeness only refers to the run-time of the worst case instances. Many of the instances that occur in practical applications can be solved much more quickl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tructure: Which variables may be constrained by which other variabl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Nature: What combinations of values are allowed for variables that are mutually constrained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63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ll known tractable constraints are closed under one of the above operations. 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8FA5-AFC5-4D95-BA9E-4DDADF354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3F02-8DA3-4B43-AABF-8DC60DB88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5D94-0A5D-4D80-81FC-9EC3FF73F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41F9-90C9-4456-8AE6-FF12132DC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6AB6-AC84-493F-9E14-B12CA153FD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28AF-EED3-47A0-AF36-E8E6E41ADD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2FB4-BB85-4D8D-8FC6-CCF873A5E9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062C4-4EA7-475E-AA17-E441A092D4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0C08-1A13-4C27-9FD1-B25E0C190F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4F24-41CC-435E-9567-0D320EC26C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E090-1F54-4EDC-BC5E-8C6B83F047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8890-3520-48B8-A62E-C1A17A6B4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5CCE-B5CE-4ABF-BEAE-1168AE9E38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FDA6-30AC-4B62-9C23-E9110D03E7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D767-1B7D-4469-9B6B-38E95885E5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AE28-994D-43EE-B7D1-EE911CEDDD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11E8A-1238-49A9-A986-EC10248CEE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F90D-145D-42FF-A887-C8BB2B26C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52D6-BA73-42AA-A26A-4FE1025BE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0A25-4A58-4EAE-9F77-7952B6114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8898-5A5B-40ED-92A2-0E925ABC0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DD37-32FB-4682-AE03-89AB602BE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8CC4-B6B4-4495-854C-9897A39A3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588B-BA90-415E-9980-02EE3640B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marL="1404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140400" indent="-14040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140400" indent="-14040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4200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ABB1-14CC-4427-92C0-8676046D8443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4200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32F5-3DC2-44C0-BC43-C749D1A7E639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_(complexity)" TargetMode="External"/><Relationship Id="rId2" Type="http://schemas.openxmlformats.org/officeDocument/2006/relationships/hyperlink" Target="http://en.wikipedia.org/wiki/Propositional_variable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7320" y="128916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table Constraints in Finite Semilattice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Jakob Rehof, Torben Mogen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73120" y="3936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Presented by </a:t>
            </a:r>
            <a:r>
              <a:rPr b="0" lang="en-US" sz="3200" spc="-1" strike="noStrike">
                <a:solidFill>
                  <a:srgbClr val="003dcc"/>
                </a:solidFill>
                <a:latin typeface="Calibri Italic"/>
                <a:ea typeface="Calibri Italic"/>
              </a:rPr>
              <a:t>Divya Muthukumaran</a:t>
            </a: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otone Function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36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fe"/>
                </a:solidFill>
                <a:latin typeface="Calibri Italic"/>
                <a:ea typeface="Calibri Italic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Pos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fe"/>
                </a:solidFill>
                <a:latin typeface="Calibri Italic"/>
                <a:ea typeface="Calibri Italic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Finite set of monotone functions </a:t>
            </a:r>
            <a:r>
              <a:rPr b="0" lang="en-US" sz="27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arity </a:t>
            </a:r>
            <a:r>
              <a:rPr b="0" lang="en-US" sz="27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 Italic"/>
                <a:ea typeface="Calibri Italic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fe"/>
                </a:solidFill>
                <a:latin typeface="Calibri"/>
                <a:ea typeface="Lucida Grande"/>
              </a:rPr>
              <a:t>ϕ</a:t>
            </a:r>
            <a:r>
              <a:rPr b="0" lang="en-US" sz="27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= (P,F)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a monotone function prob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fe"/>
                </a:solidFill>
                <a:latin typeface="Calibri Italic"/>
                <a:ea typeface="Calibri Italic"/>
              </a:rPr>
              <a:t>T</a:t>
            </a:r>
            <a:r>
              <a:rPr b="0" lang="en-US" sz="2700" spc="-1" strike="noStrike" baseline="-29000">
                <a:solidFill>
                  <a:srgbClr val="0044fe"/>
                </a:solidFill>
                <a:latin typeface="Calibri Italic"/>
                <a:ea typeface="Lucida Grande"/>
              </a:rPr>
              <a:t>ϕ</a:t>
            </a:r>
            <a:r>
              <a:rPr b="0" lang="en-US" sz="2700" spc="-1" strike="noStrike" baseline="-29000">
                <a:solidFill>
                  <a:srgbClr val="000000"/>
                </a:solidFill>
                <a:latin typeface="Calibri Italic"/>
                <a:ea typeface="Calibri Italic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Is the set of </a:t>
            </a:r>
            <a:r>
              <a:rPr b="0" lang="en-US" sz="2700" spc="-1" strike="noStrike">
                <a:solidFill>
                  <a:srgbClr val="000000"/>
                </a:solidFill>
                <a:latin typeface="Calibri Italic"/>
                <a:ea typeface="Lucida Grande"/>
              </a:rPr>
              <a:t>ϕ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rms of range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Τ</a:t>
            </a:r>
            <a:r>
              <a:rPr b="0" lang="en-US" sz="2700" spc="-1" strike="noStrike" baseline="-29000">
                <a:solidFill>
                  <a:srgbClr val="000000"/>
                </a:solidFill>
                <a:latin typeface="Calibri Italic"/>
                <a:ea typeface="Lucida Grande"/>
              </a:rPr>
              <a:t>ϕ</a:t>
            </a:r>
            <a:r>
              <a:rPr b="0" lang="en-US" sz="2700" spc="-1" strike="noStrike" baseline="-29000">
                <a:solidFill>
                  <a:srgbClr val="000000"/>
                </a:solidFill>
                <a:latin typeface="Calibri Italic"/>
                <a:ea typeface="Calibri Italic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::= α | c | f(Τ</a:t>
            </a:r>
            <a:r>
              <a:rPr b="0" lang="en-US" sz="2300" spc="-1" strike="noStrike" baseline="-32000">
                <a:solidFill>
                  <a:srgbClr val="000000"/>
                </a:solidFill>
                <a:latin typeface="Calibri Italic"/>
                <a:ea typeface="Calibri Italic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,…,Τ</a:t>
            </a:r>
            <a:r>
              <a:rPr b="0" lang="en-US" sz="2300" spc="-1" strike="noStrike" baseline="-32000">
                <a:solidFill>
                  <a:srgbClr val="000000"/>
                </a:solidFill>
                <a:latin typeface="Calibri Italic"/>
                <a:ea typeface="Calibri Italic"/>
              </a:rPr>
              <a:t>af</a:t>
            </a:r>
            <a:r>
              <a:rPr b="0" lang="en-US" sz="23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fe"/>
                </a:solidFill>
                <a:latin typeface="Calibri Italic"/>
                <a:ea typeface="Calibri Italic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–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ction of constants and variab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fe"/>
                </a:solidFill>
                <a:latin typeface="Calibri Italic"/>
                <a:ea typeface="Calibri Italic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V → P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fe"/>
                </a:solidFill>
                <a:latin typeface="Calibri Italic"/>
                <a:ea typeface="Calibri Italic"/>
              </a:rPr>
              <a:t>ρ </a:t>
            </a:r>
            <a:r>
              <a:rPr b="0" lang="en-US" sz="27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:</a:t>
            </a:r>
            <a:r>
              <a:rPr b="0" lang="en-US" sz="2700" spc="-1" strike="noStrike">
                <a:solidFill>
                  <a:srgbClr val="0044fe"/>
                </a:solidFill>
                <a:latin typeface="Calibri Italic"/>
                <a:ea typeface="Calibri Italic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Valuation of all variab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fe"/>
                </a:solidFill>
                <a:latin typeface="Calibri Italic"/>
                <a:ea typeface="Calibri Italic"/>
              </a:rPr>
              <a:t>ρ(</a:t>
            </a:r>
            <a:r>
              <a:rPr b="0" lang="en-US" sz="23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α</a:t>
            </a:r>
            <a:r>
              <a:rPr b="0" lang="en-US" sz="2700" spc="-1" strike="noStrike">
                <a:solidFill>
                  <a:srgbClr val="0044fe"/>
                </a:solidFill>
                <a:latin typeface="Calibri Italic"/>
                <a:ea typeface="Calibri Italic"/>
              </a:rPr>
              <a:t>) : </a:t>
            </a:r>
            <a:r>
              <a:rPr b="0" lang="en-US" sz="27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value assigned to </a:t>
            </a:r>
            <a:r>
              <a:rPr b="0" lang="en-US" sz="23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aint Satisf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14331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0e2f"/>
                </a:solidFill>
                <a:latin typeface="Calibri Bold"/>
                <a:ea typeface="Calibri Bold"/>
              </a:rPr>
              <a:t>Constraint Set </a:t>
            </a:r>
            <a:r>
              <a:rPr b="0" lang="en-US" sz="3200" spc="-1" strike="noStrike">
                <a:solidFill>
                  <a:srgbClr val="640e2f"/>
                </a:solidFill>
                <a:latin typeface="Calibri Bold Italic"/>
                <a:ea typeface="Calibri Bold Italic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Lucida Grande"/>
              </a:rPr>
              <a:t>ϕ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of inequalities </a:t>
            </a:r>
            <a:r>
              <a:rPr b="0" lang="en-US" sz="2800" spc="-1" strike="noStrike">
                <a:solidFill>
                  <a:srgbClr val="0044fe"/>
                </a:solidFill>
                <a:latin typeface="Calibri Bold Italic"/>
                <a:ea typeface="Calibri Bold Italic"/>
              </a:rPr>
              <a:t>τ ≤ τ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 </a:t>
            </a: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τ,τ’ ∈ T</a:t>
            </a:r>
            <a:r>
              <a:rPr b="0" lang="en-US" sz="2800" spc="-1" strike="noStrike" baseline="-28000">
                <a:solidFill>
                  <a:srgbClr val="000000"/>
                </a:solidFill>
                <a:latin typeface="Calibri Italic"/>
                <a:ea typeface="Lucida Grande"/>
              </a:rPr>
              <a:t>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valuation of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ρ ∈ P</a:t>
            </a:r>
            <a:r>
              <a:rPr b="0" lang="en-US" sz="2800" spc="-1" strike="noStrike" baseline="32000">
                <a:solidFill>
                  <a:srgbClr val="000000"/>
                </a:solidFill>
                <a:latin typeface="Calibri Italic"/>
                <a:ea typeface="Calibri Italic"/>
              </a:rPr>
              <a:t>m</a:t>
            </a:r>
            <a:r>
              <a:rPr b="0" lang="en-US" sz="2800" spc="-1" strike="noStrike" baseline="3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atisfies </a:t>
            </a: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f the constraint holds under the val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Calibri Bold Italic"/>
                <a:ea typeface="Calibri Bold Italic"/>
              </a:rPr>
              <a:t>ρ (τ) ≤ ρ (τ’) </a:t>
            </a:r>
            <a:r>
              <a:rPr b="0" lang="en-US" sz="2400" spc="-1" strike="noStrike">
                <a:solidFill>
                  <a:srgbClr val="0044fe"/>
                </a:solidFill>
                <a:latin typeface="Calibri Bold"/>
                <a:ea typeface="Calibri Bold"/>
              </a:rPr>
              <a:t>holds for every </a:t>
            </a:r>
            <a:r>
              <a:rPr b="0" lang="en-US" sz="2400" spc="-1" strike="noStrike">
                <a:solidFill>
                  <a:srgbClr val="0044fe"/>
                </a:solidFill>
                <a:latin typeface="Calibri Bold Italic"/>
                <a:ea typeface="Calibri Bold Italic"/>
              </a:rPr>
              <a:t>τ ≤ τ’ in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satisfiable only if there is a 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ρ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∈ P</a:t>
            </a:r>
            <a:r>
              <a:rPr b="0" lang="en-US" sz="3200" spc="-1" strike="noStrike" baseline="32000">
                <a:solidFill>
                  <a:srgbClr val="000000"/>
                </a:solidFill>
                <a:latin typeface="Calibri Italic"/>
                <a:ea typeface="Calibri Italic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satisfies 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Lucida Grande"/>
              </a:rPr>
              <a:t>ϕ-SAT : Given </a:t>
            </a:r>
            <a:r>
              <a:rPr b="0" lang="en-US" sz="2400" spc="-1" strike="noStrike">
                <a:solidFill>
                  <a:srgbClr val="000000"/>
                </a:solidFill>
                <a:latin typeface="Calibri Bold Italic"/>
                <a:ea typeface="Calibri Bold Italic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 over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Lucida Grande"/>
              </a:rPr>
              <a:t>ϕ, is </a:t>
            </a:r>
            <a:r>
              <a:rPr b="0" lang="en-US" sz="2400" spc="-1" strike="noStrike">
                <a:solidFill>
                  <a:srgbClr val="000000"/>
                </a:solidFill>
                <a:latin typeface="Calibri Bold Italic"/>
                <a:ea typeface="Calibri Bold Italic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 satisfiabl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E0B2-6E4E-4FAC-BF7C-E3D5017AECF8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Definitions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99680"/>
            <a:ext cx="8191440" cy="477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0a1f"/>
                </a:solidFill>
                <a:latin typeface="Calibri Bold"/>
                <a:ea typeface="Calibri Bold"/>
              </a:rPr>
              <a:t>Definite Constraint S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nstraint set in which every inequality is of the form        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τ ≤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C = {τ</a:t>
            </a:r>
            <a:r>
              <a:rPr b="0" lang="en-US" sz="2400" spc="-1" strike="noStrike" baseline="-6000">
                <a:solidFill>
                  <a:srgbClr val="000000"/>
                </a:solidFill>
                <a:latin typeface="Calibri Italic"/>
                <a:ea typeface="Calibri Italic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≤ A</a:t>
            </a:r>
            <a:r>
              <a:rPr b="0" lang="en-US" sz="2400" spc="-1" strike="noStrike" baseline="-6000">
                <a:solidFill>
                  <a:srgbClr val="000000"/>
                </a:solidFill>
                <a:latin typeface="Calibri Italic"/>
                <a:ea typeface="Calibri Italic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written </a:t>
            </a:r>
            <a:r>
              <a:rPr b="0" lang="en-US" sz="2400" spc="-1" strike="noStrike">
                <a:solidFill>
                  <a:srgbClr val="002d99"/>
                </a:solidFill>
                <a:latin typeface="Calibri Bold Italic"/>
                <a:ea typeface="Calibri Bold Italic"/>
              </a:rPr>
              <a:t>C = C</a:t>
            </a:r>
            <a:r>
              <a:rPr b="0" lang="en-US" sz="2400" spc="-1" strike="noStrike" baseline="-6000">
                <a:solidFill>
                  <a:srgbClr val="002d99"/>
                </a:solidFill>
                <a:latin typeface="Calibri Bold Italic"/>
                <a:ea typeface="Calibri Bold Italic"/>
              </a:rPr>
              <a:t>var </a:t>
            </a:r>
            <a:r>
              <a:rPr b="0" lang="en-US" sz="2400" spc="-1" strike="noStrike">
                <a:solidFill>
                  <a:srgbClr val="002d99"/>
                </a:solidFill>
                <a:latin typeface="Calibri Bold Italic"/>
                <a:ea typeface="Apple Symbols"/>
              </a:rPr>
              <a:t>∪ C</a:t>
            </a:r>
            <a:r>
              <a:rPr b="0" lang="en-US" sz="2400" spc="-1" strike="noStrike" baseline="-6000">
                <a:solidFill>
                  <a:srgbClr val="002d99"/>
                </a:solidFill>
                <a:latin typeface="Calibri Bold Italic"/>
                <a:ea typeface="Calibri Bold Italic"/>
              </a:rPr>
              <a:t>cnst</a:t>
            </a:r>
            <a:r>
              <a:rPr b="0" lang="en-US" sz="2400" spc="-1" strike="noStrike" baseline="-6000">
                <a:solidFill>
                  <a:srgbClr val="002d99"/>
                </a:solidFill>
                <a:latin typeface="Calibri Bold"/>
                <a:ea typeface="Calibri Bold"/>
              </a:rPr>
              <a:t>.</a:t>
            </a:r>
            <a:r>
              <a:rPr b="0" lang="en-US" sz="2400" spc="-1" strike="noStrike" baseline="-6000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0a1f"/>
                </a:solidFill>
                <a:latin typeface="Calibri Bold"/>
                <a:ea typeface="Calibri Bold"/>
              </a:rPr>
              <a:t>Simple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no nested function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0a1f"/>
                </a:solidFill>
                <a:latin typeface="Calibri Bold"/>
                <a:ea typeface="Calibri Bold"/>
              </a:rPr>
              <a:t>L-Normalization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C’∪{</a:t>
            </a:r>
            <a:r>
              <a:rPr b="0" lang="en-US" sz="2400" spc="-1" strike="noStrike">
                <a:solidFill>
                  <a:srgbClr val="003dcc"/>
                </a:solidFill>
                <a:latin typeface="Calibri Bold Italic"/>
                <a:ea typeface="Calibri Bold Italic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(..</a:t>
            </a:r>
            <a:r>
              <a:rPr b="0" lang="en-US" sz="2400" spc="-1" strike="noStrike">
                <a:solidFill>
                  <a:srgbClr val="8500af"/>
                </a:solidFill>
                <a:latin typeface="Calibri Bold Italic"/>
                <a:ea typeface="Calibri Bold Italic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(τ)) ≤ A} →</a:t>
            </a:r>
            <a:r>
              <a:rPr b="0" lang="en-US" sz="2400" spc="-1" strike="noStrike" baseline="-6000">
                <a:solidFill>
                  <a:srgbClr val="000000"/>
                </a:solidFill>
                <a:latin typeface="Calibri Italic"/>
                <a:ea typeface="Calibri Italic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C’ ∪ { </a:t>
            </a:r>
            <a:r>
              <a:rPr b="0" lang="en-US" sz="2400" spc="-1" strike="noStrike">
                <a:solidFill>
                  <a:srgbClr val="003dcc"/>
                </a:solidFill>
                <a:latin typeface="Calibri Bold Italic"/>
                <a:ea typeface="Calibri Bold Italic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(...v</a:t>
            </a:r>
            <a:r>
              <a:rPr b="0" lang="en-US" sz="2400" spc="-1" strike="noStrike" baseline="-6000">
                <a:solidFill>
                  <a:srgbClr val="000000"/>
                </a:solidFill>
                <a:latin typeface="Calibri Italic"/>
                <a:ea typeface="Calibri Italic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...) ≤ A, </a:t>
            </a:r>
            <a:r>
              <a:rPr b="0" lang="en-US" sz="2400" spc="-1" strike="noStrike">
                <a:solidFill>
                  <a:srgbClr val="8500af"/>
                </a:solidFill>
                <a:latin typeface="Calibri Bold Italic"/>
                <a:ea typeface="Calibri Bold Italic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(τ) ≤ v</a:t>
            </a:r>
            <a:r>
              <a:rPr b="0" lang="en-US" sz="2400" spc="-1" strike="noStrike" baseline="-6000">
                <a:solidFill>
                  <a:srgbClr val="000000"/>
                </a:solidFill>
                <a:latin typeface="Calibri Italic"/>
                <a:ea typeface="Calibri Italic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Monotonicity guarantees that this is equivalent to the original constraint s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E713-2899-4142-9442-69803792A784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3480" y="3240"/>
            <a:ext cx="8343720" cy="669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ρ(β) = 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ll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β∈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WL = {τ≤β|L, ρ does not entail τ≤β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While WL ≠ 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τ≤β = POP(W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If L, ρ does not entail τ≤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ρ(β) = ρ(β) ∨ ρ(τ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For each τ’≤α ∈ C with β ∈ Vars(τ’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WL = WL ∪ {τ’≤α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For each τ≤L ∈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If L, ρ does not entail τ≤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raise excep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return 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E060-6ED3-4E3B-87A0-71F10A539AF4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3480" y="3240"/>
            <a:ext cx="8343720" cy="669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ρ(β) = 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ll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β∈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WL = {τ≤β|L, ρ does not entail τ≤β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While WL ≠ 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τ≤β = POP(W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If L, ρ does not entail τ≤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4714"/>
                </a:solidFill>
                <a:latin typeface="Calibri Bold Italic"/>
                <a:ea typeface="Calibri Bold Italic"/>
              </a:rPr>
              <a:t>ρ(β) = ρ(β) 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∨</a:t>
            </a:r>
            <a:r>
              <a:rPr b="0" lang="en-US" sz="2400" spc="-1" strike="noStrike">
                <a:solidFill>
                  <a:srgbClr val="2b4714"/>
                </a:solidFill>
                <a:latin typeface="Calibri Bold Italic"/>
                <a:ea typeface="Calibri Bold Italic"/>
              </a:rPr>
              <a:t> ρ(τ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For each τ’≤α ∈ C with β ∈ Vars(τ’)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ρ does not entail τ≤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WL = WL ∪ {τ’≤α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For each τ≤c ∈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If L, ρ does not entail τ≤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raise excep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return 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5130720" y="2349360"/>
            <a:ext cx="3289320" cy="1028880"/>
          </a:xfrm>
          <a:prstGeom prst="pie">
            <a:avLst/>
          </a:prstGeom>
          <a:solidFill>
            <a:srgbClr val="f6fad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0e2f"/>
                </a:solidFill>
                <a:latin typeface="Helvetica Neue"/>
                <a:ea typeface="Helvetica Neue"/>
              </a:rPr>
              <a:t>Valuation of </a:t>
            </a:r>
            <a:r>
              <a:rPr b="0" lang="en-US" sz="1500" spc="-1" strike="noStrike">
                <a:solidFill>
                  <a:srgbClr val="640e2f"/>
                </a:solidFill>
                <a:latin typeface="Calibri Bold Italic"/>
                <a:ea typeface="Calibri Bold Italic"/>
              </a:rPr>
              <a:t>β</a:t>
            </a:r>
            <a:r>
              <a:rPr b="1" lang="en-US" sz="1500" spc="-1" strike="noStrike">
                <a:solidFill>
                  <a:srgbClr val="640e2f"/>
                </a:solidFill>
                <a:latin typeface="Helvetica Neue"/>
                <a:ea typeface="Helvetica Neue"/>
              </a:rPr>
              <a:t> increases strictly in the order of </a:t>
            </a:r>
            <a:r>
              <a:rPr b="1" i="1" lang="en-US" sz="1500" spc="-1" strike="noStrike">
                <a:solidFill>
                  <a:srgbClr val="640e2f"/>
                </a:solidFill>
                <a:latin typeface="Helvetica Neue"/>
                <a:ea typeface="Helvetica Neue"/>
              </a:rPr>
              <a:t>L.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40e2f"/>
                </a:solidFill>
                <a:latin typeface="Helvetica Neue"/>
                <a:ea typeface="Helvetica Neue"/>
              </a:rPr>
              <a:t>L</a:t>
            </a:r>
            <a:r>
              <a:rPr b="1" lang="en-US" sz="1500" spc="-1" strike="noStrike">
                <a:solidFill>
                  <a:srgbClr val="640e2f"/>
                </a:solidFill>
                <a:latin typeface="Helvetica Neue"/>
                <a:ea typeface="Helvetica Neue"/>
              </a:rPr>
              <a:t> has finite height.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0e2f"/>
                </a:solidFill>
                <a:latin typeface="Helvetica Neue"/>
                <a:ea typeface="Helvetica Neue"/>
              </a:rPr>
              <a:t>Therefore termination follows.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B462-44A9-409F-92D1-51E8318B6856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M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9000" y="1065240"/>
            <a:ext cx="8572680" cy="5526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={L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≤ 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L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pple Symbols"/>
              </a:rPr>
              <a:t>∧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≤ 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pple Symbols"/>
              </a:rPr>
              <a:t>∧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≤ 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⊥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⊥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⊥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0e2f"/>
                </a:solidFill>
                <a:latin typeface="Calibri Bold"/>
                <a:ea typeface="Calibri Bold"/>
              </a:rPr>
              <a:t>L</a:t>
            </a:r>
            <a:r>
              <a:rPr b="0" lang="en-US" sz="2800" spc="-1" strike="noStrike" baseline="-6000">
                <a:solidFill>
                  <a:srgbClr val="640e2f"/>
                </a:solidFill>
                <a:latin typeface="Calibri Bold"/>
                <a:ea typeface="Calibri Bold"/>
              </a:rPr>
              <a:t>1</a:t>
            </a:r>
            <a:r>
              <a:rPr b="0" lang="en-US" sz="2800" spc="-1" strike="noStrike">
                <a:solidFill>
                  <a:srgbClr val="640e2f"/>
                </a:solidFill>
                <a:latin typeface="Calibri Bold"/>
                <a:ea typeface="Calibri Bold"/>
              </a:rPr>
              <a:t> ≤ β</a:t>
            </a:r>
            <a:r>
              <a:rPr b="0" lang="en-US" sz="2800" spc="-1" strike="noStrike" baseline="-6000">
                <a:solidFill>
                  <a:srgbClr val="640e2f"/>
                </a:solidFill>
                <a:latin typeface="Calibri Bold"/>
                <a:ea typeface="Calibri Bold"/>
              </a:rPr>
              <a:t>0</a:t>
            </a:r>
            <a:r>
              <a:rPr b="0" lang="en-US" sz="2800" spc="-1" strike="noStrike" baseline="-6000">
                <a:solidFill>
                  <a:srgbClr val="000000"/>
                </a:solidFill>
                <a:latin typeface="Calibri Bold"/>
                <a:ea typeface="Calibri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 Italic"/>
              </a:rPr>
              <a:t>⇒</a:t>
            </a:r>
            <a:r>
              <a:rPr b="0" lang="en-US" sz="2800" spc="-1" strike="noStrike">
                <a:solidFill>
                  <a:srgbClr val="66008d"/>
                </a:solidFill>
                <a:latin typeface="Calibri Italic"/>
                <a:ea typeface="Calibri Italic"/>
              </a:rPr>
              <a:t> β</a:t>
            </a:r>
            <a:r>
              <a:rPr b="0" lang="en-US" sz="2800" spc="-1" strike="noStrike" baseline="-6000">
                <a:solidFill>
                  <a:srgbClr val="66008d"/>
                </a:solidFill>
                <a:latin typeface="Calibri Italic"/>
                <a:ea typeface="Calibri Italic"/>
              </a:rPr>
              <a:t>0</a:t>
            </a:r>
            <a:r>
              <a:rPr b="0" lang="en-US" sz="2800" spc="-1" strike="noStrike">
                <a:solidFill>
                  <a:srgbClr val="66008d"/>
                </a:solidFill>
                <a:latin typeface="Calibri Italic"/>
                <a:ea typeface="Calibri Italic"/>
              </a:rPr>
              <a:t> = L</a:t>
            </a:r>
            <a:r>
              <a:rPr b="0" lang="en-US" sz="2800" spc="-1" strike="noStrike" baseline="-6000">
                <a:solidFill>
                  <a:srgbClr val="66008d"/>
                </a:solidFill>
                <a:latin typeface="Calibri Italic"/>
                <a:ea typeface="Calibri Itali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L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⊥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0e2f"/>
                </a:solidFill>
                <a:latin typeface="Calibri Bold"/>
                <a:ea typeface="Calibri Bold"/>
              </a:rPr>
              <a:t>L</a:t>
            </a:r>
            <a:r>
              <a:rPr b="0" lang="en-US" sz="2800" spc="-1" strike="noStrike" baseline="-6000">
                <a:solidFill>
                  <a:srgbClr val="640e2f"/>
                </a:solidFill>
                <a:latin typeface="Calibri Bold"/>
                <a:ea typeface="Calibri Bold"/>
              </a:rPr>
              <a:t>2</a:t>
            </a:r>
            <a:r>
              <a:rPr b="0" lang="en-US" sz="2800" spc="-1" strike="noStrike">
                <a:solidFill>
                  <a:srgbClr val="640e2f"/>
                </a:solidFill>
                <a:latin typeface="Calibri Bold"/>
                <a:ea typeface="Apple Symbols"/>
              </a:rPr>
              <a:t> ∧ β</a:t>
            </a:r>
            <a:r>
              <a:rPr b="0" lang="en-US" sz="2800" spc="-1" strike="noStrike" baseline="-6000">
                <a:solidFill>
                  <a:srgbClr val="640e2f"/>
                </a:solidFill>
                <a:latin typeface="Calibri Bold"/>
                <a:ea typeface="Calibri Bold"/>
              </a:rPr>
              <a:t>0 </a:t>
            </a:r>
            <a:r>
              <a:rPr b="0" lang="en-US" sz="2800" spc="-1" strike="noStrike">
                <a:solidFill>
                  <a:srgbClr val="640e2f"/>
                </a:solidFill>
                <a:latin typeface="Calibri Bold"/>
                <a:ea typeface="Calibri Bold"/>
              </a:rPr>
              <a:t>≤ β</a:t>
            </a:r>
            <a:r>
              <a:rPr b="0" lang="en-US" sz="2800" spc="-1" strike="noStrike" baseline="-6000">
                <a:solidFill>
                  <a:srgbClr val="640e2f"/>
                </a:solidFill>
                <a:latin typeface="Calibri Bold"/>
                <a:ea typeface="Calibri Bold"/>
              </a:rPr>
              <a:t>1</a:t>
            </a:r>
            <a:r>
              <a:rPr b="0" lang="en-US" sz="2800" spc="-1" strike="noStrike" baseline="-6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 Italic"/>
              </a:rPr>
              <a:t>⇒ </a:t>
            </a:r>
            <a:r>
              <a:rPr b="0" lang="en-US" sz="2800" spc="-1" strike="noStrike">
                <a:solidFill>
                  <a:srgbClr val="66008d"/>
                </a:solidFill>
                <a:latin typeface="Calibri Italic"/>
                <a:ea typeface="Calibri Italic"/>
              </a:rPr>
              <a:t>β</a:t>
            </a:r>
            <a:r>
              <a:rPr b="0" lang="en-US" sz="2800" spc="-1" strike="noStrike" baseline="-6000">
                <a:solidFill>
                  <a:srgbClr val="66008d"/>
                </a:solidFill>
                <a:latin typeface="Calibri Italic"/>
                <a:ea typeface="Calibri Italic"/>
              </a:rPr>
              <a:t>1</a:t>
            </a:r>
            <a:r>
              <a:rPr b="0" lang="en-US" sz="2800" spc="-1" strike="noStrike">
                <a:solidFill>
                  <a:srgbClr val="66008d"/>
                </a:solidFill>
                <a:latin typeface="Calibri Italic"/>
                <a:ea typeface="Calibri Italic"/>
              </a:rPr>
              <a:t> = L</a:t>
            </a:r>
            <a:r>
              <a:rPr b="0" lang="en-US" sz="2800" spc="-1" strike="noStrike" baseline="-6000">
                <a:solidFill>
                  <a:srgbClr val="66008d"/>
                </a:solidFill>
                <a:latin typeface="Calibri Italic"/>
                <a:ea typeface="Calibri Italic"/>
              </a:rPr>
              <a:t>1 </a:t>
            </a:r>
            <a:r>
              <a:rPr b="0" lang="en-US" sz="2800" spc="-1" strike="noStrike">
                <a:solidFill>
                  <a:srgbClr val="66008d"/>
                </a:solidFill>
                <a:latin typeface="Calibri Italic"/>
                <a:ea typeface="Apple Symbols"/>
              </a:rPr>
              <a:t>∧ L</a:t>
            </a:r>
            <a:r>
              <a:rPr b="0" lang="en-US" sz="2800" spc="-1" strike="noStrike" baseline="-6000">
                <a:solidFill>
                  <a:srgbClr val="66008d"/>
                </a:solidFill>
                <a:latin typeface="Calibri Italic"/>
                <a:ea typeface="Calibri Itali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L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L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pple Symbols"/>
              </a:rPr>
              <a:t>∧ L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 Italic"/>
                <a:ea typeface="Calibri Italic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0e2f"/>
                </a:solidFill>
                <a:latin typeface="Calibri Bold"/>
                <a:ea typeface="Calibri Bold"/>
              </a:rPr>
              <a:t>β</a:t>
            </a:r>
            <a:r>
              <a:rPr b="0" lang="en-US" sz="2800" spc="-1" strike="noStrike" baseline="-6000">
                <a:solidFill>
                  <a:srgbClr val="640e2f"/>
                </a:solidFill>
                <a:latin typeface="Calibri Bold"/>
                <a:ea typeface="Calibri Bold"/>
              </a:rPr>
              <a:t>0</a:t>
            </a:r>
            <a:r>
              <a:rPr b="0" lang="en-US" sz="2800" spc="-1" strike="noStrike">
                <a:solidFill>
                  <a:srgbClr val="640e2f"/>
                </a:solidFill>
                <a:latin typeface="Calibri Bold"/>
                <a:ea typeface="Apple Symbols"/>
              </a:rPr>
              <a:t> ∧ β</a:t>
            </a:r>
            <a:r>
              <a:rPr b="0" lang="en-US" sz="2800" spc="-1" strike="noStrike" baseline="-6000">
                <a:solidFill>
                  <a:srgbClr val="640e2f"/>
                </a:solidFill>
                <a:latin typeface="Calibri Bold"/>
                <a:ea typeface="Calibri Bold"/>
              </a:rPr>
              <a:t>1 </a:t>
            </a:r>
            <a:r>
              <a:rPr b="0" lang="en-US" sz="2800" spc="-1" strike="noStrike">
                <a:solidFill>
                  <a:srgbClr val="640e2f"/>
                </a:solidFill>
                <a:latin typeface="Calibri Bold"/>
                <a:ea typeface="Calibri Bold"/>
              </a:rPr>
              <a:t>≤ β</a:t>
            </a:r>
            <a:r>
              <a:rPr b="0" lang="en-US" sz="2800" spc="-1" strike="noStrike" baseline="-6000">
                <a:solidFill>
                  <a:srgbClr val="640e2f"/>
                </a:solidFill>
                <a:latin typeface="Calibri Bold"/>
                <a:ea typeface="Calibri Bold"/>
              </a:rPr>
              <a:t>2</a:t>
            </a:r>
            <a:r>
              <a:rPr b="0" lang="en-US" sz="2800" spc="-1" strike="noStrike" baseline="-6000">
                <a:solidFill>
                  <a:srgbClr val="640e2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 Italic"/>
              </a:rPr>
              <a:t>⇒ </a:t>
            </a:r>
            <a:r>
              <a:rPr b="0" lang="en-US" sz="2800" spc="-1" strike="noStrike">
                <a:solidFill>
                  <a:srgbClr val="66008d"/>
                </a:solidFill>
                <a:latin typeface="Calibri Italic"/>
                <a:ea typeface="Calibri Italic"/>
              </a:rPr>
              <a:t>β</a:t>
            </a:r>
            <a:r>
              <a:rPr b="0" lang="en-US" sz="2800" spc="-1" strike="noStrike" baseline="-6000">
                <a:solidFill>
                  <a:srgbClr val="66008d"/>
                </a:solidFill>
                <a:latin typeface="Calibri Italic"/>
                <a:ea typeface="Calibri Italic"/>
              </a:rPr>
              <a:t>2</a:t>
            </a:r>
            <a:r>
              <a:rPr b="0" lang="en-US" sz="2800" spc="-1" strike="noStrike">
                <a:solidFill>
                  <a:srgbClr val="66008d"/>
                </a:solidFill>
                <a:latin typeface="Calibri Italic"/>
                <a:ea typeface="Calibri Italic"/>
              </a:rPr>
              <a:t> = L</a:t>
            </a:r>
            <a:r>
              <a:rPr b="0" lang="en-US" sz="2800" spc="-1" strike="noStrike" baseline="-6000">
                <a:solidFill>
                  <a:srgbClr val="66008d"/>
                </a:solidFill>
                <a:latin typeface="Calibri Italic"/>
                <a:ea typeface="Calibri Italic"/>
              </a:rPr>
              <a:t>1 </a:t>
            </a:r>
            <a:r>
              <a:rPr b="0" lang="en-US" sz="2800" spc="-1" strike="noStrike">
                <a:solidFill>
                  <a:srgbClr val="66008d"/>
                </a:solidFill>
                <a:latin typeface="Calibri Italic"/>
                <a:ea typeface="Apple Symbols"/>
              </a:rPr>
              <a:t>∧ L</a:t>
            </a:r>
            <a:r>
              <a:rPr b="0" lang="en-US" sz="2800" spc="-1" strike="noStrike" baseline="-6000">
                <a:solidFill>
                  <a:srgbClr val="66008d"/>
                </a:solidFill>
                <a:latin typeface="Calibri Italic"/>
                <a:ea typeface="Calibri Itali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L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L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pple Symbols"/>
              </a:rPr>
              <a:t>∧ L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2   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 Italic"/>
                <a:ea typeface="Calibri Italic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L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pple Symbols"/>
              </a:rPr>
              <a:t>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en-US" sz="3200" spc="-1" strike="noStrike" baseline="-6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DD55-F896-4D5D-9B9D-A8D803CCEDD6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3480" y="79200"/>
            <a:ext cx="8343720" cy="669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ρ(β) = 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ll </a:t>
            </a: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β∈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WL = {τ≤β|L, ρ does not entail τ≤β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While WL ≠ 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τ≤β = POP(W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If L, ρ does not entail τ≤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 Italic"/>
                <a:ea typeface="Calibri Bold Italic"/>
              </a:rPr>
              <a:t>ρ(β) = ρ(β) 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∨</a:t>
            </a:r>
            <a:r>
              <a:rPr b="0" lang="en-US" sz="2400" spc="-1" strike="noStrike">
                <a:solidFill>
                  <a:srgbClr val="000000"/>
                </a:solidFill>
                <a:latin typeface="Calibri Bold Italic"/>
                <a:ea typeface="Calibri Bold Italic"/>
              </a:rPr>
              <a:t> ρ(τ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0e2f"/>
                </a:solidFill>
                <a:latin typeface="Calibri Bold Italic"/>
                <a:ea typeface="Apple Symbols"/>
              </a:rPr>
              <a:t>For each τ’≤α ∈ C with β ∈ Vars(τ’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WL = WL ∪ {τ’≤α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Apple Symbols"/>
              </a:rPr>
              <a:t>For each τ≤c ∈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If L, ρ does not entail τ≤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raise excep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return 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C03A-CAAF-4DB4-B1B2-968FEE49FBAA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35640" y="1168560"/>
            <a:ext cx="3606840" cy="1485720"/>
          </a:xfrm>
          <a:prstGeom prst="pie">
            <a:avLst/>
          </a:prstGeom>
          <a:solidFill>
            <a:srgbClr val="cadbf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40e2f"/>
                </a:solidFill>
                <a:latin typeface="Helvetica Neue"/>
                <a:ea typeface="Helvetica Neue"/>
              </a:rPr>
              <a:t>Valuation at </a:t>
            </a: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Calibri Bold"/>
              </a:rPr>
              <a:t>β </a:t>
            </a:r>
            <a:r>
              <a:rPr b="1" i="1" lang="en-US" sz="1500" spc="-1" strike="noStrike">
                <a:solidFill>
                  <a:srgbClr val="640e2f"/>
                </a:solidFill>
                <a:latin typeface="Helvetica Neue"/>
                <a:ea typeface="Helvetica Neue"/>
              </a:rPr>
              <a:t>strictly increases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40e2f"/>
                </a:solidFill>
                <a:latin typeface="Helvetica Neue"/>
                <a:ea typeface="Helvetica Neue"/>
              </a:rPr>
              <a:t>It can only increase till h(L)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40e2f"/>
                </a:solidFill>
                <a:latin typeface="Helvetica Neue"/>
                <a:ea typeface="Helvetica Neue"/>
              </a:rPr>
              <a:t>Total number of constraints added to WL each time bounded by |C|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40e2f"/>
                </a:solidFill>
                <a:latin typeface="Helvetica Neue"/>
                <a:ea typeface="Helvetica Neue"/>
              </a:rPr>
              <a:t>Total checks done is bound by h(L).|C|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8E01-5B43-4859-A854-6635145974C9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fe"/>
                </a:solidFill>
                <a:latin typeface="Calibri Bold"/>
                <a:ea typeface="Calibri Bold"/>
              </a:rPr>
              <a:t>To a finite meet-semilatti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dd top element to 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any atom is valued at top then FAI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fe"/>
                </a:solidFill>
                <a:latin typeface="Calibri Bold"/>
                <a:ea typeface="Calibri Bold"/>
              </a:rPr>
              <a:t>Relational constraints (RC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equality constraints special case of RC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 RCP is a pair Γ={P,S} with P:finite poset, S:finite set of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relations over 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 RCP is satisfiable if there exists a valuation ρ of C in P s.t. (ρ(A</a:t>
            </a:r>
            <a:r>
              <a:rPr b="0" lang="en-US" sz="2300" spc="-1" strike="noStrike" baseline="-6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),...., ρ(A</a:t>
            </a:r>
            <a:r>
              <a:rPr b="0" lang="en-US" sz="2300" spc="-1" strike="noStrike" baseline="-6000">
                <a:solidFill>
                  <a:srgbClr val="000000"/>
                </a:solidFill>
                <a:latin typeface="Calibri"/>
              </a:rPr>
              <a:t>aR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pple Symbols"/>
              </a:rPr>
              <a:t>)) ∈ R for every R(A</a:t>
            </a:r>
            <a:r>
              <a:rPr b="0" lang="en-US" sz="2300" spc="-1" strike="noStrike" baseline="-6000">
                <a:solidFill>
                  <a:srgbClr val="000000"/>
                </a:solidFill>
                <a:latin typeface="Calibri"/>
              </a:rPr>
              <a:t>1,...,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en-US" sz="2300" spc="-1" strike="noStrike" baseline="-6000">
                <a:solidFill>
                  <a:srgbClr val="000000"/>
                </a:solidFill>
                <a:latin typeface="Calibri"/>
              </a:rPr>
              <a:t>aR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D7F7-C0D2-444F-8CBE-E2DA47E565E4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al 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many relational constraint problems can be efficiently solved using algorithm D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many problems can be transformed into definite inequality problems and what is the cost of the transformation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ze the class of relational problem that can be solved by the algorithm D as fol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lang="en-US" sz="2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Γ={P,S}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here </a:t>
            </a:r>
            <a:r>
              <a:rPr b="0" lang="en-US" sz="2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P : meet-semilattice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n it can be represented as a definite inequality problem iff </a:t>
            </a:r>
            <a:r>
              <a:rPr b="0" lang="en-US" sz="2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Γ is meet-clos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C over </a:t>
            </a:r>
            <a:r>
              <a:rPr b="0" lang="en-US" sz="2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Γ can be represented by a definite a simple constraint set C’ with </a:t>
            </a:r>
            <a:r>
              <a:rPr b="0" lang="en-US" sz="2200" spc="-1" strike="noStrike">
                <a:solidFill>
                  <a:srgbClr val="000000"/>
                </a:solidFill>
                <a:latin typeface="Calibri Bold Italic"/>
                <a:ea typeface="Calibri Bold Italic"/>
              </a:rPr>
              <a:t>|C’| ≤ m(m+2).|C|</a:t>
            </a:r>
            <a:r>
              <a:rPr b="0" lang="en-US" sz="3100" spc="-1" strike="noStrike">
                <a:solidFill>
                  <a:srgbClr val="000000"/>
                </a:solidFill>
                <a:latin typeface="Calibri Bold"/>
                <a:ea typeface="Calibri Bold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3118-51EE-4F7F-AC84-F06B42780AE8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lean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ranslating sets of </a:t>
            </a:r>
            <a:r>
              <a:rPr b="0" lang="en-US" sz="2100" spc="-1" strike="noStrike">
                <a:solidFill>
                  <a:srgbClr val="0044fe"/>
                </a:solidFill>
                <a:latin typeface="Calibri Bold"/>
                <a:ea typeface="Calibri Bold"/>
              </a:rPr>
              <a:t>definite inequaliti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2100" spc="-1" strike="noStrike">
                <a:solidFill>
                  <a:srgbClr val="640e2f"/>
                </a:solidFill>
                <a:latin typeface="Calibri Bold"/>
                <a:ea typeface="Calibri Bold"/>
              </a:rPr>
              <a:t>propositional formula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rect correspondence between solutions to the propositional system and solutions to the lattice inequalities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ranslation to Boolean constraints will </a:t>
            </a:r>
            <a:r>
              <a:rPr b="0" lang="en-US" sz="2100" spc="-1" strike="noStrike">
                <a:solidFill>
                  <a:srgbClr val="0044fe"/>
                </a:solidFill>
                <a:latin typeface="Calibri Bold"/>
                <a:ea typeface="Calibri Bold"/>
              </a:rPr>
              <a:t>expand exponentially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the arity of functions in</a:t>
            </a:r>
            <a:r>
              <a:rPr b="0" lang="en-US" sz="21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 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s conversion should only be done when the function arities are small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atisfiability of translation: Each constraint in the translation is of the form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 baseline="-6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pple Symbols"/>
              </a:rPr>
              <a:t>∧ a</a:t>
            </a:r>
            <a:r>
              <a:rPr b="0" lang="en-US" sz="2300" spc="-1" strike="noStrike" baseline="-6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pple Symbols"/>
              </a:rPr>
              <a:t>∧ a</a:t>
            </a:r>
            <a:r>
              <a:rPr b="0" lang="en-US" sz="2300" spc="-1" strike="noStrike" baseline="-6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pple Symbols"/>
              </a:rPr>
              <a:t>∧... a</a:t>
            </a:r>
            <a:r>
              <a:rPr b="0" lang="en-US" sz="2300" spc="-1" strike="noStrike" baseline="-6000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≤ a</a:t>
            </a:r>
            <a:r>
              <a:rPr b="0" lang="en-US" sz="2300" spc="-1" strike="noStrike" baseline="-6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where  are atoms ranging over {0,1}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omorphic to</a:t>
            </a:r>
            <a:r>
              <a:rPr b="0" lang="en-US" sz="2200" spc="-1" strike="noStrike">
                <a:solidFill>
                  <a:srgbClr val="0044fe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44fe"/>
                </a:solidFill>
                <a:latin typeface="Calibri Bold"/>
                <a:ea typeface="Calibri Bold"/>
              </a:rPr>
              <a:t>Horn-clau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can be solved in time linear in the size of the constraint set using the algorithm for</a:t>
            </a:r>
            <a:r>
              <a:rPr b="0" lang="en-US" sz="2200" spc="-1" strike="noStrike">
                <a:solidFill>
                  <a:srgbClr val="000000"/>
                </a:solidFill>
                <a:latin typeface="Calibri Bold"/>
                <a:ea typeface="Calibri Bold"/>
              </a:rPr>
              <a:t> </a:t>
            </a:r>
            <a:r>
              <a:rPr b="0" lang="en-US" sz="2200" spc="-1" strike="noStrike">
                <a:solidFill>
                  <a:srgbClr val="0044fe"/>
                </a:solidFill>
                <a:latin typeface="Calibri Bold"/>
                <a:ea typeface="Calibri Bold"/>
              </a:rPr>
              <a:t>HORNS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21240" y="3352680"/>
            <a:ext cx="114120" cy="1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onstraint Satisfaction Problem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2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raint Satisfaction Problem(CSP) Instanc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 Bold"/>
                <a:ea typeface="Calibri Bol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Finite set of variables; e.g. </a:t>
            </a:r>
            <a:r>
              <a:rPr b="0" lang="en-US" sz="2500" spc="-1" strike="noStrike">
                <a:solidFill>
                  <a:srgbClr val="0044fe"/>
                </a:solidFill>
                <a:latin typeface="Calibri"/>
              </a:rPr>
              <a:t>{a,b,c,d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: Domain of values; e.g. </a:t>
            </a:r>
            <a:r>
              <a:rPr b="0" lang="en-US" sz="2500" spc="-1" strike="noStrike">
                <a:solidFill>
                  <a:srgbClr val="0044fe"/>
                </a:solidFill>
                <a:latin typeface="Calibri"/>
              </a:rPr>
              <a:t>{0,1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C</a:t>
            </a:r>
            <a:r>
              <a:rPr b="0" lang="en-US" sz="2500" spc="-1" strike="noStrike">
                <a:solidFill>
                  <a:srgbClr val="200063"/>
                </a:solidFill>
                <a:latin typeface="Monotype Corsiva"/>
                <a:ea typeface="Monotype Corsiv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et of constrain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{C(S</a:t>
            </a:r>
            <a:r>
              <a:rPr b="0" lang="en-US" sz="2500" spc="-1" strike="noStrike" baseline="-6000">
                <a:solidFill>
                  <a:srgbClr val="000000"/>
                </a:solidFill>
                <a:latin typeface="Monotype Corsiva"/>
                <a:ea typeface="Monotype Corsiv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), C(S</a:t>
            </a:r>
            <a:r>
              <a:rPr b="0" lang="en-US" sz="2500" spc="-1" strike="noStrike" baseline="-6000">
                <a:solidFill>
                  <a:srgbClr val="000000"/>
                </a:solidFill>
                <a:latin typeface="Monotype Corsiva"/>
                <a:ea typeface="Monotype Corsiv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),..., C(S</a:t>
            </a:r>
            <a:r>
              <a:rPr b="0" lang="en-US" sz="2500" spc="-1" strike="noStrike" baseline="-6000">
                <a:solidFill>
                  <a:srgbClr val="000000"/>
                </a:solidFill>
                <a:latin typeface="Monotype Corsiva"/>
                <a:ea typeface="Monotype Corsiva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)}</a:t>
            </a:r>
            <a:r>
              <a:rPr b="0" lang="en-US" sz="25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620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S</a:t>
            </a:r>
            <a:r>
              <a:rPr b="0" lang="en-US" sz="2500" spc="-1" strike="noStrike" baseline="-6000">
                <a:solidFill>
                  <a:srgbClr val="000000"/>
                </a:solidFill>
                <a:latin typeface="Monotype Corsiva"/>
                <a:ea typeface="Monotype Corsiva"/>
              </a:rPr>
              <a:t>i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rdered subset of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N ;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2500" spc="-1" strike="noStrike">
                <a:solidFill>
                  <a:srgbClr val="0044fe"/>
                </a:solidFill>
                <a:latin typeface="Calibri"/>
              </a:rPr>
              <a:t>{a,b,c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620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C(S</a:t>
            </a:r>
            <a:r>
              <a:rPr b="0" lang="en-US" sz="2500" spc="-1" strike="noStrike" baseline="-6000">
                <a:solidFill>
                  <a:srgbClr val="000000"/>
                </a:solidFill>
                <a:latin typeface="Monotype Corsiva"/>
                <a:ea typeface="Monotype Corsiva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Calibri Bold"/>
                <a:ea typeface="Calibri Bol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Mutually compatible values for variables in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S</a:t>
            </a:r>
            <a:r>
              <a:rPr b="0" lang="en-US" sz="2500" spc="-1" strike="noStrike" baseline="-6000">
                <a:solidFill>
                  <a:srgbClr val="000000"/>
                </a:solidFill>
                <a:latin typeface="Monotype Corsiva"/>
                <a:ea typeface="Monotype Corsiva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30a1f"/>
                </a:solidFill>
                <a:latin typeface="Calibri Bold"/>
                <a:ea typeface="Calibri Bold"/>
              </a:rPr>
              <a:t>Solution to CS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ssignment of values to variables in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consistent with all constraints in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B08A-2C85-402D-A6E6-072AD207A193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lgorithm be extended to cover more relations than the meet-closed on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ed that no such extension is possible for any meet-semilattice 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d2e29"/>
                </a:solidFill>
                <a:latin typeface="Calibri Italic"/>
                <a:ea typeface="Calibri Italic"/>
              </a:rPr>
              <a:t>“</a:t>
            </a:r>
            <a:r>
              <a:rPr b="0" lang="en-US" sz="3800" spc="-1" strike="noStrike">
                <a:solidFill>
                  <a:srgbClr val="8d2e29"/>
                </a:solidFill>
                <a:latin typeface="Calibri Italic"/>
                <a:ea typeface="Calibri Italic"/>
              </a:rPr>
              <a:t>Algorithm D is complete for a maximal tractable class of problems i.e. meet closed ones”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5FA9-1A07-4769-8667-ECE4BE010EA5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 flow as 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if program enforces information safe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security policy specified as a latti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in program assigned labels from latti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flow constraints from progra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0E48-FEC1-4C22-B990-0503658475A4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7143840" cy="84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 Flow security as 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7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Security enforcing compil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ify that a program correctly enforces a security pol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535640" y="3375000"/>
            <a:ext cx="80640" cy="1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CB8A-9696-4C90-A336-750394936B89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7143840" cy="84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 Flow security as 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7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Security enforcing compil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ify that a program correctly enforces a security pol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7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er speciﬁes a policy as a 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security latt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535640" y="3375000"/>
            <a:ext cx="80640" cy="1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E33F-931E-452C-A8FD-9A2DDC2027DE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7143840" cy="84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 Flow security as 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5018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Security enforcing compil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ify that a program correctly enforces a security pol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18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er speciﬁes a policy as a 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security latt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ti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s security, contains level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lated by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pple Symbols"/>
              </a:rPr>
              <a:t>≼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pple Symbols"/>
              </a:rPr>
              <a:t>≼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l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llowed to flow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Information Flow Secur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nformation at a leve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only affect information for 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pple Symbols"/>
              </a:rPr>
              <a:t> ≼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’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4535640" y="3375000"/>
            <a:ext cx="80640" cy="11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535640" y="3375000"/>
            <a:ext cx="80640" cy="1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B6D-CF22-412A-A110-24C74070D38D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7143840" cy="84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 Flow security as 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marL="49680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Security enforcing compil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ify that a program correctly enforces a security pol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680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er speciﬁes a policy as a 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security latt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680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r performs source code analysis to identify 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information flow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1360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lows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constrai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(a)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pple Symbols"/>
              </a:rPr>
              <a:t>≼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(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genera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1360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system for constrai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B43E-A7C1-4CFE-B744-35D6CE09803C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7143840" cy="84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 Flow security as 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marL="49176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Security enforcing compil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ify that a program correctly enforces a security pol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176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er speciﬁes a policy as a 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security latt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176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r performs source code analysis to identify 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information flow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176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gs 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information fl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err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532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exists a constrain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L(a)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pple Symbols"/>
              </a:rPr>
              <a:t> ≼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(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is not satisf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7510320" y="4343400"/>
            <a:ext cx="1633680" cy="10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61D5-A870-4398-9BD0-102A644BFCA1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 Flow security as 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7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traint type system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794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=e  &lt;=&gt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(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 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(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7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thod cal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94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tual Call:  x(a1, a2,.., 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94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thod Signature: x(f1, f2, .., f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94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(a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 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(fi) for 1 ≤ i ≤ 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7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imilar idea for retur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7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xt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sum(int x, int y) {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z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z=x*y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 z; 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main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a __secret__ ,b,c,d,p,q __public__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=sum(a,b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=sum(c,d); }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traints will fail if contexts are not separat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≼ L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L(a)≼ L(x), L(c) ≼ L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(b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≼ L(y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(d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≼ L(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L(x) ≼L(z), L(y) ≼L(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L(z) ≼L(p), L(z) ≼L(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L(q) ≼ Publi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B167-03C4-4D3B-8556-297A42F37302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xt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sum(int x, int y) {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z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z=x*y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 z; 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main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a __secret__ ,b,c,d,p,q __public__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=sum(a,b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=sum(c,d); }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traints will not fail; valuation exist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≼ L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L(a)≼ L(x_1), L(c) ≼ L(x_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(b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≼ L(y_1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(d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≼ L(y_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L(x_1) ≼L(z_1), L(y_1) ≼L(z_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L(x_2) ≼L(z_2), L(y_2) ≼L(z_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L(z_1) ≼L(p), L(z_2) ≼L(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pple Symbols"/>
              </a:rPr>
              <a:t>L(q) ≼ Publi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3B3B-2754-4B85-B203-9476AFA5B898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7976-1431-4D74-B5A7-F6D42F10E3BC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236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 of values to variables </a:t>
            </a:r>
            <a:r>
              <a:rPr b="0" lang="en-US" sz="3200" spc="-1" strike="noStrike">
                <a:solidFill>
                  <a:srgbClr val="430a1f"/>
                </a:solidFill>
                <a:latin typeface="Calibri Italic"/>
                <a:ea typeface="Calibri Italic"/>
              </a:rPr>
              <a:t>N={a,b,c,d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063"/>
                </a:solidFill>
                <a:latin typeface="Calibri Italic"/>
                <a:ea typeface="Calibri Italic"/>
              </a:rPr>
              <a:t>C={C</a:t>
            </a:r>
            <a:r>
              <a:rPr b="0" lang="en-US" sz="3200" spc="-1" strike="noStrike" baseline="-6000">
                <a:solidFill>
                  <a:srgbClr val="200063"/>
                </a:solidFill>
                <a:latin typeface="Calibri Italic"/>
                <a:ea typeface="Calibri Italic"/>
              </a:rPr>
              <a:t>0</a:t>
            </a:r>
            <a:r>
              <a:rPr b="0" lang="en-US" sz="3200" spc="-1" strike="noStrike">
                <a:solidFill>
                  <a:srgbClr val="200063"/>
                </a:solidFill>
                <a:latin typeface="Calibri Italic"/>
                <a:ea typeface="Calibri Italic"/>
              </a:rPr>
              <a:t>, C</a:t>
            </a:r>
            <a:r>
              <a:rPr b="0" lang="en-US" sz="3200" spc="-1" strike="noStrike" baseline="-6000">
                <a:solidFill>
                  <a:srgbClr val="200063"/>
                </a:solidFill>
                <a:latin typeface="Calibri Italic"/>
                <a:ea typeface="Calibri Italic"/>
              </a:rPr>
              <a:t>1,</a:t>
            </a:r>
            <a:r>
              <a:rPr b="0" lang="en-US" sz="3200" spc="-1" strike="noStrike">
                <a:solidFill>
                  <a:srgbClr val="200063"/>
                </a:solidFill>
                <a:latin typeface="Calibri Italic"/>
                <a:ea typeface="Calibri Italic"/>
              </a:rPr>
              <a:t> C</a:t>
            </a:r>
            <a:r>
              <a:rPr b="0" lang="en-US" sz="3200" spc="-1" strike="noStrike" baseline="-6000">
                <a:solidFill>
                  <a:srgbClr val="200063"/>
                </a:solidFill>
                <a:latin typeface="Calibri Italic"/>
                <a:ea typeface="Calibri Italic"/>
              </a:rPr>
              <a:t>2,</a:t>
            </a:r>
            <a:r>
              <a:rPr b="0" lang="en-US" sz="3200" spc="-1" strike="noStrike">
                <a:solidFill>
                  <a:srgbClr val="200063"/>
                </a:solidFill>
                <a:latin typeface="Calibri Italic"/>
                <a:ea typeface="Calibri Italic"/>
              </a:rPr>
              <a:t> C</a:t>
            </a:r>
            <a:r>
              <a:rPr b="0" lang="en-US" sz="3200" spc="-1" strike="noStrike" baseline="-6000">
                <a:solidFill>
                  <a:srgbClr val="200063"/>
                </a:solidFill>
                <a:latin typeface="Calibri Italic"/>
                <a:ea typeface="Calibri Italic"/>
              </a:rPr>
              <a:t>3</a:t>
            </a:r>
            <a:r>
              <a:rPr b="0" lang="en-US" sz="3200" spc="-1" strike="noStrike">
                <a:solidFill>
                  <a:srgbClr val="200063"/>
                </a:solidFill>
                <a:latin typeface="Calibri Italic"/>
                <a:ea typeface="Calibri Italic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6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{(1,1,1,1),(1,0,1,1),(0,1,1,0),</a:t>
            </a:r>
            <a:r>
              <a:rPr b="0" lang="en-US" sz="2800" spc="-1" strike="noStrike">
                <a:solidFill>
                  <a:srgbClr val="2e6ffd"/>
                </a:solidFill>
                <a:latin typeface="Calibri Bold"/>
                <a:ea typeface="Calibri Bold"/>
              </a:rPr>
              <a:t>(1,0,1,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6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{(0,1,1,0),(1,0,0,1),</a:t>
            </a:r>
            <a:r>
              <a:rPr b="0" lang="en-US" sz="2800" spc="-1" strike="noStrike">
                <a:solidFill>
                  <a:srgbClr val="2e6ffd"/>
                </a:solidFill>
                <a:latin typeface="Calibri Bold"/>
                <a:ea typeface="Calibri Bold"/>
              </a:rPr>
              <a:t>(1,0,1,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(1,0,1,1)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6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{(1,1,1,1),(1,1,1,0),(0,1,1,1),</a:t>
            </a:r>
            <a:r>
              <a:rPr b="0" lang="en-US" sz="2800" spc="-1" strike="noStrike">
                <a:solidFill>
                  <a:srgbClr val="2e6ffd"/>
                </a:solidFill>
                <a:latin typeface="Calibri Bold"/>
                <a:ea typeface="Calibri Bold"/>
              </a:rPr>
              <a:t>(1,0,1,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6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{(1,0,0,1),</a:t>
            </a:r>
            <a:r>
              <a:rPr b="0" lang="en-US" sz="2800" spc="-1" strike="noStrike">
                <a:solidFill>
                  <a:srgbClr val="2e6ffd"/>
                </a:solidFill>
                <a:latin typeface="Calibri Bold"/>
                <a:ea typeface="Calibri Bold"/>
              </a:rPr>
              <a:t>(1,0,1,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(1,0,1,1),(0,1,1,1)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Tractability of the CSP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2800" spc="-1" strike="noStrike">
                <a:solidFill>
                  <a:srgbClr val="003dcc"/>
                </a:solidFill>
                <a:latin typeface="Calibri Bold"/>
                <a:ea typeface="Calibri Bold"/>
              </a:rPr>
              <a:t>Mackworth7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 CSP is NP-Comple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practice, problems have special proper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them to be solved effici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dcc"/>
                </a:solidFill>
                <a:latin typeface="Calibri Bold"/>
                <a:ea typeface="Calibri Bold"/>
              </a:rPr>
              <a:t>Tractab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CSP is tractable if there is a PTIME solution to i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ing</a:t>
            </a:r>
            <a:r>
              <a:rPr b="0" lang="en-US" sz="2700" spc="-1" strike="noStrike">
                <a:solidFill>
                  <a:srgbClr val="000000"/>
                </a:solidFill>
                <a:latin typeface="Calibri Bold"/>
                <a:ea typeface="Calibri Bold"/>
              </a:rPr>
              <a:t> </a:t>
            </a:r>
            <a:r>
              <a:rPr b="0" lang="en-US" sz="2700" spc="-1" strike="noStrike">
                <a:solidFill>
                  <a:srgbClr val="003dcc"/>
                </a:solidFill>
                <a:latin typeface="Calibri Bold"/>
                <a:ea typeface="Calibri Bold"/>
              </a:rPr>
              <a:t>restriction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the general problem that ensures tract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 of 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e of 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ions on dom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D10F-C5DC-4582-B689-09D3491339CA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 for trac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606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2200" spc="-1" strike="noStrike">
                <a:solidFill>
                  <a:srgbClr val="3f691e"/>
                </a:solidFill>
                <a:latin typeface="Calibri Bold"/>
                <a:ea typeface="Calibri Bold"/>
              </a:rPr>
              <a:t>Schaefer78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] Studied the CSP problem for Boolean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es the necessary and sufficient conditions under which a set </a:t>
            </a:r>
            <a:r>
              <a:rPr b="0" lang="en-US" sz="2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Boolean relations yield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polynomial-ti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blems when the relations of </a:t>
            </a:r>
            <a:r>
              <a:rPr b="0" lang="en-US" sz="2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re used to constrain some of th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propositional variab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ed four classes of sets of Boolean relations for which CSP is in P and proves that all other sets of relations generate an NP-complete proble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2100" spc="-1" strike="noStrike">
                <a:solidFill>
                  <a:srgbClr val="ff5308"/>
                </a:solidFill>
                <a:latin typeface="Calibri Bold"/>
                <a:ea typeface="Calibri Bold"/>
              </a:rPr>
              <a:t>Jeavons95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] Generalization of Schaefer’s result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dentified four classes of tractable constraints, ensuring tractability in whatever way these classes were combi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 of them were characterized by a simple algebraic </a:t>
            </a:r>
            <a:r>
              <a:rPr b="0" lang="en-US" sz="2100" spc="-1" strike="noStrike">
                <a:solidFill>
                  <a:srgbClr val="003dcc"/>
                </a:solidFill>
                <a:latin typeface="Calibri Bold"/>
                <a:ea typeface="Calibri Bold"/>
              </a:rPr>
              <a:t>closure cond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ractability is very closely linked to algebraic propert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avons’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d99"/>
                </a:solidFill>
                <a:latin typeface="Calibri Bold"/>
                <a:ea typeface="Calibri Bold"/>
              </a:rPr>
              <a:t>Class 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ny set of constraints, allows some </a:t>
            </a:r>
            <a:r>
              <a:rPr b="0" lang="en-US" sz="2700" spc="-1" strike="noStrike">
                <a:solidFill>
                  <a:srgbClr val="000000"/>
                </a:solidFill>
                <a:latin typeface="Calibri Bold"/>
                <a:ea typeface="Calibri Bold"/>
              </a:rPr>
              <a:t>constant value 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be assigned to every vari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d99"/>
                </a:solidFill>
                <a:latin typeface="Calibri Bold"/>
                <a:ea typeface="Calibri Bold"/>
              </a:rPr>
              <a:t>Class 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ny set of </a:t>
            </a:r>
            <a:r>
              <a:rPr b="0" lang="en-US" sz="2700" spc="-1" strike="noStrike">
                <a:solidFill>
                  <a:srgbClr val="000000"/>
                </a:solidFill>
                <a:latin typeface="Calibri Bold"/>
                <a:ea typeface="Calibri Bold"/>
              </a:rPr>
              <a:t>binary constrain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hich are </a:t>
            </a:r>
            <a:r>
              <a:rPr b="0" lang="en-US" sz="2700" spc="-1" strike="noStrike">
                <a:solidFill>
                  <a:srgbClr val="000000"/>
                </a:solidFill>
                <a:latin typeface="Calibri Bold"/>
                <a:ea typeface="Calibri Bold"/>
              </a:rPr>
              <a:t>0/1/al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d99"/>
                </a:solidFill>
                <a:latin typeface="Calibri Bold"/>
                <a:ea typeface="Calibri Bold"/>
              </a:rPr>
              <a:t>Class I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ny set of constraints on </a:t>
            </a:r>
            <a:r>
              <a:rPr b="0" lang="en-US" sz="2700" spc="-1" strike="noStrike">
                <a:solidFill>
                  <a:srgbClr val="000000"/>
                </a:solidFill>
                <a:latin typeface="Calibri Bold"/>
                <a:ea typeface="Calibri Bold"/>
              </a:rPr>
              <a:t>ordered domain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each constraint is closed under an </a:t>
            </a:r>
            <a:r>
              <a:rPr b="0" lang="en-US" sz="2700" spc="-1" strike="noStrike">
                <a:solidFill>
                  <a:srgbClr val="000000"/>
                </a:solidFill>
                <a:latin typeface="Calibri Bold"/>
                <a:ea typeface="Calibri Bold"/>
              </a:rPr>
              <a:t>ACI oper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d99"/>
                </a:solidFill>
                <a:latin typeface="Calibri Bold"/>
                <a:ea typeface="Calibri Bold"/>
              </a:rPr>
              <a:t>Class II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ny set of constraints in which each constraint corresponds to a set of </a:t>
            </a:r>
            <a:r>
              <a:rPr b="0" lang="en-US" sz="2700" spc="-1" strike="noStrike">
                <a:solidFill>
                  <a:srgbClr val="000000"/>
                </a:solidFill>
                <a:latin typeface="Calibri Bold"/>
                <a:ea typeface="Calibri Bold"/>
              </a:rPr>
              <a:t>linear equ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table constraints in a PO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716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2700" spc="-1" strike="noStrike">
                <a:solidFill>
                  <a:srgbClr val="66008d"/>
                </a:solidFill>
                <a:latin typeface="Calibri Bold"/>
                <a:ea typeface="Calibri Bold"/>
              </a:rPr>
              <a:t>Pratt-Tiuryn96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700" spc="-1" strike="noStrike">
                <a:solidFill>
                  <a:srgbClr val="000000"/>
                </a:solidFill>
                <a:latin typeface="Calibri Bold"/>
                <a:ea typeface="Calibri Bold"/>
              </a:rPr>
              <a:t>structure of pose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re important for tract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 structures are intractable – Example: Crow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2700" spc="-1" strike="noStrike">
                <a:solidFill>
                  <a:srgbClr val="0044fe"/>
                </a:solidFill>
                <a:latin typeface="Calibri Bold"/>
                <a:ea typeface="Calibri Bold"/>
              </a:rPr>
              <a:t>Rehof-Mogensen99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ctable constraints in finite semi-latt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ws how to solve certain classes of constraints over finite domains efficientl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ze those that are not trac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help programmers identify when an 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3579-EA14-4105-9B56-33A3AF334BC9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ractable constraints in Finite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milattic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als with </a:t>
            </a:r>
            <a:r>
              <a:rPr b="0" lang="en-US" sz="3000" spc="-1" strike="noStrike">
                <a:solidFill>
                  <a:srgbClr val="86133e"/>
                </a:solidFill>
                <a:latin typeface="Calibri Bold"/>
                <a:ea typeface="Calibri Bold"/>
              </a:rPr>
              <a:t>Definite Inequalit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olved from the notion of Horn cla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wo point Boolean lattices -&gt; </a:t>
            </a:r>
            <a:r>
              <a:rPr b="0" lang="en-US" sz="2600" spc="-1" strike="noStrike">
                <a:solidFill>
                  <a:srgbClr val="003dcc"/>
                </a:solidFill>
                <a:latin typeface="Calibri Bold"/>
                <a:ea typeface="Calibri Bold"/>
              </a:rPr>
              <a:t>arbitrary finite semi-latt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ed an </a:t>
            </a:r>
            <a:r>
              <a:rPr b="0" lang="en-US" sz="3000" spc="-1" strike="noStrike">
                <a:solidFill>
                  <a:srgbClr val="86133e"/>
                </a:solidFill>
                <a:latin typeface="Calibri Bold"/>
                <a:ea typeface="Calibri Bold"/>
              </a:rPr>
              <a:t>algorithm ‘D’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ith proper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gorithm runs in </a:t>
            </a:r>
            <a:r>
              <a:rPr b="0" lang="en-US" sz="2600" spc="-1" strike="noStrike">
                <a:solidFill>
                  <a:srgbClr val="003dcc"/>
                </a:solidFill>
                <a:latin typeface="Calibri Bold"/>
                <a:ea typeface="Calibri Bold"/>
              </a:rPr>
              <a:t>linear tim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ny fixed finite semilatt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serve as a general-purpose off-the-shelf solv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whole range of program analy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7AE6-C863-404E-A836-0C309BF6A9D6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y Definite Constraints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lgorithm only applies to definite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ther constraints be transformed into definite constraints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es,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fe"/>
                </a:solidFill>
                <a:latin typeface="Calibri Bold"/>
                <a:ea typeface="Calibri Bold"/>
              </a:rPr>
              <a:t> </a:t>
            </a:r>
            <a:r>
              <a:rPr b="0" lang="en-US" sz="2800" spc="-1" strike="noStrike">
                <a:solidFill>
                  <a:srgbClr val="0044fe"/>
                </a:solidFill>
                <a:latin typeface="Calibri Bold Italic"/>
                <a:ea typeface="Calibri Bold Italic"/>
              </a:rPr>
              <a:t>What is the cost of this transformatio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3:06:22Z</dcterms:created>
  <dc:creator>Divya Muthukumaran</dc:creator>
  <dc:description/>
  <cp:keywords/>
  <dc:language>en-US</dc:language>
  <cp:lastModifiedBy>Divya Muthukumaran</cp:lastModifiedBy>
  <dcterms:modified xsi:type="dcterms:W3CDTF">2011-09-06T15:18:30Z</dcterms:modified>
  <cp:revision>4</cp:revision>
  <dc:subject/>
  <dc:title>Constraint solving and the Rehof Mogensen solver</dc:title>
</cp:coreProperties>
</file>