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BD1-B2C1-4965-B341-9F6C4FDD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A50-A4E8-4239-AE1F-FDC012F7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BF1-AE33-4509-9374-FC57022A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EAA-D8B8-43F2-BADC-0BC00AF1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D39D-3FA3-4167-83D9-8925BC34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D556-7029-45BC-B8CA-D2ACD633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6665-DAF1-4FD9-BFA2-0770E5C5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8007-5B5B-44BC-BD76-F968344A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21FA-DD21-4DBD-93C1-4B7232D4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5400" y="22824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81D1-A7A9-4BF6-8394-EA82822C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375F-6B43-4996-8D05-07D5801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B17-9EC4-4717-9185-F94D36F9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A267-2F05-4C7A-987C-93E459FE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0AA1-2B8C-4788-B3B7-327F81D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DF08-3EC8-4F4C-A7DC-93CABC88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BD0A-3D37-43F4-9C96-10E761F5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D866-93BB-49D8-94E2-B785E04E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887-C62F-4373-B8B8-59F4441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7A0-21F5-4EBB-BE20-FEE3397A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858-38B0-4B16-98F8-4DBF3BD4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22824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64E-24E0-4DC0-9A74-D6683D8B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39E-07D1-416B-8194-28A8947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7A2-3924-49F8-B9AF-52529C39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E87-6A2A-44EE-9C61-FDE56D3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168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CD3F-CE56-4266-BF16-2B01E08FCD9F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UCR" descr=""/>
          <p:cNvPicPr/>
          <p:nvPr/>
        </p:nvPicPr>
        <p:blipFill>
          <a:blip r:embed="rId3"/>
          <a:stretch/>
        </p:blipFill>
        <p:spPr>
          <a:xfrm>
            <a:off x="457200" y="6248520"/>
            <a:ext cx="152388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248520"/>
            <a:ext cx="152388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A14F-46D3-49BF-8341-29561001A6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33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Book Antiqu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TCP overview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3AE4-1CB2-4D82-AAC6-3D5E75480AF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 Round Trip Time and Timeout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80680" y="1380960"/>
            <a:ext cx="33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Q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how to set TCP timeout value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onger than RT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 RTT will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oo short: premature timeou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cessary retransmi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oo long: slow reaction to segment los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00120" y="1352520"/>
            <a:ext cx="450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Q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how to estimate RTT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urier New"/>
              </a:rPr>
              <a:t>SampleRTT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measured time from segment transmission until ACK receip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gnore retransmissions, cumulatively ACKed se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a70f"/>
                </a:solidFill>
                <a:latin typeface="Courier New"/>
              </a:rPr>
              <a:t>SampleRTT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will vary, want estimated RTT “smoother”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several recent measurements, not just current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ampleR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EA9-0499-4ED1-939F-3399888300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 Round Trip Time and Timeout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4920" y="146376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EstimatedRTT = (1-x)*EstimatedRTT + x*SampleRT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90680" y="191448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xponential weighted moving averag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fluence of given sample decreases exponentially fas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ypical value of x: 0.1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04880" y="3238560"/>
            <a:ext cx="76392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tting the timeou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a70f"/>
                </a:solidFill>
                <a:latin typeface="Courier New"/>
              </a:rPr>
              <a:t>EstimtedRTT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plus “safety margin”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arge variation in </a:t>
            </a:r>
            <a:r>
              <a:rPr b="0" lang="en-US" sz="2000" spc="-1" strike="noStrike">
                <a:solidFill>
                  <a:srgbClr val="f3a70f"/>
                </a:solidFill>
                <a:latin typeface="Courier New"/>
              </a:rPr>
              <a:t>EstimatedRTT -&gt;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larger safety margi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7840" y="477828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Timeout = EstimatedRTT + 4*Deviatio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30200" y="5254560"/>
            <a:ext cx="69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Deviation = (1-x)*Deviation +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x*|SampleRTT-EstimatedRTT|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0C9-8991-4967-88FB-AF788DAE9D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304920"/>
            <a:ext cx="8226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TCP Connection Management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1600" y="1390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CP sender, receiver establish “connection” before exchanging data segment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itialize TCP variables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q. #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ffers, flow control info (e.g.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cv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client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connection initiator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a70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3a70f"/>
                </a:solidFill>
                <a:latin typeface="Courier New"/>
              </a:rPr>
              <a:t>Socket clientSocket = new   Socket("hostname","port number");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server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contacted by clien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a70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3a70f"/>
                </a:solidFill>
                <a:latin typeface="Courier New"/>
              </a:rPr>
              <a:t>Socket connectionSocket = welcomeSocket.accept();</a:t>
            </a:r>
            <a:endParaRPr b="1" lang="en-US" sz="16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05040" y="1342800"/>
            <a:ext cx="39812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ree way handshake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1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lient end system sends TCP SYN control segment to server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es initial seq #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2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server end system receives SYN, replies with SYNACK control segmen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Ks received SY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cates buf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es server-&gt; receiver initial seq. #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7BE-0000-4CB1-B638-620AF3AFF8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TCP Connection Management (cont.)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6560" y="1911240"/>
            <a:ext cx="398304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osing a connection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lient closes socket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3a70f"/>
                </a:solidFill>
                <a:latin typeface="Courier New"/>
              </a:rPr>
              <a:t>clientSocket.close();</a:t>
            </a:r>
            <a:r>
              <a:rPr b="1" lang="en-US" sz="18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1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end system sends TCP FIN control segment to server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2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receives FIN, replies with ACK. Closes connection, sends FIN.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ast ACK is never ACK-ed!!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311720" y="1731960"/>
            <a:ext cx="4264560" cy="4187880"/>
            <a:chOff x="4311720" y="1731960"/>
            <a:chExt cx="4264560" cy="4187880"/>
          </a:xfrm>
        </p:grpSpPr>
        <p:sp>
          <p:nvSpPr>
            <p:cNvPr id="281" name=""/>
            <p:cNvSpPr/>
            <p:nvPr/>
          </p:nvSpPr>
          <p:spPr>
            <a:xfrm>
              <a:off x="5391000" y="2400480"/>
              <a:ext cx="2533680" cy="590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4978440" y="173196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466240" y="1731960"/>
              <a:ext cx="69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client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06200">
              <a:off x="6482520" y="244152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7635960" y="174132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937200" y="1751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00720" y="4438800"/>
              <a:ext cx="2533680" cy="590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9360" y="4295880"/>
              <a:ext cx="0" cy="13428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24680" y="2171880"/>
              <a:ext cx="0" cy="34099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362560" y="3133800"/>
              <a:ext cx="2495520" cy="752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0673000">
              <a:off x="5241960" y="3228480"/>
              <a:ext cx="27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706200">
              <a:off x="6367680" y="44431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410080" y="3543480"/>
              <a:ext cx="2495520" cy="752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673000">
              <a:off x="5289480" y="3638160"/>
              <a:ext cx="27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81640" y="2324160"/>
              <a:ext cx="0" cy="33433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47960" y="2203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clos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360" y="333684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clos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11720" y="555156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closed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24600" y="4276800"/>
              <a:ext cx="1904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38640" y="5657760"/>
              <a:ext cx="1904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4376520" y="4803120"/>
              <a:ext cx="13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timed wai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58E-2715-492F-83F7-6AA58776555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TCP Connection Management (cont.)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6560" y="1911240"/>
            <a:ext cx="398304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3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receives FIN, replies with ACK.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s “timed wait” - will respond with ACK to received FI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4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, receives ACK.  Connection closed.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te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with small modification, can handle simultaneous FINs.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466240" y="17319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93720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84880" y="22035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losing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56640" y="33274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losing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11720" y="55515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losed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4376520" y="48031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imed wai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74280" y="4808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losed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F51-406B-40BE-83FB-7E940DE5A7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36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 Connection Management (cont)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327" name="transClient" descr=""/>
          <p:cNvPicPr/>
          <p:nvPr/>
        </p:nvPicPr>
        <p:blipFill>
          <a:blip r:embed="rId1"/>
          <a:stretch/>
        </p:blipFill>
        <p:spPr>
          <a:xfrm>
            <a:off x="0" y="1182600"/>
            <a:ext cx="4848120" cy="2605320"/>
          </a:xfrm>
          <a:prstGeom prst="rect">
            <a:avLst/>
          </a:prstGeom>
          <a:ln w="0">
            <a:noFill/>
          </a:ln>
        </p:spPr>
      </p:pic>
      <p:pic>
        <p:nvPicPr>
          <p:cNvPr id="328" name="transServer2" descr=""/>
          <p:cNvPicPr/>
          <p:nvPr/>
        </p:nvPicPr>
        <p:blipFill>
          <a:blip r:embed="rId2"/>
          <a:stretch/>
        </p:blipFill>
        <p:spPr>
          <a:xfrm>
            <a:off x="3832200" y="3551400"/>
            <a:ext cx="4702320" cy="2793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491040" y="3808440"/>
            <a:ext cx="13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TCP clien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lifecyc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17680" y="272268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TCP server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lifecycl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8FE-64B8-41F0-AD21-E94786E4A76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Principles of Congestion Control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17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gestion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informally: “too many sources sending too much data too fast for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network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to handle”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different from flow control!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manifestation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t packets (buffer overflow at rout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delays (queueing in router buff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 top-10 problem!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701-0F9D-4992-8531-E41FBB71C2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Causes/costs of congestion: scenario 1</a:t>
            </a: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47680" y="1447560"/>
            <a:ext cx="315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two senders, two receiver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one router, infinite buffers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o retransmission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39000" y="4172040"/>
            <a:ext cx="2790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arge delays when congested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aximum achievable throughpu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pic>
        <p:nvPicPr>
          <p:cNvPr id="336" name="congestion0" descr=""/>
          <p:cNvPicPr/>
          <p:nvPr/>
        </p:nvPicPr>
        <p:blipFill>
          <a:blip r:embed="rId6"/>
          <a:stretch/>
        </p:blipFill>
        <p:spPr>
          <a:xfrm>
            <a:off x="3414600" y="1547640"/>
            <a:ext cx="5365800" cy="2129040"/>
          </a:xfrm>
          <a:prstGeom prst="rect">
            <a:avLst/>
          </a:prstGeom>
          <a:ln w="0">
            <a:noFill/>
          </a:ln>
        </p:spPr>
      </p:pic>
      <p:pic>
        <p:nvPicPr>
          <p:cNvPr id="337" name="congestion_perf0" descr=""/>
          <p:cNvPicPr/>
          <p:nvPr/>
        </p:nvPicPr>
        <p:blipFill>
          <a:blip r:embed="rId7"/>
          <a:stretch/>
        </p:blipFill>
        <p:spPr>
          <a:xfrm>
            <a:off x="214200" y="4210200"/>
            <a:ext cx="5883480" cy="214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007-5A09-4376-B75F-6101A76FE0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Causes/costs of congestion: scenario 2</a:t>
            </a: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495440"/>
            <a:ext cx="639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one router,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finite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buffers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sender retransmission of lost packe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pic>
        <p:nvPicPr>
          <p:cNvPr id="340" name="congestion1" descr=""/>
          <p:cNvPicPr/>
          <p:nvPr/>
        </p:nvPicPr>
        <p:blipFill>
          <a:blip r:embed="rId3"/>
          <a:stretch/>
        </p:blipFill>
        <p:spPr>
          <a:xfrm>
            <a:off x="795240" y="2881440"/>
            <a:ext cx="787104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B43-3654-41CC-9627-9B8DC09E14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Causes/costs of congestion: scenario 2</a:t>
            </a: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20200" y="1339920"/>
            <a:ext cx="833436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always:                   (goodput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perfect” retransmission only when loss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etransmission of delayed (not lost) packet makes         larger (than perfect case) for same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812960" y="1225440"/>
            <a:ext cx="1382400" cy="689400"/>
            <a:chOff x="1812960" y="1225440"/>
            <a:chExt cx="1382400" cy="689400"/>
          </a:xfrm>
        </p:grpSpPr>
        <p:grpSp>
          <p:nvGrpSpPr>
            <p:cNvPr id="344" name=""/>
            <p:cNvGrpSpPr/>
            <p:nvPr/>
          </p:nvGrpSpPr>
          <p:grpSpPr>
            <a:xfrm>
              <a:off x="1812960" y="1231560"/>
              <a:ext cx="573840" cy="683280"/>
              <a:chOff x="1812960" y="1231560"/>
              <a:chExt cx="573840" cy="683280"/>
            </a:xfrm>
          </p:grpSpPr>
          <p:sp>
            <p:nvSpPr>
              <p:cNvPr id="345" name=""/>
              <p:cNvSpPr/>
              <p:nvPr/>
            </p:nvSpPr>
            <p:spPr>
              <a:xfrm>
                <a:off x="1812960" y="123156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66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08080" y="151596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66720" y="1225440"/>
              <a:ext cx="728640" cy="657720"/>
              <a:chOff x="2466720" y="1225440"/>
              <a:chExt cx="728640" cy="657720"/>
            </a:xfrm>
          </p:grpSpPr>
          <p:sp>
            <p:nvSpPr>
              <p:cNvPr id="348" name=""/>
              <p:cNvSpPr/>
              <p:nvPr/>
            </p:nvSpPr>
            <p:spPr>
              <a:xfrm>
                <a:off x="2466720" y="12254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66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61120" y="148428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Arial"/>
                  </a:rPr>
                  <a:t>out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178360" y="13190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750280" y="1657440"/>
            <a:ext cx="1382400" cy="689400"/>
            <a:chOff x="5750280" y="1657440"/>
            <a:chExt cx="1382400" cy="689400"/>
          </a:xfrm>
        </p:grpSpPr>
        <p:grpSp>
          <p:nvGrpSpPr>
            <p:cNvPr id="352" name=""/>
            <p:cNvGrpSpPr/>
            <p:nvPr/>
          </p:nvGrpSpPr>
          <p:grpSpPr>
            <a:xfrm>
              <a:off x="5750280" y="1657440"/>
              <a:ext cx="1382400" cy="689400"/>
              <a:chOff x="5750280" y="1657440"/>
              <a:chExt cx="1382400" cy="6894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5750280" y="1663560"/>
                <a:ext cx="573840" cy="683280"/>
                <a:chOff x="5750280" y="1663560"/>
                <a:chExt cx="573840" cy="6832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750280" y="166356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66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945400" y="194796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66"/>
                      </a:solidFill>
                      <a:latin typeface="Arial"/>
                    </a:rPr>
                    <a:t>in</a:t>
                  </a:r>
                  <a:endParaRPr b="0" lang="en-US" sz="20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404040" y="1657440"/>
                <a:ext cx="728640" cy="657720"/>
                <a:chOff x="6404040" y="1657440"/>
                <a:chExt cx="728640" cy="6577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404040" y="165744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66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98440" y="191628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66"/>
                      </a:solidFill>
                      <a:latin typeface="Arial"/>
                    </a:rPr>
                    <a:t>out</a:t>
                  </a:r>
                  <a:endParaRPr b="0" lang="en-US" sz="20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6103800" y="17035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&gt;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 flipV="1">
              <a:off x="6064200" y="1778040"/>
              <a:ext cx="31320" cy="633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864480" y="2130480"/>
            <a:ext cx="573840" cy="683280"/>
            <a:chOff x="6864480" y="2130480"/>
            <a:chExt cx="573840" cy="683280"/>
          </a:xfrm>
        </p:grpSpPr>
        <p:grpSp>
          <p:nvGrpSpPr>
            <p:cNvPr id="362" name=""/>
            <p:cNvGrpSpPr/>
            <p:nvPr/>
          </p:nvGrpSpPr>
          <p:grpSpPr>
            <a:xfrm>
              <a:off x="6864480" y="2130480"/>
              <a:ext cx="573840" cy="683280"/>
              <a:chOff x="6864480" y="2130480"/>
              <a:chExt cx="573840" cy="683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864480" y="213048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66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59600" y="24148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 flipV="1">
              <a:off x="7178400" y="2244960"/>
              <a:ext cx="32040" cy="633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442040" y="2486160"/>
            <a:ext cx="728640" cy="657720"/>
            <a:chOff x="4442040" y="2486160"/>
            <a:chExt cx="728640" cy="657720"/>
          </a:xfrm>
        </p:grpSpPr>
        <p:sp>
          <p:nvSpPr>
            <p:cNvPr id="367" name=""/>
            <p:cNvSpPr/>
            <p:nvPr/>
          </p:nvSpPr>
          <p:spPr>
            <a:xfrm>
              <a:off x="4442040" y="248616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36440" y="27450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pic>
        <p:nvPicPr>
          <p:cNvPr id="369" name="congestion_perf1" descr=""/>
          <p:cNvPicPr/>
          <p:nvPr/>
        </p:nvPicPr>
        <p:blipFill>
          <a:blip r:embed="rId4"/>
          <a:stretch/>
        </p:blipFill>
        <p:spPr>
          <a:xfrm>
            <a:off x="776160" y="3170160"/>
            <a:ext cx="7713720" cy="2352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212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5960" y="527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sts” of congestion: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more work (retrans) for given “goodput”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unneeded retransmissions: link carries multiple copies of pk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E79-84A6-46A3-AEED-D426857717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CP: What and How</a:t>
            </a: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For more: </a:t>
            </a: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5"/>
                </a:solidFill>
                <a:latin typeface="Arial"/>
              </a:rPr>
              <a:t>RFCs: 793, 1122, 1323, 2018, 2581</a:t>
            </a:r>
            <a:endParaRPr b="1" lang="en-US" sz="1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duplex data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-directional data flow in sam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S: maximum segment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nection-oriented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shaking (exchange of control msgs) init’s sender, receiver state before data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ow controlled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er will not overwhelm re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int-to-point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sender, one receiv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liable, in-or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yte steam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“message boundari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pelined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 congestion and flow control set window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nd &amp; receive buffer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-490680" y="5421240"/>
          <a:ext cx="6026400" cy="1023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-490680" y="5421240"/>
                    <a:ext cx="60264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527-D62B-4360-B9A3-F74E399EB6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Causes/costs of congestion: scenario 3</a:t>
            </a: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four sender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ultihop path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imeout/retransmi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366320" y="1271520"/>
            <a:ext cx="573840" cy="683280"/>
            <a:chOff x="7366320" y="1271520"/>
            <a:chExt cx="573840" cy="683280"/>
          </a:xfrm>
        </p:grpSpPr>
        <p:sp>
          <p:nvSpPr>
            <p:cNvPr id="375" name=""/>
            <p:cNvSpPr/>
            <p:nvPr/>
          </p:nvSpPr>
          <p:spPr>
            <a:xfrm>
              <a:off x="7366320" y="12715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61440" y="1555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578480" y="1333440"/>
            <a:ext cx="3390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Q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happens as      and     increas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378" name="congestion2" descr=""/>
          <p:cNvPicPr/>
          <p:nvPr/>
        </p:nvPicPr>
        <p:blipFill>
          <a:blip r:embed="rId4"/>
          <a:stretch/>
        </p:blipFill>
        <p:spPr>
          <a:xfrm>
            <a:off x="669960" y="2398680"/>
            <a:ext cx="5643360" cy="37306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5527800" y="1643040"/>
            <a:ext cx="573840" cy="683280"/>
            <a:chOff x="5527800" y="1643040"/>
            <a:chExt cx="573840" cy="683280"/>
          </a:xfrm>
        </p:grpSpPr>
        <p:grpSp>
          <p:nvGrpSpPr>
            <p:cNvPr id="380" name=""/>
            <p:cNvGrpSpPr/>
            <p:nvPr/>
          </p:nvGrpSpPr>
          <p:grpSpPr>
            <a:xfrm>
              <a:off x="5527800" y="1643040"/>
              <a:ext cx="573840" cy="683280"/>
              <a:chOff x="5527800" y="1643040"/>
              <a:chExt cx="573840" cy="683280"/>
            </a:xfrm>
          </p:grpSpPr>
          <p:sp>
            <p:nvSpPr>
              <p:cNvPr id="381" name=""/>
              <p:cNvSpPr/>
              <p:nvPr/>
            </p:nvSpPr>
            <p:spPr>
              <a:xfrm>
                <a:off x="5527800" y="16430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66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22920" y="19274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 flipV="1">
              <a:off x="5829120" y="1800360"/>
              <a:ext cx="28440" cy="8568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EC9-2F1E-4E72-8825-BA2B796C94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Causes/costs of congestion: scenario 3</a:t>
            </a: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212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4120" y="45813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other “cost” of congestion: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en packet dropped, any “upstream transmission capacity used for that packet was wasted!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387" name="congestion_perf2" descr=""/>
          <p:cNvPicPr/>
          <p:nvPr/>
        </p:nvPicPr>
        <p:blipFill>
          <a:blip r:embed="rId1"/>
          <a:stretch/>
        </p:blipFill>
        <p:spPr>
          <a:xfrm>
            <a:off x="669960" y="1562040"/>
            <a:ext cx="4421160" cy="2819520"/>
          </a:xfrm>
          <a:prstGeom prst="rect">
            <a:avLst/>
          </a:prstGeom>
          <a:ln w="0">
            <a:noFill/>
          </a:ln>
        </p:spPr>
      </p:pic>
      <p:pic>
        <p:nvPicPr>
          <p:cNvPr id="388" name="congestion2" descr=""/>
          <p:cNvPicPr/>
          <p:nvPr/>
        </p:nvPicPr>
        <p:blipFill>
          <a:blip r:embed="rId2"/>
          <a:stretch/>
        </p:blipFill>
        <p:spPr>
          <a:xfrm>
            <a:off x="5213520" y="1477800"/>
            <a:ext cx="3519360" cy="23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C34-43AD-4E10-8B22-F470777D0A8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Approaches towards congestion control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8440" y="2316240"/>
            <a:ext cx="400212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-end congestion control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o explicit feedback from network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ongestion inferred from end-system observed loss, delay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approach taken by TCP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50840" y="2298600"/>
            <a:ext cx="403236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twork-assisted congestion control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ers provide feedback to end system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bit indicating congestion (SNA, DECbit, TCP/IP ECN, AT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rate sender should send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2880" y="1380960"/>
            <a:ext cx="747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wo broad approaches towards congestion control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0CF-622B-4ECD-A3AC-3EF563B075D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Case study: ATM ABR congestion control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38307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R: available bit rate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lastic service”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f sender’s path “underloaded”: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er should use available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f sender’s path congested: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er throttled to minimum guaranteed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38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M (resource management) cell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sent by sender, interspersed with data cell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bits in RM cell set by switches (“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network-assisted”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NI bi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 increase in rate (mild conges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I bi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gestion in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M cells returned to sender by receiver, with bits intac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279-2ABD-4C7F-85CD-BC4E6C8B50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14440" y="151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Case study: ATM ABR congestion control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95000" y="3876840"/>
            <a:ext cx="80485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two-byte ER (explicit rate) field in RM cell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gested switch may lower ER value in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er’ send rate thus minimum supportable rate on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EFCI bit in data cells: set to 1 in congested switch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data cell preceding RM cell has EFCI set, sender sets CI bit in returned RM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congestion3" descr=""/>
          <p:cNvPicPr/>
          <p:nvPr/>
        </p:nvPicPr>
        <p:blipFill>
          <a:blip r:embed="rId3"/>
          <a:stretch/>
        </p:blipFill>
        <p:spPr>
          <a:xfrm>
            <a:off x="1655640" y="1279440"/>
            <a:ext cx="594360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026-F073-4063-8BD2-ABD9727EB5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CP Congestion Contro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2520" y="1400040"/>
            <a:ext cx="79153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nd-end control (no network assistance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ransmission rate limited by congestion window size, </a:t>
            </a:r>
            <a:r>
              <a:rPr b="0" lang="en-US" sz="1800" spc="-1" strike="noStrike">
                <a:solidFill>
                  <a:srgbClr val="f3a70f"/>
                </a:solidFill>
                <a:latin typeface="Courier New"/>
              </a:rPr>
              <a:t>Congwin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, over segments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pic>
        <p:nvPicPr>
          <p:cNvPr id="401" name="gbn_seqnum" descr=""/>
          <p:cNvPicPr/>
          <p:nvPr/>
        </p:nvPicPr>
        <p:blipFill>
          <a:blip r:embed="rId3"/>
          <a:stretch/>
        </p:blipFill>
        <p:spPr>
          <a:xfrm>
            <a:off x="671400" y="2841480"/>
            <a:ext cx="7328160" cy="14749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85640" y="4591080"/>
            <a:ext cx="7915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 segments, each with MSS bytes sent in one RTT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98800" y="5143680"/>
            <a:ext cx="4435200" cy="809280"/>
            <a:chOff x="2098800" y="5143680"/>
            <a:chExt cx="4435200" cy="809280"/>
          </a:xfrm>
        </p:grpSpPr>
        <p:sp>
          <p:nvSpPr>
            <p:cNvPr id="404" name=""/>
            <p:cNvSpPr/>
            <p:nvPr/>
          </p:nvSpPr>
          <p:spPr>
            <a:xfrm>
              <a:off x="2098800" y="5313240"/>
              <a:ext cx="180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throughput =</a:t>
              </a:r>
              <a:r>
                <a:rPr b="0" lang="en-US" sz="10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13200" y="516096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w * MSS</a:t>
              </a:r>
              <a:r>
                <a:rPr b="0" lang="en-US" sz="10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08320" y="5513400"/>
              <a:ext cx="65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RTT</a:t>
              </a:r>
              <a:r>
                <a:rPr b="0" lang="en-US" sz="10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92920" y="535140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ytes/se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160" y="5524560"/>
              <a:ext cx="100908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24000" y="5143680"/>
              <a:ext cx="4410000" cy="809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1914480" y="3924360"/>
            <a:ext cx="1190520" cy="438120"/>
          </a:xfrm>
          <a:prstGeom prst="rect">
            <a:avLst/>
          </a:prstGeom>
          <a:solidFill>
            <a:srgbClr val="212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97200" y="3863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245-1058-46D8-920A-1A56A1CF870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CP congestion control: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50840" y="1827360"/>
            <a:ext cx="40323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two “phases”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low s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gestion avoid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important variable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ff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ff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hreshol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fines threshold between two slow start phase, congestion control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1827000"/>
            <a:ext cx="40924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bing”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for usable bandwidth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deall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ransmit as fast as possible (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gw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large as possible) withou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gw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ntil loss (conges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s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re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gw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n begin probing (increasing) a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727-91E9-4C63-B73F-509903EA85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CP Slowstart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6560" y="4414320"/>
            <a:ext cx="403416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xponential increase (per RTT) in window size (not so slow!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oss event: timeout (Tahoe TCP) and/or or three duplicate ACKs (Reno TCP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2960" y="220356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ize: Congwin = 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 (each segment ACKed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til (loss event OR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ngWin &gt; threshold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2600" y="1790640"/>
            <a:ext cx="3924000" cy="2476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85720" y="1593720"/>
            <a:ext cx="3888000" cy="459720"/>
            <a:chOff x="585720" y="1593720"/>
            <a:chExt cx="3888000" cy="459720"/>
          </a:xfrm>
        </p:grpSpPr>
        <p:sp>
          <p:nvSpPr>
            <p:cNvPr id="420" name=""/>
            <p:cNvSpPr/>
            <p:nvPr/>
          </p:nvSpPr>
          <p:spPr>
            <a:xfrm>
              <a:off x="657360" y="1657080"/>
              <a:ext cx="2867040" cy="30492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720" y="1593720"/>
              <a:ext cx="38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lowstart algorithm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700600" y="1947960"/>
            <a:ext cx="2505240" cy="35244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5292720" y="1312920"/>
            <a:ext cx="485640" cy="3855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723280" y="131292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408000">
            <a:off x="6704640" y="191412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5282280" y="21517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RTT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7950240" y="132228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236360" y="13320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95920" y="1762200"/>
            <a:ext cx="0" cy="384804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210520" y="1800360"/>
            <a:ext cx="0" cy="384804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5514840" y="1933200"/>
            <a:ext cx="5040" cy="21924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24560" y="2495520"/>
            <a:ext cx="4680" cy="2239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676840" y="2352240"/>
            <a:ext cx="2505240" cy="352440"/>
          </a:xfrm>
          <a:prstGeom prst="line">
            <a:avLst/>
          </a:prstGeom>
          <a:ln w="2844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900920" y="5099040"/>
            <a:ext cx="665280" cy="368280"/>
            <a:chOff x="7900920" y="5099040"/>
            <a:chExt cx="665280" cy="368280"/>
          </a:xfrm>
        </p:grpSpPr>
        <p:sp>
          <p:nvSpPr>
            <p:cNvPr id="435" name=""/>
            <p:cNvSpPr/>
            <p:nvPr/>
          </p:nvSpPr>
          <p:spPr>
            <a:xfrm>
              <a:off x="7964280" y="5172120"/>
              <a:ext cx="514440" cy="2476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00920" y="50990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705640" y="2728800"/>
            <a:ext cx="2504880" cy="35244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00600" y="2814480"/>
            <a:ext cx="2505240" cy="35244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700600" y="3338280"/>
            <a:ext cx="2529000" cy="361800"/>
          </a:xfrm>
          <a:prstGeom prst="line">
            <a:avLst/>
          </a:prstGeom>
          <a:ln w="2844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715000" y="3462120"/>
            <a:ext cx="2505240" cy="352440"/>
          </a:xfrm>
          <a:prstGeom prst="line">
            <a:avLst/>
          </a:prstGeom>
          <a:ln w="2844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408000">
            <a:off x="6702840" y="27000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408000">
            <a:off x="6794280" y="37144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695920" y="3733920"/>
            <a:ext cx="2519280" cy="651960"/>
            <a:chOff x="5695920" y="3733920"/>
            <a:chExt cx="2519280" cy="651960"/>
          </a:xfrm>
        </p:grpSpPr>
        <p:sp>
          <p:nvSpPr>
            <p:cNvPr id="444" name=""/>
            <p:cNvSpPr/>
            <p:nvPr/>
          </p:nvSpPr>
          <p:spPr>
            <a:xfrm>
              <a:off x="5710320" y="3733920"/>
              <a:ext cx="2504880" cy="3520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95920" y="3828960"/>
              <a:ext cx="2505240" cy="3520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10320" y="3933720"/>
              <a:ext cx="2504880" cy="3520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00600" y="4033800"/>
              <a:ext cx="2505240" cy="3520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981760" y="4115160"/>
            <a:ext cx="2228400" cy="604440"/>
            <a:chOff x="5981760" y="4115160"/>
            <a:chExt cx="2228400" cy="604440"/>
          </a:xfrm>
        </p:grpSpPr>
        <p:sp>
          <p:nvSpPr>
            <p:cNvPr id="449" name=""/>
            <p:cNvSpPr/>
            <p:nvPr/>
          </p:nvSpPr>
          <p:spPr>
            <a:xfrm flipV="1">
              <a:off x="5994360" y="4393080"/>
              <a:ext cx="2215800" cy="326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981760" y="4304880"/>
              <a:ext cx="2216160" cy="326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994360" y="4207680"/>
              <a:ext cx="2215800" cy="326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985720" y="4115160"/>
              <a:ext cx="2216160" cy="326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A85-A505-4A36-ABF0-7F49938595F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01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CP Congestion Avoidanc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52320" y="2127240"/>
            <a:ext cx="397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/* slowstart is over        */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/* Congwin &gt; threshold */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til (loss event) {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very w segments ACKed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reshold = Congwin/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ngwin = 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form slowstar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1960" y="1847880"/>
            <a:ext cx="4067280" cy="3762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6440" y="1695600"/>
            <a:ext cx="3133440" cy="304560"/>
          </a:xfrm>
          <a:prstGeom prst="rect">
            <a:avLst/>
          </a:prstGeom>
          <a:solidFill>
            <a:srgbClr val="212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3240" y="161280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gestion avoidanc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58" name="congwin" descr=""/>
          <p:cNvPicPr/>
          <p:nvPr/>
        </p:nvPicPr>
        <p:blipFill>
          <a:blip r:embed="rId1"/>
          <a:stretch/>
        </p:blipFill>
        <p:spPr>
          <a:xfrm>
            <a:off x="4905360" y="2324160"/>
            <a:ext cx="3971880" cy="32846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014640" y="4971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2280" y="5913360"/>
            <a:ext cx="36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: TCP Reno skips slowstart (fast 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recovery) after three duplicate ACK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6B2-7669-4E86-BD34-2C1FCEE12CF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CP Congestion: Real Life is Hairy!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32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09800" y="1600200"/>
            <a:ext cx="401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RFC 2581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Remember: bytes vs packets!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CW += MSS * MSS/CW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Thres = Max( 2* MSS,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InFlightData/2)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MSS: max segment siz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2320" y="2127240"/>
            <a:ext cx="397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/* slowstart is over        */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/* Congwin &gt; threshold */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til (loss event) {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very w segments ACKed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reshold = Congwin/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ngwin = 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form slowstar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1960" y="1847880"/>
            <a:ext cx="4067280" cy="3762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440" y="1695600"/>
            <a:ext cx="3133440" cy="304560"/>
          </a:xfrm>
          <a:prstGeom prst="rect">
            <a:avLst/>
          </a:prstGeom>
          <a:solidFill>
            <a:srgbClr val="212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240" y="161280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gestion avoidanc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14640" y="4971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2280" y="5913360"/>
            <a:ext cx="36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: TCP Reno skips slowstart (fast 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recovery) after three duplicate ACK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64E-5EC8-415F-ACFF-554F5272F78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 segment structure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748240" y="1103400"/>
            <a:ext cx="4100040" cy="5330880"/>
            <a:chOff x="2748240" y="1103400"/>
            <a:chExt cx="4100040" cy="5330880"/>
          </a:xfrm>
        </p:grpSpPr>
        <p:sp>
          <p:nvSpPr>
            <p:cNvPr id="95" name=""/>
            <p:cNvSpPr/>
            <p:nvPr/>
          </p:nvSpPr>
          <p:spPr>
            <a:xfrm>
              <a:off x="2896920" y="1513080"/>
              <a:ext cx="3951360" cy="482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11240" y="1629000"/>
              <a:ext cx="3951360" cy="480528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4760" y="1594080"/>
              <a:ext cx="17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source port #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97520" y="1598760"/>
              <a:ext cx="149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dest port #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14480" y="2003400"/>
              <a:ext cx="3946680" cy="50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08000" y="2382840"/>
              <a:ext cx="395136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754520" y="1628640"/>
              <a:ext cx="0" cy="3920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8960" y="11034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97400" y="1344600"/>
              <a:ext cx="1427040" cy="50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788560" y="1355760"/>
              <a:ext cx="13417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5200" y="4573800"/>
              <a:ext cx="212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data 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(variable length)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44840" y="1982880"/>
              <a:ext cx="24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sequence number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17720" y="2764080"/>
              <a:ext cx="395136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4520" y="238284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cknowledgement number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3040" y="3159360"/>
              <a:ext cx="39510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8000" y="3549600"/>
              <a:ext cx="395136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08000" y="4111560"/>
              <a:ext cx="395136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768560" y="2766600"/>
              <a:ext cx="5040" cy="77796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64600" y="2774880"/>
              <a:ext cx="196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rcvr window siz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4920" y="3170160"/>
              <a:ext cx="182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ptr urgent data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56120" y="31514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checksum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43200" y="28036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11600" y="2757240"/>
              <a:ext cx="0" cy="3920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449600" y="2761920"/>
              <a:ext cx="0" cy="3920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282920" y="2761920"/>
              <a:ext cx="0" cy="3920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120920" y="2766960"/>
              <a:ext cx="0" cy="39240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963960" y="2761920"/>
              <a:ext cx="0" cy="3920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792240" y="2771640"/>
              <a:ext cx="0" cy="3920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78680" y="27990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03720" y="279900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38480" y="27939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3320" y="27939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11960" y="27939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8240" y="2700360"/>
              <a:ext cx="601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head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len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9560" y="2700360"/>
              <a:ext cx="5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not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used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287520" y="2761920"/>
              <a:ext cx="0" cy="3920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040" y="3654360"/>
              <a:ext cx="31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Options (variable length)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61280" y="1432080"/>
            <a:ext cx="23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URG: urgent data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(generally not used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5760" y="21556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ACK: ACK #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valid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0680" y="283212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PSH: push data now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(generally not used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4680" y="3632040"/>
            <a:ext cx="202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RST, SYN, FIN: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onnection esta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(setup, teardown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ommands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71680" y="1800360"/>
            <a:ext cx="1495440" cy="9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43240" y="247644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352600" y="282888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35800" y="3013200"/>
            <a:ext cx="13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# bytes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rcvr willing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o accep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14680" y="152712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ounting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by bytes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of dat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(not segments!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4965840"/>
            <a:ext cx="13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(as in UDP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686-6628-4734-8FFA-A8D6521CAEF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7020000" y="5048280"/>
            <a:ext cx="1933560" cy="936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286160" y="7999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 Fairness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0560" y="2046240"/>
            <a:ext cx="4032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irness goal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if N TCP sessions share same bottleneck link, each should get 1/N of link capacity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5360" y="1476360"/>
            <a:ext cx="345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TCP congestion avoidance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IMD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3a70f"/>
                </a:solidFill>
                <a:latin typeface="Arial"/>
              </a:rPr>
              <a:t>additive increase, multiplicative decreas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window by 1 per R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 window by factor of 2 on los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0120" y="295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IMD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518000" y="5213520"/>
            <a:ext cx="646200" cy="5331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826240" y="4991040"/>
            <a:ext cx="1198440" cy="370080"/>
          </a:xfrm>
          <a:prstGeom prst="ellipse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26240" y="4923000"/>
            <a:ext cx="1198440" cy="2635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35600" y="4694400"/>
            <a:ext cx="1198440" cy="430200"/>
          </a:xfrm>
          <a:prstGeom prst="ellipse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181560" y="4724280"/>
            <a:ext cx="497160" cy="118800"/>
            <a:chOff x="6181560" y="4724280"/>
            <a:chExt cx="497160" cy="118800"/>
          </a:xfrm>
        </p:grpSpPr>
        <p:grpSp>
          <p:nvGrpSpPr>
            <p:cNvPr id="480" name=""/>
            <p:cNvGrpSpPr/>
            <p:nvPr/>
          </p:nvGrpSpPr>
          <p:grpSpPr>
            <a:xfrm>
              <a:off x="6181560" y="4725720"/>
              <a:ext cx="497160" cy="117360"/>
              <a:chOff x="6181560" y="4725720"/>
              <a:chExt cx="497160" cy="117360"/>
            </a:xfrm>
          </p:grpSpPr>
          <p:sp>
            <p:nvSpPr>
              <p:cNvPr id="481" name=""/>
              <p:cNvSpPr/>
              <p:nvPr/>
            </p:nvSpPr>
            <p:spPr>
              <a:xfrm flipV="1">
                <a:off x="6181560" y="4725720"/>
                <a:ext cx="177480" cy="21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22480" y="4843080"/>
                <a:ext cx="1562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45000" y="4727880"/>
                <a:ext cx="184680" cy="1148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181560" y="4724280"/>
              <a:ext cx="497160" cy="117360"/>
              <a:chOff x="6181560" y="4724280"/>
              <a:chExt cx="497160" cy="117360"/>
            </a:xfrm>
          </p:grpSpPr>
          <p:sp>
            <p:nvSpPr>
              <p:cNvPr id="485" name=""/>
              <p:cNvSpPr/>
              <p:nvPr/>
            </p:nvSpPr>
            <p:spPr>
              <a:xfrm>
                <a:off x="6181560" y="4839480"/>
                <a:ext cx="177480" cy="21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522480" y="4724280"/>
                <a:ext cx="1562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345000" y="4724640"/>
                <a:ext cx="184680" cy="1148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7693200" y="5000760"/>
            <a:ext cx="1198440" cy="369720"/>
          </a:xfrm>
          <a:prstGeom prst="ellipse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02560" y="4979880"/>
            <a:ext cx="0" cy="2286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02560" y="4941720"/>
            <a:ext cx="1198440" cy="2635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711920" y="4713120"/>
            <a:ext cx="1198800" cy="430560"/>
          </a:xfrm>
          <a:prstGeom prst="ellipse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470480" y="422280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737712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86640" y="491976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97716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08200" y="38797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CP connection 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05360" y="5308560"/>
            <a:ext cx="13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bottleneck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rout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apacity 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8039160" y="4771800"/>
            <a:ext cx="497160" cy="118800"/>
            <a:chOff x="8039160" y="4771800"/>
            <a:chExt cx="497160" cy="118800"/>
          </a:xfrm>
        </p:grpSpPr>
        <p:grpSp>
          <p:nvGrpSpPr>
            <p:cNvPr id="499" name=""/>
            <p:cNvGrpSpPr/>
            <p:nvPr/>
          </p:nvGrpSpPr>
          <p:grpSpPr>
            <a:xfrm>
              <a:off x="8039160" y="4773600"/>
              <a:ext cx="497160" cy="117000"/>
              <a:chOff x="8039160" y="4773600"/>
              <a:chExt cx="497160" cy="117000"/>
            </a:xfrm>
          </p:grpSpPr>
          <p:sp>
            <p:nvSpPr>
              <p:cNvPr id="500" name=""/>
              <p:cNvSpPr/>
              <p:nvPr/>
            </p:nvSpPr>
            <p:spPr>
              <a:xfrm flipV="1">
                <a:off x="8039160" y="4773600"/>
                <a:ext cx="177120" cy="21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380080" y="4890600"/>
                <a:ext cx="1562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02600" y="4775760"/>
                <a:ext cx="184320" cy="1144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8039160" y="4771800"/>
              <a:ext cx="497160" cy="117000"/>
              <a:chOff x="8039160" y="4771800"/>
              <a:chExt cx="497160" cy="117000"/>
            </a:xfrm>
          </p:grpSpPr>
          <p:sp>
            <p:nvSpPr>
              <p:cNvPr id="504" name=""/>
              <p:cNvSpPr/>
              <p:nvPr/>
            </p:nvSpPr>
            <p:spPr>
              <a:xfrm>
                <a:off x="8039160" y="4886640"/>
                <a:ext cx="177120" cy="21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380080" y="4771800"/>
                <a:ext cx="1562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8202600" y="4772160"/>
                <a:ext cx="184320" cy="1144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7" name=""/>
          <p:cNvSpPr/>
          <p:nvPr/>
        </p:nvSpPr>
        <p:spPr>
          <a:xfrm>
            <a:off x="3963600" y="543240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CP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onnection 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72120" y="4334040"/>
            <a:ext cx="3828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48640" y="4919760"/>
            <a:ext cx="147600" cy="199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14880" y="5068800"/>
            <a:ext cx="3828960" cy="71928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B5C-5227-4410-9F6B-BB7433405F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Why is TCP fair?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Two competing session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Additive increase gives slope of 1, as throughout increase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ultiplicative decrease decreases throughput proportionally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equal bandwidth shar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onnection 1 throughpu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onnection 2 throughpu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congestion avoidance: additive increas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23120" y="4437000"/>
            <a:ext cx="36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loss: decrease window by factor of 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congestion avoidance: additive increas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23160" y="3989520"/>
            <a:ext cx="36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loss: decrease window by factor of 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571-BDA2-497E-BC1C-1F97FB56B2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 latency modeling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3800" y="1481040"/>
            <a:ext cx="426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Q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w long does it take to receive an object from a Web server after sending a request?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CP connection establishmen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data transfer delay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66880" y="15238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tion, assumption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Assume one link between client and server of rate R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Assume: fixed congestion window, W segment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S: MSS (bits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O: object size (bits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o retransmissions (no loss, no corruption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59080" y="4651200"/>
            <a:ext cx="64008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wo cases to consider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S/R &gt; RTT + S/R: ACK for first segment in window returns before window’s worth of data sen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S/R &lt; RTT + S/R: wait for ACK after sending window’s worth of data sen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52E-B5C5-495C-94D6-51992396C5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 latency Modeling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538" name="fig1" descr=""/>
          <p:cNvPicPr/>
          <p:nvPr/>
        </p:nvPicPr>
        <p:blipFill>
          <a:blip r:embed="rId1"/>
          <a:stretch/>
        </p:blipFill>
        <p:spPr>
          <a:xfrm>
            <a:off x="295200" y="1481040"/>
            <a:ext cx="4105440" cy="3571920"/>
          </a:xfrm>
          <a:prstGeom prst="rect">
            <a:avLst/>
          </a:prstGeom>
          <a:ln w="0">
            <a:noFill/>
          </a:ln>
        </p:spPr>
      </p:pic>
      <p:pic>
        <p:nvPicPr>
          <p:cNvPr id="539" name="figure2" descr=""/>
          <p:cNvPicPr/>
          <p:nvPr/>
        </p:nvPicPr>
        <p:blipFill>
          <a:blip r:embed="rId2"/>
          <a:stretch/>
        </p:blipFill>
        <p:spPr>
          <a:xfrm>
            <a:off x="4600440" y="1646280"/>
            <a:ext cx="4419720" cy="31827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502560" y="518004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ase 1: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latency = 2RTT + O/R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00520" y="5141880"/>
            <a:ext cx="40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ase 2: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latency = 2RTT + O/R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+ (K-1)[S/R + RTT - WS/R]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21680" y="8334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K:= O/W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B26-8572-45BC-A46A-EF89213051DA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5"/>
                </a:solidFill>
                <a:latin typeface="Arial"/>
              </a:rPr>
              <a:t>TCP Latency Modeling: Slow Start</a:t>
            </a:r>
            <a:endParaRPr b="1" lang="en-US" sz="24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19280" y="880920"/>
            <a:ext cx="77724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w suppose window grows according to slow start.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Will show that the latency of one object of size O is:</a:t>
            </a:r>
            <a:r>
              <a:rPr b="1" lang="en-US" sz="16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3a70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800280" y="1752480"/>
                <a:ext cx="53751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tenc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O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1095480" y="2787480"/>
            <a:ext cx="62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is the number of times TCP stalls at server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148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2320920" y="3505320"/>
                <a:ext cx="1969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428400" y="4284720"/>
            <a:ext cx="620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 where Q is the number of times the server would stall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if the object were of infinite size.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and  K is the number of windows that cover the object.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A14-B617-4882-BC2F-A9172CDA5D0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4720" y="0"/>
            <a:ext cx="7770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5"/>
                </a:solidFill>
                <a:latin typeface="Arial"/>
              </a:rPr>
              <a:t>TCP Latency Modeling: Slow Start (cont.)</a:t>
            </a:r>
            <a:endParaRPr b="1" lang="en-US" sz="2400" spc="-1" strike="noStrike">
              <a:solidFill>
                <a:srgbClr val="ffff05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505240" y="990720"/>
          <a:ext cx="624816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5240" y="990720"/>
                    <a:ext cx="624816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420840" y="1146240"/>
            <a:ext cx="23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O/S  = 15 segment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K = 4 window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Q = 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P = min{K-1,Q} = 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Server stalls P=2 times.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CB3-79F5-4BE1-BCAE-839595680A73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03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5"/>
                </a:solidFill>
                <a:latin typeface="Arial"/>
              </a:rPr>
              <a:t>TCP Latency Modeling: Slow Start (cont.)</a:t>
            </a:r>
            <a:endParaRPr b="1" lang="en-US" sz="2400" spc="-1" strike="noStrike">
              <a:solidFill>
                <a:srgbClr val="ffff0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06200" y="4419720"/>
                <a:ext cx="43434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tenc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tallTim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r>
                              <m:t xml:space="preserve">[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]</m:t>
                        </m:r>
                      </m:e>
                      <m:e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17360" y="3048120"/>
                <a:ext cx="46738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stall time after the 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h windo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04840" y="988920"/>
                <a:ext cx="50544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me from when server starts to send segm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until server receives acknowledg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74680" y="2224080"/>
                <a:ext cx="3651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ime to transmit the kth window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59" name=""/>
          <p:cNvGraphicFramePr/>
          <p:nvPr/>
        </p:nvGraphicFramePr>
        <p:xfrm>
          <a:off x="4130640" y="1924200"/>
          <a:ext cx="5214960" cy="44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1924200"/>
                    <a:ext cx="5214960" cy="44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C30-718C-405F-961C-E54B0EFD8763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urrent TCP Version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CP specs can be implemented in different way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CP versions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Veg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4EA-974F-4E89-898C-FC6C188AFE3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CP Reno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ost popular TCP implementat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ast retransmit on 3 duplicate ACK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ast recovery: cancel slow start  after fast retransmiss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A18-53EE-4D65-9D60-BACC7A2B6C2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CP Vega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dea: infer problems from RTT dela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rate before you have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What is a “sign”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TT increases above a thres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ing rate flatt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Decrease sending rate linearl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ssues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R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appropriate thres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065-ACD1-45F0-A558-A9488A7D030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971960" y="4686480"/>
            <a:ext cx="2791080" cy="5619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96000" y="2238480"/>
            <a:ext cx="2619360" cy="5713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CP seq. #’s and ACK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2080" y="1295280"/>
            <a:ext cx="3257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q. #’s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 stream “number” of first byte in segment’s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Ks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q # of next byte expected from oth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how receiver handles out-of-order segment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TCP spec doesn’t say, - up to implemen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33880" y="1407960"/>
            <a:ext cx="606240" cy="481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58280" y="1322280"/>
            <a:ext cx="606240" cy="480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807440" y="146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Host 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7080" y="14508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Host 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706200">
            <a:off x="4976640" y="222048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Seq=42, ACK=79, data = ‘C’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0755200">
            <a:off x="5032440" y="327816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Seq=79, ACK=43, data = ‘C’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683400">
            <a:off x="5097240" y="4519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26960" y="1932120"/>
            <a:ext cx="6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User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typ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12400" y="4046400"/>
            <a:ext cx="113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host ACK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receipt 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of echoe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95560" y="258912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host ACK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receipt of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C’, echo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back ‘C’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886280" y="3200400"/>
            <a:ext cx="2610000" cy="800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20200" y="171468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289720" y="5527800"/>
            <a:ext cx="665280" cy="368280"/>
            <a:chOff x="8289720" y="5527800"/>
            <a:chExt cx="665280" cy="368280"/>
          </a:xfrm>
        </p:grpSpPr>
        <p:sp>
          <p:nvSpPr>
            <p:cNvPr id="164" name=""/>
            <p:cNvSpPr/>
            <p:nvPr/>
          </p:nvSpPr>
          <p:spPr>
            <a:xfrm>
              <a:off x="8353080" y="5600520"/>
              <a:ext cx="514440" cy="24732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89720" y="552780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376600" y="57942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simple telnet scenario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F09-CA4E-4D69-A64C-922D27DEE3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ntuition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riving on Ic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35480" y="766800"/>
            <a:ext cx="1093680" cy="5503680"/>
          </a:xfrm>
          <a:custGeom>
            <a:avLst/>
            <a:gdLst/>
            <a:ahLst/>
            <a:rect l="l" t="t" r="r" b="b"/>
            <a:pathLst>
              <a:path w="689" h="3467">
                <a:moveTo>
                  <a:pt x="689" y="3467"/>
                </a:moveTo>
                <a:lnTo>
                  <a:pt x="689" y="0"/>
                </a:lnTo>
                <a:lnTo>
                  <a:pt x="0" y="0"/>
                </a:lnTo>
                <a:lnTo>
                  <a:pt x="0" y="3467"/>
                </a:lnTo>
                <a:lnTo>
                  <a:pt x="689" y="3467"/>
                </a:lnTo>
                <a:lnTo>
                  <a:pt x="689" y="3467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417680" y="2833560"/>
            <a:ext cx="5559480" cy="1086120"/>
          </a:xfrm>
          <a:custGeom>
            <a:avLst/>
            <a:gdLst/>
            <a:ahLst/>
            <a:rect l="l" t="t" r="r" b="b"/>
            <a:pathLst>
              <a:path w="3502" h="684">
                <a:moveTo>
                  <a:pt x="0" y="630"/>
                </a:moveTo>
                <a:lnTo>
                  <a:pt x="48" y="628"/>
                </a:lnTo>
                <a:lnTo>
                  <a:pt x="48" y="588"/>
                </a:lnTo>
                <a:lnTo>
                  <a:pt x="65" y="588"/>
                </a:lnTo>
                <a:lnTo>
                  <a:pt x="67" y="426"/>
                </a:lnTo>
                <a:lnTo>
                  <a:pt x="87" y="555"/>
                </a:lnTo>
                <a:lnTo>
                  <a:pt x="95" y="555"/>
                </a:lnTo>
                <a:lnTo>
                  <a:pt x="104" y="420"/>
                </a:lnTo>
                <a:lnTo>
                  <a:pt x="149" y="420"/>
                </a:lnTo>
                <a:lnTo>
                  <a:pt x="149" y="440"/>
                </a:lnTo>
                <a:lnTo>
                  <a:pt x="154" y="440"/>
                </a:lnTo>
                <a:lnTo>
                  <a:pt x="154" y="482"/>
                </a:lnTo>
                <a:lnTo>
                  <a:pt x="165" y="482"/>
                </a:lnTo>
                <a:lnTo>
                  <a:pt x="165" y="504"/>
                </a:lnTo>
                <a:lnTo>
                  <a:pt x="171" y="504"/>
                </a:lnTo>
                <a:lnTo>
                  <a:pt x="171" y="521"/>
                </a:lnTo>
                <a:lnTo>
                  <a:pt x="182" y="521"/>
                </a:lnTo>
                <a:lnTo>
                  <a:pt x="182" y="535"/>
                </a:lnTo>
                <a:lnTo>
                  <a:pt x="191" y="535"/>
                </a:lnTo>
                <a:lnTo>
                  <a:pt x="191" y="544"/>
                </a:lnTo>
                <a:lnTo>
                  <a:pt x="202" y="544"/>
                </a:lnTo>
                <a:lnTo>
                  <a:pt x="202" y="563"/>
                </a:lnTo>
                <a:lnTo>
                  <a:pt x="709" y="684"/>
                </a:lnTo>
                <a:lnTo>
                  <a:pt x="860" y="684"/>
                </a:lnTo>
                <a:lnTo>
                  <a:pt x="899" y="656"/>
                </a:lnTo>
                <a:lnTo>
                  <a:pt x="927" y="600"/>
                </a:lnTo>
                <a:lnTo>
                  <a:pt x="955" y="619"/>
                </a:lnTo>
                <a:lnTo>
                  <a:pt x="967" y="594"/>
                </a:lnTo>
                <a:lnTo>
                  <a:pt x="978" y="594"/>
                </a:lnTo>
                <a:lnTo>
                  <a:pt x="978" y="0"/>
                </a:lnTo>
                <a:lnTo>
                  <a:pt x="992" y="401"/>
                </a:lnTo>
                <a:lnTo>
                  <a:pt x="1017" y="555"/>
                </a:lnTo>
                <a:lnTo>
                  <a:pt x="1026" y="552"/>
                </a:lnTo>
                <a:lnTo>
                  <a:pt x="1026" y="552"/>
                </a:lnTo>
                <a:lnTo>
                  <a:pt x="1026" y="555"/>
                </a:lnTo>
                <a:lnTo>
                  <a:pt x="1028" y="560"/>
                </a:lnTo>
                <a:lnTo>
                  <a:pt x="1028" y="569"/>
                </a:lnTo>
                <a:lnTo>
                  <a:pt x="1031" y="574"/>
                </a:lnTo>
                <a:lnTo>
                  <a:pt x="1037" y="583"/>
                </a:lnTo>
                <a:lnTo>
                  <a:pt x="1040" y="591"/>
                </a:lnTo>
                <a:lnTo>
                  <a:pt x="1045" y="600"/>
                </a:lnTo>
                <a:lnTo>
                  <a:pt x="1051" y="608"/>
                </a:lnTo>
                <a:lnTo>
                  <a:pt x="1056" y="614"/>
                </a:lnTo>
                <a:lnTo>
                  <a:pt x="1062" y="619"/>
                </a:lnTo>
                <a:lnTo>
                  <a:pt x="1070" y="625"/>
                </a:lnTo>
                <a:lnTo>
                  <a:pt x="1079" y="630"/>
                </a:lnTo>
                <a:lnTo>
                  <a:pt x="1084" y="633"/>
                </a:lnTo>
                <a:lnTo>
                  <a:pt x="1093" y="636"/>
                </a:lnTo>
                <a:lnTo>
                  <a:pt x="1098" y="636"/>
                </a:lnTo>
                <a:lnTo>
                  <a:pt x="1104" y="639"/>
                </a:lnTo>
                <a:lnTo>
                  <a:pt x="1107" y="639"/>
                </a:lnTo>
                <a:lnTo>
                  <a:pt x="1110" y="639"/>
                </a:lnTo>
                <a:lnTo>
                  <a:pt x="1112" y="639"/>
                </a:lnTo>
                <a:lnTo>
                  <a:pt x="1166" y="639"/>
                </a:lnTo>
                <a:lnTo>
                  <a:pt x="1166" y="630"/>
                </a:lnTo>
                <a:lnTo>
                  <a:pt x="1185" y="639"/>
                </a:lnTo>
                <a:lnTo>
                  <a:pt x="1233" y="639"/>
                </a:lnTo>
                <a:lnTo>
                  <a:pt x="1236" y="625"/>
                </a:lnTo>
                <a:lnTo>
                  <a:pt x="1255" y="630"/>
                </a:lnTo>
                <a:lnTo>
                  <a:pt x="1261" y="630"/>
                </a:lnTo>
                <a:lnTo>
                  <a:pt x="1261" y="622"/>
                </a:lnTo>
                <a:lnTo>
                  <a:pt x="1278" y="628"/>
                </a:lnTo>
                <a:lnTo>
                  <a:pt x="1314" y="611"/>
                </a:lnTo>
                <a:lnTo>
                  <a:pt x="1322" y="605"/>
                </a:lnTo>
                <a:lnTo>
                  <a:pt x="1336" y="614"/>
                </a:lnTo>
                <a:lnTo>
                  <a:pt x="1339" y="605"/>
                </a:lnTo>
                <a:lnTo>
                  <a:pt x="1356" y="614"/>
                </a:lnTo>
                <a:lnTo>
                  <a:pt x="1356" y="605"/>
                </a:lnTo>
                <a:lnTo>
                  <a:pt x="1370" y="614"/>
                </a:lnTo>
                <a:lnTo>
                  <a:pt x="1376" y="608"/>
                </a:lnTo>
                <a:lnTo>
                  <a:pt x="1390" y="611"/>
                </a:lnTo>
                <a:lnTo>
                  <a:pt x="1421" y="611"/>
                </a:lnTo>
                <a:lnTo>
                  <a:pt x="1418" y="586"/>
                </a:lnTo>
                <a:lnTo>
                  <a:pt x="1429" y="594"/>
                </a:lnTo>
                <a:lnTo>
                  <a:pt x="1432" y="588"/>
                </a:lnTo>
                <a:lnTo>
                  <a:pt x="1449" y="608"/>
                </a:lnTo>
                <a:lnTo>
                  <a:pt x="1460" y="577"/>
                </a:lnTo>
                <a:lnTo>
                  <a:pt x="1465" y="586"/>
                </a:lnTo>
                <a:lnTo>
                  <a:pt x="1474" y="577"/>
                </a:lnTo>
                <a:lnTo>
                  <a:pt x="1502" y="602"/>
                </a:lnTo>
                <a:lnTo>
                  <a:pt x="1505" y="574"/>
                </a:lnTo>
                <a:lnTo>
                  <a:pt x="1519" y="572"/>
                </a:lnTo>
                <a:lnTo>
                  <a:pt x="1524" y="566"/>
                </a:lnTo>
                <a:lnTo>
                  <a:pt x="1541" y="597"/>
                </a:lnTo>
                <a:lnTo>
                  <a:pt x="1547" y="572"/>
                </a:lnTo>
                <a:lnTo>
                  <a:pt x="1628" y="572"/>
                </a:lnTo>
                <a:lnTo>
                  <a:pt x="1636" y="586"/>
                </a:lnTo>
                <a:lnTo>
                  <a:pt x="1639" y="518"/>
                </a:lnTo>
                <a:lnTo>
                  <a:pt x="1653" y="558"/>
                </a:lnTo>
                <a:lnTo>
                  <a:pt x="1675" y="560"/>
                </a:lnTo>
                <a:lnTo>
                  <a:pt x="1684" y="574"/>
                </a:lnTo>
                <a:lnTo>
                  <a:pt x="1689" y="527"/>
                </a:lnTo>
                <a:lnTo>
                  <a:pt x="1703" y="552"/>
                </a:lnTo>
                <a:lnTo>
                  <a:pt x="1726" y="552"/>
                </a:lnTo>
                <a:lnTo>
                  <a:pt x="1731" y="563"/>
                </a:lnTo>
                <a:lnTo>
                  <a:pt x="1748" y="563"/>
                </a:lnTo>
                <a:lnTo>
                  <a:pt x="1748" y="527"/>
                </a:lnTo>
                <a:lnTo>
                  <a:pt x="1757" y="538"/>
                </a:lnTo>
                <a:lnTo>
                  <a:pt x="1779" y="538"/>
                </a:lnTo>
                <a:lnTo>
                  <a:pt x="1788" y="549"/>
                </a:lnTo>
                <a:lnTo>
                  <a:pt x="1793" y="538"/>
                </a:lnTo>
                <a:lnTo>
                  <a:pt x="1796" y="527"/>
                </a:lnTo>
                <a:lnTo>
                  <a:pt x="1832" y="527"/>
                </a:lnTo>
                <a:lnTo>
                  <a:pt x="1838" y="544"/>
                </a:lnTo>
                <a:lnTo>
                  <a:pt x="1858" y="544"/>
                </a:lnTo>
                <a:lnTo>
                  <a:pt x="1858" y="524"/>
                </a:lnTo>
                <a:lnTo>
                  <a:pt x="1888" y="524"/>
                </a:lnTo>
                <a:lnTo>
                  <a:pt x="1888" y="538"/>
                </a:lnTo>
                <a:lnTo>
                  <a:pt x="1911" y="538"/>
                </a:lnTo>
                <a:lnTo>
                  <a:pt x="1911" y="521"/>
                </a:lnTo>
                <a:lnTo>
                  <a:pt x="1942" y="521"/>
                </a:lnTo>
                <a:lnTo>
                  <a:pt x="1942" y="538"/>
                </a:lnTo>
                <a:lnTo>
                  <a:pt x="1972" y="538"/>
                </a:lnTo>
                <a:lnTo>
                  <a:pt x="1972" y="524"/>
                </a:lnTo>
                <a:lnTo>
                  <a:pt x="2006" y="524"/>
                </a:lnTo>
                <a:lnTo>
                  <a:pt x="2020" y="538"/>
                </a:lnTo>
                <a:lnTo>
                  <a:pt x="2034" y="538"/>
                </a:lnTo>
                <a:lnTo>
                  <a:pt x="2034" y="527"/>
                </a:lnTo>
                <a:lnTo>
                  <a:pt x="2079" y="527"/>
                </a:lnTo>
                <a:lnTo>
                  <a:pt x="2079" y="538"/>
                </a:lnTo>
                <a:lnTo>
                  <a:pt x="2107" y="538"/>
                </a:lnTo>
                <a:lnTo>
                  <a:pt x="2107" y="527"/>
                </a:lnTo>
                <a:lnTo>
                  <a:pt x="2146" y="527"/>
                </a:lnTo>
                <a:lnTo>
                  <a:pt x="2146" y="541"/>
                </a:lnTo>
                <a:lnTo>
                  <a:pt x="2183" y="541"/>
                </a:lnTo>
                <a:lnTo>
                  <a:pt x="2183" y="527"/>
                </a:lnTo>
                <a:lnTo>
                  <a:pt x="2230" y="527"/>
                </a:lnTo>
                <a:lnTo>
                  <a:pt x="2230" y="541"/>
                </a:lnTo>
                <a:lnTo>
                  <a:pt x="2250" y="541"/>
                </a:lnTo>
                <a:lnTo>
                  <a:pt x="2250" y="527"/>
                </a:lnTo>
                <a:lnTo>
                  <a:pt x="2295" y="527"/>
                </a:lnTo>
                <a:lnTo>
                  <a:pt x="2295" y="538"/>
                </a:lnTo>
                <a:lnTo>
                  <a:pt x="2328" y="538"/>
                </a:lnTo>
                <a:lnTo>
                  <a:pt x="2328" y="527"/>
                </a:lnTo>
                <a:lnTo>
                  <a:pt x="2376" y="527"/>
                </a:lnTo>
                <a:lnTo>
                  <a:pt x="2376" y="538"/>
                </a:lnTo>
                <a:lnTo>
                  <a:pt x="2421" y="538"/>
                </a:lnTo>
                <a:lnTo>
                  <a:pt x="2421" y="527"/>
                </a:lnTo>
                <a:lnTo>
                  <a:pt x="2457" y="527"/>
                </a:lnTo>
                <a:lnTo>
                  <a:pt x="2457" y="538"/>
                </a:lnTo>
                <a:lnTo>
                  <a:pt x="2499" y="538"/>
                </a:lnTo>
                <a:lnTo>
                  <a:pt x="2552" y="611"/>
                </a:lnTo>
                <a:lnTo>
                  <a:pt x="2586" y="611"/>
                </a:lnTo>
                <a:lnTo>
                  <a:pt x="2586" y="521"/>
                </a:lnTo>
                <a:lnTo>
                  <a:pt x="2600" y="558"/>
                </a:lnTo>
                <a:lnTo>
                  <a:pt x="2617" y="555"/>
                </a:lnTo>
                <a:lnTo>
                  <a:pt x="2617" y="538"/>
                </a:lnTo>
                <a:lnTo>
                  <a:pt x="2628" y="566"/>
                </a:lnTo>
                <a:lnTo>
                  <a:pt x="2634" y="549"/>
                </a:lnTo>
                <a:lnTo>
                  <a:pt x="2656" y="549"/>
                </a:lnTo>
                <a:lnTo>
                  <a:pt x="2659" y="530"/>
                </a:lnTo>
                <a:lnTo>
                  <a:pt x="2667" y="535"/>
                </a:lnTo>
                <a:lnTo>
                  <a:pt x="2676" y="549"/>
                </a:lnTo>
                <a:lnTo>
                  <a:pt x="2681" y="535"/>
                </a:lnTo>
                <a:lnTo>
                  <a:pt x="2692" y="552"/>
                </a:lnTo>
                <a:lnTo>
                  <a:pt x="2706" y="552"/>
                </a:lnTo>
                <a:lnTo>
                  <a:pt x="2706" y="544"/>
                </a:lnTo>
                <a:lnTo>
                  <a:pt x="2734" y="544"/>
                </a:lnTo>
                <a:lnTo>
                  <a:pt x="2732" y="535"/>
                </a:lnTo>
                <a:lnTo>
                  <a:pt x="2754" y="535"/>
                </a:lnTo>
                <a:lnTo>
                  <a:pt x="2754" y="521"/>
                </a:lnTo>
                <a:lnTo>
                  <a:pt x="2765" y="521"/>
                </a:lnTo>
                <a:lnTo>
                  <a:pt x="2765" y="510"/>
                </a:lnTo>
                <a:lnTo>
                  <a:pt x="2776" y="510"/>
                </a:lnTo>
                <a:lnTo>
                  <a:pt x="2776" y="552"/>
                </a:lnTo>
                <a:lnTo>
                  <a:pt x="2790" y="552"/>
                </a:lnTo>
                <a:lnTo>
                  <a:pt x="2790" y="538"/>
                </a:lnTo>
                <a:lnTo>
                  <a:pt x="2799" y="538"/>
                </a:lnTo>
                <a:lnTo>
                  <a:pt x="2799" y="521"/>
                </a:lnTo>
                <a:lnTo>
                  <a:pt x="2807" y="521"/>
                </a:lnTo>
                <a:lnTo>
                  <a:pt x="2807" y="538"/>
                </a:lnTo>
                <a:lnTo>
                  <a:pt x="2824" y="538"/>
                </a:lnTo>
                <a:lnTo>
                  <a:pt x="2824" y="527"/>
                </a:lnTo>
                <a:lnTo>
                  <a:pt x="2855" y="527"/>
                </a:lnTo>
                <a:lnTo>
                  <a:pt x="2855" y="538"/>
                </a:lnTo>
                <a:lnTo>
                  <a:pt x="2883" y="538"/>
                </a:lnTo>
                <a:lnTo>
                  <a:pt x="2883" y="527"/>
                </a:lnTo>
                <a:lnTo>
                  <a:pt x="2911" y="527"/>
                </a:lnTo>
                <a:lnTo>
                  <a:pt x="2911" y="538"/>
                </a:lnTo>
                <a:lnTo>
                  <a:pt x="2939" y="538"/>
                </a:lnTo>
                <a:lnTo>
                  <a:pt x="2939" y="527"/>
                </a:lnTo>
                <a:lnTo>
                  <a:pt x="2973" y="527"/>
                </a:lnTo>
                <a:lnTo>
                  <a:pt x="2973" y="538"/>
                </a:lnTo>
                <a:lnTo>
                  <a:pt x="2995" y="538"/>
                </a:lnTo>
                <a:lnTo>
                  <a:pt x="2995" y="527"/>
                </a:lnTo>
                <a:lnTo>
                  <a:pt x="3034" y="527"/>
                </a:lnTo>
                <a:lnTo>
                  <a:pt x="3034" y="538"/>
                </a:lnTo>
                <a:lnTo>
                  <a:pt x="3054" y="538"/>
                </a:lnTo>
                <a:lnTo>
                  <a:pt x="3054" y="527"/>
                </a:lnTo>
                <a:lnTo>
                  <a:pt x="3099" y="527"/>
                </a:lnTo>
                <a:lnTo>
                  <a:pt x="3099" y="538"/>
                </a:lnTo>
                <a:lnTo>
                  <a:pt x="3138" y="538"/>
                </a:lnTo>
                <a:lnTo>
                  <a:pt x="3138" y="527"/>
                </a:lnTo>
                <a:lnTo>
                  <a:pt x="3186" y="527"/>
                </a:lnTo>
                <a:lnTo>
                  <a:pt x="3186" y="541"/>
                </a:lnTo>
                <a:lnTo>
                  <a:pt x="3208" y="541"/>
                </a:lnTo>
                <a:lnTo>
                  <a:pt x="3208" y="527"/>
                </a:lnTo>
                <a:lnTo>
                  <a:pt x="3253" y="527"/>
                </a:lnTo>
                <a:lnTo>
                  <a:pt x="3253" y="538"/>
                </a:lnTo>
                <a:lnTo>
                  <a:pt x="3289" y="538"/>
                </a:lnTo>
                <a:lnTo>
                  <a:pt x="3289" y="527"/>
                </a:lnTo>
                <a:lnTo>
                  <a:pt x="3326" y="527"/>
                </a:lnTo>
                <a:lnTo>
                  <a:pt x="3326" y="507"/>
                </a:lnTo>
                <a:lnTo>
                  <a:pt x="3340" y="507"/>
                </a:lnTo>
                <a:lnTo>
                  <a:pt x="3340" y="535"/>
                </a:lnTo>
                <a:lnTo>
                  <a:pt x="3370" y="535"/>
                </a:lnTo>
                <a:lnTo>
                  <a:pt x="3421" y="619"/>
                </a:lnTo>
                <a:lnTo>
                  <a:pt x="3502" y="6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89000" y="993600"/>
            <a:ext cx="5892840" cy="866880"/>
          </a:xfrm>
          <a:custGeom>
            <a:avLst/>
            <a:gdLst/>
            <a:ahLst/>
            <a:rect l="l" t="t" r="r" b="b"/>
            <a:pathLst>
              <a:path w="3712" h="546">
                <a:moveTo>
                  <a:pt x="0" y="504"/>
                </a:moveTo>
                <a:lnTo>
                  <a:pt x="53" y="504"/>
                </a:lnTo>
                <a:lnTo>
                  <a:pt x="53" y="543"/>
                </a:lnTo>
                <a:lnTo>
                  <a:pt x="92" y="543"/>
                </a:lnTo>
                <a:lnTo>
                  <a:pt x="92" y="529"/>
                </a:lnTo>
                <a:lnTo>
                  <a:pt x="148" y="529"/>
                </a:lnTo>
                <a:lnTo>
                  <a:pt x="148" y="504"/>
                </a:lnTo>
                <a:lnTo>
                  <a:pt x="182" y="504"/>
                </a:lnTo>
                <a:lnTo>
                  <a:pt x="207" y="453"/>
                </a:lnTo>
                <a:lnTo>
                  <a:pt x="252" y="453"/>
                </a:lnTo>
                <a:lnTo>
                  <a:pt x="274" y="364"/>
                </a:lnTo>
                <a:lnTo>
                  <a:pt x="300" y="364"/>
                </a:lnTo>
                <a:lnTo>
                  <a:pt x="392" y="2"/>
                </a:lnTo>
                <a:lnTo>
                  <a:pt x="412" y="0"/>
                </a:lnTo>
                <a:lnTo>
                  <a:pt x="412" y="543"/>
                </a:lnTo>
                <a:lnTo>
                  <a:pt x="423" y="543"/>
                </a:lnTo>
                <a:lnTo>
                  <a:pt x="423" y="283"/>
                </a:lnTo>
                <a:lnTo>
                  <a:pt x="493" y="44"/>
                </a:lnTo>
                <a:lnTo>
                  <a:pt x="493" y="339"/>
                </a:lnTo>
                <a:lnTo>
                  <a:pt x="913" y="341"/>
                </a:lnTo>
                <a:lnTo>
                  <a:pt x="913" y="543"/>
                </a:lnTo>
                <a:lnTo>
                  <a:pt x="958" y="543"/>
                </a:lnTo>
                <a:lnTo>
                  <a:pt x="961" y="532"/>
                </a:lnTo>
                <a:lnTo>
                  <a:pt x="1014" y="532"/>
                </a:lnTo>
                <a:lnTo>
                  <a:pt x="1014" y="515"/>
                </a:lnTo>
                <a:lnTo>
                  <a:pt x="1073" y="515"/>
                </a:lnTo>
                <a:lnTo>
                  <a:pt x="1073" y="484"/>
                </a:lnTo>
                <a:lnTo>
                  <a:pt x="1126" y="484"/>
                </a:lnTo>
                <a:lnTo>
                  <a:pt x="1126" y="453"/>
                </a:lnTo>
                <a:lnTo>
                  <a:pt x="1174" y="453"/>
                </a:lnTo>
                <a:lnTo>
                  <a:pt x="1174" y="428"/>
                </a:lnTo>
                <a:lnTo>
                  <a:pt x="1199" y="428"/>
                </a:lnTo>
                <a:lnTo>
                  <a:pt x="1199" y="543"/>
                </a:lnTo>
                <a:lnTo>
                  <a:pt x="1216" y="543"/>
                </a:lnTo>
                <a:lnTo>
                  <a:pt x="1218" y="420"/>
                </a:lnTo>
                <a:lnTo>
                  <a:pt x="1230" y="420"/>
                </a:lnTo>
                <a:lnTo>
                  <a:pt x="1233" y="381"/>
                </a:lnTo>
                <a:lnTo>
                  <a:pt x="1249" y="381"/>
                </a:lnTo>
                <a:lnTo>
                  <a:pt x="1249" y="498"/>
                </a:lnTo>
                <a:lnTo>
                  <a:pt x="1266" y="456"/>
                </a:lnTo>
                <a:lnTo>
                  <a:pt x="1275" y="456"/>
                </a:lnTo>
                <a:lnTo>
                  <a:pt x="1277" y="543"/>
                </a:lnTo>
                <a:lnTo>
                  <a:pt x="1283" y="543"/>
                </a:lnTo>
                <a:lnTo>
                  <a:pt x="1283" y="445"/>
                </a:lnTo>
                <a:lnTo>
                  <a:pt x="1311" y="445"/>
                </a:lnTo>
                <a:lnTo>
                  <a:pt x="1319" y="423"/>
                </a:lnTo>
                <a:lnTo>
                  <a:pt x="1331" y="423"/>
                </a:lnTo>
                <a:lnTo>
                  <a:pt x="1333" y="512"/>
                </a:lnTo>
                <a:lnTo>
                  <a:pt x="1347" y="509"/>
                </a:lnTo>
                <a:lnTo>
                  <a:pt x="1389" y="498"/>
                </a:lnTo>
                <a:lnTo>
                  <a:pt x="1454" y="484"/>
                </a:lnTo>
                <a:lnTo>
                  <a:pt x="1535" y="465"/>
                </a:lnTo>
                <a:lnTo>
                  <a:pt x="1630" y="445"/>
                </a:lnTo>
                <a:lnTo>
                  <a:pt x="1728" y="423"/>
                </a:lnTo>
                <a:lnTo>
                  <a:pt x="1826" y="397"/>
                </a:lnTo>
                <a:lnTo>
                  <a:pt x="1919" y="378"/>
                </a:lnTo>
                <a:lnTo>
                  <a:pt x="2003" y="358"/>
                </a:lnTo>
                <a:lnTo>
                  <a:pt x="2073" y="344"/>
                </a:lnTo>
                <a:lnTo>
                  <a:pt x="2137" y="330"/>
                </a:lnTo>
                <a:lnTo>
                  <a:pt x="2216" y="313"/>
                </a:lnTo>
                <a:lnTo>
                  <a:pt x="2297" y="299"/>
                </a:lnTo>
                <a:lnTo>
                  <a:pt x="2384" y="285"/>
                </a:lnTo>
                <a:lnTo>
                  <a:pt x="2468" y="271"/>
                </a:lnTo>
                <a:lnTo>
                  <a:pt x="2546" y="257"/>
                </a:lnTo>
                <a:lnTo>
                  <a:pt x="2616" y="246"/>
                </a:lnTo>
                <a:lnTo>
                  <a:pt x="2670" y="238"/>
                </a:lnTo>
                <a:lnTo>
                  <a:pt x="2706" y="232"/>
                </a:lnTo>
                <a:lnTo>
                  <a:pt x="2717" y="229"/>
                </a:lnTo>
                <a:lnTo>
                  <a:pt x="2720" y="546"/>
                </a:lnTo>
                <a:lnTo>
                  <a:pt x="2729" y="546"/>
                </a:lnTo>
                <a:lnTo>
                  <a:pt x="2726" y="288"/>
                </a:lnTo>
                <a:lnTo>
                  <a:pt x="2790" y="103"/>
                </a:lnTo>
                <a:lnTo>
                  <a:pt x="2790" y="395"/>
                </a:lnTo>
                <a:lnTo>
                  <a:pt x="2801" y="392"/>
                </a:lnTo>
                <a:lnTo>
                  <a:pt x="2824" y="386"/>
                </a:lnTo>
                <a:lnTo>
                  <a:pt x="2863" y="381"/>
                </a:lnTo>
                <a:lnTo>
                  <a:pt x="2908" y="372"/>
                </a:lnTo>
                <a:lnTo>
                  <a:pt x="2964" y="361"/>
                </a:lnTo>
                <a:lnTo>
                  <a:pt x="3020" y="350"/>
                </a:lnTo>
                <a:lnTo>
                  <a:pt x="3082" y="339"/>
                </a:lnTo>
                <a:lnTo>
                  <a:pt x="3138" y="327"/>
                </a:lnTo>
                <a:lnTo>
                  <a:pt x="3191" y="316"/>
                </a:lnTo>
                <a:lnTo>
                  <a:pt x="3238" y="308"/>
                </a:lnTo>
                <a:lnTo>
                  <a:pt x="3269" y="302"/>
                </a:lnTo>
                <a:lnTo>
                  <a:pt x="3306" y="297"/>
                </a:lnTo>
                <a:lnTo>
                  <a:pt x="3342" y="288"/>
                </a:lnTo>
                <a:lnTo>
                  <a:pt x="3381" y="283"/>
                </a:lnTo>
                <a:lnTo>
                  <a:pt x="3421" y="277"/>
                </a:lnTo>
                <a:lnTo>
                  <a:pt x="3457" y="271"/>
                </a:lnTo>
                <a:lnTo>
                  <a:pt x="3493" y="266"/>
                </a:lnTo>
                <a:lnTo>
                  <a:pt x="3527" y="260"/>
                </a:lnTo>
                <a:lnTo>
                  <a:pt x="3555" y="257"/>
                </a:lnTo>
                <a:lnTo>
                  <a:pt x="3583" y="252"/>
                </a:lnTo>
                <a:lnTo>
                  <a:pt x="3591" y="252"/>
                </a:lnTo>
                <a:lnTo>
                  <a:pt x="3600" y="252"/>
                </a:lnTo>
                <a:lnTo>
                  <a:pt x="3605" y="252"/>
                </a:lnTo>
                <a:lnTo>
                  <a:pt x="3611" y="252"/>
                </a:lnTo>
                <a:lnTo>
                  <a:pt x="3614" y="252"/>
                </a:lnTo>
                <a:lnTo>
                  <a:pt x="3617" y="252"/>
                </a:lnTo>
                <a:lnTo>
                  <a:pt x="3619" y="252"/>
                </a:lnTo>
                <a:lnTo>
                  <a:pt x="3619" y="252"/>
                </a:lnTo>
                <a:lnTo>
                  <a:pt x="3619" y="252"/>
                </a:lnTo>
                <a:lnTo>
                  <a:pt x="3622" y="252"/>
                </a:lnTo>
                <a:lnTo>
                  <a:pt x="3622" y="543"/>
                </a:lnTo>
                <a:lnTo>
                  <a:pt x="3631" y="543"/>
                </a:lnTo>
                <a:lnTo>
                  <a:pt x="3628" y="327"/>
                </a:lnTo>
                <a:lnTo>
                  <a:pt x="3642" y="280"/>
                </a:lnTo>
                <a:lnTo>
                  <a:pt x="3675" y="280"/>
                </a:lnTo>
                <a:lnTo>
                  <a:pt x="3675" y="400"/>
                </a:lnTo>
                <a:lnTo>
                  <a:pt x="3712" y="4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93680" y="4865760"/>
            <a:ext cx="5878800" cy="1120680"/>
          </a:xfrm>
          <a:custGeom>
            <a:avLst/>
            <a:gdLst/>
            <a:ahLst/>
            <a:rect l="l" t="t" r="r" b="b"/>
            <a:pathLst>
              <a:path w="3703" h="706">
                <a:moveTo>
                  <a:pt x="0" y="636"/>
                </a:moveTo>
                <a:lnTo>
                  <a:pt x="58" y="538"/>
                </a:lnTo>
                <a:lnTo>
                  <a:pt x="114" y="543"/>
                </a:lnTo>
                <a:lnTo>
                  <a:pt x="157" y="468"/>
                </a:lnTo>
                <a:lnTo>
                  <a:pt x="221" y="336"/>
                </a:lnTo>
                <a:lnTo>
                  <a:pt x="243" y="538"/>
                </a:lnTo>
                <a:lnTo>
                  <a:pt x="263" y="53"/>
                </a:lnTo>
                <a:lnTo>
                  <a:pt x="288" y="129"/>
                </a:lnTo>
                <a:lnTo>
                  <a:pt x="313" y="62"/>
                </a:lnTo>
                <a:lnTo>
                  <a:pt x="333" y="3"/>
                </a:lnTo>
                <a:lnTo>
                  <a:pt x="414" y="3"/>
                </a:lnTo>
                <a:lnTo>
                  <a:pt x="428" y="129"/>
                </a:lnTo>
                <a:lnTo>
                  <a:pt x="428" y="490"/>
                </a:lnTo>
                <a:lnTo>
                  <a:pt x="445" y="535"/>
                </a:lnTo>
                <a:lnTo>
                  <a:pt x="445" y="700"/>
                </a:lnTo>
                <a:lnTo>
                  <a:pt x="919" y="706"/>
                </a:lnTo>
                <a:lnTo>
                  <a:pt x="919" y="611"/>
                </a:lnTo>
                <a:lnTo>
                  <a:pt x="966" y="541"/>
                </a:lnTo>
                <a:lnTo>
                  <a:pt x="1014" y="465"/>
                </a:lnTo>
                <a:lnTo>
                  <a:pt x="1064" y="409"/>
                </a:lnTo>
                <a:lnTo>
                  <a:pt x="1087" y="473"/>
                </a:lnTo>
                <a:lnTo>
                  <a:pt x="1112" y="541"/>
                </a:lnTo>
                <a:lnTo>
                  <a:pt x="1129" y="339"/>
                </a:lnTo>
                <a:lnTo>
                  <a:pt x="1148" y="611"/>
                </a:lnTo>
                <a:lnTo>
                  <a:pt x="1165" y="263"/>
                </a:lnTo>
                <a:lnTo>
                  <a:pt x="1196" y="0"/>
                </a:lnTo>
                <a:lnTo>
                  <a:pt x="1215" y="406"/>
                </a:lnTo>
                <a:lnTo>
                  <a:pt x="1224" y="406"/>
                </a:lnTo>
                <a:lnTo>
                  <a:pt x="1224" y="605"/>
                </a:lnTo>
                <a:lnTo>
                  <a:pt x="1364" y="605"/>
                </a:lnTo>
                <a:lnTo>
                  <a:pt x="1370" y="541"/>
                </a:lnTo>
                <a:lnTo>
                  <a:pt x="1375" y="605"/>
                </a:lnTo>
                <a:lnTo>
                  <a:pt x="1431" y="605"/>
                </a:lnTo>
                <a:lnTo>
                  <a:pt x="1442" y="543"/>
                </a:lnTo>
                <a:lnTo>
                  <a:pt x="1448" y="605"/>
                </a:lnTo>
                <a:lnTo>
                  <a:pt x="1498" y="605"/>
                </a:lnTo>
                <a:lnTo>
                  <a:pt x="1510" y="543"/>
                </a:lnTo>
                <a:lnTo>
                  <a:pt x="1518" y="605"/>
                </a:lnTo>
                <a:lnTo>
                  <a:pt x="1554" y="605"/>
                </a:lnTo>
                <a:lnTo>
                  <a:pt x="1560" y="541"/>
                </a:lnTo>
                <a:lnTo>
                  <a:pt x="1566" y="605"/>
                </a:lnTo>
                <a:lnTo>
                  <a:pt x="1613" y="605"/>
                </a:lnTo>
                <a:lnTo>
                  <a:pt x="1622" y="541"/>
                </a:lnTo>
                <a:lnTo>
                  <a:pt x="1627" y="605"/>
                </a:lnTo>
                <a:lnTo>
                  <a:pt x="1655" y="605"/>
                </a:lnTo>
                <a:lnTo>
                  <a:pt x="1661" y="541"/>
                </a:lnTo>
                <a:lnTo>
                  <a:pt x="1667" y="605"/>
                </a:lnTo>
                <a:lnTo>
                  <a:pt x="1728" y="605"/>
                </a:lnTo>
                <a:lnTo>
                  <a:pt x="1734" y="538"/>
                </a:lnTo>
                <a:lnTo>
                  <a:pt x="1739" y="605"/>
                </a:lnTo>
                <a:lnTo>
                  <a:pt x="1767" y="605"/>
                </a:lnTo>
                <a:lnTo>
                  <a:pt x="1781" y="535"/>
                </a:lnTo>
                <a:lnTo>
                  <a:pt x="1787" y="605"/>
                </a:lnTo>
                <a:lnTo>
                  <a:pt x="1821" y="605"/>
                </a:lnTo>
                <a:lnTo>
                  <a:pt x="1832" y="541"/>
                </a:lnTo>
                <a:lnTo>
                  <a:pt x="1840" y="605"/>
                </a:lnTo>
                <a:lnTo>
                  <a:pt x="1877" y="605"/>
                </a:lnTo>
                <a:lnTo>
                  <a:pt x="1885" y="541"/>
                </a:lnTo>
                <a:lnTo>
                  <a:pt x="1891" y="605"/>
                </a:lnTo>
                <a:lnTo>
                  <a:pt x="1924" y="605"/>
                </a:lnTo>
                <a:lnTo>
                  <a:pt x="1938" y="476"/>
                </a:lnTo>
                <a:lnTo>
                  <a:pt x="1941" y="605"/>
                </a:lnTo>
                <a:lnTo>
                  <a:pt x="1994" y="605"/>
                </a:lnTo>
                <a:lnTo>
                  <a:pt x="1994" y="546"/>
                </a:lnTo>
                <a:lnTo>
                  <a:pt x="2034" y="546"/>
                </a:lnTo>
                <a:lnTo>
                  <a:pt x="2034" y="473"/>
                </a:lnTo>
                <a:lnTo>
                  <a:pt x="2106" y="476"/>
                </a:lnTo>
                <a:lnTo>
                  <a:pt x="2109" y="415"/>
                </a:lnTo>
                <a:lnTo>
                  <a:pt x="2151" y="412"/>
                </a:lnTo>
                <a:lnTo>
                  <a:pt x="2151" y="345"/>
                </a:lnTo>
                <a:lnTo>
                  <a:pt x="2224" y="345"/>
                </a:lnTo>
                <a:lnTo>
                  <a:pt x="2224" y="275"/>
                </a:lnTo>
                <a:lnTo>
                  <a:pt x="2297" y="272"/>
                </a:lnTo>
                <a:lnTo>
                  <a:pt x="2294" y="213"/>
                </a:lnTo>
                <a:lnTo>
                  <a:pt x="2361" y="213"/>
                </a:lnTo>
                <a:lnTo>
                  <a:pt x="2361" y="135"/>
                </a:lnTo>
                <a:lnTo>
                  <a:pt x="2462" y="135"/>
                </a:lnTo>
                <a:lnTo>
                  <a:pt x="2462" y="65"/>
                </a:lnTo>
                <a:lnTo>
                  <a:pt x="2527" y="65"/>
                </a:lnTo>
                <a:lnTo>
                  <a:pt x="2527" y="3"/>
                </a:lnTo>
                <a:lnTo>
                  <a:pt x="2706" y="0"/>
                </a:lnTo>
                <a:lnTo>
                  <a:pt x="2706" y="65"/>
                </a:lnTo>
                <a:lnTo>
                  <a:pt x="2731" y="65"/>
                </a:lnTo>
                <a:lnTo>
                  <a:pt x="2728" y="429"/>
                </a:lnTo>
                <a:lnTo>
                  <a:pt x="2740" y="468"/>
                </a:lnTo>
                <a:lnTo>
                  <a:pt x="2740" y="605"/>
                </a:lnTo>
                <a:lnTo>
                  <a:pt x="2762" y="605"/>
                </a:lnTo>
                <a:lnTo>
                  <a:pt x="2773" y="471"/>
                </a:lnTo>
                <a:lnTo>
                  <a:pt x="2782" y="605"/>
                </a:lnTo>
                <a:lnTo>
                  <a:pt x="2832" y="605"/>
                </a:lnTo>
                <a:lnTo>
                  <a:pt x="2832" y="541"/>
                </a:lnTo>
                <a:lnTo>
                  <a:pt x="2992" y="541"/>
                </a:lnTo>
                <a:lnTo>
                  <a:pt x="2992" y="465"/>
                </a:lnTo>
                <a:lnTo>
                  <a:pt x="3065" y="465"/>
                </a:lnTo>
                <a:lnTo>
                  <a:pt x="3065" y="412"/>
                </a:lnTo>
                <a:lnTo>
                  <a:pt x="3112" y="412"/>
                </a:lnTo>
                <a:lnTo>
                  <a:pt x="3112" y="342"/>
                </a:lnTo>
                <a:lnTo>
                  <a:pt x="3185" y="339"/>
                </a:lnTo>
                <a:lnTo>
                  <a:pt x="3188" y="275"/>
                </a:lnTo>
                <a:lnTo>
                  <a:pt x="3249" y="275"/>
                </a:lnTo>
                <a:lnTo>
                  <a:pt x="3249" y="219"/>
                </a:lnTo>
                <a:lnTo>
                  <a:pt x="3339" y="219"/>
                </a:lnTo>
                <a:lnTo>
                  <a:pt x="3339" y="143"/>
                </a:lnTo>
                <a:lnTo>
                  <a:pt x="3409" y="143"/>
                </a:lnTo>
                <a:lnTo>
                  <a:pt x="3409" y="65"/>
                </a:lnTo>
                <a:lnTo>
                  <a:pt x="3462" y="65"/>
                </a:lnTo>
                <a:lnTo>
                  <a:pt x="3462" y="0"/>
                </a:lnTo>
                <a:lnTo>
                  <a:pt x="3555" y="0"/>
                </a:lnTo>
                <a:lnTo>
                  <a:pt x="3555" y="319"/>
                </a:lnTo>
                <a:lnTo>
                  <a:pt x="3574" y="359"/>
                </a:lnTo>
                <a:lnTo>
                  <a:pt x="3574" y="608"/>
                </a:lnTo>
                <a:lnTo>
                  <a:pt x="3597" y="608"/>
                </a:lnTo>
                <a:lnTo>
                  <a:pt x="3597" y="698"/>
                </a:lnTo>
                <a:lnTo>
                  <a:pt x="3658" y="698"/>
                </a:lnTo>
                <a:lnTo>
                  <a:pt x="3667" y="611"/>
                </a:lnTo>
                <a:lnTo>
                  <a:pt x="3672" y="698"/>
                </a:lnTo>
                <a:lnTo>
                  <a:pt x="3703" y="6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06760" y="94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06760" y="1500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6368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2728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6064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6244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4044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9448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6620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461880" y="12844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355560" y="2104920"/>
            <a:ext cx="10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onds)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5560" y="4189320"/>
            <a:ext cx="105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onds)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06760" y="814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06760" y="1362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6760" y="1228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06760" y="1090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06760" y="1638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17720" y="104148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17720" y="90504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17720" y="1589040"/>
            <a:ext cx="7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17720" y="1450800"/>
            <a:ext cx="7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17720" y="131292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17720" y="1174680"/>
            <a:ext cx="71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17720" y="1722600"/>
            <a:ext cx="71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471680" y="186516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32040" y="186516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2192400" y="186516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43072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552760" y="186516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9108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911320" y="186516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4172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271680" y="186516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0676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632040" y="186516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992400" y="186516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4352760" y="186516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548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713120" y="186516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7052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073480" y="186516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088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433840" y="186516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794200" y="186516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5952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149880" y="1865160"/>
            <a:ext cx="468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41052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510240" y="1865160"/>
            <a:ext cx="50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875640" y="186516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96320" y="19350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36000" y="186516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89000" y="905040"/>
            <a:ext cx="6149880" cy="960120"/>
          </a:xfrm>
          <a:custGeom>
            <a:avLst/>
            <a:gdLst/>
            <a:ahLst/>
            <a:rect l="l" t="t" r="r" b="b"/>
            <a:pathLst>
              <a:path w="3874" h="605">
                <a:moveTo>
                  <a:pt x="3874" y="602"/>
                </a:moveTo>
                <a:lnTo>
                  <a:pt x="0" y="60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70360" y="912960"/>
            <a:ext cx="1440" cy="9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595520" y="882720"/>
            <a:ext cx="46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17840" y="882720"/>
            <a:ext cx="14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120" y="882720"/>
            <a:ext cx="46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57440" y="882720"/>
            <a:ext cx="14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9400" y="882720"/>
            <a:ext cx="180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98480" y="882720"/>
            <a:ext cx="32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9400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51596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3828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5592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7788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99240" y="88272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1652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294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84676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6116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7844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92840" y="88272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91012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9230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94036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5476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7204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8500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0408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166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3396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48360" y="88272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6600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7860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588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1102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2792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4052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5960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7688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8984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20712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22152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23880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5140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7048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8344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15120" y="88272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3240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4536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6264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7704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9432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72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2636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43896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5624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7064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8828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4996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6256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7696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8956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0720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2124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3384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4680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60840" y="882720"/>
            <a:ext cx="50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7848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9108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5054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180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3572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54976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8960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00220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16600" y="88272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02920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4684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06088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7348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08644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0552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1812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3072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4512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6240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7536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18940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0236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16400" y="88272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3404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4664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261040" y="88272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7364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9128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0532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182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32320" y="88272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9440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0232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2140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38680" y="882720"/>
            <a:ext cx="50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646600" y="882720"/>
            <a:ext cx="50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67360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8332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0060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71824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2760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5784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76756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7692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5008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51996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53256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55020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64240" y="88272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8188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5944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1176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62616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4380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5640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67548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8808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2300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3740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5468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77160" y="87804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34240" y="87804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97600" y="87804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7980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8772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06800" y="882720"/>
            <a:ext cx="32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024440" y="882720"/>
            <a:ext cx="46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05936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06872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08636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10364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35320" y="882720"/>
            <a:ext cx="50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43240" y="882720"/>
            <a:ext cx="50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65560" y="88272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8464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16064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12840" y="88272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8360" y="801720"/>
            <a:ext cx="6874560" cy="5619960"/>
            <a:chOff x="468360" y="801720"/>
            <a:chExt cx="6874560" cy="5619960"/>
          </a:xfrm>
        </p:grpSpPr>
        <p:sp>
          <p:nvSpPr>
            <p:cNvPr id="770" name=""/>
            <p:cNvSpPr/>
            <p:nvPr/>
          </p:nvSpPr>
          <p:spPr>
            <a:xfrm>
              <a:off x="127476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2876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38120" y="882720"/>
              <a:ext cx="50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9536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41300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320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2080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3844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6040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5276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9236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542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360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1152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2088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7488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8280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9252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0512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5912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172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86120" y="882720"/>
              <a:ext cx="32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9872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3364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4804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7828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9232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0528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164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04956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592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68640" y="882720"/>
              <a:ext cx="32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1292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2120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3056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4316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9716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09760" y="882720"/>
              <a:ext cx="50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2740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3676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30372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3864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4800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564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9732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0524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414600" y="882720"/>
              <a:ext cx="50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42756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468600" y="882720"/>
              <a:ext cx="32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476520" y="882720"/>
              <a:ext cx="50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9092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0352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5752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7012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830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9244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640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95760" y="882720"/>
              <a:ext cx="32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70836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720960" y="882720"/>
              <a:ext cx="50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7576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6560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77496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784680" y="882720"/>
              <a:ext cx="32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2896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83688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4660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5920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73600" y="882720"/>
              <a:ext cx="32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1320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2580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4344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95280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7672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28608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2424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23720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5592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2688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814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9588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1316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2576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016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52760" y="882720"/>
              <a:ext cx="50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367160" y="882720"/>
              <a:ext cx="32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8480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9740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411800" y="882720"/>
              <a:ext cx="28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2440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4168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5608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68680" y="882720"/>
              <a:ext cx="50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8164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0072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1332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2592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4032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5760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7056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8460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9756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11600" y="882720"/>
              <a:ext cx="32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2924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4184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56240" y="882720"/>
              <a:ext cx="32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6884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864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70052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713120" y="882720"/>
              <a:ext cx="50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2608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74516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5776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7216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8476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0204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1644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2904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84200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610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7368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8628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90068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1328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30920" y="882720"/>
              <a:ext cx="14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944960" y="882720"/>
              <a:ext cx="180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57920" y="882720"/>
              <a:ext cx="468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971960" y="882720"/>
              <a:ext cx="32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32040" y="1833480"/>
              <a:ext cx="14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521080" y="8017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4" y="28"/>
                  </a:moveTo>
                  <a:lnTo>
                    <a:pt x="17" y="31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5" y="28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8" y="2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5" y="6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1" y="28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521080" y="8017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4" y="28"/>
                  </a:moveTo>
                  <a:lnTo>
                    <a:pt x="17" y="31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5" y="28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8" y="2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5" y="6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1" y="28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17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264280" y="930240"/>
              <a:ext cx="468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92760" y="930240"/>
              <a:ext cx="180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0680" y="2922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0680" y="3505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0680" y="370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39140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4708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304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89484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7284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2688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9860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6200000">
              <a:off x="73800" y="3213360"/>
              <a:ext cx="97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ing KBps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5720" y="2727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0680" y="3309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17720" y="3025800"/>
              <a:ext cx="7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7720" y="3117960"/>
              <a:ext cx="71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0680" y="31179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17720" y="3216240"/>
              <a:ext cx="71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17720" y="2828880"/>
              <a:ext cx="71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17720" y="2927520"/>
              <a:ext cx="7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17720" y="3608280"/>
              <a:ext cx="71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17720" y="3510000"/>
              <a:ext cx="7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17720" y="3411360"/>
              <a:ext cx="71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17720" y="3314880"/>
              <a:ext cx="7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17720" y="3798720"/>
              <a:ext cx="7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17720" y="3700440"/>
              <a:ext cx="71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1471680" y="392256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1832040" y="392256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2192400" y="392256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6312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552760" y="392256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82348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2911320" y="392256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7412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3271680" y="392256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3916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3632040" y="392256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3992400" y="392256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352760" y="392256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3788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713120" y="392256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0292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5073480" y="392256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6328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5433840" y="392256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5794200" y="392256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9192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154560" y="3922560"/>
              <a:ext cx="18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44292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6515280" y="392256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6875640" y="392256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28720" y="3994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7236000" y="392256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89000" y="2828880"/>
              <a:ext cx="6147000" cy="1093680"/>
            </a:xfrm>
            <a:custGeom>
              <a:avLst/>
              <a:gdLst/>
              <a:ahLst/>
              <a:rect l="l" t="t" r="r" b="b"/>
              <a:pathLst>
                <a:path w="3872" h="689">
                  <a:moveTo>
                    <a:pt x="3872" y="687"/>
                  </a:moveTo>
                  <a:lnTo>
                    <a:pt x="0" y="68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72120" y="623880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 (seconds)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391400" y="60706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747080" y="60706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93040" y="60706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94840" y="60706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272840" y="60706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726880" y="60706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98600" y="60706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16200000">
              <a:off x="-124560" y="5367960"/>
              <a:ext cx="137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ue size in router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26280" y="535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17720" y="4905360"/>
              <a:ext cx="71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53920" y="4816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17720" y="5460840"/>
              <a:ext cx="71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1471680" y="599904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 flipV="1">
            <a:off x="1832040" y="599904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2192400" y="599904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63120" y="6070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2552760" y="599904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823480" y="6070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2911320" y="599904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74120" y="6070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3271680" y="599904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539160" y="6070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3632040" y="599904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3992400" y="599904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4352760" y="599904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37880" y="6070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4713120" y="599904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02920" y="6070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5073480" y="599904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63280" y="6070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5433840" y="599904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5794200" y="599904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091920" y="6070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6154560" y="5999040"/>
            <a:ext cx="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442920" y="6070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6515280" y="599904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6875640" y="599904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128720" y="60706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7236000" y="5999040"/>
            <a:ext cx="14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089000" y="4910040"/>
            <a:ext cx="6149880" cy="1089000"/>
          </a:xfrm>
          <a:custGeom>
            <a:avLst/>
            <a:gdLst/>
            <a:ahLst/>
            <a:rect l="l" t="t" r="r" b="b"/>
            <a:pathLst>
              <a:path w="3874" h="686">
                <a:moveTo>
                  <a:pt x="3874" y="686"/>
                </a:moveTo>
                <a:lnTo>
                  <a:pt x="0" y="68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535200" y="224316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ongestion Window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00120" y="430056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verage send rate at sourc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076560" y="6324480"/>
            <a:ext cx="40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verage Q length in router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BA1-54C8-41EB-B4C5-03D8D7C547E0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Vegas Detail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Value of throughput with no congestion is compared to current throughpu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If current difference is smaller, increase window size linearly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If current difference is larger, decrease window size linearly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The change in the Slow Start Mechanism consists of doubling the window every other RTT, rather than every RTT and of using a boundary in the difference between throughputs to exit the Slow Start phase, rather than a window size value.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CF5-F0AF-4F4F-9DC9-D0B294AB10F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Algorithm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70f"/>
                </a:solidFill>
                <a:latin typeface="Arial"/>
              </a:rPr>
              <a:t>let BaseRTT be the minimum of all measured RTTs (commonly the RTT of the first packet)</a:t>
            </a: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70f"/>
                </a:solidFill>
                <a:latin typeface="Arial"/>
              </a:rPr>
              <a:t>if not overflowing the connection, then</a:t>
            </a: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ctedRate = CongestionWindow / BaseR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70f"/>
                </a:solidFill>
                <a:latin typeface="Arial"/>
              </a:rPr>
              <a:t>source calculates current sending rate (ActualRate) once per RTT</a:t>
            </a: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70f"/>
                </a:solidFill>
                <a:latin typeface="Arial"/>
              </a:rPr>
              <a:t>source compares ActualRate with ExpectedRate</a:t>
            </a: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 = ExpectedRate – Actual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Diff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--&gt;increase CongestionWindow linearly </a:t>
            </a: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se if  Diff &gt;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--&gt;decrease CongestionWindow linearly </a:t>
            </a: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--&gt;leave CongestionWindow unchanged</a:t>
            </a: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E3A-F9AD-44E7-A3E6-0AFD80B01DF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arameter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 pac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3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Even faster retransmi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fine-grained timestamps for each pac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for timeout on first duplicate 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arameter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5C2-2DBE-464D-87D8-34348DCB381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Example TCP Vega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24000" y="1600200"/>
            <a:ext cx="8229600" cy="495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228600" y="1695600"/>
            <a:ext cx="8915400" cy="516240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324000" y="1600200"/>
            <a:ext cx="8229600" cy="4952880"/>
          </a:xfrm>
          <a:prstGeom prst="rect">
            <a:avLst/>
          </a:prstGeom>
          <a:noFill/>
          <a:ln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040120" y="56800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Times New Roman"/>
              </a:rPr>
              <a:t>Expected throughp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 flipV="1">
            <a:off x="2362320" y="5029200"/>
            <a:ext cx="380880" cy="838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488760" y="392760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Times New Roman"/>
              </a:rPr>
              <a:t>Actual Throughp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962160" y="4419720"/>
            <a:ext cx="2286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B38-37AA-4AAD-ACAE-36418553B094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outer Assisted Congestion Control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andom Early Dropp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Explicit Congestion Notificat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ote: often this is referred to as Active Networking: ie routers are involved in perfomance.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ctive Nets is a much more general idea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CAD-3A70-4126-B9A2-DF7535EA424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ED: Random Early Detection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dea: routers start dropping packets before they are congested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enefits: make behavior smoother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queue is above a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res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drop packets with probability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ssues: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th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ing the queue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B1F-C80F-43EC-BA7C-A265104745B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queue length thresho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if AvgLen </a:t>
            </a:r>
            <a:r>
              <a:rPr b="0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 MinThreshold then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ff33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enqueue the packet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if MinThreshold &lt; AvgLen &lt; MaxThreshold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ff33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calculate probability P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99ff33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drop arriving packet with probability P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if MaxThreshold </a:t>
            </a:r>
            <a:r>
              <a:rPr b="0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 AvgLen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ff33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drop arriving packet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hreshold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371-5C56-4B31-A42D-1CD0C965213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ED Threshold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1021" name="Red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086600" cy="388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5F9-3D89-47D7-B4F1-592E764F6F31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robability P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ot fixed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function of AvgLen and how long since last drop (count) keeps track of new packets that have been queued while AvgLen has been between the two thresholds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pP = MaxP * (AvgLen - MinThreshold) /(MaxThreshold - MinThreshol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TempP/(1 - count * Temp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MaxP is often set to 0.02, meaning that the gateway drops 1 out of 50 packets when queue size is halfway between MinThreshold and MaxThreshold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A83-3941-42F0-A3BC-463A8D5440DA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: reliable data transfer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35480" y="1703520"/>
            <a:ext cx="45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implified sender, assuming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2880" y="3228840"/>
            <a:ext cx="1228680" cy="1162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wai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for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even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40" y="3276720"/>
            <a:ext cx="1229040" cy="1162080"/>
          </a:xfrm>
          <a:prstGeom prst="ellipse">
            <a:avLst/>
          </a:prstGeom>
          <a:solidFill>
            <a:srgbClr val="21218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wai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for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even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8720" y="2581200"/>
            <a:ext cx="819000" cy="695520"/>
          </a:xfrm>
          <a:custGeom>
            <a:avLst/>
            <a:gdLst/>
            <a:ahLst/>
            <a:rect l="l" t="t" r="r" b="b"/>
            <a:pathLst>
              <a:path w="516" h="438">
                <a:moveTo>
                  <a:pt x="150" y="432"/>
                </a:moveTo>
                <a:cubicBezTo>
                  <a:pt x="24" y="198"/>
                  <a:pt x="0" y="0"/>
                  <a:pt x="258" y="6"/>
                </a:cubicBezTo>
                <a:cubicBezTo>
                  <a:pt x="516" y="12"/>
                  <a:pt x="462" y="216"/>
                  <a:pt x="348" y="438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4480" y="160812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data received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rom application abov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011200">
            <a:off x="1575720" y="3628800"/>
            <a:ext cx="819360" cy="438120"/>
          </a:xfrm>
          <a:custGeom>
            <a:avLst/>
            <a:gdLst/>
            <a:ahLst/>
            <a:rect l="l" t="t" r="r" b="b"/>
            <a:pathLst>
              <a:path w="516" h="438">
                <a:moveTo>
                  <a:pt x="150" y="432"/>
                </a:moveTo>
                <a:cubicBezTo>
                  <a:pt x="24" y="198"/>
                  <a:pt x="0" y="0"/>
                  <a:pt x="258" y="6"/>
                </a:cubicBezTo>
                <a:cubicBezTo>
                  <a:pt x="516" y="12"/>
                  <a:pt x="462" y="216"/>
                  <a:pt x="348" y="438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0626600">
            <a:off x="780480" y="4428720"/>
            <a:ext cx="819000" cy="695520"/>
          </a:xfrm>
          <a:custGeom>
            <a:avLst/>
            <a:gdLst/>
            <a:ahLst/>
            <a:rect l="l" t="t" r="r" b="b"/>
            <a:pathLst>
              <a:path w="516" h="438">
                <a:moveTo>
                  <a:pt x="150" y="432"/>
                </a:moveTo>
                <a:cubicBezTo>
                  <a:pt x="24" y="198"/>
                  <a:pt x="0" y="0"/>
                  <a:pt x="258" y="6"/>
                </a:cubicBezTo>
                <a:cubicBezTo>
                  <a:pt x="516" y="12"/>
                  <a:pt x="462" y="216"/>
                  <a:pt x="348" y="438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67200" y="3236760"/>
            <a:ext cx="25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timer timeout for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gment with seq # y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1480" y="513252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ACK received,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ith ACK # y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680" y="2217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reate, send segmen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640" y="2238480"/>
            <a:ext cx="2419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53680" y="3894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etransmit segmen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295360" y="3895200"/>
            <a:ext cx="2248200" cy="97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4240" y="5781600"/>
            <a:ext cx="2067120" cy="97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5720" y="5827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CK processing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59440" y="2141640"/>
            <a:ext cx="354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one way data transfer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no flow, congestion contro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DE5-560E-48F8-9C5A-125354248A1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omments on RED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robability of dropping a particular flow's packet(s) is roughly proportional to the share of the bandwidth that flow is currently gett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axP is typically set to 0.02, meaning that when the average queue size is halfway between the two thresholds, the gateway drops roughly one out of 50 packets.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624-5FA5-4676-90A1-DFBDB2F1C9F1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ED Operation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65200" y="3359160"/>
            <a:ext cx="4164120" cy="1798560"/>
          </a:xfrm>
          <a:custGeom>
            <a:avLst/>
            <a:gdLst/>
            <a:ahLst/>
            <a:rect l="l" t="t" r="r" b="b"/>
            <a:pathLst>
              <a:path w="2623" h="1133">
                <a:moveTo>
                  <a:pt x="0" y="1129"/>
                </a:moveTo>
                <a:lnTo>
                  <a:pt x="666" y="1133"/>
                </a:lnTo>
                <a:lnTo>
                  <a:pt x="1595" y="862"/>
                </a:lnTo>
                <a:lnTo>
                  <a:pt x="1595" y="0"/>
                </a:lnTo>
                <a:lnTo>
                  <a:pt x="2623" y="0"/>
                </a:lnTo>
              </a:path>
            </a:pathLst>
          </a:custGeom>
          <a:noFill/>
          <a:ln w="1260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422520" y="5051520"/>
            <a:ext cx="18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2365200" y="2208240"/>
            <a:ext cx="1800" cy="294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327400" y="2090880"/>
            <a:ext cx="75960" cy="142560"/>
          </a:xfrm>
          <a:custGeom>
            <a:avLst/>
            <a:gdLst/>
            <a:ahLst/>
            <a:rect l="l" t="t" r="r" b="b"/>
            <a:pathLst>
              <a:path w="48" h="90">
                <a:moveTo>
                  <a:pt x="48" y="86"/>
                </a:moveTo>
                <a:lnTo>
                  <a:pt x="24" y="0"/>
                </a:lnTo>
                <a:lnTo>
                  <a:pt x="0" y="90"/>
                </a:lnTo>
                <a:lnTo>
                  <a:pt x="48" y="90"/>
                </a:lnTo>
                <a:lnTo>
                  <a:pt x="48" y="90"/>
                </a:lnTo>
                <a:lnTo>
                  <a:pt x="48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327400" y="2090880"/>
            <a:ext cx="75960" cy="142560"/>
          </a:xfrm>
          <a:custGeom>
            <a:avLst/>
            <a:gdLst/>
            <a:ahLst/>
            <a:rect l="l" t="t" r="r" b="b"/>
            <a:pathLst>
              <a:path w="48" h="90">
                <a:moveTo>
                  <a:pt x="48" y="86"/>
                </a:moveTo>
                <a:lnTo>
                  <a:pt x="24" y="0"/>
                </a:lnTo>
                <a:lnTo>
                  <a:pt x="0" y="90"/>
                </a:lnTo>
                <a:lnTo>
                  <a:pt x="48" y="90"/>
                </a:lnTo>
                <a:lnTo>
                  <a:pt x="48" y="9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365200" y="5151600"/>
            <a:ext cx="449604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29560" y="5121360"/>
            <a:ext cx="144360" cy="74520"/>
          </a:xfrm>
          <a:custGeom>
            <a:avLst/>
            <a:gdLst/>
            <a:ahLst/>
            <a:rect l="l" t="t" r="r" b="b"/>
            <a:pathLst>
              <a:path w="91" h="47">
                <a:moveTo>
                  <a:pt x="0" y="43"/>
                </a:moveTo>
                <a:lnTo>
                  <a:pt x="91" y="23"/>
                </a:lnTo>
                <a:lnTo>
                  <a:pt x="4" y="0"/>
                </a:lnTo>
                <a:lnTo>
                  <a:pt x="4" y="47"/>
                </a:lnTo>
                <a:lnTo>
                  <a:pt x="4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29560" y="5121360"/>
            <a:ext cx="144360" cy="74520"/>
          </a:xfrm>
          <a:custGeom>
            <a:avLst/>
            <a:gdLst/>
            <a:ahLst/>
            <a:rect l="l" t="t" r="r" b="b"/>
            <a:pathLst>
              <a:path w="91" h="47">
                <a:moveTo>
                  <a:pt x="0" y="43"/>
                </a:moveTo>
                <a:lnTo>
                  <a:pt x="91" y="23"/>
                </a:lnTo>
                <a:lnTo>
                  <a:pt x="4" y="0"/>
                </a:lnTo>
                <a:lnTo>
                  <a:pt x="4" y="47"/>
                </a:lnTo>
                <a:lnTo>
                  <a:pt x="4" y="4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65200" y="3359160"/>
            <a:ext cx="106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365200" y="4721400"/>
            <a:ext cx="1065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4897440" y="505152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108160" y="177804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drop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2360" y="3214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51760" y="45831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P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922480" y="520236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Thresh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378320" y="520236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Thresh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592680" y="47959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672960" y="479592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gLen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D5A-BDEC-4024-A9D0-1B2D8E29C994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Note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f traffic is bursty, then MinThreshold should be sufficiently large to allow link utilization to be maintained at an acceptably high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difference between two thresholds should be larger than the typical increase in the calculated average queue length in one RTT; setting MaxThreshold to twice MinThreshold is reasonable for traffic on today's Interne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4FB-993D-4CE2-B9E2-426D201DAC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Explicit Congestion Notification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Dropping packets = Warn of congest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dea: mark packets to notify congest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sted router marks packet (sets a 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 “copies” bit in the 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er reduces its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enefit: proactive without losing packet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roblem: sender can ignore i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B40-A430-4B24-BEAE-22D5FEA66C2A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urrent Statu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ED + ECN are considered to be good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ED alone has problem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F0B-C13C-43EE-9190-3D783BE1B50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hapter 3: Summary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17320" y="1944360"/>
            <a:ext cx="448596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principles behind transport layer service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xing/demultiplex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able data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ow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ges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stantiation and implementation in the Interne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153040" y="2409480"/>
            <a:ext cx="333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xt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eaving the network “edge” (application transport layer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to the network “core”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7C8-A815-4442-BCEA-D279858E97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6680" y="1142640"/>
            <a:ext cx="303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CP: reliable data transfer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4000" y="554040"/>
            <a:ext cx="58788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00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sendbase = initial_sequence number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01    nextseqnum = initial_sequence number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0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03   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oop (forever) {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04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witch(event)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05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data received from application above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06             create TCP segment with sequence number nextseqnum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07             start timer for segment nextseqnum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08             pass segment to IP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09             nextseqnum = nextseqnum + length(data)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10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timer timeout for segment with sequence number y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11             retransmit segment with sequence number y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12             compute new timeout interval for segment y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13             restart timer for sequence number y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14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ACK received, with ACK field value of y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15             if (y &gt; sendbase) { /* cumulative ACK of all data up to y */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16                 cancel all timers for segments with sequence numbers &lt; y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17                  sendbase = y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18                  }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19             else { /* a duplicate ACK for already ACKed segment */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20                  increment number of duplicate ACKs received for y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21                  if (number of duplicate ACKS received for y == 3) {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22                      /* TCP fast retransmit */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23                     resend segment with sequence number y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24                     restart timer for segment y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25                 }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26       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}  /* end of loop forever */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2160" y="3322800"/>
            <a:ext cx="13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implifie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TCP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ender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53F-037E-4796-8482-A7C0D211613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 ACK generation</a:t>
            </a: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5"/>
                </a:solidFill>
                <a:latin typeface="Arial"/>
              </a:rPr>
              <a:t>[RFC 1122, RFC 2581]</a:t>
            </a:r>
            <a:endParaRPr b="1" lang="en-US" sz="2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7440" y="1554120"/>
            <a:ext cx="3310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-order segment arrival,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o gaps,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verything else already ACKed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-order segment arrival,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o gaps,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ne delayed ACK pending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ut-of-order segment arrival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higher-than-expect seq. #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19800" y="1544760"/>
            <a:ext cx="39585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mmediately send singl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umulative ACK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nd duplicate ACK, indicating seq. #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f next expected byt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mmediate ACK if segment start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t lower end of gap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76240" y="2009880"/>
            <a:ext cx="7467840" cy="936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47800" y="3191040"/>
            <a:ext cx="7477200" cy="936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160" y="4305240"/>
            <a:ext cx="750564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6880" y="5410080"/>
            <a:ext cx="7486560" cy="972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04E-C819-4C79-8036-783CB0B1BAC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H="1">
            <a:off x="5810040" y="3143160"/>
            <a:ext cx="2476440" cy="110484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349600" y="2374920"/>
            <a:ext cx="42228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46880" y="2273400"/>
            <a:ext cx="203040" cy="1320840"/>
          </a:xfrm>
          <a:prstGeom prst="rect">
            <a:avLst/>
          </a:prstGeom>
          <a:solidFill>
            <a:srgbClr val="212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81240" y="2733840"/>
            <a:ext cx="2543400" cy="13809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728400">
            <a:off x="6075000" y="3814920"/>
            <a:ext cx="1817640" cy="284040"/>
          </a:xfrm>
          <a:prstGeom prst="rect">
            <a:avLst/>
          </a:prstGeom>
          <a:solidFill>
            <a:srgbClr val="212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: retransmission scenarios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55520" y="1389240"/>
            <a:ext cx="3489120" cy="4821120"/>
            <a:chOff x="155520" y="1389240"/>
            <a:chExt cx="3489120" cy="4821120"/>
          </a:xfrm>
        </p:grpSpPr>
        <p:sp>
          <p:nvSpPr>
            <p:cNvPr id="202" name=""/>
            <p:cNvSpPr/>
            <p:nvPr/>
          </p:nvSpPr>
          <p:spPr>
            <a:xfrm flipH="1">
              <a:off x="1857240" y="2781360"/>
              <a:ext cx="1581120" cy="4856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14400" y="2057400"/>
              <a:ext cx="2533320" cy="5907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501480" y="1389240"/>
              <a:ext cx="48564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932040" y="138924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Host A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706200">
              <a:off x="1290600" y="2068560"/>
              <a:ext cx="187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eq=92, 8 bytes data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617200">
              <a:off x="2182320" y="27540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95440" y="33177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oss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249840" y="2864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timeout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5640" y="1695600"/>
              <a:ext cx="0" cy="451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55520" y="5508720"/>
              <a:ext cx="665280" cy="368280"/>
              <a:chOff x="155520" y="5508720"/>
              <a:chExt cx="665280" cy="36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218880" y="5581440"/>
                <a:ext cx="514440" cy="24732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520" y="5508720"/>
                <a:ext cx="66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time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157760" y="562284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lost ACK scenario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3159000" y="139860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445120" y="140832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Host B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8120" y="3040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3924360"/>
              <a:ext cx="2533320" cy="590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706200">
              <a:off x="1204920" y="3868920"/>
              <a:ext cx="187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eq=92, 8 bytes data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04680" y="1838520"/>
              <a:ext cx="0" cy="38480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19280" y="1838520"/>
              <a:ext cx="0" cy="38480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923760" y="4705560"/>
              <a:ext cx="2495520" cy="752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673000">
              <a:off x="1733760" y="4789080"/>
              <a:ext cx="96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33320" y="2037960"/>
              <a:ext cx="0" cy="6001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2680" y="3438720"/>
              <a:ext cx="0" cy="4759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800680" y="2009880"/>
            <a:ext cx="2533680" cy="5904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388120" y="13413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818680" y="13413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808200">
            <a:off x="5979240" y="2421000"/>
            <a:ext cx="20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Seq=100, 20 bytes data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9829400">
            <a:off x="6745680" y="3068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4872600" y="2783880"/>
            <a:ext cx="14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Seq=92 timeout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041800" y="5460840"/>
            <a:ext cx="665280" cy="368280"/>
            <a:chOff x="5041800" y="5460840"/>
            <a:chExt cx="665280" cy="368280"/>
          </a:xfrm>
        </p:grpSpPr>
        <p:sp>
          <p:nvSpPr>
            <p:cNvPr id="233" name=""/>
            <p:cNvSpPr/>
            <p:nvPr/>
          </p:nvSpPr>
          <p:spPr>
            <a:xfrm>
              <a:off x="5105160" y="5533920"/>
              <a:ext cx="514440" cy="2476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41800" y="54608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915880" y="55753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premature timeout,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cumulative ACK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045280" y="135108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331760" y="13604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00680" y="3876840"/>
            <a:ext cx="2533680" cy="5904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706200">
            <a:off x="6062760" y="379260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Seq=92, 8 bytes data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1790640"/>
            <a:ext cx="6120" cy="38228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05920" y="1790640"/>
            <a:ext cx="0" cy="38480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0261400">
            <a:off x="7106040" y="3179520"/>
            <a:ext cx="96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638680" y="2015640"/>
            <a:ext cx="6480" cy="24444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29320" y="3645000"/>
            <a:ext cx="0" cy="2221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88080" y="2362320"/>
            <a:ext cx="2508120" cy="6285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706200">
            <a:off x="6091560" y="201132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Seq=92, 8 bytes data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613480" y="3876840"/>
            <a:ext cx="18072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94040" y="2016000"/>
            <a:ext cx="18108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68680" y="4387680"/>
            <a:ext cx="42228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4585320" y="320796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Seq=100 timeout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378400" y="2371680"/>
            <a:ext cx="6480" cy="2952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88120" y="4089240"/>
            <a:ext cx="0" cy="3049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816160" y="4521240"/>
            <a:ext cx="2476440" cy="110484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20261400">
            <a:off x="6921720" y="460800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53400" y="4514760"/>
            <a:ext cx="1066680" cy="590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7A8-79A5-4FF2-8D16-937760B5F66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6b"/>
            </a:gs>
            <a:gs pos="100000">
              <a:srgbClr val="064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95320" y="1504800"/>
            <a:ext cx="3057480" cy="142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CP Flow Control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219280" y="1581120"/>
            <a:ext cx="3333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eiver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explicitly informs sender of (dynamically changing) amount of free buffer space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ff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cvWindo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TCP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nder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keeps the amount of transmitted, unACKed data less than most recently received </a:t>
            </a:r>
            <a:r>
              <a:rPr b="0" lang="en-US" sz="2000" spc="-1" strike="noStrike">
                <a:solidFill>
                  <a:srgbClr val="f3a70f"/>
                </a:solidFill>
                <a:latin typeface="Courier New"/>
              </a:rPr>
              <a:t>RcvWindow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81000" y="1655640"/>
            <a:ext cx="287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86"/>
                </a:solidFill>
                <a:latin typeface="Comic Sans MS"/>
              </a:rPr>
              <a:t>sender won’t overru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86"/>
                </a:solidFill>
                <a:latin typeface="Comic Sans MS"/>
              </a:rPr>
              <a:t>receiver’s buffers by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86"/>
                </a:solidFill>
                <a:latin typeface="Comic Sans MS"/>
              </a:rPr>
              <a:t>transmitting too much,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8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212186"/>
                </a:solidFill>
                <a:latin typeface="Comic Sans MS"/>
              </a:rPr>
              <a:t>too fas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62640" y="1274760"/>
            <a:ext cx="1886040" cy="459720"/>
            <a:chOff x="962640" y="1274760"/>
            <a:chExt cx="1886040" cy="459720"/>
          </a:xfrm>
        </p:grpSpPr>
        <p:sp>
          <p:nvSpPr>
            <p:cNvPr id="261" name=""/>
            <p:cNvSpPr/>
            <p:nvPr/>
          </p:nvSpPr>
          <p:spPr>
            <a:xfrm>
              <a:off x="1018800" y="1314360"/>
              <a:ext cx="1800360" cy="3524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62640" y="127476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low control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pic>
        <p:nvPicPr>
          <p:cNvPr id="263" name="rcvwin" descr=""/>
          <p:cNvPicPr/>
          <p:nvPr/>
        </p:nvPicPr>
        <p:blipFill>
          <a:blip r:embed="rId1"/>
          <a:stretch/>
        </p:blipFill>
        <p:spPr>
          <a:xfrm>
            <a:off x="268200" y="41767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401480" y="60642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receiver buffering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7120" y="3262320"/>
            <a:ext cx="40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= size or TCP Receive Buffer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RcvWindow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= amount of spare room in Buffer</a:t>
            </a: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596-9CDF-4356-A1B1-1599607871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dvanced Networks 20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default</cp:lastModifiedBy>
  <dcterms:modified xsi:type="dcterms:W3CDTF">2002-04-30T20:58:51Z</dcterms:modified>
  <cp:revision>135</cp:revision>
  <dc:subject/>
  <dc:title>Part I: Introduction</dc:title>
</cp:coreProperties>
</file>