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5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FB7F-4A44-4103-A558-9430ED83B4F5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B313-BDB0-4F25-975F-52F58414AFEE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E5CE-9F45-4C12-BBE1-C38F40316797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8DAA-E37A-47FC-BCA0-607B84C5C336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A958-CA9D-4952-BB94-C9F28E770C6E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8305-AECF-4677-A9C7-608AAE7A3145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32F-D1AF-4312-9C86-D60CEF3963F9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66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pre-configuration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 free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E31F-993B-4696-A88E-FF786A736157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66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cee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IM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[Estrin 96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BT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[Ballarardie 9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8ABB-8DDC-49AC-A896-83E40E0E7E0E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66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cee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IM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[Estrin 96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BT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[Ballarardie 9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AF5C-7DFB-4603-B373-89C1CE17DE21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0806-8D20-429F-8DDD-99CFBE80911F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6355-6CCC-40AD-AA2F-F11028E2DD0A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8889-E72E-4598-9D41-8F90EC517F3D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7523-550A-4D10-A3C9-8709318D98B6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2448-A8B0-4AAC-A413-D833E363F1F5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015E-E1B9-4A9D-8364-BDFCEEB7C982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E14A-C969-4D80-804A-662BE61F1CE4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D1AF-1E58-44FF-AB84-19F06ECA4E58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66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F269-EDBA-4E89-A66A-60E2067BDB0A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66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024E-6D46-45C0-B87B-5B637EE882E5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66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C9E9-873A-4EC4-B5CA-A9000CAFBE68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4E59-39AD-4442-8E77-991C3DAE9925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C604-2757-427B-A99D-0B6F965CC80D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D25D-660A-4570-B53E-959C8B4F75C3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540A-0E5E-4D83-8E0D-FD3CE35FC9E4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ae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1A2-AA94-4B8D-90C7-90D09BAC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1C0-35C5-4975-89A3-6070ECAC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81E-999E-4338-8057-6460879A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D75-DBC6-478B-86A4-FE3F92B6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278C-CEF4-4F14-B594-9E76DB48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F83C-FFF0-4983-8AB1-48B327B1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E1F7-D7F9-4587-94BE-076FF1E3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9110-1152-4CC1-A5FA-A072B434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59CF-B311-43AD-AC6B-3FDEEB03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5400" y="87120"/>
            <a:ext cx="8226360" cy="48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6E43-3CB1-4BFF-B319-8F031DE6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BB6D-84EB-4B80-A5EA-2C59806E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1CF-F98C-4BC7-9617-71202690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7AB2-DAAF-4546-B6C3-A8BA2F81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CC79-725C-4436-B840-8765E475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6122-B64D-45C1-AE0B-C6DF5E9A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BB59-137D-4CDC-9029-BE61A5DA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6296-2D2F-45DB-B778-552126A1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673-434A-40E8-BD6D-0863D74F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E7D-86A2-471A-8C83-3B2FD47F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319-18F2-45E3-9FFE-C7EF8E36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400" y="87120"/>
            <a:ext cx="8226360" cy="48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FFB-2B42-4038-AD4F-C5892D1B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6F1-7779-4AE6-AE22-E63A97BF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0F6-8836-4FC0-BC0C-87FD326D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F19-AF38-46F9-8A92-50897ED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168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210A-7EEF-4890-8014-DA156944C0D6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UCR" descr=""/>
          <p:cNvPicPr/>
          <p:nvPr/>
        </p:nvPicPr>
        <p:blipFill>
          <a:blip r:embed="rId3"/>
          <a:stretch/>
        </p:blipFill>
        <p:spPr>
          <a:xfrm>
            <a:off x="106200" y="6389640"/>
            <a:ext cx="152424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23660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8000" y="6370560"/>
            <a:ext cx="15238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76B3-4B01-45D2-9922-9DE95B56A0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33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Book Antiqu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4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4.wmf"/><Relationship Id="rId20" Type="http://schemas.openxmlformats.org/officeDocument/2006/relationships/slideLayout" Target="../slideLayouts/slideLayout10.xml"/><Relationship Id="rId2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5"/>
                </a:solidFill>
                <a:latin typeface="Arial"/>
              </a:rPr>
              <a:t>Internet Multicasting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400" y="6019560"/>
            <a:ext cx="6400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3a70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3a70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3a70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3a70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3a70f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f3a70f"/>
                </a:solidFill>
                <a:latin typeface="Arial"/>
              </a:rPr>
              <a:t>Copyright M. Faloutsos</a:t>
            </a:r>
            <a:endParaRPr b="1" lang="en-US" sz="1400" spc="-1" strike="noStrike">
              <a:solidFill>
                <a:srgbClr val="f3a70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86000" y="3429000"/>
            <a:ext cx="4997520" cy="2266920"/>
            <a:chOff x="2286000" y="3429000"/>
            <a:chExt cx="4997520" cy="2266920"/>
          </a:xfrm>
        </p:grpSpPr>
        <p:sp>
          <p:nvSpPr>
            <p:cNvPr id="96" name=""/>
            <p:cNvSpPr/>
            <p:nvPr/>
          </p:nvSpPr>
          <p:spPr>
            <a:xfrm>
              <a:off x="6181920" y="3676680"/>
              <a:ext cx="172800" cy="183960"/>
            </a:xfrm>
            <a:prstGeom prst="ellipse">
              <a:avLst/>
            </a:prstGeom>
            <a:solidFill>
              <a:srgbClr val="f91111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0400" y="4987800"/>
              <a:ext cx="172800" cy="183960"/>
            </a:xfrm>
            <a:prstGeom prst="ellipse">
              <a:avLst/>
            </a:prstGeom>
            <a:solidFill>
              <a:srgbClr val="f91111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10360" y="5052960"/>
              <a:ext cx="173160" cy="183960"/>
            </a:xfrm>
            <a:prstGeom prst="ellipse">
              <a:avLst/>
            </a:prstGeom>
            <a:solidFill>
              <a:srgbClr val="f91111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20000" y="5511600"/>
              <a:ext cx="172800" cy="184320"/>
            </a:xfrm>
            <a:prstGeom prst="ellipse">
              <a:avLst/>
            </a:prstGeom>
            <a:solidFill>
              <a:srgbClr val="f91111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3867120"/>
              <a:ext cx="185760" cy="3268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927400" y="4165560"/>
              <a:ext cx="358920" cy="8809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85040" y="4194000"/>
              <a:ext cx="185760" cy="5256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70800" y="4719600"/>
              <a:ext cx="495360" cy="3920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197760" y="3860640"/>
              <a:ext cx="101520" cy="16509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980000">
              <a:off x="3311280" y="5293440"/>
              <a:ext cx="172800" cy="168120"/>
            </a:xfrm>
            <a:prstGeom prst="ellipse">
              <a:avLst/>
            </a:prstGeom>
            <a:solidFill>
              <a:srgbClr val="e90042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980000">
              <a:off x="3772800" y="4101480"/>
              <a:ext cx="174600" cy="168480"/>
            </a:xfrm>
            <a:prstGeom prst="ellipse">
              <a:avLst/>
            </a:prstGeom>
            <a:solidFill>
              <a:srgbClr val="f91111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980000">
              <a:off x="2471040" y="3948840"/>
              <a:ext cx="174600" cy="173160"/>
            </a:xfrm>
            <a:prstGeom prst="ellipse">
              <a:avLst/>
            </a:prstGeom>
            <a:solidFill>
              <a:srgbClr val="f91111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980000">
              <a:off x="3497040" y="3592080"/>
              <a:ext cx="172800" cy="169920"/>
            </a:xfrm>
            <a:prstGeom prst="ellipse">
              <a:avLst/>
            </a:prstGeom>
            <a:solidFill>
              <a:srgbClr val="f91111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0" y="3429000"/>
              <a:ext cx="1957320" cy="1212840"/>
            </a:xfrm>
            <a:custGeom>
              <a:avLst/>
              <a:gdLst/>
              <a:ahLst/>
              <a:rect l="l" t="t" r="r" b="b"/>
              <a:pathLst>
                <a:path w="1233" h="764">
                  <a:moveTo>
                    <a:pt x="1100" y="621"/>
                  </a:moveTo>
                  <a:lnTo>
                    <a:pt x="1136" y="621"/>
                  </a:lnTo>
                  <a:lnTo>
                    <a:pt x="1154" y="621"/>
                  </a:lnTo>
                  <a:lnTo>
                    <a:pt x="1172" y="615"/>
                  </a:lnTo>
                  <a:lnTo>
                    <a:pt x="1190" y="596"/>
                  </a:lnTo>
                  <a:lnTo>
                    <a:pt x="1208" y="577"/>
                  </a:lnTo>
                  <a:lnTo>
                    <a:pt x="1214" y="557"/>
                  </a:lnTo>
                  <a:lnTo>
                    <a:pt x="1220" y="538"/>
                  </a:lnTo>
                  <a:lnTo>
                    <a:pt x="1220" y="519"/>
                  </a:lnTo>
                  <a:lnTo>
                    <a:pt x="1226" y="493"/>
                  </a:lnTo>
                  <a:lnTo>
                    <a:pt x="1232" y="468"/>
                  </a:lnTo>
                  <a:lnTo>
                    <a:pt x="1232" y="448"/>
                  </a:lnTo>
                  <a:lnTo>
                    <a:pt x="1232" y="429"/>
                  </a:lnTo>
                  <a:lnTo>
                    <a:pt x="1226" y="410"/>
                  </a:lnTo>
                  <a:lnTo>
                    <a:pt x="1214" y="391"/>
                  </a:lnTo>
                  <a:lnTo>
                    <a:pt x="1196" y="378"/>
                  </a:lnTo>
                  <a:lnTo>
                    <a:pt x="1178" y="359"/>
                  </a:lnTo>
                  <a:lnTo>
                    <a:pt x="1154" y="346"/>
                  </a:lnTo>
                  <a:lnTo>
                    <a:pt x="1136" y="333"/>
                  </a:lnTo>
                  <a:lnTo>
                    <a:pt x="1118" y="327"/>
                  </a:lnTo>
                  <a:lnTo>
                    <a:pt x="1094" y="320"/>
                  </a:lnTo>
                  <a:lnTo>
                    <a:pt x="1076" y="314"/>
                  </a:lnTo>
                  <a:lnTo>
                    <a:pt x="1058" y="314"/>
                  </a:lnTo>
                  <a:lnTo>
                    <a:pt x="1040" y="307"/>
                  </a:lnTo>
                  <a:lnTo>
                    <a:pt x="1022" y="307"/>
                  </a:lnTo>
                  <a:lnTo>
                    <a:pt x="1022" y="288"/>
                  </a:lnTo>
                  <a:lnTo>
                    <a:pt x="1028" y="269"/>
                  </a:lnTo>
                  <a:lnTo>
                    <a:pt x="1046" y="250"/>
                  </a:lnTo>
                  <a:lnTo>
                    <a:pt x="1052" y="230"/>
                  </a:lnTo>
                  <a:lnTo>
                    <a:pt x="1058" y="211"/>
                  </a:lnTo>
                  <a:lnTo>
                    <a:pt x="1064" y="192"/>
                  </a:lnTo>
                  <a:lnTo>
                    <a:pt x="1064" y="173"/>
                  </a:lnTo>
                  <a:lnTo>
                    <a:pt x="1064" y="147"/>
                  </a:lnTo>
                  <a:lnTo>
                    <a:pt x="1052" y="128"/>
                  </a:lnTo>
                  <a:lnTo>
                    <a:pt x="1046" y="109"/>
                  </a:lnTo>
                  <a:lnTo>
                    <a:pt x="1028" y="89"/>
                  </a:lnTo>
                  <a:lnTo>
                    <a:pt x="1010" y="70"/>
                  </a:lnTo>
                  <a:lnTo>
                    <a:pt x="986" y="51"/>
                  </a:lnTo>
                  <a:lnTo>
                    <a:pt x="968" y="44"/>
                  </a:lnTo>
                  <a:lnTo>
                    <a:pt x="950" y="32"/>
                  </a:lnTo>
                  <a:lnTo>
                    <a:pt x="932" y="25"/>
                  </a:lnTo>
                  <a:lnTo>
                    <a:pt x="915" y="12"/>
                  </a:lnTo>
                  <a:lnTo>
                    <a:pt x="891" y="6"/>
                  </a:lnTo>
                  <a:lnTo>
                    <a:pt x="873" y="0"/>
                  </a:lnTo>
                  <a:lnTo>
                    <a:pt x="849" y="0"/>
                  </a:lnTo>
                  <a:lnTo>
                    <a:pt x="831" y="0"/>
                  </a:lnTo>
                  <a:lnTo>
                    <a:pt x="813" y="0"/>
                  </a:lnTo>
                  <a:lnTo>
                    <a:pt x="795" y="0"/>
                  </a:lnTo>
                  <a:lnTo>
                    <a:pt x="771" y="0"/>
                  </a:lnTo>
                  <a:lnTo>
                    <a:pt x="753" y="0"/>
                  </a:lnTo>
                  <a:lnTo>
                    <a:pt x="735" y="0"/>
                  </a:lnTo>
                  <a:lnTo>
                    <a:pt x="717" y="12"/>
                  </a:lnTo>
                  <a:lnTo>
                    <a:pt x="699" y="32"/>
                  </a:lnTo>
                  <a:lnTo>
                    <a:pt x="687" y="51"/>
                  </a:lnTo>
                  <a:lnTo>
                    <a:pt x="681" y="70"/>
                  </a:lnTo>
                  <a:lnTo>
                    <a:pt x="669" y="89"/>
                  </a:lnTo>
                  <a:lnTo>
                    <a:pt x="663" y="109"/>
                  </a:lnTo>
                  <a:lnTo>
                    <a:pt x="645" y="121"/>
                  </a:lnTo>
                  <a:lnTo>
                    <a:pt x="627" y="109"/>
                  </a:lnTo>
                  <a:lnTo>
                    <a:pt x="610" y="96"/>
                  </a:lnTo>
                  <a:lnTo>
                    <a:pt x="592" y="83"/>
                  </a:lnTo>
                  <a:lnTo>
                    <a:pt x="574" y="83"/>
                  </a:lnTo>
                  <a:lnTo>
                    <a:pt x="550" y="76"/>
                  </a:lnTo>
                  <a:lnTo>
                    <a:pt x="526" y="70"/>
                  </a:lnTo>
                  <a:lnTo>
                    <a:pt x="502" y="70"/>
                  </a:lnTo>
                  <a:lnTo>
                    <a:pt x="484" y="70"/>
                  </a:lnTo>
                  <a:lnTo>
                    <a:pt x="460" y="64"/>
                  </a:lnTo>
                  <a:lnTo>
                    <a:pt x="442" y="64"/>
                  </a:lnTo>
                  <a:lnTo>
                    <a:pt x="424" y="64"/>
                  </a:lnTo>
                  <a:lnTo>
                    <a:pt x="400" y="64"/>
                  </a:lnTo>
                  <a:lnTo>
                    <a:pt x="382" y="64"/>
                  </a:lnTo>
                  <a:lnTo>
                    <a:pt x="364" y="70"/>
                  </a:lnTo>
                  <a:lnTo>
                    <a:pt x="352" y="89"/>
                  </a:lnTo>
                  <a:lnTo>
                    <a:pt x="340" y="109"/>
                  </a:lnTo>
                  <a:lnTo>
                    <a:pt x="328" y="128"/>
                  </a:lnTo>
                  <a:lnTo>
                    <a:pt x="322" y="147"/>
                  </a:lnTo>
                  <a:lnTo>
                    <a:pt x="316" y="173"/>
                  </a:lnTo>
                  <a:lnTo>
                    <a:pt x="316" y="192"/>
                  </a:lnTo>
                  <a:lnTo>
                    <a:pt x="316" y="218"/>
                  </a:lnTo>
                  <a:lnTo>
                    <a:pt x="316" y="250"/>
                  </a:lnTo>
                  <a:lnTo>
                    <a:pt x="316" y="269"/>
                  </a:lnTo>
                  <a:lnTo>
                    <a:pt x="299" y="262"/>
                  </a:lnTo>
                  <a:lnTo>
                    <a:pt x="281" y="250"/>
                  </a:lnTo>
                  <a:lnTo>
                    <a:pt x="263" y="237"/>
                  </a:lnTo>
                  <a:lnTo>
                    <a:pt x="239" y="230"/>
                  </a:lnTo>
                  <a:lnTo>
                    <a:pt x="209" y="224"/>
                  </a:lnTo>
                  <a:lnTo>
                    <a:pt x="185" y="224"/>
                  </a:lnTo>
                  <a:lnTo>
                    <a:pt x="161" y="224"/>
                  </a:lnTo>
                  <a:lnTo>
                    <a:pt x="125" y="224"/>
                  </a:lnTo>
                  <a:lnTo>
                    <a:pt x="101" y="224"/>
                  </a:lnTo>
                  <a:lnTo>
                    <a:pt x="83" y="224"/>
                  </a:lnTo>
                  <a:lnTo>
                    <a:pt x="65" y="230"/>
                  </a:lnTo>
                  <a:lnTo>
                    <a:pt x="47" y="243"/>
                  </a:lnTo>
                  <a:lnTo>
                    <a:pt x="23" y="269"/>
                  </a:lnTo>
                  <a:lnTo>
                    <a:pt x="17" y="288"/>
                  </a:lnTo>
                  <a:lnTo>
                    <a:pt x="5" y="314"/>
                  </a:lnTo>
                  <a:lnTo>
                    <a:pt x="0" y="346"/>
                  </a:lnTo>
                  <a:lnTo>
                    <a:pt x="0" y="378"/>
                  </a:lnTo>
                  <a:lnTo>
                    <a:pt x="0" y="397"/>
                  </a:lnTo>
                  <a:lnTo>
                    <a:pt x="0" y="416"/>
                  </a:lnTo>
                  <a:lnTo>
                    <a:pt x="0" y="436"/>
                  </a:lnTo>
                  <a:lnTo>
                    <a:pt x="0" y="455"/>
                  </a:lnTo>
                  <a:lnTo>
                    <a:pt x="0" y="487"/>
                  </a:lnTo>
                  <a:lnTo>
                    <a:pt x="5" y="519"/>
                  </a:lnTo>
                  <a:lnTo>
                    <a:pt x="23" y="545"/>
                  </a:lnTo>
                  <a:lnTo>
                    <a:pt x="35" y="564"/>
                  </a:lnTo>
                  <a:lnTo>
                    <a:pt x="59" y="570"/>
                  </a:lnTo>
                  <a:lnTo>
                    <a:pt x="83" y="570"/>
                  </a:lnTo>
                  <a:lnTo>
                    <a:pt x="107" y="570"/>
                  </a:lnTo>
                  <a:lnTo>
                    <a:pt x="131" y="570"/>
                  </a:lnTo>
                  <a:lnTo>
                    <a:pt x="155" y="570"/>
                  </a:lnTo>
                  <a:lnTo>
                    <a:pt x="173" y="570"/>
                  </a:lnTo>
                  <a:lnTo>
                    <a:pt x="149" y="564"/>
                  </a:lnTo>
                  <a:lnTo>
                    <a:pt x="131" y="564"/>
                  </a:lnTo>
                  <a:lnTo>
                    <a:pt x="113" y="577"/>
                  </a:lnTo>
                  <a:lnTo>
                    <a:pt x="95" y="583"/>
                  </a:lnTo>
                  <a:lnTo>
                    <a:pt x="83" y="602"/>
                  </a:lnTo>
                  <a:lnTo>
                    <a:pt x="71" y="621"/>
                  </a:lnTo>
                  <a:lnTo>
                    <a:pt x="65" y="641"/>
                  </a:lnTo>
                  <a:lnTo>
                    <a:pt x="65" y="660"/>
                  </a:lnTo>
                  <a:lnTo>
                    <a:pt x="65" y="679"/>
                  </a:lnTo>
                  <a:lnTo>
                    <a:pt x="77" y="698"/>
                  </a:lnTo>
                  <a:lnTo>
                    <a:pt x="95" y="718"/>
                  </a:lnTo>
                  <a:lnTo>
                    <a:pt x="113" y="737"/>
                  </a:lnTo>
                  <a:lnTo>
                    <a:pt x="131" y="750"/>
                  </a:lnTo>
                  <a:lnTo>
                    <a:pt x="155" y="756"/>
                  </a:lnTo>
                  <a:lnTo>
                    <a:pt x="173" y="763"/>
                  </a:lnTo>
                  <a:lnTo>
                    <a:pt x="203" y="763"/>
                  </a:lnTo>
                  <a:lnTo>
                    <a:pt x="227" y="763"/>
                  </a:lnTo>
                  <a:lnTo>
                    <a:pt x="251" y="763"/>
                  </a:lnTo>
                  <a:lnTo>
                    <a:pt x="275" y="763"/>
                  </a:lnTo>
                  <a:lnTo>
                    <a:pt x="293" y="763"/>
                  </a:lnTo>
                  <a:lnTo>
                    <a:pt x="310" y="763"/>
                  </a:lnTo>
                  <a:lnTo>
                    <a:pt x="328" y="763"/>
                  </a:lnTo>
                  <a:lnTo>
                    <a:pt x="346" y="763"/>
                  </a:lnTo>
                  <a:lnTo>
                    <a:pt x="364" y="763"/>
                  </a:lnTo>
                  <a:lnTo>
                    <a:pt x="382" y="763"/>
                  </a:lnTo>
                  <a:lnTo>
                    <a:pt x="400" y="763"/>
                  </a:lnTo>
                  <a:lnTo>
                    <a:pt x="418" y="763"/>
                  </a:lnTo>
                  <a:lnTo>
                    <a:pt x="436" y="750"/>
                  </a:lnTo>
                  <a:lnTo>
                    <a:pt x="454" y="737"/>
                  </a:lnTo>
                </a:path>
              </a:pathLst>
            </a:custGeom>
            <a:noFill/>
            <a:ln cap="rnd" w="507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7440" y="4160520"/>
              <a:ext cx="771480" cy="1254240"/>
            </a:xfrm>
            <a:custGeom>
              <a:avLst/>
              <a:gdLst/>
              <a:ahLst/>
              <a:rect l="l" t="t" r="r" b="b"/>
              <a:pathLst>
                <a:path w="486" h="790">
                  <a:moveTo>
                    <a:pt x="35" y="789"/>
                  </a:moveTo>
                  <a:lnTo>
                    <a:pt x="77" y="789"/>
                  </a:lnTo>
                  <a:lnTo>
                    <a:pt x="98" y="789"/>
                  </a:lnTo>
                  <a:lnTo>
                    <a:pt x="126" y="789"/>
                  </a:lnTo>
                  <a:lnTo>
                    <a:pt x="154" y="789"/>
                  </a:lnTo>
                  <a:lnTo>
                    <a:pt x="175" y="782"/>
                  </a:lnTo>
                  <a:lnTo>
                    <a:pt x="203" y="782"/>
                  </a:lnTo>
                  <a:lnTo>
                    <a:pt x="224" y="782"/>
                  </a:lnTo>
                  <a:lnTo>
                    <a:pt x="253" y="782"/>
                  </a:lnTo>
                  <a:lnTo>
                    <a:pt x="274" y="782"/>
                  </a:lnTo>
                  <a:lnTo>
                    <a:pt x="295" y="782"/>
                  </a:lnTo>
                  <a:lnTo>
                    <a:pt x="316" y="776"/>
                  </a:lnTo>
                  <a:lnTo>
                    <a:pt x="337" y="769"/>
                  </a:lnTo>
                  <a:lnTo>
                    <a:pt x="358" y="757"/>
                  </a:lnTo>
                  <a:lnTo>
                    <a:pt x="379" y="738"/>
                  </a:lnTo>
                  <a:lnTo>
                    <a:pt x="407" y="719"/>
                  </a:lnTo>
                  <a:lnTo>
                    <a:pt x="421" y="699"/>
                  </a:lnTo>
                  <a:lnTo>
                    <a:pt x="442" y="680"/>
                  </a:lnTo>
                  <a:lnTo>
                    <a:pt x="456" y="655"/>
                  </a:lnTo>
                  <a:lnTo>
                    <a:pt x="470" y="636"/>
                  </a:lnTo>
                  <a:lnTo>
                    <a:pt x="477" y="617"/>
                  </a:lnTo>
                  <a:lnTo>
                    <a:pt x="477" y="598"/>
                  </a:lnTo>
                  <a:lnTo>
                    <a:pt x="477" y="579"/>
                  </a:lnTo>
                  <a:lnTo>
                    <a:pt x="485" y="553"/>
                  </a:lnTo>
                  <a:lnTo>
                    <a:pt x="485" y="534"/>
                  </a:lnTo>
                  <a:lnTo>
                    <a:pt x="485" y="515"/>
                  </a:lnTo>
                  <a:lnTo>
                    <a:pt x="485" y="496"/>
                  </a:lnTo>
                  <a:lnTo>
                    <a:pt x="485" y="477"/>
                  </a:lnTo>
                  <a:lnTo>
                    <a:pt x="485" y="451"/>
                  </a:lnTo>
                  <a:lnTo>
                    <a:pt x="485" y="432"/>
                  </a:lnTo>
                  <a:lnTo>
                    <a:pt x="477" y="413"/>
                  </a:lnTo>
                  <a:lnTo>
                    <a:pt x="477" y="394"/>
                  </a:lnTo>
                  <a:lnTo>
                    <a:pt x="463" y="375"/>
                  </a:lnTo>
                  <a:lnTo>
                    <a:pt x="442" y="356"/>
                  </a:lnTo>
                  <a:lnTo>
                    <a:pt x="421" y="337"/>
                  </a:lnTo>
                  <a:lnTo>
                    <a:pt x="421" y="318"/>
                  </a:lnTo>
                  <a:lnTo>
                    <a:pt x="421" y="299"/>
                  </a:lnTo>
                  <a:lnTo>
                    <a:pt x="428" y="279"/>
                  </a:lnTo>
                  <a:lnTo>
                    <a:pt x="428" y="260"/>
                  </a:lnTo>
                  <a:lnTo>
                    <a:pt x="407" y="248"/>
                  </a:lnTo>
                  <a:lnTo>
                    <a:pt x="386" y="241"/>
                  </a:lnTo>
                  <a:lnTo>
                    <a:pt x="358" y="229"/>
                  </a:lnTo>
                  <a:lnTo>
                    <a:pt x="330" y="222"/>
                  </a:lnTo>
                  <a:lnTo>
                    <a:pt x="309" y="216"/>
                  </a:lnTo>
                  <a:lnTo>
                    <a:pt x="281" y="216"/>
                  </a:lnTo>
                  <a:lnTo>
                    <a:pt x="260" y="209"/>
                  </a:lnTo>
                  <a:lnTo>
                    <a:pt x="238" y="203"/>
                  </a:lnTo>
                  <a:lnTo>
                    <a:pt x="217" y="203"/>
                  </a:lnTo>
                  <a:lnTo>
                    <a:pt x="196" y="197"/>
                  </a:lnTo>
                  <a:lnTo>
                    <a:pt x="182" y="171"/>
                  </a:lnTo>
                  <a:lnTo>
                    <a:pt x="161" y="159"/>
                  </a:lnTo>
                  <a:lnTo>
                    <a:pt x="147" y="139"/>
                  </a:lnTo>
                  <a:lnTo>
                    <a:pt x="133" y="120"/>
                  </a:lnTo>
                  <a:lnTo>
                    <a:pt x="119" y="101"/>
                  </a:lnTo>
                  <a:lnTo>
                    <a:pt x="105" y="82"/>
                  </a:lnTo>
                  <a:lnTo>
                    <a:pt x="91" y="63"/>
                  </a:lnTo>
                  <a:lnTo>
                    <a:pt x="70" y="44"/>
                  </a:lnTo>
                  <a:lnTo>
                    <a:pt x="42" y="31"/>
                  </a:lnTo>
                  <a:lnTo>
                    <a:pt x="21" y="19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08200" y="4171680"/>
              <a:ext cx="627120" cy="235080"/>
            </a:xfrm>
            <a:custGeom>
              <a:avLst/>
              <a:gdLst/>
              <a:ahLst/>
              <a:rect l="l" t="t" r="r" b="b"/>
              <a:pathLst>
                <a:path w="395" h="148">
                  <a:moveTo>
                    <a:pt x="0" y="0"/>
                  </a:moveTo>
                  <a:lnTo>
                    <a:pt x="26" y="0"/>
                  </a:lnTo>
                  <a:lnTo>
                    <a:pt x="45" y="0"/>
                  </a:lnTo>
                  <a:lnTo>
                    <a:pt x="65" y="0"/>
                  </a:lnTo>
                  <a:lnTo>
                    <a:pt x="85" y="12"/>
                  </a:lnTo>
                  <a:lnTo>
                    <a:pt x="105" y="19"/>
                  </a:lnTo>
                  <a:lnTo>
                    <a:pt x="124" y="31"/>
                  </a:lnTo>
                  <a:lnTo>
                    <a:pt x="144" y="44"/>
                  </a:lnTo>
                  <a:lnTo>
                    <a:pt x="151" y="63"/>
                  </a:lnTo>
                  <a:lnTo>
                    <a:pt x="164" y="83"/>
                  </a:lnTo>
                  <a:lnTo>
                    <a:pt x="183" y="95"/>
                  </a:lnTo>
                  <a:lnTo>
                    <a:pt x="197" y="115"/>
                  </a:lnTo>
                  <a:lnTo>
                    <a:pt x="216" y="121"/>
                  </a:lnTo>
                  <a:lnTo>
                    <a:pt x="236" y="127"/>
                  </a:lnTo>
                  <a:lnTo>
                    <a:pt x="256" y="134"/>
                  </a:lnTo>
                  <a:lnTo>
                    <a:pt x="275" y="134"/>
                  </a:lnTo>
                  <a:lnTo>
                    <a:pt x="295" y="134"/>
                  </a:lnTo>
                  <a:lnTo>
                    <a:pt x="315" y="134"/>
                  </a:lnTo>
                  <a:lnTo>
                    <a:pt x="334" y="134"/>
                  </a:lnTo>
                  <a:lnTo>
                    <a:pt x="354" y="140"/>
                  </a:lnTo>
                  <a:lnTo>
                    <a:pt x="374" y="147"/>
                  </a:lnTo>
                  <a:lnTo>
                    <a:pt x="394" y="147"/>
                  </a:lnTo>
                </a:path>
              </a:pathLst>
            </a:custGeom>
            <a:noFill/>
            <a:ln cap="rnd" w="255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19400" y="3806640"/>
              <a:ext cx="384120" cy="581040"/>
            </a:xfrm>
            <a:custGeom>
              <a:avLst/>
              <a:gdLst/>
              <a:ahLst/>
              <a:rect l="l" t="t" r="r" b="b"/>
              <a:pathLst>
                <a:path w="242" h="366">
                  <a:moveTo>
                    <a:pt x="71" y="365"/>
                  </a:moveTo>
                  <a:lnTo>
                    <a:pt x="91" y="339"/>
                  </a:lnTo>
                  <a:lnTo>
                    <a:pt x="97" y="320"/>
                  </a:lnTo>
                  <a:lnTo>
                    <a:pt x="104" y="300"/>
                  </a:lnTo>
                  <a:lnTo>
                    <a:pt x="104" y="281"/>
                  </a:lnTo>
                  <a:lnTo>
                    <a:pt x="110" y="262"/>
                  </a:lnTo>
                  <a:lnTo>
                    <a:pt x="110" y="243"/>
                  </a:lnTo>
                  <a:lnTo>
                    <a:pt x="110" y="224"/>
                  </a:lnTo>
                  <a:lnTo>
                    <a:pt x="110" y="204"/>
                  </a:lnTo>
                  <a:lnTo>
                    <a:pt x="110" y="185"/>
                  </a:lnTo>
                  <a:lnTo>
                    <a:pt x="110" y="166"/>
                  </a:lnTo>
                  <a:lnTo>
                    <a:pt x="110" y="147"/>
                  </a:lnTo>
                  <a:lnTo>
                    <a:pt x="97" y="128"/>
                  </a:lnTo>
                  <a:lnTo>
                    <a:pt x="78" y="128"/>
                  </a:lnTo>
                  <a:lnTo>
                    <a:pt x="58" y="121"/>
                  </a:lnTo>
                  <a:lnTo>
                    <a:pt x="39" y="115"/>
                  </a:lnTo>
                  <a:lnTo>
                    <a:pt x="19" y="108"/>
                  </a:lnTo>
                  <a:lnTo>
                    <a:pt x="0" y="96"/>
                  </a:lnTo>
                  <a:lnTo>
                    <a:pt x="19" y="96"/>
                  </a:lnTo>
                  <a:lnTo>
                    <a:pt x="39" y="96"/>
                  </a:lnTo>
                  <a:lnTo>
                    <a:pt x="58" y="96"/>
                  </a:lnTo>
                  <a:lnTo>
                    <a:pt x="78" y="102"/>
                  </a:lnTo>
                  <a:lnTo>
                    <a:pt x="97" y="102"/>
                  </a:lnTo>
                  <a:lnTo>
                    <a:pt x="117" y="102"/>
                  </a:lnTo>
                  <a:lnTo>
                    <a:pt x="136" y="102"/>
                  </a:lnTo>
                  <a:lnTo>
                    <a:pt x="156" y="102"/>
                  </a:lnTo>
                  <a:lnTo>
                    <a:pt x="175" y="89"/>
                  </a:lnTo>
                  <a:lnTo>
                    <a:pt x="188" y="70"/>
                  </a:lnTo>
                  <a:lnTo>
                    <a:pt x="208" y="57"/>
                  </a:lnTo>
                  <a:lnTo>
                    <a:pt x="221" y="38"/>
                  </a:lnTo>
                  <a:lnTo>
                    <a:pt x="234" y="19"/>
                  </a:lnTo>
                  <a:lnTo>
                    <a:pt x="241" y="0"/>
                  </a:lnTo>
                </a:path>
              </a:pathLst>
            </a:custGeom>
            <a:noFill/>
            <a:ln cap="rnd" w="255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87600" y="3806640"/>
              <a:ext cx="366840" cy="588960"/>
            </a:xfrm>
            <a:custGeom>
              <a:avLst/>
              <a:gdLst/>
              <a:ahLst/>
              <a:rect l="l" t="t" r="r" b="b"/>
              <a:pathLst>
                <a:path w="231" h="371">
                  <a:moveTo>
                    <a:pt x="85" y="0"/>
                  </a:moveTo>
                  <a:lnTo>
                    <a:pt x="85" y="25"/>
                  </a:lnTo>
                  <a:lnTo>
                    <a:pt x="85" y="44"/>
                  </a:lnTo>
                  <a:lnTo>
                    <a:pt x="78" y="63"/>
                  </a:lnTo>
                  <a:lnTo>
                    <a:pt x="59" y="76"/>
                  </a:lnTo>
                  <a:lnTo>
                    <a:pt x="52" y="95"/>
                  </a:lnTo>
                  <a:lnTo>
                    <a:pt x="32" y="108"/>
                  </a:lnTo>
                  <a:lnTo>
                    <a:pt x="26" y="127"/>
                  </a:lnTo>
                  <a:lnTo>
                    <a:pt x="19" y="127"/>
                  </a:lnTo>
                  <a:lnTo>
                    <a:pt x="19" y="146"/>
                  </a:lnTo>
                  <a:lnTo>
                    <a:pt x="19" y="165"/>
                  </a:lnTo>
                  <a:lnTo>
                    <a:pt x="13" y="185"/>
                  </a:lnTo>
                  <a:lnTo>
                    <a:pt x="6" y="204"/>
                  </a:lnTo>
                  <a:lnTo>
                    <a:pt x="0" y="223"/>
                  </a:lnTo>
                  <a:lnTo>
                    <a:pt x="0" y="242"/>
                  </a:lnTo>
                  <a:lnTo>
                    <a:pt x="0" y="261"/>
                  </a:lnTo>
                  <a:lnTo>
                    <a:pt x="0" y="280"/>
                  </a:lnTo>
                  <a:lnTo>
                    <a:pt x="0" y="299"/>
                  </a:lnTo>
                  <a:lnTo>
                    <a:pt x="0" y="318"/>
                  </a:lnTo>
                  <a:lnTo>
                    <a:pt x="13" y="338"/>
                  </a:lnTo>
                  <a:lnTo>
                    <a:pt x="26" y="357"/>
                  </a:lnTo>
                  <a:lnTo>
                    <a:pt x="46" y="363"/>
                  </a:lnTo>
                  <a:lnTo>
                    <a:pt x="65" y="370"/>
                  </a:lnTo>
                  <a:lnTo>
                    <a:pt x="85" y="370"/>
                  </a:lnTo>
                  <a:lnTo>
                    <a:pt x="105" y="363"/>
                  </a:lnTo>
                  <a:lnTo>
                    <a:pt x="124" y="357"/>
                  </a:lnTo>
                  <a:lnTo>
                    <a:pt x="138" y="338"/>
                  </a:lnTo>
                  <a:lnTo>
                    <a:pt x="151" y="318"/>
                  </a:lnTo>
                  <a:lnTo>
                    <a:pt x="170" y="318"/>
                  </a:lnTo>
                  <a:lnTo>
                    <a:pt x="190" y="318"/>
                  </a:lnTo>
                  <a:lnTo>
                    <a:pt x="210" y="318"/>
                  </a:lnTo>
                  <a:lnTo>
                    <a:pt x="230" y="312"/>
                  </a:lnTo>
                </a:path>
              </a:pathLst>
            </a:custGeom>
            <a:noFill/>
            <a:ln cap="rnd" w="255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51320" y="4303440"/>
              <a:ext cx="647640" cy="1152720"/>
            </a:xfrm>
            <a:custGeom>
              <a:avLst/>
              <a:gdLst/>
              <a:ahLst/>
              <a:rect l="l" t="t" r="r" b="b"/>
              <a:pathLst>
                <a:path w="408" h="726">
                  <a:moveTo>
                    <a:pt x="190" y="0"/>
                  </a:moveTo>
                  <a:lnTo>
                    <a:pt x="190" y="25"/>
                  </a:lnTo>
                  <a:lnTo>
                    <a:pt x="170" y="38"/>
                  </a:lnTo>
                  <a:lnTo>
                    <a:pt x="150" y="38"/>
                  </a:lnTo>
                  <a:lnTo>
                    <a:pt x="131" y="51"/>
                  </a:lnTo>
                  <a:lnTo>
                    <a:pt x="111" y="64"/>
                  </a:lnTo>
                  <a:lnTo>
                    <a:pt x="98" y="83"/>
                  </a:lnTo>
                  <a:lnTo>
                    <a:pt x="85" y="102"/>
                  </a:lnTo>
                  <a:lnTo>
                    <a:pt x="72" y="121"/>
                  </a:lnTo>
                  <a:lnTo>
                    <a:pt x="52" y="128"/>
                  </a:lnTo>
                  <a:lnTo>
                    <a:pt x="32" y="128"/>
                  </a:lnTo>
                  <a:lnTo>
                    <a:pt x="13" y="128"/>
                  </a:lnTo>
                  <a:lnTo>
                    <a:pt x="0" y="147"/>
                  </a:lnTo>
                  <a:lnTo>
                    <a:pt x="0" y="166"/>
                  </a:lnTo>
                  <a:lnTo>
                    <a:pt x="0" y="186"/>
                  </a:lnTo>
                  <a:lnTo>
                    <a:pt x="0" y="205"/>
                  </a:lnTo>
                  <a:lnTo>
                    <a:pt x="0" y="224"/>
                  </a:lnTo>
                  <a:lnTo>
                    <a:pt x="0" y="243"/>
                  </a:lnTo>
                  <a:lnTo>
                    <a:pt x="19" y="256"/>
                  </a:lnTo>
                  <a:lnTo>
                    <a:pt x="32" y="275"/>
                  </a:lnTo>
                  <a:lnTo>
                    <a:pt x="39" y="295"/>
                  </a:lnTo>
                  <a:lnTo>
                    <a:pt x="45" y="314"/>
                  </a:lnTo>
                  <a:lnTo>
                    <a:pt x="52" y="333"/>
                  </a:lnTo>
                  <a:lnTo>
                    <a:pt x="52" y="352"/>
                  </a:lnTo>
                  <a:lnTo>
                    <a:pt x="52" y="372"/>
                  </a:lnTo>
                  <a:lnTo>
                    <a:pt x="52" y="391"/>
                  </a:lnTo>
                  <a:lnTo>
                    <a:pt x="52" y="410"/>
                  </a:lnTo>
                  <a:lnTo>
                    <a:pt x="52" y="429"/>
                  </a:lnTo>
                  <a:lnTo>
                    <a:pt x="52" y="449"/>
                  </a:lnTo>
                  <a:lnTo>
                    <a:pt x="52" y="468"/>
                  </a:lnTo>
                  <a:lnTo>
                    <a:pt x="52" y="487"/>
                  </a:lnTo>
                  <a:lnTo>
                    <a:pt x="52" y="506"/>
                  </a:lnTo>
                  <a:lnTo>
                    <a:pt x="59" y="526"/>
                  </a:lnTo>
                  <a:lnTo>
                    <a:pt x="59" y="545"/>
                  </a:lnTo>
                  <a:lnTo>
                    <a:pt x="59" y="564"/>
                  </a:lnTo>
                  <a:lnTo>
                    <a:pt x="59" y="583"/>
                  </a:lnTo>
                  <a:lnTo>
                    <a:pt x="65" y="603"/>
                  </a:lnTo>
                  <a:lnTo>
                    <a:pt x="72" y="622"/>
                  </a:lnTo>
                  <a:lnTo>
                    <a:pt x="85" y="641"/>
                  </a:lnTo>
                  <a:lnTo>
                    <a:pt x="105" y="648"/>
                  </a:lnTo>
                  <a:lnTo>
                    <a:pt x="124" y="660"/>
                  </a:lnTo>
                  <a:lnTo>
                    <a:pt x="144" y="667"/>
                  </a:lnTo>
                  <a:lnTo>
                    <a:pt x="164" y="673"/>
                  </a:lnTo>
                  <a:lnTo>
                    <a:pt x="183" y="673"/>
                  </a:lnTo>
                  <a:lnTo>
                    <a:pt x="203" y="680"/>
                  </a:lnTo>
                  <a:lnTo>
                    <a:pt x="223" y="686"/>
                  </a:lnTo>
                  <a:lnTo>
                    <a:pt x="242" y="686"/>
                  </a:lnTo>
                  <a:lnTo>
                    <a:pt x="262" y="692"/>
                  </a:lnTo>
                  <a:lnTo>
                    <a:pt x="288" y="699"/>
                  </a:lnTo>
                  <a:lnTo>
                    <a:pt x="308" y="705"/>
                  </a:lnTo>
                  <a:lnTo>
                    <a:pt x="328" y="705"/>
                  </a:lnTo>
                  <a:lnTo>
                    <a:pt x="347" y="718"/>
                  </a:lnTo>
                  <a:lnTo>
                    <a:pt x="367" y="725"/>
                  </a:lnTo>
                  <a:lnTo>
                    <a:pt x="387" y="725"/>
                  </a:lnTo>
                  <a:lnTo>
                    <a:pt x="407" y="725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11560" y="5432400"/>
              <a:ext cx="355680" cy="195120"/>
            </a:xfrm>
            <a:custGeom>
              <a:avLst/>
              <a:gdLst/>
              <a:ahLst/>
              <a:rect l="l" t="t" r="r" b="b"/>
              <a:pathLst>
                <a:path w="224" h="123">
                  <a:moveTo>
                    <a:pt x="0" y="0"/>
                  </a:moveTo>
                  <a:lnTo>
                    <a:pt x="27" y="0"/>
                  </a:lnTo>
                  <a:lnTo>
                    <a:pt x="40" y="24"/>
                  </a:lnTo>
                  <a:lnTo>
                    <a:pt x="60" y="32"/>
                  </a:lnTo>
                  <a:lnTo>
                    <a:pt x="81" y="32"/>
                  </a:lnTo>
                  <a:lnTo>
                    <a:pt x="101" y="40"/>
                  </a:lnTo>
                  <a:lnTo>
                    <a:pt x="121" y="56"/>
                  </a:lnTo>
                  <a:lnTo>
                    <a:pt x="141" y="73"/>
                  </a:lnTo>
                  <a:lnTo>
                    <a:pt x="162" y="89"/>
                  </a:lnTo>
                  <a:lnTo>
                    <a:pt x="182" y="105"/>
                  </a:lnTo>
                  <a:lnTo>
                    <a:pt x="202" y="113"/>
                  </a:lnTo>
                  <a:lnTo>
                    <a:pt x="223" y="122"/>
                  </a:lnTo>
                </a:path>
              </a:pathLst>
            </a:custGeom>
            <a:noFill/>
            <a:ln cap="rnd" w="255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92360" y="5473440"/>
              <a:ext cx="84240" cy="15408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0" y="0"/>
                  </a:moveTo>
                  <a:lnTo>
                    <a:pt x="6" y="25"/>
                  </a:lnTo>
                  <a:lnTo>
                    <a:pt x="26" y="38"/>
                  </a:lnTo>
                  <a:lnTo>
                    <a:pt x="32" y="57"/>
                  </a:lnTo>
                  <a:lnTo>
                    <a:pt x="45" y="76"/>
                  </a:lnTo>
                  <a:lnTo>
                    <a:pt x="52" y="96"/>
                  </a:lnTo>
                </a:path>
              </a:pathLst>
            </a:custGeom>
            <a:noFill/>
            <a:ln cap="rnd" w="255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92360" y="5464080"/>
              <a:ext cx="698760" cy="30240"/>
            </a:xfrm>
            <a:custGeom>
              <a:avLst/>
              <a:gdLst/>
              <a:ahLst/>
              <a:rect l="l" t="t" r="r" b="b"/>
              <a:pathLst>
                <a:path w="440" h="19">
                  <a:moveTo>
                    <a:pt x="0" y="0"/>
                  </a:moveTo>
                  <a:lnTo>
                    <a:pt x="27" y="0"/>
                  </a:lnTo>
                  <a:lnTo>
                    <a:pt x="47" y="0"/>
                  </a:lnTo>
                  <a:lnTo>
                    <a:pt x="67" y="0"/>
                  </a:lnTo>
                  <a:lnTo>
                    <a:pt x="87" y="0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0"/>
                  </a:lnTo>
                  <a:lnTo>
                    <a:pt x="168" y="6"/>
                  </a:lnTo>
                  <a:lnTo>
                    <a:pt x="189" y="12"/>
                  </a:lnTo>
                  <a:lnTo>
                    <a:pt x="216" y="18"/>
                  </a:lnTo>
                  <a:lnTo>
                    <a:pt x="236" y="18"/>
                  </a:lnTo>
                  <a:lnTo>
                    <a:pt x="256" y="18"/>
                  </a:lnTo>
                  <a:lnTo>
                    <a:pt x="276" y="18"/>
                  </a:lnTo>
                  <a:lnTo>
                    <a:pt x="297" y="18"/>
                  </a:lnTo>
                  <a:lnTo>
                    <a:pt x="317" y="18"/>
                  </a:lnTo>
                  <a:lnTo>
                    <a:pt x="337" y="18"/>
                  </a:lnTo>
                  <a:lnTo>
                    <a:pt x="357" y="12"/>
                  </a:lnTo>
                  <a:lnTo>
                    <a:pt x="378" y="12"/>
                  </a:lnTo>
                  <a:lnTo>
                    <a:pt x="398" y="12"/>
                  </a:lnTo>
                  <a:lnTo>
                    <a:pt x="418" y="12"/>
                  </a:lnTo>
                  <a:lnTo>
                    <a:pt x="439" y="12"/>
                  </a:lnTo>
                </a:path>
              </a:pathLst>
            </a:custGeom>
            <a:noFill/>
            <a:ln cap="rnd" w="255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84560" y="5454360"/>
              <a:ext cx="106560" cy="3204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0" y="0"/>
                  </a:moveTo>
                  <a:lnTo>
                    <a:pt x="26" y="6"/>
                  </a:lnTo>
                  <a:lnTo>
                    <a:pt x="46" y="12"/>
                  </a:lnTo>
                  <a:lnTo>
                    <a:pt x="66" y="19"/>
                  </a:lnTo>
                </a:path>
              </a:pathLst>
            </a:custGeom>
            <a:noFill/>
            <a:ln cap="rnd" w="1260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77960" y="5392440"/>
              <a:ext cx="635040" cy="41400"/>
            </a:xfrm>
            <a:custGeom>
              <a:avLst/>
              <a:gdLst/>
              <a:ahLst/>
              <a:rect l="l" t="t" r="r" b="b"/>
              <a:pathLst>
                <a:path w="400" h="26">
                  <a:moveTo>
                    <a:pt x="0" y="0"/>
                  </a:moveTo>
                  <a:lnTo>
                    <a:pt x="25" y="0"/>
                  </a:lnTo>
                  <a:lnTo>
                    <a:pt x="45" y="12"/>
                  </a:lnTo>
                  <a:lnTo>
                    <a:pt x="64" y="12"/>
                  </a:lnTo>
                  <a:lnTo>
                    <a:pt x="83" y="12"/>
                  </a:lnTo>
                  <a:lnTo>
                    <a:pt x="102" y="12"/>
                  </a:lnTo>
                  <a:lnTo>
                    <a:pt x="122" y="12"/>
                  </a:lnTo>
                  <a:lnTo>
                    <a:pt x="141" y="12"/>
                  </a:lnTo>
                  <a:lnTo>
                    <a:pt x="160" y="25"/>
                  </a:lnTo>
                  <a:lnTo>
                    <a:pt x="180" y="25"/>
                  </a:lnTo>
                  <a:lnTo>
                    <a:pt x="199" y="25"/>
                  </a:lnTo>
                  <a:lnTo>
                    <a:pt x="218" y="25"/>
                  </a:lnTo>
                  <a:lnTo>
                    <a:pt x="238" y="25"/>
                  </a:lnTo>
                  <a:lnTo>
                    <a:pt x="257" y="12"/>
                  </a:lnTo>
                  <a:lnTo>
                    <a:pt x="276" y="12"/>
                  </a:lnTo>
                  <a:lnTo>
                    <a:pt x="296" y="12"/>
                  </a:lnTo>
                  <a:lnTo>
                    <a:pt x="315" y="12"/>
                  </a:lnTo>
                  <a:lnTo>
                    <a:pt x="334" y="12"/>
                  </a:lnTo>
                  <a:lnTo>
                    <a:pt x="353" y="12"/>
                  </a:lnTo>
                  <a:lnTo>
                    <a:pt x="373" y="12"/>
                  </a:lnTo>
                  <a:lnTo>
                    <a:pt x="392" y="12"/>
                  </a:lnTo>
                  <a:lnTo>
                    <a:pt x="399" y="12"/>
                  </a:lnTo>
                </a:path>
              </a:pathLst>
            </a:custGeom>
            <a:noFill/>
            <a:ln cap="rnd" w="255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79920" y="4365360"/>
              <a:ext cx="396720" cy="122400"/>
            </a:xfrm>
            <a:custGeom>
              <a:avLst/>
              <a:gdLst/>
              <a:ahLst/>
              <a:rect l="l" t="t" r="r" b="b"/>
              <a:pathLst>
                <a:path w="250" h="77">
                  <a:moveTo>
                    <a:pt x="0" y="25"/>
                  </a:moveTo>
                  <a:lnTo>
                    <a:pt x="32" y="44"/>
                  </a:lnTo>
                  <a:lnTo>
                    <a:pt x="52" y="57"/>
                  </a:lnTo>
                  <a:lnTo>
                    <a:pt x="72" y="57"/>
                  </a:lnTo>
                  <a:lnTo>
                    <a:pt x="91" y="69"/>
                  </a:lnTo>
                  <a:lnTo>
                    <a:pt x="111" y="76"/>
                  </a:lnTo>
                  <a:lnTo>
                    <a:pt x="131" y="76"/>
                  </a:lnTo>
                  <a:lnTo>
                    <a:pt x="150" y="76"/>
                  </a:lnTo>
                  <a:lnTo>
                    <a:pt x="170" y="76"/>
                  </a:lnTo>
                  <a:lnTo>
                    <a:pt x="190" y="76"/>
                  </a:lnTo>
                  <a:lnTo>
                    <a:pt x="209" y="69"/>
                  </a:lnTo>
                  <a:lnTo>
                    <a:pt x="222" y="50"/>
                  </a:lnTo>
                  <a:lnTo>
                    <a:pt x="235" y="31"/>
                  </a:lnTo>
                  <a:lnTo>
                    <a:pt x="235" y="12"/>
                  </a:lnTo>
                  <a:lnTo>
                    <a:pt x="242" y="19"/>
                  </a:lnTo>
                  <a:lnTo>
                    <a:pt x="249" y="0"/>
                  </a:lnTo>
                </a:path>
              </a:pathLst>
            </a:custGeom>
            <a:noFill/>
            <a:ln cap="rnd" w="507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3480" y="452736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1"/>
                  </a:moveTo>
                  <a:lnTo>
                    <a:pt x="27" y="38"/>
                  </a:lnTo>
                  <a:lnTo>
                    <a:pt x="27" y="19"/>
                  </a:ln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Performance of Algorithm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hortest Path: tighlty bounded by M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M the number of desti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Greedy and KMB: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:  bounded by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-only: log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-leave: 2^M   (or 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09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Multicasting on Directed Graphs 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80920" y="1905120"/>
            <a:ext cx="52578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Real Networks: Directed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Maximum Asymmetry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max(e(v,w)/e(w,v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Min. Cost Tre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84760" y="5919840"/>
            <a:ext cx="357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ffe8"/>
                </a:solidFill>
                <a:latin typeface="Book Antiqua"/>
              </a:rPr>
              <a:t>Joint work: R. Pankaj, K.C. Sevcik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6680" y="2139840"/>
            <a:ext cx="21564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11240" y="3054240"/>
            <a:ext cx="216000" cy="2160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6680" y="358776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9680" y="358776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92480" y="2521080"/>
            <a:ext cx="215640" cy="2156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4560" y="3054240"/>
            <a:ext cx="216000" cy="2160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990360" y="2362320"/>
            <a:ext cx="685800" cy="761760"/>
          </a:xfrm>
          <a:prstGeom prst="line">
            <a:avLst/>
          </a:prstGeom>
          <a:ln w="1260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5840" y="2286000"/>
            <a:ext cx="1371240" cy="138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" y="11910"/>
                </a:moveTo>
                <a:arcTo wR="10800" hR="10800" stAng="10446015" swAng="5746036"/>
                <a:lnTo>
                  <a:pt x="10800" y="10800"/>
                </a:lnTo>
                <a:close/>
              </a:path>
              <a:path fill="none" w="21600" h="21600">
                <a:moveTo>
                  <a:pt x="57" y="11910"/>
                </a:moveTo>
                <a:arcTo wR="10800" hR="10800" stAng="10446015" swAng="5746036"/>
              </a:path>
            </a:pathLst>
          </a:custGeom>
          <a:noFill/>
          <a:ln cap="rnd" w="1260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88440" y="257508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640" y="2119320"/>
            <a:ext cx="54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95640" y="2211480"/>
            <a:ext cx="106632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8ff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4280" y="2057760"/>
            <a:ext cx="10659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2668680"/>
            <a:ext cx="758520" cy="60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3" y="16313"/>
                </a:moveTo>
                <a:arcTo wR="10800" hR="10800" stAng="8958304" swAng="7299076"/>
                <a:lnTo>
                  <a:pt x="10800" y="10800"/>
                </a:lnTo>
                <a:close/>
              </a:path>
              <a:path fill="none" w="21600" h="21600">
                <a:moveTo>
                  <a:pt x="1513" y="16313"/>
                </a:moveTo>
                <a:arcTo wR="10800" hR="10800" stAng="8958304" swAng="7299076"/>
              </a:path>
            </a:pathLst>
          </a:custGeom>
          <a:noFill/>
          <a:ln cap="rnd" w="50760">
            <a:solidFill>
              <a:srgbClr val="08ff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2362320"/>
            <a:ext cx="456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760" y="2592360"/>
            <a:ext cx="9136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8ff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40080" y="1828800"/>
            <a:ext cx="608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7960" y="3201840"/>
            <a:ext cx="4568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61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6127"/>
              </a:path>
            </a:pathLst>
          </a:custGeom>
          <a:noFill/>
          <a:ln cap="rnd" w="50760">
            <a:solidFill>
              <a:srgbClr val="08ff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560" y="2895840"/>
            <a:ext cx="6094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4280" y="3589920"/>
            <a:ext cx="1142280" cy="37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10" y="8316"/>
                </a:moveTo>
                <a:arcTo wR="10800" hR="10800" stAng="-797878" swAng="11744077"/>
                <a:lnTo>
                  <a:pt x="10800" y="10800"/>
                </a:lnTo>
                <a:close/>
              </a:path>
              <a:path fill="none" w="21600" h="21600">
                <a:moveTo>
                  <a:pt x="21310" y="8316"/>
                </a:moveTo>
                <a:arcTo wR="10800" hR="10800" stAng="-797878" swAng="11744077"/>
              </a:path>
            </a:pathLst>
          </a:custGeom>
          <a:noFill/>
          <a:ln cap="rnd"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828800" y="3733920"/>
            <a:ext cx="914400" cy="0"/>
          </a:xfrm>
          <a:prstGeom prst="line">
            <a:avLst/>
          </a:prstGeom>
          <a:ln w="1260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Overview of  Theoretical Result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hort. Paths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ght bound in all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Greedy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: Tight bound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-Only: Near-optimal online b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-Leave: Large lower 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[Faloutsos et al SIROCCO’97]</a:t>
            </a: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Our Results in Detail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0440" y="1943280"/>
          <a:ext cx="838836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943280"/>
                    <a:ext cx="838836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7200" y="3352680"/>
            <a:ext cx="8229600" cy="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4205160"/>
            <a:ext cx="8305920" cy="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5105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5181480"/>
            <a:ext cx="6553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er bound for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online algorithm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reedy at most log(M) to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online algorithm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1400" y="5165640"/>
            <a:ext cx="149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Join-Only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71240" y="3346560"/>
            <a:ext cx="177300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56840" y="4205160"/>
            <a:ext cx="180036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40040" y="2043000"/>
            <a:ext cx="0" cy="5540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37280" y="2028960"/>
            <a:ext cx="0" cy="5540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4560" y="2043000"/>
            <a:ext cx="0" cy="5270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71240" y="2508120"/>
            <a:ext cx="177300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057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Our Results: Graphical  Overview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58720" y="1600200"/>
          <a:ext cx="3794040" cy="42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600200"/>
                    <a:ext cx="379404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79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Static and Join-only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edy is good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-opti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Join-leave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edy  bad in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Why not combine into an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adaptive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algorithm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1320" y="4395960"/>
            <a:ext cx="46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2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8960" y="3633840"/>
            <a:ext cx="40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470320"/>
            <a:ext cx="808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A,2^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61760" y="4610160"/>
            <a:ext cx="75960" cy="0"/>
          </a:xfrm>
          <a:prstGeom prst="line">
            <a:avLst/>
          </a:prstGeom>
          <a:ln w="1260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2666880"/>
            <a:ext cx="75960" cy="0"/>
          </a:xfrm>
          <a:prstGeom prst="line">
            <a:avLst/>
          </a:prstGeom>
          <a:ln w="1260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3848040"/>
            <a:ext cx="75960" cy="0"/>
          </a:xfrm>
          <a:prstGeom prst="line">
            <a:avLst/>
          </a:prstGeom>
          <a:ln w="1260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343400" cy="4876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958320" y="5396040"/>
            <a:ext cx="752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This is just not effective…We need to  get some chains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84120" y="5821200"/>
            <a:ext cx="3142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buClr>
                <a:srgbClr val="99ff33"/>
              </a:buClr>
              <a:buFont typeface="Times New Roman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The Far Side -- G. Larson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Desirable Protocol Propertie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5040" y="1864800"/>
            <a:ext cx="7234200" cy="40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Easy to implement and deploy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vide high QoS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Use network resources efficiently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efficient tr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little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ize required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daptive - Flexibl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nternet Multicasting: Protocol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Breaking the Rule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nternet: no state per flow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ulticasting has state per each multicast group!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What Are The Issues?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out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-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-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eliable multicast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cure multicast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ddress space allocat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ulticast state aggregat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odeling and Simulating: realistic model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What Is The Real Issu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SPs do not want/care to deploy multicas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hicken and egg problem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s do not ask for multicastin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re are no multicast applicati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re is no support for multic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ulticast researchers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areful on what topic you cho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MBone: The multicast backbon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ome routers are multicast enabled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ese routers connect to each other with virtual edges (encapsulation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utlicast protocols and applications can be deployed on the MBon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Multicast Routing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outer Assisted: routers duplicate packet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VMRP: flood and pr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M/CBT: core based, shared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Specific Multicast: each source creates a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oS aware protocols: QoSMIC, QMR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pplication-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end-points (members) are aware of th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kets are duplicated at the members on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he PIM Protocol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38120" y="1827000"/>
            <a:ext cx="48769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ore deployed protoco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ased on a Core – Rendez-vous Poin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ased on Shortest Path Rout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ssue: selecting the cor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Not adaptiv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06680" y="3206880"/>
            <a:ext cx="215640" cy="21564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54040" y="4730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54240" y="48070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1752480"/>
            <a:ext cx="216000" cy="2160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28800" y="3352680"/>
            <a:ext cx="45720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600200" y="3505320"/>
            <a:ext cx="380880" cy="121896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0" y="3809880"/>
            <a:ext cx="228600" cy="60984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4419720"/>
            <a:ext cx="609480" cy="45720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981080" y="3581280"/>
            <a:ext cx="76320" cy="1676520"/>
          </a:xfrm>
          <a:prstGeom prst="line">
            <a:avLst/>
          </a:prstGeom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59000" y="5288040"/>
            <a:ext cx="666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6480" y="1523880"/>
            <a:ext cx="982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05120" y="525780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2057400"/>
            <a:ext cx="216000" cy="2160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752120" y="2209680"/>
            <a:ext cx="685800" cy="99072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0760" y="3048120"/>
            <a:ext cx="71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1905120"/>
            <a:ext cx="609840" cy="129528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Border Gateway Multicast Protocol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4035240"/>
            <a:ext cx="8145360" cy="20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Designed to be interdomain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Border Gateway Multicast Protocol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[Thaler 97]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er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est Paths Rou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s “own” multicast ad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44760" y="1530360"/>
            <a:ext cx="21600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92480" y="305424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92680" y="313056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73360" y="3664080"/>
            <a:ext cx="216000" cy="2156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1676520"/>
            <a:ext cx="45720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437920" y="1828800"/>
            <a:ext cx="381240" cy="121932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2133720"/>
            <a:ext cx="228600" cy="60948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2743200"/>
            <a:ext cx="609840" cy="45720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819160" y="1905120"/>
            <a:ext cx="75960" cy="1676160"/>
          </a:xfrm>
          <a:prstGeom prst="line">
            <a:avLst/>
          </a:prstGeom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97440" y="3611520"/>
            <a:ext cx="666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7960" y="1758960"/>
            <a:ext cx="21600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5880" y="335916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1905120"/>
            <a:ext cx="457200" cy="457200"/>
          </a:xfrm>
          <a:prstGeom prst="line">
            <a:avLst/>
          </a:prstGeom>
          <a:ln w="25560">
            <a:solidFill>
              <a:srgbClr val="99ff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2362320"/>
            <a:ext cx="228600" cy="609480"/>
          </a:xfrm>
          <a:prstGeom prst="line">
            <a:avLst/>
          </a:prstGeom>
          <a:ln w="255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2971800"/>
            <a:ext cx="609840" cy="457200"/>
          </a:xfrm>
          <a:prstGeom prst="line">
            <a:avLst/>
          </a:prstGeom>
          <a:ln w="255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7960" y="1859040"/>
            <a:ext cx="153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Shortest Path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25880" y="1417680"/>
            <a:ext cx="982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Yet Another Multicast Protocol: YAM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579480" y="1904760"/>
            <a:ext cx="53355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Yet Another Multicast protocol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[Carlberg97]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ultiple path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Use of 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static informat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Non scalable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od” of control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87600" y="4297320"/>
            <a:ext cx="666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06680" y="1911240"/>
            <a:ext cx="21564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8080" y="3435480"/>
            <a:ext cx="21564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8280" y="351144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8960" y="4349880"/>
            <a:ext cx="216000" cy="2156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2057400"/>
            <a:ext cx="45720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523520" y="2514600"/>
            <a:ext cx="685800" cy="99072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09680" y="2514600"/>
            <a:ext cx="228600" cy="60948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3124080"/>
            <a:ext cx="60984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3657600"/>
            <a:ext cx="304920" cy="762120"/>
          </a:xfrm>
          <a:prstGeom prst="line">
            <a:avLst/>
          </a:prstGeom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904760" y="3124080"/>
            <a:ext cx="533160" cy="1295640"/>
          </a:xfrm>
          <a:prstGeom prst="line">
            <a:avLst/>
          </a:prstGeom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981080" y="3733920"/>
            <a:ext cx="990720" cy="685800"/>
          </a:xfrm>
          <a:prstGeom prst="line">
            <a:avLst/>
          </a:prstGeom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5080" y="2749680"/>
            <a:ext cx="3340080" cy="3340080"/>
          </a:xfrm>
          <a:prstGeom prst="ellipse">
            <a:avLst/>
          </a:prstGeom>
          <a:noFill/>
          <a:ln w="12600">
            <a:solidFill>
              <a:srgbClr val="0eb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Our Protocol: QoSMIC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33"/>
                </a:solidFill>
                <a:latin typeface="Arial"/>
              </a:rPr>
              <a:t>QoS</a:t>
            </a:r>
            <a:r>
              <a:rPr b="1" lang="en-US" sz="22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ff33"/>
                </a:solidFill>
                <a:latin typeface="Arial"/>
              </a:rPr>
              <a:t>M</a:t>
            </a:r>
            <a:r>
              <a:rPr b="1" lang="en-US" sz="2200" spc="-1" strike="noStrike">
                <a:solidFill>
                  <a:srgbClr val="f3a70f"/>
                </a:solidFill>
                <a:latin typeface="Arial"/>
              </a:rPr>
              <a:t>ulticast </a:t>
            </a:r>
            <a:r>
              <a:rPr b="1" lang="en-US" sz="2200" spc="-1" strike="noStrike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3a70f"/>
                </a:solidFill>
                <a:latin typeface="Arial"/>
              </a:rPr>
              <a:t>nternet proto</a:t>
            </a:r>
            <a:r>
              <a:rPr b="1" lang="en-US" sz="22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1" lang="en-US" sz="2200" spc="-1" strike="noStrike">
                <a:solidFill>
                  <a:srgbClr val="f3a70f"/>
                </a:solidFill>
                <a:latin typeface="Arial"/>
              </a:rPr>
              <a:t>ol </a:t>
            </a:r>
            <a:r>
              <a:rPr b="0" lang="en-US" sz="1600" spc="-1" strike="noStrike">
                <a:solidFill>
                  <a:srgbClr val="99ff33"/>
                </a:solidFill>
                <a:latin typeface="Arial"/>
              </a:rPr>
              <a:t>[SIGCOMM’98]</a:t>
            </a:r>
            <a:endParaRPr b="1" lang="en-US" sz="16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Supports QoS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Uses dynamic information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QoSMIC: The Overview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Manager Router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. Search: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for Candidate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. Bid: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Candidates “Bid”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. Select: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ew chooses path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dynamic QoS in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20320" y="5767560"/>
            <a:ext cx="423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ffe8"/>
                </a:solidFill>
                <a:latin typeface="Book Antiqua"/>
              </a:rPr>
              <a:t>Joint work  with A. Banerjea, R. Pankaj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35280" y="2063880"/>
            <a:ext cx="215640" cy="21564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6680" y="358776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6880" y="3664080"/>
            <a:ext cx="21564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7560" y="4502160"/>
            <a:ext cx="216000" cy="2160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2209680"/>
            <a:ext cx="45720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752120" y="2666880"/>
            <a:ext cx="685800" cy="99072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2666880"/>
            <a:ext cx="228600" cy="60984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3276720"/>
            <a:ext cx="60984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3809880"/>
            <a:ext cx="304920" cy="762120"/>
          </a:xfrm>
          <a:prstGeom prst="line">
            <a:avLst/>
          </a:prstGeom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133360" y="3276720"/>
            <a:ext cx="533160" cy="1295280"/>
          </a:xfrm>
          <a:prstGeom prst="line">
            <a:avLst/>
          </a:prstGeom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09680" y="3886200"/>
            <a:ext cx="990720" cy="685800"/>
          </a:xfrm>
          <a:prstGeom prst="line">
            <a:avLst/>
          </a:prstGeom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4560" y="2292480"/>
            <a:ext cx="216000" cy="215640"/>
          </a:xfrm>
          <a:prstGeom prst="ellipse">
            <a:avLst/>
          </a:prstGeom>
          <a:solidFill>
            <a:srgbClr val="00ff66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3760" y="1854360"/>
            <a:ext cx="127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6680" y="3587760"/>
            <a:ext cx="215640" cy="2160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12040" y="2597040"/>
            <a:ext cx="216000" cy="2160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21080" y="3206880"/>
            <a:ext cx="215640" cy="21564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6880" y="3664080"/>
            <a:ext cx="215640" cy="21564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22920" y="463248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Book Antiqua"/>
              </a:rPr>
              <a:t>New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1828800"/>
            <a:ext cx="45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.  Local Search (costly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I. Multicast Tree Search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id messages collect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dynamic informatio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35280" y="2063880"/>
            <a:ext cx="215640" cy="21564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06680" y="358776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6880" y="3664080"/>
            <a:ext cx="21564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87560" y="4502160"/>
            <a:ext cx="216000" cy="2160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81080" y="2209680"/>
            <a:ext cx="457200" cy="457200"/>
          </a:xfrm>
          <a:prstGeom prst="line">
            <a:avLst/>
          </a:prstGeom>
          <a:ln w="25560">
            <a:solidFill>
              <a:srgbClr val="f50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752120" y="3200400"/>
            <a:ext cx="30492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2666880"/>
            <a:ext cx="228600" cy="609840"/>
          </a:xfrm>
          <a:prstGeom prst="line">
            <a:avLst/>
          </a:prstGeom>
          <a:ln w="25560">
            <a:solidFill>
              <a:srgbClr val="f9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276720"/>
            <a:ext cx="60984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QoSMIC: Search and Bid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44560" y="2292480"/>
            <a:ext cx="216000" cy="215640"/>
          </a:xfrm>
          <a:prstGeom prst="ellipse">
            <a:avLst/>
          </a:prstGeom>
          <a:solidFill>
            <a:srgbClr val="00ff66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73160" y="3587760"/>
            <a:ext cx="2120760" cy="212076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3560" y="1753560"/>
            <a:ext cx="2438280" cy="289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70217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7021787"/>
              </a:path>
            </a:pathLst>
          </a:custGeom>
          <a:noFill/>
          <a:ln cap="rnd"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990720" y="2209320"/>
            <a:ext cx="838080" cy="2286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057400" y="2666880"/>
            <a:ext cx="380880" cy="533520"/>
          </a:xfrm>
          <a:prstGeom prst="line">
            <a:avLst/>
          </a:prstGeom>
          <a:ln w="25560">
            <a:solidFill>
              <a:srgbClr val="f9111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286000" y="3276720"/>
            <a:ext cx="380880" cy="83808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867800" y="3119400"/>
            <a:ext cx="533160" cy="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0" y="1952640"/>
            <a:ext cx="292320" cy="29196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8312040" y="2592360"/>
            <a:ext cx="476280" cy="7920"/>
          </a:xfrm>
          <a:prstGeom prst="line">
            <a:avLst/>
          </a:prstGeom>
          <a:ln w="25560">
            <a:solidFill>
              <a:srgbClr val="f9111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52480" y="3809880"/>
            <a:ext cx="228600" cy="45720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6640" y="1812960"/>
            <a:ext cx="127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66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03560" y="2203560"/>
            <a:ext cx="495324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In Searching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Traff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cal  and/or  M. Tree Search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In Routing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Traff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reedy  and/or Short. Path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 run time according to application need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35280" y="2063880"/>
            <a:ext cx="215640" cy="21564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6680" y="358776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6880" y="3664080"/>
            <a:ext cx="21564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87560" y="4502160"/>
            <a:ext cx="216000" cy="2160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81080" y="2209680"/>
            <a:ext cx="457200" cy="457200"/>
          </a:xfrm>
          <a:prstGeom prst="line">
            <a:avLst/>
          </a:prstGeom>
          <a:ln w="25560">
            <a:solidFill>
              <a:srgbClr val="f50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752120" y="3200400"/>
            <a:ext cx="30492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2666880"/>
            <a:ext cx="228600" cy="609840"/>
          </a:xfrm>
          <a:prstGeom prst="line">
            <a:avLst/>
          </a:prstGeom>
          <a:ln w="25560">
            <a:solidFill>
              <a:srgbClr val="f9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66880" y="3276720"/>
            <a:ext cx="60984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QoSMIC: Flexible-Adaptabl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44560" y="2292480"/>
            <a:ext cx="216000" cy="215640"/>
          </a:xfrm>
          <a:prstGeom prst="ellipse">
            <a:avLst/>
          </a:prstGeom>
          <a:solidFill>
            <a:srgbClr val="00ff66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28640" y="4168800"/>
            <a:ext cx="941400" cy="91584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057400" y="2666880"/>
            <a:ext cx="380880" cy="533520"/>
          </a:xfrm>
          <a:prstGeom prst="line">
            <a:avLst/>
          </a:prstGeom>
          <a:ln w="25560">
            <a:solidFill>
              <a:srgbClr val="f9111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286000" y="3276720"/>
            <a:ext cx="380880" cy="83808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6640" y="1812960"/>
            <a:ext cx="127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66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he Multicast Problem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GIVEN: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etwork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GIVEN: User Requests (and quality requirements)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ESTABLISH: </a:t>
            </a:r>
            <a:r>
              <a:rPr b="1" lang="en-US" sz="2400" spc="-1" strike="noStrike" u="sng">
                <a:solidFill>
                  <a:srgbClr val="f3a70f"/>
                </a:solidFill>
                <a:uFillTx/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distribution tree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753160" y="2827440"/>
          <a:ext cx="63972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53160" y="2827440"/>
                    <a:ext cx="6397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032280" y="1574640"/>
          <a:ext cx="739800" cy="59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32280" y="1574640"/>
                    <a:ext cx="7398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134040" y="3075120"/>
          <a:ext cx="533520" cy="40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34040" y="3075120"/>
                    <a:ext cx="5335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468520" y="2284560"/>
          <a:ext cx="922320" cy="712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68520" y="2284560"/>
                    <a:ext cx="9223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816600" y="1596960"/>
          <a:ext cx="798480" cy="84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16600" y="1596960"/>
                    <a:ext cx="7984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575080" y="3251160"/>
          <a:ext cx="739800" cy="59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75080" y="3251160"/>
                    <a:ext cx="7398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241960" y="3708360"/>
          <a:ext cx="739800" cy="590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241960" y="3708360"/>
                    <a:ext cx="7398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695760" y="2108160"/>
            <a:ext cx="304920" cy="228600"/>
          </a:xfrm>
          <a:prstGeom prst="line">
            <a:avLst/>
          </a:prstGeom>
          <a:ln w="76320">
            <a:solidFill>
              <a:srgbClr val="08ff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14880" y="3479400"/>
            <a:ext cx="304560" cy="2286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15080" y="3784680"/>
            <a:ext cx="380880" cy="2286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67160" y="2717640"/>
            <a:ext cx="380880" cy="15264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3174840"/>
            <a:ext cx="457200" cy="152640"/>
          </a:xfrm>
          <a:prstGeom prst="line">
            <a:avLst/>
          </a:prstGeom>
          <a:ln w="76320">
            <a:solidFill>
              <a:srgbClr val="08ff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619440" y="2869920"/>
            <a:ext cx="228600" cy="60948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619440" y="3403440"/>
            <a:ext cx="762120" cy="7632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15080" y="3174840"/>
            <a:ext cx="304560" cy="60984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924360" y="3936600"/>
            <a:ext cx="304920" cy="228600"/>
          </a:xfrm>
          <a:prstGeom prst="line">
            <a:avLst/>
          </a:prstGeom>
          <a:ln w="76320">
            <a:solidFill>
              <a:srgbClr val="08ff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848040" y="2641320"/>
            <a:ext cx="381240" cy="2286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2260440"/>
            <a:ext cx="304920" cy="381240"/>
          </a:xfrm>
          <a:prstGeom prst="line">
            <a:avLst/>
          </a:prstGeom>
          <a:ln w="76320">
            <a:solidFill>
              <a:srgbClr val="08ff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29280" y="2641680"/>
            <a:ext cx="152280" cy="761760"/>
          </a:xfrm>
          <a:prstGeom prst="line">
            <a:avLst/>
          </a:prstGeom>
          <a:ln w="76320">
            <a:solidFill>
              <a:srgbClr val="20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60880" y="3860640"/>
          <a:ext cx="739800" cy="590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60880" y="3860640"/>
                    <a:ext cx="7398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229280" y="2641680"/>
            <a:ext cx="990360" cy="53316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381560" y="3174480"/>
            <a:ext cx="838080" cy="228600"/>
          </a:xfrm>
          <a:prstGeom prst="line">
            <a:avLst/>
          </a:prstGeom>
          <a:ln w="76320">
            <a:solidFill>
              <a:srgbClr val="11ce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81560" y="3403440"/>
            <a:ext cx="533520" cy="381240"/>
          </a:xfrm>
          <a:prstGeom prst="line">
            <a:avLst/>
          </a:prstGeom>
          <a:ln w="76320">
            <a:solidFill>
              <a:srgbClr val="08ff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152960" y="3784320"/>
            <a:ext cx="685800" cy="152280"/>
          </a:xfrm>
          <a:prstGeom prst="line">
            <a:avLst/>
          </a:prstGeom>
          <a:ln w="76320">
            <a:solidFill>
              <a:srgbClr val="08ff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619440" y="3479760"/>
            <a:ext cx="60984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71840" y="1203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ome Simulation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ompare routing efficiency with BGMP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e cost = Sum of link-weigh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ompare message complexity with YAM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ontrol messages of  search ph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471920" y="4632480"/>
            <a:ext cx="2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he Simulation Set-up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uild a simulator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eal Graph: Major Internet routers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Casner93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Weighted asymmetric graph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imulation Precision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%-confidence interval  &lt;10% of shown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he Simulated Algorithm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29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Offline: greedy for referenc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P: Shortest Path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MP: Reverse Shortest Path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QoSMIC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ree Cost Vs Group Siz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217520" y="1031760"/>
          <a:ext cx="566748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1031760"/>
                    <a:ext cx="566748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693432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QoSMIC  up to 40%  better than BGMP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11120" y="4065480"/>
            <a:ext cx="154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Asym = 10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ree Cost Vs Asymmetry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39840" y="5543280"/>
            <a:ext cx="685800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QoSMIC up to 60% better than BGMP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112760" y="1587600"/>
          <a:ext cx="5653080" cy="403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2760" y="1587600"/>
                    <a:ext cx="56530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Joinning Distance Distribution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601640" y="1841400"/>
          <a:ext cx="4778640" cy="372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841400"/>
                    <a:ext cx="4778640" cy="37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Even 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small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Local Search is good (2 h - 55% joins)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Large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Local Search (8 h) to cover for ALL case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34280" y="2193840"/>
            <a:ext cx="207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roup Density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1-15 %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87120"/>
            <a:ext cx="805968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earch Message Complexity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901800" y="1671480"/>
          <a:ext cx="6094440" cy="314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671480"/>
                    <a:ext cx="609444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18960" y="4842000"/>
            <a:ext cx="7467480" cy="102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YAM  has to have large  Local Search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QoSMIC can keep LS small  </a:t>
            </a:r>
            <a:r>
              <a:rPr b="1" lang="en-US" sz="2400" spc="-1" strike="noStrike">
                <a:solidFill>
                  <a:srgbClr val="f3a70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286680" y="3611520"/>
            <a:ext cx="2703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Over-estimate of both protocol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638680" y="5562360"/>
            <a:ext cx="400320" cy="468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QoSMIC: The Claim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9880" y="2529000"/>
            <a:ext cx="719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&lt;&lt; QoSMIC routes in a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QoS-sensitive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way,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nd is 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more efficient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 even than the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on QoS-sensitive protocols &gt;&gt;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Why Isn’t QoSMIC the Standard?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mplementation complexit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calability and message complexit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Needs industry and IETF suppor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imeliness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people look at other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Generalizing QoSMIC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QoSMIC as a set of searching procedur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loo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rect 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 mechanism to search for points of interes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s, caches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ossible application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server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-hoc networks: searching for a dest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What is The Need for Multicasting?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33560" y="1827000"/>
            <a:ext cx="49496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Use bandwidth efficiently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plicate packets only when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Simply put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links can not support multiple flows of the sam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01960" y="2203560"/>
            <a:ext cx="215640" cy="21564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68440" y="37274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11440" y="37274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82840" y="3811680"/>
            <a:ext cx="277920" cy="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717200" y="3770280"/>
            <a:ext cx="430200" cy="1260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438280"/>
            <a:ext cx="110880" cy="126072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52800" y="369252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518148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34340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3809880"/>
            <a:ext cx="152640" cy="68580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495680"/>
            <a:ext cx="152640" cy="76212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2362320"/>
            <a:ext cx="520920" cy="1218960"/>
          </a:xfrm>
          <a:custGeom>
            <a:avLst/>
            <a:gdLst/>
            <a:ahLst/>
            <a:rect l="l" t="t" r="r" b="b"/>
            <a:pathLst>
              <a:path w="328" h="768">
                <a:moveTo>
                  <a:pt x="192" y="0"/>
                </a:moveTo>
                <a:cubicBezTo>
                  <a:pt x="208" y="20"/>
                  <a:pt x="224" y="40"/>
                  <a:pt x="240" y="144"/>
                </a:cubicBezTo>
                <a:cubicBezTo>
                  <a:pt x="256" y="248"/>
                  <a:pt x="328" y="520"/>
                  <a:pt x="288" y="624"/>
                </a:cubicBezTo>
                <a:cubicBezTo>
                  <a:pt x="248" y="728"/>
                  <a:pt x="124" y="748"/>
                  <a:pt x="0" y="768"/>
                </a:cubicBezTo>
              </a:path>
            </a:pathLst>
          </a:custGeom>
          <a:noFill/>
          <a:ln w="41400">
            <a:solidFill>
              <a:srgbClr val="ffccc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85280" y="2438280"/>
            <a:ext cx="368280" cy="1219320"/>
          </a:xfrm>
          <a:custGeom>
            <a:avLst/>
            <a:gdLst/>
            <a:ahLst/>
            <a:rect l="l" t="t" r="r" b="b"/>
            <a:pathLst>
              <a:path w="328" h="768">
                <a:moveTo>
                  <a:pt x="192" y="0"/>
                </a:moveTo>
                <a:cubicBezTo>
                  <a:pt x="208" y="20"/>
                  <a:pt x="224" y="40"/>
                  <a:pt x="240" y="144"/>
                </a:cubicBezTo>
                <a:cubicBezTo>
                  <a:pt x="256" y="248"/>
                  <a:pt x="328" y="520"/>
                  <a:pt x="288" y="624"/>
                </a:cubicBezTo>
                <a:cubicBezTo>
                  <a:pt x="248" y="728"/>
                  <a:pt x="124" y="748"/>
                  <a:pt x="0" y="768"/>
                </a:cubicBezTo>
              </a:path>
            </a:pathLst>
          </a:custGeom>
          <a:noFill/>
          <a:ln w="41400">
            <a:solidFill>
              <a:srgbClr val="ffccc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6360" y="2514600"/>
            <a:ext cx="165240" cy="2590920"/>
          </a:xfrm>
          <a:custGeom>
            <a:avLst/>
            <a:gdLst/>
            <a:ahLst/>
            <a:rect l="l" t="t" r="r" b="b"/>
            <a:pathLst>
              <a:path w="328" h="768">
                <a:moveTo>
                  <a:pt x="192" y="0"/>
                </a:moveTo>
                <a:cubicBezTo>
                  <a:pt x="208" y="20"/>
                  <a:pt x="224" y="40"/>
                  <a:pt x="240" y="144"/>
                </a:cubicBezTo>
                <a:cubicBezTo>
                  <a:pt x="256" y="248"/>
                  <a:pt x="328" y="520"/>
                  <a:pt x="288" y="624"/>
                </a:cubicBezTo>
                <a:cubicBezTo>
                  <a:pt x="248" y="728"/>
                  <a:pt x="124" y="748"/>
                  <a:pt x="0" y="768"/>
                </a:cubicBezTo>
              </a:path>
            </a:pathLst>
          </a:custGeom>
          <a:noFill/>
          <a:ln w="41400">
            <a:solidFill>
              <a:srgbClr val="ffccc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2971800"/>
            <a:ext cx="10666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5640" y="2789280"/>
            <a:ext cx="1509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3 times th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traffic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13000" y="268200"/>
            <a:ext cx="750240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QoSMIC: More QoS support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38160" y="4275000"/>
            <a:ext cx="654372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ultiple sources per group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nect directly to the source to improve   end-to-end Qo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958680" y="1389240"/>
            <a:ext cx="2961000" cy="2365200"/>
            <a:chOff x="958680" y="1389240"/>
            <a:chExt cx="2961000" cy="2365200"/>
          </a:xfrm>
        </p:grpSpPr>
        <p:sp>
          <p:nvSpPr>
            <p:cNvPr id="497" name=""/>
            <p:cNvSpPr/>
            <p:nvPr/>
          </p:nvSpPr>
          <p:spPr>
            <a:xfrm>
              <a:off x="1927080" y="1938240"/>
              <a:ext cx="217800" cy="216000"/>
            </a:xfrm>
            <a:prstGeom prst="ellipse">
              <a:avLst/>
            </a:prstGeom>
            <a:solidFill>
              <a:srgbClr val="e90042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8480" y="3462480"/>
              <a:ext cx="216000" cy="215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01920" y="3538440"/>
              <a:ext cx="216000" cy="21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75040" y="2084400"/>
              <a:ext cx="457200" cy="4572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844280" y="3075120"/>
              <a:ext cx="306360" cy="4572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32240" y="2541600"/>
              <a:ext cx="228600" cy="6094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60840" y="3151080"/>
              <a:ext cx="609480" cy="4572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150640" y="2541600"/>
              <a:ext cx="381240" cy="5335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46480" y="2201760"/>
              <a:ext cx="214200" cy="216000"/>
            </a:xfrm>
            <a:prstGeom prst="ellipse">
              <a:avLst/>
            </a:prstGeom>
            <a:solidFill>
              <a:srgbClr val="e90042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2544480" y="2374920"/>
              <a:ext cx="695160" cy="208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33840" y="1389240"/>
              <a:ext cx="1236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ff33"/>
                  </a:solidFill>
                  <a:latin typeface="Times New Roman"/>
                </a:rPr>
                <a:t>source-1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83080" y="1792440"/>
              <a:ext cx="1236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ff33"/>
                  </a:solidFill>
                  <a:latin typeface="Times New Roman"/>
                </a:rPr>
                <a:t>source-2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58680" y="3035160"/>
              <a:ext cx="216000" cy="21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1095480" y="3179520"/>
              <a:ext cx="650880" cy="3618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691520" y="2084400"/>
            <a:ext cx="117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-1 only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80120" y="285264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5467320" y="2928600"/>
            <a:ext cx="573120" cy="430200"/>
          </a:xfrm>
          <a:prstGeom prst="line">
            <a:avLst/>
          </a:prstGeom>
          <a:ln w="255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213600" y="1758960"/>
            <a:ext cx="21564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85000" y="328284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85200" y="335916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59400" y="1905120"/>
            <a:ext cx="457200" cy="45720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130440" y="2895480"/>
            <a:ext cx="304920" cy="457200"/>
          </a:xfrm>
          <a:prstGeom prst="line">
            <a:avLst/>
          </a:prstGeom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16600" y="2362320"/>
            <a:ext cx="228600" cy="609480"/>
          </a:xfrm>
          <a:prstGeom prst="line">
            <a:avLst/>
          </a:prstGeom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5200" y="2971800"/>
            <a:ext cx="609840" cy="457200"/>
          </a:xfrm>
          <a:prstGeom prst="line">
            <a:avLst/>
          </a:prstGeom>
          <a:ln w="1015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435720" y="2376360"/>
            <a:ext cx="380880" cy="533520"/>
          </a:xfrm>
          <a:prstGeom prst="line">
            <a:avLst/>
          </a:prstGeom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529400" y="2022480"/>
            <a:ext cx="21600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830640" y="2195640"/>
            <a:ext cx="692280" cy="207720"/>
          </a:xfrm>
          <a:prstGeom prst="line">
            <a:avLst/>
          </a:prstGeom>
          <a:ln w="25560">
            <a:solidFill>
              <a:srgbClr val="f9111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402160" y="1931760"/>
            <a:ext cx="930240" cy="928440"/>
          </a:xfrm>
          <a:prstGeom prst="line">
            <a:avLst/>
          </a:prstGeom>
          <a:ln w="25560">
            <a:solidFill>
              <a:srgbClr val="99ff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94760" y="3484440"/>
            <a:ext cx="114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top s-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83400" y="1335240"/>
            <a:ext cx="123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ource-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12240" y="1600200"/>
            <a:ext cx="123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ource-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46760" y="3178080"/>
            <a:ext cx="223920" cy="347760"/>
          </a:xfrm>
          <a:custGeom>
            <a:avLst/>
            <a:gdLst/>
            <a:ahLst/>
            <a:rect l="l" t="t" r="r" b="b"/>
            <a:pathLst>
              <a:path w="141" h="219">
                <a:moveTo>
                  <a:pt x="140" y="0"/>
                </a:moveTo>
                <a:lnTo>
                  <a:pt x="105" y="9"/>
                </a:lnTo>
                <a:lnTo>
                  <a:pt x="87" y="18"/>
                </a:lnTo>
                <a:lnTo>
                  <a:pt x="70" y="44"/>
                </a:lnTo>
                <a:lnTo>
                  <a:pt x="52" y="61"/>
                </a:lnTo>
                <a:lnTo>
                  <a:pt x="44" y="79"/>
                </a:lnTo>
                <a:lnTo>
                  <a:pt x="26" y="96"/>
                </a:lnTo>
                <a:lnTo>
                  <a:pt x="26" y="114"/>
                </a:lnTo>
                <a:lnTo>
                  <a:pt x="18" y="140"/>
                </a:lnTo>
                <a:lnTo>
                  <a:pt x="9" y="166"/>
                </a:lnTo>
                <a:lnTo>
                  <a:pt x="0" y="184"/>
                </a:lnTo>
                <a:lnTo>
                  <a:pt x="0" y="210"/>
                </a:lnTo>
                <a:lnTo>
                  <a:pt x="18" y="218"/>
                </a:lnTo>
              </a:path>
            </a:pathLst>
          </a:custGeom>
          <a:noFill/>
          <a:ln cap="rnd" w="507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066320" y="2071800"/>
            <a:ext cx="900360" cy="1011240"/>
          </a:xfrm>
          <a:prstGeom prst="line">
            <a:avLst/>
          </a:prstGeom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What Is Efficient?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calabl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cas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ontrol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Use network bandwidth efficientl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eet end-to-end performance requirement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2e Delay: from source to desti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ome Theory on Multicast Routing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U. of  Toront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cedd"/>
                </a:solidFill>
                <a:latin typeface="Times New Roman"/>
              </a:rPr>
              <a:t>Michalis Faloutso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Multicast Routing Algorithm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492408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P-complete problem </a:t>
            </a: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[Dreyfus72]</a:t>
            </a:r>
            <a:endParaRPr b="1" lang="en-US" sz="16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elated to the Steiner tree problem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Approximation algorithms have practical interes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2063880"/>
            <a:ext cx="215640" cy="21564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30360" y="3587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73360" y="3587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2286000"/>
            <a:ext cx="533520" cy="129528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76520" y="2286000"/>
            <a:ext cx="457200" cy="129528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21280" y="2139840"/>
            <a:ext cx="21564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7760" y="36640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0760" y="36640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92680" y="3206880"/>
            <a:ext cx="512640" cy="45720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733920" y="2362320"/>
            <a:ext cx="457200" cy="129528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7280" y="2139840"/>
            <a:ext cx="21564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73760" y="36640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6760" y="36640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8160" y="3747960"/>
            <a:ext cx="277920" cy="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122520" y="3706920"/>
            <a:ext cx="430200" cy="1260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39040" y="2374920"/>
            <a:ext cx="110880" cy="126036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2280" y="4195800"/>
            <a:ext cx="192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hortest Path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6440" y="425124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reedy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60960" y="425124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ptima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8200" y="1976400"/>
            <a:ext cx="85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8800" y="3417840"/>
            <a:ext cx="140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destination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93840" y="358632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367020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8120" y="3629160"/>
            <a:ext cx="21564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12640" y="2639880"/>
            <a:ext cx="42840" cy="92736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29160" y="3773520"/>
            <a:ext cx="222120" cy="1440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A Greedy Variation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Known as KMB 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[Kou Markowski Berman 81]</a:t>
            </a: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Greedy: connect to nearest point on the tre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KMB: connect to nearest group member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emingly: KMB is less efficient that Greed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urprisingly: KMB is just as efficient!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Multicast Bound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ounds for Greedy and Sh. Paths w.r.t.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 asymmetry: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join requests: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titive Ratio of tree cost:  Algorithm/Opt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roblem Variations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: members know ahead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-Only: members join random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-Leave: members join and leave random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17:35:31Z</dcterms:created>
  <dc:creator>default</dc:creator>
  <dc:description/>
  <dc:language>en-US</dc:language>
  <cp:lastModifiedBy>default</cp:lastModifiedBy>
  <dcterms:modified xsi:type="dcterms:W3CDTF">2002-05-07T19:15:38Z</dcterms:modified>
  <cp:revision>42</cp:revision>
  <dc:subject/>
  <dc:title>Internet Multicasting</dc:title>
</cp:coreProperties>
</file>