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B87-EE39-4C3B-AA4B-0D89E4FB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A89-7FE2-4834-9F7E-0ACD91B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3A6-D4AA-444C-A6A6-2498E09D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E43-A3F0-4A1A-A351-C9A31508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0377-548A-4E21-A90C-72A1D27A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0B07-953B-4093-8BF1-E44CAE4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790F-FA00-4F39-BF24-95225731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9EE1-3C00-4A34-9CC5-7D66DE7D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651F-11D7-47F5-880B-4CDAD80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2E7B-28D6-4ABC-ABF4-F1050EC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6E55-4E61-4532-94AD-11ADF22B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895-285A-44C8-BB73-99F0B1D5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179-625E-4125-BF9A-8E94467D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6436-735B-42A0-8EC2-260ED92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0B0A-0968-4B4E-AC5B-2F86BAD3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112-83A9-4EE5-BC5D-B01E3C52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C569-65B6-4F59-9C9E-F1FF53DD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DAB-E386-42A2-85F7-A216B1D0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DCC-1ED4-452F-B2B8-4E995702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326-B63A-4472-81D3-D466107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35C-4051-4205-882E-D7E0AD1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054-C095-43B0-8500-9E935B8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E48-BAC0-4F38-84CF-E670EEC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85F-59B2-47B3-ACD8-EA1313E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110B-7896-4B4F-83B4-DED7E3DFB980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UCR" descr=""/>
          <p:cNvPicPr/>
          <p:nvPr/>
        </p:nvPicPr>
        <p:blipFill>
          <a:blip r:embed="rId3"/>
          <a:stretch/>
        </p:blipFill>
        <p:spPr>
          <a:xfrm>
            <a:off x="106200" y="6400800"/>
            <a:ext cx="157032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6400800"/>
            <a:ext cx="16002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69C-C133-4D01-BF79-C68377B8E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33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Book Antiqu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ucr.edu/~michali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S 204: Advanced Networks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Michalis Faloutso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Arial"/>
                <a:hlinkClick r:id="rId1"/>
              </a:rPr>
              <a:t>www.cs.ucr.edu/~michali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3EC5-1F62-4F8B-A078-AAFA86D1C0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y Expectation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 see you as colleagu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iv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LEASE HELP ME TO CONTINUE TO SEE YOU THIS WA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6FE-F50A-4C8C-8324-F92170CB39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Logistic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u 15 Oct : project proposal (2-4 pages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u 5 Nov  :  literature survey (5-7 pages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u 10 Dec:  final project (15-20 pages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o 9 - Fri 13 Dec: Project Presentations (20’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ocuments: 11pt, full page, 1.5 spac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57D-F809-47BA-ADFF-27F048C98E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roject Area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nternet measuremen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ing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ng existing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odeling the Network Topolog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ulticasting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virtual 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d hoc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eer-to-peer network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BE0-EAEE-42F2-A119-B01A9B3C7833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oda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rmat of the clas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y expectation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ntroduction to the introducti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28D-D879-4FE9-AF59-34F88A5F1E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cope of the Clas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Quick (very quick) reminder of ugrad Network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cus on some advanced topic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measurement and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c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GP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-to-pee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13A-F8A9-4463-B14E-A09BF03B1E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tudent Evalua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20% Class participation - presentation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20% Homework - quiz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60% serious projec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 main interest: the project.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64A-AC45-4AA2-83F3-5E33A1058C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peaking of Project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t is the main focu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t is a practice for a thesi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Groups of two (no threesomes!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B45-69D8-4563-BDFA-17EA793F4D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tarting The Projec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ntify an area of interes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ntify a good topic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has to be one fundamental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n important/interesting ques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t a feasible task? (break it d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o the background work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ll important previous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o the work (feedback loop, branch and bound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C87-0632-411C-81A0-446361B7AD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ips for the Project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tart looking for a topic earl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Use m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dentify a feasible well-defined topic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Use your time efficientl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ave a pla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Keep the perspectiv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283-65C9-45ED-8E16-14E7580C08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y Dream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rojects should be on an interesting topic providing something novel such th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y could be considered a research work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.e.  With a little bit of extra work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) the could be published in a conferenc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b) they could be half of you  master’s thesi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221-38AD-46B5-8FB6-D5A2B88A45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Your Dream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Learn something ne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roduce a novel piece of work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Enjoy payed vacations by going to a conferenc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lis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9C1-ED6C-44BA-8A57-3208A65A26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9:58:47Z</dcterms:created>
  <dc:creator>Michalis Faloutsos</dc:creator>
  <dc:description/>
  <dc:language>en-US</dc:language>
  <cp:lastModifiedBy>Michalis Faloutsos</cp:lastModifiedBy>
  <dcterms:modified xsi:type="dcterms:W3CDTF">2002-09-26T20:36:51Z</dcterms:modified>
  <cp:revision>32</cp:revision>
  <dc:subject/>
  <dc:title>CS 204: Advanced Networks</dc:title>
</cp:coreProperties>
</file>