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809-07A6-4CDD-B4D1-57C2B19A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635-E8D9-4671-955B-BB312363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F6A-35A4-4F0A-BCEA-5B838EBB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0AC-FEDB-4E7C-871C-95AC077A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CC36-E0EE-4C8B-B1CD-BA9B9740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5AD6-8AC0-4A76-B68D-DC5674B6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06BA-367E-4ADC-B419-3D8BEA58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1B95-1834-4240-8871-F7CF3AA3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48D4-B560-45E4-B692-6F62F4F1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5400" y="87120"/>
            <a:ext cx="8226360" cy="48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02A8-E992-460D-8F4D-C055F409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39F9-0B0B-42B2-9A3C-603C4684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C74C-50D1-4814-887C-FD98B739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383E-F83F-46E3-A64A-BB8201F4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0856-9010-4486-9CD2-1D4213C1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311D-4933-4641-9A81-91D27EEC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45BC-37D8-4509-8B95-9FB58343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820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956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820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956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03AB-025F-40C4-9ECD-911268F0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5CD-1F67-4433-9BF9-3C78C977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9BB-D634-4C15-B806-CB23A699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97D-7997-44B5-960A-3AF646A1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5400" y="87120"/>
            <a:ext cx="8226360" cy="48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804-5EED-45F9-8A71-EFE88AB3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0E7-F60E-4076-9F5A-813FBEB8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DD6-8BD6-448A-8C41-4FC291C1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FF6-AB95-479F-88EB-E6A0E48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ff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ff3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168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A004-AA61-4E05-A87C-4FC5437345B5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UCR" descr=""/>
          <p:cNvPicPr/>
          <p:nvPr/>
        </p:nvPicPr>
        <p:blipFill>
          <a:blip r:embed="rId3"/>
          <a:stretch/>
        </p:blipFill>
        <p:spPr>
          <a:xfrm>
            <a:off x="106200" y="6389640"/>
            <a:ext cx="152424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23660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8000" y="6370560"/>
            <a:ext cx="1523880" cy="3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6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F478-2AEF-4529-B01C-6B701E81E1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6.wmf"/><Relationship Id="rId17" Type="http://schemas.openxmlformats.org/officeDocument/2006/relationships/image" Target="../media/image7.wmf"/><Relationship Id="rId18" Type="http://schemas.openxmlformats.org/officeDocument/2006/relationships/image" Target="../media/image6.wmf"/><Relationship Id="rId19" Type="http://schemas.openxmlformats.org/officeDocument/2006/relationships/image" Target="../media/image7.wmf"/><Relationship Id="rId20" Type="http://schemas.openxmlformats.org/officeDocument/2006/relationships/image" Target="../media/image6.wmf"/><Relationship Id="rId2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Chapter 4: Network Layer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apter goals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understand principles behind network layer services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ing (path selec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ling with s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a router 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topics: IPv6, multic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nstantiation and implementation in the Internet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14440" y="13716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verview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network layer service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outing principle: path selection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hierarchical routing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P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nternet routing protocols reliable transfer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ra-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-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what’s inside a router?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Pv6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multicast routing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CB1-FA8B-45A1-A400-7A6202B3138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Dijkstra’s algorithm, discussion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61600" y="13716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complexity: 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n node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ach iteration: need to check all nodes, w, not in N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n*(n+1)/2 comparisons: O(n**2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more efficient implementations possible: O(nlogn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scillations possible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.g., link cost = amount of carried traffic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46040" y="4272120"/>
            <a:ext cx="1971720" cy="1355400"/>
          </a:xfrm>
          <a:custGeom>
            <a:avLst/>
            <a:gdLst/>
            <a:ahLst/>
            <a:rect l="l" t="t" r="r" b="b"/>
            <a:pathLst>
              <a:path w="1242" h="854">
                <a:moveTo>
                  <a:pt x="1" y="381"/>
                </a:moveTo>
                <a:cubicBezTo>
                  <a:pt x="0" y="296"/>
                  <a:pt x="88" y="222"/>
                  <a:pt x="169" y="162"/>
                </a:cubicBezTo>
                <a:cubicBezTo>
                  <a:pt x="250" y="102"/>
                  <a:pt x="378" y="40"/>
                  <a:pt x="487" y="18"/>
                </a:cubicBezTo>
                <a:cubicBezTo>
                  <a:pt x="616" y="6"/>
                  <a:pt x="685" y="0"/>
                  <a:pt x="823" y="30"/>
                </a:cubicBezTo>
                <a:cubicBezTo>
                  <a:pt x="961" y="60"/>
                  <a:pt x="1121" y="165"/>
                  <a:pt x="1183" y="261"/>
                </a:cubicBezTo>
                <a:cubicBezTo>
                  <a:pt x="1242" y="357"/>
                  <a:pt x="1219" y="523"/>
                  <a:pt x="1177" y="609"/>
                </a:cubicBezTo>
                <a:cubicBezTo>
                  <a:pt x="1135" y="695"/>
                  <a:pt x="1049" y="742"/>
                  <a:pt x="928" y="780"/>
                </a:cubicBezTo>
                <a:cubicBezTo>
                  <a:pt x="807" y="818"/>
                  <a:pt x="573" y="854"/>
                  <a:pt x="448" y="837"/>
                </a:cubicBezTo>
                <a:cubicBezTo>
                  <a:pt x="323" y="820"/>
                  <a:pt x="252" y="751"/>
                  <a:pt x="178" y="675"/>
                </a:cubicBezTo>
                <a:cubicBezTo>
                  <a:pt x="104" y="599"/>
                  <a:pt x="2" y="466"/>
                  <a:pt x="1" y="381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47800" y="4610160"/>
            <a:ext cx="390600" cy="20952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154160" y="4299120"/>
            <a:ext cx="501480" cy="398880"/>
            <a:chOff x="1154160" y="4299120"/>
            <a:chExt cx="501480" cy="398880"/>
          </a:xfrm>
        </p:grpSpPr>
        <p:sp>
          <p:nvSpPr>
            <p:cNvPr id="609" name=""/>
            <p:cNvSpPr/>
            <p:nvPr/>
          </p:nvSpPr>
          <p:spPr>
            <a:xfrm>
              <a:off x="1158840" y="4479840"/>
              <a:ext cx="49680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158840" y="44686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655640" y="44686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58840" y="4468680"/>
              <a:ext cx="492120" cy="781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54160" y="43750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1227240" y="4299120"/>
              <a:ext cx="343800" cy="398880"/>
              <a:chOff x="1227240" y="4299120"/>
              <a:chExt cx="343800" cy="398880"/>
            </a:xfrm>
          </p:grpSpPr>
          <p:sp>
            <p:nvSpPr>
              <p:cNvPr id="615" name=""/>
              <p:cNvSpPr/>
              <p:nvPr/>
            </p:nvSpPr>
            <p:spPr>
              <a:xfrm>
                <a:off x="1279800" y="4395600"/>
                <a:ext cx="22572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227240" y="429912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506520" y="4703760"/>
            <a:ext cx="501480" cy="398880"/>
            <a:chOff x="506520" y="4703760"/>
            <a:chExt cx="501480" cy="398880"/>
          </a:xfrm>
        </p:grpSpPr>
        <p:sp>
          <p:nvSpPr>
            <p:cNvPr id="618" name=""/>
            <p:cNvSpPr/>
            <p:nvPr/>
          </p:nvSpPr>
          <p:spPr>
            <a:xfrm>
              <a:off x="511200" y="489420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1200" y="488304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08000" y="488304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11200" y="488304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6520" y="478944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592200" y="4703760"/>
              <a:ext cx="366480" cy="398880"/>
              <a:chOff x="592200" y="4703760"/>
              <a:chExt cx="36648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656280" y="4800240"/>
                <a:ext cx="22572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92200" y="470376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1141560" y="5165640"/>
            <a:ext cx="500040" cy="398880"/>
            <a:chOff x="1141560" y="5165640"/>
            <a:chExt cx="500040" cy="398880"/>
          </a:xfrm>
        </p:grpSpPr>
        <p:grpSp>
          <p:nvGrpSpPr>
            <p:cNvPr id="627" name=""/>
            <p:cNvGrpSpPr/>
            <p:nvPr/>
          </p:nvGrpSpPr>
          <p:grpSpPr>
            <a:xfrm>
              <a:off x="1141560" y="5245200"/>
              <a:ext cx="500040" cy="228600"/>
              <a:chOff x="1141560" y="5245200"/>
              <a:chExt cx="500040" cy="228600"/>
            </a:xfrm>
          </p:grpSpPr>
          <p:sp>
            <p:nvSpPr>
              <p:cNvPr id="628" name=""/>
              <p:cNvSpPr/>
              <p:nvPr/>
            </p:nvSpPr>
            <p:spPr>
              <a:xfrm>
                <a:off x="1141560" y="5345280"/>
                <a:ext cx="49536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41560" y="533412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636920" y="533412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41560" y="5334120"/>
                <a:ext cx="49068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146600" y="5245200"/>
                <a:ext cx="49500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1227600" y="5165640"/>
              <a:ext cx="342360" cy="398880"/>
              <a:chOff x="1227600" y="5165640"/>
              <a:chExt cx="342360" cy="398880"/>
            </a:xfrm>
          </p:grpSpPr>
          <p:sp>
            <p:nvSpPr>
              <p:cNvPr id="634" name=""/>
              <p:cNvSpPr/>
              <p:nvPr/>
            </p:nvSpPr>
            <p:spPr>
              <a:xfrm>
                <a:off x="1280520" y="5262480"/>
                <a:ext cx="22536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227600" y="516564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6" name=""/>
          <p:cNvGrpSpPr/>
          <p:nvPr/>
        </p:nvGrpSpPr>
        <p:grpSpPr>
          <a:xfrm>
            <a:off x="1795320" y="4718160"/>
            <a:ext cx="501840" cy="398880"/>
            <a:chOff x="1795320" y="4718160"/>
            <a:chExt cx="501840" cy="398880"/>
          </a:xfrm>
        </p:grpSpPr>
        <p:sp>
          <p:nvSpPr>
            <p:cNvPr id="637" name=""/>
            <p:cNvSpPr/>
            <p:nvPr/>
          </p:nvSpPr>
          <p:spPr>
            <a:xfrm>
              <a:off x="1800360" y="4903560"/>
              <a:ext cx="496800" cy="1281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00360" y="489240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97160" y="489240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00360" y="4892400"/>
              <a:ext cx="492120" cy="774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95320" y="4798800"/>
              <a:ext cx="49716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1883160" y="4718160"/>
              <a:ext cx="346680" cy="398880"/>
              <a:chOff x="1883160" y="4718160"/>
              <a:chExt cx="346680" cy="398880"/>
            </a:xfrm>
          </p:grpSpPr>
          <p:sp>
            <p:nvSpPr>
              <p:cNvPr id="643" name=""/>
              <p:cNvSpPr/>
              <p:nvPr/>
            </p:nvSpPr>
            <p:spPr>
              <a:xfrm>
                <a:off x="1937160" y="4814640"/>
                <a:ext cx="22536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883160" y="471816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5" name=""/>
          <p:cNvSpPr/>
          <p:nvPr/>
        </p:nvSpPr>
        <p:spPr>
          <a:xfrm>
            <a:off x="834120" y="441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1532880" y="4610160"/>
            <a:ext cx="338040" cy="20484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1547640" y="5023800"/>
            <a:ext cx="31464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909720" y="5014800"/>
            <a:ext cx="323640" cy="2476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29360" y="447048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+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669680" y="501804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98120" y="504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380960" y="5481360"/>
            <a:ext cx="0" cy="399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36160" y="56944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561600" y="5014800"/>
            <a:ext cx="4680" cy="338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87720" y="5308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2081160" y="5047920"/>
            <a:ext cx="0" cy="428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921320" y="5413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1451880" y="4980960"/>
            <a:ext cx="31428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999360" y="4991040"/>
            <a:ext cx="304920" cy="21924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083960" y="4822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26680" y="480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85960" y="4319640"/>
            <a:ext cx="1944720" cy="1355760"/>
          </a:xfrm>
          <a:custGeom>
            <a:avLst/>
            <a:gdLst/>
            <a:ahLst/>
            <a:rect l="l" t="t" r="r" b="b"/>
            <a:pathLst>
              <a:path w="1225" h="854">
                <a:moveTo>
                  <a:pt x="0" y="387"/>
                </a:moveTo>
                <a:cubicBezTo>
                  <a:pt x="0" y="243"/>
                  <a:pt x="87" y="223"/>
                  <a:pt x="168" y="162"/>
                </a:cubicBezTo>
                <a:cubicBezTo>
                  <a:pt x="249" y="101"/>
                  <a:pt x="377" y="40"/>
                  <a:pt x="486" y="18"/>
                </a:cubicBezTo>
                <a:cubicBezTo>
                  <a:pt x="615" y="6"/>
                  <a:pt x="684" y="0"/>
                  <a:pt x="822" y="30"/>
                </a:cubicBezTo>
                <a:cubicBezTo>
                  <a:pt x="960" y="60"/>
                  <a:pt x="1099" y="169"/>
                  <a:pt x="1152" y="267"/>
                </a:cubicBezTo>
                <a:cubicBezTo>
                  <a:pt x="1213" y="351"/>
                  <a:pt x="1225" y="452"/>
                  <a:pt x="1188" y="537"/>
                </a:cubicBezTo>
                <a:cubicBezTo>
                  <a:pt x="1151" y="622"/>
                  <a:pt x="1050" y="730"/>
                  <a:pt x="927" y="780"/>
                </a:cubicBezTo>
                <a:cubicBezTo>
                  <a:pt x="804" y="830"/>
                  <a:pt x="572" y="854"/>
                  <a:pt x="447" y="837"/>
                </a:cubicBezTo>
                <a:cubicBezTo>
                  <a:pt x="322" y="820"/>
                  <a:pt x="251" y="750"/>
                  <a:pt x="177" y="675"/>
                </a:cubicBezTo>
                <a:cubicBezTo>
                  <a:pt x="103" y="600"/>
                  <a:pt x="0" y="531"/>
                  <a:pt x="0" y="387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86280" y="4657680"/>
            <a:ext cx="390240" cy="20952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392640" y="4346640"/>
            <a:ext cx="501480" cy="398880"/>
            <a:chOff x="3392640" y="4346640"/>
            <a:chExt cx="501480" cy="398880"/>
          </a:xfrm>
        </p:grpSpPr>
        <p:sp>
          <p:nvSpPr>
            <p:cNvPr id="665" name=""/>
            <p:cNvSpPr/>
            <p:nvPr/>
          </p:nvSpPr>
          <p:spPr>
            <a:xfrm>
              <a:off x="3397320" y="4527360"/>
              <a:ext cx="49680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97320" y="451620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94120" y="451620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397320" y="4516200"/>
              <a:ext cx="492120" cy="781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92640" y="442260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3465720" y="4346640"/>
              <a:ext cx="343800" cy="398880"/>
              <a:chOff x="3465720" y="4346640"/>
              <a:chExt cx="343800" cy="398880"/>
            </a:xfrm>
          </p:grpSpPr>
          <p:sp>
            <p:nvSpPr>
              <p:cNvPr id="671" name=""/>
              <p:cNvSpPr/>
              <p:nvPr/>
            </p:nvSpPr>
            <p:spPr>
              <a:xfrm>
                <a:off x="3518280" y="4443120"/>
                <a:ext cx="22572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465720" y="434664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3" name=""/>
          <p:cNvGrpSpPr/>
          <p:nvPr/>
        </p:nvGrpSpPr>
        <p:grpSpPr>
          <a:xfrm>
            <a:off x="2744640" y="4751280"/>
            <a:ext cx="501480" cy="398880"/>
            <a:chOff x="2744640" y="4751280"/>
            <a:chExt cx="501480" cy="398880"/>
          </a:xfrm>
        </p:grpSpPr>
        <p:sp>
          <p:nvSpPr>
            <p:cNvPr id="674" name=""/>
            <p:cNvSpPr/>
            <p:nvPr/>
          </p:nvSpPr>
          <p:spPr>
            <a:xfrm>
              <a:off x="2749320" y="494172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49320" y="493056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46120" y="493056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749320" y="493056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44640" y="483696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830320" y="4751280"/>
              <a:ext cx="366480" cy="398880"/>
              <a:chOff x="2830320" y="4751280"/>
              <a:chExt cx="366480" cy="398880"/>
            </a:xfrm>
          </p:grpSpPr>
          <p:sp>
            <p:nvSpPr>
              <p:cNvPr id="680" name=""/>
              <p:cNvSpPr/>
              <p:nvPr/>
            </p:nvSpPr>
            <p:spPr>
              <a:xfrm>
                <a:off x="2894400" y="4847760"/>
                <a:ext cx="22572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830320" y="475128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2" name=""/>
          <p:cNvGrpSpPr/>
          <p:nvPr/>
        </p:nvGrpSpPr>
        <p:grpSpPr>
          <a:xfrm>
            <a:off x="3379680" y="5213520"/>
            <a:ext cx="500040" cy="398880"/>
            <a:chOff x="3379680" y="5213520"/>
            <a:chExt cx="500040" cy="398880"/>
          </a:xfrm>
        </p:grpSpPr>
        <p:grpSp>
          <p:nvGrpSpPr>
            <p:cNvPr id="683" name=""/>
            <p:cNvGrpSpPr/>
            <p:nvPr/>
          </p:nvGrpSpPr>
          <p:grpSpPr>
            <a:xfrm>
              <a:off x="3379680" y="5292720"/>
              <a:ext cx="500040" cy="227880"/>
              <a:chOff x="3379680" y="5292720"/>
              <a:chExt cx="500040" cy="227880"/>
            </a:xfrm>
          </p:grpSpPr>
          <p:sp>
            <p:nvSpPr>
              <p:cNvPr id="684" name=""/>
              <p:cNvSpPr/>
              <p:nvPr/>
            </p:nvSpPr>
            <p:spPr>
              <a:xfrm>
                <a:off x="3379680" y="5392440"/>
                <a:ext cx="495360" cy="12816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379680" y="5381280"/>
                <a:ext cx="0" cy="788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875040" y="5381280"/>
                <a:ext cx="0" cy="788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379680" y="5381280"/>
                <a:ext cx="490680" cy="7740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384720" y="5292720"/>
                <a:ext cx="495000" cy="15048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3465720" y="5213520"/>
              <a:ext cx="342360" cy="398880"/>
              <a:chOff x="3465720" y="5213520"/>
              <a:chExt cx="342360" cy="398880"/>
            </a:xfrm>
          </p:grpSpPr>
          <p:sp>
            <p:nvSpPr>
              <p:cNvPr id="690" name=""/>
              <p:cNvSpPr/>
              <p:nvPr/>
            </p:nvSpPr>
            <p:spPr>
              <a:xfrm>
                <a:off x="3518640" y="5310000"/>
                <a:ext cx="22536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465720" y="52135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2" name=""/>
          <p:cNvGrpSpPr/>
          <p:nvPr/>
        </p:nvGrpSpPr>
        <p:grpSpPr>
          <a:xfrm>
            <a:off x="4033800" y="4765680"/>
            <a:ext cx="501840" cy="398880"/>
            <a:chOff x="4033800" y="4765680"/>
            <a:chExt cx="501840" cy="398880"/>
          </a:xfrm>
        </p:grpSpPr>
        <p:sp>
          <p:nvSpPr>
            <p:cNvPr id="693" name=""/>
            <p:cNvSpPr/>
            <p:nvPr/>
          </p:nvSpPr>
          <p:spPr>
            <a:xfrm>
              <a:off x="4038840" y="4951080"/>
              <a:ext cx="496800" cy="1281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38840" y="493992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535640" y="493992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038840" y="4939920"/>
              <a:ext cx="492120" cy="774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33800" y="4846320"/>
              <a:ext cx="49716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4121640" y="4765680"/>
              <a:ext cx="346680" cy="398880"/>
              <a:chOff x="4121640" y="4765680"/>
              <a:chExt cx="346680" cy="3988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75640" y="4862160"/>
                <a:ext cx="22536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121640" y="47656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1" name=""/>
          <p:cNvSpPr/>
          <p:nvPr/>
        </p:nvSpPr>
        <p:spPr>
          <a:xfrm>
            <a:off x="2820600" y="448452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2+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3771360" y="4657680"/>
            <a:ext cx="338040" cy="20484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3785400" y="5071320"/>
            <a:ext cx="31428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3147840" y="5062680"/>
            <a:ext cx="324000" cy="2476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97080" y="4518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908160" y="5065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36600" y="508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3690360" y="5028480"/>
            <a:ext cx="31428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3237840" y="5038560"/>
            <a:ext cx="304920" cy="21924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40720" y="486108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+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664440" y="485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838760" y="4329000"/>
            <a:ext cx="1944720" cy="1355760"/>
          </a:xfrm>
          <a:custGeom>
            <a:avLst/>
            <a:gdLst/>
            <a:ahLst/>
            <a:rect l="l" t="t" r="r" b="b"/>
            <a:pathLst>
              <a:path w="1225" h="854">
                <a:moveTo>
                  <a:pt x="0" y="387"/>
                </a:moveTo>
                <a:cubicBezTo>
                  <a:pt x="0" y="243"/>
                  <a:pt x="87" y="223"/>
                  <a:pt x="168" y="162"/>
                </a:cubicBezTo>
                <a:cubicBezTo>
                  <a:pt x="249" y="101"/>
                  <a:pt x="377" y="40"/>
                  <a:pt x="486" y="18"/>
                </a:cubicBezTo>
                <a:cubicBezTo>
                  <a:pt x="615" y="6"/>
                  <a:pt x="684" y="0"/>
                  <a:pt x="822" y="30"/>
                </a:cubicBezTo>
                <a:cubicBezTo>
                  <a:pt x="960" y="60"/>
                  <a:pt x="1099" y="169"/>
                  <a:pt x="1152" y="267"/>
                </a:cubicBezTo>
                <a:cubicBezTo>
                  <a:pt x="1213" y="351"/>
                  <a:pt x="1225" y="452"/>
                  <a:pt x="1188" y="537"/>
                </a:cubicBezTo>
                <a:cubicBezTo>
                  <a:pt x="1151" y="622"/>
                  <a:pt x="1050" y="730"/>
                  <a:pt x="927" y="780"/>
                </a:cubicBezTo>
                <a:cubicBezTo>
                  <a:pt x="804" y="830"/>
                  <a:pt x="572" y="854"/>
                  <a:pt x="447" y="837"/>
                </a:cubicBezTo>
                <a:cubicBezTo>
                  <a:pt x="322" y="820"/>
                  <a:pt x="251" y="750"/>
                  <a:pt x="177" y="675"/>
                </a:cubicBezTo>
                <a:cubicBezTo>
                  <a:pt x="103" y="600"/>
                  <a:pt x="0" y="531"/>
                  <a:pt x="0" y="387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38720" y="4667400"/>
            <a:ext cx="390600" cy="20952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5545080" y="4356000"/>
            <a:ext cx="501480" cy="398880"/>
            <a:chOff x="5545080" y="4356000"/>
            <a:chExt cx="501480" cy="398880"/>
          </a:xfrm>
        </p:grpSpPr>
        <p:sp>
          <p:nvSpPr>
            <p:cNvPr id="715" name=""/>
            <p:cNvSpPr/>
            <p:nvPr/>
          </p:nvSpPr>
          <p:spPr>
            <a:xfrm>
              <a:off x="5549760" y="4536720"/>
              <a:ext cx="49680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49760" y="452556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46560" y="452556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49760" y="4525560"/>
              <a:ext cx="492120" cy="781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45080" y="443196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5618160" y="4356000"/>
              <a:ext cx="343800" cy="398880"/>
              <a:chOff x="5618160" y="4356000"/>
              <a:chExt cx="343800" cy="398880"/>
            </a:xfrm>
          </p:grpSpPr>
          <p:sp>
            <p:nvSpPr>
              <p:cNvPr id="721" name=""/>
              <p:cNvSpPr/>
              <p:nvPr/>
            </p:nvSpPr>
            <p:spPr>
              <a:xfrm>
                <a:off x="5670720" y="4452480"/>
                <a:ext cx="22572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618160" y="435600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3" name=""/>
          <p:cNvGrpSpPr/>
          <p:nvPr/>
        </p:nvGrpSpPr>
        <p:grpSpPr>
          <a:xfrm>
            <a:off x="4897440" y="4761000"/>
            <a:ext cx="501480" cy="398880"/>
            <a:chOff x="4897440" y="4761000"/>
            <a:chExt cx="501480" cy="398880"/>
          </a:xfrm>
        </p:grpSpPr>
        <p:sp>
          <p:nvSpPr>
            <p:cNvPr id="724" name=""/>
            <p:cNvSpPr/>
            <p:nvPr/>
          </p:nvSpPr>
          <p:spPr>
            <a:xfrm>
              <a:off x="4902120" y="495144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02120" y="49402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98920" y="49402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2120" y="494028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897440" y="48466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4983120" y="4761000"/>
              <a:ext cx="366480" cy="398880"/>
              <a:chOff x="4983120" y="4761000"/>
              <a:chExt cx="366480" cy="398880"/>
            </a:xfrm>
          </p:grpSpPr>
          <p:sp>
            <p:nvSpPr>
              <p:cNvPr id="730" name=""/>
              <p:cNvSpPr/>
              <p:nvPr/>
            </p:nvSpPr>
            <p:spPr>
              <a:xfrm>
                <a:off x="5047200" y="4857480"/>
                <a:ext cx="22572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983120" y="476100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5532480" y="5222880"/>
            <a:ext cx="500040" cy="398880"/>
            <a:chOff x="5532480" y="5222880"/>
            <a:chExt cx="500040" cy="398880"/>
          </a:xfrm>
        </p:grpSpPr>
        <p:grpSp>
          <p:nvGrpSpPr>
            <p:cNvPr id="733" name=""/>
            <p:cNvGrpSpPr/>
            <p:nvPr/>
          </p:nvGrpSpPr>
          <p:grpSpPr>
            <a:xfrm>
              <a:off x="5532480" y="5302080"/>
              <a:ext cx="500040" cy="227880"/>
              <a:chOff x="5532480" y="5302080"/>
              <a:chExt cx="500040" cy="227880"/>
            </a:xfrm>
          </p:grpSpPr>
          <p:sp>
            <p:nvSpPr>
              <p:cNvPr id="734" name=""/>
              <p:cNvSpPr/>
              <p:nvPr/>
            </p:nvSpPr>
            <p:spPr>
              <a:xfrm>
                <a:off x="5532480" y="5401800"/>
                <a:ext cx="495360" cy="12816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532480" y="5390640"/>
                <a:ext cx="0" cy="788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027840" y="5390640"/>
                <a:ext cx="0" cy="788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532480" y="5390640"/>
                <a:ext cx="490680" cy="7740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537520" y="5302080"/>
                <a:ext cx="495000" cy="15048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18520" y="5222880"/>
              <a:ext cx="342360" cy="398880"/>
              <a:chOff x="5618520" y="5222880"/>
              <a:chExt cx="342360" cy="398880"/>
            </a:xfrm>
          </p:grpSpPr>
          <p:sp>
            <p:nvSpPr>
              <p:cNvPr id="740" name=""/>
              <p:cNvSpPr/>
              <p:nvPr/>
            </p:nvSpPr>
            <p:spPr>
              <a:xfrm>
                <a:off x="5671440" y="5319360"/>
                <a:ext cx="22536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618520" y="52228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2" name=""/>
          <p:cNvGrpSpPr/>
          <p:nvPr/>
        </p:nvGrpSpPr>
        <p:grpSpPr>
          <a:xfrm>
            <a:off x="6186600" y="4775040"/>
            <a:ext cx="501480" cy="398880"/>
            <a:chOff x="6186600" y="4775040"/>
            <a:chExt cx="501480" cy="398880"/>
          </a:xfrm>
        </p:grpSpPr>
        <p:sp>
          <p:nvSpPr>
            <p:cNvPr id="743" name=""/>
            <p:cNvSpPr/>
            <p:nvPr/>
          </p:nvSpPr>
          <p:spPr>
            <a:xfrm>
              <a:off x="6191280" y="4960800"/>
              <a:ext cx="49644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91280" y="494964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88080" y="494964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191280" y="4949640"/>
              <a:ext cx="49176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86600" y="485604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6274080" y="4775040"/>
              <a:ext cx="346680" cy="398880"/>
              <a:chOff x="6274080" y="4775040"/>
              <a:chExt cx="346680" cy="398880"/>
            </a:xfrm>
          </p:grpSpPr>
          <p:sp>
            <p:nvSpPr>
              <p:cNvPr id="749" name=""/>
              <p:cNvSpPr/>
              <p:nvPr/>
            </p:nvSpPr>
            <p:spPr>
              <a:xfrm>
                <a:off x="6328080" y="4871880"/>
                <a:ext cx="22500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274080" y="47750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1" name=""/>
          <p:cNvSpPr/>
          <p:nvPr/>
        </p:nvSpPr>
        <p:spPr>
          <a:xfrm>
            <a:off x="5103360" y="4494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5923800" y="4667400"/>
            <a:ext cx="338040" cy="2044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5938200" y="5081040"/>
            <a:ext cx="31428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5300640" y="5072040"/>
            <a:ext cx="324000" cy="2476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21000" y="452772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2+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31360" y="511344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+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88320" y="5099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 flipV="1">
            <a:off x="5842800" y="5037840"/>
            <a:ext cx="31428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5390280" y="5048280"/>
            <a:ext cx="304920" cy="2188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522400" y="4870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17960" y="486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19440" y="59612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nitially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45800" y="5799240"/>
            <a:ext cx="175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…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recomput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routing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65400" y="580860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…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recomput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3638520" y="5538600"/>
            <a:ext cx="0" cy="24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2971800" y="5081400"/>
            <a:ext cx="0" cy="24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4305240" y="508644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138640" y="509112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5800680" y="5538600"/>
            <a:ext cx="0" cy="24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6462720" y="509112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186-1265-41F7-BAB5-8143A8176F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Distance Vector Routing Algorithm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61600" y="1361880"/>
            <a:ext cx="3305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erative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continues until no nodes exchange info.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self-terminating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: no “signal” to stop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ynchronous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nodes need </a:t>
            </a: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exchange info/iterate in lock step!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tributed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ach node communicates </a:t>
            </a: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only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with directly-attached neighbor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191120" y="1571760"/>
            <a:ext cx="4505040" cy="25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stance Table data structure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ach node has its own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ow for each possible destination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column for each directly-attached neighbor to node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xample: in node X, for dest. Y via neighbor Z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4386600" y="4535640"/>
            <a:ext cx="4261320" cy="1365120"/>
            <a:chOff x="4386600" y="4535640"/>
            <a:chExt cx="4261320" cy="1365120"/>
          </a:xfrm>
        </p:grpSpPr>
        <p:grpSp>
          <p:nvGrpSpPr>
            <p:cNvPr id="775" name=""/>
            <p:cNvGrpSpPr/>
            <p:nvPr/>
          </p:nvGrpSpPr>
          <p:grpSpPr>
            <a:xfrm>
              <a:off x="4386600" y="4792680"/>
              <a:ext cx="1163880" cy="650160"/>
              <a:chOff x="4386600" y="4792680"/>
              <a:chExt cx="1163880" cy="650160"/>
            </a:xfrm>
          </p:grpSpPr>
          <p:sp>
            <p:nvSpPr>
              <p:cNvPr id="776" name=""/>
              <p:cNvSpPr/>
              <p:nvPr/>
            </p:nvSpPr>
            <p:spPr>
              <a:xfrm>
                <a:off x="4386600" y="4983120"/>
                <a:ext cx="116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Arial"/>
                  </a:rPr>
                  <a:t>D (Y,Z)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594680" y="47926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5874840" y="4535640"/>
              <a:ext cx="242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distance </a:t>
              </a:r>
              <a:r>
                <a:rPr b="0" i="1" lang="en-US" sz="2000" spc="-1" strike="noStrike">
                  <a:solidFill>
                    <a:srgbClr val="ffff66"/>
                  </a:solidFill>
                  <a:latin typeface="Arial"/>
                </a:rPr>
                <a:t>from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X </a:t>
              </a:r>
              <a:r>
                <a:rPr b="0" i="1" lang="en-US" sz="2000" spc="-1" strike="noStrike">
                  <a:solidFill>
                    <a:srgbClr val="ffff66"/>
                  </a:solidFill>
                  <a:latin typeface="Arial"/>
                </a:rPr>
                <a:t>to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Y, </a:t>
              </a:r>
              <a:r>
                <a:rPr b="0" i="1" lang="en-US" sz="2000" spc="-1" strike="noStrike">
                  <a:solidFill>
                    <a:srgbClr val="ffff66"/>
                  </a:solidFill>
                  <a:latin typeface="Arial"/>
                </a:rPr>
                <a:t>via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Z as next hop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44240" y="5354640"/>
              <a:ext cx="28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c(X,Z) + min  {D  (Y,w)}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602480" y="5227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85240" y="55324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61640" y="47451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51920" y="5392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4257720" y="4438800"/>
            <a:ext cx="4438440" cy="159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5E5-8C6F-4E48-A1AE-59C1E786AD7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Distance Table: example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71640" y="1542960"/>
            <a:ext cx="2789280" cy="1825560"/>
          </a:xfrm>
          <a:custGeom>
            <a:avLst/>
            <a:gdLst/>
            <a:ahLst/>
            <a:rect l="l" t="t" r="r" b="b"/>
            <a:pathLst>
              <a:path w="1757" h="1150">
                <a:moveTo>
                  <a:pt x="108" y="402"/>
                </a:moveTo>
                <a:cubicBezTo>
                  <a:pt x="161" y="324"/>
                  <a:pt x="275" y="278"/>
                  <a:pt x="390" y="216"/>
                </a:cubicBezTo>
                <a:cubicBezTo>
                  <a:pt x="505" y="154"/>
                  <a:pt x="642" y="54"/>
                  <a:pt x="801" y="27"/>
                </a:cubicBezTo>
                <a:cubicBezTo>
                  <a:pt x="960" y="0"/>
                  <a:pt x="1208" y="35"/>
                  <a:pt x="1341" y="54"/>
                </a:cubicBezTo>
                <a:cubicBezTo>
                  <a:pt x="1474" y="73"/>
                  <a:pt x="1548" y="68"/>
                  <a:pt x="1602" y="141"/>
                </a:cubicBezTo>
                <a:cubicBezTo>
                  <a:pt x="1656" y="214"/>
                  <a:pt x="1658" y="339"/>
                  <a:pt x="1665" y="489"/>
                </a:cubicBezTo>
                <a:cubicBezTo>
                  <a:pt x="1672" y="639"/>
                  <a:pt x="1757" y="938"/>
                  <a:pt x="1644" y="1044"/>
                </a:cubicBezTo>
                <a:cubicBezTo>
                  <a:pt x="1531" y="1150"/>
                  <a:pt x="1168" y="1121"/>
                  <a:pt x="984" y="1125"/>
                </a:cubicBezTo>
                <a:cubicBezTo>
                  <a:pt x="800" y="1129"/>
                  <a:pt x="692" y="1141"/>
                  <a:pt x="540" y="1068"/>
                </a:cubicBezTo>
                <a:cubicBezTo>
                  <a:pt x="388" y="995"/>
                  <a:pt x="144" y="795"/>
                  <a:pt x="72" y="684"/>
                </a:cubicBezTo>
                <a:cubicBezTo>
                  <a:pt x="0" y="573"/>
                  <a:pt x="55" y="480"/>
                  <a:pt x="108" y="402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33600" y="2038320"/>
            <a:ext cx="542880" cy="2952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20680" y="2422440"/>
            <a:ext cx="49716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20680" y="2411280"/>
            <a:ext cx="180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17840" y="2411280"/>
            <a:ext cx="144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120680" y="241128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16000" y="231768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66960" y="194148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66960" y="1930320"/>
            <a:ext cx="144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363760" y="1930320"/>
            <a:ext cx="144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866960" y="193032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862280" y="183672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951280" y="1935000"/>
            <a:ext cx="495360" cy="1288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951280" y="1924200"/>
            <a:ext cx="144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46640" y="1924200"/>
            <a:ext cx="144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951280" y="1924200"/>
            <a:ext cx="4903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955960" y="1835280"/>
            <a:ext cx="49536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14800" y="2081160"/>
            <a:ext cx="74520" cy="862200"/>
          </a:xfrm>
          <a:custGeom>
            <a:avLst/>
            <a:gdLst/>
            <a:ahLst/>
            <a:rect l="l" t="t" r="r" b="b"/>
            <a:pathLst>
              <a:path w="1" h="522">
                <a:moveTo>
                  <a:pt x="0" y="0"/>
                </a:moveTo>
                <a:lnTo>
                  <a:pt x="0" y="522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14640" y="2090880"/>
            <a:ext cx="1440" cy="852480"/>
          </a:xfrm>
          <a:custGeom>
            <a:avLst/>
            <a:gdLst/>
            <a:ahLst/>
            <a:rect l="l" t="t" r="r" b="b"/>
            <a:pathLst>
              <a:path w="1" h="537">
                <a:moveTo>
                  <a:pt x="0" y="0"/>
                </a:moveTo>
                <a:lnTo>
                  <a:pt x="0" y="537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386080" y="3067200"/>
            <a:ext cx="581040" cy="1440"/>
          </a:xfrm>
          <a:custGeom>
            <a:avLst/>
            <a:gdLst/>
            <a:ahLst/>
            <a:rect l="l" t="t" r="r" b="b"/>
            <a:pathLst>
              <a:path w="366" h="1">
                <a:moveTo>
                  <a:pt x="36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447920" y="2552760"/>
            <a:ext cx="438120" cy="419040"/>
          </a:xfrm>
          <a:custGeom>
            <a:avLst/>
            <a:gdLst/>
            <a:ahLst/>
            <a:rect l="l" t="t" r="r" b="b"/>
            <a:pathLst>
              <a:path w="276" h="264">
                <a:moveTo>
                  <a:pt x="276" y="26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376360" y="1971720"/>
            <a:ext cx="581040" cy="1440"/>
          </a:xfrm>
          <a:custGeom>
            <a:avLst/>
            <a:gdLst/>
            <a:ahLst/>
            <a:rect l="l" t="t" r="r" b="b"/>
            <a:pathLst>
              <a:path w="366" h="1">
                <a:moveTo>
                  <a:pt x="36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189440" y="2241720"/>
            <a:ext cx="343800" cy="398880"/>
            <a:chOff x="1189440" y="2241720"/>
            <a:chExt cx="343800" cy="398880"/>
          </a:xfrm>
        </p:grpSpPr>
        <p:sp>
          <p:nvSpPr>
            <p:cNvPr id="809" name=""/>
            <p:cNvSpPr/>
            <p:nvPr/>
          </p:nvSpPr>
          <p:spPr>
            <a:xfrm>
              <a:off x="1242000" y="2338200"/>
              <a:ext cx="225720" cy="2091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89440" y="22417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1876320" y="2832120"/>
            <a:ext cx="501480" cy="398880"/>
            <a:chOff x="1876320" y="2832120"/>
            <a:chExt cx="501480" cy="398880"/>
          </a:xfrm>
        </p:grpSpPr>
        <p:sp>
          <p:nvSpPr>
            <p:cNvPr id="812" name=""/>
            <p:cNvSpPr/>
            <p:nvPr/>
          </p:nvSpPr>
          <p:spPr>
            <a:xfrm>
              <a:off x="1881000" y="301320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81000" y="300204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77800" y="300204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81000" y="300204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76320" y="29080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1970640" y="2832120"/>
              <a:ext cx="322560" cy="398880"/>
              <a:chOff x="1970640" y="2832120"/>
              <a:chExt cx="322560" cy="398880"/>
            </a:xfrm>
          </p:grpSpPr>
          <p:sp>
            <p:nvSpPr>
              <p:cNvPr id="818" name=""/>
              <p:cNvSpPr/>
              <p:nvPr/>
            </p:nvSpPr>
            <p:spPr>
              <a:xfrm>
                <a:off x="2013480" y="2928600"/>
                <a:ext cx="22500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970640" y="28321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0" name=""/>
          <p:cNvGrpSpPr/>
          <p:nvPr/>
        </p:nvGrpSpPr>
        <p:grpSpPr>
          <a:xfrm>
            <a:off x="2973240" y="2865600"/>
            <a:ext cx="501480" cy="398880"/>
            <a:chOff x="2973240" y="2865600"/>
            <a:chExt cx="501480" cy="398880"/>
          </a:xfrm>
        </p:grpSpPr>
        <p:sp>
          <p:nvSpPr>
            <p:cNvPr id="821" name=""/>
            <p:cNvSpPr/>
            <p:nvPr/>
          </p:nvSpPr>
          <p:spPr>
            <a:xfrm>
              <a:off x="2977920" y="305604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77920" y="304488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474720" y="304488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977920" y="304488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973240" y="29512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3058920" y="2865600"/>
              <a:ext cx="366480" cy="398880"/>
              <a:chOff x="3058920" y="2865600"/>
              <a:chExt cx="366480" cy="398880"/>
            </a:xfrm>
          </p:grpSpPr>
          <p:sp>
            <p:nvSpPr>
              <p:cNvPr id="827" name=""/>
              <p:cNvSpPr/>
              <p:nvPr/>
            </p:nvSpPr>
            <p:spPr>
              <a:xfrm>
                <a:off x="3123000" y="2962080"/>
                <a:ext cx="22536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058920" y="286560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9" name=""/>
          <p:cNvGrpSpPr/>
          <p:nvPr/>
        </p:nvGrpSpPr>
        <p:grpSpPr>
          <a:xfrm>
            <a:off x="3037320" y="1755720"/>
            <a:ext cx="342360" cy="398880"/>
            <a:chOff x="3037320" y="1755720"/>
            <a:chExt cx="342360" cy="398880"/>
          </a:xfrm>
        </p:grpSpPr>
        <p:sp>
          <p:nvSpPr>
            <p:cNvPr id="830" name=""/>
            <p:cNvSpPr/>
            <p:nvPr/>
          </p:nvSpPr>
          <p:spPr>
            <a:xfrm>
              <a:off x="3089880" y="1852560"/>
              <a:ext cx="22500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37320" y="17557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1950120" y="1755720"/>
            <a:ext cx="346680" cy="398880"/>
            <a:chOff x="1950120" y="1755720"/>
            <a:chExt cx="346680" cy="398880"/>
          </a:xfrm>
        </p:grpSpPr>
        <p:sp>
          <p:nvSpPr>
            <p:cNvPr id="833" name=""/>
            <p:cNvSpPr/>
            <p:nvPr/>
          </p:nvSpPr>
          <p:spPr>
            <a:xfrm>
              <a:off x="2004120" y="1852560"/>
              <a:ext cx="22500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950120" y="175572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1525320" y="196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077560" y="230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386360" y="2646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87320" y="3017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520000" y="166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34960" y="2298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5508720" y="1627200"/>
            <a:ext cx="3006720" cy="3687840"/>
            <a:chOff x="5508720" y="1627200"/>
            <a:chExt cx="3006720" cy="3687840"/>
          </a:xfrm>
        </p:grpSpPr>
        <p:sp>
          <p:nvSpPr>
            <p:cNvPr id="842" name=""/>
            <p:cNvSpPr/>
            <p:nvPr/>
          </p:nvSpPr>
          <p:spPr>
            <a:xfrm>
              <a:off x="5585040" y="1897200"/>
              <a:ext cx="775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D  ()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27880" y="1906560"/>
              <a:ext cx="383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115760" y="1916280"/>
              <a:ext cx="5191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901280" y="1925640"/>
              <a:ext cx="4003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790960" y="2448000"/>
              <a:ext cx="2514600" cy="972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57680" y="2105280"/>
              <a:ext cx="0" cy="313380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05560" y="265752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77160" y="341028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96240" y="413388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96240" y="486756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797440" y="177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981480" y="1627200"/>
              <a:ext cx="15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Via                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6233000">
              <a:off x="5057640" y="38761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destination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589320" y="3525840"/>
            <a:ext cx="4303440" cy="1008360"/>
            <a:chOff x="589320" y="3525840"/>
            <a:chExt cx="4303440" cy="1008360"/>
          </a:xfrm>
        </p:grpSpPr>
        <p:grpSp>
          <p:nvGrpSpPr>
            <p:cNvPr id="856" name=""/>
            <p:cNvGrpSpPr/>
            <p:nvPr/>
          </p:nvGrpSpPr>
          <p:grpSpPr>
            <a:xfrm>
              <a:off x="589320" y="3525840"/>
              <a:ext cx="1213920" cy="659880"/>
              <a:chOff x="589320" y="3525840"/>
              <a:chExt cx="1213920" cy="659880"/>
            </a:xfrm>
          </p:grpSpPr>
          <p:sp>
            <p:nvSpPr>
              <p:cNvPr id="857" name=""/>
              <p:cNvSpPr/>
              <p:nvPr/>
            </p:nvSpPr>
            <p:spPr>
              <a:xfrm>
                <a:off x="589320" y="372600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Arial"/>
                  </a:rPr>
                  <a:t>D (C,D)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86240" y="35258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859" name=""/>
            <p:cNvSpPr/>
            <p:nvPr/>
          </p:nvSpPr>
          <p:spPr>
            <a:xfrm>
              <a:off x="2045160" y="3754440"/>
              <a:ext cx="284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c(E,D) + min  {D  (C,w)}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80080" y="3618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22880" y="3932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745280" y="37926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745280" y="41259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039040" y="413532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+2  = 4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1247400" y="4795920"/>
            <a:ext cx="3582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From node E: to go to C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What is the cost thru D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DE6-56DC-4AE6-B1A2-A33AA04345F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Distance table gives routing table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889200" y="1503360"/>
            <a:ext cx="3001680" cy="3687840"/>
            <a:chOff x="889200" y="1503360"/>
            <a:chExt cx="3001680" cy="3687840"/>
          </a:xfrm>
        </p:grpSpPr>
        <p:sp>
          <p:nvSpPr>
            <p:cNvPr id="868" name=""/>
            <p:cNvSpPr/>
            <p:nvPr/>
          </p:nvSpPr>
          <p:spPr>
            <a:xfrm>
              <a:off x="965520" y="1773360"/>
              <a:ext cx="775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D  ()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908360" y="1782720"/>
              <a:ext cx="383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496240" y="1792440"/>
              <a:ext cx="5191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81760" y="1801800"/>
              <a:ext cx="4003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71440" y="2324160"/>
              <a:ext cx="2514600" cy="972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38160" y="1981440"/>
              <a:ext cx="0" cy="313380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886040" y="253368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57640" y="328644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76720" y="401004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76720" y="474372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77920" y="1656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515600" y="150336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cost to destination via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6233000">
              <a:off x="438120" y="37522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destination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5196600" y="1811160"/>
            <a:ext cx="4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875560" y="1811160"/>
            <a:ext cx="65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,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,5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,4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,4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029200" y="2362320"/>
            <a:ext cx="2514600" cy="936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695920" y="2019240"/>
            <a:ext cx="0" cy="3133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754240" y="171288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utgoing link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o use, cost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rot="16233000">
            <a:off x="4295880" y="3790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640160" y="5627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istance tabl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245920" y="558972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Routing tabl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895560" y="5848200"/>
            <a:ext cx="1219320" cy="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0B6-2A41-453A-AE73-105CDDB2BC0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Distance Vector Routing: overview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61960" y="1361880"/>
            <a:ext cx="3781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erative, asynchronous: 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ach local iteration caused by: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local link cost change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message from neighbor: its least cost path change from neighbor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tributed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ach node notifies neighbors </a:t>
            </a: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only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when its least cost path to any destination change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ighbors then notify their neighbors if nece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229360" y="1762200"/>
            <a:ext cx="3552840" cy="4339080"/>
            <a:chOff x="5229360" y="1762200"/>
            <a:chExt cx="3552840" cy="4339080"/>
          </a:xfrm>
        </p:grpSpPr>
        <p:sp>
          <p:nvSpPr>
            <p:cNvPr id="893" name=""/>
            <p:cNvSpPr/>
            <p:nvPr/>
          </p:nvSpPr>
          <p:spPr>
            <a:xfrm>
              <a:off x="5258160" y="1762200"/>
              <a:ext cx="3524040" cy="43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cc00"/>
                  </a:solidFill>
                  <a:latin typeface="Arial"/>
                </a:rPr>
                <a:t>wait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for (change in local link cost of msg from neighbor)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cc00"/>
                  </a:solidFill>
                  <a:latin typeface="Arial"/>
                </a:rPr>
                <a:t>recompute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distance table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if least cost path to any dest has changed, </a:t>
              </a:r>
              <a:r>
                <a:rPr b="0" i="1" lang="en-US" sz="2400" spc="-1" strike="noStrike">
                  <a:solidFill>
                    <a:srgbClr val="ffcc00"/>
                  </a:solidFill>
                  <a:latin typeface="Arial"/>
                </a:rPr>
                <a:t>notify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neighbors 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801120" y="3066840"/>
              <a:ext cx="0" cy="59004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1400" y="4086000"/>
              <a:ext cx="0" cy="59004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229360" y="2171520"/>
              <a:ext cx="1552680" cy="3580920"/>
            </a:xfrm>
            <a:custGeom>
              <a:avLst/>
              <a:gdLst/>
              <a:ahLst/>
              <a:rect l="l" t="t" r="r" b="b"/>
              <a:pathLst>
                <a:path w="978" h="2256">
                  <a:moveTo>
                    <a:pt x="960" y="2010"/>
                  </a:moveTo>
                  <a:lnTo>
                    <a:pt x="961" y="2256"/>
                  </a:lnTo>
                  <a:lnTo>
                    <a:pt x="0" y="2256"/>
                  </a:lnTo>
                  <a:lnTo>
                    <a:pt x="0" y="0"/>
                  </a:lnTo>
                  <a:lnTo>
                    <a:pt x="978" y="0"/>
                  </a:lnTo>
                  <a:lnTo>
                    <a:pt x="978" y="155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4854240" y="137952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ach node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7DD-2090-4982-882B-899C10EF8CE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Distance Vector: link cost changes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52600" y="1400040"/>
            <a:ext cx="4867200" cy="25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k cost changes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node detects local link cost change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updates distance table (line 15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f cost change in least cost path, notify neighbors (lines 23,24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754600" y="1809720"/>
            <a:ext cx="2184480" cy="1212840"/>
          </a:xfrm>
          <a:custGeom>
            <a:avLst/>
            <a:gdLst/>
            <a:ahLst/>
            <a:rect l="l" t="t" r="r" b="b"/>
            <a:pathLst>
              <a:path w="1376" h="764">
                <a:moveTo>
                  <a:pt x="113" y="348"/>
                </a:moveTo>
                <a:cubicBezTo>
                  <a:pt x="166" y="270"/>
                  <a:pt x="296" y="218"/>
                  <a:pt x="395" y="162"/>
                </a:cubicBezTo>
                <a:cubicBezTo>
                  <a:pt x="494" y="106"/>
                  <a:pt x="583" y="0"/>
                  <a:pt x="710" y="9"/>
                </a:cubicBezTo>
                <a:cubicBezTo>
                  <a:pt x="837" y="18"/>
                  <a:pt x="1051" y="136"/>
                  <a:pt x="1160" y="219"/>
                </a:cubicBezTo>
                <a:cubicBezTo>
                  <a:pt x="1269" y="302"/>
                  <a:pt x="1376" y="426"/>
                  <a:pt x="1367" y="510"/>
                </a:cubicBezTo>
                <a:cubicBezTo>
                  <a:pt x="1358" y="594"/>
                  <a:pt x="1234" y="688"/>
                  <a:pt x="1103" y="726"/>
                </a:cubicBezTo>
                <a:cubicBezTo>
                  <a:pt x="972" y="764"/>
                  <a:pt x="749" y="754"/>
                  <a:pt x="578" y="738"/>
                </a:cubicBezTo>
                <a:cubicBezTo>
                  <a:pt x="407" y="722"/>
                  <a:pt x="154" y="695"/>
                  <a:pt x="77" y="630"/>
                </a:cubicBezTo>
                <a:cubicBezTo>
                  <a:pt x="0" y="565"/>
                  <a:pt x="60" y="426"/>
                  <a:pt x="113" y="34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324480" y="2228760"/>
            <a:ext cx="352440" cy="285840"/>
          </a:xfrm>
          <a:custGeom>
            <a:avLst/>
            <a:gdLst/>
            <a:ahLst/>
            <a:rect l="l" t="t" r="r" b="b"/>
            <a:pathLst>
              <a:path w="222" h="180">
                <a:moveTo>
                  <a:pt x="0" y="180"/>
                </a:moveTo>
                <a:lnTo>
                  <a:pt x="22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11920" y="260352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911920" y="2592360"/>
            <a:ext cx="144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408720" y="2592360"/>
            <a:ext cx="144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911920" y="259236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907240" y="249876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967440" y="2228760"/>
            <a:ext cx="343080" cy="300240"/>
          </a:xfrm>
          <a:custGeom>
            <a:avLst/>
            <a:gdLst/>
            <a:ahLst/>
            <a:rect l="l" t="t" r="r" b="b"/>
            <a:pathLst>
              <a:path w="216" h="189">
                <a:moveTo>
                  <a:pt x="0" y="0"/>
                </a:moveTo>
                <a:lnTo>
                  <a:pt x="216" y="189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15200" y="2647800"/>
            <a:ext cx="857160" cy="5040"/>
          </a:xfrm>
          <a:custGeom>
            <a:avLst/>
            <a:gdLst/>
            <a:ahLst/>
            <a:rect l="l" t="t" r="r" b="b"/>
            <a:pathLst>
              <a:path w="540" h="3">
                <a:moveTo>
                  <a:pt x="540" y="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5986440" y="2422440"/>
            <a:ext cx="330120" cy="398880"/>
            <a:chOff x="5986440" y="2422440"/>
            <a:chExt cx="330120" cy="398880"/>
          </a:xfrm>
        </p:grpSpPr>
        <p:sp>
          <p:nvSpPr>
            <p:cNvPr id="910" name=""/>
            <p:cNvSpPr/>
            <p:nvPr/>
          </p:nvSpPr>
          <p:spPr>
            <a:xfrm>
              <a:off x="6032880" y="2519280"/>
              <a:ext cx="22572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86440" y="2422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7248600" y="2441520"/>
            <a:ext cx="501480" cy="398880"/>
            <a:chOff x="7248600" y="2441520"/>
            <a:chExt cx="501480" cy="398880"/>
          </a:xfrm>
        </p:grpSpPr>
        <p:sp>
          <p:nvSpPr>
            <p:cNvPr id="913" name=""/>
            <p:cNvSpPr/>
            <p:nvPr/>
          </p:nvSpPr>
          <p:spPr>
            <a:xfrm>
              <a:off x="7253280" y="262260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53280" y="261144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50080" y="261144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253280" y="261144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248600" y="25174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7341480" y="2441520"/>
              <a:ext cx="326880" cy="398880"/>
              <a:chOff x="7341480" y="2441520"/>
              <a:chExt cx="326880" cy="398880"/>
            </a:xfrm>
          </p:grpSpPr>
          <p:sp>
            <p:nvSpPr>
              <p:cNvPr id="919" name=""/>
              <p:cNvSpPr/>
              <p:nvPr/>
            </p:nvSpPr>
            <p:spPr>
              <a:xfrm>
                <a:off x="7385760" y="2538000"/>
                <a:ext cx="22536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341480" y="244152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1" name=""/>
          <p:cNvSpPr/>
          <p:nvPr/>
        </p:nvSpPr>
        <p:spPr>
          <a:xfrm>
            <a:off x="7082280" y="2108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244920" y="2103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631920" y="2631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6581880" y="1927080"/>
            <a:ext cx="501480" cy="398880"/>
            <a:chOff x="6581880" y="1927080"/>
            <a:chExt cx="501480" cy="398880"/>
          </a:xfrm>
        </p:grpSpPr>
        <p:sp>
          <p:nvSpPr>
            <p:cNvPr id="925" name=""/>
            <p:cNvSpPr/>
            <p:nvPr/>
          </p:nvSpPr>
          <p:spPr>
            <a:xfrm>
              <a:off x="6586560" y="210816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586560" y="209700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083360" y="209700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86560" y="209700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581880" y="200304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6674760" y="1927080"/>
              <a:ext cx="325440" cy="398880"/>
              <a:chOff x="6674760" y="1927080"/>
              <a:chExt cx="325440" cy="398880"/>
            </a:xfrm>
          </p:grpSpPr>
          <p:sp>
            <p:nvSpPr>
              <p:cNvPr id="931" name=""/>
              <p:cNvSpPr/>
              <p:nvPr/>
            </p:nvSpPr>
            <p:spPr>
              <a:xfrm>
                <a:off x="6719040" y="2023560"/>
                <a:ext cx="22536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674760" y="192708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3" name=""/>
          <p:cNvSpPr/>
          <p:nvPr/>
        </p:nvSpPr>
        <p:spPr>
          <a:xfrm>
            <a:off x="6082200" y="1708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 flipV="1">
            <a:off x="6267600" y="2019240"/>
            <a:ext cx="209520" cy="362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35" name="dv_good" descr=""/>
          <p:cNvPicPr/>
          <p:nvPr/>
        </p:nvPicPr>
        <p:blipFill>
          <a:blip r:embed="rId1"/>
          <a:stretch/>
        </p:blipFill>
        <p:spPr>
          <a:xfrm>
            <a:off x="1838160" y="3567240"/>
            <a:ext cx="5559480" cy="277632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7419960" y="3524400"/>
            <a:ext cx="0" cy="27432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452720" y="352260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algorithm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terminat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86920" y="3827520"/>
            <a:ext cx="114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goo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news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ravel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fast”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882-D590-4399-858A-A71283BFC6C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Distance Vector: link cost changes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961920" y="1514520"/>
            <a:ext cx="381024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k cost changes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bad news travels slow - “count to infinity” problem!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66"/>
                </a:solidFill>
                <a:latin typeface="Times New Roman"/>
              </a:rPr>
              <a:t>ory </a:t>
            </a:r>
            <a:endParaRPr b="0" lang="en-US" sz="3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66"/>
                </a:solidFill>
                <a:latin typeface="Times New Roman"/>
              </a:rPr>
              <a:t>ru</a:t>
            </a:r>
            <a:endParaRPr b="0" lang="en-US" sz="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754600" y="1809720"/>
            <a:ext cx="2184480" cy="1212840"/>
          </a:xfrm>
          <a:custGeom>
            <a:avLst/>
            <a:gdLst/>
            <a:ahLst/>
            <a:rect l="l" t="t" r="r" b="b"/>
            <a:pathLst>
              <a:path w="1376" h="764">
                <a:moveTo>
                  <a:pt x="113" y="348"/>
                </a:moveTo>
                <a:cubicBezTo>
                  <a:pt x="166" y="270"/>
                  <a:pt x="296" y="218"/>
                  <a:pt x="395" y="162"/>
                </a:cubicBezTo>
                <a:cubicBezTo>
                  <a:pt x="494" y="106"/>
                  <a:pt x="583" y="0"/>
                  <a:pt x="710" y="9"/>
                </a:cubicBezTo>
                <a:cubicBezTo>
                  <a:pt x="837" y="18"/>
                  <a:pt x="1051" y="136"/>
                  <a:pt x="1160" y="219"/>
                </a:cubicBezTo>
                <a:cubicBezTo>
                  <a:pt x="1269" y="302"/>
                  <a:pt x="1376" y="426"/>
                  <a:pt x="1367" y="510"/>
                </a:cubicBezTo>
                <a:cubicBezTo>
                  <a:pt x="1358" y="594"/>
                  <a:pt x="1234" y="688"/>
                  <a:pt x="1103" y="726"/>
                </a:cubicBezTo>
                <a:cubicBezTo>
                  <a:pt x="972" y="764"/>
                  <a:pt x="749" y="754"/>
                  <a:pt x="578" y="738"/>
                </a:cubicBezTo>
                <a:cubicBezTo>
                  <a:pt x="407" y="722"/>
                  <a:pt x="154" y="695"/>
                  <a:pt x="77" y="630"/>
                </a:cubicBezTo>
                <a:cubicBezTo>
                  <a:pt x="0" y="565"/>
                  <a:pt x="60" y="426"/>
                  <a:pt x="113" y="34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324480" y="2228760"/>
            <a:ext cx="352440" cy="285840"/>
          </a:xfrm>
          <a:custGeom>
            <a:avLst/>
            <a:gdLst/>
            <a:ahLst/>
            <a:rect l="l" t="t" r="r" b="b"/>
            <a:pathLst>
              <a:path w="222" h="180">
                <a:moveTo>
                  <a:pt x="0" y="180"/>
                </a:moveTo>
                <a:lnTo>
                  <a:pt x="22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911920" y="260352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911920" y="2592360"/>
            <a:ext cx="144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08720" y="2592360"/>
            <a:ext cx="144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911920" y="259236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907240" y="249876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967440" y="2228760"/>
            <a:ext cx="343080" cy="300240"/>
          </a:xfrm>
          <a:custGeom>
            <a:avLst/>
            <a:gdLst/>
            <a:ahLst/>
            <a:rect l="l" t="t" r="r" b="b"/>
            <a:pathLst>
              <a:path w="216" h="189">
                <a:moveTo>
                  <a:pt x="0" y="0"/>
                </a:moveTo>
                <a:lnTo>
                  <a:pt x="216" y="189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415200" y="2647800"/>
            <a:ext cx="857160" cy="5040"/>
          </a:xfrm>
          <a:custGeom>
            <a:avLst/>
            <a:gdLst/>
            <a:ahLst/>
            <a:rect l="l" t="t" r="r" b="b"/>
            <a:pathLst>
              <a:path w="540" h="3">
                <a:moveTo>
                  <a:pt x="540" y="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5986440" y="2422440"/>
            <a:ext cx="330120" cy="398880"/>
            <a:chOff x="5986440" y="2422440"/>
            <a:chExt cx="330120" cy="398880"/>
          </a:xfrm>
        </p:grpSpPr>
        <p:sp>
          <p:nvSpPr>
            <p:cNvPr id="951" name=""/>
            <p:cNvSpPr/>
            <p:nvPr/>
          </p:nvSpPr>
          <p:spPr>
            <a:xfrm>
              <a:off x="6032880" y="2519280"/>
              <a:ext cx="22572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986440" y="2422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7248600" y="2441520"/>
            <a:ext cx="501480" cy="398880"/>
            <a:chOff x="7248600" y="2441520"/>
            <a:chExt cx="501480" cy="398880"/>
          </a:xfrm>
        </p:grpSpPr>
        <p:sp>
          <p:nvSpPr>
            <p:cNvPr id="954" name=""/>
            <p:cNvSpPr/>
            <p:nvPr/>
          </p:nvSpPr>
          <p:spPr>
            <a:xfrm>
              <a:off x="7253280" y="262260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253280" y="261144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750080" y="261144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53280" y="261144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48600" y="25174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7341480" y="2441520"/>
              <a:ext cx="326880" cy="398880"/>
              <a:chOff x="7341480" y="2441520"/>
              <a:chExt cx="326880" cy="398880"/>
            </a:xfrm>
          </p:grpSpPr>
          <p:sp>
            <p:nvSpPr>
              <p:cNvPr id="960" name=""/>
              <p:cNvSpPr/>
              <p:nvPr/>
            </p:nvSpPr>
            <p:spPr>
              <a:xfrm>
                <a:off x="7385760" y="2538000"/>
                <a:ext cx="22536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341480" y="244152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2" name=""/>
          <p:cNvSpPr/>
          <p:nvPr/>
        </p:nvSpPr>
        <p:spPr>
          <a:xfrm>
            <a:off x="7082280" y="2108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244920" y="2103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631920" y="2631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6581880" y="1927080"/>
            <a:ext cx="501480" cy="398880"/>
            <a:chOff x="6581880" y="1927080"/>
            <a:chExt cx="501480" cy="398880"/>
          </a:xfrm>
        </p:grpSpPr>
        <p:sp>
          <p:nvSpPr>
            <p:cNvPr id="966" name=""/>
            <p:cNvSpPr/>
            <p:nvPr/>
          </p:nvSpPr>
          <p:spPr>
            <a:xfrm>
              <a:off x="6586560" y="210816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586560" y="209700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083360" y="209700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6560" y="209700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581880" y="200304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971" name=""/>
            <p:cNvGrpSpPr/>
            <p:nvPr/>
          </p:nvGrpSpPr>
          <p:grpSpPr>
            <a:xfrm>
              <a:off x="6674760" y="1927080"/>
              <a:ext cx="325440" cy="398880"/>
              <a:chOff x="6674760" y="1927080"/>
              <a:chExt cx="325440" cy="398880"/>
            </a:xfrm>
          </p:grpSpPr>
          <p:sp>
            <p:nvSpPr>
              <p:cNvPr id="972" name=""/>
              <p:cNvSpPr/>
              <p:nvPr/>
            </p:nvSpPr>
            <p:spPr>
              <a:xfrm>
                <a:off x="6719040" y="2023560"/>
                <a:ext cx="22536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74760" y="192708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4" name=""/>
          <p:cNvSpPr/>
          <p:nvPr/>
        </p:nvSpPr>
        <p:spPr>
          <a:xfrm>
            <a:off x="6017400" y="1708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 flipV="1">
            <a:off x="6267600" y="2019240"/>
            <a:ext cx="209520" cy="362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76" name="dv_bad" descr=""/>
          <p:cNvPicPr/>
          <p:nvPr/>
        </p:nvPicPr>
        <p:blipFill>
          <a:blip r:embed="rId1"/>
          <a:stretch/>
        </p:blipFill>
        <p:spPr>
          <a:xfrm>
            <a:off x="614520" y="3254400"/>
            <a:ext cx="7292880" cy="301788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7512120" y="3436920"/>
            <a:ext cx="11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algorithm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continu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on!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B44-6925-400B-8CCD-11B1903AE24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Distance Vector: poisoned reverse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33520" y="1324080"/>
            <a:ext cx="52480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f Z routes through Y to get to X 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Z tells Y its (Z’s) distance to X is infinite (so Y won’t route to X via Z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ill this completely solve count to infinity problem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040440" y="1590840"/>
            <a:ext cx="2184480" cy="1212840"/>
          </a:xfrm>
          <a:custGeom>
            <a:avLst/>
            <a:gdLst/>
            <a:ahLst/>
            <a:rect l="l" t="t" r="r" b="b"/>
            <a:pathLst>
              <a:path w="1376" h="764">
                <a:moveTo>
                  <a:pt x="113" y="348"/>
                </a:moveTo>
                <a:cubicBezTo>
                  <a:pt x="166" y="270"/>
                  <a:pt x="296" y="218"/>
                  <a:pt x="395" y="162"/>
                </a:cubicBezTo>
                <a:cubicBezTo>
                  <a:pt x="494" y="106"/>
                  <a:pt x="583" y="0"/>
                  <a:pt x="710" y="9"/>
                </a:cubicBezTo>
                <a:cubicBezTo>
                  <a:pt x="837" y="18"/>
                  <a:pt x="1051" y="136"/>
                  <a:pt x="1160" y="219"/>
                </a:cubicBezTo>
                <a:cubicBezTo>
                  <a:pt x="1269" y="302"/>
                  <a:pt x="1376" y="426"/>
                  <a:pt x="1367" y="510"/>
                </a:cubicBezTo>
                <a:cubicBezTo>
                  <a:pt x="1358" y="594"/>
                  <a:pt x="1234" y="688"/>
                  <a:pt x="1103" y="726"/>
                </a:cubicBezTo>
                <a:cubicBezTo>
                  <a:pt x="972" y="764"/>
                  <a:pt x="749" y="754"/>
                  <a:pt x="578" y="738"/>
                </a:cubicBezTo>
                <a:cubicBezTo>
                  <a:pt x="407" y="722"/>
                  <a:pt x="154" y="695"/>
                  <a:pt x="77" y="630"/>
                </a:cubicBezTo>
                <a:cubicBezTo>
                  <a:pt x="0" y="565"/>
                  <a:pt x="60" y="426"/>
                  <a:pt x="113" y="34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610320" y="2009880"/>
            <a:ext cx="352440" cy="285480"/>
          </a:xfrm>
          <a:custGeom>
            <a:avLst/>
            <a:gdLst/>
            <a:ahLst/>
            <a:rect l="l" t="t" r="r" b="b"/>
            <a:pathLst>
              <a:path w="222" h="180">
                <a:moveTo>
                  <a:pt x="0" y="180"/>
                </a:moveTo>
                <a:lnTo>
                  <a:pt x="22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197760" y="2384280"/>
            <a:ext cx="496800" cy="1288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197760" y="2373480"/>
            <a:ext cx="144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2373480"/>
            <a:ext cx="144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197760" y="237348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192720" y="2279520"/>
            <a:ext cx="49716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253280" y="2009880"/>
            <a:ext cx="343080" cy="299880"/>
          </a:xfrm>
          <a:custGeom>
            <a:avLst/>
            <a:gdLst/>
            <a:ahLst/>
            <a:rect l="l" t="t" r="r" b="b"/>
            <a:pathLst>
              <a:path w="216" h="189">
                <a:moveTo>
                  <a:pt x="0" y="0"/>
                </a:moveTo>
                <a:lnTo>
                  <a:pt x="216" y="189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700680" y="2428920"/>
            <a:ext cx="857520" cy="4680"/>
          </a:xfrm>
          <a:custGeom>
            <a:avLst/>
            <a:gdLst/>
            <a:ahLst/>
            <a:rect l="l" t="t" r="r" b="b"/>
            <a:pathLst>
              <a:path w="540" h="3">
                <a:moveTo>
                  <a:pt x="540" y="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6272280" y="2203560"/>
            <a:ext cx="330120" cy="398880"/>
            <a:chOff x="6272280" y="2203560"/>
            <a:chExt cx="330120" cy="398880"/>
          </a:xfrm>
        </p:grpSpPr>
        <p:sp>
          <p:nvSpPr>
            <p:cNvPr id="990" name=""/>
            <p:cNvSpPr/>
            <p:nvPr/>
          </p:nvSpPr>
          <p:spPr>
            <a:xfrm>
              <a:off x="6318720" y="2300040"/>
              <a:ext cx="225720" cy="2091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272280" y="22035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7534440" y="2222640"/>
            <a:ext cx="501480" cy="398880"/>
            <a:chOff x="7534440" y="2222640"/>
            <a:chExt cx="501480" cy="398880"/>
          </a:xfrm>
        </p:grpSpPr>
        <p:sp>
          <p:nvSpPr>
            <p:cNvPr id="993" name=""/>
            <p:cNvSpPr/>
            <p:nvPr/>
          </p:nvSpPr>
          <p:spPr>
            <a:xfrm>
              <a:off x="7539120" y="240372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39120" y="239256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035920" y="239256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539120" y="239256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534440" y="229860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7627320" y="2222640"/>
              <a:ext cx="326880" cy="398880"/>
              <a:chOff x="7627320" y="2222640"/>
              <a:chExt cx="326880" cy="398880"/>
            </a:xfrm>
          </p:grpSpPr>
          <p:sp>
            <p:nvSpPr>
              <p:cNvPr id="999" name=""/>
              <p:cNvSpPr/>
              <p:nvPr/>
            </p:nvSpPr>
            <p:spPr>
              <a:xfrm>
                <a:off x="7671600" y="2319120"/>
                <a:ext cx="22536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627320" y="22226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1" name=""/>
          <p:cNvSpPr/>
          <p:nvPr/>
        </p:nvSpPr>
        <p:spPr>
          <a:xfrm>
            <a:off x="7368120" y="188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30760" y="1884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917400" y="2413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867360" y="1708200"/>
            <a:ext cx="501480" cy="398880"/>
            <a:chOff x="6867360" y="1708200"/>
            <a:chExt cx="501480" cy="398880"/>
          </a:xfrm>
        </p:grpSpPr>
        <p:sp>
          <p:nvSpPr>
            <p:cNvPr id="1005" name=""/>
            <p:cNvSpPr/>
            <p:nvPr/>
          </p:nvSpPr>
          <p:spPr>
            <a:xfrm>
              <a:off x="6872040" y="188928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872040" y="187812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368840" y="187812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872040" y="187812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67360" y="178416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6960240" y="1708200"/>
              <a:ext cx="325440" cy="398880"/>
              <a:chOff x="6960240" y="1708200"/>
              <a:chExt cx="325440" cy="398880"/>
            </a:xfrm>
          </p:grpSpPr>
          <p:sp>
            <p:nvSpPr>
              <p:cNvPr id="1011" name=""/>
              <p:cNvSpPr/>
              <p:nvPr/>
            </p:nvSpPr>
            <p:spPr>
              <a:xfrm>
                <a:off x="7004520" y="1804680"/>
                <a:ext cx="22536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960240" y="170820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3" name=""/>
          <p:cNvSpPr/>
          <p:nvPr/>
        </p:nvSpPr>
        <p:spPr>
          <a:xfrm>
            <a:off x="6303240" y="1488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 flipV="1">
            <a:off x="6553080" y="1800000"/>
            <a:ext cx="209520" cy="36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15" name="dv_pois" descr=""/>
          <p:cNvPicPr/>
          <p:nvPr/>
        </p:nvPicPr>
        <p:blipFill>
          <a:blip r:embed="rId1"/>
          <a:stretch/>
        </p:blipFill>
        <p:spPr>
          <a:xfrm>
            <a:off x="1276200" y="3484440"/>
            <a:ext cx="6775560" cy="2806920"/>
          </a:xfrm>
          <a:prstGeom prst="rect">
            <a:avLst/>
          </a:prstGeom>
          <a:ln w="0">
            <a:noFill/>
          </a:ln>
        </p:spPr>
      </p:pic>
      <p:sp>
        <p:nvSpPr>
          <p:cNvPr id="1016" name=""/>
          <p:cNvSpPr/>
          <p:nvPr/>
        </p:nvSpPr>
        <p:spPr>
          <a:xfrm>
            <a:off x="7772400" y="3267000"/>
            <a:ext cx="0" cy="27432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805160" y="326556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algorithm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terminat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0AE-2FC3-4146-9A6B-9F268C752AD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5"/>
                </a:solidFill>
                <a:latin typeface="Arial"/>
              </a:rPr>
              <a:t>Comparison of LS and DV algorithms</a:t>
            </a:r>
            <a:endParaRPr b="1" lang="en-US" sz="24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23800" y="129528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ssage complexity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S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with n nodes, E links, O(nE) msgs sent each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V: 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xchange between neighbors only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gence time v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ed of Convergence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S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O(n**2) algorithm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have oscil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V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: convergence time varie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be routing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-to-infinity prob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743000" y="1295280"/>
            <a:ext cx="401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bustness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what happens if router malfunctions?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S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can advertise incorrect 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node computes only i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w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V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V node can advertise incorrect 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pa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node’s table used by oth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ff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Arial"/>
              </a:rPr>
              <a:t>error propagate thru network</a:t>
            </a: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2AB-87EC-4547-A731-F4F5ED2BC47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Hierarchical Routing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66560" y="3479760"/>
            <a:ext cx="403416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ale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with 50 million destinations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can’t store all dest’s in routing tables!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outing table exchange would swamp links!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447800" y="3466800"/>
            <a:ext cx="4019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ministrative autonomy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nternet = network of network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ach network admin may want to control routing in its own network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028960" y="1419120"/>
            <a:ext cx="6543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ur routing study thus far - idealization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ll routers identica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etwork “flat”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… 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true in practic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817-406B-47E8-868C-8A2EACD1ECA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Side Note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mportant things in research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ing the right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ing the right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xt of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Previous and related work</a:t>
            </a:r>
            <a:endParaRPr b="0" i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Impact</a:t>
            </a:r>
            <a:endParaRPr b="0" i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roughness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1B6-250E-4769-B9AD-4CA9BAB6108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Hierarchical Routing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42520" y="1495080"/>
            <a:ext cx="380988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ggregate routers into regions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“autonomous systems” (AS)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routers in same AS run same routing protocol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ra-AS” rou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ters in different AS can run different intra-AS routing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76720" y="1942920"/>
            <a:ext cx="347688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special routers in A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un intra-AS routing protocol with all other routers in A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also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responsible for routing to destinations outside A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inter-AS rou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tocol with other gateway ro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971960" y="1666800"/>
            <a:ext cx="3676680" cy="389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5085360" y="1398600"/>
            <a:ext cx="2520000" cy="459720"/>
            <a:chOff x="5085360" y="1398600"/>
            <a:chExt cx="2520000" cy="459720"/>
          </a:xfrm>
        </p:grpSpPr>
        <p:sp>
          <p:nvSpPr>
            <p:cNvPr id="1030" name=""/>
            <p:cNvSpPr/>
            <p:nvPr/>
          </p:nvSpPr>
          <p:spPr>
            <a:xfrm>
              <a:off x="5114520" y="1495440"/>
              <a:ext cx="2419200" cy="29520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085360" y="1398600"/>
              <a:ext cx="25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</a:rPr>
                <a:t>gateway routers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A65-4DEC-4DFD-B11F-4444DDC5F4A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IP Addressing: introduction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P address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32-bit identifier for host, router </a:t>
            </a:r>
            <a:r>
              <a:rPr b="1" i="1" lang="en-US" sz="2400" spc="-1" strike="noStrike">
                <a:solidFill>
                  <a:srgbClr val="f3a70f"/>
                </a:solidFill>
                <a:latin typeface="Arial"/>
              </a:rPr>
              <a:t>interface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interface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connection between host, router and physical link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ter’s typically have multiple interfa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may have multiple interfa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 addresses associated with interface, not host, 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3"/>
          <a:stretch/>
        </p:blipFill>
        <p:spPr>
          <a:xfrm>
            <a:off x="4456080" y="126540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5016600" y="1638360"/>
            <a:ext cx="27756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307120" y="1623960"/>
            <a:ext cx="0" cy="12906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016600" y="2282400"/>
            <a:ext cx="277560" cy="32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025960" y="2909880"/>
            <a:ext cx="27324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4"/>
          <a:stretch/>
        </p:blipFill>
        <p:spPr>
          <a:xfrm>
            <a:off x="4456080" y="1932120"/>
            <a:ext cx="584280" cy="46332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5"/>
          <a:stretch/>
        </p:blipFill>
        <p:spPr>
          <a:xfrm>
            <a:off x="4456080" y="254160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/>
          <p:nvPr/>
        </p:nvSpPr>
        <p:spPr>
          <a:xfrm>
            <a:off x="5307120" y="2481120"/>
            <a:ext cx="1035000" cy="64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6249960" y="2446200"/>
            <a:ext cx="711000" cy="380880"/>
            <a:chOff x="6249960" y="2446200"/>
            <a:chExt cx="711000" cy="380880"/>
          </a:xfrm>
        </p:grpSpPr>
        <p:sp>
          <p:nvSpPr>
            <p:cNvPr id="1043" name=""/>
            <p:cNvSpPr/>
            <p:nvPr/>
          </p:nvSpPr>
          <p:spPr>
            <a:xfrm>
              <a:off x="6255720" y="2616120"/>
              <a:ext cx="705240" cy="210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255720" y="259812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960960" y="259812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255720" y="2598120"/>
              <a:ext cx="69912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249960" y="2446200"/>
              <a:ext cx="70488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6419520" y="2500560"/>
              <a:ext cx="349200" cy="143640"/>
              <a:chOff x="6419520" y="2500560"/>
              <a:chExt cx="349200" cy="143640"/>
            </a:xfrm>
          </p:grpSpPr>
          <p:sp>
            <p:nvSpPr>
              <p:cNvPr id="1049" name=""/>
              <p:cNvSpPr/>
              <p:nvPr/>
            </p:nvSpPr>
            <p:spPr>
              <a:xfrm flipV="1">
                <a:off x="6419520" y="250056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658920" y="264420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534360" y="250344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6419520" y="2498040"/>
              <a:ext cx="349200" cy="143640"/>
              <a:chOff x="6419520" y="2498040"/>
              <a:chExt cx="349200" cy="143640"/>
            </a:xfrm>
          </p:grpSpPr>
          <p:sp>
            <p:nvSpPr>
              <p:cNvPr id="1053" name=""/>
              <p:cNvSpPr/>
              <p:nvPr/>
            </p:nvSpPr>
            <p:spPr>
              <a:xfrm>
                <a:off x="6419520" y="263880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658920" y="249804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>
                <a:off x="6534360" y="24984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6" name=""/>
          <p:cNvSpPr/>
          <p:nvPr/>
        </p:nvSpPr>
        <p:spPr>
          <a:xfrm>
            <a:off x="4977720" y="13129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4977720" y="1955880"/>
            <a:ext cx="1026720" cy="337320"/>
            <a:chOff x="4977720" y="1955880"/>
            <a:chExt cx="1026720" cy="337320"/>
          </a:xfrm>
        </p:grpSpPr>
        <p:sp>
          <p:nvSpPr>
            <p:cNvPr id="1058" name=""/>
            <p:cNvSpPr/>
            <p:nvPr/>
          </p:nvSpPr>
          <p:spPr>
            <a:xfrm>
              <a:off x="5062680" y="2033640"/>
              <a:ext cx="833400" cy="18108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77720" y="19558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4863600" y="2894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654160" y="2222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854760" y="2490840"/>
            <a:ext cx="101592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30200" y="22129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878600" y="1795320"/>
            <a:ext cx="0" cy="12909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6"/>
          <a:stretch/>
        </p:blipFill>
        <p:spPr>
          <a:xfrm>
            <a:off x="8056440" y="15033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066" name=""/>
          <p:cNvSpPr/>
          <p:nvPr/>
        </p:nvSpPr>
        <p:spPr>
          <a:xfrm>
            <a:off x="7878600" y="180036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67" name="" descr=""/>
          <p:cNvPicPr/>
          <p:nvPr/>
        </p:nvPicPr>
        <p:blipFill>
          <a:blip r:embed="rId7"/>
          <a:stretch/>
        </p:blipFill>
        <p:spPr>
          <a:xfrm>
            <a:off x="8061480" y="2884320"/>
            <a:ext cx="583920" cy="463680"/>
          </a:xfrm>
          <a:prstGeom prst="rect">
            <a:avLst/>
          </a:prstGeom>
          <a:ln w="0">
            <a:noFill/>
          </a:ln>
        </p:spPr>
      </p:pic>
      <p:sp>
        <p:nvSpPr>
          <p:cNvPr id="1068" name=""/>
          <p:cNvSpPr/>
          <p:nvPr/>
        </p:nvSpPr>
        <p:spPr>
          <a:xfrm>
            <a:off x="7878600" y="307188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7192440" y="2732040"/>
            <a:ext cx="1026720" cy="337320"/>
            <a:chOff x="7192440" y="2732040"/>
            <a:chExt cx="1026720" cy="337320"/>
          </a:xfrm>
        </p:grpSpPr>
        <p:sp>
          <p:nvSpPr>
            <p:cNvPr id="1070" name=""/>
            <p:cNvSpPr/>
            <p:nvPr/>
          </p:nvSpPr>
          <p:spPr>
            <a:xfrm>
              <a:off x="7277040" y="2819160"/>
              <a:ext cx="847800" cy="18108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192440" y="27320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7154280" y="1760400"/>
            <a:ext cx="1026720" cy="337320"/>
            <a:chOff x="7154280" y="1760400"/>
            <a:chExt cx="1026720" cy="337320"/>
          </a:xfrm>
        </p:grpSpPr>
        <p:sp>
          <p:nvSpPr>
            <p:cNvPr id="1073" name=""/>
            <p:cNvSpPr/>
            <p:nvPr/>
          </p:nvSpPr>
          <p:spPr>
            <a:xfrm>
              <a:off x="7238880" y="1847520"/>
              <a:ext cx="847800" cy="18108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154280" y="17604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6616800" y="2828880"/>
            <a:ext cx="0" cy="12906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6006960" y="4110120"/>
            <a:ext cx="118584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6004080" y="4102200"/>
            <a:ext cx="288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 flipV="1">
            <a:off x="7179840" y="410688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8"/>
          <a:stretch/>
        </p:blipFill>
        <p:spPr>
          <a:xfrm>
            <a:off x="6966000" y="4265640"/>
            <a:ext cx="584280" cy="46368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9"/>
          <a:stretch/>
        </p:blipFill>
        <p:spPr>
          <a:xfrm>
            <a:off x="5708520" y="4280040"/>
            <a:ext cx="584280" cy="463320"/>
          </a:xfrm>
          <a:prstGeom prst="rect">
            <a:avLst/>
          </a:prstGeom>
          <a:ln w="0">
            <a:noFill/>
          </a:ln>
        </p:spPr>
      </p:pic>
      <p:grpSp>
        <p:nvGrpSpPr>
          <p:cNvPr id="1081" name=""/>
          <p:cNvGrpSpPr/>
          <p:nvPr/>
        </p:nvGrpSpPr>
        <p:grpSpPr>
          <a:xfrm>
            <a:off x="7154280" y="3984480"/>
            <a:ext cx="1026720" cy="337320"/>
            <a:chOff x="7154280" y="3984480"/>
            <a:chExt cx="1026720" cy="337320"/>
          </a:xfrm>
        </p:grpSpPr>
        <p:sp>
          <p:nvSpPr>
            <p:cNvPr id="1082" name=""/>
            <p:cNvSpPr/>
            <p:nvPr/>
          </p:nvSpPr>
          <p:spPr>
            <a:xfrm>
              <a:off x="7238880" y="4071600"/>
              <a:ext cx="847800" cy="18108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154280" y="39844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5006160" y="4013280"/>
            <a:ext cx="1026720" cy="337320"/>
            <a:chOff x="5006160" y="4013280"/>
            <a:chExt cx="1026720" cy="337320"/>
          </a:xfrm>
        </p:grpSpPr>
        <p:sp>
          <p:nvSpPr>
            <p:cNvPr id="1085" name=""/>
            <p:cNvSpPr/>
            <p:nvPr/>
          </p:nvSpPr>
          <p:spPr>
            <a:xfrm>
              <a:off x="5090760" y="4100400"/>
              <a:ext cx="847800" cy="18108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006160" y="40132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6006600" y="2874960"/>
            <a:ext cx="1139400" cy="337320"/>
            <a:chOff x="6006600" y="2874960"/>
            <a:chExt cx="1139400" cy="337320"/>
          </a:xfrm>
        </p:grpSpPr>
        <p:sp>
          <p:nvSpPr>
            <p:cNvPr id="1088" name=""/>
            <p:cNvSpPr/>
            <p:nvPr/>
          </p:nvSpPr>
          <p:spPr>
            <a:xfrm>
              <a:off x="6091200" y="2962080"/>
              <a:ext cx="847800" cy="18108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06600" y="287496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3988080" y="534204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1 = 11011111 00000001 00000001 0000000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62400" y="5597640"/>
            <a:ext cx="892440" cy="91800"/>
          </a:xfrm>
          <a:custGeom>
            <a:avLst/>
            <a:gdLst/>
            <a:ahLst/>
            <a:rect l="l" t="t" r="r" b="b"/>
            <a:pathLst>
              <a:path w="562" h="58">
                <a:moveTo>
                  <a:pt x="0" y="0"/>
                </a:moveTo>
                <a:lnTo>
                  <a:pt x="0" y="58"/>
                </a:lnTo>
                <a:lnTo>
                  <a:pt x="562" y="58"/>
                </a:lnTo>
                <a:lnTo>
                  <a:pt x="562" y="16"/>
                </a:ln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24680" y="5616720"/>
            <a:ext cx="892080" cy="79200"/>
          </a:xfrm>
          <a:custGeom>
            <a:avLst/>
            <a:gdLst/>
            <a:ahLst/>
            <a:rect l="l" t="t" r="r" b="b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3480" bIns="334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089840" y="5619600"/>
            <a:ext cx="869760" cy="79560"/>
          </a:xfrm>
          <a:custGeom>
            <a:avLst/>
            <a:gdLst/>
            <a:ahLst/>
            <a:rect l="l" t="t" r="r" b="b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3840" bIns="338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8055000" y="5622840"/>
            <a:ext cx="869760" cy="79560"/>
          </a:xfrm>
          <a:custGeom>
            <a:avLst/>
            <a:gdLst/>
            <a:ahLst/>
            <a:rect l="l" t="t" r="r" b="b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3840" bIns="338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62560" y="581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0548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836316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34400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372-DF5E-4914-AE32-EF66312F0F0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4378320" y="1160640"/>
            <a:ext cx="1941480" cy="2049120"/>
          </a:xfrm>
          <a:custGeom>
            <a:avLst/>
            <a:gdLst/>
            <a:ahLst/>
            <a:rect l="l" t="t" r="r" b="b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894360" y="1447920"/>
            <a:ext cx="1906920" cy="1958760"/>
          </a:xfrm>
          <a:custGeom>
            <a:avLst/>
            <a:gdLst/>
            <a:ahLst/>
            <a:rect l="l" t="t" r="r" b="b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578560" y="2881440"/>
            <a:ext cx="2041560" cy="1979640"/>
          </a:xfrm>
          <a:custGeom>
            <a:avLst/>
            <a:gdLst/>
            <a:ahLst/>
            <a:rect l="l" t="t" r="r" b="b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IP Addressing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P address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part (high order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part (low order bit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What’s a network ? 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from IP address perspective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ice interfaces with same network part of IP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physically reach each other without intervening 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3"/>
          <a:stretch/>
        </p:blipFill>
        <p:spPr>
          <a:xfrm>
            <a:off x="4456080" y="126540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5016600" y="1638360"/>
            <a:ext cx="27756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307120" y="1623960"/>
            <a:ext cx="0" cy="12906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5016600" y="2282400"/>
            <a:ext cx="277560" cy="32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025960" y="2909880"/>
            <a:ext cx="27324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4"/>
          <a:stretch/>
        </p:blipFill>
        <p:spPr>
          <a:xfrm>
            <a:off x="4456080" y="1932120"/>
            <a:ext cx="584280" cy="46332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/>
          <p:cNvPicPr/>
          <p:nvPr/>
        </p:nvPicPr>
        <p:blipFill>
          <a:blip r:embed="rId5"/>
          <a:stretch/>
        </p:blipFill>
        <p:spPr>
          <a:xfrm>
            <a:off x="4456080" y="254160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5307120" y="2481120"/>
            <a:ext cx="1035000" cy="64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6249960" y="2446200"/>
            <a:ext cx="711000" cy="380880"/>
            <a:chOff x="6249960" y="2446200"/>
            <a:chExt cx="711000" cy="380880"/>
          </a:xfrm>
        </p:grpSpPr>
        <p:sp>
          <p:nvSpPr>
            <p:cNvPr id="1113" name=""/>
            <p:cNvSpPr/>
            <p:nvPr/>
          </p:nvSpPr>
          <p:spPr>
            <a:xfrm>
              <a:off x="6255720" y="2616120"/>
              <a:ext cx="705240" cy="210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55720" y="259812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960960" y="259812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255720" y="2598120"/>
              <a:ext cx="69912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249960" y="2446200"/>
              <a:ext cx="70488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118" name=""/>
            <p:cNvGrpSpPr/>
            <p:nvPr/>
          </p:nvGrpSpPr>
          <p:grpSpPr>
            <a:xfrm>
              <a:off x="6419520" y="2500560"/>
              <a:ext cx="349200" cy="143640"/>
              <a:chOff x="6419520" y="2500560"/>
              <a:chExt cx="349200" cy="143640"/>
            </a:xfrm>
          </p:grpSpPr>
          <p:sp>
            <p:nvSpPr>
              <p:cNvPr id="1119" name=""/>
              <p:cNvSpPr/>
              <p:nvPr/>
            </p:nvSpPr>
            <p:spPr>
              <a:xfrm flipV="1">
                <a:off x="6419520" y="250056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658920" y="264420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534360" y="250344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6419520" y="2498040"/>
              <a:ext cx="349200" cy="143640"/>
              <a:chOff x="6419520" y="2498040"/>
              <a:chExt cx="349200" cy="143640"/>
            </a:xfrm>
          </p:grpSpPr>
          <p:sp>
            <p:nvSpPr>
              <p:cNvPr id="1123" name=""/>
              <p:cNvSpPr/>
              <p:nvPr/>
            </p:nvSpPr>
            <p:spPr>
              <a:xfrm>
                <a:off x="6419520" y="263880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658920" y="249804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V="1">
                <a:off x="6534360" y="24984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6" name=""/>
          <p:cNvSpPr/>
          <p:nvPr/>
        </p:nvSpPr>
        <p:spPr>
          <a:xfrm>
            <a:off x="4977720" y="13129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062680" y="2033640"/>
            <a:ext cx="30960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992120" y="1941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863600" y="2894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654160" y="2222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54760" y="2490840"/>
            <a:ext cx="101592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30200" y="22129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878600" y="1795320"/>
            <a:ext cx="0" cy="12909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6"/>
          <a:stretch/>
        </p:blipFill>
        <p:spPr>
          <a:xfrm>
            <a:off x="8056440" y="15033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135" name=""/>
          <p:cNvSpPr/>
          <p:nvPr/>
        </p:nvSpPr>
        <p:spPr>
          <a:xfrm>
            <a:off x="7878600" y="180036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36" name="" descr=""/>
          <p:cNvPicPr/>
          <p:nvPr/>
        </p:nvPicPr>
        <p:blipFill>
          <a:blip r:embed="rId7"/>
          <a:stretch/>
        </p:blipFill>
        <p:spPr>
          <a:xfrm>
            <a:off x="8061480" y="2884320"/>
            <a:ext cx="583920" cy="46368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7878600" y="307188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824960" y="2819520"/>
            <a:ext cx="17136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216200" y="2732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839000" y="1847880"/>
            <a:ext cx="24768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063560" y="175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616800" y="2828880"/>
            <a:ext cx="0" cy="12906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6006960" y="4110120"/>
            <a:ext cx="118584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 flipV="1">
            <a:off x="6004080" y="4102200"/>
            <a:ext cx="288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 flipV="1">
            <a:off x="7179840" y="410688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46" name="" descr=""/>
          <p:cNvPicPr/>
          <p:nvPr/>
        </p:nvPicPr>
        <p:blipFill>
          <a:blip r:embed="rId8"/>
          <a:stretch/>
        </p:blipFill>
        <p:spPr>
          <a:xfrm>
            <a:off x="6966000" y="4265640"/>
            <a:ext cx="584280" cy="463680"/>
          </a:xfrm>
          <a:prstGeom prst="rect">
            <a:avLst/>
          </a:prstGeom>
          <a:ln w="0">
            <a:noFill/>
          </a:ln>
        </p:spPr>
      </p:pic>
      <p:pic>
        <p:nvPicPr>
          <p:cNvPr id="1147" name="" descr=""/>
          <p:cNvPicPr/>
          <p:nvPr/>
        </p:nvPicPr>
        <p:blipFill>
          <a:blip r:embed="rId9"/>
          <a:stretch/>
        </p:blipFill>
        <p:spPr>
          <a:xfrm>
            <a:off x="5708520" y="428004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>
            <a:off x="7187400" y="3956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848120" y="3828960"/>
            <a:ext cx="847800" cy="181080"/>
          </a:xfrm>
          <a:prstGeom prst="rect">
            <a:avLst/>
          </a:prstGeom>
          <a:solidFill>
            <a:srgbClr val="2121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11200" y="39942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553080" y="2962440"/>
            <a:ext cx="12888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015960" y="288432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733640" y="505152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network consisting of 3 IP network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(for IP addresses starting with 223,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first 24 bits are network address)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60880" y="34322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6705720" y="3695760"/>
            <a:ext cx="1713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988-E572-4486-9A40-DF3DFB56ED1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6114960" y="2819520"/>
            <a:ext cx="1268640" cy="1463400"/>
          </a:xfrm>
          <a:custGeom>
            <a:avLst/>
            <a:gdLst/>
            <a:ahLst/>
            <a:rect l="l" t="t" r="r" b="b"/>
            <a:pathLst>
              <a:path w="799" h="922">
                <a:moveTo>
                  <a:pt x="6" y="66"/>
                </a:moveTo>
                <a:cubicBezTo>
                  <a:pt x="13" y="117"/>
                  <a:pt x="234" y="314"/>
                  <a:pt x="341" y="446"/>
                </a:cubicBezTo>
                <a:cubicBezTo>
                  <a:pt x="448" y="578"/>
                  <a:pt x="577" y="794"/>
                  <a:pt x="648" y="858"/>
                </a:cubicBezTo>
                <a:cubicBezTo>
                  <a:pt x="719" y="922"/>
                  <a:pt x="799" y="912"/>
                  <a:pt x="768" y="828"/>
                </a:cubicBezTo>
                <a:cubicBezTo>
                  <a:pt x="737" y="744"/>
                  <a:pt x="581" y="492"/>
                  <a:pt x="463" y="354"/>
                </a:cubicBezTo>
                <a:cubicBezTo>
                  <a:pt x="345" y="216"/>
                  <a:pt x="136" y="48"/>
                  <a:pt x="60" y="0"/>
                </a:cubicBezTo>
                <a:cubicBezTo>
                  <a:pt x="25" y="47"/>
                  <a:pt x="0" y="15"/>
                  <a:pt x="6" y="66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819680" y="4330800"/>
            <a:ext cx="2257560" cy="326880"/>
          </a:xfrm>
          <a:custGeom>
            <a:avLst/>
            <a:gdLst/>
            <a:ahLst/>
            <a:rect l="l" t="t" r="r" b="b"/>
            <a:pathLst>
              <a:path w="1422" h="206">
                <a:moveTo>
                  <a:pt x="42" y="176"/>
                </a:moveTo>
                <a:cubicBezTo>
                  <a:pt x="84" y="206"/>
                  <a:pt x="437" y="167"/>
                  <a:pt x="641" y="166"/>
                </a:cubicBezTo>
                <a:cubicBezTo>
                  <a:pt x="845" y="165"/>
                  <a:pt x="1153" y="192"/>
                  <a:pt x="1266" y="170"/>
                </a:cubicBezTo>
                <a:cubicBezTo>
                  <a:pt x="1379" y="148"/>
                  <a:pt x="1422" y="58"/>
                  <a:pt x="1320" y="32"/>
                </a:cubicBezTo>
                <a:cubicBezTo>
                  <a:pt x="1218" y="6"/>
                  <a:pt x="869" y="15"/>
                  <a:pt x="657" y="14"/>
                </a:cubicBezTo>
                <a:cubicBezTo>
                  <a:pt x="445" y="13"/>
                  <a:pt x="147" y="0"/>
                  <a:pt x="45" y="27"/>
                </a:cubicBezTo>
                <a:cubicBezTo>
                  <a:pt x="56" y="84"/>
                  <a:pt x="0" y="146"/>
                  <a:pt x="42" y="176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562640" y="2743200"/>
            <a:ext cx="1158840" cy="1547640"/>
          </a:xfrm>
          <a:custGeom>
            <a:avLst/>
            <a:gdLst/>
            <a:ahLst/>
            <a:rect l="l" t="t" r="r" b="b"/>
            <a:pathLst>
              <a:path w="730" h="975">
                <a:moveTo>
                  <a:pt x="157" y="952"/>
                </a:moveTo>
                <a:cubicBezTo>
                  <a:pt x="272" y="930"/>
                  <a:pt x="357" y="644"/>
                  <a:pt x="462" y="498"/>
                </a:cubicBezTo>
                <a:cubicBezTo>
                  <a:pt x="554" y="363"/>
                  <a:pt x="686" y="220"/>
                  <a:pt x="708" y="144"/>
                </a:cubicBezTo>
                <a:cubicBezTo>
                  <a:pt x="730" y="68"/>
                  <a:pt x="654" y="0"/>
                  <a:pt x="594" y="42"/>
                </a:cubicBezTo>
                <a:cubicBezTo>
                  <a:pt x="534" y="84"/>
                  <a:pt x="447" y="253"/>
                  <a:pt x="348" y="396"/>
                </a:cubicBezTo>
                <a:cubicBezTo>
                  <a:pt x="249" y="539"/>
                  <a:pt x="32" y="807"/>
                  <a:pt x="0" y="900"/>
                </a:cubicBezTo>
                <a:cubicBezTo>
                  <a:pt x="53" y="924"/>
                  <a:pt x="43" y="975"/>
                  <a:pt x="157" y="9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rot="5265600">
            <a:off x="5310360" y="560880"/>
            <a:ext cx="1612800" cy="2049480"/>
          </a:xfrm>
          <a:custGeom>
            <a:avLst/>
            <a:gdLst/>
            <a:ahLst/>
            <a:rect l="l" t="t" r="r" b="b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IP Addressing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47480" y="1314360"/>
            <a:ext cx="369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ow to find the networks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Detach each interface from router, host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create “islands of isolated network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3"/>
          <a:stretch/>
        </p:blipFill>
        <p:spPr>
          <a:xfrm>
            <a:off x="6389640" y="9507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 flipH="1">
            <a:off x="5225760" y="1576440"/>
            <a:ext cx="150012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6727320" y="1401840"/>
            <a:ext cx="3240" cy="1648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5227200" y="1347840"/>
            <a:ext cx="3240" cy="2253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4"/>
          <a:stretch/>
        </p:blipFill>
        <p:spPr>
          <a:xfrm>
            <a:off x="5780160" y="846000"/>
            <a:ext cx="584280" cy="46368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5"/>
          <a:stretch/>
        </p:blipFill>
        <p:spPr>
          <a:xfrm>
            <a:off x="5151600" y="979560"/>
            <a:ext cx="583920" cy="463320"/>
          </a:xfrm>
          <a:prstGeom prst="rect">
            <a:avLst/>
          </a:prstGeom>
          <a:ln w="0">
            <a:noFill/>
          </a:ln>
        </p:spPr>
      </p:pic>
      <p:sp>
        <p:nvSpPr>
          <p:cNvPr id="1168" name=""/>
          <p:cNvSpPr/>
          <p:nvPr/>
        </p:nvSpPr>
        <p:spPr>
          <a:xfrm flipH="1">
            <a:off x="5855760" y="1585800"/>
            <a:ext cx="3240" cy="7970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72960" y="1403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29400" y="2052720"/>
            <a:ext cx="30960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30440" y="20559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030440" y="1427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622680" y="4564080"/>
            <a:ext cx="1539720" cy="1490760"/>
          </a:xfrm>
          <a:custGeom>
            <a:avLst/>
            <a:gdLst/>
            <a:ahLst/>
            <a:rect l="l" t="t" r="r" b="b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4059360" y="4275000"/>
            <a:ext cx="710640" cy="380880"/>
            <a:chOff x="4059360" y="4275000"/>
            <a:chExt cx="710640" cy="380880"/>
          </a:xfrm>
        </p:grpSpPr>
        <p:sp>
          <p:nvSpPr>
            <p:cNvPr id="1175" name=""/>
            <p:cNvSpPr/>
            <p:nvPr/>
          </p:nvSpPr>
          <p:spPr>
            <a:xfrm>
              <a:off x="4065120" y="4444920"/>
              <a:ext cx="704880" cy="210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065120" y="442692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70000" y="442692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065120" y="4426920"/>
              <a:ext cx="69876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059360" y="4275000"/>
              <a:ext cx="70452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4228920" y="4329360"/>
              <a:ext cx="349200" cy="143640"/>
              <a:chOff x="4228920" y="4329360"/>
              <a:chExt cx="349200" cy="143640"/>
            </a:xfrm>
          </p:grpSpPr>
          <p:sp>
            <p:nvSpPr>
              <p:cNvPr id="1181" name=""/>
              <p:cNvSpPr/>
              <p:nvPr/>
            </p:nvSpPr>
            <p:spPr>
              <a:xfrm flipV="1">
                <a:off x="4228920" y="432936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468320" y="447300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343760" y="433224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4228920" y="4326840"/>
              <a:ext cx="349200" cy="143640"/>
              <a:chOff x="4228920" y="4326840"/>
              <a:chExt cx="349200" cy="143640"/>
            </a:xfrm>
          </p:grpSpPr>
          <p:sp>
            <p:nvSpPr>
              <p:cNvPr id="1185" name=""/>
              <p:cNvSpPr/>
              <p:nvPr/>
            </p:nvSpPr>
            <p:spPr>
              <a:xfrm>
                <a:off x="4228920" y="446760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468320" y="432684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4343760" y="43272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8" name=""/>
          <p:cNvSpPr/>
          <p:nvPr/>
        </p:nvSpPr>
        <p:spPr>
          <a:xfrm>
            <a:off x="4378320" y="4667400"/>
            <a:ext cx="0" cy="7048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 flipV="1">
            <a:off x="3858840" y="5371920"/>
            <a:ext cx="1019160" cy="46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 flipV="1">
            <a:off x="3870000" y="5387760"/>
            <a:ext cx="3240" cy="1695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 flipV="1">
            <a:off x="4865400" y="537372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6"/>
          <a:stretch/>
        </p:blipFill>
        <p:spPr>
          <a:xfrm>
            <a:off x="4413240" y="5475240"/>
            <a:ext cx="584280" cy="463680"/>
          </a:xfrm>
          <a:prstGeom prst="rect">
            <a:avLst/>
          </a:prstGeom>
          <a:ln w="0">
            <a:noFill/>
          </a:ln>
        </p:spPr>
      </p:pic>
      <p:pic>
        <p:nvPicPr>
          <p:cNvPr id="1193" name="" descr=""/>
          <p:cNvPicPr/>
          <p:nvPr/>
        </p:nvPicPr>
        <p:blipFill>
          <a:blip r:embed="rId7"/>
          <a:stretch/>
        </p:blipFill>
        <p:spPr>
          <a:xfrm>
            <a:off x="3765600" y="548964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194" name=""/>
          <p:cNvSpPr/>
          <p:nvPr/>
        </p:nvSpPr>
        <p:spPr>
          <a:xfrm>
            <a:off x="4796640" y="51465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920320" y="52563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319640" y="4767120"/>
            <a:ext cx="12852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225240" y="46753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6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575400" y="4564080"/>
            <a:ext cx="1540080" cy="1490760"/>
          </a:xfrm>
          <a:custGeom>
            <a:avLst/>
            <a:gdLst/>
            <a:ahLst/>
            <a:rect l="l" t="t" r="r" b="b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7012080" y="4275000"/>
            <a:ext cx="710640" cy="380880"/>
            <a:chOff x="7012080" y="4275000"/>
            <a:chExt cx="710640" cy="380880"/>
          </a:xfrm>
        </p:grpSpPr>
        <p:sp>
          <p:nvSpPr>
            <p:cNvPr id="1200" name=""/>
            <p:cNvSpPr/>
            <p:nvPr/>
          </p:nvSpPr>
          <p:spPr>
            <a:xfrm>
              <a:off x="7017840" y="4444920"/>
              <a:ext cx="704880" cy="210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017840" y="442692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722720" y="442692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017840" y="4426920"/>
              <a:ext cx="69876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012080" y="4275000"/>
              <a:ext cx="70452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7181640" y="4329360"/>
              <a:ext cx="349200" cy="143640"/>
              <a:chOff x="7181640" y="4329360"/>
              <a:chExt cx="349200" cy="143640"/>
            </a:xfrm>
          </p:grpSpPr>
          <p:sp>
            <p:nvSpPr>
              <p:cNvPr id="1206" name=""/>
              <p:cNvSpPr/>
              <p:nvPr/>
            </p:nvSpPr>
            <p:spPr>
              <a:xfrm flipV="1">
                <a:off x="7181640" y="432936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421040" y="447300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96480" y="433224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7181640" y="4326840"/>
              <a:ext cx="349200" cy="143640"/>
              <a:chOff x="7181640" y="4326840"/>
              <a:chExt cx="349200" cy="143640"/>
            </a:xfrm>
          </p:grpSpPr>
          <p:sp>
            <p:nvSpPr>
              <p:cNvPr id="1210" name=""/>
              <p:cNvSpPr/>
              <p:nvPr/>
            </p:nvSpPr>
            <p:spPr>
              <a:xfrm>
                <a:off x="7181640" y="446760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421040" y="432684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V="1">
                <a:off x="7296480" y="43272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3" name=""/>
          <p:cNvSpPr/>
          <p:nvPr/>
        </p:nvSpPr>
        <p:spPr>
          <a:xfrm>
            <a:off x="7331040" y="4667400"/>
            <a:ext cx="0" cy="7048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H="1" flipV="1">
            <a:off x="6811560" y="5371920"/>
            <a:ext cx="1019160" cy="46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 flipV="1">
            <a:off x="6822720" y="5387760"/>
            <a:ext cx="3240" cy="1695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7818120" y="537372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8"/>
          <a:stretch/>
        </p:blipFill>
        <p:spPr>
          <a:xfrm>
            <a:off x="7365960" y="5475240"/>
            <a:ext cx="584280" cy="46368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/>
          <p:cNvPicPr/>
          <p:nvPr/>
        </p:nvPicPr>
        <p:blipFill>
          <a:blip r:embed="rId9"/>
          <a:stretch/>
        </p:blipFill>
        <p:spPr>
          <a:xfrm>
            <a:off x="6718320" y="548964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7768440" y="526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873040" y="52563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272360" y="4767120"/>
            <a:ext cx="12852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454160" y="469440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5526000" y="2389320"/>
            <a:ext cx="711000" cy="380160"/>
            <a:chOff x="5526000" y="2389320"/>
            <a:chExt cx="711000" cy="380160"/>
          </a:xfrm>
        </p:grpSpPr>
        <p:sp>
          <p:nvSpPr>
            <p:cNvPr id="1224" name=""/>
            <p:cNvSpPr/>
            <p:nvPr/>
          </p:nvSpPr>
          <p:spPr>
            <a:xfrm>
              <a:off x="5531760" y="2558880"/>
              <a:ext cx="705240" cy="21060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531760" y="254124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237000" y="254124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531760" y="2541240"/>
              <a:ext cx="69912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26000" y="2389320"/>
              <a:ext cx="70488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229" name=""/>
            <p:cNvGrpSpPr/>
            <p:nvPr/>
          </p:nvGrpSpPr>
          <p:grpSpPr>
            <a:xfrm>
              <a:off x="5695560" y="2443320"/>
              <a:ext cx="349200" cy="143640"/>
              <a:chOff x="5695560" y="2443320"/>
              <a:chExt cx="349200" cy="143640"/>
            </a:xfrm>
          </p:grpSpPr>
          <p:sp>
            <p:nvSpPr>
              <p:cNvPr id="1230" name=""/>
              <p:cNvSpPr/>
              <p:nvPr/>
            </p:nvSpPr>
            <p:spPr>
              <a:xfrm flipV="1">
                <a:off x="5695560" y="244332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934960" y="258696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10400" y="24462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5695560" y="2441160"/>
              <a:ext cx="349200" cy="143640"/>
              <a:chOff x="5695560" y="2441160"/>
              <a:chExt cx="349200" cy="143640"/>
            </a:xfrm>
          </p:grpSpPr>
          <p:sp>
            <p:nvSpPr>
              <p:cNvPr id="1234" name=""/>
              <p:cNvSpPr/>
              <p:nvPr/>
            </p:nvSpPr>
            <p:spPr>
              <a:xfrm>
                <a:off x="5695560" y="258192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934960" y="244116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V="1">
                <a:off x="5810400" y="244152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7" name=""/>
          <p:cNvSpPr/>
          <p:nvPr/>
        </p:nvSpPr>
        <p:spPr>
          <a:xfrm flipH="1" flipV="1">
            <a:off x="6108840" y="1306080"/>
            <a:ext cx="2880" cy="2653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053040" y="1343160"/>
            <a:ext cx="109800" cy="19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16680" y="17049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223.1.1.2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4591080" y="2762280"/>
            <a:ext cx="1114560" cy="15429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 flipV="1">
            <a:off x="6105240" y="2743200"/>
            <a:ext cx="1276200" cy="15429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 flipV="1">
            <a:off x="4781160" y="4505400"/>
            <a:ext cx="2305080" cy="93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415920" y="26938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7.0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263720" y="3941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7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930280" y="4065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8.0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796640" y="4560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8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701520" y="3903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9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358520" y="2570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9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90120" y="5241960"/>
            <a:ext cx="209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Interconnected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system consisting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of six network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2BD-CAF7-4CA3-8B43-CDC63FF39DA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1662120" y="4862520"/>
            <a:ext cx="4581360" cy="3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43040" y="4224240"/>
            <a:ext cx="4581720" cy="3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643040" y="3614760"/>
            <a:ext cx="4581720" cy="3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52760" y="3014640"/>
            <a:ext cx="4581360" cy="3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IP Addresse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1604880" y="3071880"/>
            <a:ext cx="4581720" cy="333360"/>
          </a:xfrm>
          <a:prstGeom prst="rect">
            <a:avLst/>
          </a:prstGeom>
          <a:solidFill>
            <a:srgbClr val="212186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595160" y="3065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40240" y="30369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network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076280" y="306540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host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757600" y="3071880"/>
            <a:ext cx="0" cy="342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3852720" y="3071880"/>
            <a:ext cx="95040" cy="342720"/>
            <a:chOff x="3852720" y="3071880"/>
            <a:chExt cx="95040" cy="342720"/>
          </a:xfrm>
        </p:grpSpPr>
        <p:sp>
          <p:nvSpPr>
            <p:cNvPr id="1261" name=""/>
            <p:cNvSpPr/>
            <p:nvPr/>
          </p:nvSpPr>
          <p:spPr>
            <a:xfrm>
              <a:off x="3900240" y="3071880"/>
              <a:ext cx="0" cy="3427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852720" y="3138480"/>
              <a:ext cx="95040" cy="1904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4938840" y="3071880"/>
            <a:ext cx="95040" cy="342720"/>
            <a:chOff x="4938840" y="3071880"/>
            <a:chExt cx="95040" cy="342720"/>
          </a:xfrm>
        </p:grpSpPr>
        <p:sp>
          <p:nvSpPr>
            <p:cNvPr id="1264" name=""/>
            <p:cNvSpPr/>
            <p:nvPr/>
          </p:nvSpPr>
          <p:spPr>
            <a:xfrm>
              <a:off x="4986360" y="3071880"/>
              <a:ext cx="0" cy="3427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938840" y="3138480"/>
              <a:ext cx="95040" cy="1904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1590840" y="3627360"/>
            <a:ext cx="4604760" cy="397080"/>
            <a:chOff x="1590840" y="3627360"/>
            <a:chExt cx="4604760" cy="397080"/>
          </a:xfrm>
        </p:grpSpPr>
        <p:sp>
          <p:nvSpPr>
            <p:cNvPr id="1267" name=""/>
            <p:cNvSpPr/>
            <p:nvPr/>
          </p:nvSpPr>
          <p:spPr>
            <a:xfrm>
              <a:off x="1614240" y="3662280"/>
              <a:ext cx="4581360" cy="333360"/>
            </a:xfrm>
            <a:prstGeom prst="rect">
              <a:avLst/>
            </a:prstGeom>
            <a:solidFill>
              <a:srgbClr val="212186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590840" y="36561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909960" y="3662280"/>
              <a:ext cx="0" cy="3430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270" name=""/>
            <p:cNvGrpSpPr/>
            <p:nvPr/>
          </p:nvGrpSpPr>
          <p:grpSpPr>
            <a:xfrm>
              <a:off x="2719080" y="3662280"/>
              <a:ext cx="95040" cy="342720"/>
              <a:chOff x="2719080" y="3662280"/>
              <a:chExt cx="95040" cy="342720"/>
            </a:xfrm>
          </p:grpSpPr>
          <p:sp>
            <p:nvSpPr>
              <p:cNvPr id="1271" name=""/>
              <p:cNvSpPr/>
              <p:nvPr/>
            </p:nvSpPr>
            <p:spPr>
              <a:xfrm>
                <a:off x="2766600" y="3662280"/>
                <a:ext cx="0" cy="3427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719080" y="3728880"/>
                <a:ext cx="95040" cy="190440"/>
              </a:xfrm>
              <a:prstGeom prst="rect">
                <a:avLst/>
              </a:prstGeom>
              <a:solidFill>
                <a:srgbClr val="212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4947840" y="3662280"/>
              <a:ext cx="95040" cy="342720"/>
              <a:chOff x="4947840" y="3662280"/>
              <a:chExt cx="95040" cy="342720"/>
            </a:xfrm>
          </p:grpSpPr>
          <p:sp>
            <p:nvSpPr>
              <p:cNvPr id="1274" name=""/>
              <p:cNvSpPr/>
              <p:nvPr/>
            </p:nvSpPr>
            <p:spPr>
              <a:xfrm>
                <a:off x="4995360" y="3662280"/>
                <a:ext cx="0" cy="3427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947840" y="3728880"/>
                <a:ext cx="95040" cy="190440"/>
              </a:xfrm>
              <a:prstGeom prst="rect">
                <a:avLst/>
              </a:prstGeom>
              <a:solidFill>
                <a:srgbClr val="212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276" name=""/>
            <p:cNvSpPr/>
            <p:nvPr/>
          </p:nvSpPr>
          <p:spPr>
            <a:xfrm>
              <a:off x="2482920" y="362736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47600" y="365616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host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1567440" y="4253040"/>
            <a:ext cx="4619160" cy="380880"/>
            <a:chOff x="1567440" y="4253040"/>
            <a:chExt cx="4619160" cy="380880"/>
          </a:xfrm>
        </p:grpSpPr>
        <p:sp>
          <p:nvSpPr>
            <p:cNvPr id="1279" name=""/>
            <p:cNvSpPr/>
            <p:nvPr/>
          </p:nvSpPr>
          <p:spPr>
            <a:xfrm>
              <a:off x="1604880" y="4272120"/>
              <a:ext cx="4581720" cy="333360"/>
            </a:xfrm>
            <a:prstGeom prst="rect">
              <a:avLst/>
            </a:prstGeom>
            <a:solidFill>
              <a:srgbClr val="212186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567440" y="42656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110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77000" y="4272120"/>
              <a:ext cx="0" cy="3427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282" name=""/>
            <p:cNvGrpSpPr/>
            <p:nvPr/>
          </p:nvGrpSpPr>
          <p:grpSpPr>
            <a:xfrm>
              <a:off x="2710080" y="4272120"/>
              <a:ext cx="95040" cy="342720"/>
              <a:chOff x="2710080" y="4272120"/>
              <a:chExt cx="95040" cy="342720"/>
            </a:xfrm>
          </p:grpSpPr>
          <p:sp>
            <p:nvSpPr>
              <p:cNvPr id="1283" name=""/>
              <p:cNvSpPr/>
              <p:nvPr/>
            </p:nvSpPr>
            <p:spPr>
              <a:xfrm>
                <a:off x="2757600" y="4272120"/>
                <a:ext cx="0" cy="3427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2710080" y="4338720"/>
                <a:ext cx="95040" cy="190440"/>
              </a:xfrm>
              <a:prstGeom prst="rect">
                <a:avLst/>
              </a:prstGeom>
              <a:solidFill>
                <a:srgbClr val="212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3853080" y="4253040"/>
              <a:ext cx="95040" cy="342720"/>
              <a:chOff x="3853080" y="4253040"/>
              <a:chExt cx="95040" cy="342720"/>
            </a:xfrm>
          </p:grpSpPr>
          <p:sp>
            <p:nvSpPr>
              <p:cNvPr id="1286" name=""/>
              <p:cNvSpPr/>
              <p:nvPr/>
            </p:nvSpPr>
            <p:spPr>
              <a:xfrm>
                <a:off x="3900600" y="4253040"/>
                <a:ext cx="0" cy="3427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853080" y="4319640"/>
                <a:ext cx="95040" cy="190440"/>
              </a:xfrm>
              <a:prstGeom prst="rect">
                <a:avLst/>
              </a:prstGeom>
              <a:solidFill>
                <a:srgbClr val="212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>
              <a:off x="2778480" y="425628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248080" y="425628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host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1553400" y="4884840"/>
            <a:ext cx="4633200" cy="396720"/>
            <a:chOff x="1553400" y="4884840"/>
            <a:chExt cx="4633200" cy="396720"/>
          </a:xfrm>
        </p:grpSpPr>
        <p:sp>
          <p:nvSpPr>
            <p:cNvPr id="1291" name=""/>
            <p:cNvSpPr/>
            <p:nvPr/>
          </p:nvSpPr>
          <p:spPr>
            <a:xfrm>
              <a:off x="1604880" y="4919760"/>
              <a:ext cx="4581720" cy="333360"/>
            </a:xfrm>
            <a:prstGeom prst="rect">
              <a:avLst/>
            </a:prstGeom>
            <a:solidFill>
              <a:srgbClr val="212186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553400" y="491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1110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2709720" y="4919760"/>
              <a:ext cx="95040" cy="342720"/>
              <a:chOff x="2709720" y="4919760"/>
              <a:chExt cx="95040" cy="342720"/>
            </a:xfrm>
          </p:grpSpPr>
          <p:sp>
            <p:nvSpPr>
              <p:cNvPr id="1294" name=""/>
              <p:cNvSpPr/>
              <p:nvPr/>
            </p:nvSpPr>
            <p:spPr>
              <a:xfrm>
                <a:off x="2757240" y="4919760"/>
                <a:ext cx="0" cy="3427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709720" y="4986360"/>
                <a:ext cx="95040" cy="190440"/>
              </a:xfrm>
              <a:prstGeom prst="rect">
                <a:avLst/>
              </a:prstGeom>
              <a:solidFill>
                <a:srgbClr val="212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3852720" y="4919760"/>
              <a:ext cx="95040" cy="342720"/>
              <a:chOff x="3852720" y="4919760"/>
              <a:chExt cx="95040" cy="342720"/>
            </a:xfrm>
          </p:grpSpPr>
          <p:sp>
            <p:nvSpPr>
              <p:cNvPr id="1297" name=""/>
              <p:cNvSpPr/>
              <p:nvPr/>
            </p:nvSpPr>
            <p:spPr>
              <a:xfrm>
                <a:off x="3900240" y="4919760"/>
                <a:ext cx="0" cy="3427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852720" y="4986360"/>
                <a:ext cx="95040" cy="190440"/>
              </a:xfrm>
              <a:prstGeom prst="rect">
                <a:avLst/>
              </a:prstGeom>
              <a:solidFill>
                <a:srgbClr val="212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4919760" y="4919760"/>
              <a:ext cx="95040" cy="342720"/>
              <a:chOff x="4919760" y="4919760"/>
              <a:chExt cx="95040" cy="342720"/>
            </a:xfrm>
          </p:grpSpPr>
          <p:sp>
            <p:nvSpPr>
              <p:cNvPr id="1300" name=""/>
              <p:cNvSpPr/>
              <p:nvPr/>
            </p:nvSpPr>
            <p:spPr>
              <a:xfrm>
                <a:off x="4967280" y="4919760"/>
                <a:ext cx="0" cy="3427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919760" y="4986360"/>
                <a:ext cx="95040" cy="190440"/>
              </a:xfrm>
              <a:prstGeom prst="rect">
                <a:avLst/>
              </a:prstGeom>
              <a:solidFill>
                <a:srgbClr val="212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302" name=""/>
            <p:cNvSpPr/>
            <p:nvPr/>
          </p:nvSpPr>
          <p:spPr>
            <a:xfrm>
              <a:off x="2990520" y="4884840"/>
              <a:ext cx="20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multicast address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303" name=""/>
          <p:cNvSpPr/>
          <p:nvPr/>
        </p:nvSpPr>
        <p:spPr>
          <a:xfrm>
            <a:off x="1116360" y="30132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121400" y="36036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138680" y="42228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131840" y="487980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963720" y="256068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clas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455520" y="295596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1.0.0.0 to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127.255.255.255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439680" y="355608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128.0.0.0 to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191.255.255.255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62000" y="415620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192.0.0.0 to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223.255.255.255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490440" y="479412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224.0.0.0 to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239.255.255.255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91560" y="54990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32 bit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414680" y="5691240"/>
            <a:ext cx="174312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1585800" y="5681520"/>
            <a:ext cx="174312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553680" y="1276200"/>
            <a:ext cx="82962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given notion of “network”, let’s re-examine IP addresses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46120" y="200664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lass-full” addressing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32C-EA9A-4A17-94C6-CBAFEE74761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IP addressing: need for change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565200" y="1328400"/>
            <a:ext cx="81072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a70f"/>
                </a:solidFill>
                <a:latin typeface="Arial"/>
              </a:rPr>
              <a:t>classful addressing: </a:t>
            </a:r>
            <a:endParaRPr b="1" lang="en-US" sz="32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icient use of address space, address space exhau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class B net allocated enough addresses for 65K hosts, even if only 2K hosts in that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E09-3574-43A7-841A-E472491F9AF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IP addressing: CIDR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65200" y="1328400"/>
            <a:ext cx="81072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IDR:</a:t>
            </a:r>
            <a:r>
              <a:rPr b="1" lang="en-US" sz="32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3a70f"/>
                </a:solidFill>
                <a:latin typeface="Arial"/>
              </a:rPr>
              <a:t>lassles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f3a70f"/>
                </a:solidFill>
                <a:latin typeface="Arial"/>
              </a:rPr>
              <a:t>nte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3a70f"/>
                </a:solidFill>
                <a:latin typeface="Arial"/>
              </a:rPr>
              <a:t>omai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3a70f"/>
                </a:solidFill>
                <a:latin typeface="Arial"/>
              </a:rPr>
              <a:t>outing</a:t>
            </a:r>
            <a:endParaRPr b="1" lang="en-US" sz="32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network portion of address of arbitrary length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ddress format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.b.c.d/x</a:t>
            </a: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, where x is # bits in network portion of addres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1433160" y="4641840"/>
            <a:ext cx="6105960" cy="1628280"/>
            <a:chOff x="1433160" y="4641840"/>
            <a:chExt cx="6105960" cy="1628280"/>
          </a:xfrm>
        </p:grpSpPr>
        <p:sp>
          <p:nvSpPr>
            <p:cNvPr id="1322" name=""/>
            <p:cNvSpPr/>
            <p:nvPr/>
          </p:nvSpPr>
          <p:spPr>
            <a:xfrm>
              <a:off x="1433160" y="5218200"/>
              <a:ext cx="610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11001000  00010111</a:t>
              </a: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0001000</a:t>
              </a: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0  00000000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85120" y="4678560"/>
              <a:ext cx="106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Comic Sans MS"/>
                </a:rPr>
                <a:t>part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92520" y="4641840"/>
              <a:ext cx="6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host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part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092480" y="4994280"/>
              <a:ext cx="16210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1533600" y="4989600"/>
              <a:ext cx="1466640" cy="11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 flipV="1">
              <a:off x="5735160" y="4997160"/>
              <a:ext cx="692280" cy="1116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883560" y="4994280"/>
              <a:ext cx="59508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409920" y="5810400"/>
              <a:ext cx="227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</a:rPr>
                <a:t>200.23.16.0/23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FFF-5CBF-4210-BBC7-9B3889BE945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IP addresses: how to get one?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11200" y="1687320"/>
            <a:ext cx="8034480" cy="33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Hosts (host portion)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hard-coded by system admin in a file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HCP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ynamic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os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onfigura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rotocol: 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dynamically get address: “plug-and-play”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broadcasts “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HCP disco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ms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HCP server responds with “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HCP off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ms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requests IP address: “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HCP reque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ms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HCP server sends address: “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HCP 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ms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945-BB66-402D-B58F-87CA7BBDA58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IP addresses: how to get one?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90320" y="1393560"/>
            <a:ext cx="8034120" cy="33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Network (network portion)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get allocated portion of ISP’s address space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0" y="2709720"/>
            <a:ext cx="91440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SP's block         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11001000  00010111  0001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0000  00000000    200.23.16.0/20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Organization 0   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11001000  00010111  0001000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0  00000000    200.23.16.0/23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Organization 1   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11001000  00010111  0001001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0  00000000    200.23.18.0/23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Organization 2   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11001000  00010111  0001010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0  00000000    200.23.20.0/23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..                                          …..                                   ….                …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Organization 7   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11001000  00010111  0001111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0  00000000    200.23.30.0/2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8E0-3221-43B6-95B9-306C6ED1886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16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Hierarchical addressing: route aggregation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175360" y="4121280"/>
            <a:ext cx="2019240" cy="295200"/>
          </a:xfrm>
          <a:custGeom>
            <a:avLst/>
            <a:gdLst/>
            <a:ahLst/>
            <a:rect l="l" t="t" r="r" b="b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ffff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2832120" y="4397400"/>
            <a:ext cx="895320" cy="457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860560" y="3768840"/>
            <a:ext cx="752760" cy="1713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927520" y="2987640"/>
            <a:ext cx="847440" cy="762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573360" y="3567240"/>
            <a:ext cx="1773360" cy="979200"/>
          </a:xfrm>
          <a:custGeom>
            <a:avLst/>
            <a:gdLst/>
            <a:ahLst/>
            <a:rect l="l" t="t" r="r" b="b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83080" y="3297240"/>
            <a:ext cx="176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Send me anyth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with address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beginning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200.23.16.0/20”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758880" y="2760840"/>
            <a:ext cx="2338200" cy="404640"/>
            <a:chOff x="758880" y="2760840"/>
            <a:chExt cx="2338200" cy="404640"/>
          </a:xfrm>
        </p:grpSpPr>
        <p:sp>
          <p:nvSpPr>
            <p:cNvPr id="1343" name=""/>
            <p:cNvSpPr/>
            <p:nvPr/>
          </p:nvSpPr>
          <p:spPr>
            <a:xfrm>
              <a:off x="758880" y="2760840"/>
              <a:ext cx="2338200" cy="404640"/>
            </a:xfrm>
            <a:custGeom>
              <a:avLst/>
              <a:gdLst/>
              <a:ahLst/>
              <a:rect l="l" t="t" r="r" b="b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145520" y="280512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200.23.16.0/2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345" name=""/>
          <p:cNvGrpSpPr/>
          <p:nvPr/>
        </p:nvGrpSpPr>
        <p:grpSpPr>
          <a:xfrm>
            <a:off x="787320" y="3351240"/>
            <a:ext cx="2338560" cy="404640"/>
            <a:chOff x="787320" y="3351240"/>
            <a:chExt cx="2338560" cy="404640"/>
          </a:xfrm>
        </p:grpSpPr>
        <p:sp>
          <p:nvSpPr>
            <p:cNvPr id="1346" name=""/>
            <p:cNvSpPr/>
            <p:nvPr/>
          </p:nvSpPr>
          <p:spPr>
            <a:xfrm>
              <a:off x="787320" y="3351240"/>
              <a:ext cx="2338560" cy="404640"/>
            </a:xfrm>
            <a:custGeom>
              <a:avLst/>
              <a:gdLst/>
              <a:ahLst/>
              <a:rect l="l" t="t" r="r" b="b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174680" y="339552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200.23.18.0/2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701640" y="4770360"/>
            <a:ext cx="2338560" cy="404640"/>
            <a:chOff x="701640" y="4770360"/>
            <a:chExt cx="2338560" cy="404640"/>
          </a:xfrm>
        </p:grpSpPr>
        <p:sp>
          <p:nvSpPr>
            <p:cNvPr id="1349" name=""/>
            <p:cNvSpPr/>
            <p:nvPr/>
          </p:nvSpPr>
          <p:spPr>
            <a:xfrm>
              <a:off x="701640" y="4770360"/>
              <a:ext cx="2338560" cy="404640"/>
            </a:xfrm>
            <a:custGeom>
              <a:avLst/>
              <a:gdLst/>
              <a:ahLst/>
              <a:rect l="l" t="t" r="r" b="b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104840" y="481464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200.23.30.0/2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3668040" y="400212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Fly-By-Night-ISP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169040" y="3184560"/>
            <a:ext cx="730440" cy="2535120"/>
          </a:xfrm>
          <a:custGeom>
            <a:avLst/>
            <a:gdLst/>
            <a:ahLst/>
            <a:rect l="l" t="t" r="r" b="b"/>
            <a:pathLst>
              <a:path w="460" h="1597">
                <a:moveTo>
                  <a:pt x="328" y="56"/>
                </a:moveTo>
                <a:cubicBezTo>
                  <a:pt x="247" y="0"/>
                  <a:pt x="253" y="138"/>
                  <a:pt x="208" y="218"/>
                </a:cubicBezTo>
                <a:cubicBezTo>
                  <a:pt x="163" y="298"/>
                  <a:pt x="91" y="419"/>
                  <a:pt x="58" y="536"/>
                </a:cubicBezTo>
                <a:cubicBezTo>
                  <a:pt x="25" y="653"/>
                  <a:pt x="0" y="822"/>
                  <a:pt x="7" y="919"/>
                </a:cubicBezTo>
                <a:cubicBezTo>
                  <a:pt x="14" y="1016"/>
                  <a:pt x="64" y="1046"/>
                  <a:pt x="100" y="1118"/>
                </a:cubicBezTo>
                <a:cubicBezTo>
                  <a:pt x="136" y="1190"/>
                  <a:pt x="166" y="1278"/>
                  <a:pt x="220" y="1352"/>
                </a:cubicBezTo>
                <a:cubicBezTo>
                  <a:pt x="274" y="1426"/>
                  <a:pt x="388" y="1597"/>
                  <a:pt x="424" y="1562"/>
                </a:cubicBezTo>
                <a:cubicBezTo>
                  <a:pt x="460" y="1527"/>
                  <a:pt x="436" y="1228"/>
                  <a:pt x="436" y="1142"/>
                </a:cubicBezTo>
                <a:cubicBezTo>
                  <a:pt x="436" y="1056"/>
                  <a:pt x="439" y="1094"/>
                  <a:pt x="424" y="1046"/>
                </a:cubicBezTo>
                <a:cubicBezTo>
                  <a:pt x="409" y="998"/>
                  <a:pt x="365" y="928"/>
                  <a:pt x="346" y="854"/>
                </a:cubicBezTo>
                <a:cubicBezTo>
                  <a:pt x="327" y="780"/>
                  <a:pt x="313" y="735"/>
                  <a:pt x="310" y="602"/>
                </a:cubicBezTo>
                <a:cubicBezTo>
                  <a:pt x="307" y="469"/>
                  <a:pt x="324" y="170"/>
                  <a:pt x="328" y="56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52400" y="250668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Organization 0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80840" y="451656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Organization 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680960" y="41925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Internet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47720" y="315432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Organization 1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516480" y="4881600"/>
            <a:ext cx="1773000" cy="979560"/>
          </a:xfrm>
          <a:custGeom>
            <a:avLst/>
            <a:gdLst/>
            <a:ahLst/>
            <a:rect l="l" t="t" r="r" b="b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859920" y="525924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ISPs-R-U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5241960" y="4902120"/>
            <a:ext cx="2019240" cy="295200"/>
          </a:xfrm>
          <a:custGeom>
            <a:avLst/>
            <a:gdLst/>
            <a:ahLst/>
            <a:rect l="l" t="t" r="r" b="b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ffff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032280" y="5445000"/>
            <a:ext cx="48564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2879640" y="5511960"/>
            <a:ext cx="638280" cy="1713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3317760" y="5759280"/>
            <a:ext cx="247680" cy="4096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506920" y="5154480"/>
            <a:ext cx="176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Send me anyth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with address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beginning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199.31.0.0/16”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806400" y="3941640"/>
            <a:ext cx="2338560" cy="404640"/>
            <a:chOff x="806400" y="3941640"/>
            <a:chExt cx="2338560" cy="404640"/>
          </a:xfrm>
        </p:grpSpPr>
        <p:sp>
          <p:nvSpPr>
            <p:cNvPr id="1365" name=""/>
            <p:cNvSpPr/>
            <p:nvPr/>
          </p:nvSpPr>
          <p:spPr>
            <a:xfrm>
              <a:off x="806400" y="3941640"/>
              <a:ext cx="2338560" cy="404640"/>
            </a:xfrm>
            <a:custGeom>
              <a:avLst/>
              <a:gdLst/>
              <a:ahLst/>
              <a:rect l="l" t="t" r="r" b="b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209600" y="398592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200.23.20.0/2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780840" y="374508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Organization 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2175480" y="4205160"/>
            <a:ext cx="257040" cy="665280"/>
            <a:chOff x="2175480" y="4205160"/>
            <a:chExt cx="257040" cy="665280"/>
          </a:xfrm>
        </p:grpSpPr>
        <p:sp>
          <p:nvSpPr>
            <p:cNvPr id="1369" name=""/>
            <p:cNvSpPr/>
            <p:nvPr/>
          </p:nvSpPr>
          <p:spPr>
            <a:xfrm>
              <a:off x="2178720" y="420516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175480" y="433980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177280" y="447156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3204360" y="3909960"/>
            <a:ext cx="257040" cy="665280"/>
            <a:chOff x="3204360" y="3909960"/>
            <a:chExt cx="257040" cy="665280"/>
          </a:xfrm>
        </p:grpSpPr>
        <p:sp>
          <p:nvSpPr>
            <p:cNvPr id="1373" name=""/>
            <p:cNvSpPr/>
            <p:nvPr/>
          </p:nvSpPr>
          <p:spPr>
            <a:xfrm>
              <a:off x="3207600" y="390996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204360" y="404460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206160" y="417636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376" name=""/>
          <p:cNvSpPr/>
          <p:nvPr/>
        </p:nvSpPr>
        <p:spPr>
          <a:xfrm>
            <a:off x="957960" y="1432080"/>
            <a:ext cx="71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Hierarchical addressing allows efficient advertisement of routing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information: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F43-33FD-4CD7-8D88-2FDA673C0A8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5"/>
                </a:solidFill>
                <a:latin typeface="Arial"/>
              </a:rPr>
              <a:t>Network layer functions</a:t>
            </a:r>
            <a:endParaRPr b="1" lang="en-US" sz="24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408636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transport packet from sending to receiving hosts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network layer protocols in </a:t>
            </a: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every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host, router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ree important functions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path determination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route taken by packets from source to dest. </a:t>
            </a: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Routing algorithm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switching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move packets from router’s input to appropriate router output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all setup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some network architectures require router call setup along path before data flow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88160" y="20192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18763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76880" y="33274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025960" y="2011320"/>
            <a:ext cx="732960" cy="318960"/>
            <a:chOff x="5025960" y="2011320"/>
            <a:chExt cx="732960" cy="318960"/>
          </a:xfrm>
        </p:grpSpPr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5025960" y="2011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5479560" y="2129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 flipV="1">
              <a:off x="5432400" y="2252880"/>
              <a:ext cx="114120" cy="252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025960" y="2606760"/>
            <a:ext cx="732960" cy="318960"/>
            <a:chOff x="5025960" y="2606760"/>
            <a:chExt cx="732960" cy="318960"/>
          </a:xfrm>
        </p:grpSpPr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5025960" y="26067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9"/>
            <a:stretch/>
          </p:blipFill>
          <p:spPr>
            <a:xfrm>
              <a:off x="5479560" y="27248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flipV="1">
              <a:off x="5432400" y="2848320"/>
              <a:ext cx="114120" cy="252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402160" y="2394000"/>
            <a:ext cx="69480" cy="214200"/>
            <a:chOff x="5402160" y="2394000"/>
            <a:chExt cx="69480" cy="214200"/>
          </a:xfrm>
        </p:grpSpPr>
        <p:sp>
          <p:nvSpPr>
            <p:cNvPr id="104" name=""/>
            <p:cNvSpPr/>
            <p:nvPr/>
          </p:nvSpPr>
          <p:spPr>
            <a:xfrm>
              <a:off x="5402160" y="239400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04680" y="247104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07560" y="254808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872320" y="2897280"/>
            <a:ext cx="209520" cy="394920"/>
            <a:chOff x="5872320" y="2897280"/>
            <a:chExt cx="209520" cy="394920"/>
          </a:xfrm>
        </p:grpSpPr>
        <p:sp>
          <p:nvSpPr>
            <p:cNvPr id="108" name=""/>
            <p:cNvSpPr/>
            <p:nvPr/>
          </p:nvSpPr>
          <p:spPr>
            <a:xfrm>
              <a:off x="5872320" y="32011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78520" y="28998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73400" y="29858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72320" y="28972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81840" y="2903400"/>
              <a:ext cx="0" cy="2973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005880" y="3201120"/>
              <a:ext cx="75240" cy="88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90320" y="3025800"/>
              <a:ext cx="87840" cy="174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02920" y="3078720"/>
              <a:ext cx="66600" cy="6156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108840" y="3050640"/>
            <a:ext cx="233280" cy="81000"/>
            <a:chOff x="6108840" y="3050640"/>
            <a:chExt cx="233280" cy="81000"/>
          </a:xfrm>
        </p:grpSpPr>
        <p:sp>
          <p:nvSpPr>
            <p:cNvPr id="117" name=""/>
            <p:cNvSpPr/>
            <p:nvPr/>
          </p:nvSpPr>
          <p:spPr>
            <a:xfrm rot="16200000">
              <a:off x="6104160" y="306144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6188040" y="305820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6271920" y="305496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008760" y="2805120"/>
            <a:ext cx="495360" cy="144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801880"/>
            <a:ext cx="1440" cy="954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07000" y="2800440"/>
            <a:ext cx="1800" cy="8244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08520" y="2265480"/>
            <a:ext cx="289080" cy="2649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721480" y="2550960"/>
            <a:ext cx="276120" cy="3304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248520" y="2637000"/>
            <a:ext cx="1440" cy="16344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367320" y="2874960"/>
            <a:ext cx="209520" cy="394920"/>
            <a:chOff x="6367320" y="2874960"/>
            <a:chExt cx="209520" cy="394920"/>
          </a:xfrm>
        </p:grpSpPr>
        <p:sp>
          <p:nvSpPr>
            <p:cNvPr id="127" name=""/>
            <p:cNvSpPr/>
            <p:nvPr/>
          </p:nvSpPr>
          <p:spPr>
            <a:xfrm>
              <a:off x="6367320" y="3178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73520" y="2877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68400" y="2963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67320" y="2874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76840" y="2881080"/>
              <a:ext cx="0" cy="2973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500880" y="3178800"/>
              <a:ext cx="75240" cy="88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85320" y="3003480"/>
              <a:ext cx="87840" cy="174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97920" y="3056400"/>
              <a:ext cx="66600" cy="6156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410080" y="3494160"/>
            <a:ext cx="479160" cy="925200"/>
            <a:chOff x="5410080" y="3494160"/>
            <a:chExt cx="479160" cy="925200"/>
          </a:xfrm>
        </p:grpSpPr>
        <p:pic>
          <p:nvPicPr>
            <p:cNvPr id="136" name="" descr=""/>
            <p:cNvPicPr/>
            <p:nvPr/>
          </p:nvPicPr>
          <p:blipFill>
            <a:blip r:embed="rId10"/>
            <a:stretch/>
          </p:blipFill>
          <p:spPr>
            <a:xfrm>
              <a:off x="5410080" y="3494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flipV="1">
              <a:off x="5816880" y="3740760"/>
              <a:ext cx="72360" cy="648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11"/>
            <a:stretch/>
          </p:blipFill>
          <p:spPr>
            <a:xfrm>
              <a:off x="5410080" y="40888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 flipV="1">
              <a:off x="5816880" y="4339080"/>
              <a:ext cx="72360" cy="252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535360" y="3835440"/>
              <a:ext cx="70560" cy="222480"/>
              <a:chOff x="5535360" y="3835440"/>
              <a:chExt cx="70560" cy="222480"/>
            </a:xfrm>
          </p:grpSpPr>
          <p:sp>
            <p:nvSpPr>
              <p:cNvPr id="141" name=""/>
              <p:cNvSpPr/>
              <p:nvPr/>
            </p:nvSpPr>
            <p:spPr>
              <a:xfrm>
                <a:off x="5535360" y="3835440"/>
                <a:ext cx="65160" cy="6264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37880" y="3915360"/>
                <a:ext cx="65160" cy="6228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40760" y="3995640"/>
                <a:ext cx="65160" cy="6228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5883840" y="3737880"/>
              <a:ext cx="0" cy="6001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6278400" y="450360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5664240" y="44928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16200000">
            <a:off x="6080760" y="4596480"/>
            <a:ext cx="63360" cy="65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6165720" y="4593960"/>
            <a:ext cx="63720" cy="666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6243480" y="4598640"/>
            <a:ext cx="61920" cy="65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532560" y="4449600"/>
            <a:ext cx="1440" cy="604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908680" y="4438800"/>
            <a:ext cx="0" cy="633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910120" y="4444920"/>
            <a:ext cx="62712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889600" y="4070520"/>
            <a:ext cx="93600" cy="2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91160" y="4116240"/>
            <a:ext cx="303480" cy="38592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286760" y="4113360"/>
            <a:ext cx="279360" cy="39204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4"/>
          <a:stretch/>
        </p:blipFill>
        <p:spPr>
          <a:xfrm>
            <a:off x="7464600" y="36655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5"/>
          <a:stretch/>
        </p:blipFill>
        <p:spPr>
          <a:xfrm>
            <a:off x="6127920" y="3746520"/>
            <a:ext cx="203040" cy="23976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6475320" y="4943520"/>
            <a:ext cx="406080" cy="426960"/>
            <a:chOff x="6475320" y="4943520"/>
            <a:chExt cx="406080" cy="426960"/>
          </a:xfrm>
        </p:grpSpPr>
        <p:pic>
          <p:nvPicPr>
            <p:cNvPr id="159" name="" descr=""/>
            <p:cNvPicPr/>
            <p:nvPr/>
          </p:nvPicPr>
          <p:blipFill>
            <a:blip r:embed="rId16"/>
            <a:stretch/>
          </p:blipFill>
          <p:spPr>
            <a:xfrm>
              <a:off x="6475320" y="49435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17"/>
            <a:stretch/>
          </p:blipFill>
          <p:spPr>
            <a:xfrm>
              <a:off x="6535080" y="50554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7253280" y="4975200"/>
            <a:ext cx="406080" cy="426960"/>
            <a:chOff x="7253280" y="4975200"/>
            <a:chExt cx="406080" cy="426960"/>
          </a:xfrm>
        </p:grpSpPr>
        <p:pic>
          <p:nvPicPr>
            <p:cNvPr id="162" name="" descr=""/>
            <p:cNvPicPr/>
            <p:nvPr/>
          </p:nvPicPr>
          <p:blipFill>
            <a:blip r:embed="rId18"/>
            <a:stretch/>
          </p:blipFill>
          <p:spPr>
            <a:xfrm>
              <a:off x="7253280" y="49752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9"/>
            <a:stretch/>
          </p:blipFill>
          <p:spPr>
            <a:xfrm>
              <a:off x="7313040" y="50871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6838920" y="4691160"/>
            <a:ext cx="379440" cy="376200"/>
            <a:chOff x="6838920" y="4691160"/>
            <a:chExt cx="379440" cy="376200"/>
          </a:xfrm>
        </p:grpSpPr>
        <p:pic>
          <p:nvPicPr>
            <p:cNvPr id="165" name="" descr=""/>
            <p:cNvPicPr/>
            <p:nvPr/>
          </p:nvPicPr>
          <p:blipFill>
            <a:blip r:embed="rId20"/>
            <a:stretch/>
          </p:blipFill>
          <p:spPr>
            <a:xfrm>
              <a:off x="6838920" y="46911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949080" y="48232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45280" y="4594320"/>
            <a:ext cx="0" cy="2286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866000" y="4017960"/>
            <a:ext cx="208080" cy="409680"/>
            <a:chOff x="7866000" y="4017960"/>
            <a:chExt cx="208080" cy="409680"/>
          </a:xfrm>
        </p:grpSpPr>
        <p:sp>
          <p:nvSpPr>
            <p:cNvPr id="169" name=""/>
            <p:cNvSpPr/>
            <p:nvPr/>
          </p:nvSpPr>
          <p:spPr>
            <a:xfrm>
              <a:off x="7866000" y="4332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71120" y="40204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867080" y="41097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66000" y="4017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74080" y="4024440"/>
              <a:ext cx="0" cy="3081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998840" y="4332960"/>
              <a:ext cx="74880" cy="91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83640" y="4151160"/>
              <a:ext cx="87480" cy="18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96240" y="4205880"/>
              <a:ext cx="66240" cy="6372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853400" y="4462560"/>
            <a:ext cx="208080" cy="408960"/>
            <a:chOff x="7853400" y="4462560"/>
            <a:chExt cx="208080" cy="408960"/>
          </a:xfrm>
        </p:grpSpPr>
        <p:sp>
          <p:nvSpPr>
            <p:cNvPr id="178" name=""/>
            <p:cNvSpPr/>
            <p:nvPr/>
          </p:nvSpPr>
          <p:spPr>
            <a:xfrm>
              <a:off x="7853400" y="477720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58520" y="446508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54480" y="455436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53400" y="446256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61480" y="4469040"/>
              <a:ext cx="0" cy="307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986240" y="4777200"/>
              <a:ext cx="74880" cy="91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71040" y="4595760"/>
              <a:ext cx="87480" cy="181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83640" y="4650480"/>
              <a:ext cx="66240" cy="6372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V="1">
            <a:off x="7785000" y="4086000"/>
            <a:ext cx="0" cy="61092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1760" y="4695840"/>
            <a:ext cx="10332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78880" y="4219560"/>
            <a:ext cx="8892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502320" y="2315880"/>
            <a:ext cx="459000" cy="20772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37600" y="2300400"/>
            <a:ext cx="485640" cy="20772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956720" y="2637000"/>
            <a:ext cx="241200" cy="6807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86680" y="2413080"/>
            <a:ext cx="0" cy="43164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11880" y="3060720"/>
            <a:ext cx="534960" cy="3682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671960" y="3525840"/>
            <a:ext cx="266760" cy="3603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445520" y="2604960"/>
            <a:ext cx="560160" cy="3844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454520" y="2044800"/>
            <a:ext cx="351000" cy="2556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8172360" y="2220840"/>
            <a:ext cx="201600" cy="1764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983200" y="2413080"/>
            <a:ext cx="501840" cy="232920"/>
            <a:chOff x="5983200" y="2413080"/>
            <a:chExt cx="501840" cy="232920"/>
          </a:xfrm>
        </p:grpSpPr>
        <p:sp>
          <p:nvSpPr>
            <p:cNvPr id="199" name=""/>
            <p:cNvSpPr/>
            <p:nvPr/>
          </p:nvSpPr>
          <p:spPr>
            <a:xfrm>
              <a:off x="5987160" y="2517120"/>
              <a:ext cx="49752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7160" y="25059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85040" y="25059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7160" y="2505960"/>
              <a:ext cx="49320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83200" y="2413080"/>
              <a:ext cx="49716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6102720" y="2445840"/>
              <a:ext cx="246240" cy="88200"/>
              <a:chOff x="6102720" y="2445840"/>
              <a:chExt cx="246240" cy="88200"/>
            </a:xfrm>
          </p:grpSpPr>
          <p:sp>
            <p:nvSpPr>
              <p:cNvPr id="205" name=""/>
              <p:cNvSpPr/>
              <p:nvPr/>
            </p:nvSpPr>
            <p:spPr>
              <a:xfrm flipV="1">
                <a:off x="6102720" y="244584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271560" y="253404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183720" y="244800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6102720" y="2445120"/>
              <a:ext cx="246240" cy="88200"/>
              <a:chOff x="6102720" y="2445120"/>
              <a:chExt cx="246240" cy="88200"/>
            </a:xfrm>
          </p:grpSpPr>
          <p:sp>
            <p:nvSpPr>
              <p:cNvPr id="209" name=""/>
              <p:cNvSpPr/>
              <p:nvPr/>
            </p:nvSpPr>
            <p:spPr>
              <a:xfrm>
                <a:off x="6102720" y="253152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271560" y="244512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6183720" y="244512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6935760" y="2184480"/>
            <a:ext cx="501840" cy="232920"/>
            <a:chOff x="6935760" y="2184480"/>
            <a:chExt cx="501840" cy="232920"/>
          </a:xfrm>
        </p:grpSpPr>
        <p:sp>
          <p:nvSpPr>
            <p:cNvPr id="213" name=""/>
            <p:cNvSpPr/>
            <p:nvPr/>
          </p:nvSpPr>
          <p:spPr>
            <a:xfrm>
              <a:off x="6939720" y="2288520"/>
              <a:ext cx="49752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39720" y="22773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37600" y="22773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39720" y="2277360"/>
              <a:ext cx="49320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35760" y="2184480"/>
              <a:ext cx="49716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7055280" y="2217240"/>
              <a:ext cx="246240" cy="88200"/>
              <a:chOff x="7055280" y="2217240"/>
              <a:chExt cx="246240" cy="8820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7055280" y="221724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224120" y="230544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36280" y="221940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7055280" y="2216520"/>
              <a:ext cx="246240" cy="88200"/>
              <a:chOff x="7055280" y="2216520"/>
              <a:chExt cx="246240" cy="88200"/>
            </a:xfrm>
          </p:grpSpPr>
          <p:sp>
            <p:nvSpPr>
              <p:cNvPr id="223" name=""/>
              <p:cNvSpPr/>
              <p:nvPr/>
            </p:nvSpPr>
            <p:spPr>
              <a:xfrm>
                <a:off x="7055280" y="230292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224120" y="221652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136280" y="221652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6953400" y="2841480"/>
            <a:ext cx="501480" cy="233280"/>
            <a:chOff x="6953400" y="2841480"/>
            <a:chExt cx="501480" cy="233280"/>
          </a:xfrm>
        </p:grpSpPr>
        <p:sp>
          <p:nvSpPr>
            <p:cNvPr id="227" name=""/>
            <p:cNvSpPr/>
            <p:nvPr/>
          </p:nvSpPr>
          <p:spPr>
            <a:xfrm>
              <a:off x="6957360" y="2945520"/>
              <a:ext cx="497160" cy="1292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57360" y="2934720"/>
              <a:ext cx="0" cy="80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54880" y="2934720"/>
              <a:ext cx="0" cy="80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57360" y="2934720"/>
              <a:ext cx="49284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53400" y="28414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072920" y="2874240"/>
              <a:ext cx="246240" cy="88560"/>
              <a:chOff x="7072920" y="2874240"/>
              <a:chExt cx="246240" cy="88560"/>
            </a:xfrm>
          </p:grpSpPr>
          <p:sp>
            <p:nvSpPr>
              <p:cNvPr id="233" name=""/>
              <p:cNvSpPr/>
              <p:nvPr/>
            </p:nvSpPr>
            <p:spPr>
              <a:xfrm flipV="1">
                <a:off x="7072920" y="287424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41760" y="296280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53920" y="2876400"/>
                <a:ext cx="91440" cy="86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7072920" y="2873160"/>
              <a:ext cx="246240" cy="88560"/>
              <a:chOff x="7072920" y="2873160"/>
              <a:chExt cx="246240" cy="88560"/>
            </a:xfrm>
          </p:grpSpPr>
          <p:sp>
            <p:nvSpPr>
              <p:cNvPr id="237" name=""/>
              <p:cNvSpPr/>
              <p:nvPr/>
            </p:nvSpPr>
            <p:spPr>
              <a:xfrm>
                <a:off x="7072920" y="295992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241760" y="287316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7153920" y="2873160"/>
                <a:ext cx="91440" cy="86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7923240" y="2392200"/>
            <a:ext cx="500040" cy="233280"/>
            <a:chOff x="7923240" y="2392200"/>
            <a:chExt cx="500040" cy="233280"/>
          </a:xfrm>
        </p:grpSpPr>
        <p:sp>
          <p:nvSpPr>
            <p:cNvPr id="241" name=""/>
            <p:cNvSpPr/>
            <p:nvPr/>
          </p:nvSpPr>
          <p:spPr>
            <a:xfrm>
              <a:off x="7927200" y="2496240"/>
              <a:ext cx="495720" cy="1292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27200" y="2485440"/>
              <a:ext cx="0" cy="80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23280" y="2485440"/>
              <a:ext cx="0" cy="80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27200" y="2485440"/>
              <a:ext cx="49140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23240" y="2392200"/>
              <a:ext cx="49536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8042400" y="2424960"/>
              <a:ext cx="245520" cy="88560"/>
              <a:chOff x="8042400" y="2424960"/>
              <a:chExt cx="245520" cy="88560"/>
            </a:xfrm>
          </p:grpSpPr>
          <p:sp>
            <p:nvSpPr>
              <p:cNvPr id="247" name=""/>
              <p:cNvSpPr/>
              <p:nvPr/>
            </p:nvSpPr>
            <p:spPr>
              <a:xfrm flipV="1">
                <a:off x="8042400" y="2424960"/>
                <a:ext cx="8748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210880" y="2513520"/>
                <a:ext cx="77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123040" y="2427120"/>
                <a:ext cx="91080" cy="86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8042400" y="2423880"/>
              <a:ext cx="245520" cy="88560"/>
              <a:chOff x="8042400" y="2423880"/>
              <a:chExt cx="245520" cy="88560"/>
            </a:xfrm>
          </p:grpSpPr>
          <p:sp>
            <p:nvSpPr>
              <p:cNvPr id="251" name=""/>
              <p:cNvSpPr/>
              <p:nvPr/>
            </p:nvSpPr>
            <p:spPr>
              <a:xfrm>
                <a:off x="8042400" y="2510640"/>
                <a:ext cx="8748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10880" y="2423880"/>
                <a:ext cx="77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8123040" y="2423880"/>
                <a:ext cx="91080" cy="86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7729560" y="3289320"/>
            <a:ext cx="501480" cy="232920"/>
            <a:chOff x="7729560" y="3289320"/>
            <a:chExt cx="501480" cy="232920"/>
          </a:xfrm>
        </p:grpSpPr>
        <p:sp>
          <p:nvSpPr>
            <p:cNvPr id="255" name=""/>
            <p:cNvSpPr/>
            <p:nvPr/>
          </p:nvSpPr>
          <p:spPr>
            <a:xfrm>
              <a:off x="7733520" y="3393360"/>
              <a:ext cx="49716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33520" y="338220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231040" y="338220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33520" y="3382200"/>
              <a:ext cx="49284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29560" y="3289320"/>
              <a:ext cx="49680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849080" y="3322080"/>
              <a:ext cx="246240" cy="88200"/>
              <a:chOff x="7849080" y="3322080"/>
              <a:chExt cx="246240" cy="88200"/>
            </a:xfrm>
          </p:grpSpPr>
          <p:sp>
            <p:nvSpPr>
              <p:cNvPr id="261" name=""/>
              <p:cNvSpPr/>
              <p:nvPr/>
            </p:nvSpPr>
            <p:spPr>
              <a:xfrm flipV="1">
                <a:off x="7849080" y="332208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17920" y="341028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930080" y="332424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7849080" y="3321360"/>
              <a:ext cx="246240" cy="88200"/>
              <a:chOff x="7849080" y="3321360"/>
              <a:chExt cx="246240" cy="88200"/>
            </a:xfrm>
          </p:grpSpPr>
          <p:sp>
            <p:nvSpPr>
              <p:cNvPr id="265" name=""/>
              <p:cNvSpPr/>
              <p:nvPr/>
            </p:nvSpPr>
            <p:spPr>
              <a:xfrm>
                <a:off x="7849080" y="340776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17920" y="332136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930080" y="332136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7396200" y="3873600"/>
            <a:ext cx="501480" cy="234360"/>
            <a:chOff x="7396200" y="3873600"/>
            <a:chExt cx="501480" cy="234360"/>
          </a:xfrm>
        </p:grpSpPr>
        <p:sp>
          <p:nvSpPr>
            <p:cNvPr id="269" name=""/>
            <p:cNvSpPr/>
            <p:nvPr/>
          </p:nvSpPr>
          <p:spPr>
            <a:xfrm>
              <a:off x="7400160" y="3978000"/>
              <a:ext cx="497160" cy="129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00160" y="3967200"/>
              <a:ext cx="0" cy="806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97680" y="3967200"/>
              <a:ext cx="0" cy="806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00160" y="3967200"/>
              <a:ext cx="492840" cy="792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96200" y="3873600"/>
              <a:ext cx="496800" cy="1515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7515720" y="3906720"/>
              <a:ext cx="246240" cy="88920"/>
              <a:chOff x="7515720" y="3906720"/>
              <a:chExt cx="246240" cy="889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515720" y="390672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84560" y="399564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596720" y="3908880"/>
                <a:ext cx="91440" cy="8676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515720" y="3905640"/>
              <a:ext cx="246240" cy="88920"/>
              <a:chOff x="7515720" y="3905640"/>
              <a:chExt cx="246240" cy="88920"/>
            </a:xfrm>
          </p:grpSpPr>
          <p:sp>
            <p:nvSpPr>
              <p:cNvPr id="279" name=""/>
              <p:cNvSpPr/>
              <p:nvPr/>
            </p:nvSpPr>
            <p:spPr>
              <a:xfrm>
                <a:off x="7515720" y="399276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684560" y="390564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7596720" y="3905640"/>
                <a:ext cx="91440" cy="8676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6786720" y="4362480"/>
            <a:ext cx="500040" cy="232920"/>
            <a:chOff x="6786720" y="4362480"/>
            <a:chExt cx="500040" cy="232920"/>
          </a:xfrm>
        </p:grpSpPr>
        <p:sp>
          <p:nvSpPr>
            <p:cNvPr id="283" name=""/>
            <p:cNvSpPr/>
            <p:nvPr/>
          </p:nvSpPr>
          <p:spPr>
            <a:xfrm>
              <a:off x="6790680" y="4466520"/>
              <a:ext cx="49572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90680" y="44553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86760" y="44553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90680" y="4455360"/>
              <a:ext cx="49140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86720" y="4362480"/>
              <a:ext cx="49536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6905880" y="4395240"/>
              <a:ext cx="245520" cy="88200"/>
              <a:chOff x="6905880" y="4395240"/>
              <a:chExt cx="245520" cy="88200"/>
            </a:xfrm>
          </p:grpSpPr>
          <p:sp>
            <p:nvSpPr>
              <p:cNvPr id="289" name=""/>
              <p:cNvSpPr/>
              <p:nvPr/>
            </p:nvSpPr>
            <p:spPr>
              <a:xfrm flipV="1">
                <a:off x="6905880" y="4395240"/>
                <a:ext cx="8748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074360" y="4483440"/>
                <a:ext cx="77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86520" y="4397400"/>
                <a:ext cx="9108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6905880" y="4394520"/>
              <a:ext cx="245520" cy="88200"/>
              <a:chOff x="6905880" y="4394520"/>
              <a:chExt cx="245520" cy="88200"/>
            </a:xfrm>
          </p:grpSpPr>
          <p:sp>
            <p:nvSpPr>
              <p:cNvPr id="293" name=""/>
              <p:cNvSpPr/>
              <p:nvPr/>
            </p:nvSpPr>
            <p:spPr>
              <a:xfrm>
                <a:off x="6905880" y="4480920"/>
                <a:ext cx="8748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074360" y="4394520"/>
                <a:ext cx="77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6986520" y="4394520"/>
                <a:ext cx="9108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5983200" y="3986280"/>
            <a:ext cx="501840" cy="232920"/>
            <a:chOff x="5983200" y="3986280"/>
            <a:chExt cx="501840" cy="232920"/>
          </a:xfrm>
        </p:grpSpPr>
        <p:sp>
          <p:nvSpPr>
            <p:cNvPr id="297" name=""/>
            <p:cNvSpPr/>
            <p:nvPr/>
          </p:nvSpPr>
          <p:spPr>
            <a:xfrm>
              <a:off x="5987160" y="4090320"/>
              <a:ext cx="49752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87160" y="40791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5040" y="40791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87160" y="4079160"/>
              <a:ext cx="49320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83200" y="3986280"/>
              <a:ext cx="49716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6102720" y="4019040"/>
              <a:ext cx="246240" cy="88200"/>
              <a:chOff x="6102720" y="4019040"/>
              <a:chExt cx="246240" cy="8820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6102720" y="401904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271560" y="410724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183720" y="402120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102720" y="4018320"/>
              <a:ext cx="246240" cy="88200"/>
              <a:chOff x="6102720" y="4018320"/>
              <a:chExt cx="246240" cy="88200"/>
            </a:xfrm>
          </p:grpSpPr>
          <p:sp>
            <p:nvSpPr>
              <p:cNvPr id="307" name=""/>
              <p:cNvSpPr/>
              <p:nvPr/>
            </p:nvSpPr>
            <p:spPr>
              <a:xfrm>
                <a:off x="6102720" y="410472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271560" y="401832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6183720" y="401832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0" name=""/>
          <p:cNvSpPr/>
          <p:nvPr/>
        </p:nvSpPr>
        <p:spPr>
          <a:xfrm flipV="1">
            <a:off x="6238800" y="4199040"/>
            <a:ext cx="1800" cy="24912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807160" y="1909800"/>
            <a:ext cx="2809800" cy="2974680"/>
            <a:chOff x="5807160" y="1909800"/>
            <a:chExt cx="2809800" cy="2974680"/>
          </a:xfrm>
        </p:grpSpPr>
        <p:grpSp>
          <p:nvGrpSpPr>
            <p:cNvPr id="312" name=""/>
            <p:cNvGrpSpPr/>
            <p:nvPr/>
          </p:nvGrpSpPr>
          <p:grpSpPr>
            <a:xfrm>
              <a:off x="5892840" y="3672000"/>
              <a:ext cx="814320" cy="703080"/>
              <a:chOff x="5892840" y="3672000"/>
              <a:chExt cx="814320" cy="703080"/>
            </a:xfrm>
          </p:grpSpPr>
          <p:sp>
            <p:nvSpPr>
              <p:cNvPr id="313" name=""/>
              <p:cNvSpPr/>
              <p:nvPr/>
            </p:nvSpPr>
            <p:spPr>
              <a:xfrm>
                <a:off x="6089760" y="4310280"/>
                <a:ext cx="495360" cy="1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6329520" y="4142160"/>
                <a:ext cx="1440" cy="163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69240" y="4023000"/>
                <a:ext cx="49680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69240" y="401184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566040" y="401184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069240" y="4011840"/>
                <a:ext cx="49212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064200" y="3918240"/>
                <a:ext cx="49716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6183360" y="3951000"/>
                <a:ext cx="247320" cy="87840"/>
                <a:chOff x="6183360" y="3951000"/>
                <a:chExt cx="247320" cy="87840"/>
              </a:xfrm>
            </p:grpSpPr>
            <p:sp>
              <p:nvSpPr>
                <p:cNvPr id="321" name=""/>
                <p:cNvSpPr/>
                <p:nvPr/>
              </p:nvSpPr>
              <p:spPr>
                <a:xfrm flipV="1">
                  <a:off x="6183360" y="3951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352920" y="403884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264720" y="3953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6183360" y="3949560"/>
                <a:ext cx="247320" cy="89280"/>
                <a:chOff x="6183360" y="3949560"/>
                <a:chExt cx="247320" cy="892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183360" y="4037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352920" y="394956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6264720" y="3949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5986440" y="3829320"/>
                <a:ext cx="676440" cy="485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943600" y="3862800"/>
                <a:ext cx="690480" cy="49500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938920" y="416736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948280" y="401508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938920" y="386748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92840" y="3672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764400" y="2652840"/>
              <a:ext cx="814320" cy="703080"/>
              <a:chOff x="6764400" y="2652840"/>
              <a:chExt cx="814320" cy="703080"/>
            </a:xfrm>
          </p:grpSpPr>
          <p:sp>
            <p:nvSpPr>
              <p:cNvPr id="335" name=""/>
              <p:cNvSpPr/>
              <p:nvPr/>
            </p:nvSpPr>
            <p:spPr>
              <a:xfrm>
                <a:off x="6961320" y="3291120"/>
                <a:ext cx="495360" cy="1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7201080" y="3123000"/>
                <a:ext cx="1440" cy="163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940800" y="3003840"/>
                <a:ext cx="49680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940800" y="299268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437600" y="299268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940800" y="2992680"/>
                <a:ext cx="49212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35760" y="2899080"/>
                <a:ext cx="49716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7054920" y="2931840"/>
                <a:ext cx="247320" cy="87840"/>
                <a:chOff x="7054920" y="2931840"/>
                <a:chExt cx="247320" cy="87840"/>
              </a:xfrm>
            </p:grpSpPr>
            <p:sp>
              <p:nvSpPr>
                <p:cNvPr id="343" name=""/>
                <p:cNvSpPr/>
                <p:nvPr/>
              </p:nvSpPr>
              <p:spPr>
                <a:xfrm flipV="1">
                  <a:off x="7054920" y="29318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224480" y="301968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136280" y="29340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7054920" y="2930400"/>
                <a:ext cx="247320" cy="89280"/>
                <a:chOff x="7054920" y="2930400"/>
                <a:chExt cx="247320" cy="892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7054920" y="30178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224480" y="293040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7136280" y="29304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6858000" y="2810160"/>
                <a:ext cx="676440" cy="485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15160" y="2843640"/>
                <a:ext cx="690480" cy="49500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10480" y="314820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819840" y="299592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810480" y="284832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764400" y="26528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778800" y="1909800"/>
              <a:ext cx="814320" cy="703080"/>
              <a:chOff x="6778800" y="1909800"/>
              <a:chExt cx="814320" cy="703080"/>
            </a:xfrm>
          </p:grpSpPr>
          <p:sp>
            <p:nvSpPr>
              <p:cNvPr id="357" name=""/>
              <p:cNvSpPr/>
              <p:nvPr/>
            </p:nvSpPr>
            <p:spPr>
              <a:xfrm>
                <a:off x="6975720" y="2548080"/>
                <a:ext cx="495360" cy="1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7215480" y="2379960"/>
                <a:ext cx="1440" cy="163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55200" y="2260800"/>
                <a:ext cx="49680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55200" y="224964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452000" y="224964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955200" y="2249640"/>
                <a:ext cx="49212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950160" y="2156040"/>
                <a:ext cx="49716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7069320" y="2188800"/>
                <a:ext cx="247320" cy="87840"/>
                <a:chOff x="7069320" y="2188800"/>
                <a:chExt cx="247320" cy="87840"/>
              </a:xfrm>
            </p:grpSpPr>
            <p:sp>
              <p:nvSpPr>
                <p:cNvPr id="365" name=""/>
                <p:cNvSpPr/>
                <p:nvPr/>
              </p:nvSpPr>
              <p:spPr>
                <a:xfrm flipV="1">
                  <a:off x="7069320" y="21888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238880" y="227664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150680" y="21909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7069320" y="2187360"/>
                <a:ext cx="247320" cy="89280"/>
                <a:chOff x="7069320" y="2187360"/>
                <a:chExt cx="247320" cy="892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7069320" y="22748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238880" y="218736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7150680" y="21873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6872400" y="2067120"/>
                <a:ext cx="676440" cy="485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829560" y="2100600"/>
                <a:ext cx="690480" cy="49500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824880" y="240516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834240" y="225288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24880" y="210528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778800" y="19098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107120" y="3557520"/>
              <a:ext cx="814320" cy="703080"/>
              <a:chOff x="7107120" y="3557520"/>
              <a:chExt cx="814320" cy="703080"/>
            </a:xfrm>
          </p:grpSpPr>
          <p:sp>
            <p:nvSpPr>
              <p:cNvPr id="379" name=""/>
              <p:cNvSpPr/>
              <p:nvPr/>
            </p:nvSpPr>
            <p:spPr>
              <a:xfrm>
                <a:off x="7304040" y="4195800"/>
                <a:ext cx="495360" cy="1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7543800" y="4027680"/>
                <a:ext cx="1440" cy="163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283520" y="3908520"/>
                <a:ext cx="49680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283520" y="389736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780320" y="389736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283520" y="3897360"/>
                <a:ext cx="49212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278480" y="3803760"/>
                <a:ext cx="49716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7397640" y="3836520"/>
                <a:ext cx="247320" cy="87840"/>
                <a:chOff x="7397640" y="3836520"/>
                <a:chExt cx="247320" cy="87840"/>
              </a:xfrm>
            </p:grpSpPr>
            <p:sp>
              <p:nvSpPr>
                <p:cNvPr id="387" name=""/>
                <p:cNvSpPr/>
                <p:nvPr/>
              </p:nvSpPr>
              <p:spPr>
                <a:xfrm flipV="1">
                  <a:off x="7397640" y="38365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567200" y="392436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479000" y="38386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397640" y="3835080"/>
                <a:ext cx="247320" cy="89280"/>
                <a:chOff x="7397640" y="3835080"/>
                <a:chExt cx="247320" cy="89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397640" y="39225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567200" y="383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7479000" y="38350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7200720" y="3714840"/>
                <a:ext cx="676440" cy="485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157880" y="3748320"/>
                <a:ext cx="690480" cy="49500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153200" y="405288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162560" y="390060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153200" y="375300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107120" y="35575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7597800" y="2952720"/>
              <a:ext cx="814320" cy="703080"/>
              <a:chOff x="7597800" y="2952720"/>
              <a:chExt cx="814320" cy="703080"/>
            </a:xfrm>
          </p:grpSpPr>
          <p:sp>
            <p:nvSpPr>
              <p:cNvPr id="401" name=""/>
              <p:cNvSpPr/>
              <p:nvPr/>
            </p:nvSpPr>
            <p:spPr>
              <a:xfrm>
                <a:off x="7794720" y="3591000"/>
                <a:ext cx="495360" cy="1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8034480" y="3422880"/>
                <a:ext cx="1440" cy="163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774200" y="3303720"/>
                <a:ext cx="49680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774200" y="329256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271000" y="329256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774200" y="3292560"/>
                <a:ext cx="49212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769160" y="3198960"/>
                <a:ext cx="49716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7888320" y="3231720"/>
                <a:ext cx="247320" cy="87840"/>
                <a:chOff x="7888320" y="3231720"/>
                <a:chExt cx="247320" cy="87840"/>
              </a:xfrm>
            </p:grpSpPr>
            <p:sp>
              <p:nvSpPr>
                <p:cNvPr id="409" name=""/>
                <p:cNvSpPr/>
                <p:nvPr/>
              </p:nvSpPr>
              <p:spPr>
                <a:xfrm flipV="1">
                  <a:off x="7888320" y="32317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057880" y="331956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969680" y="32338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7888320" y="3230280"/>
                <a:ext cx="247320" cy="89280"/>
                <a:chOff x="7888320" y="3230280"/>
                <a:chExt cx="247320" cy="892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888320" y="33177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057880" y="323028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7969680" y="32302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6" name=""/>
              <p:cNvSpPr/>
              <p:nvPr/>
            </p:nvSpPr>
            <p:spPr>
              <a:xfrm>
                <a:off x="7691400" y="3110040"/>
                <a:ext cx="676440" cy="485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648560" y="3143520"/>
                <a:ext cx="690480" cy="49500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643880" y="344808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53240" y="329580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643880" y="314820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597800" y="29527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802640" y="2100240"/>
              <a:ext cx="814320" cy="703080"/>
              <a:chOff x="7802640" y="2100240"/>
              <a:chExt cx="814320" cy="703080"/>
            </a:xfrm>
          </p:grpSpPr>
          <p:sp>
            <p:nvSpPr>
              <p:cNvPr id="423" name=""/>
              <p:cNvSpPr/>
              <p:nvPr/>
            </p:nvSpPr>
            <p:spPr>
              <a:xfrm>
                <a:off x="7999560" y="2738520"/>
                <a:ext cx="495360" cy="1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8239320" y="2570400"/>
                <a:ext cx="1440" cy="163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979040" y="2451240"/>
                <a:ext cx="49680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979040" y="244008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475840" y="244008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979040" y="2440080"/>
                <a:ext cx="49212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974000" y="2346480"/>
                <a:ext cx="49716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8093160" y="2379240"/>
                <a:ext cx="247320" cy="87840"/>
                <a:chOff x="8093160" y="2379240"/>
                <a:chExt cx="247320" cy="87840"/>
              </a:xfrm>
            </p:grpSpPr>
            <p:sp>
              <p:nvSpPr>
                <p:cNvPr id="431" name=""/>
                <p:cNvSpPr/>
                <p:nvPr/>
              </p:nvSpPr>
              <p:spPr>
                <a:xfrm flipV="1">
                  <a:off x="8093160" y="2379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262720" y="246708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174520" y="2381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8093160" y="2377800"/>
                <a:ext cx="247320" cy="89280"/>
                <a:chOff x="8093160" y="2377800"/>
                <a:chExt cx="247320" cy="8928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8093160" y="2465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262720" y="237780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V="1">
                  <a:off x="8174520" y="2377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7896240" y="2257560"/>
                <a:ext cx="676440" cy="485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853400" y="2291040"/>
                <a:ext cx="690480" cy="49500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848720" y="259560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858080" y="244332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848720" y="229572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802640" y="2100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6649920" y="4181400"/>
              <a:ext cx="814320" cy="703080"/>
              <a:chOff x="6649920" y="4181400"/>
              <a:chExt cx="814320" cy="703080"/>
            </a:xfrm>
          </p:grpSpPr>
          <p:sp>
            <p:nvSpPr>
              <p:cNvPr id="445" name=""/>
              <p:cNvSpPr/>
              <p:nvPr/>
            </p:nvSpPr>
            <p:spPr>
              <a:xfrm>
                <a:off x="6846840" y="4819680"/>
                <a:ext cx="495360" cy="1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7086600" y="4651560"/>
                <a:ext cx="1440" cy="163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826320" y="4532400"/>
                <a:ext cx="49680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826320" y="452124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323120" y="452124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826320" y="4521240"/>
                <a:ext cx="49212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21280" y="4427640"/>
                <a:ext cx="49716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940440" y="4460400"/>
                <a:ext cx="247320" cy="87840"/>
                <a:chOff x="6940440" y="4460400"/>
                <a:chExt cx="247320" cy="87840"/>
              </a:xfrm>
            </p:grpSpPr>
            <p:sp>
              <p:nvSpPr>
                <p:cNvPr id="453" name=""/>
                <p:cNvSpPr/>
                <p:nvPr/>
              </p:nvSpPr>
              <p:spPr>
                <a:xfrm flipV="1">
                  <a:off x="6940440" y="44604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110000" y="454824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021800" y="44625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940440" y="4458960"/>
                <a:ext cx="247320" cy="89280"/>
                <a:chOff x="6940440" y="4458960"/>
                <a:chExt cx="247320" cy="89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940440" y="45464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110000" y="445896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V="1">
                  <a:off x="7021800" y="44589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6743520" y="4338720"/>
                <a:ext cx="676440" cy="485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700680" y="4372200"/>
                <a:ext cx="690480" cy="49500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696000" y="467676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705360" y="452448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6000" y="437688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49920" y="41814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5807160" y="2076480"/>
              <a:ext cx="814320" cy="703080"/>
              <a:chOff x="5807160" y="2076480"/>
              <a:chExt cx="814320" cy="703080"/>
            </a:xfrm>
          </p:grpSpPr>
          <p:sp>
            <p:nvSpPr>
              <p:cNvPr id="467" name=""/>
              <p:cNvSpPr/>
              <p:nvPr/>
            </p:nvSpPr>
            <p:spPr>
              <a:xfrm>
                <a:off x="6004080" y="2714760"/>
                <a:ext cx="495360" cy="1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6243840" y="2546640"/>
                <a:ext cx="1440" cy="163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83560" y="2427480"/>
                <a:ext cx="49680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983560" y="241632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480360" y="241632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983560" y="2416320"/>
                <a:ext cx="49212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978520" y="2322720"/>
                <a:ext cx="49716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6097680" y="2355480"/>
                <a:ext cx="247320" cy="87840"/>
                <a:chOff x="6097680" y="2355480"/>
                <a:chExt cx="247320" cy="87840"/>
              </a:xfrm>
            </p:grpSpPr>
            <p:sp>
              <p:nvSpPr>
                <p:cNvPr id="475" name=""/>
                <p:cNvSpPr/>
                <p:nvPr/>
              </p:nvSpPr>
              <p:spPr>
                <a:xfrm flipV="1">
                  <a:off x="6097680" y="23554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267240" y="244332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179040" y="235764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6097680" y="2354040"/>
                <a:ext cx="247320" cy="89280"/>
                <a:chOff x="6097680" y="2354040"/>
                <a:chExt cx="247320" cy="892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097680" y="24415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267240" y="235404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6179040" y="235404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5900760" y="2233800"/>
                <a:ext cx="676440" cy="485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857920" y="2267280"/>
                <a:ext cx="690480" cy="49500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53240" y="257184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62600" y="241956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853240" y="227196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07160" y="207648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8" name=""/>
          <p:cNvGrpSpPr/>
          <p:nvPr/>
        </p:nvGrpSpPr>
        <p:grpSpPr>
          <a:xfrm>
            <a:off x="4692600" y="1538280"/>
            <a:ext cx="3767040" cy="3936600"/>
            <a:chOff x="4692600" y="1538280"/>
            <a:chExt cx="3767040" cy="3936600"/>
          </a:xfrm>
        </p:grpSpPr>
        <p:grpSp>
          <p:nvGrpSpPr>
            <p:cNvPr id="489" name=""/>
            <p:cNvGrpSpPr/>
            <p:nvPr/>
          </p:nvGrpSpPr>
          <p:grpSpPr>
            <a:xfrm>
              <a:off x="4692600" y="1538280"/>
              <a:ext cx="814320" cy="1022040"/>
              <a:chOff x="4692600" y="1538280"/>
              <a:chExt cx="814320" cy="1022040"/>
            </a:xfrm>
          </p:grpSpPr>
          <p:sp>
            <p:nvSpPr>
              <p:cNvPr id="490" name=""/>
              <p:cNvSpPr/>
              <p:nvPr/>
            </p:nvSpPr>
            <p:spPr>
              <a:xfrm>
                <a:off x="4791240" y="1538280"/>
                <a:ext cx="676080" cy="776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57760" y="1562040"/>
                <a:ext cx="690480" cy="80028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762440" y="1881360"/>
                <a:ext cx="68580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692600" y="155268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757760" y="189540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67120" y="204804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67120" y="218124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767120" y="1733400"/>
                <a:ext cx="690840" cy="50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7645320" y="4452840"/>
              <a:ext cx="814320" cy="1022040"/>
              <a:chOff x="7645320" y="4452840"/>
              <a:chExt cx="814320" cy="1022040"/>
            </a:xfrm>
          </p:grpSpPr>
          <p:sp>
            <p:nvSpPr>
              <p:cNvPr id="499" name=""/>
              <p:cNvSpPr/>
              <p:nvPr/>
            </p:nvSpPr>
            <p:spPr>
              <a:xfrm>
                <a:off x="7743960" y="4452840"/>
                <a:ext cx="676080" cy="776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710480" y="4476600"/>
                <a:ext cx="690480" cy="80028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715160" y="4795920"/>
                <a:ext cx="68580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645320" y="446724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10480" y="480996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719840" y="496260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719840" y="509580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19840" y="4647960"/>
                <a:ext cx="690840" cy="50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2AA9-3118-4A5C-910F-5FD5A9FF65E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90680" y="374400"/>
            <a:ext cx="83167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Hierarchical addressing: more specific routes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706320" y="1739880"/>
            <a:ext cx="58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ISPs-R-Us has a more specific route to Organization 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164200" y="3836880"/>
            <a:ext cx="2019240" cy="295560"/>
          </a:xfrm>
          <a:custGeom>
            <a:avLst/>
            <a:gdLst/>
            <a:ahLst/>
            <a:rect l="l" t="t" r="r" b="b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ffff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2820960" y="4113360"/>
            <a:ext cx="895320" cy="457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3182760" y="5389560"/>
            <a:ext cx="333720" cy="2476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916360" y="2703600"/>
            <a:ext cx="847440" cy="7617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562200" y="3282840"/>
            <a:ext cx="1773360" cy="979560"/>
          </a:xfrm>
          <a:custGeom>
            <a:avLst/>
            <a:gdLst/>
            <a:ahLst/>
            <a:rect l="l" t="t" r="r" b="b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371920" y="3013200"/>
            <a:ext cx="176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Send me anyth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with address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beginning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200.23.16.0/20”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747720" y="2476440"/>
            <a:ext cx="2338560" cy="404640"/>
            <a:chOff x="747720" y="2476440"/>
            <a:chExt cx="2338560" cy="404640"/>
          </a:xfrm>
        </p:grpSpPr>
        <p:sp>
          <p:nvSpPr>
            <p:cNvPr id="1386" name=""/>
            <p:cNvSpPr/>
            <p:nvPr/>
          </p:nvSpPr>
          <p:spPr>
            <a:xfrm>
              <a:off x="747720" y="2476440"/>
              <a:ext cx="2338560" cy="404640"/>
            </a:xfrm>
            <a:custGeom>
              <a:avLst/>
              <a:gdLst/>
              <a:ahLst/>
              <a:rect l="l" t="t" r="r" b="b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135080" y="252072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200.23.16.0/2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388" name=""/>
          <p:cNvGrpSpPr/>
          <p:nvPr/>
        </p:nvGrpSpPr>
        <p:grpSpPr>
          <a:xfrm>
            <a:off x="957240" y="5553000"/>
            <a:ext cx="2338560" cy="404640"/>
            <a:chOff x="957240" y="5553000"/>
            <a:chExt cx="2338560" cy="404640"/>
          </a:xfrm>
        </p:grpSpPr>
        <p:sp>
          <p:nvSpPr>
            <p:cNvPr id="1389" name=""/>
            <p:cNvSpPr/>
            <p:nvPr/>
          </p:nvSpPr>
          <p:spPr>
            <a:xfrm>
              <a:off x="957240" y="5553000"/>
              <a:ext cx="2338560" cy="404640"/>
            </a:xfrm>
            <a:custGeom>
              <a:avLst/>
              <a:gdLst/>
              <a:ahLst/>
              <a:rect l="l" t="t" r="r" b="b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344600" y="559728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200.23.18.0/2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391" name=""/>
          <p:cNvGrpSpPr/>
          <p:nvPr/>
        </p:nvGrpSpPr>
        <p:grpSpPr>
          <a:xfrm>
            <a:off x="690480" y="4486320"/>
            <a:ext cx="2338560" cy="404640"/>
            <a:chOff x="690480" y="4486320"/>
            <a:chExt cx="2338560" cy="404640"/>
          </a:xfrm>
        </p:grpSpPr>
        <p:sp>
          <p:nvSpPr>
            <p:cNvPr id="1392" name=""/>
            <p:cNvSpPr/>
            <p:nvPr/>
          </p:nvSpPr>
          <p:spPr>
            <a:xfrm>
              <a:off x="690480" y="4486320"/>
              <a:ext cx="2338560" cy="404640"/>
            </a:xfrm>
            <a:custGeom>
              <a:avLst/>
              <a:gdLst/>
              <a:ahLst/>
              <a:rect l="l" t="t" r="r" b="b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093680" y="453060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200.23.30.0/2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656880" y="37180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Fly-By-Night-ISP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57880" y="2900520"/>
            <a:ext cx="730440" cy="2535120"/>
          </a:xfrm>
          <a:custGeom>
            <a:avLst/>
            <a:gdLst/>
            <a:ahLst/>
            <a:rect l="l" t="t" r="r" b="b"/>
            <a:pathLst>
              <a:path w="460" h="1597">
                <a:moveTo>
                  <a:pt x="328" y="56"/>
                </a:moveTo>
                <a:cubicBezTo>
                  <a:pt x="247" y="0"/>
                  <a:pt x="253" y="138"/>
                  <a:pt x="208" y="218"/>
                </a:cubicBezTo>
                <a:cubicBezTo>
                  <a:pt x="163" y="298"/>
                  <a:pt x="91" y="419"/>
                  <a:pt x="58" y="536"/>
                </a:cubicBezTo>
                <a:cubicBezTo>
                  <a:pt x="25" y="653"/>
                  <a:pt x="0" y="822"/>
                  <a:pt x="7" y="919"/>
                </a:cubicBezTo>
                <a:cubicBezTo>
                  <a:pt x="14" y="1016"/>
                  <a:pt x="64" y="1046"/>
                  <a:pt x="100" y="1118"/>
                </a:cubicBezTo>
                <a:cubicBezTo>
                  <a:pt x="136" y="1190"/>
                  <a:pt x="166" y="1278"/>
                  <a:pt x="220" y="1352"/>
                </a:cubicBezTo>
                <a:cubicBezTo>
                  <a:pt x="274" y="1426"/>
                  <a:pt x="388" y="1597"/>
                  <a:pt x="424" y="1562"/>
                </a:cubicBezTo>
                <a:cubicBezTo>
                  <a:pt x="460" y="1527"/>
                  <a:pt x="436" y="1228"/>
                  <a:pt x="436" y="1142"/>
                </a:cubicBezTo>
                <a:cubicBezTo>
                  <a:pt x="436" y="1056"/>
                  <a:pt x="439" y="1094"/>
                  <a:pt x="424" y="1046"/>
                </a:cubicBezTo>
                <a:cubicBezTo>
                  <a:pt x="409" y="998"/>
                  <a:pt x="365" y="928"/>
                  <a:pt x="346" y="854"/>
                </a:cubicBezTo>
                <a:cubicBezTo>
                  <a:pt x="327" y="780"/>
                  <a:pt x="313" y="735"/>
                  <a:pt x="310" y="602"/>
                </a:cubicBezTo>
                <a:cubicBezTo>
                  <a:pt x="307" y="469"/>
                  <a:pt x="324" y="170"/>
                  <a:pt x="328" y="56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41240" y="222264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Organization 0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69680" y="423216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Organization 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822440" y="38512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Internet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7280" y="535608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Organization 1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505320" y="4597560"/>
            <a:ext cx="1773000" cy="979200"/>
          </a:xfrm>
          <a:custGeom>
            <a:avLst/>
            <a:gdLst/>
            <a:ahLst/>
            <a:rect l="l" t="t" r="r" b="b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848760" y="497520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ISPs-R-U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5230800" y="4618080"/>
            <a:ext cx="2019240" cy="295200"/>
          </a:xfrm>
          <a:custGeom>
            <a:avLst/>
            <a:gdLst/>
            <a:ahLst/>
            <a:rect l="l" t="t" r="r" b="b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ffff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021120" y="5160960"/>
            <a:ext cx="48564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2868480" y="5227560"/>
            <a:ext cx="638280" cy="1713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3306600" y="5475240"/>
            <a:ext cx="247680" cy="4096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491440" y="4870440"/>
            <a:ext cx="22046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Send me anyth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with address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beginning 199.31.0.0/16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or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200.23.18.0/23”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795240" y="3657600"/>
            <a:ext cx="2338560" cy="404640"/>
            <a:chOff x="795240" y="3657600"/>
            <a:chExt cx="2338560" cy="404640"/>
          </a:xfrm>
        </p:grpSpPr>
        <p:sp>
          <p:nvSpPr>
            <p:cNvPr id="1408" name=""/>
            <p:cNvSpPr/>
            <p:nvPr/>
          </p:nvSpPr>
          <p:spPr>
            <a:xfrm>
              <a:off x="795240" y="3657600"/>
              <a:ext cx="2338560" cy="404640"/>
            </a:xfrm>
            <a:custGeom>
              <a:avLst/>
              <a:gdLst/>
              <a:ahLst/>
              <a:rect l="l" t="t" r="r" b="b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198440" y="370188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200.23.20.0/2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769680" y="346068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Organization 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2164680" y="3921120"/>
            <a:ext cx="256680" cy="665280"/>
            <a:chOff x="2164680" y="3921120"/>
            <a:chExt cx="256680" cy="665280"/>
          </a:xfrm>
        </p:grpSpPr>
        <p:sp>
          <p:nvSpPr>
            <p:cNvPr id="1412" name=""/>
            <p:cNvSpPr/>
            <p:nvPr/>
          </p:nvSpPr>
          <p:spPr>
            <a:xfrm>
              <a:off x="2167560" y="392112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164680" y="405576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166120" y="418752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415" name=""/>
          <p:cNvGrpSpPr/>
          <p:nvPr/>
        </p:nvGrpSpPr>
        <p:grpSpPr>
          <a:xfrm>
            <a:off x="3193200" y="3625920"/>
            <a:ext cx="257040" cy="665280"/>
            <a:chOff x="3193200" y="3625920"/>
            <a:chExt cx="257040" cy="665280"/>
          </a:xfrm>
        </p:grpSpPr>
        <p:sp>
          <p:nvSpPr>
            <p:cNvPr id="1416" name=""/>
            <p:cNvSpPr/>
            <p:nvPr/>
          </p:nvSpPr>
          <p:spPr>
            <a:xfrm>
              <a:off x="3196440" y="362592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193200" y="376056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195000" y="389232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B1A-13A4-4348-82E0-D00C489A015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IP addressing: the last word...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 How does an ISP get block of addresses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A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ICANN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ntern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orporation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ssigned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mes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umber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ates add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s D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s domain names, resolves disp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959-0D54-4F2A-AE38-B1D52D4B265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200160" y="209520"/>
            <a:ext cx="81057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Getting a datagram from source to dest.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304920" y="2314440"/>
            <a:ext cx="369576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P datagram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1"/>
          <a:stretch/>
        </p:blipFill>
        <p:spPr>
          <a:xfrm>
            <a:off x="4684680" y="319896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/>
          <p:nvPr/>
        </p:nvSpPr>
        <p:spPr>
          <a:xfrm>
            <a:off x="5245200" y="3571920"/>
            <a:ext cx="27756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535720" y="3557520"/>
            <a:ext cx="0" cy="12906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5245200" y="4215960"/>
            <a:ext cx="277560" cy="32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254560" y="4843440"/>
            <a:ext cx="27324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28" name="" descr=""/>
          <p:cNvPicPr/>
          <p:nvPr/>
        </p:nvPicPr>
        <p:blipFill>
          <a:blip r:embed="rId2"/>
          <a:stretch/>
        </p:blipFill>
        <p:spPr>
          <a:xfrm>
            <a:off x="4684680" y="3865680"/>
            <a:ext cx="584280" cy="463320"/>
          </a:xfrm>
          <a:prstGeom prst="rect">
            <a:avLst/>
          </a:prstGeom>
          <a:ln w="0">
            <a:noFill/>
          </a:ln>
        </p:spPr>
      </p:pic>
      <p:pic>
        <p:nvPicPr>
          <p:cNvPr id="1429" name="" descr=""/>
          <p:cNvPicPr/>
          <p:nvPr/>
        </p:nvPicPr>
        <p:blipFill>
          <a:blip r:embed="rId3"/>
          <a:stretch/>
        </p:blipFill>
        <p:spPr>
          <a:xfrm>
            <a:off x="4684680" y="44751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5535720" y="4414680"/>
            <a:ext cx="1035000" cy="64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6478560" y="4379760"/>
            <a:ext cx="711000" cy="380880"/>
            <a:chOff x="6478560" y="4379760"/>
            <a:chExt cx="711000" cy="380880"/>
          </a:xfrm>
        </p:grpSpPr>
        <p:sp>
          <p:nvSpPr>
            <p:cNvPr id="1432" name=""/>
            <p:cNvSpPr/>
            <p:nvPr/>
          </p:nvSpPr>
          <p:spPr>
            <a:xfrm>
              <a:off x="6484320" y="4549680"/>
              <a:ext cx="705240" cy="210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484320" y="453168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189560" y="453168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484320" y="4531680"/>
              <a:ext cx="69912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478560" y="4379760"/>
              <a:ext cx="70488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437" name=""/>
            <p:cNvGrpSpPr/>
            <p:nvPr/>
          </p:nvGrpSpPr>
          <p:grpSpPr>
            <a:xfrm>
              <a:off x="6648120" y="4434120"/>
              <a:ext cx="349200" cy="143640"/>
              <a:chOff x="6648120" y="4434120"/>
              <a:chExt cx="349200" cy="143640"/>
            </a:xfrm>
          </p:grpSpPr>
          <p:sp>
            <p:nvSpPr>
              <p:cNvPr id="1438" name=""/>
              <p:cNvSpPr/>
              <p:nvPr/>
            </p:nvSpPr>
            <p:spPr>
              <a:xfrm flipV="1">
                <a:off x="6648120" y="443412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887520" y="457776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762960" y="44370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"/>
            <p:cNvGrpSpPr/>
            <p:nvPr/>
          </p:nvGrpSpPr>
          <p:grpSpPr>
            <a:xfrm>
              <a:off x="6648120" y="4431600"/>
              <a:ext cx="349200" cy="143640"/>
              <a:chOff x="6648120" y="4431600"/>
              <a:chExt cx="349200" cy="143640"/>
            </a:xfrm>
          </p:grpSpPr>
          <p:sp>
            <p:nvSpPr>
              <p:cNvPr id="1442" name=""/>
              <p:cNvSpPr/>
              <p:nvPr/>
            </p:nvSpPr>
            <p:spPr>
              <a:xfrm>
                <a:off x="6648120" y="457236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887520" y="443160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6762960" y="443196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5" name=""/>
          <p:cNvSpPr/>
          <p:nvPr/>
        </p:nvSpPr>
        <p:spPr>
          <a:xfrm>
            <a:off x="5206320" y="3246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291280" y="3967200"/>
            <a:ext cx="30960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220720" y="3875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092200" y="4827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882760" y="41562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83360" y="4424400"/>
            <a:ext cx="101592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958800" y="4146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8107200" y="3728880"/>
            <a:ext cx="0" cy="12909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53" name="" descr=""/>
          <p:cNvPicPr/>
          <p:nvPr/>
        </p:nvPicPr>
        <p:blipFill>
          <a:blip r:embed="rId4"/>
          <a:stretch/>
        </p:blipFill>
        <p:spPr>
          <a:xfrm>
            <a:off x="8285040" y="343692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454" name=""/>
          <p:cNvSpPr/>
          <p:nvPr/>
        </p:nvSpPr>
        <p:spPr>
          <a:xfrm>
            <a:off x="8107200" y="373392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55" name="" descr=""/>
          <p:cNvPicPr/>
          <p:nvPr/>
        </p:nvPicPr>
        <p:blipFill>
          <a:blip r:embed="rId5"/>
          <a:stretch/>
        </p:blipFill>
        <p:spPr>
          <a:xfrm>
            <a:off x="8290080" y="4818240"/>
            <a:ext cx="583920" cy="463320"/>
          </a:xfrm>
          <a:prstGeom prst="rect">
            <a:avLst/>
          </a:prstGeom>
          <a:ln w="0">
            <a:noFill/>
          </a:ln>
        </p:spPr>
      </p:pic>
      <p:sp>
        <p:nvSpPr>
          <p:cNvPr id="1456" name=""/>
          <p:cNvSpPr/>
          <p:nvPr/>
        </p:nvSpPr>
        <p:spPr>
          <a:xfrm>
            <a:off x="8107200" y="500544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053560" y="4753080"/>
            <a:ext cx="17136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444800" y="4665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8067600" y="3781440"/>
            <a:ext cx="24768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292160" y="3684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845400" y="4762440"/>
            <a:ext cx="0" cy="7192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>
            <a:off x="6188040" y="5481720"/>
            <a:ext cx="118584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 flipV="1">
            <a:off x="6184440" y="547380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H="1" flipV="1">
            <a:off x="7360920" y="547848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6"/>
          <a:stretch/>
        </p:blipFill>
        <p:spPr>
          <a:xfrm>
            <a:off x="7147080" y="5637240"/>
            <a:ext cx="583920" cy="463680"/>
          </a:xfrm>
          <a:prstGeom prst="rect">
            <a:avLst/>
          </a:prstGeom>
          <a:ln w="0">
            <a:noFill/>
          </a:ln>
        </p:spPr>
      </p:pic>
      <p:pic>
        <p:nvPicPr>
          <p:cNvPr id="1466" name="" descr=""/>
          <p:cNvPicPr/>
          <p:nvPr/>
        </p:nvPicPr>
        <p:blipFill>
          <a:blip r:embed="rId7"/>
          <a:stretch/>
        </p:blipFill>
        <p:spPr>
          <a:xfrm>
            <a:off x="5889600" y="565164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467" name=""/>
          <p:cNvSpPr/>
          <p:nvPr/>
        </p:nvSpPr>
        <p:spPr>
          <a:xfrm>
            <a:off x="7368480" y="5327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191920" y="53658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781680" y="4896000"/>
            <a:ext cx="12888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244560" y="4818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471" name=""/>
          <p:cNvGrpSpPr/>
          <p:nvPr/>
        </p:nvGrpSpPr>
        <p:grpSpPr>
          <a:xfrm>
            <a:off x="4797720" y="3160800"/>
            <a:ext cx="343800" cy="398880"/>
            <a:chOff x="4797720" y="3160800"/>
            <a:chExt cx="343800" cy="398880"/>
          </a:xfrm>
        </p:grpSpPr>
        <p:sp>
          <p:nvSpPr>
            <p:cNvPr id="1472" name=""/>
            <p:cNvSpPr/>
            <p:nvPr/>
          </p:nvSpPr>
          <p:spPr>
            <a:xfrm>
              <a:off x="4885920" y="3238560"/>
              <a:ext cx="18072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797720" y="31608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4773960" y="4398840"/>
            <a:ext cx="346680" cy="398880"/>
            <a:chOff x="4773960" y="4398840"/>
            <a:chExt cx="346680" cy="398880"/>
          </a:xfrm>
        </p:grpSpPr>
        <p:sp>
          <p:nvSpPr>
            <p:cNvPr id="1475" name=""/>
            <p:cNvSpPr/>
            <p:nvPr/>
          </p:nvSpPr>
          <p:spPr>
            <a:xfrm>
              <a:off x="4876560" y="4476600"/>
              <a:ext cx="18108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773960" y="43988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8395200" y="4761000"/>
            <a:ext cx="322560" cy="398880"/>
            <a:chOff x="8395200" y="4761000"/>
            <a:chExt cx="322560" cy="398880"/>
          </a:xfrm>
        </p:grpSpPr>
        <p:sp>
          <p:nvSpPr>
            <p:cNvPr id="1478" name=""/>
            <p:cNvSpPr/>
            <p:nvPr/>
          </p:nvSpPr>
          <p:spPr>
            <a:xfrm>
              <a:off x="8486640" y="4838760"/>
              <a:ext cx="18108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395200" y="476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475920" y="2870280"/>
            <a:ext cx="3667320" cy="661320"/>
            <a:chOff x="475920" y="2870280"/>
            <a:chExt cx="3667320" cy="661320"/>
          </a:xfrm>
        </p:grpSpPr>
        <p:sp>
          <p:nvSpPr>
            <p:cNvPr id="1481" name=""/>
            <p:cNvSpPr/>
            <p:nvPr/>
          </p:nvSpPr>
          <p:spPr>
            <a:xfrm>
              <a:off x="552240" y="2923920"/>
              <a:ext cx="3591000" cy="504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482" name=""/>
            <p:cNvGrpSpPr/>
            <p:nvPr/>
          </p:nvGrpSpPr>
          <p:grpSpPr>
            <a:xfrm>
              <a:off x="475920" y="2870280"/>
              <a:ext cx="3591000" cy="661320"/>
              <a:chOff x="475920" y="2870280"/>
              <a:chExt cx="3591000" cy="661320"/>
            </a:xfrm>
          </p:grpSpPr>
          <p:sp>
            <p:nvSpPr>
              <p:cNvPr id="1483" name=""/>
              <p:cNvSpPr/>
              <p:nvPr/>
            </p:nvSpPr>
            <p:spPr>
              <a:xfrm>
                <a:off x="475920" y="2971440"/>
                <a:ext cx="3591000" cy="504720"/>
              </a:xfrm>
              <a:prstGeom prst="rect">
                <a:avLst/>
              </a:prstGeom>
              <a:solidFill>
                <a:srgbClr val="212186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89600" y="2889000"/>
                <a:ext cx="756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misc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fields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238040" y="2981160"/>
                <a:ext cx="0" cy="5043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247040" y="2870280"/>
                <a:ext cx="95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source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IP addr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161440" y="2889000"/>
                <a:ext cx="95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dest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IP addr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199960" y="2981160"/>
                <a:ext cx="0" cy="50436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133440" y="2990520"/>
                <a:ext cx="0" cy="5047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244320" y="3041280"/>
                <a:ext cx="659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data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1" name=""/>
          <p:cNvSpPr/>
          <p:nvPr/>
        </p:nvSpPr>
        <p:spPr>
          <a:xfrm>
            <a:off x="514440" y="3619440"/>
            <a:ext cx="369576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atagram remains unchanged, as it travels source to destinatio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addr fields of interest her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5141520" y="1477800"/>
            <a:ext cx="3547080" cy="1427400"/>
            <a:chOff x="5141520" y="1477800"/>
            <a:chExt cx="3547080" cy="1427400"/>
          </a:xfrm>
        </p:grpSpPr>
        <p:sp>
          <p:nvSpPr>
            <p:cNvPr id="1493" name=""/>
            <p:cNvSpPr/>
            <p:nvPr/>
          </p:nvSpPr>
          <p:spPr>
            <a:xfrm>
              <a:off x="5141520" y="14778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Dest. Net.  next router  Nhops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181120" y="1877760"/>
              <a:ext cx="32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1                             1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190840" y="217296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2      223.1.1.4        2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200560" y="250632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3      223.1.1.4        2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238720" y="1857240"/>
              <a:ext cx="339084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91080" y="161892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772400" y="160956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500" name=""/>
          <p:cNvSpPr/>
          <p:nvPr/>
        </p:nvSpPr>
        <p:spPr>
          <a:xfrm>
            <a:off x="4867200" y="2085840"/>
            <a:ext cx="295200" cy="1143000"/>
          </a:xfrm>
          <a:custGeom>
            <a:avLst/>
            <a:gdLst/>
            <a:ahLst/>
            <a:rect l="l" t="t" r="r" b="b"/>
            <a:pathLst>
              <a:path w="186" h="720">
                <a:moveTo>
                  <a:pt x="186" y="0"/>
                </a:moveTo>
                <a:cubicBezTo>
                  <a:pt x="36" y="198"/>
                  <a:pt x="0" y="360"/>
                  <a:pt x="60" y="7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686560" y="1123920"/>
            <a:ext cx="2733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outing table in 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B90-22B8-4A5C-8317-E710EF997D8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200160" y="20916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Getting a datagram from source to dest.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1"/>
          <a:stretch/>
        </p:blipFill>
        <p:spPr>
          <a:xfrm>
            <a:off x="4684680" y="319896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504" name=""/>
          <p:cNvSpPr/>
          <p:nvPr/>
        </p:nvSpPr>
        <p:spPr>
          <a:xfrm>
            <a:off x="5245200" y="3571920"/>
            <a:ext cx="27756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535720" y="3557520"/>
            <a:ext cx="0" cy="12906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5245200" y="4215960"/>
            <a:ext cx="277560" cy="32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254560" y="4843440"/>
            <a:ext cx="27324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08" name="" descr=""/>
          <p:cNvPicPr/>
          <p:nvPr/>
        </p:nvPicPr>
        <p:blipFill>
          <a:blip r:embed="rId2"/>
          <a:stretch/>
        </p:blipFill>
        <p:spPr>
          <a:xfrm>
            <a:off x="4684680" y="3865680"/>
            <a:ext cx="584280" cy="463320"/>
          </a:xfrm>
          <a:prstGeom prst="rect">
            <a:avLst/>
          </a:prstGeom>
          <a:ln w="0">
            <a:noFill/>
          </a:ln>
        </p:spPr>
      </p:pic>
      <p:pic>
        <p:nvPicPr>
          <p:cNvPr id="1509" name="" descr=""/>
          <p:cNvPicPr/>
          <p:nvPr/>
        </p:nvPicPr>
        <p:blipFill>
          <a:blip r:embed="rId3"/>
          <a:stretch/>
        </p:blipFill>
        <p:spPr>
          <a:xfrm>
            <a:off x="4684680" y="44751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510" name=""/>
          <p:cNvSpPr/>
          <p:nvPr/>
        </p:nvSpPr>
        <p:spPr>
          <a:xfrm>
            <a:off x="5535720" y="4414680"/>
            <a:ext cx="1035000" cy="64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6478560" y="4379760"/>
            <a:ext cx="711000" cy="380880"/>
            <a:chOff x="6478560" y="4379760"/>
            <a:chExt cx="711000" cy="380880"/>
          </a:xfrm>
        </p:grpSpPr>
        <p:sp>
          <p:nvSpPr>
            <p:cNvPr id="1512" name=""/>
            <p:cNvSpPr/>
            <p:nvPr/>
          </p:nvSpPr>
          <p:spPr>
            <a:xfrm>
              <a:off x="6484320" y="4549680"/>
              <a:ext cx="705240" cy="210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484320" y="453168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189560" y="453168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484320" y="4531680"/>
              <a:ext cx="69912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478560" y="4379760"/>
              <a:ext cx="70488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517" name=""/>
            <p:cNvGrpSpPr/>
            <p:nvPr/>
          </p:nvGrpSpPr>
          <p:grpSpPr>
            <a:xfrm>
              <a:off x="6648120" y="4434120"/>
              <a:ext cx="349200" cy="143640"/>
              <a:chOff x="6648120" y="4434120"/>
              <a:chExt cx="349200" cy="143640"/>
            </a:xfrm>
          </p:grpSpPr>
          <p:sp>
            <p:nvSpPr>
              <p:cNvPr id="1518" name=""/>
              <p:cNvSpPr/>
              <p:nvPr/>
            </p:nvSpPr>
            <p:spPr>
              <a:xfrm flipV="1">
                <a:off x="6648120" y="443412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887520" y="457776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762960" y="44370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6648120" y="4431600"/>
              <a:ext cx="349200" cy="143640"/>
              <a:chOff x="6648120" y="4431600"/>
              <a:chExt cx="349200" cy="143640"/>
            </a:xfrm>
          </p:grpSpPr>
          <p:sp>
            <p:nvSpPr>
              <p:cNvPr id="1522" name=""/>
              <p:cNvSpPr/>
              <p:nvPr/>
            </p:nvSpPr>
            <p:spPr>
              <a:xfrm>
                <a:off x="6648120" y="457236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887520" y="443160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V="1">
                <a:off x="6762960" y="443196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5" name=""/>
          <p:cNvSpPr/>
          <p:nvPr/>
        </p:nvSpPr>
        <p:spPr>
          <a:xfrm>
            <a:off x="5206320" y="3246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291280" y="3967200"/>
            <a:ext cx="30960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220720" y="3875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092200" y="4827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882760" y="41562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083360" y="4424400"/>
            <a:ext cx="101592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958800" y="4146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8107200" y="3728880"/>
            <a:ext cx="0" cy="12909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33" name="" descr=""/>
          <p:cNvPicPr/>
          <p:nvPr/>
        </p:nvPicPr>
        <p:blipFill>
          <a:blip r:embed="rId4"/>
          <a:stretch/>
        </p:blipFill>
        <p:spPr>
          <a:xfrm>
            <a:off x="8285040" y="343692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/>
          <p:nvPr/>
        </p:nvSpPr>
        <p:spPr>
          <a:xfrm>
            <a:off x="8107200" y="373392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35" name="" descr=""/>
          <p:cNvPicPr/>
          <p:nvPr/>
        </p:nvPicPr>
        <p:blipFill>
          <a:blip r:embed="rId5"/>
          <a:stretch/>
        </p:blipFill>
        <p:spPr>
          <a:xfrm>
            <a:off x="8290080" y="4818240"/>
            <a:ext cx="583920" cy="463320"/>
          </a:xfrm>
          <a:prstGeom prst="rect">
            <a:avLst/>
          </a:prstGeom>
          <a:ln w="0">
            <a:noFill/>
          </a:ln>
        </p:spPr>
      </p:pic>
      <p:sp>
        <p:nvSpPr>
          <p:cNvPr id="1536" name=""/>
          <p:cNvSpPr/>
          <p:nvPr/>
        </p:nvSpPr>
        <p:spPr>
          <a:xfrm>
            <a:off x="8107200" y="500544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8053560" y="4753080"/>
            <a:ext cx="17136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444800" y="4665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8067600" y="3781440"/>
            <a:ext cx="24768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92160" y="3684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45400" y="4762440"/>
            <a:ext cx="0" cy="7192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>
            <a:off x="6188040" y="5481720"/>
            <a:ext cx="118584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H="1" flipV="1">
            <a:off x="6184440" y="547380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H="1" flipV="1">
            <a:off x="7360920" y="547848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45" name="" descr=""/>
          <p:cNvPicPr/>
          <p:nvPr/>
        </p:nvPicPr>
        <p:blipFill>
          <a:blip r:embed="rId6"/>
          <a:stretch/>
        </p:blipFill>
        <p:spPr>
          <a:xfrm>
            <a:off x="7147080" y="5637240"/>
            <a:ext cx="583920" cy="463680"/>
          </a:xfrm>
          <a:prstGeom prst="rect">
            <a:avLst/>
          </a:prstGeom>
          <a:ln w="0">
            <a:noFill/>
          </a:ln>
        </p:spPr>
      </p:pic>
      <p:pic>
        <p:nvPicPr>
          <p:cNvPr id="1546" name="" descr=""/>
          <p:cNvPicPr/>
          <p:nvPr/>
        </p:nvPicPr>
        <p:blipFill>
          <a:blip r:embed="rId7"/>
          <a:stretch/>
        </p:blipFill>
        <p:spPr>
          <a:xfrm>
            <a:off x="5889600" y="565164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547" name=""/>
          <p:cNvSpPr/>
          <p:nvPr/>
        </p:nvSpPr>
        <p:spPr>
          <a:xfrm>
            <a:off x="7368480" y="5327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191920" y="53658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781680" y="4896000"/>
            <a:ext cx="12888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244560" y="4818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4797720" y="3160800"/>
            <a:ext cx="343800" cy="398880"/>
            <a:chOff x="4797720" y="3160800"/>
            <a:chExt cx="343800" cy="398880"/>
          </a:xfrm>
        </p:grpSpPr>
        <p:sp>
          <p:nvSpPr>
            <p:cNvPr id="1552" name=""/>
            <p:cNvSpPr/>
            <p:nvPr/>
          </p:nvSpPr>
          <p:spPr>
            <a:xfrm>
              <a:off x="4885920" y="3238560"/>
              <a:ext cx="18072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97720" y="31608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4773960" y="4398840"/>
            <a:ext cx="346680" cy="398880"/>
            <a:chOff x="4773960" y="4398840"/>
            <a:chExt cx="346680" cy="398880"/>
          </a:xfrm>
        </p:grpSpPr>
        <p:sp>
          <p:nvSpPr>
            <p:cNvPr id="1555" name=""/>
            <p:cNvSpPr/>
            <p:nvPr/>
          </p:nvSpPr>
          <p:spPr>
            <a:xfrm>
              <a:off x="4876560" y="4476600"/>
              <a:ext cx="18108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773960" y="43988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8395200" y="4761000"/>
            <a:ext cx="322560" cy="398880"/>
            <a:chOff x="8395200" y="4761000"/>
            <a:chExt cx="322560" cy="398880"/>
          </a:xfrm>
        </p:grpSpPr>
        <p:sp>
          <p:nvSpPr>
            <p:cNvPr id="1558" name=""/>
            <p:cNvSpPr/>
            <p:nvPr/>
          </p:nvSpPr>
          <p:spPr>
            <a:xfrm>
              <a:off x="8486640" y="4838760"/>
              <a:ext cx="18108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395200" y="476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371520" y="2305080"/>
            <a:ext cx="433368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tarting at A, given IP datagram addressed to B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ook up net. address of B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ind B is on same net. as 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ink layer will send datagram directly to B inside link-layer fram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 and A are directly connecte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5141520" y="1477800"/>
            <a:ext cx="3547080" cy="1427400"/>
            <a:chOff x="5141520" y="1477800"/>
            <a:chExt cx="3547080" cy="1427400"/>
          </a:xfrm>
        </p:grpSpPr>
        <p:sp>
          <p:nvSpPr>
            <p:cNvPr id="1562" name=""/>
            <p:cNvSpPr/>
            <p:nvPr/>
          </p:nvSpPr>
          <p:spPr>
            <a:xfrm>
              <a:off x="5141520" y="14778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Dest. Net.  next router  Nhops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181120" y="1877760"/>
              <a:ext cx="32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1                             1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190840" y="217296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2      223.1.1.4        2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200560" y="250632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3      223.1.1.4        2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238720" y="1857240"/>
              <a:ext cx="339084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391080" y="161892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772400" y="160956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569" name=""/>
          <p:cNvSpPr/>
          <p:nvPr/>
        </p:nvSpPr>
        <p:spPr>
          <a:xfrm>
            <a:off x="4867200" y="2085840"/>
            <a:ext cx="295200" cy="1143000"/>
          </a:xfrm>
          <a:custGeom>
            <a:avLst/>
            <a:gdLst/>
            <a:ahLst/>
            <a:rect l="l" t="t" r="r" b="b"/>
            <a:pathLst>
              <a:path w="186" h="720">
                <a:moveTo>
                  <a:pt x="186" y="0"/>
                </a:moveTo>
                <a:cubicBezTo>
                  <a:pt x="36" y="198"/>
                  <a:pt x="0" y="360"/>
                  <a:pt x="60" y="7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42880" y="1523880"/>
            <a:ext cx="3591000" cy="50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466560" y="1590840"/>
            <a:ext cx="3591000" cy="504720"/>
          </a:xfrm>
          <a:prstGeom prst="rect">
            <a:avLst/>
          </a:prstGeom>
          <a:solidFill>
            <a:srgbClr val="212186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80600" y="15080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misc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field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228680" y="160020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164240" y="16700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1.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182680" y="16700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1.3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219400" y="160020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238560" y="160020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234960" y="166068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8A7-899A-4184-BC00-A00092D618F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200160" y="20916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Getting a datagram from source to dest.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pic>
        <p:nvPicPr>
          <p:cNvPr id="1580" name="" descr=""/>
          <p:cNvPicPr/>
          <p:nvPr/>
        </p:nvPicPr>
        <p:blipFill>
          <a:blip r:embed="rId1"/>
          <a:stretch/>
        </p:blipFill>
        <p:spPr>
          <a:xfrm>
            <a:off x="4684680" y="319896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581" name=""/>
          <p:cNvSpPr/>
          <p:nvPr/>
        </p:nvSpPr>
        <p:spPr>
          <a:xfrm>
            <a:off x="5245200" y="3571920"/>
            <a:ext cx="27756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535720" y="3557520"/>
            <a:ext cx="0" cy="12906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5245200" y="4215960"/>
            <a:ext cx="277560" cy="32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254560" y="4843440"/>
            <a:ext cx="27324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85" name="" descr=""/>
          <p:cNvPicPr/>
          <p:nvPr/>
        </p:nvPicPr>
        <p:blipFill>
          <a:blip r:embed="rId2"/>
          <a:stretch/>
        </p:blipFill>
        <p:spPr>
          <a:xfrm>
            <a:off x="4684680" y="3865680"/>
            <a:ext cx="584280" cy="463320"/>
          </a:xfrm>
          <a:prstGeom prst="rect">
            <a:avLst/>
          </a:prstGeom>
          <a:ln w="0">
            <a:noFill/>
          </a:ln>
        </p:spPr>
      </p:pic>
      <p:pic>
        <p:nvPicPr>
          <p:cNvPr id="1586" name="" descr=""/>
          <p:cNvPicPr/>
          <p:nvPr/>
        </p:nvPicPr>
        <p:blipFill>
          <a:blip r:embed="rId3"/>
          <a:stretch/>
        </p:blipFill>
        <p:spPr>
          <a:xfrm>
            <a:off x="4684680" y="44751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587" name=""/>
          <p:cNvSpPr/>
          <p:nvPr/>
        </p:nvSpPr>
        <p:spPr>
          <a:xfrm>
            <a:off x="5535720" y="4414680"/>
            <a:ext cx="1035000" cy="64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6478560" y="4379760"/>
            <a:ext cx="711000" cy="380880"/>
            <a:chOff x="6478560" y="4379760"/>
            <a:chExt cx="711000" cy="380880"/>
          </a:xfrm>
        </p:grpSpPr>
        <p:sp>
          <p:nvSpPr>
            <p:cNvPr id="1589" name=""/>
            <p:cNvSpPr/>
            <p:nvPr/>
          </p:nvSpPr>
          <p:spPr>
            <a:xfrm>
              <a:off x="6484320" y="4549680"/>
              <a:ext cx="705240" cy="210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84320" y="453168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89560" y="453168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484320" y="4531680"/>
              <a:ext cx="69912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478560" y="4379760"/>
              <a:ext cx="70488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6648120" y="4434120"/>
              <a:ext cx="349200" cy="143640"/>
              <a:chOff x="6648120" y="4434120"/>
              <a:chExt cx="349200" cy="143640"/>
            </a:xfrm>
          </p:grpSpPr>
          <p:sp>
            <p:nvSpPr>
              <p:cNvPr id="1595" name=""/>
              <p:cNvSpPr/>
              <p:nvPr/>
            </p:nvSpPr>
            <p:spPr>
              <a:xfrm flipV="1">
                <a:off x="6648120" y="443412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887520" y="457776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762960" y="44370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6648120" y="4431600"/>
              <a:ext cx="349200" cy="143640"/>
              <a:chOff x="6648120" y="4431600"/>
              <a:chExt cx="349200" cy="143640"/>
            </a:xfrm>
          </p:grpSpPr>
          <p:sp>
            <p:nvSpPr>
              <p:cNvPr id="1599" name=""/>
              <p:cNvSpPr/>
              <p:nvPr/>
            </p:nvSpPr>
            <p:spPr>
              <a:xfrm>
                <a:off x="6648120" y="457236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887520" y="443160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V="1">
                <a:off x="6762960" y="443196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2" name=""/>
          <p:cNvSpPr/>
          <p:nvPr/>
        </p:nvSpPr>
        <p:spPr>
          <a:xfrm>
            <a:off x="5206320" y="3246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335200" y="3894120"/>
            <a:ext cx="108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092200" y="4827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882760" y="41562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083360" y="4424400"/>
            <a:ext cx="101592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958800" y="4146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8107200" y="3728880"/>
            <a:ext cx="0" cy="12909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609" name="" descr=""/>
          <p:cNvPicPr/>
          <p:nvPr/>
        </p:nvPicPr>
        <p:blipFill>
          <a:blip r:embed="rId4"/>
          <a:stretch/>
        </p:blipFill>
        <p:spPr>
          <a:xfrm>
            <a:off x="8285040" y="343692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610" name=""/>
          <p:cNvSpPr/>
          <p:nvPr/>
        </p:nvSpPr>
        <p:spPr>
          <a:xfrm>
            <a:off x="8107200" y="373392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611" name="" descr=""/>
          <p:cNvPicPr/>
          <p:nvPr/>
        </p:nvPicPr>
        <p:blipFill>
          <a:blip r:embed="rId5"/>
          <a:stretch/>
        </p:blipFill>
        <p:spPr>
          <a:xfrm>
            <a:off x="8290080" y="4818240"/>
            <a:ext cx="583920" cy="463320"/>
          </a:xfrm>
          <a:prstGeom prst="rect">
            <a:avLst/>
          </a:prstGeom>
          <a:ln w="0">
            <a:noFill/>
          </a:ln>
        </p:spPr>
      </p:pic>
      <p:sp>
        <p:nvSpPr>
          <p:cNvPr id="1612" name=""/>
          <p:cNvSpPr/>
          <p:nvPr/>
        </p:nvSpPr>
        <p:spPr>
          <a:xfrm>
            <a:off x="8107200" y="500544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616160" y="4589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292160" y="3684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845400" y="4762440"/>
            <a:ext cx="0" cy="7192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6188040" y="5481720"/>
            <a:ext cx="118584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 flipV="1">
            <a:off x="6184440" y="547380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flipH="1" flipV="1">
            <a:off x="7360920" y="547848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619" name="" descr=""/>
          <p:cNvPicPr/>
          <p:nvPr/>
        </p:nvPicPr>
        <p:blipFill>
          <a:blip r:embed="rId6"/>
          <a:stretch/>
        </p:blipFill>
        <p:spPr>
          <a:xfrm>
            <a:off x="7147080" y="5637240"/>
            <a:ext cx="583920" cy="463680"/>
          </a:xfrm>
          <a:prstGeom prst="rect">
            <a:avLst/>
          </a:prstGeom>
          <a:ln w="0">
            <a:noFill/>
          </a:ln>
        </p:spPr>
      </p:pic>
      <p:pic>
        <p:nvPicPr>
          <p:cNvPr id="1620" name="" descr=""/>
          <p:cNvPicPr/>
          <p:nvPr/>
        </p:nvPicPr>
        <p:blipFill>
          <a:blip r:embed="rId7"/>
          <a:stretch/>
        </p:blipFill>
        <p:spPr>
          <a:xfrm>
            <a:off x="5889600" y="565164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621" name=""/>
          <p:cNvSpPr/>
          <p:nvPr/>
        </p:nvSpPr>
        <p:spPr>
          <a:xfrm>
            <a:off x="7368480" y="5327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191920" y="53658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244560" y="4913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4797720" y="3160800"/>
            <a:ext cx="343800" cy="398880"/>
            <a:chOff x="4797720" y="3160800"/>
            <a:chExt cx="343800" cy="398880"/>
          </a:xfrm>
        </p:grpSpPr>
        <p:sp>
          <p:nvSpPr>
            <p:cNvPr id="1625" name=""/>
            <p:cNvSpPr/>
            <p:nvPr/>
          </p:nvSpPr>
          <p:spPr>
            <a:xfrm>
              <a:off x="4885920" y="3238560"/>
              <a:ext cx="18072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797720" y="31608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4773960" y="4398840"/>
            <a:ext cx="346680" cy="398880"/>
            <a:chOff x="4773960" y="4398840"/>
            <a:chExt cx="346680" cy="398880"/>
          </a:xfrm>
        </p:grpSpPr>
        <p:sp>
          <p:nvSpPr>
            <p:cNvPr id="1628" name=""/>
            <p:cNvSpPr/>
            <p:nvPr/>
          </p:nvSpPr>
          <p:spPr>
            <a:xfrm>
              <a:off x="4876560" y="4476600"/>
              <a:ext cx="18108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773960" y="43988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8395200" y="4761000"/>
            <a:ext cx="322560" cy="398880"/>
            <a:chOff x="8395200" y="4761000"/>
            <a:chExt cx="322560" cy="398880"/>
          </a:xfrm>
        </p:grpSpPr>
        <p:sp>
          <p:nvSpPr>
            <p:cNvPr id="1631" name=""/>
            <p:cNvSpPr/>
            <p:nvPr/>
          </p:nvSpPr>
          <p:spPr>
            <a:xfrm>
              <a:off x="8486640" y="4838760"/>
              <a:ext cx="18108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395200" y="476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5141520" y="1477800"/>
            <a:ext cx="3547080" cy="1427400"/>
            <a:chOff x="5141520" y="1477800"/>
            <a:chExt cx="3547080" cy="1427400"/>
          </a:xfrm>
        </p:grpSpPr>
        <p:sp>
          <p:nvSpPr>
            <p:cNvPr id="1634" name=""/>
            <p:cNvSpPr/>
            <p:nvPr/>
          </p:nvSpPr>
          <p:spPr>
            <a:xfrm>
              <a:off x="5141520" y="14778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Dest. Net.  next router  Nhops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181120" y="1877760"/>
              <a:ext cx="32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1                             1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190840" y="217296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2      223.1.1.4        2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200560" y="250632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3      223.1.1.4        2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238720" y="1857240"/>
              <a:ext cx="339084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391080" y="161892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772400" y="160956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867200" y="2085840"/>
            <a:ext cx="295200" cy="1143000"/>
          </a:xfrm>
          <a:custGeom>
            <a:avLst/>
            <a:gdLst/>
            <a:ahLst/>
            <a:rect l="l" t="t" r="r" b="b"/>
            <a:pathLst>
              <a:path w="186" h="720">
                <a:moveTo>
                  <a:pt x="186" y="0"/>
                </a:moveTo>
                <a:cubicBezTo>
                  <a:pt x="36" y="198"/>
                  <a:pt x="0" y="360"/>
                  <a:pt x="60" y="7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09680" y="2286000"/>
            <a:ext cx="406692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tarting at A, dest. E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ook up network address of 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 on </a:t>
            </a: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different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network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, E not directly attache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outing table: next hop router to E is 223.1.1.4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ink layer sends datagram to router 223.1.1.4 inside link-layer fram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atagram arrives at 223.1.1.4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continued….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61960" y="1504800"/>
            <a:ext cx="3591000" cy="50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85640" y="1571760"/>
            <a:ext cx="3591000" cy="504720"/>
          </a:xfrm>
          <a:prstGeom prst="rect">
            <a:avLst/>
          </a:prstGeom>
          <a:solidFill>
            <a:srgbClr val="212186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99320" y="148896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misc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field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247760" y="158112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183320" y="16509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1.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202120" y="16509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2.3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38480" y="158112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286080" y="157176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349440" y="164160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737-1DFA-47AB-B088-553DAC6AE2F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200160" y="20916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Getting a datagram from source to dest.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pic>
        <p:nvPicPr>
          <p:cNvPr id="1653" name="" descr=""/>
          <p:cNvPicPr/>
          <p:nvPr/>
        </p:nvPicPr>
        <p:blipFill>
          <a:blip r:embed="rId1"/>
          <a:stretch/>
        </p:blipFill>
        <p:spPr>
          <a:xfrm>
            <a:off x="4684680" y="319896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/>
          <p:nvPr/>
        </p:nvSpPr>
        <p:spPr>
          <a:xfrm>
            <a:off x="5245200" y="3571920"/>
            <a:ext cx="27756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535720" y="3557520"/>
            <a:ext cx="0" cy="12906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5245200" y="4215960"/>
            <a:ext cx="277560" cy="32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254560" y="4843440"/>
            <a:ext cx="27324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658" name="" descr=""/>
          <p:cNvPicPr/>
          <p:nvPr/>
        </p:nvPicPr>
        <p:blipFill>
          <a:blip r:embed="rId2"/>
          <a:stretch/>
        </p:blipFill>
        <p:spPr>
          <a:xfrm>
            <a:off x="4684680" y="3865680"/>
            <a:ext cx="584280" cy="463320"/>
          </a:xfrm>
          <a:prstGeom prst="rect">
            <a:avLst/>
          </a:prstGeom>
          <a:ln w="0">
            <a:noFill/>
          </a:ln>
        </p:spPr>
      </p:pic>
      <p:pic>
        <p:nvPicPr>
          <p:cNvPr id="1659" name="" descr=""/>
          <p:cNvPicPr/>
          <p:nvPr/>
        </p:nvPicPr>
        <p:blipFill>
          <a:blip r:embed="rId3"/>
          <a:stretch/>
        </p:blipFill>
        <p:spPr>
          <a:xfrm>
            <a:off x="4684680" y="44751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660" name=""/>
          <p:cNvSpPr/>
          <p:nvPr/>
        </p:nvSpPr>
        <p:spPr>
          <a:xfrm>
            <a:off x="5535720" y="4414680"/>
            <a:ext cx="1035000" cy="64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661" name=""/>
          <p:cNvGrpSpPr/>
          <p:nvPr/>
        </p:nvGrpSpPr>
        <p:grpSpPr>
          <a:xfrm>
            <a:off x="6478560" y="4379760"/>
            <a:ext cx="711000" cy="380880"/>
            <a:chOff x="6478560" y="4379760"/>
            <a:chExt cx="711000" cy="380880"/>
          </a:xfrm>
        </p:grpSpPr>
        <p:sp>
          <p:nvSpPr>
            <p:cNvPr id="1662" name=""/>
            <p:cNvSpPr/>
            <p:nvPr/>
          </p:nvSpPr>
          <p:spPr>
            <a:xfrm>
              <a:off x="6484320" y="4549680"/>
              <a:ext cx="705240" cy="210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484320" y="453168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189560" y="453168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484320" y="4531680"/>
              <a:ext cx="69912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478560" y="4379760"/>
              <a:ext cx="70488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667" name=""/>
            <p:cNvGrpSpPr/>
            <p:nvPr/>
          </p:nvGrpSpPr>
          <p:grpSpPr>
            <a:xfrm>
              <a:off x="6648120" y="4434120"/>
              <a:ext cx="349200" cy="143640"/>
              <a:chOff x="6648120" y="4434120"/>
              <a:chExt cx="349200" cy="143640"/>
            </a:xfrm>
          </p:grpSpPr>
          <p:sp>
            <p:nvSpPr>
              <p:cNvPr id="1668" name=""/>
              <p:cNvSpPr/>
              <p:nvPr/>
            </p:nvSpPr>
            <p:spPr>
              <a:xfrm flipV="1">
                <a:off x="6648120" y="443412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887520" y="457776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762960" y="44370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671" name=""/>
            <p:cNvGrpSpPr/>
            <p:nvPr/>
          </p:nvGrpSpPr>
          <p:grpSpPr>
            <a:xfrm>
              <a:off x="6648120" y="4431600"/>
              <a:ext cx="349200" cy="143640"/>
              <a:chOff x="6648120" y="4431600"/>
              <a:chExt cx="349200" cy="143640"/>
            </a:xfrm>
          </p:grpSpPr>
          <p:sp>
            <p:nvSpPr>
              <p:cNvPr id="1672" name=""/>
              <p:cNvSpPr/>
              <p:nvPr/>
            </p:nvSpPr>
            <p:spPr>
              <a:xfrm>
                <a:off x="6648120" y="457236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887520" y="443160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6762960" y="443196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5" name=""/>
          <p:cNvSpPr/>
          <p:nvPr/>
        </p:nvSpPr>
        <p:spPr>
          <a:xfrm>
            <a:off x="5206320" y="3246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291280" y="3967200"/>
            <a:ext cx="30960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220720" y="3875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092200" y="4827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882760" y="41562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083360" y="4424400"/>
            <a:ext cx="101592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958800" y="4146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8107200" y="3728880"/>
            <a:ext cx="0" cy="12909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683" name="" descr=""/>
          <p:cNvPicPr/>
          <p:nvPr/>
        </p:nvPicPr>
        <p:blipFill>
          <a:blip r:embed="rId4"/>
          <a:stretch/>
        </p:blipFill>
        <p:spPr>
          <a:xfrm>
            <a:off x="8285040" y="343692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684" name=""/>
          <p:cNvSpPr/>
          <p:nvPr/>
        </p:nvSpPr>
        <p:spPr>
          <a:xfrm>
            <a:off x="8107200" y="373392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685" name="" descr=""/>
          <p:cNvPicPr/>
          <p:nvPr/>
        </p:nvPicPr>
        <p:blipFill>
          <a:blip r:embed="rId5"/>
          <a:stretch/>
        </p:blipFill>
        <p:spPr>
          <a:xfrm>
            <a:off x="8290080" y="4818240"/>
            <a:ext cx="583920" cy="463320"/>
          </a:xfrm>
          <a:prstGeom prst="rect">
            <a:avLst/>
          </a:prstGeom>
          <a:ln w="0">
            <a:noFill/>
          </a:ln>
        </p:spPr>
      </p:pic>
      <p:sp>
        <p:nvSpPr>
          <p:cNvPr id="1686" name=""/>
          <p:cNvSpPr/>
          <p:nvPr/>
        </p:nvSpPr>
        <p:spPr>
          <a:xfrm>
            <a:off x="8107200" y="500544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8053560" y="4753080"/>
            <a:ext cx="17136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444800" y="4665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8067600" y="3781440"/>
            <a:ext cx="24768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292160" y="3684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845400" y="4762440"/>
            <a:ext cx="0" cy="7192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>
            <a:off x="6188040" y="5481720"/>
            <a:ext cx="118584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 flipV="1">
            <a:off x="6184440" y="547380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 flipV="1">
            <a:off x="7360920" y="547848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695" name="" descr=""/>
          <p:cNvPicPr/>
          <p:nvPr/>
        </p:nvPicPr>
        <p:blipFill>
          <a:blip r:embed="rId6"/>
          <a:stretch/>
        </p:blipFill>
        <p:spPr>
          <a:xfrm>
            <a:off x="7147080" y="5637240"/>
            <a:ext cx="583920" cy="463680"/>
          </a:xfrm>
          <a:prstGeom prst="rect">
            <a:avLst/>
          </a:prstGeom>
          <a:ln w="0">
            <a:noFill/>
          </a:ln>
        </p:spPr>
      </p:pic>
      <p:pic>
        <p:nvPicPr>
          <p:cNvPr id="1696" name="" descr=""/>
          <p:cNvPicPr/>
          <p:nvPr/>
        </p:nvPicPr>
        <p:blipFill>
          <a:blip r:embed="rId7"/>
          <a:stretch/>
        </p:blipFill>
        <p:spPr>
          <a:xfrm>
            <a:off x="5889600" y="565164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697" name=""/>
          <p:cNvSpPr/>
          <p:nvPr/>
        </p:nvSpPr>
        <p:spPr>
          <a:xfrm>
            <a:off x="7368480" y="5327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191920" y="53658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781680" y="4896000"/>
            <a:ext cx="12888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244560" y="4818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4797720" y="3160800"/>
            <a:ext cx="343800" cy="398880"/>
            <a:chOff x="4797720" y="3160800"/>
            <a:chExt cx="343800" cy="398880"/>
          </a:xfrm>
        </p:grpSpPr>
        <p:sp>
          <p:nvSpPr>
            <p:cNvPr id="1702" name=""/>
            <p:cNvSpPr/>
            <p:nvPr/>
          </p:nvSpPr>
          <p:spPr>
            <a:xfrm>
              <a:off x="4885920" y="3238560"/>
              <a:ext cx="18072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797720" y="31608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704" name=""/>
          <p:cNvGrpSpPr/>
          <p:nvPr/>
        </p:nvGrpSpPr>
        <p:grpSpPr>
          <a:xfrm>
            <a:off x="4773960" y="4398840"/>
            <a:ext cx="346680" cy="398880"/>
            <a:chOff x="4773960" y="4398840"/>
            <a:chExt cx="346680" cy="398880"/>
          </a:xfrm>
        </p:grpSpPr>
        <p:sp>
          <p:nvSpPr>
            <p:cNvPr id="1705" name=""/>
            <p:cNvSpPr/>
            <p:nvPr/>
          </p:nvSpPr>
          <p:spPr>
            <a:xfrm>
              <a:off x="4876560" y="4476600"/>
              <a:ext cx="18108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773960" y="43988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8395200" y="4761000"/>
            <a:ext cx="322560" cy="398880"/>
            <a:chOff x="8395200" y="4761000"/>
            <a:chExt cx="322560" cy="398880"/>
          </a:xfrm>
        </p:grpSpPr>
        <p:sp>
          <p:nvSpPr>
            <p:cNvPr id="1708" name=""/>
            <p:cNvSpPr/>
            <p:nvPr/>
          </p:nvSpPr>
          <p:spPr>
            <a:xfrm>
              <a:off x="8486640" y="4838760"/>
              <a:ext cx="18108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395200" y="476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710" name=""/>
          <p:cNvSpPr/>
          <p:nvPr/>
        </p:nvSpPr>
        <p:spPr>
          <a:xfrm>
            <a:off x="6848640" y="2905200"/>
            <a:ext cx="237960" cy="1476360"/>
          </a:xfrm>
          <a:custGeom>
            <a:avLst/>
            <a:gdLst/>
            <a:ahLst/>
            <a:rect l="l" t="t" r="r" b="b"/>
            <a:pathLst>
              <a:path w="150" h="720">
                <a:moveTo>
                  <a:pt x="126" y="0"/>
                </a:moveTo>
                <a:cubicBezTo>
                  <a:pt x="150" y="210"/>
                  <a:pt x="138" y="450"/>
                  <a:pt x="0" y="7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24000" y="2286000"/>
            <a:ext cx="41526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rriving at 223.1.4, destined for 223.1.2.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ook up network address of 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 on </a:t>
            </a: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same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network as router’s interface 223.1.2.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outer, E directly attache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ink layer sends datagram to 223.1.2.2 inside link-layer frame via interface 223.1.2.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atagram arrives at 223.1.2.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!!!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(hooray!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61960" y="1504800"/>
            <a:ext cx="3591000" cy="50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85640" y="1571760"/>
            <a:ext cx="3591000" cy="504720"/>
          </a:xfrm>
          <a:prstGeom prst="rect">
            <a:avLst/>
          </a:prstGeom>
          <a:solidFill>
            <a:srgbClr val="212186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99320" y="148896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misc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field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247760" y="158112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183320" y="16509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1.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202120" y="16509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2.3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238480" y="158112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286080" y="157176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349440" y="164160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4768560" y="1249200"/>
            <a:ext cx="4098960" cy="1713240"/>
            <a:chOff x="4768560" y="1249200"/>
            <a:chExt cx="4098960" cy="1713240"/>
          </a:xfrm>
        </p:grpSpPr>
        <p:sp>
          <p:nvSpPr>
            <p:cNvPr id="1722" name=""/>
            <p:cNvSpPr/>
            <p:nvPr/>
          </p:nvSpPr>
          <p:spPr>
            <a:xfrm>
              <a:off x="4768560" y="1534680"/>
              <a:ext cx="408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network   router  Nhops  interface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810320" y="1935000"/>
              <a:ext cx="39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1         -          1       </a:t>
              </a: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1.4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20040" y="2230200"/>
              <a:ext cx="39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2         -          1       </a:t>
              </a: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829400" y="256356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3         -          1       </a:t>
              </a: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867200" y="1914120"/>
              <a:ext cx="339084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019920" y="167616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877080" y="172368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782960" y="1249200"/>
              <a:ext cx="195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Dest.      next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705800" y="169524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6B5-CA37-4F8A-AC5E-6289C940FDF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38088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Intra-AS and Inter-AS routing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pic>
        <p:nvPicPr>
          <p:cNvPr id="1732" name="gaterout" descr=""/>
          <p:cNvPicPr/>
          <p:nvPr/>
        </p:nvPicPr>
        <p:blipFill>
          <a:blip r:embed="rId1"/>
          <a:stretch/>
        </p:blipFill>
        <p:spPr>
          <a:xfrm>
            <a:off x="2427120" y="4076640"/>
            <a:ext cx="4245120" cy="2355840"/>
          </a:xfrm>
          <a:prstGeom prst="rect">
            <a:avLst/>
          </a:prstGeom>
          <a:ln w="0">
            <a:noFill/>
          </a:ln>
        </p:spPr>
      </p:pic>
      <p:sp>
        <p:nvSpPr>
          <p:cNvPr id="1733" name=""/>
          <p:cNvSpPr/>
          <p:nvPr/>
        </p:nvSpPr>
        <p:spPr>
          <a:xfrm>
            <a:off x="5870520" y="1308240"/>
            <a:ext cx="28735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Gateways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perform inter-AS routing amongst themselve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perform intra-AS routers with other routers in their A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84120" y="4575240"/>
            <a:ext cx="26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inter-AS, intra-AS routing in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gateway A.c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566040" y="42228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network layer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6661080" y="462276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link layer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823080" y="501336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physical layer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5981760" y="4429080"/>
            <a:ext cx="552240" cy="3430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6038640" y="4867200"/>
            <a:ext cx="657000" cy="6858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6067080" y="5238720"/>
            <a:ext cx="809640" cy="7524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537080" y="2179800"/>
            <a:ext cx="1844640" cy="861840"/>
          </a:xfrm>
          <a:custGeom>
            <a:avLst/>
            <a:gdLst/>
            <a:ahLst/>
            <a:rect l="l" t="t" r="r" b="b"/>
            <a:pathLst>
              <a:path w="1162" h="543">
                <a:moveTo>
                  <a:pt x="56" y="162"/>
                </a:moveTo>
                <a:cubicBezTo>
                  <a:pt x="115" y="100"/>
                  <a:pt x="221" y="28"/>
                  <a:pt x="368" y="14"/>
                </a:cubicBezTo>
                <a:cubicBezTo>
                  <a:pt x="515" y="0"/>
                  <a:pt x="811" y="42"/>
                  <a:pt x="940" y="79"/>
                </a:cubicBezTo>
                <a:cubicBezTo>
                  <a:pt x="1069" y="116"/>
                  <a:pt x="1126" y="177"/>
                  <a:pt x="1144" y="239"/>
                </a:cubicBezTo>
                <a:cubicBezTo>
                  <a:pt x="1162" y="301"/>
                  <a:pt x="1141" y="401"/>
                  <a:pt x="1048" y="451"/>
                </a:cubicBezTo>
                <a:cubicBezTo>
                  <a:pt x="955" y="501"/>
                  <a:pt x="746" y="543"/>
                  <a:pt x="586" y="541"/>
                </a:cubicBezTo>
                <a:cubicBezTo>
                  <a:pt x="426" y="539"/>
                  <a:pt x="176" y="502"/>
                  <a:pt x="88" y="439"/>
                </a:cubicBezTo>
                <a:cubicBezTo>
                  <a:pt x="0" y="376"/>
                  <a:pt x="63" y="220"/>
                  <a:pt x="56" y="16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17360" y="2163600"/>
            <a:ext cx="1901880" cy="716040"/>
          </a:xfrm>
          <a:custGeom>
            <a:avLst/>
            <a:gdLst/>
            <a:ahLst/>
            <a:rect l="l" t="t" r="r" b="b"/>
            <a:pathLst>
              <a:path w="1198" h="451">
                <a:moveTo>
                  <a:pt x="88" y="181"/>
                </a:moveTo>
                <a:cubicBezTo>
                  <a:pt x="159" y="143"/>
                  <a:pt x="120" y="111"/>
                  <a:pt x="180" y="89"/>
                </a:cubicBezTo>
                <a:cubicBezTo>
                  <a:pt x="240" y="67"/>
                  <a:pt x="313" y="60"/>
                  <a:pt x="448" y="49"/>
                </a:cubicBezTo>
                <a:cubicBezTo>
                  <a:pt x="583" y="38"/>
                  <a:pt x="866" y="0"/>
                  <a:pt x="988" y="25"/>
                </a:cubicBezTo>
                <a:cubicBezTo>
                  <a:pt x="1110" y="50"/>
                  <a:pt x="1198" y="132"/>
                  <a:pt x="1181" y="197"/>
                </a:cubicBezTo>
                <a:cubicBezTo>
                  <a:pt x="1164" y="262"/>
                  <a:pt x="1034" y="375"/>
                  <a:pt x="889" y="413"/>
                </a:cubicBezTo>
                <a:cubicBezTo>
                  <a:pt x="744" y="451"/>
                  <a:pt x="449" y="438"/>
                  <a:pt x="307" y="425"/>
                </a:cubicBezTo>
                <a:cubicBezTo>
                  <a:pt x="165" y="412"/>
                  <a:pt x="72" y="378"/>
                  <a:pt x="36" y="337"/>
                </a:cubicBezTo>
                <a:cubicBezTo>
                  <a:pt x="0" y="296"/>
                  <a:pt x="77" y="213"/>
                  <a:pt x="88" y="181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806480" y="2374920"/>
            <a:ext cx="2832120" cy="2221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433520" y="2692440"/>
            <a:ext cx="2513160" cy="1082520"/>
          </a:xfrm>
          <a:custGeom>
            <a:avLst/>
            <a:gdLst/>
            <a:ahLst/>
            <a:rect l="l" t="t" r="r" b="b"/>
            <a:pathLst>
              <a:path w="1583" h="682">
                <a:moveTo>
                  <a:pt x="155" y="224"/>
                </a:moveTo>
                <a:cubicBezTo>
                  <a:pt x="208" y="137"/>
                  <a:pt x="302" y="108"/>
                  <a:pt x="407" y="74"/>
                </a:cubicBezTo>
                <a:cubicBezTo>
                  <a:pt x="512" y="40"/>
                  <a:pt x="660" y="0"/>
                  <a:pt x="785" y="20"/>
                </a:cubicBezTo>
                <a:cubicBezTo>
                  <a:pt x="910" y="40"/>
                  <a:pt x="1027" y="126"/>
                  <a:pt x="1157" y="194"/>
                </a:cubicBezTo>
                <a:cubicBezTo>
                  <a:pt x="1287" y="262"/>
                  <a:pt x="1545" y="353"/>
                  <a:pt x="1564" y="428"/>
                </a:cubicBezTo>
                <a:cubicBezTo>
                  <a:pt x="1583" y="503"/>
                  <a:pt x="1417" y="606"/>
                  <a:pt x="1272" y="644"/>
                </a:cubicBezTo>
                <a:cubicBezTo>
                  <a:pt x="1127" y="682"/>
                  <a:pt x="887" y="664"/>
                  <a:pt x="690" y="656"/>
                </a:cubicBezTo>
                <a:cubicBezTo>
                  <a:pt x="493" y="648"/>
                  <a:pt x="178" y="668"/>
                  <a:pt x="89" y="596"/>
                </a:cubicBezTo>
                <a:cubicBezTo>
                  <a:pt x="0" y="524"/>
                  <a:pt x="102" y="311"/>
                  <a:pt x="155" y="224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14360" y="255600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14360" y="254484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911160" y="254484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14360" y="254484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09680" y="245124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47560" y="2471760"/>
            <a:ext cx="223920" cy="196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3280" y="2374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347920" y="351792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347920" y="350676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844720" y="350676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347920" y="350676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2343240" y="341316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2430720" y="3327480"/>
            <a:ext cx="337680" cy="398880"/>
            <a:chOff x="2430720" y="3327480"/>
            <a:chExt cx="337680" cy="398880"/>
          </a:xfrm>
        </p:grpSpPr>
        <p:sp>
          <p:nvSpPr>
            <p:cNvPr id="1758" name=""/>
            <p:cNvSpPr/>
            <p:nvPr/>
          </p:nvSpPr>
          <p:spPr>
            <a:xfrm>
              <a:off x="2480400" y="3423960"/>
              <a:ext cx="225000" cy="2091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430720" y="33274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3071880" y="2519280"/>
            <a:ext cx="780840" cy="790560"/>
          </a:xfrm>
          <a:custGeom>
            <a:avLst/>
            <a:gdLst/>
            <a:ahLst/>
            <a:rect l="l" t="t" r="r" b="b"/>
            <a:pathLst>
              <a:path w="492" h="498">
                <a:moveTo>
                  <a:pt x="78" y="498"/>
                </a:moveTo>
                <a:lnTo>
                  <a:pt x="0" y="0"/>
                </a:lnTo>
                <a:lnTo>
                  <a:pt x="492" y="0"/>
                </a:lnTo>
                <a:lnTo>
                  <a:pt x="396" y="498"/>
                </a:lnTo>
                <a:lnTo>
                  <a:pt x="78" y="498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152800" y="2076480"/>
            <a:ext cx="780840" cy="790560"/>
          </a:xfrm>
          <a:custGeom>
            <a:avLst/>
            <a:gdLst/>
            <a:ahLst/>
            <a:rect l="l" t="t" r="r" b="b"/>
            <a:pathLst>
              <a:path w="492" h="498">
                <a:moveTo>
                  <a:pt x="78" y="498"/>
                </a:moveTo>
                <a:lnTo>
                  <a:pt x="0" y="0"/>
                </a:lnTo>
                <a:lnTo>
                  <a:pt x="492" y="0"/>
                </a:lnTo>
                <a:lnTo>
                  <a:pt x="396" y="498"/>
                </a:lnTo>
                <a:lnTo>
                  <a:pt x="78" y="498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162080" y="1549440"/>
            <a:ext cx="781200" cy="774720"/>
          </a:xfrm>
          <a:custGeom>
            <a:avLst/>
            <a:gdLst/>
            <a:ahLst/>
            <a:rect l="l" t="t" r="r" b="b"/>
            <a:pathLst>
              <a:path w="492" h="488">
                <a:moveTo>
                  <a:pt x="84" y="486"/>
                </a:moveTo>
                <a:lnTo>
                  <a:pt x="0" y="0"/>
                </a:lnTo>
                <a:lnTo>
                  <a:pt x="492" y="0"/>
                </a:lnTo>
                <a:lnTo>
                  <a:pt x="404" y="488"/>
                </a:lnTo>
                <a:lnTo>
                  <a:pt x="84" y="48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305000" y="234648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305000" y="233532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801800" y="233532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1305000" y="233532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300320" y="2241720"/>
            <a:ext cx="496800" cy="150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438200" y="2262240"/>
            <a:ext cx="225360" cy="1746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1387800" y="21654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2290680" y="288936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290680" y="287820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787480" y="287820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290680" y="287820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286000" y="278460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2376720" y="2698920"/>
            <a:ext cx="324000" cy="398880"/>
            <a:chOff x="2376720" y="2698920"/>
            <a:chExt cx="324000" cy="398880"/>
          </a:xfrm>
        </p:grpSpPr>
        <p:sp>
          <p:nvSpPr>
            <p:cNvPr id="1776" name=""/>
            <p:cNvSpPr/>
            <p:nvPr/>
          </p:nvSpPr>
          <p:spPr>
            <a:xfrm>
              <a:off x="2420280" y="2795400"/>
              <a:ext cx="225000" cy="2091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376720" y="26989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4506840" y="1757520"/>
            <a:ext cx="781200" cy="790560"/>
          </a:xfrm>
          <a:custGeom>
            <a:avLst/>
            <a:gdLst/>
            <a:ahLst/>
            <a:rect l="l" t="t" r="r" b="b"/>
            <a:pathLst>
              <a:path w="492" h="498">
                <a:moveTo>
                  <a:pt x="78" y="498"/>
                </a:moveTo>
                <a:lnTo>
                  <a:pt x="0" y="0"/>
                </a:lnTo>
                <a:lnTo>
                  <a:pt x="492" y="0"/>
                </a:lnTo>
                <a:lnTo>
                  <a:pt x="396" y="498"/>
                </a:lnTo>
                <a:lnTo>
                  <a:pt x="78" y="498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140440" y="2590920"/>
            <a:ext cx="488880" cy="1522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654520" y="2470320"/>
            <a:ext cx="146160" cy="1839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V="1">
            <a:off x="5032440" y="2400120"/>
            <a:ext cx="181080" cy="1206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2841480" y="3406680"/>
            <a:ext cx="419400" cy="130320"/>
          </a:xfrm>
          <a:custGeom>
            <a:avLst/>
            <a:gdLst/>
            <a:ahLst/>
            <a:rect l="l" t="t" r="r" b="b"/>
            <a:pathLst>
              <a:path w="264" h="82">
                <a:moveTo>
                  <a:pt x="0" y="82"/>
                </a:moveTo>
                <a:lnTo>
                  <a:pt x="264" y="0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111400" y="3349800"/>
            <a:ext cx="241200" cy="187200"/>
          </a:xfrm>
          <a:custGeom>
            <a:avLst/>
            <a:gdLst/>
            <a:ahLst/>
            <a:rect l="l" t="t" r="r" b="b"/>
            <a:pathLst>
              <a:path w="152" h="118">
                <a:moveTo>
                  <a:pt x="0" y="0"/>
                </a:moveTo>
                <a:lnTo>
                  <a:pt x="152" y="118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2308320" y="3238560"/>
            <a:ext cx="895320" cy="129960"/>
          </a:xfrm>
          <a:custGeom>
            <a:avLst/>
            <a:gdLst/>
            <a:ahLst/>
            <a:rect l="l" t="t" r="r" b="b"/>
            <a:pathLst>
              <a:path w="564" h="82">
                <a:moveTo>
                  <a:pt x="0" y="0"/>
                </a:moveTo>
                <a:lnTo>
                  <a:pt x="564" y="82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209680" y="2981160"/>
            <a:ext cx="120600" cy="149400"/>
          </a:xfrm>
          <a:custGeom>
            <a:avLst/>
            <a:gdLst/>
            <a:ahLst/>
            <a:rect l="l" t="t" r="r" b="b"/>
            <a:pathLst>
              <a:path w="76" h="94">
                <a:moveTo>
                  <a:pt x="0" y="94"/>
                </a:moveTo>
                <a:lnTo>
                  <a:pt x="76" y="0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898560" y="2384280"/>
            <a:ext cx="399960" cy="181080"/>
          </a:xfrm>
          <a:custGeom>
            <a:avLst/>
            <a:gdLst/>
            <a:ahLst/>
            <a:rect l="l" t="t" r="r" b="b"/>
            <a:pathLst>
              <a:path w="252" h="114">
                <a:moveTo>
                  <a:pt x="0" y="114"/>
                </a:moveTo>
                <a:lnTo>
                  <a:pt x="252" y="0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590840" y="2479680"/>
            <a:ext cx="704520" cy="409680"/>
          </a:xfrm>
          <a:custGeom>
            <a:avLst/>
            <a:gdLst/>
            <a:ahLst/>
            <a:rect l="l" t="t" r="r" b="b"/>
            <a:pathLst>
              <a:path w="444" h="258">
                <a:moveTo>
                  <a:pt x="0" y="0"/>
                </a:moveTo>
                <a:lnTo>
                  <a:pt x="444" y="258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692520" y="2666880"/>
            <a:ext cx="1038240" cy="666720"/>
          </a:xfrm>
          <a:custGeom>
            <a:avLst/>
            <a:gdLst/>
            <a:ahLst/>
            <a:rect l="l" t="t" r="r" b="b"/>
            <a:pathLst>
              <a:path w="654" h="420">
                <a:moveTo>
                  <a:pt x="0" y="420"/>
                </a:moveTo>
                <a:lnTo>
                  <a:pt x="654" y="0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403280" y="1581120"/>
            <a:ext cx="774720" cy="533520"/>
          </a:xfrm>
          <a:custGeom>
            <a:avLst/>
            <a:gdLst/>
            <a:ahLst/>
            <a:rect l="l" t="t" r="r" b="b"/>
            <a:pathLst>
              <a:path w="272" h="318">
                <a:moveTo>
                  <a:pt x="0" y="0"/>
                </a:moveTo>
                <a:lnTo>
                  <a:pt x="272" y="318"/>
                </a:lnTo>
              </a:path>
            </a:pathLst>
          </a:custGeom>
          <a:noFill/>
          <a:ln w="76320">
            <a:solidFill>
              <a:srgbClr val="5e57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940040" y="1492200"/>
            <a:ext cx="2603520" cy="222480"/>
          </a:xfrm>
          <a:custGeom>
            <a:avLst/>
            <a:gdLst/>
            <a:ahLst/>
            <a:rect l="l" t="t" r="r" b="b"/>
            <a:pathLst>
              <a:path w="1640" h="140">
                <a:moveTo>
                  <a:pt x="0" y="0"/>
                </a:moveTo>
                <a:lnTo>
                  <a:pt x="1640" y="140"/>
                </a:lnTo>
              </a:path>
            </a:pathLst>
          </a:custGeom>
          <a:noFill/>
          <a:ln w="76320">
            <a:solidFill>
              <a:srgbClr val="5e57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803760" y="1841400"/>
            <a:ext cx="1117440" cy="657360"/>
          </a:xfrm>
          <a:custGeom>
            <a:avLst/>
            <a:gdLst/>
            <a:ahLst/>
            <a:rect l="l" t="t" r="r" b="b"/>
            <a:pathLst>
              <a:path w="568" h="344">
                <a:moveTo>
                  <a:pt x="0" y="344"/>
                </a:moveTo>
                <a:lnTo>
                  <a:pt x="568" y="0"/>
                </a:lnTo>
              </a:path>
            </a:pathLst>
          </a:custGeom>
          <a:noFill/>
          <a:ln w="76320">
            <a:solidFill>
              <a:srgbClr val="5e57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705040" y="2152800"/>
            <a:ext cx="473040" cy="384120"/>
          </a:xfrm>
          <a:custGeom>
            <a:avLst/>
            <a:gdLst/>
            <a:ahLst/>
            <a:rect l="l" t="t" r="r" b="b"/>
            <a:pathLst>
              <a:path w="272" h="212">
                <a:moveTo>
                  <a:pt x="0" y="0"/>
                </a:moveTo>
                <a:lnTo>
                  <a:pt x="272" y="212"/>
                </a:lnTo>
              </a:path>
            </a:pathLst>
          </a:custGeom>
          <a:noFill/>
          <a:ln w="76320">
            <a:solidFill>
              <a:srgbClr val="5e57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643280" y="2565360"/>
            <a:ext cx="49716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643280" y="255420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140440" y="255420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643280" y="255420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638600" y="246060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776840" y="2481120"/>
            <a:ext cx="223920" cy="1908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732560" y="23842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038600" y="24843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721160" y="337032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5117040" y="269712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805040" y="322272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805040" y="321156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2301840" y="321156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805040" y="321156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800360" y="312408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935000" y="3166920"/>
            <a:ext cx="225720" cy="1526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890000" y="30384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2143080" y="1866960"/>
            <a:ext cx="779400" cy="398880"/>
            <a:chOff x="2143080" y="1866960"/>
            <a:chExt cx="779400" cy="398880"/>
          </a:xfrm>
        </p:grpSpPr>
        <p:sp>
          <p:nvSpPr>
            <p:cNvPr id="1811" name=""/>
            <p:cNvSpPr/>
            <p:nvPr/>
          </p:nvSpPr>
          <p:spPr>
            <a:xfrm>
              <a:off x="2151000" y="2046240"/>
              <a:ext cx="768240" cy="17928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919240" y="2031840"/>
              <a:ext cx="3240" cy="1094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151000" y="2031840"/>
              <a:ext cx="762120" cy="1080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143080" y="1901880"/>
              <a:ext cx="770040" cy="20952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146320" y="2031840"/>
              <a:ext cx="1440" cy="1094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2224800" y="1866960"/>
              <a:ext cx="555480" cy="398880"/>
              <a:chOff x="2224800" y="1866960"/>
              <a:chExt cx="555480" cy="398880"/>
            </a:xfrm>
          </p:grpSpPr>
          <p:sp>
            <p:nvSpPr>
              <p:cNvPr id="1817" name=""/>
              <p:cNvSpPr/>
              <p:nvPr/>
            </p:nvSpPr>
            <p:spPr>
              <a:xfrm>
                <a:off x="2305080" y="1963800"/>
                <a:ext cx="420840" cy="21888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2224800" y="186696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A.a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9" name=""/>
          <p:cNvGrpSpPr/>
          <p:nvPr/>
        </p:nvGrpSpPr>
        <p:grpSpPr>
          <a:xfrm>
            <a:off x="3068640" y="2251080"/>
            <a:ext cx="779400" cy="398880"/>
            <a:chOff x="3068640" y="2251080"/>
            <a:chExt cx="779400" cy="398880"/>
          </a:xfrm>
        </p:grpSpPr>
        <p:sp>
          <p:nvSpPr>
            <p:cNvPr id="1820" name=""/>
            <p:cNvSpPr/>
            <p:nvPr/>
          </p:nvSpPr>
          <p:spPr>
            <a:xfrm>
              <a:off x="3076560" y="2430360"/>
              <a:ext cx="768240" cy="17928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844800" y="2415960"/>
              <a:ext cx="3240" cy="1094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076560" y="2415960"/>
              <a:ext cx="762120" cy="1080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068640" y="2286000"/>
              <a:ext cx="770040" cy="20952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071880" y="2415960"/>
              <a:ext cx="1440" cy="1094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3161160" y="2251080"/>
              <a:ext cx="534240" cy="398880"/>
              <a:chOff x="3161160" y="2251080"/>
              <a:chExt cx="534240" cy="398880"/>
            </a:xfrm>
          </p:grpSpPr>
          <p:sp>
            <p:nvSpPr>
              <p:cNvPr id="1826" name=""/>
              <p:cNvSpPr/>
              <p:nvPr/>
            </p:nvSpPr>
            <p:spPr>
              <a:xfrm>
                <a:off x="3230640" y="2347920"/>
                <a:ext cx="420840" cy="21888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3161160" y="225108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A.c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"/>
          <p:cNvGrpSpPr/>
          <p:nvPr/>
        </p:nvGrpSpPr>
        <p:grpSpPr>
          <a:xfrm>
            <a:off x="1166760" y="1287360"/>
            <a:ext cx="779400" cy="398880"/>
            <a:chOff x="1166760" y="1287360"/>
            <a:chExt cx="779400" cy="398880"/>
          </a:xfrm>
        </p:grpSpPr>
        <p:sp>
          <p:nvSpPr>
            <p:cNvPr id="1829" name=""/>
            <p:cNvSpPr/>
            <p:nvPr/>
          </p:nvSpPr>
          <p:spPr>
            <a:xfrm>
              <a:off x="1174680" y="1466640"/>
              <a:ext cx="768240" cy="17928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942920" y="1452240"/>
              <a:ext cx="3240" cy="1094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174680" y="1452240"/>
              <a:ext cx="762120" cy="1080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166760" y="1322280"/>
              <a:ext cx="770040" cy="20952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170000" y="1452240"/>
              <a:ext cx="1440" cy="1094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834" name=""/>
            <p:cNvGrpSpPr/>
            <p:nvPr/>
          </p:nvGrpSpPr>
          <p:grpSpPr>
            <a:xfrm>
              <a:off x="1242720" y="1287360"/>
              <a:ext cx="567720" cy="398880"/>
              <a:chOff x="1242720" y="1287360"/>
              <a:chExt cx="567720" cy="398880"/>
            </a:xfrm>
          </p:grpSpPr>
          <p:sp>
            <p:nvSpPr>
              <p:cNvPr id="1835" name=""/>
              <p:cNvSpPr/>
              <p:nvPr/>
            </p:nvSpPr>
            <p:spPr>
              <a:xfrm>
                <a:off x="1328760" y="1384200"/>
                <a:ext cx="420840" cy="21888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1242720" y="1287360"/>
                <a:ext cx="56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C.b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7" name=""/>
          <p:cNvGrpSpPr/>
          <p:nvPr/>
        </p:nvGrpSpPr>
        <p:grpSpPr>
          <a:xfrm>
            <a:off x="4497480" y="1503360"/>
            <a:ext cx="779400" cy="398880"/>
            <a:chOff x="4497480" y="1503360"/>
            <a:chExt cx="779400" cy="398880"/>
          </a:xfrm>
        </p:grpSpPr>
        <p:sp>
          <p:nvSpPr>
            <p:cNvPr id="1838" name=""/>
            <p:cNvSpPr/>
            <p:nvPr/>
          </p:nvSpPr>
          <p:spPr>
            <a:xfrm>
              <a:off x="4505400" y="1682640"/>
              <a:ext cx="768240" cy="17928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273640" y="1668240"/>
              <a:ext cx="3240" cy="1094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505400" y="1668240"/>
              <a:ext cx="762120" cy="1080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497480" y="1538280"/>
              <a:ext cx="770040" cy="20952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500720" y="1668240"/>
              <a:ext cx="1440" cy="1094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843" name=""/>
            <p:cNvGrpSpPr/>
            <p:nvPr/>
          </p:nvGrpSpPr>
          <p:grpSpPr>
            <a:xfrm>
              <a:off x="4577760" y="1503360"/>
              <a:ext cx="558720" cy="398880"/>
              <a:chOff x="4577760" y="1503360"/>
              <a:chExt cx="558720" cy="398880"/>
            </a:xfrm>
          </p:grpSpPr>
          <p:sp>
            <p:nvSpPr>
              <p:cNvPr id="1844" name=""/>
              <p:cNvSpPr/>
              <p:nvPr/>
            </p:nvSpPr>
            <p:spPr>
              <a:xfrm>
                <a:off x="4659120" y="1600200"/>
                <a:ext cx="420840" cy="21888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577760" y="1503360"/>
                <a:ext cx="55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B.a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6" name=""/>
          <p:cNvGrpSpPr/>
          <p:nvPr/>
        </p:nvGrpSpPr>
        <p:grpSpPr>
          <a:xfrm>
            <a:off x="5191200" y="2203560"/>
            <a:ext cx="501480" cy="398880"/>
            <a:chOff x="5191200" y="2203560"/>
            <a:chExt cx="501480" cy="398880"/>
          </a:xfrm>
        </p:grpSpPr>
        <p:sp>
          <p:nvSpPr>
            <p:cNvPr id="1847" name=""/>
            <p:cNvSpPr/>
            <p:nvPr/>
          </p:nvSpPr>
          <p:spPr>
            <a:xfrm>
              <a:off x="5195880" y="238464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195880" y="237348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692680" y="237348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195880" y="237348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191200" y="2279880"/>
              <a:ext cx="49680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329440" y="2300400"/>
              <a:ext cx="223560" cy="1872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295240" y="220356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5629320" y="2556000"/>
            <a:ext cx="501480" cy="398880"/>
            <a:chOff x="5629320" y="2556000"/>
            <a:chExt cx="501480" cy="398880"/>
          </a:xfrm>
        </p:grpSpPr>
        <p:sp>
          <p:nvSpPr>
            <p:cNvPr id="1855" name=""/>
            <p:cNvSpPr/>
            <p:nvPr/>
          </p:nvSpPr>
          <p:spPr>
            <a:xfrm>
              <a:off x="5633640" y="273708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633640" y="272592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130800" y="272592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633640" y="2725920"/>
              <a:ext cx="49176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629320" y="2631960"/>
              <a:ext cx="49644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767200" y="2652840"/>
              <a:ext cx="225000" cy="1746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716440" y="25560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862" name=""/>
          <p:cNvSpPr/>
          <p:nvPr/>
        </p:nvSpPr>
        <p:spPr>
          <a:xfrm>
            <a:off x="3086280" y="3429000"/>
            <a:ext cx="2933640" cy="657360"/>
          </a:xfrm>
          <a:custGeom>
            <a:avLst/>
            <a:gdLst/>
            <a:ahLst/>
            <a:rect l="l" t="t" r="r" b="b"/>
            <a:pathLst>
              <a:path w="1848" h="414">
                <a:moveTo>
                  <a:pt x="0" y="414"/>
                </a:moveTo>
                <a:lnTo>
                  <a:pt x="84" y="0"/>
                </a:lnTo>
                <a:lnTo>
                  <a:pt x="384" y="6"/>
                </a:lnTo>
                <a:lnTo>
                  <a:pt x="1848" y="414"/>
                </a:lnTo>
                <a:lnTo>
                  <a:pt x="0" y="41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3200400" y="3143160"/>
            <a:ext cx="501480" cy="398880"/>
            <a:chOff x="3200400" y="3143160"/>
            <a:chExt cx="501480" cy="398880"/>
          </a:xfrm>
        </p:grpSpPr>
        <p:sp>
          <p:nvSpPr>
            <p:cNvPr id="1864" name=""/>
            <p:cNvSpPr/>
            <p:nvPr/>
          </p:nvSpPr>
          <p:spPr>
            <a:xfrm>
              <a:off x="3205080" y="333684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205080" y="33256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701880" y="33256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205080" y="332568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200400" y="32320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3301560" y="3143160"/>
              <a:ext cx="302760" cy="398880"/>
              <a:chOff x="3301560" y="3143160"/>
              <a:chExt cx="302760" cy="398880"/>
            </a:xfrm>
          </p:grpSpPr>
          <p:sp>
            <p:nvSpPr>
              <p:cNvPr id="1870" name=""/>
              <p:cNvSpPr/>
              <p:nvPr/>
            </p:nvSpPr>
            <p:spPr>
              <a:xfrm>
                <a:off x="3334680" y="3240000"/>
                <a:ext cx="22500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3301560" y="3143160"/>
                <a:ext cx="30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D49-8D5C-4017-89C1-7332CC38CDA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39996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Intra-AS and Inter-AS routing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066440" y="2351160"/>
            <a:ext cx="80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Host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h2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874" name=""/>
          <p:cNvGrpSpPr/>
          <p:nvPr/>
        </p:nvGrpSpPr>
        <p:grpSpPr>
          <a:xfrm>
            <a:off x="1050840" y="1754280"/>
            <a:ext cx="6264000" cy="2487600"/>
            <a:chOff x="1050840" y="1754280"/>
            <a:chExt cx="6264000" cy="2487600"/>
          </a:xfrm>
        </p:grpSpPr>
        <p:sp>
          <p:nvSpPr>
            <p:cNvPr id="1875" name=""/>
            <p:cNvSpPr/>
            <p:nvPr/>
          </p:nvSpPr>
          <p:spPr>
            <a:xfrm>
              <a:off x="5470200" y="2646720"/>
              <a:ext cx="1844640" cy="861840"/>
            </a:xfrm>
            <a:custGeom>
              <a:avLst/>
              <a:gdLst/>
              <a:ahLst/>
              <a:rect l="l" t="t" r="r" b="b"/>
              <a:pathLst>
                <a:path w="1162" h="543">
                  <a:moveTo>
                    <a:pt x="56" y="162"/>
                  </a:moveTo>
                  <a:cubicBezTo>
                    <a:pt x="115" y="100"/>
                    <a:pt x="221" y="28"/>
                    <a:pt x="368" y="14"/>
                  </a:cubicBezTo>
                  <a:cubicBezTo>
                    <a:pt x="515" y="0"/>
                    <a:pt x="811" y="42"/>
                    <a:pt x="940" y="79"/>
                  </a:cubicBezTo>
                  <a:cubicBezTo>
                    <a:pt x="1069" y="116"/>
                    <a:pt x="1126" y="177"/>
                    <a:pt x="1144" y="239"/>
                  </a:cubicBezTo>
                  <a:cubicBezTo>
                    <a:pt x="1162" y="301"/>
                    <a:pt x="1141" y="401"/>
                    <a:pt x="1048" y="451"/>
                  </a:cubicBezTo>
                  <a:cubicBezTo>
                    <a:pt x="955" y="501"/>
                    <a:pt x="746" y="543"/>
                    <a:pt x="586" y="541"/>
                  </a:cubicBezTo>
                  <a:cubicBezTo>
                    <a:pt x="426" y="539"/>
                    <a:pt x="176" y="502"/>
                    <a:pt x="88" y="439"/>
                  </a:cubicBezTo>
                  <a:cubicBezTo>
                    <a:pt x="0" y="376"/>
                    <a:pt x="63" y="220"/>
                    <a:pt x="56" y="16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050840" y="2630880"/>
              <a:ext cx="1901520" cy="715680"/>
            </a:xfrm>
            <a:custGeom>
              <a:avLst/>
              <a:gdLst/>
              <a:ahLst/>
              <a:rect l="l" t="t" r="r" b="b"/>
              <a:pathLst>
                <a:path w="1198" h="451">
                  <a:moveTo>
                    <a:pt x="88" y="181"/>
                  </a:moveTo>
                  <a:cubicBezTo>
                    <a:pt x="159" y="143"/>
                    <a:pt x="120" y="111"/>
                    <a:pt x="180" y="89"/>
                  </a:cubicBezTo>
                  <a:cubicBezTo>
                    <a:pt x="240" y="67"/>
                    <a:pt x="313" y="60"/>
                    <a:pt x="448" y="49"/>
                  </a:cubicBezTo>
                  <a:cubicBezTo>
                    <a:pt x="583" y="38"/>
                    <a:pt x="866" y="0"/>
                    <a:pt x="988" y="25"/>
                  </a:cubicBezTo>
                  <a:cubicBezTo>
                    <a:pt x="1110" y="50"/>
                    <a:pt x="1198" y="132"/>
                    <a:pt x="1181" y="197"/>
                  </a:cubicBezTo>
                  <a:cubicBezTo>
                    <a:pt x="1164" y="262"/>
                    <a:pt x="1034" y="375"/>
                    <a:pt x="889" y="413"/>
                  </a:cubicBezTo>
                  <a:cubicBezTo>
                    <a:pt x="744" y="451"/>
                    <a:pt x="449" y="438"/>
                    <a:pt x="307" y="425"/>
                  </a:cubicBezTo>
                  <a:cubicBezTo>
                    <a:pt x="165" y="412"/>
                    <a:pt x="72" y="378"/>
                    <a:pt x="36" y="337"/>
                  </a:cubicBezTo>
                  <a:cubicBezTo>
                    <a:pt x="0" y="296"/>
                    <a:pt x="77" y="213"/>
                    <a:pt x="88" y="18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739600" y="2841840"/>
              <a:ext cx="2832120" cy="22212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366640" y="3159360"/>
              <a:ext cx="2513160" cy="1082520"/>
            </a:xfrm>
            <a:custGeom>
              <a:avLst/>
              <a:gdLst/>
              <a:ahLst/>
              <a:rect l="l" t="t" r="r" b="b"/>
              <a:pathLst>
                <a:path w="1583" h="682">
                  <a:moveTo>
                    <a:pt x="155" y="224"/>
                  </a:moveTo>
                  <a:cubicBezTo>
                    <a:pt x="208" y="137"/>
                    <a:pt x="302" y="108"/>
                    <a:pt x="407" y="74"/>
                  </a:cubicBezTo>
                  <a:cubicBezTo>
                    <a:pt x="512" y="40"/>
                    <a:pt x="660" y="0"/>
                    <a:pt x="785" y="20"/>
                  </a:cubicBezTo>
                  <a:cubicBezTo>
                    <a:pt x="910" y="40"/>
                    <a:pt x="1027" y="126"/>
                    <a:pt x="1157" y="194"/>
                  </a:cubicBezTo>
                  <a:cubicBezTo>
                    <a:pt x="1287" y="262"/>
                    <a:pt x="1545" y="353"/>
                    <a:pt x="1564" y="428"/>
                  </a:cubicBezTo>
                  <a:cubicBezTo>
                    <a:pt x="1583" y="503"/>
                    <a:pt x="1417" y="606"/>
                    <a:pt x="1272" y="644"/>
                  </a:cubicBezTo>
                  <a:cubicBezTo>
                    <a:pt x="1127" y="682"/>
                    <a:pt x="887" y="664"/>
                    <a:pt x="690" y="656"/>
                  </a:cubicBezTo>
                  <a:cubicBezTo>
                    <a:pt x="493" y="648"/>
                    <a:pt x="178" y="668"/>
                    <a:pt x="89" y="596"/>
                  </a:cubicBezTo>
                  <a:cubicBezTo>
                    <a:pt x="0" y="524"/>
                    <a:pt x="102" y="311"/>
                    <a:pt x="155" y="224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347480" y="302292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347480" y="301176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844280" y="301176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347480" y="301176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342800" y="291816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81040" y="2938680"/>
              <a:ext cx="223560" cy="1969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436400" y="28418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281040" y="398484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281040" y="39736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777840" y="39736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81040" y="397368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276360" y="38800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891" name=""/>
            <p:cNvGrpSpPr/>
            <p:nvPr/>
          </p:nvGrpSpPr>
          <p:grpSpPr>
            <a:xfrm>
              <a:off x="3363840" y="3794400"/>
              <a:ext cx="337680" cy="398880"/>
              <a:chOff x="3363840" y="3794400"/>
              <a:chExt cx="337680" cy="398880"/>
            </a:xfrm>
          </p:grpSpPr>
          <p:sp>
            <p:nvSpPr>
              <p:cNvPr id="1892" name=""/>
              <p:cNvSpPr/>
              <p:nvPr/>
            </p:nvSpPr>
            <p:spPr>
              <a:xfrm>
                <a:off x="3413520" y="3890880"/>
                <a:ext cx="22500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363840" y="379440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894" name=""/>
            <p:cNvSpPr/>
            <p:nvPr/>
          </p:nvSpPr>
          <p:spPr>
            <a:xfrm>
              <a:off x="4005000" y="2986200"/>
              <a:ext cx="781200" cy="79056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78" y="498"/>
                  </a:moveTo>
                  <a:lnTo>
                    <a:pt x="0" y="0"/>
                  </a:lnTo>
                  <a:lnTo>
                    <a:pt x="492" y="0"/>
                  </a:lnTo>
                  <a:lnTo>
                    <a:pt x="396" y="498"/>
                  </a:lnTo>
                  <a:lnTo>
                    <a:pt x="78" y="498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085920" y="2543400"/>
              <a:ext cx="780840" cy="79056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78" y="498"/>
                  </a:moveTo>
                  <a:lnTo>
                    <a:pt x="0" y="0"/>
                  </a:lnTo>
                  <a:lnTo>
                    <a:pt x="492" y="0"/>
                  </a:lnTo>
                  <a:lnTo>
                    <a:pt x="396" y="498"/>
                  </a:lnTo>
                  <a:lnTo>
                    <a:pt x="78" y="4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095200" y="2016360"/>
              <a:ext cx="781200" cy="774720"/>
            </a:xfrm>
            <a:custGeom>
              <a:avLst/>
              <a:gdLst/>
              <a:ahLst/>
              <a:rect l="l" t="t" r="r" b="b"/>
              <a:pathLst>
                <a:path w="492" h="488">
                  <a:moveTo>
                    <a:pt x="84" y="486"/>
                  </a:moveTo>
                  <a:lnTo>
                    <a:pt x="0" y="0"/>
                  </a:lnTo>
                  <a:lnTo>
                    <a:pt x="492" y="0"/>
                  </a:lnTo>
                  <a:lnTo>
                    <a:pt x="404" y="488"/>
                  </a:lnTo>
                  <a:lnTo>
                    <a:pt x="84" y="4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238120" y="281340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238120" y="280224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734920" y="280224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238120" y="280224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233440" y="270864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371320" y="2729160"/>
              <a:ext cx="225720" cy="1746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0920" y="26323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223800" y="3356280"/>
              <a:ext cx="49716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223800" y="334512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720960" y="334512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223800" y="334512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219120" y="325152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909" name=""/>
            <p:cNvGrpSpPr/>
            <p:nvPr/>
          </p:nvGrpSpPr>
          <p:grpSpPr>
            <a:xfrm>
              <a:off x="3309840" y="3165840"/>
              <a:ext cx="324000" cy="398880"/>
              <a:chOff x="3309840" y="3165840"/>
              <a:chExt cx="324000" cy="398880"/>
            </a:xfrm>
          </p:grpSpPr>
          <p:sp>
            <p:nvSpPr>
              <p:cNvPr id="1910" name=""/>
              <p:cNvSpPr/>
              <p:nvPr/>
            </p:nvSpPr>
            <p:spPr>
              <a:xfrm>
                <a:off x="3353400" y="3262320"/>
                <a:ext cx="22500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309840" y="316584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912" name=""/>
            <p:cNvSpPr/>
            <p:nvPr/>
          </p:nvSpPr>
          <p:spPr>
            <a:xfrm>
              <a:off x="5439960" y="2224440"/>
              <a:ext cx="781200" cy="79056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78" y="498"/>
                  </a:moveTo>
                  <a:lnTo>
                    <a:pt x="0" y="0"/>
                  </a:lnTo>
                  <a:lnTo>
                    <a:pt x="492" y="0"/>
                  </a:lnTo>
                  <a:lnTo>
                    <a:pt x="396" y="498"/>
                  </a:lnTo>
                  <a:lnTo>
                    <a:pt x="78" y="4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073560" y="3057840"/>
              <a:ext cx="488880" cy="15228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588000" y="2937240"/>
              <a:ext cx="145800" cy="18396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5965560" y="2867040"/>
              <a:ext cx="181080" cy="1206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774960" y="3873600"/>
              <a:ext cx="419040" cy="130320"/>
            </a:xfrm>
            <a:custGeom>
              <a:avLst/>
              <a:gdLst/>
              <a:ahLst/>
              <a:rect l="l" t="t" r="r" b="b"/>
              <a:pathLst>
                <a:path w="264" h="82">
                  <a:moveTo>
                    <a:pt x="0" y="82"/>
                  </a:moveTo>
                  <a:lnTo>
                    <a:pt x="264" y="0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44520" y="3816720"/>
              <a:ext cx="241200" cy="187200"/>
            </a:xfrm>
            <a:custGeom>
              <a:avLst/>
              <a:gdLst/>
              <a:ahLst/>
              <a:rect l="l" t="t" r="r" b="b"/>
              <a:pathLst>
                <a:path w="152" h="118">
                  <a:moveTo>
                    <a:pt x="0" y="0"/>
                  </a:moveTo>
                  <a:lnTo>
                    <a:pt x="152" y="118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241440" y="3705480"/>
              <a:ext cx="895320" cy="130320"/>
            </a:xfrm>
            <a:custGeom>
              <a:avLst/>
              <a:gdLst/>
              <a:ahLst/>
              <a:rect l="l" t="t" r="r" b="b"/>
              <a:pathLst>
                <a:path w="564" h="82">
                  <a:moveTo>
                    <a:pt x="0" y="0"/>
                  </a:moveTo>
                  <a:lnTo>
                    <a:pt x="564" y="82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143160" y="3448440"/>
              <a:ext cx="120600" cy="14904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0" y="94"/>
                  </a:moveTo>
                  <a:lnTo>
                    <a:pt x="76" y="0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831680" y="2851560"/>
              <a:ext cx="399960" cy="180720"/>
            </a:xfrm>
            <a:custGeom>
              <a:avLst/>
              <a:gdLst/>
              <a:ahLst/>
              <a:rect l="l" t="t" r="r" b="b"/>
              <a:pathLst>
                <a:path w="252" h="114">
                  <a:moveTo>
                    <a:pt x="0" y="114"/>
                  </a:moveTo>
                  <a:lnTo>
                    <a:pt x="252" y="0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523960" y="2946600"/>
              <a:ext cx="704880" cy="409680"/>
            </a:xfrm>
            <a:custGeom>
              <a:avLst/>
              <a:gdLst/>
              <a:ahLst/>
              <a:rect l="l" t="t" r="r" b="b"/>
              <a:pathLst>
                <a:path w="444" h="258">
                  <a:moveTo>
                    <a:pt x="0" y="0"/>
                  </a:moveTo>
                  <a:lnTo>
                    <a:pt x="444" y="258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625640" y="3134160"/>
              <a:ext cx="1038240" cy="666720"/>
            </a:xfrm>
            <a:custGeom>
              <a:avLst/>
              <a:gdLst/>
              <a:ahLst/>
              <a:rect l="l" t="t" r="r" b="b"/>
              <a:pathLst>
                <a:path w="654" h="420">
                  <a:moveTo>
                    <a:pt x="0" y="420"/>
                  </a:moveTo>
                  <a:lnTo>
                    <a:pt x="654" y="0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336400" y="2048040"/>
              <a:ext cx="774720" cy="533520"/>
            </a:xfrm>
            <a:custGeom>
              <a:avLst/>
              <a:gdLst/>
              <a:ahLst/>
              <a:rect l="l" t="t" r="r" b="b"/>
              <a:pathLst>
                <a:path w="272" h="318">
                  <a:moveTo>
                    <a:pt x="0" y="0"/>
                  </a:moveTo>
                  <a:lnTo>
                    <a:pt x="272" y="318"/>
                  </a:lnTo>
                </a:path>
              </a:pathLst>
            </a:custGeom>
            <a:noFill/>
            <a:ln w="7632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873160" y="1959120"/>
              <a:ext cx="2603520" cy="222480"/>
            </a:xfrm>
            <a:custGeom>
              <a:avLst/>
              <a:gdLst/>
              <a:ahLst/>
              <a:rect l="l" t="t" r="r" b="b"/>
              <a:pathLst>
                <a:path w="1640" h="140">
                  <a:moveTo>
                    <a:pt x="0" y="0"/>
                  </a:moveTo>
                  <a:lnTo>
                    <a:pt x="1640" y="140"/>
                  </a:lnTo>
                </a:path>
              </a:pathLst>
            </a:custGeom>
            <a:noFill/>
            <a:ln w="7632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736880" y="2308320"/>
              <a:ext cx="1117440" cy="657360"/>
            </a:xfrm>
            <a:custGeom>
              <a:avLst/>
              <a:gdLst/>
              <a:ahLst/>
              <a:rect l="l" t="t" r="r" b="b"/>
              <a:pathLst>
                <a:path w="568" h="344">
                  <a:moveTo>
                    <a:pt x="0" y="344"/>
                  </a:moveTo>
                  <a:lnTo>
                    <a:pt x="568" y="0"/>
                  </a:lnTo>
                </a:path>
              </a:pathLst>
            </a:custGeom>
            <a:noFill/>
            <a:ln w="7632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638160" y="2619720"/>
              <a:ext cx="473040" cy="384120"/>
            </a:xfrm>
            <a:custGeom>
              <a:avLst/>
              <a:gdLst/>
              <a:ahLst/>
              <a:rect l="l" t="t" r="r" b="b"/>
              <a:pathLst>
                <a:path w="272" h="212">
                  <a:moveTo>
                    <a:pt x="0" y="0"/>
                  </a:moveTo>
                  <a:lnTo>
                    <a:pt x="272" y="212"/>
                  </a:lnTo>
                </a:path>
              </a:pathLst>
            </a:custGeom>
            <a:noFill/>
            <a:ln w="7632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76760" y="303228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76760" y="302112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073560" y="302112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576760" y="302112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571720" y="2927520"/>
              <a:ext cx="49716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709960" y="2948400"/>
              <a:ext cx="223920" cy="1904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665680" y="28515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971720" y="295128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654280" y="38372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050160" y="31640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738160" y="368964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738160" y="36784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234960" y="36784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738160" y="367848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733480" y="3591360"/>
              <a:ext cx="49680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868480" y="3634200"/>
              <a:ext cx="225360" cy="1522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823480" y="35053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138200" y="3803760"/>
              <a:ext cx="49716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138200" y="379296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635360" y="379296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138200" y="379296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133520" y="369900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949" name=""/>
            <p:cNvGrpSpPr/>
            <p:nvPr/>
          </p:nvGrpSpPr>
          <p:grpSpPr>
            <a:xfrm>
              <a:off x="4234680" y="3610080"/>
              <a:ext cx="302760" cy="398880"/>
              <a:chOff x="4234680" y="3610080"/>
              <a:chExt cx="302760" cy="398880"/>
            </a:xfrm>
          </p:grpSpPr>
          <p:sp>
            <p:nvSpPr>
              <p:cNvPr id="1950" name=""/>
              <p:cNvSpPr/>
              <p:nvPr/>
            </p:nvSpPr>
            <p:spPr>
              <a:xfrm>
                <a:off x="4267800" y="3706920"/>
                <a:ext cx="22500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234680" y="3610080"/>
                <a:ext cx="30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3076200" y="2333880"/>
              <a:ext cx="779400" cy="398880"/>
              <a:chOff x="3076200" y="2333880"/>
              <a:chExt cx="779400" cy="398880"/>
            </a:xfrm>
          </p:grpSpPr>
          <p:sp>
            <p:nvSpPr>
              <p:cNvPr id="1953" name=""/>
              <p:cNvSpPr/>
              <p:nvPr/>
            </p:nvSpPr>
            <p:spPr>
              <a:xfrm>
                <a:off x="3084120" y="2513160"/>
                <a:ext cx="768240" cy="179280"/>
              </a:xfrm>
              <a:prstGeom prst="ellipse">
                <a:avLst/>
              </a:prstGeom>
              <a:solidFill>
                <a:srgbClr val="99ff33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3852360" y="2498760"/>
                <a:ext cx="3240" cy="109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084120" y="2498760"/>
                <a:ext cx="762120" cy="10800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076200" y="2368800"/>
                <a:ext cx="770040" cy="209520"/>
              </a:xfrm>
              <a:prstGeom prst="ellipse">
                <a:avLst/>
              </a:prstGeom>
              <a:solidFill>
                <a:srgbClr val="99ff33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079440" y="2498760"/>
                <a:ext cx="1440" cy="1094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1958" name=""/>
              <p:cNvGrpSpPr/>
              <p:nvPr/>
            </p:nvGrpSpPr>
            <p:grpSpPr>
              <a:xfrm>
                <a:off x="3157920" y="2333880"/>
                <a:ext cx="555480" cy="398880"/>
                <a:chOff x="3157920" y="2333880"/>
                <a:chExt cx="555480" cy="39888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3238200" y="2430720"/>
                  <a:ext cx="420840" cy="218880"/>
                </a:xfrm>
                <a:prstGeom prst="rect">
                  <a:avLst/>
                </a:pr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3157920" y="2333880"/>
                  <a:ext cx="555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66"/>
                      </a:solidFill>
                      <a:latin typeface="Comic Sans MS"/>
                    </a:rPr>
                    <a:t>A.a</a:t>
                  </a:r>
                  <a:endParaRPr b="0" lang="en-US" sz="20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1" name=""/>
            <p:cNvGrpSpPr/>
            <p:nvPr/>
          </p:nvGrpSpPr>
          <p:grpSpPr>
            <a:xfrm>
              <a:off x="4001760" y="2718000"/>
              <a:ext cx="779400" cy="398880"/>
              <a:chOff x="4001760" y="2718000"/>
              <a:chExt cx="779400" cy="398880"/>
            </a:xfrm>
          </p:grpSpPr>
          <p:sp>
            <p:nvSpPr>
              <p:cNvPr id="1962" name=""/>
              <p:cNvSpPr/>
              <p:nvPr/>
            </p:nvSpPr>
            <p:spPr>
              <a:xfrm>
                <a:off x="4009680" y="2897280"/>
                <a:ext cx="768240" cy="179280"/>
              </a:xfrm>
              <a:prstGeom prst="ellipse">
                <a:avLst/>
              </a:prstGeom>
              <a:solidFill>
                <a:srgbClr val="99ff33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777920" y="2882880"/>
                <a:ext cx="3240" cy="109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009680" y="2882880"/>
                <a:ext cx="762120" cy="10800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001760" y="2752920"/>
                <a:ext cx="770040" cy="209520"/>
              </a:xfrm>
              <a:prstGeom prst="ellipse">
                <a:avLst/>
              </a:prstGeom>
              <a:solidFill>
                <a:srgbClr val="99ff33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005000" y="2882880"/>
                <a:ext cx="1440" cy="1094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1967" name=""/>
              <p:cNvGrpSpPr/>
              <p:nvPr/>
            </p:nvGrpSpPr>
            <p:grpSpPr>
              <a:xfrm>
                <a:off x="4094280" y="2718000"/>
                <a:ext cx="534240" cy="398880"/>
                <a:chOff x="4094280" y="2718000"/>
                <a:chExt cx="534240" cy="39888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4163760" y="2814840"/>
                  <a:ext cx="420840" cy="218880"/>
                </a:xfrm>
                <a:prstGeom prst="rect">
                  <a:avLst/>
                </a:pr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4094280" y="271800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66"/>
                      </a:solidFill>
                      <a:latin typeface="Comic Sans MS"/>
                    </a:rPr>
                    <a:t>A.c</a:t>
                  </a:r>
                  <a:endParaRPr b="0" lang="en-US" sz="20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0" name=""/>
            <p:cNvGrpSpPr/>
            <p:nvPr/>
          </p:nvGrpSpPr>
          <p:grpSpPr>
            <a:xfrm>
              <a:off x="2099880" y="1754280"/>
              <a:ext cx="779400" cy="398880"/>
              <a:chOff x="2099880" y="1754280"/>
              <a:chExt cx="779400" cy="398880"/>
            </a:xfrm>
          </p:grpSpPr>
          <p:sp>
            <p:nvSpPr>
              <p:cNvPr id="1971" name=""/>
              <p:cNvSpPr/>
              <p:nvPr/>
            </p:nvSpPr>
            <p:spPr>
              <a:xfrm>
                <a:off x="2107800" y="1933560"/>
                <a:ext cx="768240" cy="179280"/>
              </a:xfrm>
              <a:prstGeom prst="ellipse">
                <a:avLst/>
              </a:prstGeom>
              <a:solidFill>
                <a:srgbClr val="99ff33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76040" y="1919160"/>
                <a:ext cx="3240" cy="109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2107800" y="1919160"/>
                <a:ext cx="762120" cy="10800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2099880" y="1789200"/>
                <a:ext cx="770040" cy="209520"/>
              </a:xfrm>
              <a:prstGeom prst="ellipse">
                <a:avLst/>
              </a:prstGeom>
              <a:solidFill>
                <a:srgbClr val="99ff33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103120" y="1919160"/>
                <a:ext cx="1440" cy="1094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1976" name=""/>
              <p:cNvGrpSpPr/>
              <p:nvPr/>
            </p:nvGrpSpPr>
            <p:grpSpPr>
              <a:xfrm>
                <a:off x="2175840" y="1754280"/>
                <a:ext cx="567720" cy="398880"/>
                <a:chOff x="2175840" y="1754280"/>
                <a:chExt cx="567720" cy="39888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2261880" y="1851120"/>
                  <a:ext cx="420840" cy="218880"/>
                </a:xfrm>
                <a:prstGeom prst="rect">
                  <a:avLst/>
                </a:pr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2175840" y="1754280"/>
                  <a:ext cx="567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66"/>
                      </a:solidFill>
                      <a:latin typeface="Comic Sans MS"/>
                    </a:rPr>
                    <a:t>C.b</a:t>
                  </a:r>
                  <a:endParaRPr b="0" lang="en-US" sz="20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9" name=""/>
            <p:cNvGrpSpPr/>
            <p:nvPr/>
          </p:nvGrpSpPr>
          <p:grpSpPr>
            <a:xfrm>
              <a:off x="5430600" y="1970280"/>
              <a:ext cx="779400" cy="398880"/>
              <a:chOff x="5430600" y="1970280"/>
              <a:chExt cx="779400" cy="398880"/>
            </a:xfrm>
          </p:grpSpPr>
          <p:sp>
            <p:nvSpPr>
              <p:cNvPr id="1980" name=""/>
              <p:cNvSpPr/>
              <p:nvPr/>
            </p:nvSpPr>
            <p:spPr>
              <a:xfrm>
                <a:off x="5438520" y="2149560"/>
                <a:ext cx="768240" cy="179280"/>
              </a:xfrm>
              <a:prstGeom prst="ellipse">
                <a:avLst/>
              </a:prstGeom>
              <a:solidFill>
                <a:srgbClr val="99ff33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206760" y="2135160"/>
                <a:ext cx="3240" cy="109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438520" y="2135160"/>
                <a:ext cx="762120" cy="10800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430600" y="2005200"/>
                <a:ext cx="770040" cy="209520"/>
              </a:xfrm>
              <a:prstGeom prst="ellipse">
                <a:avLst/>
              </a:prstGeom>
              <a:solidFill>
                <a:srgbClr val="99ff33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433840" y="2135160"/>
                <a:ext cx="1440" cy="1094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1985" name=""/>
              <p:cNvGrpSpPr/>
              <p:nvPr/>
            </p:nvGrpSpPr>
            <p:grpSpPr>
              <a:xfrm>
                <a:off x="5510880" y="1970280"/>
                <a:ext cx="558720" cy="398880"/>
                <a:chOff x="5510880" y="1970280"/>
                <a:chExt cx="558720" cy="3988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5592240" y="2067120"/>
                  <a:ext cx="420840" cy="218880"/>
                </a:xfrm>
                <a:prstGeom prst="rect">
                  <a:avLst/>
                </a:pr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5510880" y="1970280"/>
                  <a:ext cx="55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66"/>
                      </a:solidFill>
                      <a:latin typeface="Comic Sans MS"/>
                    </a:rPr>
                    <a:t>B.a</a:t>
                  </a:r>
                  <a:endParaRPr b="0" lang="en-US" sz="20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8" name=""/>
            <p:cNvGrpSpPr/>
            <p:nvPr/>
          </p:nvGrpSpPr>
          <p:grpSpPr>
            <a:xfrm>
              <a:off x="6124320" y="2670480"/>
              <a:ext cx="501480" cy="398880"/>
              <a:chOff x="6124320" y="2670480"/>
              <a:chExt cx="501480" cy="398880"/>
            </a:xfrm>
          </p:grpSpPr>
          <p:sp>
            <p:nvSpPr>
              <p:cNvPr id="1989" name=""/>
              <p:cNvSpPr/>
              <p:nvPr/>
            </p:nvSpPr>
            <p:spPr>
              <a:xfrm>
                <a:off x="6129000" y="2851560"/>
                <a:ext cx="49680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6129000" y="284040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6625800" y="284040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6129000" y="2840400"/>
                <a:ext cx="49212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6124320" y="2746800"/>
                <a:ext cx="496800" cy="15048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6262560" y="2767320"/>
                <a:ext cx="223560" cy="18720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6228360" y="2670480"/>
                <a:ext cx="30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6562440" y="3022920"/>
              <a:ext cx="501840" cy="398880"/>
              <a:chOff x="6562440" y="3022920"/>
              <a:chExt cx="501840" cy="398880"/>
            </a:xfrm>
          </p:grpSpPr>
          <p:sp>
            <p:nvSpPr>
              <p:cNvPr id="1997" name=""/>
              <p:cNvSpPr/>
              <p:nvPr/>
            </p:nvSpPr>
            <p:spPr>
              <a:xfrm>
                <a:off x="6567120" y="3204000"/>
                <a:ext cx="49716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567120" y="319284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064280" y="319284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6567120" y="3192840"/>
                <a:ext cx="49212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6562440" y="3098880"/>
                <a:ext cx="49680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6700680" y="3119760"/>
                <a:ext cx="225360" cy="17460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6649920" y="302292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04" name="" descr=""/>
          <p:cNvPicPr/>
          <p:nvPr/>
        </p:nvPicPr>
        <p:blipFill>
          <a:blip r:embed="rId1"/>
          <a:stretch/>
        </p:blipFill>
        <p:spPr>
          <a:xfrm>
            <a:off x="7210440" y="2989440"/>
            <a:ext cx="668160" cy="529920"/>
          </a:xfrm>
          <a:prstGeom prst="rect">
            <a:avLst/>
          </a:prstGeom>
          <a:ln w="0">
            <a:noFill/>
          </a:ln>
        </p:spPr>
      </p:pic>
      <p:grpSp>
        <p:nvGrpSpPr>
          <p:cNvPr id="2005" name=""/>
          <p:cNvGrpSpPr/>
          <p:nvPr/>
        </p:nvGrpSpPr>
        <p:grpSpPr>
          <a:xfrm>
            <a:off x="1336320" y="3389400"/>
            <a:ext cx="1103400" cy="834480"/>
            <a:chOff x="1336320" y="3389400"/>
            <a:chExt cx="1103400" cy="834480"/>
          </a:xfrm>
        </p:grpSpPr>
        <p:pic>
          <p:nvPicPr>
            <p:cNvPr id="2006" name="" descr=""/>
            <p:cNvPicPr/>
            <p:nvPr/>
          </p:nvPicPr>
          <p:blipFill>
            <a:blip r:embed="rId2"/>
            <a:stretch/>
          </p:blipFill>
          <p:spPr>
            <a:xfrm>
              <a:off x="1771560" y="3693960"/>
              <a:ext cx="6681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7" name=""/>
            <p:cNvSpPr/>
            <p:nvPr/>
          </p:nvSpPr>
          <p:spPr>
            <a:xfrm>
              <a:off x="1336320" y="3389400"/>
              <a:ext cx="736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Comic Sans MS"/>
                </a:rPr>
                <a:t>Host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Comic Sans MS"/>
                </a:rPr>
                <a:t>h1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008" name=""/>
          <p:cNvSpPr/>
          <p:nvPr/>
        </p:nvSpPr>
        <p:spPr>
          <a:xfrm flipV="1">
            <a:off x="2409840" y="3714480"/>
            <a:ext cx="333360" cy="2286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7067520" y="3228840"/>
            <a:ext cx="209520" cy="669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2409840" y="3343320"/>
            <a:ext cx="1971720" cy="723960"/>
          </a:xfrm>
          <a:custGeom>
            <a:avLst/>
            <a:gdLst/>
            <a:ahLst/>
            <a:rect l="l" t="t" r="r" b="b"/>
            <a:pathLst>
              <a:path w="1242" h="456">
                <a:moveTo>
                  <a:pt x="0" y="372"/>
                </a:moveTo>
                <a:lnTo>
                  <a:pt x="270" y="192"/>
                </a:lnTo>
                <a:lnTo>
                  <a:pt x="630" y="456"/>
                </a:lnTo>
                <a:lnTo>
                  <a:pt x="1242" y="294"/>
                </a:lnTo>
                <a:lnTo>
                  <a:pt x="1242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2727720" y="4141800"/>
            <a:ext cx="210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tra-AS routing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thin AS 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381560" y="3119400"/>
            <a:ext cx="1440" cy="228600"/>
          </a:xfrm>
          <a:custGeom>
            <a:avLst/>
            <a:gdLst/>
            <a:ahLst/>
            <a:rect l="l" t="t" r="r" b="b"/>
            <a:pathLst>
              <a:path w="1" h="144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908680" y="2214720"/>
            <a:ext cx="1440" cy="430200"/>
          </a:xfrm>
          <a:custGeom>
            <a:avLst/>
            <a:gdLst/>
            <a:ahLst/>
            <a:rect l="l" t="t" r="r" b="b"/>
            <a:pathLst>
              <a:path w="1" h="271">
                <a:moveTo>
                  <a:pt x="0" y="271"/>
                </a:moveTo>
                <a:lnTo>
                  <a:pt x="1" y="0"/>
                </a:lnTo>
              </a:path>
            </a:pathLst>
          </a:custGeom>
          <a:noFill/>
          <a:ln w="7632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014" name=""/>
          <p:cNvGrpSpPr/>
          <p:nvPr/>
        </p:nvGrpSpPr>
        <p:grpSpPr>
          <a:xfrm>
            <a:off x="4110840" y="1360440"/>
            <a:ext cx="1280880" cy="1313640"/>
            <a:chOff x="4110840" y="1360440"/>
            <a:chExt cx="1280880" cy="1313640"/>
          </a:xfrm>
        </p:grpSpPr>
        <p:sp>
          <p:nvSpPr>
            <p:cNvPr id="2015" name=""/>
            <p:cNvSpPr/>
            <p:nvPr/>
          </p:nvSpPr>
          <p:spPr>
            <a:xfrm>
              <a:off x="4162680" y="1428480"/>
              <a:ext cx="1200240" cy="119088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110840" y="1360440"/>
              <a:ext cx="1280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66"/>
                  </a:solidFill>
                  <a:latin typeface="Comic Sans MS"/>
                </a:rPr>
                <a:t>Inter-AS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6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cc66"/>
                  </a:solidFill>
                  <a:latin typeface="Comic Sans MS"/>
                </a:rPr>
                <a:t>routing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66"/>
                  </a:solidFill>
                  <a:latin typeface="Comic Sans MS"/>
                </a:rPr>
                <a:t>between 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66"/>
                  </a:solidFill>
                  <a:latin typeface="Comic Sans MS"/>
                </a:rPr>
                <a:t>A and 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017" name=""/>
          <p:cNvSpPr/>
          <p:nvPr/>
        </p:nvSpPr>
        <p:spPr>
          <a:xfrm>
            <a:off x="4362480" y="2233440"/>
            <a:ext cx="1562040" cy="909720"/>
          </a:xfrm>
          <a:custGeom>
            <a:avLst/>
            <a:gdLst/>
            <a:ahLst/>
            <a:rect l="l" t="t" r="r" b="b"/>
            <a:pathLst>
              <a:path w="984" h="573">
                <a:moveTo>
                  <a:pt x="0" y="573"/>
                </a:moveTo>
                <a:lnTo>
                  <a:pt x="984" y="0"/>
                </a:lnTo>
              </a:path>
            </a:pathLst>
          </a:custGeom>
          <a:noFill/>
          <a:ln w="7632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908680" y="2644920"/>
            <a:ext cx="0" cy="3553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886360" y="2962440"/>
            <a:ext cx="914400" cy="2887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788160" y="3254400"/>
            <a:ext cx="488880" cy="32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670720" y="3560760"/>
            <a:ext cx="245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ntra-AS routing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within AS B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1019160" y="5229360"/>
            <a:ext cx="74199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e’ll examine specific inter-AS and intra-AS Internet routing protocols shortly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545-2D61-49E3-855C-02DDA6DAA0B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"/>
          <p:cNvSpPr/>
          <p:nvPr/>
        </p:nvSpPr>
        <p:spPr>
          <a:xfrm>
            <a:off x="1704960" y="1781280"/>
            <a:ext cx="6534000" cy="407664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638360" y="1847880"/>
            <a:ext cx="6534000" cy="407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190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The Internet Network layer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027" name=""/>
          <p:cNvGrpSpPr/>
          <p:nvPr/>
        </p:nvGrpSpPr>
        <p:grpSpPr>
          <a:xfrm>
            <a:off x="3824280" y="3443400"/>
            <a:ext cx="980640" cy="1213920"/>
            <a:chOff x="3824280" y="3443400"/>
            <a:chExt cx="980640" cy="1213920"/>
          </a:xfrm>
        </p:grpSpPr>
        <p:sp>
          <p:nvSpPr>
            <p:cNvPr id="2028" name=""/>
            <p:cNvSpPr/>
            <p:nvPr/>
          </p:nvSpPr>
          <p:spPr>
            <a:xfrm>
              <a:off x="3881160" y="3443400"/>
              <a:ext cx="923760" cy="1171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838680" y="3485880"/>
              <a:ext cx="923760" cy="1171440"/>
            </a:xfrm>
            <a:prstGeom prst="rect">
              <a:avLst/>
            </a:prstGeom>
            <a:solidFill>
              <a:srgbClr val="212186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824280" y="3746160"/>
              <a:ext cx="97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routing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table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948120" y="3619440"/>
              <a:ext cx="69012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957480" y="3705120"/>
              <a:ext cx="69012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962160" y="3790800"/>
              <a:ext cx="69012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948120" y="4386240"/>
              <a:ext cx="69012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952800" y="4467240"/>
              <a:ext cx="69012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957480" y="4547880"/>
              <a:ext cx="69012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580680" y="1133280"/>
            <a:ext cx="75344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Host, router network layer functions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1628640" y="5409720"/>
            <a:ext cx="6505560" cy="97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V="1">
            <a:off x="1657440" y="4885920"/>
            <a:ext cx="6524640" cy="97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040" name=""/>
          <p:cNvGrpSpPr/>
          <p:nvPr/>
        </p:nvGrpSpPr>
        <p:grpSpPr>
          <a:xfrm>
            <a:off x="1813320" y="2666880"/>
            <a:ext cx="1910520" cy="898560"/>
            <a:chOff x="1813320" y="2666880"/>
            <a:chExt cx="1910520" cy="898560"/>
          </a:xfrm>
        </p:grpSpPr>
        <p:sp>
          <p:nvSpPr>
            <p:cNvPr id="2041" name=""/>
            <p:cNvSpPr/>
            <p:nvPr/>
          </p:nvSpPr>
          <p:spPr>
            <a:xfrm>
              <a:off x="1914480" y="2666880"/>
              <a:ext cx="1809360" cy="819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847520" y="2733480"/>
              <a:ext cx="1809360" cy="819360"/>
            </a:xfrm>
            <a:prstGeom prst="rect">
              <a:avLst/>
            </a:prstGeom>
            <a:solidFill>
              <a:srgbClr val="212186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813320" y="2741400"/>
              <a:ext cx="1877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Routing protocols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path selection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RIP, OSPF, BGP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044" name=""/>
          <p:cNvSpPr/>
          <p:nvPr/>
        </p:nvSpPr>
        <p:spPr>
          <a:xfrm>
            <a:off x="3143160" y="3657600"/>
            <a:ext cx="628920" cy="390600"/>
          </a:xfrm>
          <a:custGeom>
            <a:avLst/>
            <a:gdLst/>
            <a:ahLst/>
            <a:rect l="l" t="t" r="r" b="b"/>
            <a:pathLst>
              <a:path w="396" h="246">
                <a:moveTo>
                  <a:pt x="0" y="0"/>
                </a:moveTo>
                <a:cubicBezTo>
                  <a:pt x="30" y="16"/>
                  <a:pt x="42" y="126"/>
                  <a:pt x="150" y="186"/>
                </a:cubicBezTo>
                <a:cubicBezTo>
                  <a:pt x="258" y="246"/>
                  <a:pt x="345" y="205"/>
                  <a:pt x="396" y="210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4989240" y="2600280"/>
            <a:ext cx="3030840" cy="1181160"/>
            <a:chOff x="4989240" y="2600280"/>
            <a:chExt cx="3030840" cy="1181160"/>
          </a:xfrm>
        </p:grpSpPr>
        <p:sp>
          <p:nvSpPr>
            <p:cNvPr id="2046" name=""/>
            <p:cNvSpPr/>
            <p:nvPr/>
          </p:nvSpPr>
          <p:spPr>
            <a:xfrm>
              <a:off x="5086440" y="2600280"/>
              <a:ext cx="2933640" cy="1095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019840" y="2666880"/>
              <a:ext cx="2933640" cy="1114560"/>
            </a:xfrm>
            <a:prstGeom prst="rect">
              <a:avLst/>
            </a:prstGeom>
            <a:solidFill>
              <a:srgbClr val="212186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989240" y="2674800"/>
              <a:ext cx="2995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IP protocol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addressing conventions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datagram format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packet handling conventions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5038560" y="3914640"/>
            <a:ext cx="2000160" cy="1132200"/>
            <a:chOff x="5038560" y="3914640"/>
            <a:chExt cx="2000160" cy="1132200"/>
          </a:xfrm>
        </p:grpSpPr>
        <p:sp>
          <p:nvSpPr>
            <p:cNvPr id="2050" name=""/>
            <p:cNvSpPr/>
            <p:nvPr/>
          </p:nvSpPr>
          <p:spPr>
            <a:xfrm>
              <a:off x="5105160" y="3914640"/>
              <a:ext cx="1933560" cy="81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038560" y="3981240"/>
              <a:ext cx="1933560" cy="819000"/>
            </a:xfrm>
            <a:prstGeom prst="rect">
              <a:avLst/>
            </a:prstGeom>
            <a:solidFill>
              <a:srgbClr val="212186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051160" y="3979440"/>
              <a:ext cx="1900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ICMP protocol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error reporting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router “signaling”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053" name=""/>
          <p:cNvSpPr/>
          <p:nvPr/>
        </p:nvSpPr>
        <p:spPr>
          <a:xfrm flipV="1">
            <a:off x="1657440" y="2467080"/>
            <a:ext cx="6524640" cy="93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120120" y="199404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Comic Sans MS"/>
              </a:rPr>
              <a:t>Transport layer: TCP, UDP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4215600" y="496584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Comic Sans MS"/>
              </a:rPr>
              <a:t>Link layer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058640" y="548964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Comic Sans MS"/>
              </a:rPr>
              <a:t>physical layer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159840" y="3265560"/>
            <a:ext cx="14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ayer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V="1">
            <a:off x="1380960" y="2485800"/>
            <a:ext cx="0" cy="742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380960" y="4152960"/>
            <a:ext cx="0" cy="743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279-8865-4BB4-BD23-014994C2F73C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Network service model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5560" y="164772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What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service model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for “channel” transporting packets from sender to receiver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guaranteed bandwidth?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preservation of inter-packet timing (no jitter)?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loss-free delivery?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n-order delivery?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congestion feedback to sender?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94400" y="3022560"/>
            <a:ext cx="19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ff33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80320" y="3508200"/>
            <a:ext cx="19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ff33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908680" y="3946680"/>
            <a:ext cx="19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ff33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72280" y="353232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virtual circui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r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atagram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01400" y="2189160"/>
            <a:ext cx="2797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most important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abstraction provided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by network layer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16165800">
            <a:off x="14400" y="45406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ervice abstraction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6F5-B34C-4CEB-9621-3C674B344C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23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Virtual circuit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77800" y="3504960"/>
            <a:ext cx="8066160" cy="19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call setup, teardown for each call </a:t>
            </a: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data can flow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ach packet carries VC identifier (not destination host OD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every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router on source-dest path s maintain “state” for each passing connection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-layer connection only involved two end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link, router resources (bandwidth, buffers) may be </a:t>
            </a: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allocated 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to VC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t circuit-like per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875880" y="1504800"/>
            <a:ext cx="7743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source-to-dest path behaves much like telephone circuit”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-w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actions along source-to-dest p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66720" y="1457280"/>
            <a:ext cx="7677360" cy="168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CF5-E68E-4F4C-9E03-2E3695F03C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Datagram or VC network: why?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42880" y="147636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net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data exchange among computer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astic” service, no strict timing req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smart” end systems (computers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adapt, perform control, error reco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inside network, complexity at “edg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many link types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characteri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form service diffic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05040" y="155232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M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volved from telephony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human conversation: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ct timing, reliability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for guaranteed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dumb” end system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eph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xity inside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908-7B0A-478D-94D9-34C230CA2B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Routing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85640" y="3076200"/>
            <a:ext cx="381024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Graph abstraction for routing algorithms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graph nodes are router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graph edges are physical link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 cost: delay, $ cost, or congestion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58720" y="1789200"/>
            <a:ext cx="371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determine “good” path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(sequence of routers) thru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network from source to dest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1680" y="1571760"/>
            <a:ext cx="3695400" cy="1257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681480" y="1332000"/>
            <a:ext cx="2590200" cy="459720"/>
            <a:chOff x="681480" y="1332000"/>
            <a:chExt cx="2590200" cy="459720"/>
          </a:xfrm>
        </p:grpSpPr>
        <p:sp>
          <p:nvSpPr>
            <p:cNvPr id="527" name=""/>
            <p:cNvSpPr/>
            <p:nvPr/>
          </p:nvSpPr>
          <p:spPr>
            <a:xfrm>
              <a:off x="780840" y="1390680"/>
              <a:ext cx="235260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1480" y="1332000"/>
              <a:ext cx="25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Routing protocol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5019840" y="1700280"/>
            <a:ext cx="3571560" cy="2236680"/>
          </a:xfrm>
          <a:custGeom>
            <a:avLst/>
            <a:gdLst/>
            <a:ahLst/>
            <a:rect l="l" t="t" r="r" b="b"/>
            <a:pathLst>
              <a:path w="2250" h="1409">
                <a:moveTo>
                  <a:pt x="0" y="624"/>
                </a:moveTo>
                <a:cubicBezTo>
                  <a:pt x="5" y="506"/>
                  <a:pt x="131" y="419"/>
                  <a:pt x="219" y="321"/>
                </a:cubicBezTo>
                <a:cubicBezTo>
                  <a:pt x="307" y="223"/>
                  <a:pt x="307" y="70"/>
                  <a:pt x="529" y="35"/>
                </a:cubicBezTo>
                <a:cubicBezTo>
                  <a:pt x="751" y="0"/>
                  <a:pt x="1311" y="36"/>
                  <a:pt x="1551" y="111"/>
                </a:cubicBezTo>
                <a:cubicBezTo>
                  <a:pt x="1791" y="186"/>
                  <a:pt x="1860" y="351"/>
                  <a:pt x="1968" y="483"/>
                </a:cubicBezTo>
                <a:cubicBezTo>
                  <a:pt x="2076" y="615"/>
                  <a:pt x="2250" y="767"/>
                  <a:pt x="2199" y="906"/>
                </a:cubicBezTo>
                <a:cubicBezTo>
                  <a:pt x="2148" y="1045"/>
                  <a:pt x="1860" y="1234"/>
                  <a:pt x="1659" y="1314"/>
                </a:cubicBezTo>
                <a:cubicBezTo>
                  <a:pt x="1458" y="1394"/>
                  <a:pt x="1192" y="1379"/>
                  <a:pt x="993" y="1386"/>
                </a:cubicBezTo>
                <a:cubicBezTo>
                  <a:pt x="794" y="1393"/>
                  <a:pt x="613" y="1409"/>
                  <a:pt x="465" y="1356"/>
                </a:cubicBezTo>
                <a:cubicBezTo>
                  <a:pt x="317" y="1303"/>
                  <a:pt x="180" y="1190"/>
                  <a:pt x="102" y="1068"/>
                </a:cubicBezTo>
                <a:cubicBezTo>
                  <a:pt x="24" y="946"/>
                  <a:pt x="21" y="716"/>
                  <a:pt x="0" y="624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53000" y="2571840"/>
            <a:ext cx="542880" cy="2952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40440" y="295596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40440" y="294480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637240" y="294480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40440" y="294480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35400" y="2851200"/>
            <a:ext cx="49716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2840" y="3570120"/>
            <a:ext cx="496800" cy="1288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92840" y="355932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89640" y="355932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92840" y="355932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346536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86360" y="247500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86360" y="246384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83160" y="246384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886360" y="246384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81680" y="237024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970680" y="2468520"/>
            <a:ext cx="49536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70680" y="245736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66040" y="245736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970680" y="2457360"/>
            <a:ext cx="49068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75360" y="2368440"/>
            <a:ext cx="49536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986520" y="356544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986520" y="355428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483320" y="355428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986520" y="355428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81840" y="346068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883640" y="302436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883640" y="301320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80440" y="301320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883640" y="301320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878600" y="2919240"/>
            <a:ext cx="49716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234200" y="2614680"/>
            <a:ext cx="1800" cy="828720"/>
          </a:xfrm>
          <a:custGeom>
            <a:avLst/>
            <a:gdLst/>
            <a:ahLst/>
            <a:rect l="l" t="t" r="r" b="b"/>
            <a:pathLst>
              <a:path w="1" h="522">
                <a:moveTo>
                  <a:pt x="0" y="0"/>
                </a:moveTo>
                <a:lnTo>
                  <a:pt x="0" y="522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34040" y="2624040"/>
            <a:ext cx="1800" cy="852480"/>
          </a:xfrm>
          <a:custGeom>
            <a:avLst/>
            <a:gdLst/>
            <a:ahLst/>
            <a:rect l="l" t="t" r="r" b="b"/>
            <a:pathLst>
              <a:path w="1" h="537">
                <a:moveTo>
                  <a:pt x="0" y="0"/>
                </a:moveTo>
                <a:lnTo>
                  <a:pt x="0" y="537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96120" y="2600280"/>
            <a:ext cx="799920" cy="952560"/>
          </a:xfrm>
          <a:custGeom>
            <a:avLst/>
            <a:gdLst/>
            <a:ahLst/>
            <a:rect l="l" t="t" r="r" b="b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486560" y="3152880"/>
            <a:ext cx="581040" cy="428400"/>
          </a:xfrm>
          <a:custGeom>
            <a:avLst/>
            <a:gdLst/>
            <a:ahLst/>
            <a:rect l="l" t="t" r="r" b="b"/>
            <a:pathLst>
              <a:path w="366" h="270">
                <a:moveTo>
                  <a:pt x="0" y="270"/>
                </a:moveTo>
                <a:lnTo>
                  <a:pt x="366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05480" y="3600360"/>
            <a:ext cx="581040" cy="1800"/>
          </a:xfrm>
          <a:custGeom>
            <a:avLst/>
            <a:gdLst/>
            <a:ahLst/>
            <a:rect l="l" t="t" r="r" b="b"/>
            <a:pathLst>
              <a:path w="366" h="1">
                <a:moveTo>
                  <a:pt x="36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467320" y="3086280"/>
            <a:ext cx="438120" cy="419040"/>
          </a:xfrm>
          <a:custGeom>
            <a:avLst/>
            <a:gdLst/>
            <a:ahLst/>
            <a:rect l="l" t="t" r="r" b="b"/>
            <a:pathLst>
              <a:path w="276" h="264">
                <a:moveTo>
                  <a:pt x="276" y="26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96120" y="2505240"/>
            <a:ext cx="581040" cy="1440"/>
          </a:xfrm>
          <a:custGeom>
            <a:avLst/>
            <a:gdLst/>
            <a:ahLst/>
            <a:rect l="l" t="t" r="r" b="b"/>
            <a:pathLst>
              <a:path w="366" h="1">
                <a:moveTo>
                  <a:pt x="36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467480" y="2500200"/>
            <a:ext cx="628920" cy="424080"/>
          </a:xfrm>
          <a:custGeom>
            <a:avLst/>
            <a:gdLst/>
            <a:ahLst/>
            <a:rect l="l" t="t" r="r" b="b"/>
            <a:pathLst>
              <a:path w="396" h="267">
                <a:moveTo>
                  <a:pt x="396" y="267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376960" y="1819440"/>
            <a:ext cx="1762200" cy="1023840"/>
          </a:xfrm>
          <a:custGeom>
            <a:avLst/>
            <a:gdLst/>
            <a:ahLst/>
            <a:rect l="l" t="t" r="r" b="b"/>
            <a:pathLst>
              <a:path w="1110" h="645">
                <a:moveTo>
                  <a:pt x="1110" y="342"/>
                </a:moveTo>
                <a:cubicBezTo>
                  <a:pt x="1104" y="0"/>
                  <a:pt x="21" y="63"/>
                  <a:pt x="0" y="645"/>
                </a:cubicBez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208840" y="2774880"/>
            <a:ext cx="343800" cy="398880"/>
            <a:chOff x="5208840" y="2774880"/>
            <a:chExt cx="343800" cy="398880"/>
          </a:xfrm>
        </p:grpSpPr>
        <p:sp>
          <p:nvSpPr>
            <p:cNvPr id="571" name=""/>
            <p:cNvSpPr/>
            <p:nvPr/>
          </p:nvSpPr>
          <p:spPr>
            <a:xfrm>
              <a:off x="5261400" y="2871720"/>
              <a:ext cx="22572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08840" y="277488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076160" y="3384720"/>
            <a:ext cx="322560" cy="398880"/>
            <a:chOff x="7076160" y="3384720"/>
            <a:chExt cx="322560" cy="398880"/>
          </a:xfrm>
        </p:grpSpPr>
        <p:sp>
          <p:nvSpPr>
            <p:cNvPr id="574" name=""/>
            <p:cNvSpPr/>
            <p:nvPr/>
          </p:nvSpPr>
          <p:spPr>
            <a:xfrm>
              <a:off x="7119000" y="3481200"/>
              <a:ext cx="225000" cy="2091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76160" y="3384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973840" y="3379680"/>
            <a:ext cx="366480" cy="398880"/>
            <a:chOff x="5973840" y="3379680"/>
            <a:chExt cx="366480" cy="398880"/>
          </a:xfrm>
        </p:grpSpPr>
        <p:sp>
          <p:nvSpPr>
            <p:cNvPr id="577" name=""/>
            <p:cNvSpPr/>
            <p:nvPr/>
          </p:nvSpPr>
          <p:spPr>
            <a:xfrm>
              <a:off x="6037920" y="3476520"/>
              <a:ext cx="22536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73840" y="33796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056720" y="2289240"/>
            <a:ext cx="342360" cy="398880"/>
            <a:chOff x="7056720" y="2289240"/>
            <a:chExt cx="342360" cy="398880"/>
          </a:xfrm>
        </p:grpSpPr>
        <p:sp>
          <p:nvSpPr>
            <p:cNvPr id="580" name=""/>
            <p:cNvSpPr/>
            <p:nvPr/>
          </p:nvSpPr>
          <p:spPr>
            <a:xfrm>
              <a:off x="7109640" y="2385720"/>
              <a:ext cx="225360" cy="2091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56720" y="22892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969520" y="2289240"/>
            <a:ext cx="346680" cy="398880"/>
            <a:chOff x="5969520" y="2289240"/>
            <a:chExt cx="346680" cy="398880"/>
          </a:xfrm>
        </p:grpSpPr>
        <p:sp>
          <p:nvSpPr>
            <p:cNvPr id="583" name=""/>
            <p:cNvSpPr/>
            <p:nvPr/>
          </p:nvSpPr>
          <p:spPr>
            <a:xfrm>
              <a:off x="6023520" y="2385720"/>
              <a:ext cx="225360" cy="2091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69520" y="22892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989480" y="2841480"/>
            <a:ext cx="313200" cy="398880"/>
            <a:chOff x="7989480" y="2841480"/>
            <a:chExt cx="313200" cy="398880"/>
          </a:xfrm>
        </p:grpSpPr>
        <p:sp>
          <p:nvSpPr>
            <p:cNvPr id="586" name=""/>
            <p:cNvSpPr/>
            <p:nvPr/>
          </p:nvSpPr>
          <p:spPr>
            <a:xfrm>
              <a:off x="8028720" y="2938320"/>
              <a:ext cx="22500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89480" y="28414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F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5544720" y="249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97320" y="2841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06120" y="3179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6800" y="2989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06000" y="3551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177680" y="287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749720" y="3289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706880" y="2436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40120" y="2198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982840" y="1774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76920" y="4295880"/>
            <a:ext cx="380988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ood” path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ypically means minimum cost path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ther def’s possibl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DDC-39FB-4F42-B554-7725311E118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Routing Algorithm classification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05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or decentralized information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lobal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all routers have complete topology, link cost info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link state” algorithm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centralized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outer knows physically-connected neighbors, link costs to neighbor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terative process of computation, exchange of info with neighbor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distance vector” algorithm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3840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 or dynamic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tic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outes change slowly over time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ynamic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outes change more quickly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odic up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response to link cost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E41-62ED-488E-B186-78F26AC3331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A Link-State Routing Algorithm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jkstra’s algorithm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net topology, link costs known to all node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plished via “link state broadcast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nodes have same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computes least cost paths from one node (‘source”) to all other node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uting 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at n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iterative: after k iterations, know least cost path to k dest.’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vanced Networks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2B3-4704-471D-8F12-52D812070AB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default</cp:lastModifiedBy>
  <dcterms:modified xsi:type="dcterms:W3CDTF">2002-05-02T18:01:11Z</dcterms:modified>
  <cp:revision>132</cp:revision>
  <dc:subject/>
  <dc:title>Part I: Introduction</dc:title>
</cp:coreProperties>
</file>