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5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3440-9FC9-434B-BF53-3EF62D1F7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ering allows shortcu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ing Distributed Routing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Router knows little about the network top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best next-hops are chosen by each router for each destination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end2end paths result from composition of all next-hop cho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require any notion of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require uniform policies at all ro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GP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Griffin RFC 1930:”… the administration of an AS appears to other Ases to have a single coherent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ting plan and presents a consistent picture of what networks are reachable through 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GP-speaking routers peer with each other over TCP sessions, and exchange routes through the peering s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rs typically try to peer at multiple places. Either by peering with the same AS multiple tim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ecause soma Ass are multi-homed, a typical network will have many candidate paths to a given pref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The BGP Route is conceptually a “promise” to carry data to a section of IP space. The route is a “bag”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The section of IP space is called the “prefix” attribute of the ro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As a BGP route travels from AS to AS, the ASN of each AS is stamped on it when it leaves that AS.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S_PATH attribute, or “as-path” in Cisco-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a mechanism for loop detection. Policies may be applied based on AS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C99-ED1E-4080-8757-8B031CD1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7DC7-0BDB-49F1-BA43-4F8458DA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7FAF-D1F9-439D-B50E-93A5A0F0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2E6-F637-4A49-8CEF-7A153529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4622-44B3-490A-B52A-29973293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6442-2F7C-449B-B1D2-0397244F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DD82-447C-4C97-8259-E5728054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B2C7-94A4-48CC-A7DE-78556D0B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1769-B75A-4BF1-9750-E4A47E8F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5400" y="87120"/>
            <a:ext cx="8226360" cy="48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7D26-8357-405F-A714-C73C5A5F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3379-4045-4313-B2AA-56DF093E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204B-2EA9-4B03-B219-B8C75148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3B27-32A6-42C4-B068-9F5B845E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D681-5788-4E9B-8703-B00744B1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69AF-3413-4B12-AC52-EC4C6FC6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8DF4-EED8-4F91-963E-289D9B2A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820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956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820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956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FBD9-7284-42FB-9128-727D6C5B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7E1-5CE6-403F-A0F7-BE9BC785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0B5A-261D-4133-8A69-7BB05AE5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BC8-B3E5-4D30-96D4-B77588DB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5400" y="87120"/>
            <a:ext cx="8226360" cy="48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26C-E6B8-485D-8D46-2175EAEC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819B-CFD9-48FA-A264-513D82BA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000-619B-4D0C-B56F-EA7B3C9D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81D-E1F1-498F-9CE1-B76DFE52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ff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ff3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168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D7AA-1F6F-4A68-A78F-2B9948ACF816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UCR" descr=""/>
          <p:cNvPicPr/>
          <p:nvPr/>
        </p:nvPicPr>
        <p:blipFill>
          <a:blip r:embed="rId3"/>
          <a:stretch/>
        </p:blipFill>
        <p:spPr>
          <a:xfrm>
            <a:off x="106200" y="6389640"/>
            <a:ext cx="1524240" cy="380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236600"/>
            <a:ext cx="9144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8000" y="6370560"/>
            <a:ext cx="15238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69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FE18-8805-40BC-95B9-A967E98931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33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Book Antiqu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png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69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5"/>
                </a:solidFill>
                <a:latin typeface="Arial"/>
              </a:rPr>
              <a:t>BGP: Introduction and Issues</a:t>
            </a:r>
            <a:endParaRPr b="1" lang="en-US" sz="40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A146-B9FE-4DCB-8530-40623879336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Prefix Matching in More Detail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For a IP address of a packet, find </a:t>
            </a:r>
            <a:r>
              <a:rPr b="1" lang="en-US" sz="2400" spc="-1" strike="noStrike" u="sng">
                <a:solidFill>
                  <a:srgbClr val="f3a70f"/>
                </a:solidFill>
                <a:uFillTx/>
                <a:latin typeface="Arial"/>
              </a:rPr>
              <a:t>longest match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Example:  Compare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cket IP 128.32.101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128.32.0.0/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       : 01000000. 001000000. 01100101 .00000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k  : 11111111. 111111111. 00000000 .00000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  : 01000000. 001000000. 00000000 .00000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fix : 01000000. 001000000. 00000000. 00000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al? 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74D-4479-4FD2-9820-646A48D362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Advertising Routing Information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Each AS advertises what it can reach from each BGP router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Policies I: filter what you advertis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Policies II: filter from what you hear advertised 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uild up a BGP routing tabl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which prefix you hear from which l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438-E106-4F63-BBC5-96AC65BABAA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What Does a Routing Table Look Like?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4952520"/>
            <a:ext cx="82263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Origin AS “owns” the addres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Routing tables can have peculiraritie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62120" y="1828800"/>
          <a:ext cx="7238880" cy="3049560"/>
        </p:xfrm>
        <a:graphic>
          <a:graphicData uri="http://schemas.openxmlformats.org/drawingml/2006/table">
            <a:tbl>
              <a:tblPr/>
              <a:tblGrid>
                <a:gridCol w="2412720"/>
                <a:gridCol w="1549440"/>
                <a:gridCol w="3276720"/>
              </a:tblGrid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a70f"/>
                          </a:solidFill>
                          <a:latin typeface="Arial"/>
                        </a:rPr>
                        <a:t>Prefix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a70f"/>
                          </a:solidFill>
                          <a:latin typeface="Arial"/>
                        </a:rPr>
                        <a:t>Origin AS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a70f"/>
                          </a:solidFill>
                          <a:latin typeface="Arial"/>
                        </a:rPr>
                        <a:t>Path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a70f"/>
                          </a:solidFill>
                          <a:latin typeface="Arial"/>
                        </a:rPr>
                        <a:t>128.32.0.0/16 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a70f"/>
                          </a:solidFill>
                          <a:latin typeface="Arial"/>
                        </a:rPr>
                        <a:t>123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a70f"/>
                          </a:solidFill>
                          <a:latin typeface="Arial"/>
                        </a:rPr>
                        <a:t>14 56 123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a70f"/>
                          </a:solidFill>
                          <a:latin typeface="Arial"/>
                        </a:rPr>
                        <a:t>123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a70f"/>
                          </a:solidFill>
                          <a:latin typeface="Arial"/>
                        </a:rPr>
                        <a:t>34 101 203 123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a70f"/>
                          </a:solidFill>
                          <a:latin typeface="Arial"/>
                        </a:rPr>
                        <a:t>128.32.101.0/24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a70f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a70f"/>
                          </a:solidFill>
                          <a:latin typeface="Arial"/>
                        </a:rPr>
                        <a:t>50 15 15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0B7-CB6A-4EC3-9DE2-062E58A45C3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Route Advertising 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Distance Vector style protoco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Hear advertisements: IP prefix, AS-path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ilter if desired (I.e. ignore)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Append yourself: IP prefix, myAS+AS-path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orward to appropriate ASs 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417-0405-43D8-BFDB-E5D41E54DA2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Basic AS relationship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Customer – Provider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 pays Provider f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ustomer is alway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Peer to Peer: mutual cooperation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. MCI and AT&amp;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ibling-Sibling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B88-82A7-42DE-BF0D-2A2D6ACFD7E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he Internet as a Directed Graph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0" y="1827000"/>
            <a:ext cx="41911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Every edge is bidirectional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Business relationships are represented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56" name="Cloud"/>
          <p:cNvSpPr/>
          <p:nvPr/>
        </p:nvSpPr>
        <p:spPr>
          <a:xfrm>
            <a:off x="762120" y="4724280"/>
            <a:ext cx="990360" cy="6638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" name="Cloud"/>
          <p:cNvSpPr/>
          <p:nvPr/>
        </p:nvSpPr>
        <p:spPr>
          <a:xfrm>
            <a:off x="3352680" y="4724280"/>
            <a:ext cx="990720" cy="6638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" name="Cloud"/>
          <p:cNvSpPr/>
          <p:nvPr/>
        </p:nvSpPr>
        <p:spPr>
          <a:xfrm>
            <a:off x="380880" y="3048120"/>
            <a:ext cx="1752840" cy="76176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" name="Cloud"/>
          <p:cNvSpPr/>
          <p:nvPr/>
        </p:nvSpPr>
        <p:spPr>
          <a:xfrm>
            <a:off x="2895480" y="3048120"/>
            <a:ext cx="1752840" cy="76176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" name="Cloud"/>
          <p:cNvSpPr/>
          <p:nvPr/>
        </p:nvSpPr>
        <p:spPr>
          <a:xfrm>
            <a:off x="1676520" y="1828800"/>
            <a:ext cx="1752480" cy="76212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3809880"/>
            <a:ext cx="304920" cy="99072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ff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3733920"/>
            <a:ext cx="304920" cy="990360"/>
          </a:xfrm>
          <a:prstGeom prst="downArrow">
            <a:avLst>
              <a:gd name="adj1" fmla="val 50000"/>
              <a:gd name="adj2" fmla="val 81198"/>
            </a:avLst>
          </a:prstGeom>
          <a:solidFill>
            <a:srgbClr val="ff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276720"/>
            <a:ext cx="914400" cy="228600"/>
          </a:xfrm>
          <a:prstGeom prst="leftRightArrow">
            <a:avLst>
              <a:gd name="adj1" fmla="val 50000"/>
              <a:gd name="adj2" fmla="val 79630"/>
            </a:avLst>
          </a:prstGeom>
          <a:solidFill>
            <a:srgbClr val="ffcc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2362320"/>
            <a:ext cx="304920" cy="990360"/>
          </a:xfrm>
          <a:prstGeom prst="downArrow">
            <a:avLst>
              <a:gd name="adj1" fmla="val 50000"/>
              <a:gd name="adj2" fmla="val 81198"/>
            </a:avLst>
          </a:prstGeom>
          <a:solidFill>
            <a:srgbClr val="ff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2286000"/>
            <a:ext cx="304920" cy="99072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ff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953240" y="4952880"/>
            <a:ext cx="3882240" cy="882000"/>
            <a:chOff x="4953240" y="4952880"/>
            <a:chExt cx="3882240" cy="882000"/>
          </a:xfrm>
        </p:grpSpPr>
        <p:sp>
          <p:nvSpPr>
            <p:cNvPr id="167" name=""/>
            <p:cNvSpPr/>
            <p:nvPr/>
          </p:nvSpPr>
          <p:spPr>
            <a:xfrm>
              <a:off x="6324480" y="510552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24480" y="5562720"/>
              <a:ext cx="990360" cy="228600"/>
            </a:xfrm>
            <a:prstGeom prst="leftRightArrow">
              <a:avLst>
                <a:gd name="adj1" fmla="val 50000"/>
                <a:gd name="adj2" fmla="val 86244"/>
              </a:avLst>
            </a:prstGeom>
            <a:solidFill>
              <a:srgbClr val="ff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3240" y="4952880"/>
              <a:ext cx="12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Provider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67480" y="495288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ustomer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19000" y="537516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Peer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05000" y="537516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Peer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4952880" y="4876920"/>
            <a:ext cx="3810240" cy="9903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B98C-0DAD-4EE4-8373-E56B76E7A7F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he Initial Idea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Data flows between customers-provider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op level providers are peer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xchange information to ensure conne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What can possibly go wrong?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646-CCC5-4831-8CCA-021462333BF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And then came the rain…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housands of AS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Complicated relationship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ultiple providers for one AS!!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h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raffic engineering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nt to use multiple paths and load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1B96-168A-43C1-9E9E-9CE8C9D5B5F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Example: The Intended Use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79" name="Cloud"/>
          <p:cNvSpPr/>
          <p:nvPr/>
        </p:nvSpPr>
        <p:spPr>
          <a:xfrm>
            <a:off x="1143000" y="4648320"/>
            <a:ext cx="990720" cy="6634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Cloud"/>
          <p:cNvSpPr/>
          <p:nvPr/>
        </p:nvSpPr>
        <p:spPr>
          <a:xfrm>
            <a:off x="3733920" y="4648320"/>
            <a:ext cx="990360" cy="6634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1" name="Cloud"/>
          <p:cNvSpPr/>
          <p:nvPr/>
        </p:nvSpPr>
        <p:spPr>
          <a:xfrm>
            <a:off x="6248520" y="4648320"/>
            <a:ext cx="990360" cy="6634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Cloud"/>
          <p:cNvSpPr/>
          <p:nvPr/>
        </p:nvSpPr>
        <p:spPr>
          <a:xfrm>
            <a:off x="762120" y="2971800"/>
            <a:ext cx="1752480" cy="7621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3276720" y="2971800"/>
            <a:ext cx="1752480" cy="7621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5867280" y="2895480"/>
            <a:ext cx="1752840" cy="7621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3733920"/>
            <a:ext cx="304920" cy="990360"/>
          </a:xfrm>
          <a:prstGeom prst="downArrow">
            <a:avLst>
              <a:gd name="adj1" fmla="val 50000"/>
              <a:gd name="adj2" fmla="val 81198"/>
            </a:avLst>
          </a:prstGeom>
          <a:solidFill>
            <a:srgbClr val="ff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365760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ff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29400" y="3657600"/>
            <a:ext cx="304920" cy="99072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ff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3200400"/>
            <a:ext cx="914400" cy="228600"/>
          </a:xfrm>
          <a:prstGeom prst="leftRightArrow">
            <a:avLst>
              <a:gd name="adj1" fmla="val 50000"/>
              <a:gd name="adj2" fmla="val 79630"/>
            </a:avLst>
          </a:prstGeom>
          <a:solidFill>
            <a:srgbClr val="ffcc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3200400"/>
            <a:ext cx="914400" cy="228600"/>
          </a:xfrm>
          <a:prstGeom prst="leftRightArrow">
            <a:avLst>
              <a:gd name="adj1" fmla="val 50000"/>
              <a:gd name="adj2" fmla="val 79630"/>
            </a:avLst>
          </a:prstGeom>
          <a:solidFill>
            <a:srgbClr val="ffcc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261400" y="5562720"/>
            <a:ext cx="3882240" cy="882000"/>
            <a:chOff x="5261400" y="5562720"/>
            <a:chExt cx="3882240" cy="882000"/>
          </a:xfrm>
        </p:grpSpPr>
        <p:sp>
          <p:nvSpPr>
            <p:cNvPr id="191" name=""/>
            <p:cNvSpPr/>
            <p:nvPr/>
          </p:nvSpPr>
          <p:spPr>
            <a:xfrm>
              <a:off x="6632640" y="571536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32640" y="6172560"/>
              <a:ext cx="990360" cy="228600"/>
            </a:xfrm>
            <a:prstGeom prst="leftRightArrow">
              <a:avLst>
                <a:gd name="adj1" fmla="val 50000"/>
                <a:gd name="adj2" fmla="val 86244"/>
              </a:avLst>
            </a:prstGeom>
            <a:solidFill>
              <a:srgbClr val="ff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61400" y="5562720"/>
              <a:ext cx="12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Provider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75640" y="556272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ustomer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27160" y="598500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Peer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13160" y="598500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Peer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638360" y="3035160"/>
            <a:ext cx="2654280" cy="1994040"/>
          </a:xfrm>
          <a:custGeom>
            <a:avLst/>
            <a:gdLst/>
            <a:ahLst/>
            <a:rect l="l" t="t" r="r" b="b"/>
            <a:pathLst>
              <a:path w="1672" h="1256">
                <a:moveTo>
                  <a:pt x="168" y="1160"/>
                </a:moveTo>
                <a:cubicBezTo>
                  <a:pt x="84" y="732"/>
                  <a:pt x="0" y="304"/>
                  <a:pt x="216" y="152"/>
                </a:cubicBezTo>
                <a:cubicBezTo>
                  <a:pt x="432" y="0"/>
                  <a:pt x="1256" y="64"/>
                  <a:pt x="1464" y="248"/>
                </a:cubicBezTo>
                <a:cubicBezTo>
                  <a:pt x="1672" y="432"/>
                  <a:pt x="1512" y="984"/>
                  <a:pt x="1464" y="1256"/>
                </a:cubicBezTo>
              </a:path>
            </a:pathLst>
          </a:custGeom>
          <a:noFill/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486400"/>
            <a:ext cx="3809880" cy="990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576-BD3A-4D51-90E0-5EEA959896D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Routing Policie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822636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Up then down: 1, 10, 100, 200, 13,  4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No valleys, no up-down-up, no more than 1 peer-peer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01" name="Cloud"/>
          <p:cNvSpPr/>
          <p:nvPr/>
        </p:nvSpPr>
        <p:spPr>
          <a:xfrm>
            <a:off x="762120" y="4724280"/>
            <a:ext cx="990360" cy="6638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Cloud"/>
          <p:cNvSpPr/>
          <p:nvPr/>
        </p:nvSpPr>
        <p:spPr>
          <a:xfrm>
            <a:off x="3352680" y="4724280"/>
            <a:ext cx="990720" cy="6638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80880" y="3048120"/>
            <a:ext cx="1752840" cy="76176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Cloud"/>
          <p:cNvSpPr/>
          <p:nvPr/>
        </p:nvSpPr>
        <p:spPr>
          <a:xfrm>
            <a:off x="2895480" y="3048120"/>
            <a:ext cx="1752840" cy="76176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" name="Cloud"/>
          <p:cNvSpPr/>
          <p:nvPr/>
        </p:nvSpPr>
        <p:spPr>
          <a:xfrm>
            <a:off x="1676520" y="1828800"/>
            <a:ext cx="1752480" cy="76212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809880"/>
            <a:ext cx="304920" cy="99072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ff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3733920"/>
            <a:ext cx="304920" cy="990360"/>
          </a:xfrm>
          <a:prstGeom prst="downArrow">
            <a:avLst>
              <a:gd name="adj1" fmla="val 50000"/>
              <a:gd name="adj2" fmla="val 81198"/>
            </a:avLst>
          </a:prstGeom>
          <a:solidFill>
            <a:srgbClr val="ff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3276720"/>
            <a:ext cx="914400" cy="228600"/>
          </a:xfrm>
          <a:prstGeom prst="leftRightArrow">
            <a:avLst>
              <a:gd name="adj1" fmla="val 50000"/>
              <a:gd name="adj2" fmla="val 79630"/>
            </a:avLst>
          </a:prstGeom>
          <a:solidFill>
            <a:srgbClr val="ffcc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120200">
            <a:off x="1599840" y="2362320"/>
            <a:ext cx="304920" cy="990360"/>
          </a:xfrm>
          <a:prstGeom prst="downArrow">
            <a:avLst>
              <a:gd name="adj1" fmla="val 50000"/>
              <a:gd name="adj2" fmla="val 81198"/>
            </a:avLst>
          </a:prstGeom>
          <a:solidFill>
            <a:srgbClr val="ff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0659800">
            <a:off x="3123720" y="2285640"/>
            <a:ext cx="304920" cy="99072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ff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" name="Cloud"/>
          <p:cNvSpPr/>
          <p:nvPr/>
        </p:nvSpPr>
        <p:spPr>
          <a:xfrm>
            <a:off x="5181480" y="1905120"/>
            <a:ext cx="1752840" cy="76176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Cloud"/>
          <p:cNvSpPr/>
          <p:nvPr/>
        </p:nvSpPr>
        <p:spPr>
          <a:xfrm>
            <a:off x="5257800" y="4724280"/>
            <a:ext cx="990720" cy="66384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7848720" y="4724280"/>
            <a:ext cx="990360" cy="66384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4876920" y="3048120"/>
            <a:ext cx="1752480" cy="761760"/>
          </a:xfrm>
          <a:prstGeom prst="pi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5" name="Cloud"/>
          <p:cNvSpPr/>
          <p:nvPr/>
        </p:nvSpPr>
        <p:spPr>
          <a:xfrm>
            <a:off x="7391520" y="3048120"/>
            <a:ext cx="1752480" cy="761760"/>
          </a:xfrm>
          <a:prstGeom prst="pi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3809880"/>
            <a:ext cx="304920" cy="99072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ff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05920" y="3733920"/>
            <a:ext cx="304560" cy="990360"/>
          </a:xfrm>
          <a:prstGeom prst="downArrow">
            <a:avLst>
              <a:gd name="adj1" fmla="val 50000"/>
              <a:gd name="adj2" fmla="val 81294"/>
            </a:avLst>
          </a:prstGeom>
          <a:solidFill>
            <a:srgbClr val="ff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3276720"/>
            <a:ext cx="914400" cy="228600"/>
          </a:xfrm>
          <a:prstGeom prst="leftRightArrow">
            <a:avLst>
              <a:gd name="adj1" fmla="val 50000"/>
              <a:gd name="adj2" fmla="val 79630"/>
            </a:avLst>
          </a:prstGeom>
          <a:solidFill>
            <a:srgbClr val="ffcc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9117200">
            <a:off x="6923160" y="2277720"/>
            <a:ext cx="293760" cy="1143000"/>
          </a:xfrm>
          <a:prstGeom prst="downArrow">
            <a:avLst>
              <a:gd name="adj1" fmla="val 50000"/>
              <a:gd name="adj2" fmla="val 97273"/>
            </a:avLst>
          </a:prstGeom>
          <a:solidFill>
            <a:srgbClr val="ff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2598000">
            <a:off x="4800600" y="2285640"/>
            <a:ext cx="304920" cy="99072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ff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2057400"/>
            <a:ext cx="1752480" cy="304920"/>
          </a:xfrm>
          <a:prstGeom prst="leftRightArrow">
            <a:avLst>
              <a:gd name="adj1" fmla="val 50000"/>
              <a:gd name="adj2" fmla="val 114415"/>
            </a:avLst>
          </a:prstGeom>
          <a:solidFill>
            <a:srgbClr val="ffcc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3352680"/>
            <a:ext cx="914400" cy="228600"/>
          </a:xfrm>
          <a:prstGeom prst="leftRightArrow">
            <a:avLst>
              <a:gd name="adj1" fmla="val 50000"/>
              <a:gd name="adj2" fmla="val 79630"/>
            </a:avLst>
          </a:prstGeom>
          <a:solidFill>
            <a:srgbClr val="ffcc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0520" y="2643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10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4520" y="4419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36440" y="19810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100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56360" y="1828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200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47440" y="3657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1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34800" y="4495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05040" y="3657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1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95760" y="3733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13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86480" y="47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0200" y="4572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202400">
            <a:off x="5562360" y="2514600"/>
            <a:ext cx="252360" cy="685800"/>
          </a:xfrm>
          <a:prstGeom prst="downArrow">
            <a:avLst>
              <a:gd name="adj1" fmla="val 50000"/>
              <a:gd name="adj2" fmla="val 67939"/>
            </a:avLst>
          </a:prstGeom>
          <a:solidFill>
            <a:srgbClr val="ff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277-94C9-45BB-BDAE-F2225F47B10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What Is BGP?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order Gateway Protocol BGP-4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he de-facto interdomain routing protoco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GP includes specifications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information gets advertised and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GP includes a routing protocol: 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s and uses a routing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nternal Gateway Protocol (I-BGP in the book)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B69-6BA2-462C-8082-4E248D4C764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Examples of Illegal Path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1, 10, 100, 11, 200, 13,4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1, 10, 100, 11, 12, 3  (Why?)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1, 10, 11, 12, 3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1, 10, 100, 20, 11, 2 (is this illegal?)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s prefer to send traffic through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DB50-74F9-4CF7-AFB0-8B0181C3F42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he Rules of BGP Routing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ransit traffic: traffic that does not go to my customers (or their customers)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A provider carries any traffic to, from customer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Peers exchange traffic </a:t>
            </a:r>
            <a:r>
              <a:rPr b="1" lang="en-US" sz="2800" spc="-1" strike="noStrike" u="sng">
                <a:solidFill>
                  <a:srgbClr val="f3a70f"/>
                </a:solidFill>
                <a:uFillTx/>
                <a:latin typeface="Arial"/>
              </a:rPr>
              <a:t>only</a:t>
            </a: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 if between their customer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2E2-9392-49CE-BBAD-A3B0E43AF61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Implementing BGP Rule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A customer advertises whatever she wants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A provider forwards everything from customer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 that world now where customer Ip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A provider advertises whatever customer wants to customer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A peer hears but does not advertise further prefixes from a peer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A peer advertises only its customers to a peer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9E2-07A8-4935-80A5-7521D003FB8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Some Simple Policies: Transitivity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4495680"/>
            <a:ext cx="78487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3a7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Times New Roman"/>
              </a:rPr>
              <a:t>A customer should not be transit for its Provider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3a7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Times New Roman"/>
              </a:rPr>
              <a:t>For this: ASX should not advertise ISP1 advertisement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42" name="Cloud"/>
          <p:cNvSpPr/>
          <p:nvPr/>
        </p:nvSpPr>
        <p:spPr>
          <a:xfrm>
            <a:off x="4191120" y="2133720"/>
            <a:ext cx="990360" cy="6634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3" name="Cloud"/>
          <p:cNvSpPr/>
          <p:nvPr/>
        </p:nvSpPr>
        <p:spPr>
          <a:xfrm>
            <a:off x="6019920" y="2133720"/>
            <a:ext cx="990360" cy="6634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4" name="Cloud"/>
          <p:cNvSpPr/>
          <p:nvPr/>
        </p:nvSpPr>
        <p:spPr>
          <a:xfrm>
            <a:off x="5181480" y="3276720"/>
            <a:ext cx="990720" cy="6634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53400" y="171756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SP 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87120" y="171756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SP 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88200" y="34704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S X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00600" y="2743200"/>
            <a:ext cx="685800" cy="60948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019920" y="2819520"/>
            <a:ext cx="380880" cy="53316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cxnSp>
        <p:nvCxnSpPr>
          <p:cNvPr id="250" name=""/>
          <p:cNvCxnSpPr/>
          <p:nvPr/>
        </p:nvCxnSpPr>
        <p:spPr>
          <a:xfrm rot="5400000">
            <a:off x="5599440" y="1751760"/>
            <a:ext cx="2160" cy="1829520"/>
          </a:xfrm>
          <a:prstGeom prst="curvedConnector5">
            <a:avLst>
              <a:gd name="adj1" fmla="val 57380000"/>
              <a:gd name="adj2" fmla="val 49990"/>
              <a:gd name="adj3" fmla="val 57380000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 flipH="1" flipV="1">
            <a:off x="6400800" y="2971440"/>
            <a:ext cx="838080" cy="2286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99720" y="30132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ot allowed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4191120"/>
            <a:ext cx="576396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148C-A06E-4809-926E-F9D414DE90E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How Policies Affect Routing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46520" y="1827000"/>
            <a:ext cx="40370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A Provider will get rid of traffic as soon as possible,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But a Provider will carry the traffic for its customer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Did anyone say traffic is asymmetric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56" name="Cloud"/>
          <p:cNvSpPr/>
          <p:nvPr/>
        </p:nvSpPr>
        <p:spPr>
          <a:xfrm>
            <a:off x="533520" y="2743200"/>
            <a:ext cx="3581280" cy="12193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7" name="Cloud"/>
          <p:cNvSpPr/>
          <p:nvPr/>
        </p:nvSpPr>
        <p:spPr>
          <a:xfrm>
            <a:off x="609480" y="4191120"/>
            <a:ext cx="3581640" cy="121896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066680" y="2057400"/>
            <a:ext cx="0" cy="83808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828800"/>
            <a:ext cx="304920" cy="30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5943600"/>
            <a:ext cx="30492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3886200"/>
            <a:ext cx="0" cy="60948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84920" y="172872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Customer 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76520" y="23385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ISP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7000" y="53863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ISP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05680" y="579132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Customer 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55960" y="5386320"/>
            <a:ext cx="36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733920" y="5105520"/>
            <a:ext cx="0" cy="83808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2286000"/>
            <a:ext cx="2806920" cy="3860640"/>
          </a:xfrm>
          <a:custGeom>
            <a:avLst/>
            <a:gdLst/>
            <a:ahLst/>
            <a:rect l="l" t="t" r="r" b="b"/>
            <a:pathLst>
              <a:path w="1768" h="2432">
                <a:moveTo>
                  <a:pt x="0" y="0"/>
                </a:moveTo>
                <a:cubicBezTo>
                  <a:pt x="24" y="320"/>
                  <a:pt x="48" y="640"/>
                  <a:pt x="144" y="912"/>
                </a:cubicBezTo>
                <a:cubicBezTo>
                  <a:pt x="240" y="1184"/>
                  <a:pt x="352" y="1512"/>
                  <a:pt x="576" y="1632"/>
                </a:cubicBezTo>
                <a:cubicBezTo>
                  <a:pt x="800" y="1752"/>
                  <a:pt x="1296" y="1520"/>
                  <a:pt x="1488" y="1632"/>
                </a:cubicBezTo>
                <a:cubicBezTo>
                  <a:pt x="1680" y="1744"/>
                  <a:pt x="1688" y="2176"/>
                  <a:pt x="1728" y="2304"/>
                </a:cubicBezTo>
                <a:cubicBezTo>
                  <a:pt x="1768" y="2432"/>
                  <a:pt x="1736" y="2384"/>
                  <a:pt x="1728" y="2400"/>
                </a:cubicBezTo>
              </a:path>
            </a:pathLst>
          </a:custGeom>
          <a:noFill/>
          <a:ln w="954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04840" y="2286000"/>
            <a:ext cx="2857680" cy="3429000"/>
          </a:xfrm>
          <a:custGeom>
            <a:avLst/>
            <a:gdLst/>
            <a:ahLst/>
            <a:rect l="l" t="t" r="r" b="b"/>
            <a:pathLst>
              <a:path w="1800" h="2160">
                <a:moveTo>
                  <a:pt x="120" y="0"/>
                </a:moveTo>
                <a:cubicBezTo>
                  <a:pt x="60" y="268"/>
                  <a:pt x="0" y="536"/>
                  <a:pt x="120" y="672"/>
                </a:cubicBezTo>
                <a:cubicBezTo>
                  <a:pt x="240" y="808"/>
                  <a:pt x="600" y="768"/>
                  <a:pt x="840" y="816"/>
                </a:cubicBezTo>
                <a:cubicBezTo>
                  <a:pt x="1080" y="864"/>
                  <a:pt x="1400" y="736"/>
                  <a:pt x="1560" y="960"/>
                </a:cubicBezTo>
                <a:cubicBezTo>
                  <a:pt x="1720" y="1184"/>
                  <a:pt x="1760" y="1944"/>
                  <a:pt x="1800" y="2160"/>
                </a:cubicBezTo>
              </a:path>
            </a:pathLst>
          </a:custGeom>
          <a:noFill/>
          <a:ln w="92160">
            <a:solidFill>
              <a:srgbClr val="008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A12-F7EB-414E-978C-6D5EE21E12F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hings Become Interesting:</a:t>
            </a:r>
            <a:br>
              <a:rPr sz="3600"/>
            </a:b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raffic Engineering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46520" y="1827000"/>
            <a:ext cx="40370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How can I pick a route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Local Preference: path attribute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AS2 wants to prefer fast thick link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Advertisement from right router  of AS2 has higher Local Preference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Any BGP router in AS2 will prefer the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73" name="Cloud"/>
          <p:cNvSpPr/>
          <p:nvPr/>
        </p:nvSpPr>
        <p:spPr>
          <a:xfrm>
            <a:off x="1122480" y="1981080"/>
            <a:ext cx="2306520" cy="13525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4" name="Cloud"/>
          <p:cNvSpPr/>
          <p:nvPr/>
        </p:nvSpPr>
        <p:spPr>
          <a:xfrm>
            <a:off x="1314360" y="4624560"/>
            <a:ext cx="2114640" cy="103320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8"/>
          <a:stretch/>
        </p:blipFill>
        <p:spPr>
          <a:xfrm>
            <a:off x="1554120" y="4870440"/>
            <a:ext cx="530280" cy="366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9"/>
          <a:stretch/>
        </p:blipFill>
        <p:spPr>
          <a:xfrm>
            <a:off x="2708280" y="4870440"/>
            <a:ext cx="528480" cy="366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650960" y="2779560"/>
            <a:ext cx="528840" cy="3700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084400" y="5052960"/>
            <a:ext cx="6238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1"/>
          <a:stretch/>
        </p:blipFill>
        <p:spPr>
          <a:xfrm>
            <a:off x="2516040" y="2657520"/>
            <a:ext cx="528840" cy="369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2"/>
          <a:stretch/>
        </p:blipFill>
        <p:spPr>
          <a:xfrm>
            <a:off x="2036880" y="2165400"/>
            <a:ext cx="527040" cy="3697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805120" y="2963880"/>
            <a:ext cx="144360" cy="1906560"/>
          </a:xfrm>
          <a:prstGeom prst="line">
            <a:avLst/>
          </a:prstGeom>
          <a:ln w="954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746000" y="3086280"/>
            <a:ext cx="145800" cy="178416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179800" y="2841480"/>
            <a:ext cx="384120" cy="12240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036880" y="2409480"/>
            <a:ext cx="190440" cy="43164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19200" y="2473200"/>
            <a:ext cx="239760" cy="24624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28480" y="545616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70400" y="201456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14920" y="240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78120" y="51786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208.1.1.0/24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5880" y="312408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P 100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315612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P 80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5880" y="3903840"/>
            <a:ext cx="8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slow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8B4-D1F8-4ABA-9ACA-F24EE71E924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Load Balancing - Appetizer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 want to share traffic between my two provider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How can I do this?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B338-03BA-4EF5-BB06-C0531C77F01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Load Balancing: Long Prefix Match Takes All!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371600" y="1828800"/>
            <a:ext cx="4952880" cy="3821040"/>
            <a:chOff x="1371600" y="1828800"/>
            <a:chExt cx="4952880" cy="3821040"/>
          </a:xfrm>
        </p:grpSpPr>
        <p:sp>
          <p:nvSpPr>
            <p:cNvPr id="297" name="Cloud"/>
            <p:cNvSpPr/>
            <p:nvPr/>
          </p:nvSpPr>
          <p:spPr>
            <a:xfrm>
              <a:off x="3352680" y="4800600"/>
              <a:ext cx="1447920" cy="84924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3809880" y="5029200"/>
              <a:ext cx="52884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Cloud"/>
            <p:cNvSpPr/>
            <p:nvPr/>
          </p:nvSpPr>
          <p:spPr>
            <a:xfrm>
              <a:off x="4952880" y="3429000"/>
              <a:ext cx="1371600" cy="80496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0" name="Cloud"/>
            <p:cNvSpPr/>
            <p:nvPr/>
          </p:nvSpPr>
          <p:spPr>
            <a:xfrm>
              <a:off x="3124080" y="1828800"/>
              <a:ext cx="1447920" cy="84924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1" name="Cloud"/>
            <p:cNvSpPr/>
            <p:nvPr/>
          </p:nvSpPr>
          <p:spPr>
            <a:xfrm>
              <a:off x="1371600" y="3530520"/>
              <a:ext cx="1447920" cy="8492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6"/>
            <a:stretch/>
          </p:blipFill>
          <p:spPr>
            <a:xfrm>
              <a:off x="5334120" y="3657600"/>
              <a:ext cx="52848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7"/>
            <a:stretch/>
          </p:blipFill>
          <p:spPr>
            <a:xfrm>
              <a:off x="3581280" y="2057400"/>
              <a:ext cx="528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8"/>
            <a:stretch/>
          </p:blipFill>
          <p:spPr>
            <a:xfrm>
              <a:off x="1828800" y="3733920"/>
              <a:ext cx="52848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 flipV="1">
              <a:off x="4267080" y="3962160"/>
              <a:ext cx="1295640" cy="114300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4038480" y="2286000"/>
              <a:ext cx="1524240" cy="137160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86000" y="4038480"/>
              <a:ext cx="1600200" cy="106704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286000" y="2362320"/>
              <a:ext cx="1447920" cy="137160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V="1">
            <a:off x="2286000" y="3809880"/>
            <a:ext cx="3124080" cy="7632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06840" y="576756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Customer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60480" y="454824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ISP 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37040" y="447192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ISP 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46680" y="195732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ISP 3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87960" y="576756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138.39.1/24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49528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138.39/16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5480" y="5257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138.39.1/24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37320" y="487692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138.39.1/24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22860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cc"/>
                </a:solidFill>
                <a:latin typeface="Book Antiqua"/>
              </a:rPr>
              <a:t>138.39/16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03800" y="236232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138.39.1/24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2362320"/>
            <a:ext cx="1346040" cy="3200400"/>
          </a:xfrm>
          <a:custGeom>
            <a:avLst/>
            <a:gdLst/>
            <a:ahLst/>
            <a:rect l="l" t="t" r="r" b="b"/>
            <a:pathLst>
              <a:path w="848" h="2016">
                <a:moveTo>
                  <a:pt x="656" y="0"/>
                </a:moveTo>
                <a:cubicBezTo>
                  <a:pt x="328" y="360"/>
                  <a:pt x="0" y="720"/>
                  <a:pt x="32" y="1056"/>
                </a:cubicBezTo>
                <a:cubicBezTo>
                  <a:pt x="64" y="1392"/>
                  <a:pt x="456" y="1704"/>
                  <a:pt x="848" y="2016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571280" y="2286000"/>
            <a:ext cx="1346040" cy="3200400"/>
          </a:xfrm>
          <a:custGeom>
            <a:avLst/>
            <a:gdLst/>
            <a:ahLst/>
            <a:rect l="l" t="t" r="r" b="b"/>
            <a:pathLst>
              <a:path w="848" h="2016">
                <a:moveTo>
                  <a:pt x="656" y="0"/>
                </a:moveTo>
                <a:cubicBezTo>
                  <a:pt x="328" y="360"/>
                  <a:pt x="0" y="720"/>
                  <a:pt x="32" y="1056"/>
                </a:cubicBezTo>
                <a:cubicBezTo>
                  <a:pt x="64" y="1392"/>
                  <a:pt x="456" y="1704"/>
                  <a:pt x="848" y="2016"/>
                </a:cubicBezTo>
              </a:path>
            </a:pathLst>
          </a:custGeom>
          <a:noFill/>
          <a:ln w="63360">
            <a:solidFill>
              <a:srgbClr val="00ff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AC6-F373-422A-91D6-BE147B129F6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So How Can I Balance the Load?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Ask my provider to not aggregate my prefix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this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plit my prefix in two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8.39.1.0/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: 138.39.1.31/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8.39.1.32/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Advertise only one part to ISP2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SP2 traffic destined for prefixes in A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SP1 traffic destined for prefixes in B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924-072A-49C1-9B1C-38E1359E641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Summary Up to Now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GP-4 is the de facto protocol for interdomain  routing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GP was developed to achieve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policy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lability via route aggregation given CID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here are many open issue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GP is a hot research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344-1986-4EEF-9757-3DFC68674C5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Why Is There Such Fuss about BGP? 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GP dictates routing at the AS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ence of understanding: poor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GP is complicated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to be flex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olves multiple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Understanding BGP behavior is not intuitiv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and business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he routing of the Internet relies on BGP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BFD-7299-447A-B7F6-3F1F51623DB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BGP: Up Close and Personal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Establishing a connection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essage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Path Attribute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763C-22D9-4381-B18C-28244926BF6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Establishing  A BGP Session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GP is uses TCP connection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A BGP session is between two router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directly connected (Ethernet, FDD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Routers establish a BGP session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ion and set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ate and withdraw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disconnected, all paths are in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6CC-2D7A-4973-AC06-30913CD9F1B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Handling the Dynamic Nature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472-3360-4D3A-8985-452FD064D33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o Refresh or not to Refresh?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GP uses hard state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GP routers consider a path is “usable” 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il explicitly withdra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ssion f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o, how do I detect if a connection failed?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-alive 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E54-C9AE-43ED-A19B-E99C76F183D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Path Updates Frequency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end updates of paths approx every 30 sec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Why?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b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head re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ide-effect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gence can take lo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What is the right interval?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nt studies say that 30s is too 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0CA-66A6-489B-8A58-5DE74C02834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Route Flapping and Dampening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lapping: constant alternating update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t can happen!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Route update dampening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stability of path before using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How store “penalty” value for each path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ssue: router needs to remember withdrawn path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18D-02CA-480C-B522-E93FDC2F28A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Overview up to Now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GP uses TCP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GP uses hard stat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Routing updates are “delayed” and batched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Route dampening to alleviate instabilitie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D98-61A0-4E8A-A9EB-946EE067047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Current Research: the AS Topology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Characterize the topology using power-laws 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(Faloutsos 99, Siganos et al 01)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odeling the evolution of the topology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arabasi, Faloutsos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1C76-0127-44E1-A5F9-6A5FF86AD39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Ongoing Research: AS path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107 Gb of AS paths over 3 year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Exponential growth, but distances remain the same 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nflation due to policy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% of paths are larger than they cou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ignificant Routing Asymmetry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% paths by at least one 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5AD-950D-4EC5-BA42-F485D4DB598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Near Future Research Plan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ine the collected paths for pattern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How stable were the paths?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Can we identify “illegal” paths?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dentify pathologies (ie. loops) 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690-5CEB-4FB2-A112-61B5FF9E1FF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Some Open Question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How well does BGP work now?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How can I manage a BGP network?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How secure and robust is BGP?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ber-terror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How would we re-design BGP now?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How well will BGP scale for our future needs?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4DE-870A-4B59-801F-A2BF21B0F27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Overview of Plans for Research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827000"/>
            <a:ext cx="83059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How well does BGP work now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How secure and robust is BGP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ber-terrorism: how much damage can be don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How would we design BGP now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are asking this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How well will BGP scale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How can we manage BGP (avoid human errors)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Approach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tical and simulations with SSF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9C1-051B-4F3B-9AC4-B9467F1D2DE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GP is ho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he community knows very littl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ig ticket items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ustness,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Practitioners are interested in thi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PA, NANOG (Network Oper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85E-BBA8-498A-985C-2A758D58972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Policies on Transitivity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90400" y="2098800"/>
            <a:ext cx="34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ontransi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 customer should no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e transit for its Provider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2" name="Cloud"/>
          <p:cNvSpPr/>
          <p:nvPr/>
        </p:nvSpPr>
        <p:spPr>
          <a:xfrm>
            <a:off x="4191120" y="2133720"/>
            <a:ext cx="990360" cy="6634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3" name="Cloud"/>
          <p:cNvSpPr/>
          <p:nvPr/>
        </p:nvSpPr>
        <p:spPr>
          <a:xfrm>
            <a:off x="6019920" y="2133720"/>
            <a:ext cx="990360" cy="6634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4" name="Cloud"/>
          <p:cNvSpPr/>
          <p:nvPr/>
        </p:nvSpPr>
        <p:spPr>
          <a:xfrm>
            <a:off x="5181480" y="3276720"/>
            <a:ext cx="990720" cy="66348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52680" y="17175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sp 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86400" y="17175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sp 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88200" y="34704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S X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00600" y="2743200"/>
            <a:ext cx="685800" cy="60948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019920" y="2819520"/>
            <a:ext cx="380880" cy="53316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rot="5400000">
            <a:off x="5599440" y="1751760"/>
            <a:ext cx="2160" cy="1829520"/>
          </a:xfrm>
          <a:prstGeom prst="curvedConnector5">
            <a:avLst>
              <a:gd name="adj1" fmla="val 57380000"/>
              <a:gd name="adj2" fmla="val 49990"/>
              <a:gd name="adj3" fmla="val 57380000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61" name=""/>
          <p:cNvSpPr/>
          <p:nvPr/>
        </p:nvSpPr>
        <p:spPr>
          <a:xfrm flipH="1" flipV="1">
            <a:off x="6400800" y="2971440"/>
            <a:ext cx="838080" cy="2286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99720" y="30132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ot allowed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4191120"/>
            <a:ext cx="576396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69960" y="45370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ransi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5" name="Cloud"/>
          <p:cNvSpPr/>
          <p:nvPr/>
        </p:nvSpPr>
        <p:spPr>
          <a:xfrm>
            <a:off x="2666880" y="4495680"/>
            <a:ext cx="990720" cy="66384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6" name="Cloud"/>
          <p:cNvSpPr/>
          <p:nvPr/>
        </p:nvSpPr>
        <p:spPr>
          <a:xfrm>
            <a:off x="6324480" y="5029200"/>
            <a:ext cx="990720" cy="66348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7" name="Cloud"/>
          <p:cNvSpPr/>
          <p:nvPr/>
        </p:nvSpPr>
        <p:spPr>
          <a:xfrm>
            <a:off x="4495680" y="5105520"/>
            <a:ext cx="990720" cy="66348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8" name="Cloud"/>
          <p:cNvSpPr/>
          <p:nvPr/>
        </p:nvSpPr>
        <p:spPr>
          <a:xfrm>
            <a:off x="2666880" y="5638680"/>
            <a:ext cx="990720" cy="66384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83600" y="43084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79040" y="598500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58680" y="45370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S 3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68360" y="45370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S 4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cxnSp>
        <p:nvCxnSpPr>
          <p:cNvPr id="373" name=""/>
          <p:cNvCxnSpPr>
            <a:stCxn id="365" idx="4"/>
            <a:endCxn id="368" idx="4"/>
          </p:cNvCxnSpPr>
          <p:nvPr/>
        </p:nvCxnSpPr>
        <p:spPr>
          <a:xfrm>
            <a:off x="3656160" y="4827240"/>
            <a:ext cx="2160" cy="1143720"/>
          </a:xfrm>
          <a:prstGeom prst="curvedConnector5">
            <a:avLst>
              <a:gd name="adj1" fmla="val 80500000"/>
              <a:gd name="adj2" fmla="val 50000"/>
              <a:gd name="adj3" fmla="val 80500000"/>
            </a:avLst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4" name=""/>
          <p:cNvCxnSpPr>
            <a:stCxn id="366" idx="4"/>
            <a:endCxn id="365" idx="5"/>
          </p:cNvCxnSpPr>
          <p:nvPr/>
        </p:nvCxnSpPr>
        <p:spPr>
          <a:xfrm rot="10800000">
            <a:off x="3161520" y="5158800"/>
            <a:ext cx="3166200" cy="202320"/>
          </a:xfrm>
          <a:prstGeom prst="curvedConnector2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5" name=""/>
          <p:cNvCxnSpPr>
            <a:stCxn id="366" idx="5"/>
            <a:endCxn id="368" idx="5"/>
          </p:cNvCxnSpPr>
          <p:nvPr/>
        </p:nvCxnSpPr>
        <p:spPr>
          <a:xfrm flipV="1" rot="10800000">
            <a:off x="3161520" y="5360040"/>
            <a:ext cx="3166200" cy="31644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1CD-A0C9-41F9-84E8-806B1BFCE3D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More BGP attribute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2560" y="2174760"/>
            <a:ext cx="234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ommunitie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onfederation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oute Reflector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CE7-EFBA-4C3E-9552-7F2576903A73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Convergence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D40-642A-4905-938A-D784EE4AD97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Cloud"/>
          <p:cNvSpPr/>
          <p:nvPr/>
        </p:nvSpPr>
        <p:spPr>
          <a:xfrm>
            <a:off x="4495680" y="2286000"/>
            <a:ext cx="3200400" cy="24764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Multi-Exit Discriminator(MED)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5181480" y="38098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5029200" y="2819520"/>
            <a:ext cx="838080" cy="457200"/>
          </a:xfrm>
          <a:prstGeom prst="rect">
            <a:avLst/>
          </a:prstGeom>
          <a:ln w="0">
            <a:noFill/>
          </a:ln>
        </p:spPr>
      </p:pic>
      <p:sp>
        <p:nvSpPr>
          <p:cNvPr id="383" name="Cloud"/>
          <p:cNvSpPr/>
          <p:nvPr/>
        </p:nvSpPr>
        <p:spPr>
          <a:xfrm>
            <a:off x="5943600" y="5334120"/>
            <a:ext cx="2057400" cy="94284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6"/>
          <a:stretch/>
        </p:blipFill>
        <p:spPr>
          <a:xfrm>
            <a:off x="6553080" y="56386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7"/>
          <a:stretch/>
        </p:blipFill>
        <p:spPr>
          <a:xfrm>
            <a:off x="6400800" y="3581280"/>
            <a:ext cx="838080" cy="457200"/>
          </a:xfrm>
          <a:prstGeom prst="rect">
            <a:avLst/>
          </a:prstGeom>
          <a:ln w="0">
            <a:noFill/>
          </a:ln>
        </p:spPr>
      </p:pic>
      <p:sp>
        <p:nvSpPr>
          <p:cNvPr id="386" name="Cloud"/>
          <p:cNvSpPr/>
          <p:nvPr/>
        </p:nvSpPr>
        <p:spPr>
          <a:xfrm>
            <a:off x="914400" y="2514600"/>
            <a:ext cx="2743200" cy="212256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9"/>
          <a:stretch/>
        </p:blipFill>
        <p:spPr>
          <a:xfrm>
            <a:off x="2438280" y="274320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0"/>
          <a:stretch/>
        </p:blipFill>
        <p:spPr>
          <a:xfrm>
            <a:off x="2362320" y="380988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1"/>
          <a:stretch/>
        </p:blipFill>
        <p:spPr>
          <a:xfrm>
            <a:off x="1219320" y="2819520"/>
            <a:ext cx="838080" cy="4572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781680" y="3962520"/>
            <a:ext cx="76320" cy="167616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3886200"/>
            <a:ext cx="609840" cy="1522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5486400" y="3123720"/>
            <a:ext cx="76320" cy="685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3048120" y="4038480"/>
            <a:ext cx="2133360" cy="7632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3276720" y="2971800"/>
            <a:ext cx="1828800" cy="7632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1828440" y="3200040"/>
            <a:ext cx="609480" cy="685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743200" y="3200400"/>
            <a:ext cx="76320" cy="685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57400" y="3048120"/>
            <a:ext cx="4572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7086600" y="4038480"/>
            <a:ext cx="76320" cy="14479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867280" y="3429000"/>
            <a:ext cx="609840" cy="3049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943600" y="2819160"/>
            <a:ext cx="76320" cy="6094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276360" y="2666880"/>
            <a:ext cx="190476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752480" y="2438280"/>
            <a:ext cx="1067040" cy="15264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2760" y="499428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ndication to external peers of the preferred path into the A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est Med Preferred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714-705C-4BC5-8175-23344F4BB3C6}" type="slidenum">
              <a:t>45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Roadmap 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ntroduction to BGP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Highlights of BGP issue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Goal: instigate interest in BGP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A67-823D-4E25-98B1-D42852020B4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Some Basic Number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3a7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14,000 Autonomous Systems approx.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porate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P Internal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Service 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3a7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dentified by ASN a 16 bit valu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ed by I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3a7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uperlinear growth (Huston, Siganos et al.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2520" y="419112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154-34E1-4AEA-88BB-140B8F827EF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How A BGP graph Looks Like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562360" y="1676160"/>
            <a:ext cx="33512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Each AS has designated BGP router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BGP routers of an AS communicate internally with another protocol (IGP)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08" name="Cloud"/>
          <p:cNvSpPr/>
          <p:nvPr/>
        </p:nvSpPr>
        <p:spPr>
          <a:xfrm>
            <a:off x="298440" y="4003560"/>
            <a:ext cx="1041480" cy="7509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9" name="Cloud"/>
          <p:cNvSpPr/>
          <p:nvPr/>
        </p:nvSpPr>
        <p:spPr>
          <a:xfrm>
            <a:off x="1836720" y="2989440"/>
            <a:ext cx="1984320" cy="14317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" name="Cloud"/>
          <p:cNvSpPr/>
          <p:nvPr/>
        </p:nvSpPr>
        <p:spPr>
          <a:xfrm>
            <a:off x="3524400" y="1814400"/>
            <a:ext cx="1041120" cy="75096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" name="Cloud"/>
          <p:cNvSpPr/>
          <p:nvPr/>
        </p:nvSpPr>
        <p:spPr>
          <a:xfrm>
            <a:off x="3722760" y="3735360"/>
            <a:ext cx="1687320" cy="12175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Cloud"/>
          <p:cNvSpPr/>
          <p:nvPr/>
        </p:nvSpPr>
        <p:spPr>
          <a:xfrm>
            <a:off x="1687680" y="2081160"/>
            <a:ext cx="1042920" cy="75096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95160" y="4162320"/>
            <a:ext cx="446400" cy="268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2035080" y="2293920"/>
            <a:ext cx="446040" cy="266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3772080" y="2081160"/>
            <a:ext cx="447480" cy="266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1"/>
          <a:stretch/>
        </p:blipFill>
        <p:spPr>
          <a:xfrm>
            <a:off x="3970440" y="4003560"/>
            <a:ext cx="447480" cy="266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2"/>
          <a:stretch/>
        </p:blipFill>
        <p:spPr>
          <a:xfrm>
            <a:off x="2630520" y="3147840"/>
            <a:ext cx="446040" cy="268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3"/>
          <a:stretch/>
        </p:blipFill>
        <p:spPr>
          <a:xfrm>
            <a:off x="3076560" y="3683160"/>
            <a:ext cx="447840" cy="266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4"/>
          <a:stretch/>
        </p:blipFill>
        <p:spPr>
          <a:xfrm>
            <a:off x="2184480" y="3683160"/>
            <a:ext cx="446040" cy="266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5"/>
          <a:stretch/>
        </p:blipFill>
        <p:spPr>
          <a:xfrm>
            <a:off x="4765680" y="4003560"/>
            <a:ext cx="446040" cy="266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6"/>
          <a:stretch/>
        </p:blipFill>
        <p:spPr>
          <a:xfrm>
            <a:off x="4317840" y="4537080"/>
            <a:ext cx="447840" cy="266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V="1">
            <a:off x="1092240" y="3843360"/>
            <a:ext cx="1092240" cy="37296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82840" y="2508120"/>
            <a:ext cx="396720" cy="63972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978280" y="2293920"/>
            <a:ext cx="893520" cy="85392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424320" y="2293920"/>
            <a:ext cx="496800" cy="138924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75080" y="3843360"/>
            <a:ext cx="546120" cy="21276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9720" y="480060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91480" y="160020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85360" y="44308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S 3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18920" y="314964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S 4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3520" y="165420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S 5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7920" y="4110120"/>
            <a:ext cx="34776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8880" y="4270320"/>
            <a:ext cx="149040" cy="26676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665600" y="4215960"/>
            <a:ext cx="198360" cy="32076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532240" y="3362040"/>
            <a:ext cx="198360" cy="32076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28960" y="3362400"/>
            <a:ext cx="247680" cy="32076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508120"/>
            <a:ext cx="182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481120" y="2241360"/>
            <a:ext cx="1290960" cy="16020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D61-CDD0-403F-B366-F98EC8D304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IP Addresses and Prefixes 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827000"/>
            <a:ext cx="8454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P addresses have 32 bits: 4 octets of bits (IPv4)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A prefix is a group of an IP addres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128.32.101.5 is an IP address (32 bits)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128.32.0.0/16 is a prefix of the 16 first bit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.32.0.0 – 128.32.255.255      (2^16 addres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128.32.4.0/24 is a prefix of the 24 first bits - longer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B7D-D658-437D-A096-A891973D601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96a"/>
            </a:gs>
            <a:gs pos="100000">
              <a:srgbClr val="747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Routing is Based on Prefixe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A BGP Routing table has prefixes for entrie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or a IP address of a packet, find </a:t>
            </a:r>
            <a:r>
              <a:rPr b="1" lang="en-US" sz="2800" spc="-1" strike="noStrike" u="sng">
                <a:solidFill>
                  <a:srgbClr val="f3a70f"/>
                </a:solidFill>
                <a:uFillTx/>
                <a:latin typeface="Arial"/>
              </a:rPr>
              <a:t>longest match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Example: packet IP 128.32.101.1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128.1.1.4 matches the first 8 bits – no match!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128.32.0.0/16 match for 16 bit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128.32.101.0/24  is a longer match 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FC9-0285-4781-984F-D0096D8D029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21:15:02Z</dcterms:created>
  <dc:creator>siganos</dc:creator>
  <dc:description/>
  <dc:language>en-US</dc:language>
  <cp:lastModifiedBy>default</cp:lastModifiedBy>
  <dcterms:modified xsi:type="dcterms:W3CDTF">2002-05-16T21:12:39Z</dcterms:modified>
  <cp:revision>142</cp:revision>
  <dc:subject/>
  <dc:title>Outline</dc:title>
</cp:coreProperties>
</file>