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6.png" ContentType="image/png"/>
  <Override PartName="/ppt/media/image7.jpeg" ContentType="image/jpeg"/>
  <Override PartName="/ppt/media/image12.jpeg" ContentType="image/jpeg"/>
  <Override PartName="/ppt/media/image4.pct" ContentType="image/x-pict"/>
  <Override PartName="/ppt/media/image5.pct" ContentType="image/x-pict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7E0B-F12E-4EF7-A997-5AE8B678F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ere we stopped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imple multiple access control techniq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mobile’s share of the bandwidth is divided into portions for the uplink and the downlink. Also, possibly, out of band signa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will see, used in AMPS, GSM, IS-54/1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2C0C-84C2-4144-B05D-502D3BAB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CA68-CF71-44A1-A322-CB94E79A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6431-DDC1-4F16-A565-2FE4AEDE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35E0-514E-4BF7-AF20-15276C67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8A22-5069-4B9C-9CC6-611E062F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BFC1-80F2-4FC9-AB2F-E7D0BC0B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4F6E-7C38-43FC-8C50-BBACDDAB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D15A-CF05-4325-B412-E70976B3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D87F-24EE-4B76-B7AB-BA0C4C65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56D5-C399-493D-B4AB-8FBBEC79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E4C3-7276-4695-8830-F7F214F4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1038-B32A-4167-98C4-4E909CB8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5CE4-0D21-45CA-95D3-9DB232862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3.pct"/><Relationship Id="rId10" Type="http://schemas.openxmlformats.org/officeDocument/2006/relationships/image" Target="../media/image3.pct"/><Relationship Id="rId11" Type="http://schemas.openxmlformats.org/officeDocument/2006/relationships/image" Target="../media/image4.pct"/><Relationship Id="rId12" Type="http://schemas.openxmlformats.org/officeDocument/2006/relationships/image" Target="../media/image5.pct"/><Relationship Id="rId13" Type="http://schemas.openxmlformats.org/officeDocument/2006/relationships/image" Target="../media/image4.pct"/><Relationship Id="rId14" Type="http://schemas.openxmlformats.org/officeDocument/2006/relationships/image" Target="../media/image5.pct"/><Relationship Id="rId15" Type="http://schemas.openxmlformats.org/officeDocument/2006/relationships/image" Target="../media/image4.pct"/><Relationship Id="rId16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3.pct"/><Relationship Id="rId10" Type="http://schemas.openxmlformats.org/officeDocument/2006/relationships/image" Target="../media/image3.pct"/><Relationship Id="rId11" Type="http://schemas.openxmlformats.org/officeDocument/2006/relationships/image" Target="../media/image4.pct"/><Relationship Id="rId12" Type="http://schemas.openxmlformats.org/officeDocument/2006/relationships/image" Target="../media/image5.pct"/><Relationship Id="rId13" Type="http://schemas.openxmlformats.org/officeDocument/2006/relationships/image" Target="../media/image4.pct"/><Relationship Id="rId14" Type="http://schemas.openxmlformats.org/officeDocument/2006/relationships/image" Target="../media/image5.pct"/><Relationship Id="rId15" Type="http://schemas.openxmlformats.org/officeDocument/2006/relationships/image" Target="../media/image4.pct"/><Relationship Id="rId16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3.pct"/><Relationship Id="rId10" Type="http://schemas.openxmlformats.org/officeDocument/2006/relationships/image" Target="../media/image3.pct"/><Relationship Id="rId11" Type="http://schemas.openxmlformats.org/officeDocument/2006/relationships/image" Target="../media/image4.pct"/><Relationship Id="rId12" Type="http://schemas.openxmlformats.org/officeDocument/2006/relationships/image" Target="../media/image5.pct"/><Relationship Id="rId13" Type="http://schemas.openxmlformats.org/officeDocument/2006/relationships/image" Target="../media/image4.pct"/><Relationship Id="rId14" Type="http://schemas.openxmlformats.org/officeDocument/2006/relationships/image" Target="../media/image5.pct"/><Relationship Id="rId15" Type="http://schemas.openxmlformats.org/officeDocument/2006/relationships/image" Target="../media/image4.pct"/><Relationship Id="rId16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3.pct"/><Relationship Id="rId10" Type="http://schemas.openxmlformats.org/officeDocument/2006/relationships/image" Target="../media/image3.pct"/><Relationship Id="rId11" Type="http://schemas.openxmlformats.org/officeDocument/2006/relationships/image" Target="../media/image4.pct"/><Relationship Id="rId12" Type="http://schemas.openxmlformats.org/officeDocument/2006/relationships/image" Target="../media/image5.pct"/><Relationship Id="rId13" Type="http://schemas.openxmlformats.org/officeDocument/2006/relationships/image" Target="../media/image4.pct"/><Relationship Id="rId14" Type="http://schemas.openxmlformats.org/officeDocument/2006/relationships/image" Target="../media/image5.pct"/><Relationship Id="rId15" Type="http://schemas.openxmlformats.org/officeDocument/2006/relationships/image" Target="../media/image4.pct"/><Relationship Id="rId16" Type="http://schemas.openxmlformats.org/officeDocument/2006/relationships/image" Target="../media/image1.pct"/><Relationship Id="rId17" Type="http://schemas.openxmlformats.org/officeDocument/2006/relationships/image" Target="../media/image4.pct"/><Relationship Id="rId18" Type="http://schemas.openxmlformats.org/officeDocument/2006/relationships/image" Target="../media/image5.pct"/><Relationship Id="rId19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image" Target="../media/image4.pct"/><Relationship Id="rId6" Type="http://schemas.openxmlformats.org/officeDocument/2006/relationships/image" Target="../media/image4.pct"/><Relationship Id="rId7" Type="http://schemas.openxmlformats.org/officeDocument/2006/relationships/image" Target="../media/image5.pct"/><Relationship Id="rId8" Type="http://schemas.openxmlformats.org/officeDocument/2006/relationships/image" Target="../media/image4.pct"/><Relationship Id="rId9" Type="http://schemas.openxmlformats.org/officeDocument/2006/relationships/image" Target="../media/image5.pct"/><Relationship Id="rId10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image" Target="../media/image4.pct"/><Relationship Id="rId6" Type="http://schemas.openxmlformats.org/officeDocument/2006/relationships/oleObject" Target="../embeddings/oleObject1.bin"/><Relationship Id="rId7" Type="http://schemas.openxmlformats.org/officeDocument/2006/relationships/image" Target="../media/image1.pct"/><Relationship Id="rId8" Type="http://schemas.openxmlformats.org/officeDocument/2006/relationships/oleObject" Target="../embeddings/oleObject2.bin"/><Relationship Id="rId9" Type="http://schemas.openxmlformats.org/officeDocument/2006/relationships/image" Target="../media/image1.pct"/><Relationship Id="rId10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 and Stuff:The Basic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Interne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does it consist of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 terminology and lin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ndamental Concep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-using some slides from Kurose and Ross boo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6E2F-9966-4608-A8A5-B75FE52650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econdary Internet Principl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ult-tolerance to component fail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port multiple types of servi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operate with different technolog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 distributed manag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cost effective (ie sharing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easily extendi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urces and entities must be accountable (for security purpos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8FCB-0883-499B-8EA7-8D02065AFD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 Architecture Characteristic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alability to millions of us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erarchical structure combined with address aggreg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less routing: Routers do not keep detailed info per conn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st-effort service: no guarante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entralized contr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lf-configu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7BDF-768E-4B3E-98E5-47F57B84B4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6578640" y="1714680"/>
            <a:ext cx="1892160" cy="3530520"/>
          </a:xfrm>
          <a:prstGeom prst="rect">
            <a:avLst/>
          </a:prstGeom>
          <a:solidFill>
            <a:srgbClr val="3333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 protocol stack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71320" y="1422360"/>
            <a:ext cx="5715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pplicatio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upporting network appl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tp, smtp, htt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ransp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ost-host data transf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cp, ud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etwork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outing of datagrams from source to destin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p, routing protoco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ink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ata transfer between neighboring  network el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pp, eth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hysica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its “on the wir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6508800" y="1828800"/>
            <a:ext cx="1898640" cy="3530520"/>
            <a:chOff x="6508800" y="1828800"/>
            <a:chExt cx="1898640" cy="3530520"/>
          </a:xfrm>
        </p:grpSpPr>
        <p:sp>
          <p:nvSpPr>
            <p:cNvPr id="375" name=""/>
            <p:cNvSpPr/>
            <p:nvPr/>
          </p:nvSpPr>
          <p:spPr>
            <a:xfrm>
              <a:off x="6515280" y="1828800"/>
              <a:ext cx="1892160" cy="3530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23360" y="1982880"/>
              <a:ext cx="150192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08800" y="252072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508800" y="322560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08800" y="393696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508800" y="464832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DD80-8554-4EE7-88CA-D62B7C0969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578640" y="1714680"/>
            <a:ext cx="1892160" cy="3530520"/>
          </a:xfrm>
          <a:prstGeom prst="rect">
            <a:avLst/>
          </a:prstGeom>
          <a:solidFill>
            <a:srgbClr val="3333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les of Layer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71320" y="1422360"/>
            <a:ext cx="5715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pplication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port appl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, ftp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ransp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nd-to-end issu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CP, UD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etwork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ick the route (delays, Qo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SPF, BGP, PI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ink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given a link transfer a pack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hernet, PP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hysica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its “on the wire”, ie. Voltage modul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508800" y="1828800"/>
            <a:ext cx="1898640" cy="3530520"/>
            <a:chOff x="6508800" y="1828800"/>
            <a:chExt cx="1898640" cy="3530520"/>
          </a:xfrm>
        </p:grpSpPr>
        <p:sp>
          <p:nvSpPr>
            <p:cNvPr id="385" name=""/>
            <p:cNvSpPr/>
            <p:nvPr/>
          </p:nvSpPr>
          <p:spPr>
            <a:xfrm>
              <a:off x="6515280" y="1828800"/>
              <a:ext cx="1892160" cy="3530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723360" y="1982880"/>
              <a:ext cx="150192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08800" y="252072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508800" y="322560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08800" y="393696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08800" y="464832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CFAD-6CEE-4FB1-9E8A-FA0C8804B0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asic Routing Concept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cket = postal let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er receives pack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eds to decide which link to send it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alability: decide on local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ers keep “summary” of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loit the hierarchy in the IP addr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C6AD-5FD4-4EB8-91C3-8363B84F8C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P Address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v4 addresses have 32 bits: 4 octets of b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8.32.101.5 is an IP address (32 bi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P prefix is a group of  IP addre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8.32.0.0/16 is a prefix of the first 16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28.32.0.0 – 128.32.255.255      (2^16 address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8.32.4.0/24 is a longer prefix 24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ing: find the longest mat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 prefix in table that matches most bits of the addr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769A-5C08-480A-A658-1BCF9749BE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ypes of Communicatio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rcuit Switching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reserve a slice of resourc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cy division multiplex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 division multiplex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 switch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rtual Circuits: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s keep per connection inf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grams: no per conn. Inform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ion oriented (state at end points, handshake - TCP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ionless (no state at end points - UDP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05DA-7708-44EB-AB64-1E5398D469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ypes of Communicatio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antage of packet switch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ource shar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need for reserv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sier to implement distributed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antage of circuit switch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guarantee performance (Quality of Servic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0466-2763-4545-A79B-B83A6A5930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 more detail…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FBFF-20A3-4C0A-9672-9035D3ED31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he Network Cor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h of interconnected ro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h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fundamental ques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ow is data transferred through ne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ircuit switch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dicated circuit per call: telephone 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acket-switch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ata sent thru net in discrete “chunk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69080" y="219384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89520" y="205092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257800" y="350208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006880" y="2185920"/>
            <a:ext cx="733680" cy="319320"/>
            <a:chOff x="5006880" y="2185920"/>
            <a:chExt cx="733680" cy="319320"/>
          </a:xfrm>
        </p:grpSpPr>
        <p:pic>
          <p:nvPicPr>
            <p:cNvPr id="409" name="" descr=""/>
            <p:cNvPicPr/>
            <p:nvPr/>
          </p:nvPicPr>
          <p:blipFill>
            <a:blip r:embed="rId1"/>
            <a:stretch/>
          </p:blipFill>
          <p:spPr>
            <a:xfrm>
              <a:off x="5006880" y="218592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2"/>
            <a:stretch/>
          </p:blipFill>
          <p:spPr>
            <a:xfrm>
              <a:off x="5460840" y="2304000"/>
              <a:ext cx="2797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 flipV="1">
              <a:off x="5413320" y="242748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006880" y="2781360"/>
            <a:ext cx="733680" cy="318960"/>
            <a:chOff x="5006880" y="2781360"/>
            <a:chExt cx="733680" cy="318960"/>
          </a:xfrm>
        </p:grpSpPr>
        <p:pic>
          <p:nvPicPr>
            <p:cNvPr id="413" name="" descr=""/>
            <p:cNvPicPr/>
            <p:nvPr/>
          </p:nvPicPr>
          <p:blipFill>
            <a:blip r:embed="rId3"/>
            <a:stretch/>
          </p:blipFill>
          <p:spPr>
            <a:xfrm>
              <a:off x="5006880" y="278136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4"/>
            <a:stretch/>
          </p:blipFill>
          <p:spPr>
            <a:xfrm>
              <a:off x="5460840" y="2899440"/>
              <a:ext cx="27972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 flipV="1">
              <a:off x="5413320" y="302292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383080" y="2568600"/>
            <a:ext cx="69480" cy="214200"/>
            <a:chOff x="5383080" y="2568600"/>
            <a:chExt cx="69480" cy="214200"/>
          </a:xfrm>
        </p:grpSpPr>
        <p:sp>
          <p:nvSpPr>
            <p:cNvPr id="417" name=""/>
            <p:cNvSpPr/>
            <p:nvPr/>
          </p:nvSpPr>
          <p:spPr>
            <a:xfrm>
              <a:off x="5383080" y="256860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385600" y="264564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88480" y="272268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853240" y="3071880"/>
            <a:ext cx="209520" cy="394920"/>
            <a:chOff x="5853240" y="3071880"/>
            <a:chExt cx="209520" cy="394920"/>
          </a:xfrm>
        </p:grpSpPr>
        <p:sp>
          <p:nvSpPr>
            <p:cNvPr id="421" name=""/>
            <p:cNvSpPr/>
            <p:nvPr/>
          </p:nvSpPr>
          <p:spPr>
            <a:xfrm>
              <a:off x="5853240" y="337572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59440" y="307440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54320" y="316044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853240" y="30718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062760" y="307800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986800" y="337572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71240" y="320040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883840" y="325332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089760" y="3226320"/>
            <a:ext cx="233280" cy="80280"/>
            <a:chOff x="6089760" y="3226320"/>
            <a:chExt cx="233280" cy="80280"/>
          </a:xfrm>
        </p:grpSpPr>
        <p:sp>
          <p:nvSpPr>
            <p:cNvPr id="430" name=""/>
            <p:cNvSpPr/>
            <p:nvPr/>
          </p:nvSpPr>
          <p:spPr>
            <a:xfrm rot="16200000">
              <a:off x="6085440" y="3236760"/>
              <a:ext cx="7416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6169320" y="3233880"/>
              <a:ext cx="7416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6253200" y="3230640"/>
              <a:ext cx="7416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5989680" y="297972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992920" y="297648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488280" y="2975040"/>
            <a:ext cx="144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89440" y="2440080"/>
            <a:ext cx="289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5702400" y="2725560"/>
            <a:ext cx="27612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6229440" y="281160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6348240" y="3049560"/>
            <a:ext cx="209880" cy="394920"/>
            <a:chOff x="6348240" y="3049560"/>
            <a:chExt cx="209880" cy="394920"/>
          </a:xfrm>
        </p:grpSpPr>
        <p:sp>
          <p:nvSpPr>
            <p:cNvPr id="440" name=""/>
            <p:cNvSpPr/>
            <p:nvPr/>
          </p:nvSpPr>
          <p:spPr>
            <a:xfrm>
              <a:off x="6348240" y="335340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54440" y="3052080"/>
              <a:ext cx="9648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49320" y="3138120"/>
              <a:ext cx="13284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48240" y="304956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558120" y="30556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6482160" y="33534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366240" y="3178080"/>
              <a:ext cx="8820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378840" y="3231000"/>
              <a:ext cx="6696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391000" y="3668760"/>
            <a:ext cx="479160" cy="925200"/>
            <a:chOff x="5391000" y="3668760"/>
            <a:chExt cx="479160" cy="925200"/>
          </a:xfrm>
        </p:grpSpPr>
        <p:pic>
          <p:nvPicPr>
            <p:cNvPr id="449" name="" descr=""/>
            <p:cNvPicPr/>
            <p:nvPr/>
          </p:nvPicPr>
          <p:blipFill>
            <a:blip r:embed="rId5"/>
            <a:stretch/>
          </p:blipFill>
          <p:spPr>
            <a:xfrm>
              <a:off x="5391000" y="36687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 flipV="1">
              <a:off x="5797800" y="391536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1" name="" descr=""/>
            <p:cNvPicPr/>
            <p:nvPr/>
          </p:nvPicPr>
          <p:blipFill>
            <a:blip r:embed="rId6"/>
            <a:stretch/>
          </p:blipFill>
          <p:spPr>
            <a:xfrm>
              <a:off x="5391000" y="426348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 flipV="1">
              <a:off x="5797800" y="451368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5516280" y="4010040"/>
              <a:ext cx="70560" cy="222480"/>
              <a:chOff x="5516280" y="4010040"/>
              <a:chExt cx="70560" cy="222480"/>
            </a:xfrm>
          </p:grpSpPr>
          <p:sp>
            <p:nvSpPr>
              <p:cNvPr id="454" name=""/>
              <p:cNvSpPr/>
              <p:nvPr/>
            </p:nvSpPr>
            <p:spPr>
              <a:xfrm>
                <a:off x="5516280" y="401004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18800" y="408996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521680" y="417024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5864760" y="391248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8" name="" descr=""/>
          <p:cNvPicPr/>
          <p:nvPr/>
        </p:nvPicPr>
        <p:blipFill>
          <a:blip r:embed="rId7"/>
          <a:stretch/>
        </p:blipFill>
        <p:spPr>
          <a:xfrm>
            <a:off x="6259680" y="4678200"/>
            <a:ext cx="417240" cy="33192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8"/>
          <a:stretch/>
        </p:blipFill>
        <p:spPr>
          <a:xfrm>
            <a:off x="5645160" y="466740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 rot="16200000">
            <a:off x="6061680" y="4771080"/>
            <a:ext cx="6336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6146640" y="4768560"/>
            <a:ext cx="63720" cy="66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6224400" y="477324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6513480" y="4624200"/>
            <a:ext cx="1800" cy="6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889600" y="461340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5891040" y="461952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5870520" y="4245120"/>
            <a:ext cx="9360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472080" y="4290840"/>
            <a:ext cx="303480" cy="385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7267680" y="4287960"/>
            <a:ext cx="27936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9"/>
          <a:stretch/>
        </p:blipFill>
        <p:spPr>
          <a:xfrm>
            <a:off x="7445520" y="384012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10"/>
          <a:stretch/>
        </p:blipFill>
        <p:spPr>
          <a:xfrm>
            <a:off x="6108840" y="3921120"/>
            <a:ext cx="203040" cy="23976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6189840" y="369576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6456240" y="5118120"/>
            <a:ext cx="406080" cy="426960"/>
            <a:chOff x="6456240" y="5118120"/>
            <a:chExt cx="406080" cy="426960"/>
          </a:xfrm>
        </p:grpSpPr>
        <p:pic>
          <p:nvPicPr>
            <p:cNvPr id="473" name="" descr=""/>
            <p:cNvPicPr/>
            <p:nvPr/>
          </p:nvPicPr>
          <p:blipFill>
            <a:blip r:embed="rId11"/>
            <a:stretch/>
          </p:blipFill>
          <p:spPr>
            <a:xfrm>
              <a:off x="6456240" y="511812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12"/>
            <a:stretch/>
          </p:blipFill>
          <p:spPr>
            <a:xfrm>
              <a:off x="6516000" y="523008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5" name=""/>
          <p:cNvGrpSpPr/>
          <p:nvPr/>
        </p:nvGrpSpPr>
        <p:grpSpPr>
          <a:xfrm>
            <a:off x="7234200" y="5149800"/>
            <a:ext cx="406080" cy="426960"/>
            <a:chOff x="7234200" y="5149800"/>
            <a:chExt cx="406080" cy="426960"/>
          </a:xfrm>
        </p:grpSpPr>
        <p:pic>
          <p:nvPicPr>
            <p:cNvPr id="476" name="" descr=""/>
            <p:cNvPicPr/>
            <p:nvPr/>
          </p:nvPicPr>
          <p:blipFill>
            <a:blip r:embed="rId13"/>
            <a:stretch/>
          </p:blipFill>
          <p:spPr>
            <a:xfrm>
              <a:off x="7234200" y="51498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14"/>
            <a:stretch/>
          </p:blipFill>
          <p:spPr>
            <a:xfrm>
              <a:off x="7293960" y="52617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8" name=""/>
          <p:cNvGrpSpPr/>
          <p:nvPr/>
        </p:nvGrpSpPr>
        <p:grpSpPr>
          <a:xfrm>
            <a:off x="6819840" y="4865760"/>
            <a:ext cx="379440" cy="376200"/>
            <a:chOff x="6819840" y="4865760"/>
            <a:chExt cx="379440" cy="376200"/>
          </a:xfrm>
        </p:grpSpPr>
        <p:pic>
          <p:nvPicPr>
            <p:cNvPr id="479" name="" descr=""/>
            <p:cNvPicPr/>
            <p:nvPr/>
          </p:nvPicPr>
          <p:blipFill>
            <a:blip r:embed="rId15"/>
            <a:stretch/>
          </p:blipFill>
          <p:spPr>
            <a:xfrm>
              <a:off x="6819840" y="4865760"/>
              <a:ext cx="37944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6930000" y="499788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7126200" y="4768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7846920" y="4192560"/>
            <a:ext cx="208080" cy="409680"/>
            <a:chOff x="7846920" y="4192560"/>
            <a:chExt cx="208080" cy="409680"/>
          </a:xfrm>
        </p:grpSpPr>
        <p:sp>
          <p:nvSpPr>
            <p:cNvPr id="483" name=""/>
            <p:cNvSpPr/>
            <p:nvPr/>
          </p:nvSpPr>
          <p:spPr>
            <a:xfrm>
              <a:off x="7846920" y="45075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52040" y="419508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848000" y="428436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846920" y="41925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055000" y="41990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7979760" y="450756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864560" y="432576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77160" y="43804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7834320" y="4637160"/>
            <a:ext cx="208080" cy="409680"/>
            <a:chOff x="7834320" y="4637160"/>
            <a:chExt cx="208080" cy="409680"/>
          </a:xfrm>
        </p:grpSpPr>
        <p:sp>
          <p:nvSpPr>
            <p:cNvPr id="492" name=""/>
            <p:cNvSpPr/>
            <p:nvPr/>
          </p:nvSpPr>
          <p:spPr>
            <a:xfrm>
              <a:off x="7834320" y="49521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939440" y="463968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835400" y="472896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834320" y="46371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42400" y="46436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7967160" y="495216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51960" y="477036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64560" y="48250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 flipV="1">
            <a:off x="7765920" y="426060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763040" y="4870440"/>
            <a:ext cx="10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59800" y="43941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6483240" y="2490840"/>
            <a:ext cx="459000" cy="20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418520" y="2475000"/>
            <a:ext cx="485640" cy="207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7937640" y="2811600"/>
            <a:ext cx="241200" cy="680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167600" y="258768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192800" y="3235320"/>
            <a:ext cx="535320" cy="36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7652880" y="3700440"/>
            <a:ext cx="26676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7426440" y="2779560"/>
            <a:ext cx="560160" cy="384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7435440" y="2219400"/>
            <a:ext cx="351000" cy="255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8153280" y="2395440"/>
            <a:ext cx="201600" cy="176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7221600" y="4043520"/>
            <a:ext cx="671400" cy="387360"/>
            <a:chOff x="7221600" y="4043520"/>
            <a:chExt cx="671400" cy="387360"/>
          </a:xfrm>
        </p:grpSpPr>
        <p:sp>
          <p:nvSpPr>
            <p:cNvPr id="513" name=""/>
            <p:cNvSpPr/>
            <p:nvPr/>
          </p:nvSpPr>
          <p:spPr>
            <a:xfrm>
              <a:off x="7221600" y="404352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7296120" y="4130640"/>
              <a:ext cx="501120" cy="232920"/>
              <a:chOff x="7296120" y="4130640"/>
              <a:chExt cx="501120" cy="232920"/>
            </a:xfrm>
          </p:grpSpPr>
          <p:sp>
            <p:nvSpPr>
              <p:cNvPr id="515" name=""/>
              <p:cNvSpPr/>
              <p:nvPr/>
            </p:nvSpPr>
            <p:spPr>
              <a:xfrm>
                <a:off x="7300080" y="42346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300080" y="42235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797240" y="42235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300080" y="42235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96120" y="41306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7415640" y="4163400"/>
                <a:ext cx="245880" cy="88200"/>
                <a:chOff x="7415640" y="4163400"/>
                <a:chExt cx="245880" cy="88200"/>
              </a:xfrm>
            </p:grpSpPr>
            <p:sp>
              <p:nvSpPr>
                <p:cNvPr id="521" name=""/>
                <p:cNvSpPr/>
                <p:nvPr/>
              </p:nvSpPr>
              <p:spPr>
                <a:xfrm flipV="1">
                  <a:off x="7415640" y="41634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7584120" y="4251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7496640" y="41655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7415640" y="4162680"/>
                <a:ext cx="245880" cy="88200"/>
                <a:chOff x="7415640" y="4162680"/>
                <a:chExt cx="245880" cy="8820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7415640" y="42490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584120" y="41626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flipV="1">
                  <a:off x="7496640" y="41626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28" name=""/>
          <p:cNvGrpSpPr/>
          <p:nvPr/>
        </p:nvGrpSpPr>
        <p:grpSpPr>
          <a:xfrm>
            <a:off x="7574040" y="3386160"/>
            <a:ext cx="671400" cy="387360"/>
            <a:chOff x="7574040" y="3386160"/>
            <a:chExt cx="671400" cy="387360"/>
          </a:xfrm>
        </p:grpSpPr>
        <p:sp>
          <p:nvSpPr>
            <p:cNvPr id="529" name=""/>
            <p:cNvSpPr/>
            <p:nvPr/>
          </p:nvSpPr>
          <p:spPr>
            <a:xfrm>
              <a:off x="7574040" y="338616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7648560" y="3473280"/>
              <a:ext cx="501120" cy="232920"/>
              <a:chOff x="7648560" y="3473280"/>
              <a:chExt cx="501120" cy="232920"/>
            </a:xfrm>
          </p:grpSpPr>
          <p:sp>
            <p:nvSpPr>
              <p:cNvPr id="531" name=""/>
              <p:cNvSpPr/>
              <p:nvPr/>
            </p:nvSpPr>
            <p:spPr>
              <a:xfrm>
                <a:off x="7652520" y="357732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652520" y="3566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149680" y="3566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652520" y="356616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648560" y="347328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7768080" y="3506040"/>
                <a:ext cx="245880" cy="88200"/>
                <a:chOff x="7768080" y="3506040"/>
                <a:chExt cx="245880" cy="88200"/>
              </a:xfrm>
            </p:grpSpPr>
            <p:sp>
              <p:nvSpPr>
                <p:cNvPr id="537" name=""/>
                <p:cNvSpPr/>
                <p:nvPr/>
              </p:nvSpPr>
              <p:spPr>
                <a:xfrm flipV="1">
                  <a:off x="7768080" y="35060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7936560" y="35942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849080" y="35082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7768080" y="3505320"/>
                <a:ext cx="245880" cy="88200"/>
                <a:chOff x="7768080" y="3505320"/>
                <a:chExt cx="245880" cy="8820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7768080" y="35917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936560" y="3505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V="1">
                  <a:off x="7849080" y="35053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44" name=""/>
          <p:cNvGrpSpPr/>
          <p:nvPr/>
        </p:nvGrpSpPr>
        <p:grpSpPr>
          <a:xfrm>
            <a:off x="6926400" y="2938320"/>
            <a:ext cx="671400" cy="387360"/>
            <a:chOff x="6926400" y="2938320"/>
            <a:chExt cx="671400" cy="387360"/>
          </a:xfrm>
        </p:grpSpPr>
        <p:sp>
          <p:nvSpPr>
            <p:cNvPr id="545" name=""/>
            <p:cNvSpPr/>
            <p:nvPr/>
          </p:nvSpPr>
          <p:spPr>
            <a:xfrm>
              <a:off x="6926400" y="293832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7000920" y="3025440"/>
              <a:ext cx="501120" cy="232920"/>
              <a:chOff x="7000920" y="3025440"/>
              <a:chExt cx="501120" cy="232920"/>
            </a:xfrm>
          </p:grpSpPr>
          <p:sp>
            <p:nvSpPr>
              <p:cNvPr id="547" name=""/>
              <p:cNvSpPr/>
              <p:nvPr/>
            </p:nvSpPr>
            <p:spPr>
              <a:xfrm>
                <a:off x="7004880" y="31294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004880" y="31183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502040" y="31183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004880" y="31183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000920" y="30254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2" name=""/>
              <p:cNvGrpSpPr/>
              <p:nvPr/>
            </p:nvGrpSpPr>
            <p:grpSpPr>
              <a:xfrm>
                <a:off x="7120440" y="3058200"/>
                <a:ext cx="245880" cy="88200"/>
                <a:chOff x="7120440" y="3058200"/>
                <a:chExt cx="245880" cy="88200"/>
              </a:xfrm>
            </p:grpSpPr>
            <p:sp>
              <p:nvSpPr>
                <p:cNvPr id="553" name=""/>
                <p:cNvSpPr/>
                <p:nvPr/>
              </p:nvSpPr>
              <p:spPr>
                <a:xfrm flipV="1">
                  <a:off x="7120440" y="30582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7288920" y="31464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7201440" y="30603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7120440" y="3057480"/>
                <a:ext cx="245880" cy="88200"/>
                <a:chOff x="7120440" y="3057480"/>
                <a:chExt cx="245880" cy="8820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7120440" y="31438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288920" y="3057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flipV="1">
                  <a:off x="7201440" y="30574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60" name=""/>
          <p:cNvGrpSpPr/>
          <p:nvPr/>
        </p:nvGrpSpPr>
        <p:grpSpPr>
          <a:xfrm>
            <a:off x="7745400" y="2462040"/>
            <a:ext cx="671400" cy="387360"/>
            <a:chOff x="7745400" y="2462040"/>
            <a:chExt cx="671400" cy="387360"/>
          </a:xfrm>
        </p:grpSpPr>
        <p:sp>
          <p:nvSpPr>
            <p:cNvPr id="561" name=""/>
            <p:cNvSpPr/>
            <p:nvPr/>
          </p:nvSpPr>
          <p:spPr>
            <a:xfrm>
              <a:off x="7745400" y="246204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7819920" y="2549160"/>
              <a:ext cx="501120" cy="232920"/>
              <a:chOff x="7819920" y="2549160"/>
              <a:chExt cx="501120" cy="232920"/>
            </a:xfrm>
          </p:grpSpPr>
          <p:sp>
            <p:nvSpPr>
              <p:cNvPr id="563" name=""/>
              <p:cNvSpPr/>
              <p:nvPr/>
            </p:nvSpPr>
            <p:spPr>
              <a:xfrm>
                <a:off x="7823880" y="265320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823880" y="26420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321040" y="26420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823880" y="264204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819920" y="254916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8" name=""/>
              <p:cNvGrpSpPr/>
              <p:nvPr/>
            </p:nvGrpSpPr>
            <p:grpSpPr>
              <a:xfrm>
                <a:off x="7939440" y="2581920"/>
                <a:ext cx="245880" cy="88200"/>
                <a:chOff x="7939440" y="2581920"/>
                <a:chExt cx="245880" cy="88200"/>
              </a:xfrm>
            </p:grpSpPr>
            <p:sp>
              <p:nvSpPr>
                <p:cNvPr id="569" name=""/>
                <p:cNvSpPr/>
                <p:nvPr/>
              </p:nvSpPr>
              <p:spPr>
                <a:xfrm flipV="1">
                  <a:off x="7939440" y="25819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8107920" y="26701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020440" y="25840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7939440" y="2581200"/>
                <a:ext cx="245880" cy="88200"/>
                <a:chOff x="7939440" y="2581200"/>
                <a:chExt cx="245880" cy="8820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7939440" y="26676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8107920" y="2581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flipV="1">
                  <a:off x="8020440" y="25812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76" name=""/>
          <p:cNvGrpSpPr/>
          <p:nvPr/>
        </p:nvGrpSpPr>
        <p:grpSpPr>
          <a:xfrm>
            <a:off x="6840360" y="2262240"/>
            <a:ext cx="671760" cy="387360"/>
            <a:chOff x="6840360" y="2262240"/>
            <a:chExt cx="671760" cy="387360"/>
          </a:xfrm>
        </p:grpSpPr>
        <p:sp>
          <p:nvSpPr>
            <p:cNvPr id="577" name=""/>
            <p:cNvSpPr/>
            <p:nvPr/>
          </p:nvSpPr>
          <p:spPr>
            <a:xfrm>
              <a:off x="6840360" y="2262240"/>
              <a:ext cx="67176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6915240" y="2349360"/>
              <a:ext cx="501480" cy="232920"/>
              <a:chOff x="6915240" y="2349360"/>
              <a:chExt cx="501480" cy="232920"/>
            </a:xfrm>
          </p:grpSpPr>
          <p:sp>
            <p:nvSpPr>
              <p:cNvPr id="579" name=""/>
              <p:cNvSpPr/>
              <p:nvPr/>
            </p:nvSpPr>
            <p:spPr>
              <a:xfrm>
                <a:off x="6919200" y="245340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919200" y="24422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416720" y="24422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919200" y="244224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915240" y="234936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4" name=""/>
              <p:cNvGrpSpPr/>
              <p:nvPr/>
            </p:nvGrpSpPr>
            <p:grpSpPr>
              <a:xfrm>
                <a:off x="7034760" y="2382120"/>
                <a:ext cx="246240" cy="88200"/>
                <a:chOff x="7034760" y="2382120"/>
                <a:chExt cx="246240" cy="88200"/>
              </a:xfrm>
            </p:grpSpPr>
            <p:sp>
              <p:nvSpPr>
                <p:cNvPr id="585" name=""/>
                <p:cNvSpPr/>
                <p:nvPr/>
              </p:nvSpPr>
              <p:spPr>
                <a:xfrm flipV="1">
                  <a:off x="7034760" y="2382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203600" y="2470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115760" y="238428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7034760" y="2381400"/>
                <a:ext cx="246240" cy="88200"/>
                <a:chOff x="7034760" y="2381400"/>
                <a:chExt cx="246240" cy="8820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7034760" y="24678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203600" y="23814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V="1">
                  <a:off x="7115760" y="23814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92" name=""/>
          <p:cNvGrpSpPr/>
          <p:nvPr/>
        </p:nvGrpSpPr>
        <p:grpSpPr>
          <a:xfrm>
            <a:off x="5897520" y="2471760"/>
            <a:ext cx="671400" cy="387360"/>
            <a:chOff x="5897520" y="2471760"/>
            <a:chExt cx="671400" cy="387360"/>
          </a:xfrm>
        </p:grpSpPr>
        <p:sp>
          <p:nvSpPr>
            <p:cNvPr id="593" name=""/>
            <p:cNvSpPr/>
            <p:nvPr/>
          </p:nvSpPr>
          <p:spPr>
            <a:xfrm>
              <a:off x="5897520" y="247176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5972040" y="2558880"/>
              <a:ext cx="501120" cy="232920"/>
              <a:chOff x="5972040" y="2558880"/>
              <a:chExt cx="501120" cy="232920"/>
            </a:xfrm>
          </p:grpSpPr>
          <p:sp>
            <p:nvSpPr>
              <p:cNvPr id="595" name=""/>
              <p:cNvSpPr/>
              <p:nvPr/>
            </p:nvSpPr>
            <p:spPr>
              <a:xfrm>
                <a:off x="5976000" y="266292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976000" y="26517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473160" y="26517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976000" y="265176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972040" y="255888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0" name=""/>
              <p:cNvGrpSpPr/>
              <p:nvPr/>
            </p:nvGrpSpPr>
            <p:grpSpPr>
              <a:xfrm>
                <a:off x="6091560" y="2591640"/>
                <a:ext cx="245880" cy="88200"/>
                <a:chOff x="6091560" y="2591640"/>
                <a:chExt cx="245880" cy="88200"/>
              </a:xfrm>
            </p:grpSpPr>
            <p:sp>
              <p:nvSpPr>
                <p:cNvPr id="601" name=""/>
                <p:cNvSpPr/>
                <p:nvPr/>
              </p:nvSpPr>
              <p:spPr>
                <a:xfrm flipV="1">
                  <a:off x="6091560" y="25916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6260040" y="26798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6172560" y="25938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6091560" y="2590920"/>
                <a:ext cx="245880" cy="88200"/>
                <a:chOff x="6091560" y="2590920"/>
                <a:chExt cx="245880" cy="8820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6091560" y="26773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6260040" y="2590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V="1">
                  <a:off x="6172560" y="25909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08" name=""/>
          <p:cNvGrpSpPr/>
          <p:nvPr/>
        </p:nvGrpSpPr>
        <p:grpSpPr>
          <a:xfrm>
            <a:off x="5878440" y="4129200"/>
            <a:ext cx="671760" cy="387360"/>
            <a:chOff x="5878440" y="4129200"/>
            <a:chExt cx="671760" cy="387360"/>
          </a:xfrm>
        </p:grpSpPr>
        <p:sp>
          <p:nvSpPr>
            <p:cNvPr id="609" name=""/>
            <p:cNvSpPr/>
            <p:nvPr/>
          </p:nvSpPr>
          <p:spPr>
            <a:xfrm>
              <a:off x="5878440" y="4129200"/>
              <a:ext cx="67176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5953320" y="4216320"/>
              <a:ext cx="501480" cy="232920"/>
              <a:chOff x="5953320" y="4216320"/>
              <a:chExt cx="501480" cy="232920"/>
            </a:xfrm>
          </p:grpSpPr>
          <p:sp>
            <p:nvSpPr>
              <p:cNvPr id="611" name=""/>
              <p:cNvSpPr/>
              <p:nvPr/>
            </p:nvSpPr>
            <p:spPr>
              <a:xfrm>
                <a:off x="5957280" y="432036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957280" y="4309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454800" y="4309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957280" y="430920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953320" y="421632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6" name=""/>
              <p:cNvGrpSpPr/>
              <p:nvPr/>
            </p:nvGrpSpPr>
            <p:grpSpPr>
              <a:xfrm>
                <a:off x="6072840" y="4249080"/>
                <a:ext cx="246240" cy="88200"/>
                <a:chOff x="6072840" y="4249080"/>
                <a:chExt cx="246240" cy="88200"/>
              </a:xfrm>
            </p:grpSpPr>
            <p:sp>
              <p:nvSpPr>
                <p:cNvPr id="617" name=""/>
                <p:cNvSpPr/>
                <p:nvPr/>
              </p:nvSpPr>
              <p:spPr>
                <a:xfrm flipV="1">
                  <a:off x="6072840" y="4249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6241680" y="4337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6153840" y="42512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6072840" y="4248360"/>
                <a:ext cx="246240" cy="88200"/>
                <a:chOff x="6072840" y="4248360"/>
                <a:chExt cx="246240" cy="8820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6072840" y="4334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6241680" y="42483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V="1">
                  <a:off x="6153840" y="42483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24" name=""/>
          <p:cNvGrpSpPr/>
          <p:nvPr/>
        </p:nvGrpSpPr>
        <p:grpSpPr>
          <a:xfrm>
            <a:off x="6688080" y="4471920"/>
            <a:ext cx="671400" cy="387360"/>
            <a:chOff x="6688080" y="4471920"/>
            <a:chExt cx="671400" cy="387360"/>
          </a:xfrm>
        </p:grpSpPr>
        <p:sp>
          <p:nvSpPr>
            <p:cNvPr id="625" name=""/>
            <p:cNvSpPr/>
            <p:nvPr/>
          </p:nvSpPr>
          <p:spPr>
            <a:xfrm>
              <a:off x="6688080" y="447192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6762600" y="4559040"/>
              <a:ext cx="501120" cy="232920"/>
              <a:chOff x="6762600" y="4559040"/>
              <a:chExt cx="501120" cy="232920"/>
            </a:xfrm>
          </p:grpSpPr>
          <p:sp>
            <p:nvSpPr>
              <p:cNvPr id="627" name=""/>
              <p:cNvSpPr/>
              <p:nvPr/>
            </p:nvSpPr>
            <p:spPr>
              <a:xfrm>
                <a:off x="6766560" y="46630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766560" y="4651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263720" y="4651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766560" y="46519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762600" y="45590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2" name=""/>
              <p:cNvGrpSpPr/>
              <p:nvPr/>
            </p:nvGrpSpPr>
            <p:grpSpPr>
              <a:xfrm>
                <a:off x="6882120" y="4591800"/>
                <a:ext cx="245880" cy="88200"/>
                <a:chOff x="6882120" y="4591800"/>
                <a:chExt cx="245880" cy="88200"/>
              </a:xfrm>
            </p:grpSpPr>
            <p:sp>
              <p:nvSpPr>
                <p:cNvPr id="633" name=""/>
                <p:cNvSpPr/>
                <p:nvPr/>
              </p:nvSpPr>
              <p:spPr>
                <a:xfrm flipV="1">
                  <a:off x="6882120" y="45918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7050600" y="4680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963120" y="45939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6882120" y="4591080"/>
                <a:ext cx="245880" cy="88200"/>
                <a:chOff x="6882120" y="4591080"/>
                <a:chExt cx="245880" cy="8820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6882120" y="46774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7050600" y="45910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flipV="1">
                  <a:off x="6963120" y="45910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40" name=""/>
          <p:cNvSpPr/>
          <p:nvPr/>
        </p:nvSpPr>
        <p:spPr>
          <a:xfrm flipV="1">
            <a:off x="6210360" y="445932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C3BD-DD9D-401A-8E3D-A553C7B00C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he Interne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network of networ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erarchical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e possible lev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official lev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ra-domain: within an Autonomous System (A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-domain: between Autonomous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: autonomously administered part of the 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es  are identified by their AS numb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7290-74F3-4015-82C3-64CDC14481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Core: Circuit Switch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nd-end resources reserved for “cal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 bandwidth,  switch capac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dicated resources: no sha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ircuit-like (guaranteed)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ll setup requi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"/>
          <p:cNvSpPr/>
          <p:nvPr/>
        </p:nvSpPr>
        <p:spPr>
          <a:xfrm>
            <a:off x="6711840" y="1717560"/>
            <a:ext cx="2046240" cy="204948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75240" y="1542960"/>
            <a:ext cx="2122560" cy="194328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94280" y="3317760"/>
            <a:ext cx="3382920" cy="271476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4708440" y="1708200"/>
            <a:ext cx="834840" cy="390600"/>
            <a:chOff x="4708440" y="1708200"/>
            <a:chExt cx="834840" cy="390600"/>
          </a:xfrm>
        </p:grpSpPr>
        <p:pic>
          <p:nvPicPr>
            <p:cNvPr id="647" name="" descr=""/>
            <p:cNvPicPr/>
            <p:nvPr/>
          </p:nvPicPr>
          <p:blipFill>
            <a:blip r:embed="rId1"/>
            <a:stretch/>
          </p:blipFill>
          <p:spPr>
            <a:xfrm>
              <a:off x="4708440" y="1708200"/>
              <a:ext cx="47376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" descr=""/>
            <p:cNvPicPr/>
            <p:nvPr/>
          </p:nvPicPr>
          <p:blipFill>
            <a:blip r:embed="rId2"/>
            <a:stretch/>
          </p:blipFill>
          <p:spPr>
            <a:xfrm>
              <a:off x="5225040" y="1852920"/>
              <a:ext cx="31824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 flipV="1">
              <a:off x="5171040" y="2004120"/>
              <a:ext cx="12996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08440" y="2436840"/>
            <a:ext cx="834840" cy="390600"/>
            <a:chOff x="4708440" y="2436840"/>
            <a:chExt cx="834840" cy="390600"/>
          </a:xfrm>
        </p:grpSpPr>
        <p:pic>
          <p:nvPicPr>
            <p:cNvPr id="651" name="" descr=""/>
            <p:cNvPicPr/>
            <p:nvPr/>
          </p:nvPicPr>
          <p:blipFill>
            <a:blip r:embed="rId3"/>
            <a:stretch/>
          </p:blipFill>
          <p:spPr>
            <a:xfrm>
              <a:off x="4708440" y="2436840"/>
              <a:ext cx="47376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4"/>
            <a:stretch/>
          </p:blipFill>
          <p:spPr>
            <a:xfrm>
              <a:off x="5225040" y="2581560"/>
              <a:ext cx="31824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 flipV="1">
              <a:off x="5171040" y="2732760"/>
              <a:ext cx="12996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5137200" y="2176560"/>
            <a:ext cx="78840" cy="261360"/>
            <a:chOff x="5137200" y="2176560"/>
            <a:chExt cx="78840" cy="261360"/>
          </a:xfrm>
        </p:grpSpPr>
        <p:sp>
          <p:nvSpPr>
            <p:cNvPr id="655" name=""/>
            <p:cNvSpPr/>
            <p:nvPr/>
          </p:nvSpPr>
          <p:spPr>
            <a:xfrm>
              <a:off x="5137200" y="2176560"/>
              <a:ext cx="72720" cy="738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40080" y="2270520"/>
              <a:ext cx="72720" cy="73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43320" y="2364480"/>
              <a:ext cx="72720" cy="73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5670720" y="2792520"/>
            <a:ext cx="237960" cy="482040"/>
            <a:chOff x="5670720" y="2792520"/>
            <a:chExt cx="237960" cy="482040"/>
          </a:xfrm>
        </p:grpSpPr>
        <p:sp>
          <p:nvSpPr>
            <p:cNvPr id="659" name=""/>
            <p:cNvSpPr/>
            <p:nvPr/>
          </p:nvSpPr>
          <p:spPr>
            <a:xfrm>
              <a:off x="5670720" y="3163320"/>
              <a:ext cx="237960" cy="111240"/>
            </a:xfrm>
            <a:prstGeom prst="parallelogram">
              <a:avLst>
                <a:gd name="adj" fmla="val 8240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791320" y="2795400"/>
              <a:ext cx="109440" cy="3704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672160" y="2900520"/>
              <a:ext cx="150840" cy="3708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670720" y="2792520"/>
              <a:ext cx="237960" cy="111240"/>
            </a:xfrm>
            <a:prstGeom prst="parallelogram">
              <a:avLst>
                <a:gd name="adj" fmla="val 8240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08680" y="2800080"/>
              <a:ext cx="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5823000" y="3163320"/>
              <a:ext cx="8568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691240" y="2949480"/>
              <a:ext cx="100080" cy="213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705640" y="3013920"/>
              <a:ext cx="7596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5940360" y="2980080"/>
            <a:ext cx="265320" cy="99720"/>
            <a:chOff x="5940360" y="2980080"/>
            <a:chExt cx="265320" cy="99720"/>
          </a:xfrm>
        </p:grpSpPr>
        <p:sp>
          <p:nvSpPr>
            <p:cNvPr id="668" name=""/>
            <p:cNvSpPr/>
            <p:nvPr/>
          </p:nvSpPr>
          <p:spPr>
            <a:xfrm rot="16200000">
              <a:off x="5931720" y="2996280"/>
              <a:ext cx="91800" cy="74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16200000">
              <a:off x="6027120" y="2992680"/>
              <a:ext cx="91800" cy="74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6200000">
              <a:off x="6122520" y="2988720"/>
              <a:ext cx="91800" cy="74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5826240" y="2679840"/>
            <a:ext cx="563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829480" y="2674800"/>
            <a:ext cx="2880" cy="1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392880" y="2673360"/>
            <a:ext cx="144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484960" y="2019240"/>
            <a:ext cx="328320" cy="32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5499000" y="2368440"/>
            <a:ext cx="31428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6099120" y="2473200"/>
            <a:ext cx="180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6234120" y="2763720"/>
            <a:ext cx="237960" cy="483840"/>
            <a:chOff x="6234120" y="2763720"/>
            <a:chExt cx="237960" cy="483840"/>
          </a:xfrm>
        </p:grpSpPr>
        <p:sp>
          <p:nvSpPr>
            <p:cNvPr id="678" name=""/>
            <p:cNvSpPr/>
            <p:nvPr/>
          </p:nvSpPr>
          <p:spPr>
            <a:xfrm>
              <a:off x="6234120" y="313596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354720" y="2766600"/>
              <a:ext cx="109440" cy="37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235560" y="2872080"/>
              <a:ext cx="150840" cy="372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234120" y="276372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72080" y="2771280"/>
              <a:ext cx="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6386400" y="3135960"/>
              <a:ext cx="8568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254640" y="2921400"/>
              <a:ext cx="100080" cy="21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69040" y="2985840"/>
              <a:ext cx="7596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145120" y="3521160"/>
            <a:ext cx="546120" cy="1132920"/>
            <a:chOff x="5145120" y="3521160"/>
            <a:chExt cx="546120" cy="1132920"/>
          </a:xfrm>
        </p:grpSpPr>
        <p:pic>
          <p:nvPicPr>
            <p:cNvPr id="687" name="" descr=""/>
            <p:cNvPicPr/>
            <p:nvPr/>
          </p:nvPicPr>
          <p:blipFill>
            <a:blip r:embed="rId5"/>
            <a:stretch/>
          </p:blipFill>
          <p:spPr>
            <a:xfrm>
              <a:off x="5145120" y="3521160"/>
              <a:ext cx="474480" cy="4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 flipV="1">
              <a:off x="5608440" y="3823200"/>
              <a:ext cx="8280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9" name="" descr=""/>
            <p:cNvPicPr/>
            <p:nvPr/>
          </p:nvPicPr>
          <p:blipFill>
            <a:blip r:embed="rId6"/>
            <a:stretch/>
          </p:blipFill>
          <p:spPr>
            <a:xfrm>
              <a:off x="5145120" y="4249080"/>
              <a:ext cx="474480" cy="4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 flipV="1">
              <a:off x="5608440" y="4555800"/>
              <a:ext cx="828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5288040" y="3939120"/>
              <a:ext cx="81000" cy="272160"/>
              <a:chOff x="5288040" y="3939120"/>
              <a:chExt cx="81000" cy="272160"/>
            </a:xfrm>
          </p:grpSpPr>
          <p:sp>
            <p:nvSpPr>
              <p:cNvPr id="692" name=""/>
              <p:cNvSpPr/>
              <p:nvPr/>
            </p:nvSpPr>
            <p:spPr>
              <a:xfrm>
                <a:off x="5288040" y="3939120"/>
                <a:ext cx="74520" cy="766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291280" y="4037040"/>
                <a:ext cx="74520" cy="763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294520" y="4134960"/>
                <a:ext cx="74520" cy="763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5684760" y="3819600"/>
              <a:ext cx="0" cy="73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6" name="" descr=""/>
          <p:cNvPicPr/>
          <p:nvPr/>
        </p:nvPicPr>
        <p:blipFill>
          <a:blip r:embed="rId7"/>
          <a:stretch/>
        </p:blipFill>
        <p:spPr>
          <a:xfrm>
            <a:off x="6132600" y="4756320"/>
            <a:ext cx="476280" cy="40608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8"/>
          <a:stretch/>
        </p:blipFill>
        <p:spPr>
          <a:xfrm>
            <a:off x="5433840" y="4743360"/>
            <a:ext cx="473400" cy="40320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 rot="16200000">
            <a:off x="5906160" y="4872600"/>
            <a:ext cx="76320" cy="745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6002280" y="4870440"/>
            <a:ext cx="77760" cy="745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rot="16200000">
            <a:off x="6090120" y="4875840"/>
            <a:ext cx="76320" cy="745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6421320" y="4690800"/>
            <a:ext cx="324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5711760" y="4676760"/>
            <a:ext cx="0" cy="7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5715000" y="4684680"/>
            <a:ext cx="71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691240" y="4225680"/>
            <a:ext cx="10620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375240" y="4282920"/>
            <a:ext cx="344520" cy="4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7280280" y="4278240"/>
            <a:ext cx="31752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9"/>
          <a:stretch/>
        </p:blipFill>
        <p:spPr>
          <a:xfrm>
            <a:off x="7481880" y="3732120"/>
            <a:ext cx="231840" cy="29376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10"/>
          <a:stretch/>
        </p:blipFill>
        <p:spPr>
          <a:xfrm>
            <a:off x="5961240" y="3830760"/>
            <a:ext cx="231480" cy="29340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6053040" y="3554280"/>
            <a:ext cx="1540080" cy="3733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6356520" y="5294160"/>
            <a:ext cx="462960" cy="522000"/>
            <a:chOff x="6356520" y="5294160"/>
            <a:chExt cx="462960" cy="522000"/>
          </a:xfrm>
        </p:grpSpPr>
        <p:pic>
          <p:nvPicPr>
            <p:cNvPr id="711" name="" descr=""/>
            <p:cNvPicPr/>
            <p:nvPr/>
          </p:nvPicPr>
          <p:blipFill>
            <a:blip r:embed="rId11"/>
            <a:stretch/>
          </p:blipFill>
          <p:spPr>
            <a:xfrm>
              <a:off x="6356520" y="5294160"/>
              <a:ext cx="43128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" descr=""/>
            <p:cNvPicPr/>
            <p:nvPr/>
          </p:nvPicPr>
          <p:blipFill>
            <a:blip r:embed="rId12"/>
            <a:stretch/>
          </p:blipFill>
          <p:spPr>
            <a:xfrm>
              <a:off x="6424560" y="5430960"/>
              <a:ext cx="394920" cy="38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3" name=""/>
          <p:cNvGrpSpPr/>
          <p:nvPr/>
        </p:nvGrpSpPr>
        <p:grpSpPr>
          <a:xfrm>
            <a:off x="7242120" y="5334120"/>
            <a:ext cx="461520" cy="521640"/>
            <a:chOff x="7242120" y="5334120"/>
            <a:chExt cx="461520" cy="521640"/>
          </a:xfrm>
        </p:grpSpPr>
        <p:pic>
          <p:nvPicPr>
            <p:cNvPr id="714" name="" descr=""/>
            <p:cNvPicPr/>
            <p:nvPr/>
          </p:nvPicPr>
          <p:blipFill>
            <a:blip r:embed="rId13"/>
            <a:stretch/>
          </p:blipFill>
          <p:spPr>
            <a:xfrm>
              <a:off x="7242120" y="5334120"/>
              <a:ext cx="42984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" descr=""/>
            <p:cNvPicPr/>
            <p:nvPr/>
          </p:nvPicPr>
          <p:blipFill>
            <a:blip r:embed="rId14"/>
            <a:stretch/>
          </p:blipFill>
          <p:spPr>
            <a:xfrm>
              <a:off x="7310160" y="5470920"/>
              <a:ext cx="393480" cy="38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6" name=""/>
          <p:cNvGrpSpPr/>
          <p:nvPr/>
        </p:nvGrpSpPr>
        <p:grpSpPr>
          <a:xfrm>
            <a:off x="6770520" y="4986360"/>
            <a:ext cx="432000" cy="460080"/>
            <a:chOff x="6770520" y="4986360"/>
            <a:chExt cx="432000" cy="460080"/>
          </a:xfrm>
        </p:grpSpPr>
        <p:pic>
          <p:nvPicPr>
            <p:cNvPr id="717" name="" descr=""/>
            <p:cNvPicPr/>
            <p:nvPr/>
          </p:nvPicPr>
          <p:blipFill>
            <a:blip r:embed="rId15"/>
            <a:stretch/>
          </p:blipFill>
          <p:spPr>
            <a:xfrm>
              <a:off x="6770520" y="4986360"/>
              <a:ext cx="43200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"/>
            <p:cNvSpPr/>
            <p:nvPr/>
          </p:nvSpPr>
          <p:spPr>
            <a:xfrm>
              <a:off x="6896160" y="5148000"/>
              <a:ext cx="304560" cy="298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7118280" y="486720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7939080" y="4162320"/>
            <a:ext cx="236520" cy="501480"/>
            <a:chOff x="7939080" y="4162320"/>
            <a:chExt cx="236520" cy="501480"/>
          </a:xfrm>
        </p:grpSpPr>
        <p:sp>
          <p:nvSpPr>
            <p:cNvPr id="721" name=""/>
            <p:cNvSpPr/>
            <p:nvPr/>
          </p:nvSpPr>
          <p:spPr>
            <a:xfrm>
              <a:off x="7939080" y="4547880"/>
              <a:ext cx="236520" cy="115920"/>
            </a:xfrm>
            <a:prstGeom prst="parallelogram">
              <a:avLst>
                <a:gd name="adj" fmla="val 7860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058600" y="4165560"/>
              <a:ext cx="108720" cy="3852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940160" y="4274640"/>
              <a:ext cx="149760" cy="385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39080" y="4162320"/>
              <a:ext cx="236520" cy="115920"/>
            </a:xfrm>
            <a:prstGeom prst="parallelogram">
              <a:avLst>
                <a:gd name="adj" fmla="val 7860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175600" y="41702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8090280" y="4547880"/>
              <a:ext cx="8496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959240" y="4325760"/>
              <a:ext cx="99360" cy="22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973640" y="4392720"/>
              <a:ext cx="75240" cy="7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7924680" y="4707000"/>
            <a:ext cx="236520" cy="499680"/>
            <a:chOff x="7924680" y="4707000"/>
            <a:chExt cx="236520" cy="499680"/>
          </a:xfrm>
        </p:grpSpPr>
        <p:sp>
          <p:nvSpPr>
            <p:cNvPr id="730" name=""/>
            <p:cNvSpPr/>
            <p:nvPr/>
          </p:nvSpPr>
          <p:spPr>
            <a:xfrm>
              <a:off x="7924680" y="5091120"/>
              <a:ext cx="236520" cy="115560"/>
            </a:xfrm>
            <a:prstGeom prst="parallelogram">
              <a:avLst>
                <a:gd name="adj" fmla="val 7884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044200" y="4710240"/>
              <a:ext cx="108720" cy="3837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925760" y="4818960"/>
              <a:ext cx="149760" cy="384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924680" y="4707000"/>
              <a:ext cx="236520" cy="115560"/>
            </a:xfrm>
            <a:prstGeom prst="parallelogram">
              <a:avLst>
                <a:gd name="adj" fmla="val 7884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161200" y="4714920"/>
              <a:ext cx="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8075880" y="5091120"/>
              <a:ext cx="84960" cy="11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944840" y="4869720"/>
              <a:ext cx="99360" cy="221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959240" y="4936680"/>
              <a:ext cx="7524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 flipV="1">
            <a:off x="7846920" y="4246200"/>
            <a:ext cx="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842240" y="4991040"/>
            <a:ext cx="11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839000" y="440856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6388200" y="2081160"/>
            <a:ext cx="52056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451640" y="2062080"/>
            <a:ext cx="55260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8042400" y="2473200"/>
            <a:ext cx="27288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165800" y="2198520"/>
            <a:ext cx="0" cy="5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194600" y="2990880"/>
            <a:ext cx="60804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7718400" y="3560760"/>
            <a:ext cx="303120" cy="44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7459200" y="2433600"/>
            <a:ext cx="63828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7470360" y="1749600"/>
            <a:ext cx="398520" cy="31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8286480" y="1963800"/>
            <a:ext cx="23004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5797440" y="2198520"/>
            <a:ext cx="569880" cy="285480"/>
            <a:chOff x="5797440" y="2198520"/>
            <a:chExt cx="569880" cy="285480"/>
          </a:xfrm>
        </p:grpSpPr>
        <p:sp>
          <p:nvSpPr>
            <p:cNvPr id="751" name=""/>
            <p:cNvSpPr/>
            <p:nvPr/>
          </p:nvSpPr>
          <p:spPr>
            <a:xfrm>
              <a:off x="5801760" y="2325960"/>
              <a:ext cx="565200" cy="158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801760" y="23126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367320" y="23126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01760" y="2312640"/>
              <a:ext cx="560160" cy="9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797440" y="2198520"/>
              <a:ext cx="564840" cy="184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5933160" y="2239200"/>
              <a:ext cx="279720" cy="107640"/>
              <a:chOff x="5933160" y="2239200"/>
              <a:chExt cx="279720" cy="107640"/>
            </a:xfrm>
          </p:grpSpPr>
          <p:sp>
            <p:nvSpPr>
              <p:cNvPr id="757" name=""/>
              <p:cNvSpPr/>
              <p:nvPr/>
            </p:nvSpPr>
            <p:spPr>
              <a:xfrm flipV="1">
                <a:off x="5933160" y="22392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125040" y="23468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024960" y="224136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5933160" y="2237400"/>
              <a:ext cx="279720" cy="107640"/>
              <a:chOff x="5933160" y="2237400"/>
              <a:chExt cx="279720" cy="107640"/>
            </a:xfrm>
          </p:grpSpPr>
          <p:sp>
            <p:nvSpPr>
              <p:cNvPr id="761" name=""/>
              <p:cNvSpPr/>
              <p:nvPr/>
            </p:nvSpPr>
            <p:spPr>
              <a:xfrm>
                <a:off x="5933160" y="23428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125040" y="22374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6024960" y="223740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6880320" y="1919160"/>
            <a:ext cx="571320" cy="285480"/>
            <a:chOff x="6880320" y="1919160"/>
            <a:chExt cx="571320" cy="285480"/>
          </a:xfrm>
        </p:grpSpPr>
        <p:sp>
          <p:nvSpPr>
            <p:cNvPr id="765" name=""/>
            <p:cNvSpPr/>
            <p:nvPr/>
          </p:nvSpPr>
          <p:spPr>
            <a:xfrm>
              <a:off x="6884640" y="2046600"/>
              <a:ext cx="566640" cy="158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884640" y="203328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51640" y="203328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884640" y="2033280"/>
              <a:ext cx="561600" cy="9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880320" y="1919160"/>
              <a:ext cx="566280" cy="184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7016400" y="1959840"/>
              <a:ext cx="280440" cy="107640"/>
              <a:chOff x="7016400" y="1959840"/>
              <a:chExt cx="280440" cy="107640"/>
            </a:xfrm>
          </p:grpSpPr>
          <p:sp>
            <p:nvSpPr>
              <p:cNvPr id="771" name=""/>
              <p:cNvSpPr/>
              <p:nvPr/>
            </p:nvSpPr>
            <p:spPr>
              <a:xfrm flipV="1">
                <a:off x="7016400" y="1959840"/>
                <a:ext cx="100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208640" y="2067480"/>
                <a:ext cx="8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108560" y="1962000"/>
                <a:ext cx="10404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7016400" y="1958040"/>
              <a:ext cx="280440" cy="107640"/>
              <a:chOff x="7016400" y="1958040"/>
              <a:chExt cx="280440" cy="107640"/>
            </a:xfrm>
          </p:grpSpPr>
          <p:sp>
            <p:nvSpPr>
              <p:cNvPr id="775" name=""/>
              <p:cNvSpPr/>
              <p:nvPr/>
            </p:nvSpPr>
            <p:spPr>
              <a:xfrm>
                <a:off x="7016400" y="2063520"/>
                <a:ext cx="100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208640" y="1958040"/>
                <a:ext cx="8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V="1">
                <a:off x="7108560" y="1958040"/>
                <a:ext cx="10404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8" name=""/>
          <p:cNvGrpSpPr/>
          <p:nvPr/>
        </p:nvGrpSpPr>
        <p:grpSpPr>
          <a:xfrm>
            <a:off x="6900840" y="2724120"/>
            <a:ext cx="569880" cy="285480"/>
            <a:chOff x="6900840" y="2724120"/>
            <a:chExt cx="569880" cy="285480"/>
          </a:xfrm>
        </p:grpSpPr>
        <p:sp>
          <p:nvSpPr>
            <p:cNvPr id="779" name=""/>
            <p:cNvSpPr/>
            <p:nvPr/>
          </p:nvSpPr>
          <p:spPr>
            <a:xfrm>
              <a:off x="6905160" y="2851560"/>
              <a:ext cx="565200" cy="158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905160" y="28382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470720" y="28382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05160" y="2838240"/>
              <a:ext cx="560160" cy="9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900840" y="2724120"/>
              <a:ext cx="564840" cy="184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7036560" y="2764800"/>
              <a:ext cx="279720" cy="107640"/>
              <a:chOff x="7036560" y="2764800"/>
              <a:chExt cx="279720" cy="107640"/>
            </a:xfrm>
          </p:grpSpPr>
          <p:sp>
            <p:nvSpPr>
              <p:cNvPr id="785" name=""/>
              <p:cNvSpPr/>
              <p:nvPr/>
            </p:nvSpPr>
            <p:spPr>
              <a:xfrm flipV="1">
                <a:off x="7036560" y="27648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228440" y="28724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128360" y="276696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7036560" y="2763000"/>
              <a:ext cx="279720" cy="107640"/>
              <a:chOff x="7036560" y="2763000"/>
              <a:chExt cx="279720" cy="107640"/>
            </a:xfrm>
          </p:grpSpPr>
          <p:sp>
            <p:nvSpPr>
              <p:cNvPr id="789" name=""/>
              <p:cNvSpPr/>
              <p:nvPr/>
            </p:nvSpPr>
            <p:spPr>
              <a:xfrm>
                <a:off x="7036560" y="28684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228440" y="27630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V="1">
                <a:off x="7128360" y="276300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"/>
          <p:cNvGrpSpPr/>
          <p:nvPr/>
        </p:nvGrpSpPr>
        <p:grpSpPr>
          <a:xfrm>
            <a:off x="8004240" y="2174760"/>
            <a:ext cx="568440" cy="284040"/>
            <a:chOff x="8004240" y="2174760"/>
            <a:chExt cx="568440" cy="284040"/>
          </a:xfrm>
        </p:grpSpPr>
        <p:sp>
          <p:nvSpPr>
            <p:cNvPr id="793" name=""/>
            <p:cNvSpPr/>
            <p:nvPr/>
          </p:nvSpPr>
          <p:spPr>
            <a:xfrm>
              <a:off x="8008560" y="2301480"/>
              <a:ext cx="56376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008560" y="22881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572680" y="22881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008560" y="2288160"/>
              <a:ext cx="55872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004240" y="2174760"/>
              <a:ext cx="56340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8139600" y="2215080"/>
              <a:ext cx="278640" cy="107280"/>
              <a:chOff x="8139600" y="2215080"/>
              <a:chExt cx="278640" cy="107280"/>
            </a:xfrm>
          </p:grpSpPr>
          <p:sp>
            <p:nvSpPr>
              <p:cNvPr id="799" name=""/>
              <p:cNvSpPr/>
              <p:nvPr/>
            </p:nvSpPr>
            <p:spPr>
              <a:xfrm flipV="1">
                <a:off x="8139600" y="221508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330760" y="232236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231400" y="2217240"/>
                <a:ext cx="10332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8139600" y="2213640"/>
              <a:ext cx="278640" cy="107280"/>
              <a:chOff x="8139600" y="2213640"/>
              <a:chExt cx="278640" cy="107280"/>
            </a:xfrm>
          </p:grpSpPr>
          <p:sp>
            <p:nvSpPr>
              <p:cNvPr id="803" name=""/>
              <p:cNvSpPr/>
              <p:nvPr/>
            </p:nvSpPr>
            <p:spPr>
              <a:xfrm>
                <a:off x="8139600" y="231876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330760" y="221364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8231400" y="2213640"/>
                <a:ext cx="10332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6" name=""/>
          <p:cNvGrpSpPr/>
          <p:nvPr/>
        </p:nvGrpSpPr>
        <p:grpSpPr>
          <a:xfrm>
            <a:off x="7783560" y="3271680"/>
            <a:ext cx="569880" cy="284040"/>
            <a:chOff x="7783560" y="3271680"/>
            <a:chExt cx="569880" cy="284040"/>
          </a:xfrm>
        </p:grpSpPr>
        <p:sp>
          <p:nvSpPr>
            <p:cNvPr id="807" name=""/>
            <p:cNvSpPr/>
            <p:nvPr/>
          </p:nvSpPr>
          <p:spPr>
            <a:xfrm>
              <a:off x="7787880" y="3398400"/>
              <a:ext cx="56520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787880" y="338508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353440" y="338508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787880" y="3385080"/>
              <a:ext cx="56016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783560" y="3271680"/>
              <a:ext cx="56484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7919280" y="3312000"/>
              <a:ext cx="279720" cy="107280"/>
              <a:chOff x="7919280" y="3312000"/>
              <a:chExt cx="279720" cy="107280"/>
            </a:xfrm>
          </p:grpSpPr>
          <p:sp>
            <p:nvSpPr>
              <p:cNvPr id="813" name=""/>
              <p:cNvSpPr/>
              <p:nvPr/>
            </p:nvSpPr>
            <p:spPr>
              <a:xfrm flipV="1">
                <a:off x="7919280" y="33120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111160" y="341928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011080" y="331416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7919280" y="3310560"/>
              <a:ext cx="279720" cy="107280"/>
              <a:chOff x="7919280" y="3310560"/>
              <a:chExt cx="279720" cy="107280"/>
            </a:xfrm>
          </p:grpSpPr>
          <p:sp>
            <p:nvSpPr>
              <p:cNvPr id="817" name=""/>
              <p:cNvSpPr/>
              <p:nvPr/>
            </p:nvSpPr>
            <p:spPr>
              <a:xfrm>
                <a:off x="7919280" y="34156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8111160" y="33105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8011080" y="331056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0" name=""/>
          <p:cNvGrpSpPr/>
          <p:nvPr/>
        </p:nvGrpSpPr>
        <p:grpSpPr>
          <a:xfrm>
            <a:off x="7404120" y="3986280"/>
            <a:ext cx="569880" cy="286920"/>
            <a:chOff x="7404120" y="3986280"/>
            <a:chExt cx="569880" cy="286920"/>
          </a:xfrm>
        </p:grpSpPr>
        <p:sp>
          <p:nvSpPr>
            <p:cNvPr id="821" name=""/>
            <p:cNvSpPr/>
            <p:nvPr/>
          </p:nvSpPr>
          <p:spPr>
            <a:xfrm>
              <a:off x="7408440" y="4114440"/>
              <a:ext cx="565200" cy="1587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408440" y="410076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974000" y="410076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408440" y="4100760"/>
              <a:ext cx="560160" cy="9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404120" y="3986280"/>
              <a:ext cx="564840" cy="1854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"/>
            <p:cNvGrpSpPr/>
            <p:nvPr/>
          </p:nvGrpSpPr>
          <p:grpSpPr>
            <a:xfrm>
              <a:off x="7539840" y="4026960"/>
              <a:ext cx="279720" cy="108360"/>
              <a:chOff x="7539840" y="4026960"/>
              <a:chExt cx="279720" cy="108360"/>
            </a:xfrm>
          </p:grpSpPr>
          <p:sp>
            <p:nvSpPr>
              <p:cNvPr id="827" name=""/>
              <p:cNvSpPr/>
              <p:nvPr/>
            </p:nvSpPr>
            <p:spPr>
              <a:xfrm flipV="1">
                <a:off x="7539840" y="402696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731720" y="413532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631640" y="4029120"/>
                <a:ext cx="1036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7539840" y="4025160"/>
              <a:ext cx="279720" cy="108360"/>
              <a:chOff x="7539840" y="4025160"/>
              <a:chExt cx="279720" cy="108360"/>
            </a:xfrm>
          </p:grpSpPr>
          <p:sp>
            <p:nvSpPr>
              <p:cNvPr id="831" name=""/>
              <p:cNvSpPr/>
              <p:nvPr/>
            </p:nvSpPr>
            <p:spPr>
              <a:xfrm>
                <a:off x="7539840" y="413136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731720" y="40251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7631640" y="4025160"/>
                <a:ext cx="1036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4" name=""/>
          <p:cNvGrpSpPr/>
          <p:nvPr/>
        </p:nvGrpSpPr>
        <p:grpSpPr>
          <a:xfrm>
            <a:off x="6710400" y="4584600"/>
            <a:ext cx="569880" cy="284040"/>
            <a:chOff x="6710400" y="4584600"/>
            <a:chExt cx="569880" cy="284040"/>
          </a:xfrm>
        </p:grpSpPr>
        <p:sp>
          <p:nvSpPr>
            <p:cNvPr id="835" name=""/>
            <p:cNvSpPr/>
            <p:nvPr/>
          </p:nvSpPr>
          <p:spPr>
            <a:xfrm>
              <a:off x="6714720" y="4711320"/>
              <a:ext cx="56520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714720" y="469800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280280" y="469800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714720" y="4698000"/>
              <a:ext cx="56016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710400" y="4584600"/>
              <a:ext cx="56484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" name=""/>
            <p:cNvGrpSpPr/>
            <p:nvPr/>
          </p:nvGrpSpPr>
          <p:grpSpPr>
            <a:xfrm>
              <a:off x="6846120" y="4624920"/>
              <a:ext cx="279720" cy="107280"/>
              <a:chOff x="6846120" y="4624920"/>
              <a:chExt cx="279720" cy="107280"/>
            </a:xfrm>
          </p:grpSpPr>
          <p:sp>
            <p:nvSpPr>
              <p:cNvPr id="841" name=""/>
              <p:cNvSpPr/>
              <p:nvPr/>
            </p:nvSpPr>
            <p:spPr>
              <a:xfrm flipV="1">
                <a:off x="6846120" y="462492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038000" y="47322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937920" y="462708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6846120" y="4623480"/>
              <a:ext cx="279720" cy="107280"/>
              <a:chOff x="6846120" y="4623480"/>
              <a:chExt cx="279720" cy="107280"/>
            </a:xfrm>
          </p:grpSpPr>
          <p:sp>
            <p:nvSpPr>
              <p:cNvPr id="845" name=""/>
              <p:cNvSpPr/>
              <p:nvPr/>
            </p:nvSpPr>
            <p:spPr>
              <a:xfrm>
                <a:off x="6846120" y="47286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038000" y="462348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V="1">
                <a:off x="6937920" y="462348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8" name=""/>
          <p:cNvGrpSpPr/>
          <p:nvPr/>
        </p:nvGrpSpPr>
        <p:grpSpPr>
          <a:xfrm>
            <a:off x="5797440" y="4124160"/>
            <a:ext cx="569880" cy="284040"/>
            <a:chOff x="5797440" y="4124160"/>
            <a:chExt cx="569880" cy="284040"/>
          </a:xfrm>
        </p:grpSpPr>
        <p:sp>
          <p:nvSpPr>
            <p:cNvPr id="849" name=""/>
            <p:cNvSpPr/>
            <p:nvPr/>
          </p:nvSpPr>
          <p:spPr>
            <a:xfrm>
              <a:off x="5801760" y="4250880"/>
              <a:ext cx="56520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801760" y="42375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367320" y="42375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01760" y="4237560"/>
              <a:ext cx="56016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797440" y="4124160"/>
              <a:ext cx="56484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5933160" y="4164480"/>
              <a:ext cx="279720" cy="107280"/>
              <a:chOff x="5933160" y="4164480"/>
              <a:chExt cx="279720" cy="107280"/>
            </a:xfrm>
          </p:grpSpPr>
          <p:sp>
            <p:nvSpPr>
              <p:cNvPr id="855" name=""/>
              <p:cNvSpPr/>
              <p:nvPr/>
            </p:nvSpPr>
            <p:spPr>
              <a:xfrm flipV="1">
                <a:off x="5933160" y="41644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125040" y="42717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024960" y="416664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5933160" y="4163040"/>
              <a:ext cx="279720" cy="107280"/>
              <a:chOff x="5933160" y="4163040"/>
              <a:chExt cx="279720" cy="107280"/>
            </a:xfrm>
          </p:grpSpPr>
          <p:sp>
            <p:nvSpPr>
              <p:cNvPr id="859" name=""/>
              <p:cNvSpPr/>
              <p:nvPr/>
            </p:nvSpPr>
            <p:spPr>
              <a:xfrm>
                <a:off x="5933160" y="426816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125040" y="41630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V="1">
                <a:off x="6024960" y="416304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2" name=""/>
          <p:cNvSpPr/>
          <p:nvPr/>
        </p:nvSpPr>
        <p:spPr>
          <a:xfrm>
            <a:off x="5124600" y="1933560"/>
            <a:ext cx="3038400" cy="3114720"/>
          </a:xfrm>
          <a:custGeom>
            <a:avLst/>
            <a:gdLst/>
            <a:ahLst/>
            <a:rect l="l" t="t" r="r" b="b"/>
            <a:pathLst>
              <a:path w="1914" h="1962">
                <a:moveTo>
                  <a:pt x="0" y="0"/>
                </a:moveTo>
                <a:lnTo>
                  <a:pt x="258" y="12"/>
                </a:lnTo>
                <a:lnTo>
                  <a:pt x="426" y="198"/>
                </a:lnTo>
                <a:lnTo>
                  <a:pt x="768" y="204"/>
                </a:lnTo>
                <a:lnTo>
                  <a:pt x="1086" y="48"/>
                </a:lnTo>
                <a:lnTo>
                  <a:pt x="1326" y="48"/>
                </a:lnTo>
                <a:lnTo>
                  <a:pt x="1326" y="588"/>
                </a:lnTo>
                <a:lnTo>
                  <a:pt x="1890" y="990"/>
                </a:lnTo>
                <a:lnTo>
                  <a:pt x="1662" y="1320"/>
                </a:lnTo>
                <a:lnTo>
                  <a:pt x="1662" y="1944"/>
                </a:lnTo>
                <a:lnTo>
                  <a:pt x="1914" y="1962"/>
                </a:ln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991120" y="2152800"/>
            <a:ext cx="1924200" cy="2990880"/>
          </a:xfrm>
          <a:custGeom>
            <a:avLst/>
            <a:gdLst/>
            <a:ahLst/>
            <a:rect l="l" t="t" r="r" b="b"/>
            <a:pathLst>
              <a:path w="1212" h="1884">
                <a:moveTo>
                  <a:pt x="0" y="702"/>
                </a:moveTo>
                <a:lnTo>
                  <a:pt x="0" y="228"/>
                </a:lnTo>
                <a:lnTo>
                  <a:pt x="156" y="228"/>
                </a:lnTo>
                <a:lnTo>
                  <a:pt x="612" y="0"/>
                </a:lnTo>
                <a:lnTo>
                  <a:pt x="714" y="0"/>
                </a:lnTo>
                <a:lnTo>
                  <a:pt x="714" y="558"/>
                </a:lnTo>
                <a:lnTo>
                  <a:pt x="1212" y="912"/>
                </a:lnTo>
                <a:lnTo>
                  <a:pt x="720" y="1668"/>
                </a:lnTo>
                <a:lnTo>
                  <a:pt x="720" y="1884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80040" y="4416480"/>
            <a:ext cx="180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3E6B-44A5-4E27-BD5B-9D76FF509B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Core: Circuit Switch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twork resources (e.g., bandwidth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vided into “piece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eces allocated to ca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ource piece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id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f not used by owning call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(no sharin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ing link bandwidth into “piece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quency divi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divi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09E6-09A7-4436-8E39-5DC53D6CC9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39200" y="226800"/>
            <a:ext cx="846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Circuit Switching: FDMA and TDMA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396000" y="1585800"/>
            <a:ext cx="7236720" cy="2440800"/>
            <a:chOff x="396000" y="1585800"/>
            <a:chExt cx="7236720" cy="2440800"/>
          </a:xfrm>
        </p:grpSpPr>
        <p:sp>
          <p:nvSpPr>
            <p:cNvPr id="869" name=""/>
            <p:cNvSpPr/>
            <p:nvPr/>
          </p:nvSpPr>
          <p:spPr>
            <a:xfrm>
              <a:off x="396000" y="158580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D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1081440" y="2196360"/>
              <a:ext cx="6551280" cy="1830240"/>
              <a:chOff x="1081440" y="2196360"/>
              <a:chExt cx="6551280" cy="1830240"/>
            </a:xfrm>
          </p:grpSpPr>
          <p:sp>
            <p:nvSpPr>
              <p:cNvPr id="871" name=""/>
              <p:cNvSpPr/>
              <p:nvPr/>
            </p:nvSpPr>
            <p:spPr>
              <a:xfrm flipV="1">
                <a:off x="2679840" y="219636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081440" y="2653920"/>
                <a:ext cx="151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requenc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679840" y="3492360"/>
                <a:ext cx="4952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777200" y="356688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756160" y="2501640"/>
                <a:ext cx="457200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6" name=""/>
          <p:cNvSpPr/>
          <p:nvPr/>
        </p:nvSpPr>
        <p:spPr>
          <a:xfrm>
            <a:off x="2743200" y="2514600"/>
            <a:ext cx="45720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743200" y="2743200"/>
            <a:ext cx="45720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743200" y="2971800"/>
            <a:ext cx="457200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743200" y="3200400"/>
            <a:ext cx="4572000" cy="228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383040" y="4037040"/>
            <a:ext cx="7236720" cy="2518560"/>
            <a:chOff x="383040" y="4037040"/>
            <a:chExt cx="7236720" cy="2518560"/>
          </a:xfrm>
        </p:grpSpPr>
        <p:sp>
          <p:nvSpPr>
            <p:cNvPr id="881" name=""/>
            <p:cNvSpPr/>
            <p:nvPr/>
          </p:nvSpPr>
          <p:spPr>
            <a:xfrm>
              <a:off x="383040" y="403704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D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2666880" y="472608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68480" y="51832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666880" y="602136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764240" y="609588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743200" y="5029200"/>
              <a:ext cx="45720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2743200" y="5029200"/>
            <a:ext cx="3886200" cy="914400"/>
            <a:chOff x="2743200" y="5029200"/>
            <a:chExt cx="3886200" cy="914400"/>
          </a:xfrm>
        </p:grpSpPr>
        <p:sp>
          <p:nvSpPr>
            <p:cNvPr id="888" name=""/>
            <p:cNvSpPr/>
            <p:nvPr/>
          </p:nvSpPr>
          <p:spPr>
            <a:xfrm>
              <a:off x="27432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6576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5720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864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4008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2971800" y="5029200"/>
            <a:ext cx="3886200" cy="914400"/>
            <a:chOff x="2971800" y="5029200"/>
            <a:chExt cx="3886200" cy="914400"/>
          </a:xfrm>
        </p:grpSpPr>
        <p:sp>
          <p:nvSpPr>
            <p:cNvPr id="894" name=""/>
            <p:cNvSpPr/>
            <p:nvPr/>
          </p:nvSpPr>
          <p:spPr>
            <a:xfrm>
              <a:off x="29718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8862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8006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7150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6294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3200400" y="5029200"/>
            <a:ext cx="3886200" cy="914400"/>
            <a:chOff x="3200400" y="5029200"/>
            <a:chExt cx="3886200" cy="914400"/>
          </a:xfrm>
        </p:grpSpPr>
        <p:sp>
          <p:nvSpPr>
            <p:cNvPr id="900" name=""/>
            <p:cNvSpPr/>
            <p:nvPr/>
          </p:nvSpPr>
          <p:spPr>
            <a:xfrm>
              <a:off x="32004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1148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0292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9436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8580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3429000" y="5029200"/>
            <a:ext cx="3886200" cy="914400"/>
            <a:chOff x="3429000" y="5029200"/>
            <a:chExt cx="3886200" cy="914400"/>
          </a:xfrm>
        </p:grpSpPr>
        <p:sp>
          <p:nvSpPr>
            <p:cNvPr id="906" name=""/>
            <p:cNvSpPr/>
            <p:nvPr/>
          </p:nvSpPr>
          <p:spPr>
            <a:xfrm>
              <a:off x="34290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3434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2578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722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0866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2743200" y="2743200"/>
            <a:ext cx="4572000" cy="457200"/>
            <a:chOff x="2743200" y="2743200"/>
            <a:chExt cx="4572000" cy="457200"/>
          </a:xfrm>
        </p:grpSpPr>
        <p:sp>
          <p:nvSpPr>
            <p:cNvPr id="912" name=""/>
            <p:cNvSpPr/>
            <p:nvPr/>
          </p:nvSpPr>
          <p:spPr>
            <a:xfrm>
              <a:off x="2743200" y="27432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743200" y="29718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743200" y="32004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2971800" y="5029200"/>
            <a:ext cx="4114800" cy="914400"/>
            <a:chOff x="2971800" y="5029200"/>
            <a:chExt cx="4114800" cy="914400"/>
          </a:xfrm>
        </p:grpSpPr>
        <p:sp>
          <p:nvSpPr>
            <p:cNvPr id="916" name=""/>
            <p:cNvSpPr/>
            <p:nvPr/>
          </p:nvSpPr>
          <p:spPr>
            <a:xfrm>
              <a:off x="2971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2004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290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6576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8862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114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3434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720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006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0292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257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4864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7150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436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1722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400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6294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8580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0866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743200" y="2629080"/>
            <a:ext cx="4572000" cy="685800"/>
            <a:chOff x="2743200" y="2629080"/>
            <a:chExt cx="4572000" cy="685800"/>
          </a:xfrm>
        </p:grpSpPr>
        <p:sp>
          <p:nvSpPr>
            <p:cNvPr id="936" name=""/>
            <p:cNvSpPr/>
            <p:nvPr/>
          </p:nvSpPr>
          <p:spPr>
            <a:xfrm>
              <a:off x="2743200" y="26290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743200" y="28576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743200" y="30862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743200" y="33148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2857680" y="5029200"/>
            <a:ext cx="4343400" cy="914400"/>
            <a:chOff x="2857680" y="5029200"/>
            <a:chExt cx="4343400" cy="914400"/>
          </a:xfrm>
        </p:grpSpPr>
        <p:sp>
          <p:nvSpPr>
            <p:cNvPr id="941" name=""/>
            <p:cNvSpPr/>
            <p:nvPr/>
          </p:nvSpPr>
          <p:spPr>
            <a:xfrm>
              <a:off x="28576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0862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3148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5434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7720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006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2292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4578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864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9150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1436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3722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6008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8294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0580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2866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152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7438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9724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2010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5370840" y="1257480"/>
            <a:ext cx="2707920" cy="954720"/>
            <a:chOff x="5370840" y="1257480"/>
            <a:chExt cx="2707920" cy="954720"/>
          </a:xfrm>
        </p:grpSpPr>
        <p:grpSp>
          <p:nvGrpSpPr>
            <p:cNvPr id="962" name=""/>
            <p:cNvGrpSpPr/>
            <p:nvPr/>
          </p:nvGrpSpPr>
          <p:grpSpPr>
            <a:xfrm>
              <a:off x="5370840" y="1752480"/>
              <a:ext cx="2707920" cy="459720"/>
              <a:chOff x="5370840" y="1752480"/>
              <a:chExt cx="2707920" cy="459720"/>
            </a:xfrm>
          </p:grpSpPr>
          <p:sp>
            <p:nvSpPr>
              <p:cNvPr id="963" name=""/>
              <p:cNvSpPr/>
              <p:nvPr/>
            </p:nvSpPr>
            <p:spPr>
              <a:xfrm>
                <a:off x="5370840" y="1752480"/>
                <a:ext cx="118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 us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935760" y="1854000"/>
                <a:ext cx="228600" cy="2286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240680" y="1854000"/>
                <a:ext cx="228600" cy="2286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545240" y="185400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850160" y="185400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5375520" y="125748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803B-D358-4CA7-A36C-0E07B211CD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Core: Packet Switch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ach end-end data stream divided into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pack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 A, B packets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ha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network resourc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packet uses full link bandwidth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ources used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s need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"/>
          <p:cNvSpPr/>
          <p:nvPr/>
        </p:nvSpPr>
        <p:spPr>
          <a:xfrm>
            <a:off x="5029200" y="1249200"/>
            <a:ext cx="3886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source contentio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gregate resource demand can exceed amount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gestion: packets queue, wait for link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e and forward: packets move one hop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mit over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it turn at next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611280" y="4648320"/>
            <a:ext cx="3682800" cy="1946160"/>
            <a:chOff x="611280" y="4648320"/>
            <a:chExt cx="3682800" cy="1946160"/>
          </a:xfrm>
        </p:grpSpPr>
        <p:sp>
          <p:nvSpPr>
            <p:cNvPr id="973" name=""/>
            <p:cNvSpPr/>
            <p:nvPr/>
          </p:nvSpPr>
          <p:spPr>
            <a:xfrm>
              <a:off x="611280" y="5050800"/>
              <a:ext cx="3682800" cy="114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andwidth division into “pieces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12120" indent="-3121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dicated al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12120" indent="-3121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esource reserv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236600" y="4648320"/>
              <a:ext cx="2153880" cy="1946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653480" y="4849560"/>
              <a:ext cx="1389600" cy="147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0C1F-012A-4ED8-B339-0B51C41A41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Core: Packet Switch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4876560"/>
            <a:ext cx="7467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-switching versus circuit switching: postal service versus telephone or FAX ser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1"/>
          <a:stretch/>
        </p:blipFill>
        <p:spPr>
          <a:xfrm>
            <a:off x="1203480" y="2470320"/>
            <a:ext cx="645840" cy="533160"/>
          </a:xfrm>
          <a:prstGeom prst="rect">
            <a:avLst/>
          </a:prstGeom>
          <a:ln w="0">
            <a:noFill/>
          </a:ln>
        </p:spPr>
      </p:pic>
      <p:sp>
        <p:nvSpPr>
          <p:cNvPr id="979" name=""/>
          <p:cNvSpPr/>
          <p:nvPr/>
        </p:nvSpPr>
        <p:spPr>
          <a:xfrm>
            <a:off x="3538440" y="230364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320920" y="2333520"/>
            <a:ext cx="1198440" cy="3700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320920" y="226548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330280" y="2036880"/>
            <a:ext cx="119880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2676600" y="2066760"/>
            <a:ext cx="497160" cy="118800"/>
            <a:chOff x="2676600" y="2066760"/>
            <a:chExt cx="497160" cy="118800"/>
          </a:xfrm>
        </p:grpSpPr>
        <p:grpSp>
          <p:nvGrpSpPr>
            <p:cNvPr id="984" name=""/>
            <p:cNvGrpSpPr/>
            <p:nvPr/>
          </p:nvGrpSpPr>
          <p:grpSpPr>
            <a:xfrm>
              <a:off x="2676600" y="2068200"/>
              <a:ext cx="497160" cy="117360"/>
              <a:chOff x="2676600" y="2068200"/>
              <a:chExt cx="497160" cy="117360"/>
            </a:xfrm>
          </p:grpSpPr>
          <p:sp>
            <p:nvSpPr>
              <p:cNvPr id="985" name=""/>
              <p:cNvSpPr/>
              <p:nvPr/>
            </p:nvSpPr>
            <p:spPr>
              <a:xfrm flipV="1">
                <a:off x="2676600" y="206820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017520" y="21855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840040" y="207036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2676600" y="2066760"/>
              <a:ext cx="497160" cy="117360"/>
              <a:chOff x="2676600" y="2066760"/>
              <a:chExt cx="497160" cy="117360"/>
            </a:xfrm>
          </p:grpSpPr>
          <p:sp>
            <p:nvSpPr>
              <p:cNvPr id="989" name=""/>
              <p:cNvSpPr/>
              <p:nvPr/>
            </p:nvSpPr>
            <p:spPr>
              <a:xfrm>
                <a:off x="2676600" y="218196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017520" y="20667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V="1">
                <a:off x="2840040" y="206712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2" name=""/>
          <p:cNvSpPr/>
          <p:nvPr/>
        </p:nvSpPr>
        <p:spPr>
          <a:xfrm>
            <a:off x="5416560" y="2352600"/>
            <a:ext cx="1198440" cy="3700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425920" y="2332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425920" y="2293920"/>
            <a:ext cx="119880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435640" y="206532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7004160" y="1546200"/>
            <a:ext cx="645840" cy="53352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/>
          <p:cNvPicPr/>
          <p:nvPr/>
        </p:nvPicPr>
        <p:blipFill>
          <a:blip r:embed="rId3"/>
          <a:stretch/>
        </p:blipFill>
        <p:spPr>
          <a:xfrm>
            <a:off x="965160" y="1565280"/>
            <a:ext cx="646200" cy="533520"/>
          </a:xfrm>
          <a:prstGeom prst="rect">
            <a:avLst/>
          </a:prstGeom>
          <a:ln w="0">
            <a:noFill/>
          </a:ln>
        </p:spPr>
      </p:pic>
      <p:sp>
        <p:nvSpPr>
          <p:cNvPr id="998" name=""/>
          <p:cNvSpPr/>
          <p:nvPr/>
        </p:nvSpPr>
        <p:spPr>
          <a:xfrm>
            <a:off x="1590840" y="197172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1895400" y="2957400"/>
            <a:ext cx="19548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514680" y="2390760"/>
            <a:ext cx="19335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5619600" y="2724120"/>
            <a:ext cx="142920" cy="65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6591240" y="1952280"/>
            <a:ext cx="504720" cy="2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095560" y="1962000"/>
            <a:ext cx="0" cy="100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104920" y="2395440"/>
            <a:ext cx="200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548160" y="218592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71016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871800" y="218592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033800" y="218592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19580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56732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005440" y="218124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2857680" y="2262240"/>
            <a:ext cx="633240" cy="199800"/>
            <a:chOff x="2857680" y="2262240"/>
            <a:chExt cx="633240" cy="199800"/>
          </a:xfrm>
        </p:grpSpPr>
        <p:sp>
          <p:nvSpPr>
            <p:cNvPr id="1013" name=""/>
            <p:cNvSpPr/>
            <p:nvPr/>
          </p:nvSpPr>
          <p:spPr>
            <a:xfrm>
              <a:off x="285768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019320" y="2262240"/>
              <a:ext cx="147600" cy="199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18132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34332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2128680" y="2162160"/>
            <a:ext cx="14796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909800" y="2733840"/>
            <a:ext cx="14760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305080" y="2266920"/>
            <a:ext cx="24300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1971720" y="2543040"/>
            <a:ext cx="0" cy="1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929040" y="2076480"/>
            <a:ext cx="106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27840" y="158904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87760" y="26082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602040" y="14652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638360" y="131292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 M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743280" y="242712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5 M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032880" y="304632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5 M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467320" y="2205000"/>
            <a:ext cx="147600" cy="2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629320" y="2205000"/>
            <a:ext cx="147600" cy="2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791320" y="2205000"/>
            <a:ext cx="147600" cy="2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5711400" y="2268720"/>
            <a:ext cx="640800" cy="510480"/>
            <a:chOff x="5711400" y="2268720"/>
            <a:chExt cx="640800" cy="510480"/>
          </a:xfrm>
        </p:grpSpPr>
        <p:sp>
          <p:nvSpPr>
            <p:cNvPr id="1032" name=""/>
            <p:cNvSpPr/>
            <p:nvPr/>
          </p:nvSpPr>
          <p:spPr>
            <a:xfrm rot="19637400">
              <a:off x="5753520" y="255528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rot="19637400">
              <a:off x="5889600" y="246780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19637400">
              <a:off x="6026040" y="238032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rot="19637400">
              <a:off x="6162120" y="229284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3680640" y="3341520"/>
            <a:ext cx="3104280" cy="1471680"/>
            <a:chOff x="3680640" y="3341520"/>
            <a:chExt cx="3104280" cy="1471680"/>
          </a:xfrm>
        </p:grpSpPr>
        <p:pic>
          <p:nvPicPr>
            <p:cNvPr id="1037" name="" descr=""/>
            <p:cNvPicPr/>
            <p:nvPr/>
          </p:nvPicPr>
          <p:blipFill>
            <a:blip r:embed="rId4"/>
            <a:stretch/>
          </p:blipFill>
          <p:spPr>
            <a:xfrm>
              <a:off x="5765760" y="4279680"/>
              <a:ext cx="645840" cy="53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8" name=""/>
            <p:cNvGrpSpPr/>
            <p:nvPr/>
          </p:nvGrpSpPr>
          <p:grpSpPr>
            <a:xfrm>
              <a:off x="4921200" y="3341520"/>
              <a:ext cx="1207440" cy="666720"/>
              <a:chOff x="4921200" y="3341520"/>
              <a:chExt cx="1207440" cy="666720"/>
            </a:xfrm>
          </p:grpSpPr>
          <p:sp>
            <p:nvSpPr>
              <p:cNvPr id="1039" name=""/>
              <p:cNvSpPr/>
              <p:nvPr/>
            </p:nvSpPr>
            <p:spPr>
              <a:xfrm>
                <a:off x="4921200" y="3638160"/>
                <a:ext cx="1198080" cy="37008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921200" y="36082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4921200" y="3570120"/>
                <a:ext cx="1198080" cy="263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930200" y="3341520"/>
                <a:ext cx="1198440" cy="43020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3" name=""/>
              <p:cNvGrpSpPr/>
              <p:nvPr/>
            </p:nvGrpSpPr>
            <p:grpSpPr>
              <a:xfrm>
                <a:off x="5276520" y="3371400"/>
                <a:ext cx="496800" cy="118800"/>
                <a:chOff x="5276520" y="3371400"/>
                <a:chExt cx="496800" cy="118800"/>
              </a:xfrm>
            </p:grpSpPr>
            <p:grpSp>
              <p:nvGrpSpPr>
                <p:cNvPr id="1044" name=""/>
                <p:cNvGrpSpPr/>
                <p:nvPr/>
              </p:nvGrpSpPr>
              <p:grpSpPr>
                <a:xfrm>
                  <a:off x="5276520" y="3372840"/>
                  <a:ext cx="496800" cy="117360"/>
                  <a:chOff x="5276520" y="3372840"/>
                  <a:chExt cx="496800" cy="117360"/>
                </a:xfrm>
              </p:grpSpPr>
              <p:sp>
                <p:nvSpPr>
                  <p:cNvPr id="1045" name=""/>
                  <p:cNvSpPr/>
                  <p:nvPr/>
                </p:nvSpPr>
                <p:spPr>
                  <a:xfrm flipV="1">
                    <a:off x="5276520" y="3372840"/>
                    <a:ext cx="17712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5617080" y="3490200"/>
                    <a:ext cx="1562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5439960" y="3375000"/>
                    <a:ext cx="184320" cy="114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8" name=""/>
                <p:cNvGrpSpPr/>
                <p:nvPr/>
              </p:nvGrpSpPr>
              <p:grpSpPr>
                <a:xfrm>
                  <a:off x="5276520" y="3371400"/>
                  <a:ext cx="496800" cy="117360"/>
                  <a:chOff x="5276520" y="3371400"/>
                  <a:chExt cx="496800" cy="11736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>
                    <a:off x="5276520" y="3486600"/>
                    <a:ext cx="17712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5617080" y="3371400"/>
                    <a:ext cx="1562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 flipV="1">
                    <a:off x="5439960" y="3371760"/>
                    <a:ext cx="184320" cy="114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1052" name="" descr=""/>
            <p:cNvPicPr/>
            <p:nvPr/>
          </p:nvPicPr>
          <p:blipFill>
            <a:blip r:embed="rId5"/>
            <a:stretch/>
          </p:blipFill>
          <p:spPr>
            <a:xfrm>
              <a:off x="4041720" y="4194000"/>
              <a:ext cx="6458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3" name=""/>
            <p:cNvSpPr/>
            <p:nvPr/>
          </p:nvSpPr>
          <p:spPr>
            <a:xfrm flipV="1">
              <a:off x="4581360" y="3914280"/>
              <a:ext cx="466560" cy="39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 flipV="1">
              <a:off x="5771520" y="3971880"/>
              <a:ext cx="33300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680640" y="419868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435000" y="4265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7" name=""/>
            <p:cNvGrpSpPr/>
            <p:nvPr/>
          </p:nvGrpSpPr>
          <p:grpSpPr>
            <a:xfrm>
              <a:off x="5407560" y="3389400"/>
              <a:ext cx="637560" cy="517320"/>
              <a:chOff x="5407560" y="3389400"/>
              <a:chExt cx="637560" cy="517320"/>
            </a:xfrm>
          </p:grpSpPr>
          <p:sp>
            <p:nvSpPr>
              <p:cNvPr id="1058" name=""/>
              <p:cNvSpPr/>
              <p:nvPr/>
            </p:nvSpPr>
            <p:spPr>
              <a:xfrm rot="19581000">
                <a:off x="5450400" y="368244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rot="19581000">
                <a:off x="5585040" y="359280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9581000">
                <a:off x="5720040" y="350280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rot="19581000">
                <a:off x="5854320" y="341352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2" name=""/>
          <p:cNvSpPr/>
          <p:nvPr/>
        </p:nvSpPr>
        <p:spPr>
          <a:xfrm>
            <a:off x="3254760" y="1636560"/>
            <a:ext cx="28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istical multiplex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949040" y="2984400"/>
            <a:ext cx="212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eue of 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aiting for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2890800" y="2514240"/>
            <a:ext cx="166680" cy="52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28B5-EB30-4D9E-B311-7B638D6E09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acket switching versus circuit switch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Mbit lin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user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0Kbps when “active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tive 10% of ti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ircuit-switching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 us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ket switching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th 35 users, probability &gt; 10 active less than .000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590040" y="139032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 switching allows more users to use network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"/>
          <p:cNvSpPr/>
          <p:nvPr/>
        </p:nvSpPr>
        <p:spPr>
          <a:xfrm>
            <a:off x="4629240" y="3029040"/>
            <a:ext cx="30456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629240" y="4629240"/>
            <a:ext cx="30456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933800" y="3333600"/>
            <a:ext cx="838440" cy="4572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772240" y="3790800"/>
            <a:ext cx="20383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772240" y="3943440"/>
            <a:ext cx="20383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5010120" y="3943080"/>
            <a:ext cx="762120" cy="609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904920" y="3627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064640" y="40752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Mbps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5864400" y="3503520"/>
            <a:ext cx="1207440" cy="666720"/>
            <a:chOff x="5864400" y="3503520"/>
            <a:chExt cx="1207440" cy="666720"/>
          </a:xfrm>
        </p:grpSpPr>
        <p:sp>
          <p:nvSpPr>
            <p:cNvPr id="1077" name=""/>
            <p:cNvSpPr/>
            <p:nvPr/>
          </p:nvSpPr>
          <p:spPr>
            <a:xfrm>
              <a:off x="5864400" y="3800520"/>
              <a:ext cx="1198440" cy="369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864400" y="3732120"/>
              <a:ext cx="1198440" cy="26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873760" y="3503520"/>
              <a:ext cx="1198080" cy="430200"/>
            </a:xfrm>
            <a:prstGeom prst="ellipse">
              <a:avLst/>
            </a:prstGeom>
            <a:solidFill>
              <a:srgbClr val="ccccff"/>
            </a:solidFill>
            <a:ln w="64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0" name=""/>
            <p:cNvGrpSpPr/>
            <p:nvPr/>
          </p:nvGrpSpPr>
          <p:grpSpPr>
            <a:xfrm>
              <a:off x="6229440" y="3628800"/>
              <a:ext cx="496800" cy="118800"/>
              <a:chOff x="6229440" y="3628800"/>
              <a:chExt cx="496800" cy="118800"/>
            </a:xfrm>
          </p:grpSpPr>
          <p:grpSp>
            <p:nvGrpSpPr>
              <p:cNvPr id="1081" name=""/>
              <p:cNvGrpSpPr/>
              <p:nvPr/>
            </p:nvGrpSpPr>
            <p:grpSpPr>
              <a:xfrm>
                <a:off x="6229440" y="3630600"/>
                <a:ext cx="496800" cy="117000"/>
                <a:chOff x="6229440" y="3630600"/>
                <a:chExt cx="496800" cy="117000"/>
              </a:xfrm>
            </p:grpSpPr>
            <p:sp>
              <p:nvSpPr>
                <p:cNvPr id="1082" name=""/>
                <p:cNvSpPr/>
                <p:nvPr/>
              </p:nvSpPr>
              <p:spPr>
                <a:xfrm flipV="1">
                  <a:off x="6229440" y="363060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6570000" y="374760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6392880" y="3632760"/>
                  <a:ext cx="184320" cy="114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5" name=""/>
              <p:cNvGrpSpPr/>
              <p:nvPr/>
            </p:nvGrpSpPr>
            <p:grpSpPr>
              <a:xfrm>
                <a:off x="6229440" y="3628800"/>
                <a:ext cx="496800" cy="117000"/>
                <a:chOff x="6229440" y="3628800"/>
                <a:chExt cx="496800" cy="11700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6229440" y="374364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6570000" y="362880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flipV="1">
                  <a:off x="6392880" y="3629160"/>
                  <a:ext cx="184320" cy="114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89" name=""/>
          <p:cNvSpPr/>
          <p:nvPr/>
        </p:nvSpPr>
        <p:spPr>
          <a:xfrm>
            <a:off x="7077240" y="3857760"/>
            <a:ext cx="1714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73CE-5F43-4B7F-B6DD-FAC8C9FE6F6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acket switching versus circuit switch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eat for bursty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ource shar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call setu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xcessive conges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cket delay and lo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cols needed for reliable data transfer, congestion 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: How to provide circuit-like behavio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ndwidth guarantees needed for audio/video ap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ll an unsolved problem (see QoS, multimedi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33520" y="137124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s packet switching a “slam dunk winner?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CE92-B917-495B-9146-64692F98831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assification of the Types of Communic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533520" y="5627160"/>
            <a:ext cx="77724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gs are more fuzzy in pract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"/>
          <p:cNvSpPr/>
          <p:nvPr/>
        </p:nvSpPr>
        <p:spPr>
          <a:xfrm>
            <a:off x="631800" y="221472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it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610240" y="225432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017320" y="3078000"/>
            <a:ext cx="11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121520" y="303696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rtual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T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2211480" y="1588680"/>
            <a:ext cx="2049480" cy="5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241880" y="1579680"/>
            <a:ext cx="2128680" cy="63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5934240" y="2570040"/>
            <a:ext cx="379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 flipV="1">
            <a:off x="6711840" y="2567160"/>
            <a:ext cx="744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721120" y="4145040"/>
            <a:ext cx="18770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UDP, end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’t keep- much st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380760" y="3981600"/>
            <a:ext cx="139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TCP, end 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ep st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4165560" y="3522240"/>
            <a:ext cx="847800" cy="49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 flipV="1">
            <a:off x="5924520" y="3521160"/>
            <a:ext cx="744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822840" y="2927520"/>
            <a:ext cx="132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no per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e in route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931520" y="3560760"/>
            <a:ext cx="1213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per flow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routers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561960" y="2536920"/>
            <a:ext cx="512640" cy="43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 flipV="1">
            <a:off x="1455840" y="2540160"/>
            <a:ext cx="527040" cy="38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506960" y="2909880"/>
            <a:ext cx="11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d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47960" y="3005280"/>
            <a:ext cx="11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d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 flipV="1">
            <a:off x="1082520" y="3814920"/>
            <a:ext cx="527040" cy="38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200160" y="3868200"/>
            <a:ext cx="512640" cy="43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452960" y="4195800"/>
            <a:ext cx="13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x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60" y="4302000"/>
            <a:ext cx="13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x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4257-3A7A-4404-92BB-74BED3FD7C4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acket-switched networks: rout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18760" y="13636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ove packets among routers from source to destin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’ll study several path selection algorithms (chapter 4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atagram network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estination addres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etermines next ho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s may change during ses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alogy: driving, asking direction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virtual circuit network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packet carries tag  (virtual circuit ID), tag determines next ho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xed path determined at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call setup ti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remains fixed thru ca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s maintain per-call st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AB7A-9B74-4A50-9641-C3F813B2850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ccess networks and physical medi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40100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Q: How to connect end systems to edge router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idential access n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itutional access networks (school, compan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751"/>
              </a:spcAft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bile access networ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Keep in mind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ndwidth (bits per second) of access network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d or dedicated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"/>
          <p:cNvSpPr/>
          <p:nvPr/>
        </p:nvSpPr>
        <p:spPr>
          <a:xfrm>
            <a:off x="6807240" y="1800360"/>
            <a:ext cx="1989000" cy="20095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727520" y="1628640"/>
            <a:ext cx="2065320" cy="190656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124600" y="3357720"/>
            <a:ext cx="3290760" cy="26622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1"/>
          <a:stretch/>
        </p:blipFill>
        <p:spPr>
          <a:xfrm>
            <a:off x="4857840" y="1790640"/>
            <a:ext cx="460440" cy="38268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/>
          <p:cNvPicPr/>
          <p:nvPr/>
        </p:nvPicPr>
        <p:blipFill>
          <a:blip r:embed="rId2"/>
          <a:stretch/>
        </p:blipFill>
        <p:spPr>
          <a:xfrm>
            <a:off x="5359320" y="1932120"/>
            <a:ext cx="309600" cy="222120"/>
          </a:xfrm>
          <a:prstGeom prst="rect">
            <a:avLst/>
          </a:prstGeom>
          <a:ln w="0">
            <a:noFill/>
          </a:ln>
        </p:spPr>
      </p:pic>
      <p:sp>
        <p:nvSpPr>
          <p:cNvPr id="1126" name=""/>
          <p:cNvSpPr/>
          <p:nvPr/>
        </p:nvSpPr>
        <p:spPr>
          <a:xfrm flipV="1">
            <a:off x="5307120" y="2080800"/>
            <a:ext cx="12672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7" name="" descr=""/>
          <p:cNvPicPr/>
          <p:nvPr/>
        </p:nvPicPr>
        <p:blipFill>
          <a:blip r:embed="rId3"/>
          <a:stretch/>
        </p:blipFill>
        <p:spPr>
          <a:xfrm>
            <a:off x="4857840" y="2505240"/>
            <a:ext cx="460440" cy="382320"/>
          </a:xfrm>
          <a:prstGeom prst="rect">
            <a:avLst/>
          </a:prstGeom>
          <a:ln w="0">
            <a:noFill/>
          </a:ln>
        </p:spPr>
      </p:pic>
      <p:pic>
        <p:nvPicPr>
          <p:cNvPr id="1128" name="" descr=""/>
          <p:cNvPicPr/>
          <p:nvPr/>
        </p:nvPicPr>
        <p:blipFill>
          <a:blip r:embed="rId4"/>
          <a:stretch/>
        </p:blipFill>
        <p:spPr>
          <a:xfrm>
            <a:off x="5359320" y="2646360"/>
            <a:ext cx="309600" cy="222120"/>
          </a:xfrm>
          <a:prstGeom prst="rect">
            <a:avLst/>
          </a:prstGeom>
          <a:ln w="0">
            <a:noFill/>
          </a:ln>
        </p:spPr>
      </p:pic>
      <p:sp>
        <p:nvSpPr>
          <p:cNvPr id="1129" name=""/>
          <p:cNvSpPr/>
          <p:nvPr/>
        </p:nvSpPr>
        <p:spPr>
          <a:xfrm flipV="1">
            <a:off x="5307120" y="2795760"/>
            <a:ext cx="126720" cy="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5273640" y="2249640"/>
            <a:ext cx="77400" cy="256680"/>
            <a:chOff x="5273640" y="2249640"/>
            <a:chExt cx="77400" cy="256680"/>
          </a:xfrm>
        </p:grpSpPr>
        <p:sp>
          <p:nvSpPr>
            <p:cNvPr id="1131" name=""/>
            <p:cNvSpPr/>
            <p:nvPr/>
          </p:nvSpPr>
          <p:spPr>
            <a:xfrm>
              <a:off x="5273640" y="2249640"/>
              <a:ext cx="71280" cy="72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76520" y="2341800"/>
              <a:ext cx="71280" cy="72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79760" y="2434320"/>
              <a:ext cx="71280" cy="72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5792760" y="2852640"/>
            <a:ext cx="231840" cy="474480"/>
            <a:chOff x="5792760" y="2852640"/>
            <a:chExt cx="231840" cy="474480"/>
          </a:xfrm>
        </p:grpSpPr>
        <p:sp>
          <p:nvSpPr>
            <p:cNvPr id="1135" name=""/>
            <p:cNvSpPr/>
            <p:nvPr/>
          </p:nvSpPr>
          <p:spPr>
            <a:xfrm>
              <a:off x="5792760" y="3217680"/>
              <a:ext cx="231840" cy="109440"/>
            </a:xfrm>
            <a:prstGeom prst="parallelogram">
              <a:avLst>
                <a:gd name="adj" fmla="val 8160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910120" y="2855520"/>
              <a:ext cx="106560" cy="3646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793840" y="2959200"/>
              <a:ext cx="146880" cy="3650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792760" y="2852640"/>
              <a:ext cx="231840" cy="109440"/>
            </a:xfrm>
            <a:prstGeom prst="parallelogram">
              <a:avLst>
                <a:gd name="adj" fmla="val 8160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024600" y="2860200"/>
              <a:ext cx="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5940720" y="3217680"/>
              <a:ext cx="8316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812560" y="3007080"/>
              <a:ext cx="97200" cy="210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826600" y="3070440"/>
              <a:ext cx="73800" cy="7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6054840" y="3038400"/>
            <a:ext cx="258120" cy="96480"/>
            <a:chOff x="6054840" y="3038400"/>
            <a:chExt cx="258120" cy="96480"/>
          </a:xfrm>
        </p:grpSpPr>
        <p:sp>
          <p:nvSpPr>
            <p:cNvPr id="1144" name=""/>
            <p:cNvSpPr/>
            <p:nvPr/>
          </p:nvSpPr>
          <p:spPr>
            <a:xfrm rot="16200000">
              <a:off x="6046560" y="3053880"/>
              <a:ext cx="88920" cy="727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rot="16200000">
              <a:off x="6139440" y="3050640"/>
              <a:ext cx="88920" cy="72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rot="16200000">
              <a:off x="6232320" y="3046680"/>
              <a:ext cx="88920" cy="72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7" name=""/>
          <p:cNvSpPr/>
          <p:nvPr/>
        </p:nvSpPr>
        <p:spPr>
          <a:xfrm>
            <a:off x="5945040" y="2743200"/>
            <a:ext cx="5479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948280" y="2738520"/>
            <a:ext cx="1800" cy="114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496200" y="2736720"/>
            <a:ext cx="1440" cy="100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613480" y="2095560"/>
            <a:ext cx="318960" cy="317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5626080" y="2438280"/>
            <a:ext cx="306360" cy="3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6210360" y="2541600"/>
            <a:ext cx="1440" cy="19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6342120" y="2827440"/>
            <a:ext cx="231840" cy="472680"/>
            <a:chOff x="6342120" y="2827440"/>
            <a:chExt cx="231840" cy="472680"/>
          </a:xfrm>
        </p:grpSpPr>
        <p:sp>
          <p:nvSpPr>
            <p:cNvPr id="1154" name=""/>
            <p:cNvSpPr/>
            <p:nvPr/>
          </p:nvSpPr>
          <p:spPr>
            <a:xfrm>
              <a:off x="6342120" y="3191040"/>
              <a:ext cx="231840" cy="109080"/>
            </a:xfrm>
            <a:prstGeom prst="parallelogram">
              <a:avLst>
                <a:gd name="adj" fmla="val 8187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459480" y="2830320"/>
              <a:ext cx="106560" cy="363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343200" y="2933640"/>
              <a:ext cx="146880" cy="363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42120" y="2827440"/>
              <a:ext cx="231840" cy="109080"/>
            </a:xfrm>
            <a:prstGeom prst="parallelogram">
              <a:avLst>
                <a:gd name="adj" fmla="val 8187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573960" y="283500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6490080" y="3191040"/>
              <a:ext cx="831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361920" y="2981160"/>
              <a:ext cx="97200" cy="209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375960" y="3044520"/>
              <a:ext cx="73800" cy="7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2" name="" descr=""/>
          <p:cNvPicPr/>
          <p:nvPr/>
        </p:nvPicPr>
        <p:blipFill>
          <a:blip r:embed="rId5"/>
          <a:stretch/>
        </p:blipFill>
        <p:spPr>
          <a:xfrm>
            <a:off x="5283360" y="3570120"/>
            <a:ext cx="460080" cy="397080"/>
          </a:xfrm>
          <a:prstGeom prst="rect">
            <a:avLst/>
          </a:prstGeom>
          <a:ln w="0">
            <a:noFill/>
          </a:ln>
        </p:spPr>
      </p:pic>
      <p:sp>
        <p:nvSpPr>
          <p:cNvPr id="1163" name=""/>
          <p:cNvSpPr/>
          <p:nvPr/>
        </p:nvSpPr>
        <p:spPr>
          <a:xfrm flipV="1">
            <a:off x="5734080" y="3865680"/>
            <a:ext cx="79200" cy="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4" name="" descr=""/>
          <p:cNvPicPr/>
          <p:nvPr/>
        </p:nvPicPr>
        <p:blipFill>
          <a:blip r:embed="rId6"/>
          <a:stretch/>
        </p:blipFill>
        <p:spPr>
          <a:xfrm>
            <a:off x="5283360" y="4282920"/>
            <a:ext cx="460080" cy="397080"/>
          </a:xfrm>
          <a:prstGeom prst="rect">
            <a:avLst/>
          </a:prstGeom>
          <a:ln w="0">
            <a:noFill/>
          </a:ln>
        </p:spPr>
      </p:pic>
      <p:sp>
        <p:nvSpPr>
          <p:cNvPr id="1165" name=""/>
          <p:cNvSpPr/>
          <p:nvPr/>
        </p:nvSpPr>
        <p:spPr>
          <a:xfrm flipV="1">
            <a:off x="5734080" y="4584240"/>
            <a:ext cx="7920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5421240" y="3979800"/>
            <a:ext cx="79200" cy="266400"/>
            <a:chOff x="5421240" y="3979800"/>
            <a:chExt cx="79200" cy="266400"/>
          </a:xfrm>
        </p:grpSpPr>
        <p:sp>
          <p:nvSpPr>
            <p:cNvPr id="1167" name=""/>
            <p:cNvSpPr/>
            <p:nvPr/>
          </p:nvSpPr>
          <p:spPr>
            <a:xfrm>
              <a:off x="5421240" y="3979800"/>
              <a:ext cx="73080" cy="752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424120" y="4075560"/>
              <a:ext cx="73080" cy="74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427360" y="4171320"/>
              <a:ext cx="73080" cy="74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>
            <a:off x="5807160" y="386244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1" name="" descr=""/>
          <p:cNvPicPr/>
          <p:nvPr/>
        </p:nvPicPr>
        <p:blipFill>
          <a:blip r:embed="rId7"/>
          <a:stretch/>
        </p:blipFill>
        <p:spPr>
          <a:xfrm>
            <a:off x="6243480" y="4781520"/>
            <a:ext cx="462240" cy="397080"/>
          </a:xfrm>
          <a:prstGeom prst="rect">
            <a:avLst/>
          </a:prstGeom>
          <a:ln w="0">
            <a:noFill/>
          </a:ln>
        </p:spPr>
      </p:pic>
      <p:pic>
        <p:nvPicPr>
          <p:cNvPr id="1172" name="" descr=""/>
          <p:cNvPicPr/>
          <p:nvPr/>
        </p:nvPicPr>
        <p:blipFill>
          <a:blip r:embed="rId8"/>
          <a:stretch/>
        </p:blipFill>
        <p:spPr>
          <a:xfrm>
            <a:off x="5564160" y="4767120"/>
            <a:ext cx="458640" cy="397080"/>
          </a:xfrm>
          <a:prstGeom prst="rect">
            <a:avLst/>
          </a:prstGeom>
          <a:ln w="0">
            <a:noFill/>
          </a:ln>
        </p:spPr>
      </p:pic>
      <p:sp>
        <p:nvSpPr>
          <p:cNvPr id="1173" name=""/>
          <p:cNvSpPr/>
          <p:nvPr/>
        </p:nvSpPr>
        <p:spPr>
          <a:xfrm flipV="1">
            <a:off x="6524640" y="4716000"/>
            <a:ext cx="1440" cy="7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5834160" y="4703760"/>
            <a:ext cx="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5835240" y="4710240"/>
            <a:ext cx="693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803920" y="4255920"/>
            <a:ext cx="112680" cy="5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478560" y="4316400"/>
            <a:ext cx="33516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7358040" y="4313160"/>
            <a:ext cx="30960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9" name="" descr=""/>
          <p:cNvPicPr/>
          <p:nvPr/>
        </p:nvPicPr>
        <p:blipFill>
          <a:blip r:embed="rId9"/>
          <a:stretch/>
        </p:blipFill>
        <p:spPr>
          <a:xfrm>
            <a:off x="7554960" y="3774960"/>
            <a:ext cx="225360" cy="290520"/>
          </a:xfrm>
          <a:prstGeom prst="rect">
            <a:avLst/>
          </a:prstGeom>
          <a:ln w="0">
            <a:noFill/>
          </a:ln>
        </p:spPr>
      </p:pic>
      <p:pic>
        <p:nvPicPr>
          <p:cNvPr id="1180" name="" descr=""/>
          <p:cNvPicPr/>
          <p:nvPr/>
        </p:nvPicPr>
        <p:blipFill>
          <a:blip r:embed="rId10"/>
          <a:stretch/>
        </p:blipFill>
        <p:spPr>
          <a:xfrm>
            <a:off x="6076800" y="3871800"/>
            <a:ext cx="223920" cy="289080"/>
          </a:xfrm>
          <a:prstGeom prst="rect">
            <a:avLst/>
          </a:prstGeom>
          <a:ln w="0">
            <a:noFill/>
          </a:ln>
        </p:spPr>
      </p:pic>
      <p:sp>
        <p:nvSpPr>
          <p:cNvPr id="1181" name=""/>
          <p:cNvSpPr/>
          <p:nvPr/>
        </p:nvSpPr>
        <p:spPr>
          <a:xfrm>
            <a:off x="6165720" y="3602160"/>
            <a:ext cx="1498680" cy="36504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2" name="" descr=""/>
          <p:cNvPicPr/>
          <p:nvPr/>
        </p:nvPicPr>
        <p:blipFill>
          <a:blip r:embed="rId11"/>
          <a:stretch/>
        </p:blipFill>
        <p:spPr>
          <a:xfrm>
            <a:off x="6461280" y="5308560"/>
            <a:ext cx="419040" cy="452520"/>
          </a:xfrm>
          <a:prstGeom prst="rect">
            <a:avLst/>
          </a:prstGeom>
          <a:ln w="0">
            <a:noFill/>
          </a:ln>
        </p:spPr>
      </p:pic>
      <p:pic>
        <p:nvPicPr>
          <p:cNvPr id="1183" name="" descr=""/>
          <p:cNvPicPr/>
          <p:nvPr/>
        </p:nvPicPr>
        <p:blipFill>
          <a:blip r:embed="rId12"/>
          <a:stretch/>
        </p:blipFill>
        <p:spPr>
          <a:xfrm>
            <a:off x="6527880" y="5443560"/>
            <a:ext cx="382680" cy="377640"/>
          </a:xfrm>
          <a:prstGeom prst="rect">
            <a:avLst/>
          </a:prstGeom>
          <a:ln w="0">
            <a:noFill/>
          </a:ln>
        </p:spPr>
      </p:pic>
      <p:grpSp>
        <p:nvGrpSpPr>
          <p:cNvPr id="1184" name=""/>
          <p:cNvGrpSpPr/>
          <p:nvPr/>
        </p:nvGrpSpPr>
        <p:grpSpPr>
          <a:xfrm>
            <a:off x="7321680" y="5346720"/>
            <a:ext cx="448920" cy="512280"/>
            <a:chOff x="7321680" y="5346720"/>
            <a:chExt cx="448920" cy="512280"/>
          </a:xfrm>
        </p:grpSpPr>
        <p:pic>
          <p:nvPicPr>
            <p:cNvPr id="1185" name="" descr=""/>
            <p:cNvPicPr/>
            <p:nvPr/>
          </p:nvPicPr>
          <p:blipFill>
            <a:blip r:embed="rId13"/>
            <a:stretch/>
          </p:blipFill>
          <p:spPr>
            <a:xfrm>
              <a:off x="7321680" y="5346720"/>
              <a:ext cx="417960" cy="45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6" name="" descr=""/>
            <p:cNvPicPr/>
            <p:nvPr/>
          </p:nvPicPr>
          <p:blipFill>
            <a:blip r:embed="rId14"/>
            <a:stretch/>
          </p:blipFill>
          <p:spPr>
            <a:xfrm>
              <a:off x="7387920" y="5481000"/>
              <a:ext cx="382680" cy="37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7" name=""/>
          <p:cNvGrpSpPr/>
          <p:nvPr/>
        </p:nvGrpSpPr>
        <p:grpSpPr>
          <a:xfrm>
            <a:off x="6862680" y="5005440"/>
            <a:ext cx="419040" cy="452160"/>
            <a:chOff x="6862680" y="5005440"/>
            <a:chExt cx="419040" cy="452160"/>
          </a:xfrm>
        </p:grpSpPr>
        <p:pic>
          <p:nvPicPr>
            <p:cNvPr id="1188" name="" descr=""/>
            <p:cNvPicPr/>
            <p:nvPr/>
          </p:nvPicPr>
          <p:blipFill>
            <a:blip r:embed="rId15"/>
            <a:stretch/>
          </p:blipFill>
          <p:spPr>
            <a:xfrm>
              <a:off x="6862680" y="5005440"/>
              <a:ext cx="419040" cy="45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9" name=""/>
            <p:cNvSpPr/>
            <p:nvPr/>
          </p:nvSpPr>
          <p:spPr>
            <a:xfrm>
              <a:off x="6984360" y="5164200"/>
              <a:ext cx="295200" cy="293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7999560" y="4199040"/>
            <a:ext cx="230040" cy="489960"/>
            <a:chOff x="7999560" y="4199040"/>
            <a:chExt cx="230040" cy="489960"/>
          </a:xfrm>
        </p:grpSpPr>
        <p:sp>
          <p:nvSpPr>
            <p:cNvPr id="1191" name=""/>
            <p:cNvSpPr/>
            <p:nvPr/>
          </p:nvSpPr>
          <p:spPr>
            <a:xfrm>
              <a:off x="7999560" y="4575960"/>
              <a:ext cx="230040" cy="113040"/>
            </a:xfrm>
            <a:prstGeom prst="parallelogram">
              <a:avLst>
                <a:gd name="adj" fmla="val 7839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115840" y="4202280"/>
              <a:ext cx="105480" cy="376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000640" y="4308840"/>
              <a:ext cx="145800" cy="3769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999560" y="4199040"/>
              <a:ext cx="230040" cy="113040"/>
            </a:xfrm>
            <a:prstGeom prst="parallelogram">
              <a:avLst>
                <a:gd name="adj" fmla="val 7839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229600" y="4206960"/>
              <a:ext cx="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8146440" y="4575960"/>
              <a:ext cx="8280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019360" y="4358520"/>
              <a:ext cx="96480" cy="217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033040" y="4424040"/>
              <a:ext cx="7308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7985160" y="4732200"/>
            <a:ext cx="230040" cy="490320"/>
            <a:chOff x="7985160" y="4732200"/>
            <a:chExt cx="230040" cy="490320"/>
          </a:xfrm>
        </p:grpSpPr>
        <p:sp>
          <p:nvSpPr>
            <p:cNvPr id="1200" name=""/>
            <p:cNvSpPr/>
            <p:nvPr/>
          </p:nvSpPr>
          <p:spPr>
            <a:xfrm>
              <a:off x="7985160" y="5109120"/>
              <a:ext cx="230040" cy="113400"/>
            </a:xfrm>
            <a:prstGeom prst="parallelogram">
              <a:avLst>
                <a:gd name="adj" fmla="val 7814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101440" y="4735440"/>
              <a:ext cx="105480" cy="376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86240" y="4842360"/>
              <a:ext cx="145800" cy="3769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985160" y="4732200"/>
              <a:ext cx="230040" cy="113400"/>
            </a:xfrm>
            <a:prstGeom prst="parallelogram">
              <a:avLst>
                <a:gd name="adj" fmla="val 7814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215200" y="4740120"/>
              <a:ext cx="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8132040" y="5109120"/>
              <a:ext cx="8280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004960" y="4891680"/>
              <a:ext cx="96480" cy="217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8018640" y="4957560"/>
              <a:ext cx="7308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8" name=""/>
          <p:cNvSpPr/>
          <p:nvPr/>
        </p:nvSpPr>
        <p:spPr>
          <a:xfrm flipV="1">
            <a:off x="7908840" y="4279680"/>
            <a:ext cx="0" cy="733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905600" y="5011560"/>
            <a:ext cx="114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902720" y="4440240"/>
            <a:ext cx="98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6491160" y="2155320"/>
            <a:ext cx="50652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524720" y="2136600"/>
            <a:ext cx="53820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>
            <a:off x="8098920" y="2541600"/>
            <a:ext cx="266760" cy="81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246800" y="2273400"/>
            <a:ext cx="0" cy="51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275600" y="3049560"/>
            <a:ext cx="592200" cy="44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7785000" y="3608280"/>
            <a:ext cx="29520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7534080" y="2503440"/>
            <a:ext cx="618840" cy="46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7543800" y="1830240"/>
            <a:ext cx="38880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8337600" y="2041560"/>
            <a:ext cx="22392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5916600" y="2273400"/>
            <a:ext cx="554040" cy="279000"/>
            <a:chOff x="5916600" y="2273400"/>
            <a:chExt cx="554040" cy="279000"/>
          </a:xfrm>
        </p:grpSpPr>
        <p:sp>
          <p:nvSpPr>
            <p:cNvPr id="1221" name=""/>
            <p:cNvSpPr/>
            <p:nvPr/>
          </p:nvSpPr>
          <p:spPr>
            <a:xfrm>
              <a:off x="5920920" y="2397960"/>
              <a:ext cx="54936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920920" y="23846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470640" y="23846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920920" y="2384640"/>
              <a:ext cx="54432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916600" y="2273400"/>
              <a:ext cx="54900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6" name=""/>
            <p:cNvGrpSpPr/>
            <p:nvPr/>
          </p:nvGrpSpPr>
          <p:grpSpPr>
            <a:xfrm>
              <a:off x="6048720" y="2313000"/>
              <a:ext cx="271800" cy="105120"/>
              <a:chOff x="6048720" y="2313000"/>
              <a:chExt cx="271800" cy="105120"/>
            </a:xfrm>
          </p:grpSpPr>
          <p:sp>
            <p:nvSpPr>
              <p:cNvPr id="1227" name=""/>
              <p:cNvSpPr/>
              <p:nvPr/>
            </p:nvSpPr>
            <p:spPr>
              <a:xfrm flipV="1">
                <a:off x="6048720" y="231300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235200" y="241812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138000" y="231516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0" name=""/>
            <p:cNvGrpSpPr/>
            <p:nvPr/>
          </p:nvGrpSpPr>
          <p:grpSpPr>
            <a:xfrm>
              <a:off x="6048720" y="2311560"/>
              <a:ext cx="271800" cy="105120"/>
              <a:chOff x="6048720" y="2311560"/>
              <a:chExt cx="271800" cy="105120"/>
            </a:xfrm>
          </p:grpSpPr>
          <p:sp>
            <p:nvSpPr>
              <p:cNvPr id="1231" name=""/>
              <p:cNvSpPr/>
              <p:nvPr/>
            </p:nvSpPr>
            <p:spPr>
              <a:xfrm>
                <a:off x="6048720" y="241452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235200" y="23115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V="1">
                <a:off x="6138000" y="231156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4" name=""/>
          <p:cNvGrpSpPr/>
          <p:nvPr/>
        </p:nvGrpSpPr>
        <p:grpSpPr>
          <a:xfrm>
            <a:off x="6970680" y="1998720"/>
            <a:ext cx="554040" cy="279000"/>
            <a:chOff x="6970680" y="1998720"/>
            <a:chExt cx="554040" cy="279000"/>
          </a:xfrm>
        </p:grpSpPr>
        <p:sp>
          <p:nvSpPr>
            <p:cNvPr id="1235" name=""/>
            <p:cNvSpPr/>
            <p:nvPr/>
          </p:nvSpPr>
          <p:spPr>
            <a:xfrm>
              <a:off x="6975000" y="2123280"/>
              <a:ext cx="54936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975000" y="210996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524720" y="210996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975000" y="2109960"/>
              <a:ext cx="54432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970680" y="1998720"/>
              <a:ext cx="54900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0" name=""/>
            <p:cNvGrpSpPr/>
            <p:nvPr/>
          </p:nvGrpSpPr>
          <p:grpSpPr>
            <a:xfrm>
              <a:off x="7102800" y="2038320"/>
              <a:ext cx="271800" cy="105120"/>
              <a:chOff x="7102800" y="2038320"/>
              <a:chExt cx="271800" cy="105120"/>
            </a:xfrm>
          </p:grpSpPr>
          <p:sp>
            <p:nvSpPr>
              <p:cNvPr id="1241" name=""/>
              <p:cNvSpPr/>
              <p:nvPr/>
            </p:nvSpPr>
            <p:spPr>
              <a:xfrm flipV="1">
                <a:off x="7102800" y="203832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289280" y="214344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192080" y="204048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"/>
            <p:cNvGrpSpPr/>
            <p:nvPr/>
          </p:nvGrpSpPr>
          <p:grpSpPr>
            <a:xfrm>
              <a:off x="7102800" y="2036880"/>
              <a:ext cx="271800" cy="105120"/>
              <a:chOff x="7102800" y="2036880"/>
              <a:chExt cx="271800" cy="105120"/>
            </a:xfrm>
          </p:grpSpPr>
          <p:sp>
            <p:nvSpPr>
              <p:cNvPr id="1245" name=""/>
              <p:cNvSpPr/>
              <p:nvPr/>
            </p:nvSpPr>
            <p:spPr>
              <a:xfrm>
                <a:off x="7102800" y="213984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289280" y="203688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V="1">
                <a:off x="7192080" y="203688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8" name=""/>
          <p:cNvGrpSpPr/>
          <p:nvPr/>
        </p:nvGrpSpPr>
        <p:grpSpPr>
          <a:xfrm>
            <a:off x="6989760" y="2786040"/>
            <a:ext cx="554040" cy="280800"/>
            <a:chOff x="6989760" y="2786040"/>
            <a:chExt cx="554040" cy="280800"/>
          </a:xfrm>
        </p:grpSpPr>
        <p:sp>
          <p:nvSpPr>
            <p:cNvPr id="1249" name=""/>
            <p:cNvSpPr/>
            <p:nvPr/>
          </p:nvSpPr>
          <p:spPr>
            <a:xfrm>
              <a:off x="6994080" y="2911320"/>
              <a:ext cx="549360" cy="155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994080" y="2898000"/>
              <a:ext cx="0" cy="9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543800" y="2898000"/>
              <a:ext cx="0" cy="9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994080" y="2898000"/>
              <a:ext cx="544320" cy="95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989760" y="2786040"/>
              <a:ext cx="549000" cy="181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4" name=""/>
            <p:cNvGrpSpPr/>
            <p:nvPr/>
          </p:nvGrpSpPr>
          <p:grpSpPr>
            <a:xfrm>
              <a:off x="7121880" y="2826000"/>
              <a:ext cx="271800" cy="105840"/>
              <a:chOff x="7121880" y="2826000"/>
              <a:chExt cx="271800" cy="105840"/>
            </a:xfrm>
          </p:grpSpPr>
          <p:sp>
            <p:nvSpPr>
              <p:cNvPr id="1255" name=""/>
              <p:cNvSpPr/>
              <p:nvPr/>
            </p:nvSpPr>
            <p:spPr>
              <a:xfrm flipV="1">
                <a:off x="7121880" y="282600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308360" y="293184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211160" y="2828160"/>
                <a:ext cx="100800" cy="10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8" name=""/>
            <p:cNvGrpSpPr/>
            <p:nvPr/>
          </p:nvGrpSpPr>
          <p:grpSpPr>
            <a:xfrm>
              <a:off x="7121880" y="2824560"/>
              <a:ext cx="271800" cy="105840"/>
              <a:chOff x="7121880" y="2824560"/>
              <a:chExt cx="271800" cy="105840"/>
            </a:xfrm>
          </p:grpSpPr>
          <p:sp>
            <p:nvSpPr>
              <p:cNvPr id="1259" name=""/>
              <p:cNvSpPr/>
              <p:nvPr/>
            </p:nvSpPr>
            <p:spPr>
              <a:xfrm>
                <a:off x="7121880" y="292824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308360" y="28245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V="1">
                <a:off x="7211160" y="2824560"/>
                <a:ext cx="100800" cy="10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2" name=""/>
          <p:cNvGrpSpPr/>
          <p:nvPr/>
        </p:nvGrpSpPr>
        <p:grpSpPr>
          <a:xfrm>
            <a:off x="8062920" y="2247840"/>
            <a:ext cx="552600" cy="279000"/>
            <a:chOff x="8062920" y="2247840"/>
            <a:chExt cx="552600" cy="279000"/>
          </a:xfrm>
        </p:grpSpPr>
        <p:sp>
          <p:nvSpPr>
            <p:cNvPr id="1263" name=""/>
            <p:cNvSpPr/>
            <p:nvPr/>
          </p:nvSpPr>
          <p:spPr>
            <a:xfrm>
              <a:off x="8067240" y="2372400"/>
              <a:ext cx="54792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067240" y="23590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8615520" y="23590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8067240" y="2359080"/>
              <a:ext cx="54288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062920" y="2247840"/>
              <a:ext cx="54756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8" name=""/>
            <p:cNvGrpSpPr/>
            <p:nvPr/>
          </p:nvGrpSpPr>
          <p:grpSpPr>
            <a:xfrm>
              <a:off x="8194680" y="2287440"/>
              <a:ext cx="271080" cy="105120"/>
              <a:chOff x="8194680" y="2287440"/>
              <a:chExt cx="271080" cy="105120"/>
            </a:xfrm>
          </p:grpSpPr>
          <p:sp>
            <p:nvSpPr>
              <p:cNvPr id="1269" name=""/>
              <p:cNvSpPr/>
              <p:nvPr/>
            </p:nvSpPr>
            <p:spPr>
              <a:xfrm flipV="1">
                <a:off x="8194680" y="228744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8380440" y="23925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283960" y="228960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8194680" y="2286000"/>
              <a:ext cx="271080" cy="105120"/>
              <a:chOff x="8194680" y="2286000"/>
              <a:chExt cx="271080" cy="105120"/>
            </a:xfrm>
          </p:grpSpPr>
          <p:sp>
            <p:nvSpPr>
              <p:cNvPr id="1273" name=""/>
              <p:cNvSpPr/>
              <p:nvPr/>
            </p:nvSpPr>
            <p:spPr>
              <a:xfrm>
                <a:off x="8194680" y="238896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8380440" y="228600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V="1">
                <a:off x="8283960" y="228600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6" name=""/>
          <p:cNvGrpSpPr/>
          <p:nvPr/>
        </p:nvGrpSpPr>
        <p:grpSpPr>
          <a:xfrm>
            <a:off x="7848720" y="3324240"/>
            <a:ext cx="554040" cy="279000"/>
            <a:chOff x="7848720" y="3324240"/>
            <a:chExt cx="554040" cy="279000"/>
          </a:xfrm>
        </p:grpSpPr>
        <p:sp>
          <p:nvSpPr>
            <p:cNvPr id="1277" name=""/>
            <p:cNvSpPr/>
            <p:nvPr/>
          </p:nvSpPr>
          <p:spPr>
            <a:xfrm>
              <a:off x="7853040" y="3448800"/>
              <a:ext cx="54936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853040" y="34354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402760" y="34354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853040" y="3435480"/>
              <a:ext cx="54432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848720" y="3324240"/>
              <a:ext cx="54900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2" name=""/>
            <p:cNvGrpSpPr/>
            <p:nvPr/>
          </p:nvGrpSpPr>
          <p:grpSpPr>
            <a:xfrm>
              <a:off x="7980840" y="3363840"/>
              <a:ext cx="271800" cy="105120"/>
              <a:chOff x="7980840" y="3363840"/>
              <a:chExt cx="271800" cy="105120"/>
            </a:xfrm>
          </p:grpSpPr>
          <p:sp>
            <p:nvSpPr>
              <p:cNvPr id="1283" name=""/>
              <p:cNvSpPr/>
              <p:nvPr/>
            </p:nvSpPr>
            <p:spPr>
              <a:xfrm flipV="1">
                <a:off x="7980840" y="336384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67320" y="34689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070120" y="336600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"/>
            <p:cNvGrpSpPr/>
            <p:nvPr/>
          </p:nvGrpSpPr>
          <p:grpSpPr>
            <a:xfrm>
              <a:off x="7980840" y="3362400"/>
              <a:ext cx="271800" cy="105120"/>
              <a:chOff x="7980840" y="3362400"/>
              <a:chExt cx="271800" cy="105120"/>
            </a:xfrm>
          </p:grpSpPr>
          <p:sp>
            <p:nvSpPr>
              <p:cNvPr id="1287" name=""/>
              <p:cNvSpPr/>
              <p:nvPr/>
            </p:nvSpPr>
            <p:spPr>
              <a:xfrm>
                <a:off x="7980840" y="346536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8167320" y="336240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V="1">
                <a:off x="8070120" y="336240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0" name=""/>
          <p:cNvGrpSpPr/>
          <p:nvPr/>
        </p:nvGrpSpPr>
        <p:grpSpPr>
          <a:xfrm>
            <a:off x="7478640" y="4024440"/>
            <a:ext cx="555840" cy="282240"/>
            <a:chOff x="7478640" y="4024440"/>
            <a:chExt cx="555840" cy="282240"/>
          </a:xfrm>
        </p:grpSpPr>
        <p:sp>
          <p:nvSpPr>
            <p:cNvPr id="1291" name=""/>
            <p:cNvSpPr/>
            <p:nvPr/>
          </p:nvSpPr>
          <p:spPr>
            <a:xfrm>
              <a:off x="7482960" y="4150440"/>
              <a:ext cx="551160" cy="156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482960" y="413712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034480" y="413712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482960" y="4137120"/>
              <a:ext cx="546120" cy="95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478640" y="4024440"/>
              <a:ext cx="550800" cy="182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6" name=""/>
            <p:cNvGrpSpPr/>
            <p:nvPr/>
          </p:nvGrpSpPr>
          <p:grpSpPr>
            <a:xfrm>
              <a:off x="7611120" y="4064400"/>
              <a:ext cx="272880" cy="106560"/>
              <a:chOff x="7611120" y="4064400"/>
              <a:chExt cx="272880" cy="106560"/>
            </a:xfrm>
          </p:grpSpPr>
          <p:sp>
            <p:nvSpPr>
              <p:cNvPr id="1297" name=""/>
              <p:cNvSpPr/>
              <p:nvPr/>
            </p:nvSpPr>
            <p:spPr>
              <a:xfrm flipV="1">
                <a:off x="7611120" y="4064400"/>
                <a:ext cx="972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798320" y="4170960"/>
                <a:ext cx="8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700760" y="4066560"/>
                <a:ext cx="1011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"/>
            <p:cNvGrpSpPr/>
            <p:nvPr/>
          </p:nvGrpSpPr>
          <p:grpSpPr>
            <a:xfrm>
              <a:off x="7611120" y="4062960"/>
              <a:ext cx="272880" cy="106560"/>
              <a:chOff x="7611120" y="4062960"/>
              <a:chExt cx="272880" cy="106560"/>
            </a:xfrm>
          </p:grpSpPr>
          <p:sp>
            <p:nvSpPr>
              <p:cNvPr id="1301" name=""/>
              <p:cNvSpPr/>
              <p:nvPr/>
            </p:nvSpPr>
            <p:spPr>
              <a:xfrm>
                <a:off x="7611120" y="4167360"/>
                <a:ext cx="972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798320" y="4062960"/>
                <a:ext cx="8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V="1">
                <a:off x="7700760" y="4062960"/>
                <a:ext cx="1011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4" name=""/>
          <p:cNvGrpSpPr/>
          <p:nvPr/>
        </p:nvGrpSpPr>
        <p:grpSpPr>
          <a:xfrm>
            <a:off x="6805440" y="4611600"/>
            <a:ext cx="552600" cy="279000"/>
            <a:chOff x="6805440" y="4611600"/>
            <a:chExt cx="552600" cy="279000"/>
          </a:xfrm>
        </p:grpSpPr>
        <p:sp>
          <p:nvSpPr>
            <p:cNvPr id="1305" name=""/>
            <p:cNvSpPr/>
            <p:nvPr/>
          </p:nvSpPr>
          <p:spPr>
            <a:xfrm>
              <a:off x="6809760" y="4736160"/>
              <a:ext cx="54792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809760" y="47228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358040" y="47228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809760" y="4722840"/>
              <a:ext cx="54288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805440" y="4611600"/>
              <a:ext cx="54756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0" name=""/>
            <p:cNvGrpSpPr/>
            <p:nvPr/>
          </p:nvGrpSpPr>
          <p:grpSpPr>
            <a:xfrm>
              <a:off x="6937200" y="4651200"/>
              <a:ext cx="271080" cy="105120"/>
              <a:chOff x="6937200" y="4651200"/>
              <a:chExt cx="271080" cy="105120"/>
            </a:xfrm>
          </p:grpSpPr>
          <p:sp>
            <p:nvSpPr>
              <p:cNvPr id="1311" name=""/>
              <p:cNvSpPr/>
              <p:nvPr/>
            </p:nvSpPr>
            <p:spPr>
              <a:xfrm flipV="1">
                <a:off x="6937200" y="465120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122960" y="475632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7026480" y="465336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4" name=""/>
            <p:cNvGrpSpPr/>
            <p:nvPr/>
          </p:nvGrpSpPr>
          <p:grpSpPr>
            <a:xfrm>
              <a:off x="6937200" y="4649760"/>
              <a:ext cx="271080" cy="105120"/>
              <a:chOff x="6937200" y="4649760"/>
              <a:chExt cx="271080" cy="105120"/>
            </a:xfrm>
          </p:grpSpPr>
          <p:sp>
            <p:nvSpPr>
              <p:cNvPr id="1315" name=""/>
              <p:cNvSpPr/>
              <p:nvPr/>
            </p:nvSpPr>
            <p:spPr>
              <a:xfrm>
                <a:off x="6937200" y="475272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7122960" y="46497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V="1">
                <a:off x="7026480" y="464976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8" name=""/>
          <p:cNvGrpSpPr/>
          <p:nvPr/>
        </p:nvGrpSpPr>
        <p:grpSpPr>
          <a:xfrm>
            <a:off x="5916600" y="4160880"/>
            <a:ext cx="554040" cy="279000"/>
            <a:chOff x="5916600" y="4160880"/>
            <a:chExt cx="554040" cy="279000"/>
          </a:xfrm>
        </p:grpSpPr>
        <p:sp>
          <p:nvSpPr>
            <p:cNvPr id="1319" name=""/>
            <p:cNvSpPr/>
            <p:nvPr/>
          </p:nvSpPr>
          <p:spPr>
            <a:xfrm>
              <a:off x="5920920" y="4285440"/>
              <a:ext cx="54936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920920" y="427212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470640" y="427212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920920" y="4272120"/>
              <a:ext cx="54432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916600" y="4160880"/>
              <a:ext cx="54900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4" name=""/>
            <p:cNvGrpSpPr/>
            <p:nvPr/>
          </p:nvGrpSpPr>
          <p:grpSpPr>
            <a:xfrm>
              <a:off x="6048720" y="4200480"/>
              <a:ext cx="271800" cy="105120"/>
              <a:chOff x="6048720" y="4200480"/>
              <a:chExt cx="271800" cy="105120"/>
            </a:xfrm>
          </p:grpSpPr>
          <p:sp>
            <p:nvSpPr>
              <p:cNvPr id="1325" name=""/>
              <p:cNvSpPr/>
              <p:nvPr/>
            </p:nvSpPr>
            <p:spPr>
              <a:xfrm flipV="1">
                <a:off x="6048720" y="420048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235200" y="430560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138000" y="420264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8" name=""/>
            <p:cNvGrpSpPr/>
            <p:nvPr/>
          </p:nvGrpSpPr>
          <p:grpSpPr>
            <a:xfrm>
              <a:off x="6048720" y="4199040"/>
              <a:ext cx="271800" cy="105120"/>
              <a:chOff x="6048720" y="4199040"/>
              <a:chExt cx="271800" cy="105120"/>
            </a:xfrm>
          </p:grpSpPr>
          <p:sp>
            <p:nvSpPr>
              <p:cNvPr id="1329" name=""/>
              <p:cNvSpPr/>
              <p:nvPr/>
            </p:nvSpPr>
            <p:spPr>
              <a:xfrm>
                <a:off x="6048720" y="430200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235200" y="419904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V="1">
                <a:off x="6138000" y="419904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2" name=""/>
          <p:cNvSpPr/>
          <p:nvPr/>
        </p:nvSpPr>
        <p:spPr>
          <a:xfrm>
            <a:off x="6192720" y="4430880"/>
            <a:ext cx="1800" cy="27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6022800" y="4889520"/>
            <a:ext cx="1179720" cy="287280"/>
            <a:chOff x="6022800" y="4889520"/>
            <a:chExt cx="1179720" cy="287280"/>
          </a:xfrm>
        </p:grpSpPr>
        <p:sp>
          <p:nvSpPr>
            <p:cNvPr id="1334" name=""/>
            <p:cNvSpPr/>
            <p:nvPr/>
          </p:nvSpPr>
          <p:spPr>
            <a:xfrm rot="16200000">
              <a:off x="6022080" y="4894560"/>
              <a:ext cx="74520" cy="730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rot="16200000">
              <a:off x="6114960" y="4892400"/>
              <a:ext cx="76320" cy="730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rot="16200000">
              <a:off x="6201720" y="4897800"/>
              <a:ext cx="74520" cy="730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202520" y="48895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931080" y="503856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873840" y="5013360"/>
              <a:ext cx="92160" cy="13032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818400" y="4997520"/>
              <a:ext cx="115920" cy="17928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H="1" flipV="1">
              <a:off x="7020720" y="5023800"/>
              <a:ext cx="65160" cy="7596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 flipV="1">
              <a:off x="7048440" y="4998960"/>
              <a:ext cx="92160" cy="13032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 flipV="1">
              <a:off x="7070760" y="4963320"/>
              <a:ext cx="115920" cy="17964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7304040" y="5316480"/>
            <a:ext cx="367920" cy="212760"/>
            <a:chOff x="7304040" y="5316480"/>
            <a:chExt cx="367920" cy="212760"/>
          </a:xfrm>
        </p:grpSpPr>
        <p:sp>
          <p:nvSpPr>
            <p:cNvPr id="1345" name=""/>
            <p:cNvSpPr/>
            <p:nvPr/>
          </p:nvSpPr>
          <p:spPr>
            <a:xfrm>
              <a:off x="7417080" y="5391000"/>
              <a:ext cx="6480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359840" y="536580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304040" y="5349600"/>
              <a:ext cx="115920" cy="17964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 flipV="1">
              <a:off x="7506720" y="537660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 flipV="1">
              <a:off x="7534440" y="535068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 flipV="1">
              <a:off x="7556040" y="5316480"/>
              <a:ext cx="115560" cy="17928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1" name=""/>
          <p:cNvGrpSpPr/>
          <p:nvPr/>
        </p:nvGrpSpPr>
        <p:grpSpPr>
          <a:xfrm>
            <a:off x="6399360" y="5268960"/>
            <a:ext cx="367920" cy="212760"/>
            <a:chOff x="6399360" y="5268960"/>
            <a:chExt cx="367920" cy="212760"/>
          </a:xfrm>
        </p:grpSpPr>
        <p:sp>
          <p:nvSpPr>
            <p:cNvPr id="1352" name=""/>
            <p:cNvSpPr/>
            <p:nvPr/>
          </p:nvSpPr>
          <p:spPr>
            <a:xfrm>
              <a:off x="6512400" y="5343480"/>
              <a:ext cx="6480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455160" y="531828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99360" y="5302080"/>
              <a:ext cx="115920" cy="17964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 flipV="1">
              <a:off x="6602040" y="532908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 flipV="1">
              <a:off x="6629760" y="530316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 flipV="1">
              <a:off x="6651360" y="5268960"/>
              <a:ext cx="115560" cy="17928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13A3-9CB2-45A4-A419-06D79B1BC56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Visualizing the Interne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llions of connected computing devices: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hosts, end-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c’s workstations, serv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DA’s phones, toast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ning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network ap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communication lin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ber, copper, radio, satelli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router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rward packets (chunks) of data thru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894200" y="1079640"/>
            <a:ext cx="3687480" cy="4959000"/>
            <a:chOff x="4894200" y="1079640"/>
            <a:chExt cx="3687480" cy="4959000"/>
          </a:xfrm>
        </p:grpSpPr>
        <p:sp>
          <p:nvSpPr>
            <p:cNvPr id="55" name=""/>
            <p:cNvSpPr/>
            <p:nvPr/>
          </p:nvSpPr>
          <p:spPr>
            <a:xfrm>
              <a:off x="6772680" y="2483640"/>
              <a:ext cx="1799640" cy="1675080"/>
            </a:xfrm>
            <a:custGeom>
              <a:avLst/>
              <a:gdLst/>
              <a:ahLst/>
              <a:rect l="l" t="t" r="r" b="b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94200" y="2340720"/>
              <a:ext cx="1866240" cy="158976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62840" y="3793320"/>
              <a:ext cx="2973600" cy="221832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010840" y="2477160"/>
              <a:ext cx="733680" cy="318960"/>
              <a:chOff x="5010840" y="2477160"/>
              <a:chExt cx="733680" cy="318960"/>
            </a:xfrm>
          </p:grpSpPr>
          <p:pic>
            <p:nvPicPr>
              <p:cNvPr id="5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10840" y="2477160"/>
                <a:ext cx="41652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64800" y="2595240"/>
                <a:ext cx="27972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flipV="1">
                <a:off x="5417640" y="271872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10840" y="3072240"/>
              <a:ext cx="733680" cy="318960"/>
              <a:chOff x="5010840" y="3072240"/>
              <a:chExt cx="733680" cy="318960"/>
            </a:xfrm>
          </p:grpSpPr>
          <p:pic>
            <p:nvPicPr>
              <p:cNvPr id="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10840" y="3072240"/>
                <a:ext cx="41652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64800" y="3190320"/>
                <a:ext cx="27972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 flipV="1">
                <a:off x="5417640" y="331380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387040" y="2858760"/>
              <a:ext cx="70560" cy="214200"/>
              <a:chOff x="5387040" y="2858760"/>
              <a:chExt cx="70560" cy="214200"/>
            </a:xfrm>
          </p:grpSpPr>
          <p:sp>
            <p:nvSpPr>
              <p:cNvPr id="67" name=""/>
              <p:cNvSpPr/>
              <p:nvPr/>
            </p:nvSpPr>
            <p:spPr>
              <a:xfrm>
                <a:off x="5387040" y="2858760"/>
                <a:ext cx="65160" cy="604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389560" y="2935800"/>
                <a:ext cx="65160" cy="60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392440" y="3012840"/>
                <a:ext cx="65160" cy="60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5857560" y="3361680"/>
              <a:ext cx="208800" cy="394920"/>
              <a:chOff x="5857560" y="3361680"/>
              <a:chExt cx="208800" cy="394920"/>
            </a:xfrm>
          </p:grpSpPr>
          <p:sp>
            <p:nvSpPr>
              <p:cNvPr id="71" name=""/>
              <p:cNvSpPr/>
              <p:nvPr/>
            </p:nvSpPr>
            <p:spPr>
              <a:xfrm>
                <a:off x="5857560" y="3665520"/>
                <a:ext cx="208800" cy="91080"/>
              </a:xfrm>
              <a:prstGeom prst="parallelogram">
                <a:avLst>
                  <a:gd name="adj" fmla="val 8831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963400" y="3364200"/>
                <a:ext cx="95760" cy="303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858640" y="3450240"/>
                <a:ext cx="132120" cy="3038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857560" y="3361680"/>
                <a:ext cx="208800" cy="91080"/>
              </a:xfrm>
              <a:prstGeom prst="parallelogram">
                <a:avLst>
                  <a:gd name="adj" fmla="val 8831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066360" y="3367800"/>
                <a:ext cx="0" cy="29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5991120" y="3665520"/>
                <a:ext cx="7488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875560" y="3490200"/>
                <a:ext cx="87480" cy="174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888160" y="3543120"/>
                <a:ext cx="66600" cy="6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6094440" y="3515760"/>
              <a:ext cx="231840" cy="81000"/>
              <a:chOff x="6094440" y="3515760"/>
              <a:chExt cx="231840" cy="81000"/>
            </a:xfrm>
          </p:grpSpPr>
          <p:sp>
            <p:nvSpPr>
              <p:cNvPr id="80" name=""/>
              <p:cNvSpPr/>
              <p:nvPr/>
            </p:nvSpPr>
            <p:spPr>
              <a:xfrm rot="16200000">
                <a:off x="6089760" y="3526560"/>
                <a:ext cx="74520" cy="65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16200000">
                <a:off x="6172920" y="3523680"/>
                <a:ext cx="74520" cy="651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6200000">
                <a:off x="6256440" y="3520440"/>
                <a:ext cx="74520" cy="651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5994000" y="3269880"/>
              <a:ext cx="495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96880" y="3267000"/>
              <a:ext cx="108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92960" y="3264480"/>
              <a:ext cx="108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93400" y="2730600"/>
              <a:ext cx="289440" cy="26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5707440" y="3015720"/>
              <a:ext cx="275400" cy="32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6233760" y="3101400"/>
              <a:ext cx="1080" cy="16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6353640" y="3340440"/>
              <a:ext cx="208440" cy="394560"/>
              <a:chOff x="6353640" y="3340440"/>
              <a:chExt cx="208440" cy="394560"/>
            </a:xfrm>
          </p:grpSpPr>
          <p:sp>
            <p:nvSpPr>
              <p:cNvPr id="90" name=""/>
              <p:cNvSpPr/>
              <p:nvPr/>
            </p:nvSpPr>
            <p:spPr>
              <a:xfrm>
                <a:off x="6353640" y="3643920"/>
                <a:ext cx="208440" cy="91080"/>
              </a:xfrm>
              <a:prstGeom prst="parallelogram">
                <a:avLst>
                  <a:gd name="adj" fmla="val 88161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59120" y="3342960"/>
                <a:ext cx="95760" cy="3031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354720" y="3429000"/>
                <a:ext cx="132120" cy="3034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353640" y="3340440"/>
                <a:ext cx="208440" cy="91080"/>
              </a:xfrm>
              <a:prstGeom prst="parallelogram">
                <a:avLst>
                  <a:gd name="adj" fmla="val 88161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562080" y="3346560"/>
                <a:ext cx="0" cy="29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6486840" y="3643920"/>
                <a:ext cx="7488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371280" y="3468960"/>
                <a:ext cx="87480" cy="174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383880" y="3521880"/>
                <a:ext cx="66240" cy="6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5395320" y="3958560"/>
              <a:ext cx="478800" cy="925560"/>
              <a:chOff x="5395320" y="3958560"/>
              <a:chExt cx="478800" cy="925560"/>
            </a:xfrm>
          </p:grpSpPr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395320" y="3958560"/>
                <a:ext cx="416160" cy="33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flipV="1">
                <a:off x="5801760" y="4205160"/>
                <a:ext cx="7236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395320" y="4553280"/>
                <a:ext cx="416160" cy="33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 flipV="1">
                <a:off x="5801760" y="4803840"/>
                <a:ext cx="7236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5520600" y="4299840"/>
                <a:ext cx="70560" cy="222480"/>
                <a:chOff x="5520600" y="4299840"/>
                <a:chExt cx="70560" cy="2224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5520600" y="4299840"/>
                  <a:ext cx="65160" cy="6264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523120" y="4379760"/>
                  <a:ext cx="65160" cy="62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526000" y="4460040"/>
                  <a:ext cx="65160" cy="62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>
                <a:off x="5868720" y="4202640"/>
                <a:ext cx="0" cy="60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8" name="" descr=""/>
            <p:cNvPicPr/>
            <p:nvPr/>
          </p:nvPicPr>
          <p:blipFill>
            <a:blip r:embed="rId7"/>
            <a:stretch/>
          </p:blipFill>
          <p:spPr>
            <a:xfrm>
              <a:off x="6264720" y="4969080"/>
              <a:ext cx="416160" cy="33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5648760" y="4956840"/>
              <a:ext cx="416160" cy="33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rot="16200000">
              <a:off x="6066360" y="5060880"/>
              <a:ext cx="6264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6151320" y="5059800"/>
              <a:ext cx="6264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6200000">
              <a:off x="6228000" y="5063760"/>
              <a:ext cx="6264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6517800" y="4914360"/>
              <a:ext cx="1440" cy="5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893920" y="4903560"/>
              <a:ext cx="0" cy="6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5895000" y="4910400"/>
              <a:ext cx="62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5874480" y="4535280"/>
              <a:ext cx="946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76040" y="4580280"/>
              <a:ext cx="303480" cy="38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7272360" y="4578120"/>
              <a:ext cx="278280" cy="3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9"/>
            <a:stretch/>
          </p:blipFill>
          <p:spPr>
            <a:xfrm>
              <a:off x="7449480" y="4130640"/>
              <a:ext cx="203400" cy="2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10"/>
            <a:stretch/>
          </p:blipFill>
          <p:spPr>
            <a:xfrm>
              <a:off x="6112440" y="4210920"/>
              <a:ext cx="203400" cy="2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194880" y="3986640"/>
              <a:ext cx="1353960" cy="304200"/>
            </a:xfrm>
            <a:custGeom>
              <a:avLst/>
              <a:gdLst/>
              <a:ahLst/>
              <a:rect l="l" t="t" r="r" b="b"/>
              <a:pathLst>
                <a:path w="972" h="228">
                  <a:moveTo>
                    <a:pt x="0" y="228"/>
                  </a:moveTo>
                  <a:cubicBezTo>
                    <a:pt x="135" y="123"/>
                    <a:pt x="270" y="18"/>
                    <a:pt x="432" y="9"/>
                  </a:cubicBezTo>
                  <a:cubicBezTo>
                    <a:pt x="594" y="0"/>
                    <a:pt x="783" y="85"/>
                    <a:pt x="972" y="1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460920" y="5407920"/>
              <a:ext cx="406080" cy="426960"/>
              <a:chOff x="6460920" y="5407920"/>
              <a:chExt cx="406080" cy="4269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460920" y="5407920"/>
                <a:ext cx="3783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20680" y="551988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" name=""/>
            <p:cNvGrpSpPr/>
            <p:nvPr/>
          </p:nvGrpSpPr>
          <p:grpSpPr>
            <a:xfrm>
              <a:off x="7238160" y="5439960"/>
              <a:ext cx="406440" cy="426960"/>
              <a:chOff x="7238160" y="5439960"/>
              <a:chExt cx="406440" cy="426960"/>
            </a:xfrm>
          </p:grpSpPr>
          <p:pic>
            <p:nvPicPr>
              <p:cNvPr id="12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38160" y="5439960"/>
                <a:ext cx="37872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297920" y="5551920"/>
                <a:ext cx="34668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" name=""/>
            <p:cNvGrpSpPr/>
            <p:nvPr/>
          </p:nvGrpSpPr>
          <p:grpSpPr>
            <a:xfrm>
              <a:off x="6824160" y="5155920"/>
              <a:ext cx="378720" cy="376200"/>
              <a:chOff x="6824160" y="5155920"/>
              <a:chExt cx="378720" cy="376200"/>
            </a:xfrm>
          </p:grpSpPr>
          <p:pic>
            <p:nvPicPr>
              <p:cNvPr id="12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824160" y="5155920"/>
                <a:ext cx="378720" cy="37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6933960" y="5288040"/>
                <a:ext cx="266760" cy="2440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130880" y="5059800"/>
              <a:ext cx="0" cy="22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7850880" y="4483440"/>
              <a:ext cx="208800" cy="408960"/>
              <a:chOff x="7850880" y="4483440"/>
              <a:chExt cx="208800" cy="408960"/>
            </a:xfrm>
          </p:grpSpPr>
          <p:sp>
            <p:nvSpPr>
              <p:cNvPr id="133" name=""/>
              <p:cNvSpPr/>
              <p:nvPr/>
            </p:nvSpPr>
            <p:spPr>
              <a:xfrm>
                <a:off x="7850880" y="4798080"/>
                <a:ext cx="208800" cy="94320"/>
              </a:xfrm>
              <a:prstGeom prst="parallelogram">
                <a:avLst>
                  <a:gd name="adj" fmla="val 8528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956720" y="4485960"/>
                <a:ext cx="95760" cy="3142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51960" y="4575240"/>
                <a:ext cx="132120" cy="314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50880" y="4483440"/>
                <a:ext cx="208800" cy="94320"/>
              </a:xfrm>
              <a:prstGeom prst="parallelogram">
                <a:avLst>
                  <a:gd name="adj" fmla="val 8528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059680" y="448992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7984440" y="479808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68880" y="4616640"/>
                <a:ext cx="87480" cy="1810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881480" y="4671360"/>
                <a:ext cx="6660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7838640" y="4927680"/>
              <a:ext cx="208440" cy="409680"/>
              <a:chOff x="7838640" y="4927680"/>
              <a:chExt cx="208440" cy="409680"/>
            </a:xfrm>
          </p:grpSpPr>
          <p:sp>
            <p:nvSpPr>
              <p:cNvPr id="142" name=""/>
              <p:cNvSpPr/>
              <p:nvPr/>
            </p:nvSpPr>
            <p:spPr>
              <a:xfrm>
                <a:off x="7838640" y="5242680"/>
                <a:ext cx="208440" cy="94680"/>
              </a:xfrm>
              <a:prstGeom prst="parallelogram">
                <a:avLst>
                  <a:gd name="adj" fmla="val 84809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944120" y="4930200"/>
                <a:ext cx="9576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839720" y="5019480"/>
                <a:ext cx="13212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838640" y="4927680"/>
                <a:ext cx="208440" cy="94680"/>
              </a:xfrm>
              <a:prstGeom prst="parallelogram">
                <a:avLst>
                  <a:gd name="adj" fmla="val 8480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47080" y="493416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7971840" y="524268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856280" y="5060880"/>
                <a:ext cx="87480" cy="181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68880" y="511560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 flipV="1">
              <a:off x="7770240" y="4551120"/>
              <a:ext cx="0" cy="6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67360" y="5159880"/>
              <a:ext cx="10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64480" y="46846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487200" y="2781360"/>
              <a:ext cx="459720" cy="2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23560" y="2765160"/>
              <a:ext cx="484200" cy="2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7941600" y="3101400"/>
              <a:ext cx="241920" cy="68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72640" y="287748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97480" y="3526200"/>
              <a:ext cx="53496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7656840" y="3990600"/>
              <a:ext cx="26748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7431120" y="3069720"/>
              <a:ext cx="559800" cy="3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7440120" y="2509200"/>
              <a:ext cx="350640" cy="25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8158320" y="2685240"/>
              <a:ext cx="20052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26280" y="2323440"/>
              <a:ext cx="117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local I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76520" y="5334840"/>
              <a:ext cx="1280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compan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35040" y="3476880"/>
              <a:ext cx="16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regional I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5826960" y="1079640"/>
              <a:ext cx="501480" cy="232920"/>
              <a:chOff x="5826960" y="1079640"/>
              <a:chExt cx="501480" cy="232920"/>
            </a:xfrm>
          </p:grpSpPr>
          <p:sp>
            <p:nvSpPr>
              <p:cNvPr id="166" name=""/>
              <p:cNvSpPr/>
              <p:nvPr/>
            </p:nvSpPr>
            <p:spPr>
              <a:xfrm>
                <a:off x="5830920" y="118368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30920" y="11725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328440" y="11725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0920" y="117252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26960" y="107964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5946480" y="1112400"/>
                <a:ext cx="246240" cy="88200"/>
                <a:chOff x="5946480" y="1112400"/>
                <a:chExt cx="246240" cy="88200"/>
              </a:xfrm>
            </p:grpSpPr>
            <p:sp>
              <p:nvSpPr>
                <p:cNvPr id="172" name=""/>
                <p:cNvSpPr/>
                <p:nvPr/>
              </p:nvSpPr>
              <p:spPr>
                <a:xfrm flipV="1">
                  <a:off x="5946480" y="11124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115320" y="1200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027480" y="11145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5946480" y="1111680"/>
                <a:ext cx="246240" cy="88200"/>
                <a:chOff x="5946480" y="1111680"/>
                <a:chExt cx="246240" cy="88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946480" y="1198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115320" y="11116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V="1">
                  <a:off x="6027480" y="111168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" name=""/>
            <p:cNvGrpSpPr/>
            <p:nvPr/>
          </p:nvGrpSpPr>
          <p:grpSpPr>
            <a:xfrm>
              <a:off x="5837040" y="1656000"/>
              <a:ext cx="208440" cy="409680"/>
              <a:chOff x="5837040" y="1656000"/>
              <a:chExt cx="208440" cy="409680"/>
            </a:xfrm>
          </p:grpSpPr>
          <p:sp>
            <p:nvSpPr>
              <p:cNvPr id="180" name=""/>
              <p:cNvSpPr/>
              <p:nvPr/>
            </p:nvSpPr>
            <p:spPr>
              <a:xfrm>
                <a:off x="5837040" y="1971000"/>
                <a:ext cx="208440" cy="94680"/>
              </a:xfrm>
              <a:prstGeom prst="parallelogram">
                <a:avLst>
                  <a:gd name="adj" fmla="val 84809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942520" y="1658520"/>
                <a:ext cx="9576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38120" y="1747800"/>
                <a:ext cx="13212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837040" y="1656000"/>
                <a:ext cx="208440" cy="94680"/>
              </a:xfrm>
              <a:prstGeom prst="parallelogram">
                <a:avLst>
                  <a:gd name="adj" fmla="val 8480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045480" y="166248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5970240" y="197100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54680" y="1789200"/>
                <a:ext cx="87480" cy="181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67280" y="184392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8" name="" descr=""/>
            <p:cNvPicPr/>
            <p:nvPr/>
          </p:nvPicPr>
          <p:blipFill>
            <a:blip r:embed="rId16"/>
            <a:stretch/>
          </p:blipFill>
          <p:spPr>
            <a:xfrm>
              <a:off x="7091640" y="1134360"/>
              <a:ext cx="416520" cy="31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9" name=""/>
            <p:cNvGrpSpPr/>
            <p:nvPr/>
          </p:nvGrpSpPr>
          <p:grpSpPr>
            <a:xfrm>
              <a:off x="7029360" y="1740240"/>
              <a:ext cx="406080" cy="426960"/>
              <a:chOff x="7029360" y="1740240"/>
              <a:chExt cx="406080" cy="426960"/>
            </a:xfrm>
          </p:grpSpPr>
          <p:pic>
            <p:nvPicPr>
              <p:cNvPr id="190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029360" y="174024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7089120" y="185220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2" name=""/>
            <p:cNvGrpSpPr/>
            <p:nvPr/>
          </p:nvGrpSpPr>
          <p:grpSpPr>
            <a:xfrm>
              <a:off x="5969160" y="2877480"/>
              <a:ext cx="501120" cy="232920"/>
              <a:chOff x="5969160" y="2877480"/>
              <a:chExt cx="501120" cy="232920"/>
            </a:xfrm>
          </p:grpSpPr>
          <p:sp>
            <p:nvSpPr>
              <p:cNvPr id="193" name=""/>
              <p:cNvSpPr/>
              <p:nvPr/>
            </p:nvSpPr>
            <p:spPr>
              <a:xfrm>
                <a:off x="5973120" y="298152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973120" y="2970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0280" y="2970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973120" y="297036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969160" y="287748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6088680" y="2910240"/>
                <a:ext cx="245880" cy="88200"/>
                <a:chOff x="6088680" y="2910240"/>
                <a:chExt cx="245880" cy="88200"/>
              </a:xfrm>
            </p:grpSpPr>
            <p:sp>
              <p:nvSpPr>
                <p:cNvPr id="199" name=""/>
                <p:cNvSpPr/>
                <p:nvPr/>
              </p:nvSpPr>
              <p:spPr>
                <a:xfrm flipV="1">
                  <a:off x="6088680" y="29102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257160" y="2998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169680" y="29124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6088680" y="2909520"/>
                <a:ext cx="245880" cy="88200"/>
                <a:chOff x="6088680" y="2909520"/>
                <a:chExt cx="245880" cy="8820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088680" y="29959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257160" y="29095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V="1">
                  <a:off x="6169680" y="29095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6921720" y="2649240"/>
              <a:ext cx="501480" cy="232920"/>
              <a:chOff x="6921720" y="2649240"/>
              <a:chExt cx="501480" cy="232920"/>
            </a:xfrm>
          </p:grpSpPr>
          <p:sp>
            <p:nvSpPr>
              <p:cNvPr id="207" name=""/>
              <p:cNvSpPr/>
              <p:nvPr/>
            </p:nvSpPr>
            <p:spPr>
              <a:xfrm>
                <a:off x="6925680" y="275328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925680" y="27421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423200" y="27421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925680" y="274212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921720" y="264924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7041240" y="2682000"/>
                <a:ext cx="246240" cy="88200"/>
                <a:chOff x="7041240" y="2682000"/>
                <a:chExt cx="246240" cy="88200"/>
              </a:xfrm>
            </p:grpSpPr>
            <p:sp>
              <p:nvSpPr>
                <p:cNvPr id="213" name=""/>
                <p:cNvSpPr/>
                <p:nvPr/>
              </p:nvSpPr>
              <p:spPr>
                <a:xfrm flipV="1">
                  <a:off x="7041240" y="26820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210080" y="2770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122240" y="26841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7041240" y="2681280"/>
                <a:ext cx="246240" cy="88200"/>
                <a:chOff x="7041240" y="2681280"/>
                <a:chExt cx="246240" cy="8820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7041240" y="27676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210080" y="2681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V="1">
                  <a:off x="7122240" y="268128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0" name=""/>
            <p:cNvGrpSpPr/>
            <p:nvPr/>
          </p:nvGrpSpPr>
          <p:grpSpPr>
            <a:xfrm>
              <a:off x="6938640" y="3305880"/>
              <a:ext cx="501480" cy="233280"/>
              <a:chOff x="6938640" y="3305880"/>
              <a:chExt cx="501480" cy="233280"/>
            </a:xfrm>
          </p:grpSpPr>
          <p:sp>
            <p:nvSpPr>
              <p:cNvPr id="221" name=""/>
              <p:cNvSpPr/>
              <p:nvPr/>
            </p:nvSpPr>
            <p:spPr>
              <a:xfrm>
                <a:off x="6942600" y="3409920"/>
                <a:ext cx="49716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942600" y="33991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440120" y="33991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942600" y="339912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938640" y="33058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7058160" y="3338640"/>
                <a:ext cx="246240" cy="88560"/>
                <a:chOff x="7058160" y="3338640"/>
                <a:chExt cx="246240" cy="88560"/>
              </a:xfrm>
            </p:grpSpPr>
            <p:sp>
              <p:nvSpPr>
                <p:cNvPr id="227" name=""/>
                <p:cNvSpPr/>
                <p:nvPr/>
              </p:nvSpPr>
              <p:spPr>
                <a:xfrm flipV="1">
                  <a:off x="7058160" y="3338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227000" y="3427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139160" y="334080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7058160" y="3337560"/>
                <a:ext cx="246240" cy="88560"/>
                <a:chOff x="7058160" y="3337560"/>
                <a:chExt cx="246240" cy="885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7058160" y="34243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227000" y="33375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7139160" y="333756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4" name=""/>
            <p:cNvGrpSpPr/>
            <p:nvPr/>
          </p:nvGrpSpPr>
          <p:grpSpPr>
            <a:xfrm>
              <a:off x="7908120" y="2857320"/>
              <a:ext cx="501480" cy="233280"/>
              <a:chOff x="7908120" y="2857320"/>
              <a:chExt cx="501480" cy="233280"/>
            </a:xfrm>
          </p:grpSpPr>
          <p:sp>
            <p:nvSpPr>
              <p:cNvPr id="235" name=""/>
              <p:cNvSpPr/>
              <p:nvPr/>
            </p:nvSpPr>
            <p:spPr>
              <a:xfrm>
                <a:off x="7912080" y="2961360"/>
                <a:ext cx="49716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912080" y="295056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409600" y="295056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912080" y="295056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908120" y="28573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0" name=""/>
              <p:cNvGrpSpPr/>
              <p:nvPr/>
            </p:nvGrpSpPr>
            <p:grpSpPr>
              <a:xfrm>
                <a:off x="8027640" y="2890080"/>
                <a:ext cx="246240" cy="88560"/>
                <a:chOff x="8027640" y="2890080"/>
                <a:chExt cx="246240" cy="88560"/>
              </a:xfrm>
            </p:grpSpPr>
            <p:sp>
              <p:nvSpPr>
                <p:cNvPr id="241" name=""/>
                <p:cNvSpPr/>
                <p:nvPr/>
              </p:nvSpPr>
              <p:spPr>
                <a:xfrm flipV="1">
                  <a:off x="8027640" y="2890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8196480" y="2978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08640" y="289224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8027640" y="2889000"/>
                <a:ext cx="246240" cy="88560"/>
                <a:chOff x="8027640" y="2889000"/>
                <a:chExt cx="246240" cy="885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8027640" y="2975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8196480" y="2889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8108640" y="288900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8" name=""/>
            <p:cNvGrpSpPr/>
            <p:nvPr/>
          </p:nvGrpSpPr>
          <p:grpSpPr>
            <a:xfrm>
              <a:off x="7715880" y="3754440"/>
              <a:ext cx="501120" cy="233280"/>
              <a:chOff x="7715880" y="3754440"/>
              <a:chExt cx="501120" cy="233280"/>
            </a:xfrm>
          </p:grpSpPr>
          <p:sp>
            <p:nvSpPr>
              <p:cNvPr id="249" name=""/>
              <p:cNvSpPr/>
              <p:nvPr/>
            </p:nvSpPr>
            <p:spPr>
              <a:xfrm>
                <a:off x="7719840" y="3858480"/>
                <a:ext cx="49680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719840" y="384768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217000" y="384768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719840" y="384768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715880" y="3754440"/>
                <a:ext cx="49644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7835400" y="3787200"/>
                <a:ext cx="245880" cy="88560"/>
                <a:chOff x="7835400" y="3787200"/>
                <a:chExt cx="245880" cy="88560"/>
              </a:xfrm>
            </p:grpSpPr>
            <p:sp>
              <p:nvSpPr>
                <p:cNvPr id="255" name=""/>
                <p:cNvSpPr/>
                <p:nvPr/>
              </p:nvSpPr>
              <p:spPr>
                <a:xfrm flipV="1">
                  <a:off x="7835400" y="37872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03880" y="38757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916400" y="378936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7835400" y="3786120"/>
                <a:ext cx="245880" cy="88560"/>
                <a:chOff x="7835400" y="3786120"/>
                <a:chExt cx="245880" cy="8856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7835400" y="38728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003880" y="37861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7916400" y="378612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2" name=""/>
            <p:cNvGrpSpPr/>
            <p:nvPr/>
          </p:nvGrpSpPr>
          <p:grpSpPr>
            <a:xfrm>
              <a:off x="7381440" y="4339080"/>
              <a:ext cx="501480" cy="233280"/>
              <a:chOff x="7381440" y="4339080"/>
              <a:chExt cx="501480" cy="233280"/>
            </a:xfrm>
          </p:grpSpPr>
          <p:sp>
            <p:nvSpPr>
              <p:cNvPr id="263" name=""/>
              <p:cNvSpPr/>
              <p:nvPr/>
            </p:nvSpPr>
            <p:spPr>
              <a:xfrm>
                <a:off x="7385400" y="4443120"/>
                <a:ext cx="49716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385400" y="44323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882920" y="44323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385400" y="443232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381440" y="43390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8" name=""/>
              <p:cNvGrpSpPr/>
              <p:nvPr/>
            </p:nvGrpSpPr>
            <p:grpSpPr>
              <a:xfrm>
                <a:off x="7500960" y="4371840"/>
                <a:ext cx="246240" cy="88560"/>
                <a:chOff x="7500960" y="4371840"/>
                <a:chExt cx="246240" cy="88560"/>
              </a:xfrm>
            </p:grpSpPr>
            <p:sp>
              <p:nvSpPr>
                <p:cNvPr id="269" name=""/>
                <p:cNvSpPr/>
                <p:nvPr/>
              </p:nvSpPr>
              <p:spPr>
                <a:xfrm flipV="1">
                  <a:off x="7500960" y="43718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669800" y="44604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581960" y="437400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7500960" y="4370760"/>
                <a:ext cx="246240" cy="88560"/>
                <a:chOff x="7500960" y="4370760"/>
                <a:chExt cx="246240" cy="885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7500960" y="4457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7669800" y="43707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7581960" y="437076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6771600" y="4827600"/>
              <a:ext cx="501120" cy="233280"/>
              <a:chOff x="6771600" y="4827600"/>
              <a:chExt cx="501120" cy="233280"/>
            </a:xfrm>
          </p:grpSpPr>
          <p:sp>
            <p:nvSpPr>
              <p:cNvPr id="277" name=""/>
              <p:cNvSpPr/>
              <p:nvPr/>
            </p:nvSpPr>
            <p:spPr>
              <a:xfrm>
                <a:off x="6775560" y="4931640"/>
                <a:ext cx="49680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775560" y="492084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272720" y="492084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775560" y="492084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771600" y="4827600"/>
                <a:ext cx="49644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6891120" y="4860360"/>
                <a:ext cx="245880" cy="88560"/>
                <a:chOff x="6891120" y="4860360"/>
                <a:chExt cx="245880" cy="8856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6891120" y="48603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059600" y="4948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972120" y="486252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6891120" y="4859280"/>
                <a:ext cx="245880" cy="88560"/>
                <a:chOff x="6891120" y="4859280"/>
                <a:chExt cx="245880" cy="8856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6891120" y="49460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059600" y="4859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6972120" y="485928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0" name=""/>
            <p:cNvGrpSpPr/>
            <p:nvPr/>
          </p:nvGrpSpPr>
          <p:grpSpPr>
            <a:xfrm>
              <a:off x="5969160" y="4451040"/>
              <a:ext cx="501120" cy="232920"/>
              <a:chOff x="5969160" y="4451040"/>
              <a:chExt cx="501120" cy="232920"/>
            </a:xfrm>
          </p:grpSpPr>
          <p:sp>
            <p:nvSpPr>
              <p:cNvPr id="291" name=""/>
              <p:cNvSpPr/>
              <p:nvPr/>
            </p:nvSpPr>
            <p:spPr>
              <a:xfrm>
                <a:off x="5973120" y="45550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973120" y="4543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470280" y="4543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973120" y="45439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969160" y="44510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6088680" y="4483800"/>
                <a:ext cx="245880" cy="88200"/>
                <a:chOff x="6088680" y="4483800"/>
                <a:chExt cx="245880" cy="88200"/>
              </a:xfrm>
            </p:grpSpPr>
            <p:sp>
              <p:nvSpPr>
                <p:cNvPr id="297" name=""/>
                <p:cNvSpPr/>
                <p:nvPr/>
              </p:nvSpPr>
              <p:spPr>
                <a:xfrm flipV="1">
                  <a:off x="6088680" y="44838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257160" y="4572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169680" y="44859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88680" y="4483080"/>
                <a:ext cx="245880" cy="88200"/>
                <a:chOff x="6088680" y="4483080"/>
                <a:chExt cx="245880" cy="882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088680" y="45694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257160" y="44830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6169680" y="44830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5787720" y="124344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ou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982200" y="1370520"/>
              <a:ext cx="159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ks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09120" y="1753560"/>
              <a:ext cx="92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46880" y="1940400"/>
              <a:ext cx="100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ob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 flipV="1">
            <a:off x="6248520" y="4827600"/>
            <a:ext cx="144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3FA3-99C7-42B9-A29E-9F0A3B5430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Institutional access: local area network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555120" y="121608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ny/univ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ocal area networ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LAN) connects end system to edge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therne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red or dedicated cable connects end system and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 Mbs, 100Mbps, Gigabit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ploymen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stitutions, home LANs happening n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5416560" y="2427120"/>
            <a:ext cx="2797920" cy="2350800"/>
            <a:chOff x="5416560" y="2427120"/>
            <a:chExt cx="2797920" cy="2350800"/>
          </a:xfrm>
        </p:grpSpPr>
        <p:pic>
          <p:nvPicPr>
            <p:cNvPr id="1361" name="" descr=""/>
            <p:cNvPicPr/>
            <p:nvPr/>
          </p:nvPicPr>
          <p:blipFill>
            <a:blip r:embed="rId1"/>
            <a:stretch/>
          </p:blipFill>
          <p:spPr>
            <a:xfrm>
              <a:off x="5416560" y="2427120"/>
              <a:ext cx="598320" cy="58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2" name=""/>
            <p:cNvSpPr/>
            <p:nvPr/>
          </p:nvSpPr>
          <p:spPr>
            <a:xfrm flipV="1">
              <a:off x="6002640" y="2858760"/>
              <a:ext cx="102960" cy="1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3" name="" descr=""/>
            <p:cNvPicPr/>
            <p:nvPr/>
          </p:nvPicPr>
          <p:blipFill>
            <a:blip r:embed="rId2"/>
            <a:stretch/>
          </p:blipFill>
          <p:spPr>
            <a:xfrm>
              <a:off x="5416560" y="3468960"/>
              <a:ext cx="598320" cy="58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4" name=""/>
            <p:cNvSpPr/>
            <p:nvPr/>
          </p:nvSpPr>
          <p:spPr>
            <a:xfrm flipV="1">
              <a:off x="6002640" y="3909240"/>
              <a:ext cx="10296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5595840" y="3025800"/>
              <a:ext cx="102600" cy="389520"/>
              <a:chOff x="5595840" y="3025800"/>
              <a:chExt cx="102600" cy="389520"/>
            </a:xfrm>
          </p:grpSpPr>
          <p:sp>
            <p:nvSpPr>
              <p:cNvPr id="1366" name=""/>
              <p:cNvSpPr/>
              <p:nvPr/>
            </p:nvSpPr>
            <p:spPr>
              <a:xfrm>
                <a:off x="5595840" y="3025800"/>
                <a:ext cx="94680" cy="1098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599800" y="3165840"/>
                <a:ext cx="94680" cy="1094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603760" y="3305880"/>
                <a:ext cx="94680" cy="1094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9" name=""/>
            <p:cNvSpPr/>
            <p:nvPr/>
          </p:nvSpPr>
          <p:spPr>
            <a:xfrm>
              <a:off x="6098040" y="2854080"/>
              <a:ext cx="0" cy="1053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0" name="" descr=""/>
            <p:cNvPicPr/>
            <p:nvPr/>
          </p:nvPicPr>
          <p:blipFill>
            <a:blip r:embed="rId3"/>
            <a:stretch/>
          </p:blipFill>
          <p:spPr>
            <a:xfrm>
              <a:off x="6665400" y="4197600"/>
              <a:ext cx="601200" cy="58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1" name="" descr=""/>
            <p:cNvPicPr/>
            <p:nvPr/>
          </p:nvPicPr>
          <p:blipFill>
            <a:blip r:embed="rId4"/>
            <a:stretch/>
          </p:blipFill>
          <p:spPr>
            <a:xfrm>
              <a:off x="5781600" y="4176360"/>
              <a:ext cx="596520" cy="58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2" name=""/>
            <p:cNvSpPr/>
            <p:nvPr/>
          </p:nvSpPr>
          <p:spPr>
            <a:xfrm flipV="1">
              <a:off x="7031160" y="4102200"/>
              <a:ext cx="1800" cy="106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V="1">
              <a:off x="6132960" y="4083480"/>
              <a:ext cx="0" cy="11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>
              <a:off x="6134400" y="4093200"/>
              <a:ext cx="902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093720" y="3429360"/>
              <a:ext cx="146520" cy="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6" name=""/>
            <p:cNvGrpSpPr/>
            <p:nvPr/>
          </p:nvGrpSpPr>
          <p:grpSpPr>
            <a:xfrm>
              <a:off x="7512480" y="3749760"/>
              <a:ext cx="299160" cy="716760"/>
              <a:chOff x="7512480" y="3749760"/>
              <a:chExt cx="299160" cy="716760"/>
            </a:xfrm>
          </p:grpSpPr>
          <p:sp>
            <p:nvSpPr>
              <p:cNvPr id="1377" name=""/>
              <p:cNvSpPr/>
              <p:nvPr/>
            </p:nvSpPr>
            <p:spPr>
              <a:xfrm>
                <a:off x="7512480" y="430092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664040" y="3754440"/>
                <a:ext cx="137520" cy="55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514280" y="3910680"/>
                <a:ext cx="189720" cy="5511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512480" y="374976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811640" y="3761280"/>
                <a:ext cx="0" cy="53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H="1">
                <a:off x="7703640" y="4300920"/>
                <a:ext cx="10764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538040" y="3983040"/>
                <a:ext cx="125640" cy="317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556400" y="4078800"/>
                <a:ext cx="95400" cy="11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5" name=""/>
            <p:cNvGrpSpPr/>
            <p:nvPr/>
          </p:nvGrpSpPr>
          <p:grpSpPr>
            <a:xfrm>
              <a:off x="7915320" y="3749760"/>
              <a:ext cx="299160" cy="716760"/>
              <a:chOff x="7915320" y="3749760"/>
              <a:chExt cx="299160" cy="716760"/>
            </a:xfrm>
          </p:grpSpPr>
          <p:sp>
            <p:nvSpPr>
              <p:cNvPr id="1386" name=""/>
              <p:cNvSpPr/>
              <p:nvPr/>
            </p:nvSpPr>
            <p:spPr>
              <a:xfrm>
                <a:off x="7915320" y="430092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8066880" y="3754440"/>
                <a:ext cx="137520" cy="55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7917120" y="3910680"/>
                <a:ext cx="189720" cy="5511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915320" y="374976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8214480" y="3761280"/>
                <a:ext cx="0" cy="53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H="1">
                <a:off x="8106480" y="4300920"/>
                <a:ext cx="10764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940880" y="3983040"/>
                <a:ext cx="125640" cy="317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959240" y="4078800"/>
                <a:ext cx="95400" cy="11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4" name=""/>
            <p:cNvSpPr/>
            <p:nvPr/>
          </p:nvSpPr>
          <p:spPr>
            <a:xfrm>
              <a:off x="6960960" y="3506040"/>
              <a:ext cx="1127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V="1">
              <a:off x="7725600" y="3489840"/>
              <a:ext cx="0" cy="282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6" name=""/>
            <p:cNvGrpSpPr/>
            <p:nvPr/>
          </p:nvGrpSpPr>
          <p:grpSpPr>
            <a:xfrm>
              <a:off x="6240240" y="3290400"/>
              <a:ext cx="720360" cy="407520"/>
              <a:chOff x="6240240" y="3290400"/>
              <a:chExt cx="720360" cy="407520"/>
            </a:xfrm>
          </p:grpSpPr>
          <p:sp>
            <p:nvSpPr>
              <p:cNvPr id="1397" name=""/>
              <p:cNvSpPr/>
              <p:nvPr/>
            </p:nvSpPr>
            <p:spPr>
              <a:xfrm>
                <a:off x="6246000" y="3472200"/>
                <a:ext cx="714600" cy="225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246000" y="3453120"/>
                <a:ext cx="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960600" y="3453120"/>
                <a:ext cx="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246000" y="3453120"/>
                <a:ext cx="708120" cy="137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240240" y="3290400"/>
                <a:ext cx="714240" cy="263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2" name=""/>
              <p:cNvGrpSpPr/>
              <p:nvPr/>
            </p:nvGrpSpPr>
            <p:grpSpPr>
              <a:xfrm>
                <a:off x="6411960" y="3348360"/>
                <a:ext cx="353880" cy="153720"/>
                <a:chOff x="6411960" y="3348360"/>
                <a:chExt cx="353880" cy="153720"/>
              </a:xfrm>
            </p:grpSpPr>
            <p:sp>
              <p:nvSpPr>
                <p:cNvPr id="1403" name=""/>
                <p:cNvSpPr/>
                <p:nvPr/>
              </p:nvSpPr>
              <p:spPr>
                <a:xfrm flipV="1">
                  <a:off x="6411960" y="3348360"/>
                  <a:ext cx="12600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6654600" y="3502080"/>
                  <a:ext cx="11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6528240" y="3351240"/>
                  <a:ext cx="131040" cy="150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6411960" y="3345840"/>
                <a:ext cx="353880" cy="153720"/>
                <a:chOff x="6411960" y="3345840"/>
                <a:chExt cx="353880" cy="15372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6411960" y="3496680"/>
                  <a:ext cx="12600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654600" y="3345840"/>
                  <a:ext cx="11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V="1">
                  <a:off x="6528240" y="3346200"/>
                  <a:ext cx="131040" cy="150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10" name=""/>
            <p:cNvSpPr/>
            <p:nvPr/>
          </p:nvSpPr>
          <p:spPr>
            <a:xfrm>
              <a:off x="6599520" y="3684960"/>
              <a:ext cx="2160" cy="398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8084880" y="3489840"/>
              <a:ext cx="0" cy="282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9540-B128-4924-A422-7D03E8F9FAA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Wireless access network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62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r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irele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ccess network connects end system to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ireless LA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dio spectrum replaces wi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only used link layer IEEE 802.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14" name=""/>
          <p:cNvGrpSpPr/>
          <p:nvPr/>
        </p:nvGrpSpPr>
        <p:grpSpPr>
          <a:xfrm>
            <a:off x="4990320" y="1779120"/>
            <a:ext cx="3274560" cy="3949920"/>
            <a:chOff x="4990320" y="1779120"/>
            <a:chExt cx="3274560" cy="3949920"/>
          </a:xfrm>
        </p:grpSpPr>
        <p:grpSp>
          <p:nvGrpSpPr>
            <p:cNvPr id="1415" name=""/>
            <p:cNvGrpSpPr/>
            <p:nvPr/>
          </p:nvGrpSpPr>
          <p:grpSpPr>
            <a:xfrm>
              <a:off x="5794200" y="4084560"/>
              <a:ext cx="621720" cy="793800"/>
              <a:chOff x="5794200" y="4084560"/>
              <a:chExt cx="621720" cy="793800"/>
            </a:xfrm>
          </p:grpSpPr>
          <p:pic>
            <p:nvPicPr>
              <p:cNvPr id="14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794200" y="4084560"/>
                <a:ext cx="58068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886000" y="4292640"/>
                <a:ext cx="529920" cy="585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18" name=""/>
            <p:cNvGrpSpPr/>
            <p:nvPr/>
          </p:nvGrpSpPr>
          <p:grpSpPr>
            <a:xfrm>
              <a:off x="6949800" y="3998880"/>
              <a:ext cx="621360" cy="793440"/>
              <a:chOff x="6949800" y="3998880"/>
              <a:chExt cx="621360" cy="793440"/>
            </a:xfrm>
          </p:grpSpPr>
          <p:pic>
            <p:nvPicPr>
              <p:cNvPr id="141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49800" y="3998880"/>
                <a:ext cx="57888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041240" y="4206960"/>
                <a:ext cx="529920" cy="585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1" name=""/>
            <p:cNvGrpSpPr/>
            <p:nvPr/>
          </p:nvGrpSpPr>
          <p:grpSpPr>
            <a:xfrm>
              <a:off x="6029280" y="2840040"/>
              <a:ext cx="580320" cy="701280"/>
              <a:chOff x="6029280" y="2840040"/>
              <a:chExt cx="580320" cy="701280"/>
            </a:xfrm>
          </p:grpSpPr>
          <p:pic>
            <p:nvPicPr>
              <p:cNvPr id="142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29280" y="2840040"/>
                <a:ext cx="5803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3" name=""/>
              <p:cNvSpPr/>
              <p:nvPr/>
            </p:nvSpPr>
            <p:spPr>
              <a:xfrm>
                <a:off x="6198120" y="3086280"/>
                <a:ext cx="408960" cy="4546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4" name=""/>
            <p:cNvGrpSpPr/>
            <p:nvPr/>
          </p:nvGrpSpPr>
          <p:grpSpPr>
            <a:xfrm>
              <a:off x="6062400" y="2230200"/>
              <a:ext cx="766080" cy="432720"/>
              <a:chOff x="6062400" y="2230200"/>
              <a:chExt cx="766080" cy="432720"/>
            </a:xfrm>
          </p:grpSpPr>
          <p:sp>
            <p:nvSpPr>
              <p:cNvPr id="1425" name=""/>
              <p:cNvSpPr/>
              <p:nvPr/>
            </p:nvSpPr>
            <p:spPr>
              <a:xfrm>
                <a:off x="6068520" y="2423160"/>
                <a:ext cx="759960" cy="2397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068520" y="2403000"/>
                <a:ext cx="0" cy="14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828480" y="2403000"/>
                <a:ext cx="0" cy="14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068520" y="2403000"/>
                <a:ext cx="753120" cy="146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062400" y="2230200"/>
                <a:ext cx="759240" cy="279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0" name=""/>
              <p:cNvGrpSpPr/>
              <p:nvPr/>
            </p:nvGrpSpPr>
            <p:grpSpPr>
              <a:xfrm>
                <a:off x="6245280" y="2291400"/>
                <a:ext cx="375840" cy="163440"/>
                <a:chOff x="6245280" y="2291400"/>
                <a:chExt cx="375840" cy="163440"/>
              </a:xfrm>
            </p:grpSpPr>
            <p:sp>
              <p:nvSpPr>
                <p:cNvPr id="1431" name=""/>
                <p:cNvSpPr/>
                <p:nvPr/>
              </p:nvSpPr>
              <p:spPr>
                <a:xfrm flipV="1">
                  <a:off x="6245280" y="2291400"/>
                  <a:ext cx="13392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6503040" y="2454840"/>
                  <a:ext cx="11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6368760" y="2295000"/>
                  <a:ext cx="139320" cy="15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6245280" y="2289960"/>
                <a:ext cx="375840" cy="163440"/>
                <a:chOff x="6245280" y="2289960"/>
                <a:chExt cx="375840" cy="16344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6245280" y="2450160"/>
                  <a:ext cx="13392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6503040" y="2289960"/>
                  <a:ext cx="11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V="1">
                  <a:off x="6368760" y="2289960"/>
                  <a:ext cx="139320" cy="15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8" name=""/>
            <p:cNvSpPr/>
            <p:nvPr/>
          </p:nvSpPr>
          <p:spPr>
            <a:xfrm flipV="1">
              <a:off x="6459480" y="265536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9" name=""/>
            <p:cNvGrpSpPr/>
            <p:nvPr/>
          </p:nvGrpSpPr>
          <p:grpSpPr>
            <a:xfrm>
              <a:off x="7194240" y="2395440"/>
              <a:ext cx="621360" cy="793440"/>
              <a:chOff x="7194240" y="2395440"/>
              <a:chExt cx="621360" cy="793440"/>
            </a:xfrm>
          </p:grpSpPr>
          <p:pic>
            <p:nvPicPr>
              <p:cNvPr id="144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4240" y="2395440"/>
                <a:ext cx="57888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285680" y="2603520"/>
                <a:ext cx="529920" cy="585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42" name=""/>
            <p:cNvGrpSpPr/>
            <p:nvPr/>
          </p:nvGrpSpPr>
          <p:grpSpPr>
            <a:xfrm>
              <a:off x="7643520" y="3457440"/>
              <a:ext cx="621360" cy="793440"/>
              <a:chOff x="7643520" y="3457440"/>
              <a:chExt cx="621360" cy="793440"/>
            </a:xfrm>
          </p:grpSpPr>
          <p:pic>
            <p:nvPicPr>
              <p:cNvPr id="144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643520" y="3457440"/>
                <a:ext cx="57888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734960" y="3665520"/>
                <a:ext cx="529920" cy="585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45" name=""/>
            <p:cNvSpPr/>
            <p:nvPr/>
          </p:nvSpPr>
          <p:spPr>
            <a:xfrm>
              <a:off x="5007240" y="2884320"/>
              <a:ext cx="116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973560" y="4903560"/>
              <a:ext cx="116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ob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o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V="1">
              <a:off x="6402240" y="177912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990320" y="2198520"/>
              <a:ext cx="108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ou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83A1-0DF2-4499-882A-7A9F6CC985B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276120" y="18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Home network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38120" y="1266480"/>
            <a:ext cx="7770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ypical home network component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SL or cable mod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r/firewa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reless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51" name=""/>
          <p:cNvGrpSpPr/>
          <p:nvPr/>
        </p:nvGrpSpPr>
        <p:grpSpPr>
          <a:xfrm>
            <a:off x="6753240" y="3371760"/>
            <a:ext cx="622440" cy="793800"/>
            <a:chOff x="6753240" y="3371760"/>
            <a:chExt cx="622440" cy="793800"/>
          </a:xfrm>
        </p:grpSpPr>
        <p:pic>
          <p:nvPicPr>
            <p:cNvPr id="1452" name="" descr=""/>
            <p:cNvPicPr/>
            <p:nvPr/>
          </p:nvPicPr>
          <p:blipFill>
            <a:blip r:embed="rId1"/>
            <a:stretch/>
          </p:blipFill>
          <p:spPr>
            <a:xfrm>
              <a:off x="6753240" y="3371760"/>
              <a:ext cx="5810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3" name="" descr=""/>
            <p:cNvPicPr/>
            <p:nvPr/>
          </p:nvPicPr>
          <p:blipFill>
            <a:blip r:embed="rId2"/>
            <a:stretch/>
          </p:blipFill>
          <p:spPr>
            <a:xfrm>
              <a:off x="6845400" y="3579840"/>
              <a:ext cx="530280" cy="585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4" name=""/>
          <p:cNvGrpSpPr/>
          <p:nvPr/>
        </p:nvGrpSpPr>
        <p:grpSpPr>
          <a:xfrm>
            <a:off x="6800760" y="4330800"/>
            <a:ext cx="622080" cy="793440"/>
            <a:chOff x="6800760" y="4330800"/>
            <a:chExt cx="622080" cy="793440"/>
          </a:xfrm>
        </p:grpSpPr>
        <p:pic>
          <p:nvPicPr>
            <p:cNvPr id="1455" name="" descr=""/>
            <p:cNvPicPr/>
            <p:nvPr/>
          </p:nvPicPr>
          <p:blipFill>
            <a:blip r:embed="rId3"/>
            <a:stretch/>
          </p:blipFill>
          <p:spPr>
            <a:xfrm>
              <a:off x="6800760" y="4330800"/>
              <a:ext cx="579240" cy="69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6" name="" descr=""/>
            <p:cNvPicPr/>
            <p:nvPr/>
          </p:nvPicPr>
          <p:blipFill>
            <a:blip r:embed="rId4"/>
            <a:stretch/>
          </p:blipFill>
          <p:spPr>
            <a:xfrm>
              <a:off x="6892560" y="4538880"/>
              <a:ext cx="530280" cy="58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7" name=""/>
          <p:cNvGrpSpPr/>
          <p:nvPr/>
        </p:nvGrpSpPr>
        <p:grpSpPr>
          <a:xfrm>
            <a:off x="6108840" y="3936960"/>
            <a:ext cx="539280" cy="633240"/>
            <a:chOff x="6108840" y="3936960"/>
            <a:chExt cx="539280" cy="633240"/>
          </a:xfrm>
        </p:grpSpPr>
        <p:pic>
          <p:nvPicPr>
            <p:cNvPr id="1458" name="" descr=""/>
            <p:cNvPicPr/>
            <p:nvPr/>
          </p:nvPicPr>
          <p:blipFill>
            <a:blip r:embed="rId5"/>
            <a:stretch/>
          </p:blipFill>
          <p:spPr>
            <a:xfrm>
              <a:off x="6108840" y="3936960"/>
              <a:ext cx="5392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9" name=""/>
            <p:cNvSpPr/>
            <p:nvPr/>
          </p:nvSpPr>
          <p:spPr>
            <a:xfrm>
              <a:off x="6265440" y="4159440"/>
              <a:ext cx="380160" cy="4107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6478200" y="5133960"/>
            <a:ext cx="114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570440" y="3981600"/>
            <a:ext cx="114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apt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629160" y="449892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oute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ire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821120" y="4448160"/>
            <a:ext cx="776520" cy="677880"/>
          </a:xfrm>
          <a:custGeom>
            <a:avLst/>
            <a:gdLst/>
            <a:ahLst/>
            <a:rect l="l" t="t" r="r" b="b"/>
            <a:pathLst>
              <a:path w="489" h="427">
                <a:moveTo>
                  <a:pt x="489" y="427"/>
                </a:moveTo>
                <a:lnTo>
                  <a:pt x="166" y="427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4" name=""/>
          <p:cNvGraphicFramePr/>
          <p:nvPr/>
        </p:nvGraphicFramePr>
        <p:xfrm>
          <a:off x="5526000" y="3222720"/>
          <a:ext cx="598680" cy="579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26000" y="3222720"/>
                    <a:ext cx="59868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6" name=""/>
          <p:cNvSpPr/>
          <p:nvPr/>
        </p:nvSpPr>
        <p:spPr>
          <a:xfrm flipV="1">
            <a:off x="5021280" y="4237920"/>
            <a:ext cx="1244520" cy="98280"/>
          </a:xfrm>
          <a:custGeom>
            <a:avLst/>
            <a:gdLst/>
            <a:ahLst/>
            <a:rect l="l" t="t" r="r" b="b"/>
            <a:pathLst>
              <a:path w="513" h="1">
                <a:moveTo>
                  <a:pt x="0" y="0"/>
                </a:moveTo>
                <a:lnTo>
                  <a:pt x="51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7" name=""/>
          <p:cNvGraphicFramePr/>
          <p:nvPr/>
        </p:nvGraphicFramePr>
        <p:xfrm>
          <a:off x="5553000" y="4951440"/>
          <a:ext cx="598680" cy="579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6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53000" y="4951440"/>
                    <a:ext cx="59868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9" name="modem"/>
          <p:cNvSpPr/>
          <p:nvPr/>
        </p:nvSpPr>
        <p:spPr>
          <a:xfrm>
            <a:off x="2435400" y="4232160"/>
            <a:ext cx="1033200" cy="2080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470400" y="4368960"/>
            <a:ext cx="814320" cy="1440"/>
          </a:xfrm>
          <a:custGeom>
            <a:avLst/>
            <a:gdLst/>
            <a:ahLst/>
            <a:rect l="l" t="t" r="r" b="b"/>
            <a:pathLst>
              <a:path w="513" h="1">
                <a:moveTo>
                  <a:pt x="0" y="0"/>
                </a:moveTo>
                <a:lnTo>
                  <a:pt x="51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4765680" y="3591720"/>
            <a:ext cx="776160" cy="677880"/>
          </a:xfrm>
          <a:custGeom>
            <a:avLst/>
            <a:gdLst/>
            <a:ahLst/>
            <a:rect l="l" t="t" r="r" b="b"/>
            <a:pathLst>
              <a:path w="489" h="427">
                <a:moveTo>
                  <a:pt x="489" y="427"/>
                </a:moveTo>
                <a:lnTo>
                  <a:pt x="166" y="427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H="1" flipV="1">
            <a:off x="6512040" y="4613400"/>
            <a:ext cx="12384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373840" y="4484520"/>
            <a:ext cx="11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870200" y="4351320"/>
            <a:ext cx="56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061280" y="4305240"/>
            <a:ext cx="1238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/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d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4246560" y="4146480"/>
            <a:ext cx="766440" cy="432720"/>
            <a:chOff x="4246560" y="4146480"/>
            <a:chExt cx="766440" cy="432720"/>
          </a:xfrm>
        </p:grpSpPr>
        <p:sp>
          <p:nvSpPr>
            <p:cNvPr id="1477" name=""/>
            <p:cNvSpPr/>
            <p:nvPr/>
          </p:nvSpPr>
          <p:spPr>
            <a:xfrm>
              <a:off x="4252680" y="4339440"/>
              <a:ext cx="760320" cy="2397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252680" y="431928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013000" y="431928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252680" y="4319280"/>
              <a:ext cx="753480" cy="146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246560" y="4146480"/>
              <a:ext cx="759600" cy="2797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2" name=""/>
            <p:cNvGrpSpPr/>
            <p:nvPr/>
          </p:nvGrpSpPr>
          <p:grpSpPr>
            <a:xfrm>
              <a:off x="4429440" y="4207680"/>
              <a:ext cx="376200" cy="163440"/>
              <a:chOff x="4429440" y="4207680"/>
              <a:chExt cx="376200" cy="163440"/>
            </a:xfrm>
          </p:grpSpPr>
          <p:sp>
            <p:nvSpPr>
              <p:cNvPr id="1483" name=""/>
              <p:cNvSpPr/>
              <p:nvPr/>
            </p:nvSpPr>
            <p:spPr>
              <a:xfrm flipV="1">
                <a:off x="4429440" y="420768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4687560" y="437112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4553280" y="421128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6" name=""/>
            <p:cNvGrpSpPr/>
            <p:nvPr/>
          </p:nvGrpSpPr>
          <p:grpSpPr>
            <a:xfrm>
              <a:off x="4429440" y="4206240"/>
              <a:ext cx="376200" cy="163440"/>
              <a:chOff x="4429440" y="4206240"/>
              <a:chExt cx="376200" cy="163440"/>
            </a:xfrm>
          </p:grpSpPr>
          <p:sp>
            <p:nvSpPr>
              <p:cNvPr id="1487" name=""/>
              <p:cNvSpPr/>
              <p:nvPr/>
            </p:nvSpPr>
            <p:spPr>
              <a:xfrm>
                <a:off x="4429440" y="436644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4687560" y="420624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V="1">
                <a:off x="4553280" y="420624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0" name=""/>
          <p:cNvSpPr/>
          <p:nvPr/>
        </p:nvSpPr>
        <p:spPr>
          <a:xfrm>
            <a:off x="4142520" y="563256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switch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4862520" y="4875120"/>
            <a:ext cx="69840" cy="819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4875120" y="3586320"/>
            <a:ext cx="444600" cy="2093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4861080" y="5124600"/>
            <a:ext cx="347400" cy="528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5168-AFEB-4AA1-968B-6333B30D753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erformance Issu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6B37-1439-4BCF-A375-E1719240C61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7628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elay in packet-switched network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523800" y="1371240"/>
            <a:ext cx="381024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s experienc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la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end-to-end 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u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ources of delay at each h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505040" y="1324080"/>
            <a:ext cx="380988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dal processing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 bit erro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ermine output lin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ue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 waiting at output link for transmiss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pends on congestion level of rou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99" name=""/>
          <p:cNvGrpSpPr/>
          <p:nvPr/>
        </p:nvGrpSpPr>
        <p:grpSpPr>
          <a:xfrm>
            <a:off x="646920" y="3965400"/>
            <a:ext cx="6006240" cy="2176200"/>
            <a:chOff x="646920" y="3965400"/>
            <a:chExt cx="6006240" cy="2176200"/>
          </a:xfrm>
        </p:grpSpPr>
        <p:pic>
          <p:nvPicPr>
            <p:cNvPr id="1500" name="" descr=""/>
            <p:cNvPicPr/>
            <p:nvPr/>
          </p:nvPicPr>
          <p:blipFill>
            <a:blip r:embed="rId1"/>
            <a:stretch/>
          </p:blipFill>
          <p:spPr>
            <a:xfrm>
              <a:off x="1298520" y="5155920"/>
              <a:ext cx="6462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1" name=""/>
            <p:cNvSpPr/>
            <p:nvPr/>
          </p:nvSpPr>
          <p:spPr>
            <a:xfrm>
              <a:off x="2340000" y="4914720"/>
              <a:ext cx="1198800" cy="3700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340000" y="4846320"/>
              <a:ext cx="1198800" cy="26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349720" y="4617720"/>
              <a:ext cx="1198440" cy="4305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4" name=""/>
            <p:cNvGrpSpPr/>
            <p:nvPr/>
          </p:nvGrpSpPr>
          <p:grpSpPr>
            <a:xfrm>
              <a:off x="2695680" y="4647960"/>
              <a:ext cx="497160" cy="118800"/>
              <a:chOff x="2695680" y="4647960"/>
              <a:chExt cx="497160" cy="118800"/>
            </a:xfrm>
          </p:grpSpPr>
          <p:grpSp>
            <p:nvGrpSpPr>
              <p:cNvPr id="1505" name=""/>
              <p:cNvGrpSpPr/>
              <p:nvPr/>
            </p:nvGrpSpPr>
            <p:grpSpPr>
              <a:xfrm>
                <a:off x="2695680" y="4649400"/>
                <a:ext cx="497160" cy="117360"/>
                <a:chOff x="2695680" y="4649400"/>
                <a:chExt cx="497160" cy="117360"/>
              </a:xfrm>
            </p:grpSpPr>
            <p:sp>
              <p:nvSpPr>
                <p:cNvPr id="1506" name=""/>
                <p:cNvSpPr/>
                <p:nvPr/>
              </p:nvSpPr>
              <p:spPr>
                <a:xfrm flipV="1">
                  <a:off x="2695680" y="4649400"/>
                  <a:ext cx="1774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3036600" y="476676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2859120" y="4651560"/>
                  <a:ext cx="18468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9" name=""/>
              <p:cNvGrpSpPr/>
              <p:nvPr/>
            </p:nvGrpSpPr>
            <p:grpSpPr>
              <a:xfrm>
                <a:off x="2695680" y="4647960"/>
                <a:ext cx="497160" cy="117360"/>
                <a:chOff x="2695680" y="4647960"/>
                <a:chExt cx="497160" cy="117360"/>
              </a:xfrm>
            </p:grpSpPr>
            <p:sp>
              <p:nvSpPr>
                <p:cNvPr id="1510" name=""/>
                <p:cNvSpPr/>
                <p:nvPr/>
              </p:nvSpPr>
              <p:spPr>
                <a:xfrm>
                  <a:off x="2695680" y="4763160"/>
                  <a:ext cx="1774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3036600" y="464796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 flipV="1">
                  <a:off x="2859120" y="4648320"/>
                  <a:ext cx="18468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13" name=""/>
            <p:cNvSpPr/>
            <p:nvPr/>
          </p:nvSpPr>
          <p:spPr>
            <a:xfrm>
              <a:off x="5435640" y="4933800"/>
              <a:ext cx="1198800" cy="369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445360" y="49132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445360" y="4875120"/>
              <a:ext cx="1198440" cy="26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454720" y="4646520"/>
              <a:ext cx="1198440" cy="4302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7" name="" descr=""/>
            <p:cNvPicPr/>
            <p:nvPr/>
          </p:nvPicPr>
          <p:blipFill>
            <a:blip r:embed="rId2"/>
            <a:stretch/>
          </p:blipFill>
          <p:spPr>
            <a:xfrm>
              <a:off x="984240" y="4146480"/>
              <a:ext cx="64620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8" name=""/>
            <p:cNvSpPr/>
            <p:nvPr/>
          </p:nvSpPr>
          <p:spPr>
            <a:xfrm>
              <a:off x="1609920" y="4552920"/>
              <a:ext cx="50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1914480" y="5538240"/>
              <a:ext cx="19548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533760" y="4971960"/>
              <a:ext cx="19335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114640" y="4543200"/>
              <a:ext cx="0" cy="1000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124360" y="4976640"/>
              <a:ext cx="19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453200" y="4771800"/>
              <a:ext cx="147600" cy="200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200400" y="48434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362400" y="4843440"/>
              <a:ext cx="147600" cy="199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148120" y="474336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324160" y="4848120"/>
              <a:ext cx="2430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V="1">
              <a:off x="1990800" y="5124240"/>
              <a:ext cx="0" cy="1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224680" y="4572000"/>
              <a:ext cx="36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46920" y="41702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907200" y="518940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490920" y="478152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836520" y="438444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propag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3633480" y="4572000"/>
              <a:ext cx="3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958760" y="3965400"/>
              <a:ext cx="156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ransmi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056760" y="4237920"/>
              <a:ext cx="528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084400" y="5499000"/>
              <a:ext cx="135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nod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process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>
              <a:off x="2366640" y="554328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3176640" y="5305320"/>
              <a:ext cx="38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530880" y="575604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queue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 flipV="1">
              <a:off x="3338640" y="5305320"/>
              <a:ext cx="59544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2" name=""/>
            <p:cNvGrpSpPr/>
            <p:nvPr/>
          </p:nvGrpSpPr>
          <p:grpSpPr>
            <a:xfrm>
              <a:off x="5781960" y="4705200"/>
              <a:ext cx="497160" cy="118800"/>
              <a:chOff x="5781960" y="4705200"/>
              <a:chExt cx="497160" cy="118800"/>
            </a:xfrm>
          </p:grpSpPr>
          <p:grpSp>
            <p:nvGrpSpPr>
              <p:cNvPr id="1543" name=""/>
              <p:cNvGrpSpPr/>
              <p:nvPr/>
            </p:nvGrpSpPr>
            <p:grpSpPr>
              <a:xfrm>
                <a:off x="5781960" y="4706640"/>
                <a:ext cx="497160" cy="117360"/>
                <a:chOff x="5781960" y="4706640"/>
                <a:chExt cx="497160" cy="117360"/>
              </a:xfrm>
            </p:grpSpPr>
            <p:sp>
              <p:nvSpPr>
                <p:cNvPr id="1544" name=""/>
                <p:cNvSpPr/>
                <p:nvPr/>
              </p:nvSpPr>
              <p:spPr>
                <a:xfrm flipV="1">
                  <a:off x="5781960" y="470664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6122880" y="482400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5945400" y="4708800"/>
                  <a:ext cx="18432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7" name=""/>
              <p:cNvGrpSpPr/>
              <p:nvPr/>
            </p:nvGrpSpPr>
            <p:grpSpPr>
              <a:xfrm>
                <a:off x="5781960" y="4705200"/>
                <a:ext cx="497160" cy="117360"/>
                <a:chOff x="5781960" y="4705200"/>
                <a:chExt cx="497160" cy="117360"/>
              </a:xfrm>
            </p:grpSpPr>
            <p:sp>
              <p:nvSpPr>
                <p:cNvPr id="1548" name=""/>
                <p:cNvSpPr/>
                <p:nvPr/>
              </p:nvSpPr>
              <p:spPr>
                <a:xfrm>
                  <a:off x="5781960" y="482040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6122880" y="470520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 flipV="1">
                  <a:off x="5945400" y="4705560"/>
                  <a:ext cx="18432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20C3-EC33-4754-9E95-08564AA7EDD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7628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elay in packet-switched network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523800" y="1371240"/>
            <a:ext cx="3810240" cy="25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ansmission dela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=link bandwidth (bp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=packet length (bi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to send bits into link = L/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476600" y="1362240"/>
            <a:ext cx="415296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pagation dela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 = length of physical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= propagation speed in medium (~2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/se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agation delay = d/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54" name=""/>
          <p:cNvGrpSpPr/>
          <p:nvPr/>
        </p:nvGrpSpPr>
        <p:grpSpPr>
          <a:xfrm>
            <a:off x="637560" y="4432320"/>
            <a:ext cx="6006240" cy="2176200"/>
            <a:chOff x="637560" y="4432320"/>
            <a:chExt cx="6006240" cy="2176200"/>
          </a:xfrm>
        </p:grpSpPr>
        <p:pic>
          <p:nvPicPr>
            <p:cNvPr id="1555" name="" descr=""/>
            <p:cNvPicPr/>
            <p:nvPr/>
          </p:nvPicPr>
          <p:blipFill>
            <a:blip r:embed="rId1"/>
            <a:stretch/>
          </p:blipFill>
          <p:spPr>
            <a:xfrm>
              <a:off x="1289160" y="5622840"/>
              <a:ext cx="6462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>
              <a:off x="2330640" y="5381640"/>
              <a:ext cx="1198800" cy="3700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330640" y="5313240"/>
              <a:ext cx="1198800" cy="26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340360" y="5084640"/>
              <a:ext cx="1198440" cy="4305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9" name=""/>
            <p:cNvGrpSpPr/>
            <p:nvPr/>
          </p:nvGrpSpPr>
          <p:grpSpPr>
            <a:xfrm>
              <a:off x="2686320" y="5114880"/>
              <a:ext cx="497160" cy="118800"/>
              <a:chOff x="2686320" y="5114880"/>
              <a:chExt cx="497160" cy="118800"/>
            </a:xfrm>
          </p:grpSpPr>
          <p:grpSp>
            <p:nvGrpSpPr>
              <p:cNvPr id="1560" name=""/>
              <p:cNvGrpSpPr/>
              <p:nvPr/>
            </p:nvGrpSpPr>
            <p:grpSpPr>
              <a:xfrm>
                <a:off x="2686320" y="5116320"/>
                <a:ext cx="497160" cy="117360"/>
                <a:chOff x="2686320" y="5116320"/>
                <a:chExt cx="497160" cy="117360"/>
              </a:xfrm>
            </p:grpSpPr>
            <p:sp>
              <p:nvSpPr>
                <p:cNvPr id="1561" name=""/>
                <p:cNvSpPr/>
                <p:nvPr/>
              </p:nvSpPr>
              <p:spPr>
                <a:xfrm flipV="1">
                  <a:off x="2686320" y="5116320"/>
                  <a:ext cx="1774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3027240" y="523368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2849760" y="5118480"/>
                  <a:ext cx="18468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4" name=""/>
              <p:cNvGrpSpPr/>
              <p:nvPr/>
            </p:nvGrpSpPr>
            <p:grpSpPr>
              <a:xfrm>
                <a:off x="2686320" y="5114880"/>
                <a:ext cx="497160" cy="117360"/>
                <a:chOff x="2686320" y="5114880"/>
                <a:chExt cx="497160" cy="117360"/>
              </a:xfrm>
            </p:grpSpPr>
            <p:sp>
              <p:nvSpPr>
                <p:cNvPr id="1565" name=""/>
                <p:cNvSpPr/>
                <p:nvPr/>
              </p:nvSpPr>
              <p:spPr>
                <a:xfrm>
                  <a:off x="2686320" y="5230080"/>
                  <a:ext cx="1774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3027240" y="511488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 flipV="1">
                  <a:off x="2849760" y="5115240"/>
                  <a:ext cx="18468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68" name=""/>
            <p:cNvSpPr/>
            <p:nvPr/>
          </p:nvSpPr>
          <p:spPr>
            <a:xfrm>
              <a:off x="5426280" y="5400720"/>
              <a:ext cx="1198800" cy="369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436000" y="53802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436000" y="5342040"/>
              <a:ext cx="1198440" cy="26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445360" y="5113440"/>
              <a:ext cx="1198440" cy="4302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2" name="" descr=""/>
            <p:cNvPicPr/>
            <p:nvPr/>
          </p:nvPicPr>
          <p:blipFill>
            <a:blip r:embed="rId2"/>
            <a:stretch/>
          </p:blipFill>
          <p:spPr>
            <a:xfrm>
              <a:off x="974880" y="4613400"/>
              <a:ext cx="64620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3" name=""/>
            <p:cNvSpPr/>
            <p:nvPr/>
          </p:nvSpPr>
          <p:spPr>
            <a:xfrm>
              <a:off x="1600560" y="5019840"/>
              <a:ext cx="50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V="1">
              <a:off x="1905120" y="6005160"/>
              <a:ext cx="19548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524400" y="5438880"/>
              <a:ext cx="19335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105280" y="5010120"/>
              <a:ext cx="0" cy="1000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115000" y="5443560"/>
              <a:ext cx="19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443840" y="5238720"/>
              <a:ext cx="147600" cy="200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191040" y="531036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353040" y="5310360"/>
              <a:ext cx="147600" cy="199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138760" y="521028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314800" y="5315040"/>
              <a:ext cx="2430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V="1">
              <a:off x="1981440" y="5591160"/>
              <a:ext cx="0" cy="1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215320" y="5038920"/>
              <a:ext cx="36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37560" y="463716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97840" y="565632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481560" y="52484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827160" y="485136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propag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3624120" y="5038920"/>
              <a:ext cx="3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949400" y="4432320"/>
              <a:ext cx="156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ransmi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047400" y="4704840"/>
              <a:ext cx="528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075040" y="5965920"/>
              <a:ext cx="135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nod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process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>
              <a:off x="2357280" y="601020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>
              <a:off x="3167280" y="5772240"/>
              <a:ext cx="38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521520" y="622296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queue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 flipV="1">
              <a:off x="3329280" y="5772240"/>
              <a:ext cx="59544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7" name=""/>
            <p:cNvGrpSpPr/>
            <p:nvPr/>
          </p:nvGrpSpPr>
          <p:grpSpPr>
            <a:xfrm>
              <a:off x="5772600" y="5172120"/>
              <a:ext cx="497160" cy="118800"/>
              <a:chOff x="5772600" y="5172120"/>
              <a:chExt cx="497160" cy="118800"/>
            </a:xfrm>
          </p:grpSpPr>
          <p:grpSp>
            <p:nvGrpSpPr>
              <p:cNvPr id="1598" name=""/>
              <p:cNvGrpSpPr/>
              <p:nvPr/>
            </p:nvGrpSpPr>
            <p:grpSpPr>
              <a:xfrm>
                <a:off x="5772600" y="5173560"/>
                <a:ext cx="497160" cy="117360"/>
                <a:chOff x="5772600" y="5173560"/>
                <a:chExt cx="497160" cy="117360"/>
              </a:xfrm>
            </p:grpSpPr>
            <p:sp>
              <p:nvSpPr>
                <p:cNvPr id="1599" name=""/>
                <p:cNvSpPr/>
                <p:nvPr/>
              </p:nvSpPr>
              <p:spPr>
                <a:xfrm flipV="1">
                  <a:off x="5772600" y="517356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6113520" y="529092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5936040" y="5175720"/>
                  <a:ext cx="18432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2" name=""/>
              <p:cNvGrpSpPr/>
              <p:nvPr/>
            </p:nvGrpSpPr>
            <p:grpSpPr>
              <a:xfrm>
                <a:off x="5772600" y="5172120"/>
                <a:ext cx="497160" cy="117360"/>
                <a:chOff x="5772600" y="5172120"/>
                <a:chExt cx="497160" cy="117360"/>
              </a:xfrm>
            </p:grpSpPr>
            <p:sp>
              <p:nvSpPr>
                <p:cNvPr id="1603" name=""/>
                <p:cNvSpPr/>
                <p:nvPr/>
              </p:nvSpPr>
              <p:spPr>
                <a:xfrm>
                  <a:off x="5772600" y="528732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6113520" y="517212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 flipV="1">
                  <a:off x="5936040" y="5172480"/>
                  <a:ext cx="18432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06" name=""/>
          <p:cNvSpPr/>
          <p:nvPr/>
        </p:nvSpPr>
        <p:spPr>
          <a:xfrm>
            <a:off x="4476600" y="3790800"/>
            <a:ext cx="38005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and R ar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ver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quantiti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476600" y="3800520"/>
            <a:ext cx="3676680" cy="8762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5B90-FE8C-4166-990D-C2C53B10B29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8" name="" descr=""/>
          <p:cNvPicPr/>
          <p:nvPr/>
        </p:nvPicPr>
        <p:blipFill>
          <a:blip r:embed="rId1"/>
          <a:stretch/>
        </p:blipFill>
        <p:spPr>
          <a:xfrm>
            <a:off x="3981600" y="1290600"/>
            <a:ext cx="5162400" cy="3170160"/>
          </a:xfrm>
          <a:prstGeom prst="rect">
            <a:avLst/>
          </a:prstGeom>
          <a:ln w="0">
            <a:noFill/>
          </a:ln>
        </p:spPr>
      </p:pic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7628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Queueing delay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571320" y="1638360"/>
            <a:ext cx="380988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=link bandwidth (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=packet length (bi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=average packet arrival r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1" name=""/>
          <p:cNvSpPr/>
          <p:nvPr/>
        </p:nvSpPr>
        <p:spPr>
          <a:xfrm>
            <a:off x="714240" y="3552840"/>
            <a:ext cx="3810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affic intensity = La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571680" y="4448160"/>
            <a:ext cx="697212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/R ~ 0: average queueing delay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/R -&gt; 1: delays become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/R &gt; 1: more “work” arriving than can be serviced, average delay infini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AABA-ADA0-460B-989F-B18A0776A75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"/>
          <p:cNvSpPr/>
          <p:nvPr/>
        </p:nvSpPr>
        <p:spPr>
          <a:xfrm flipV="1">
            <a:off x="1362240" y="1743120"/>
            <a:ext cx="22860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Core: Packet Switch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615" name="" descr=""/>
          <p:cNvPicPr/>
          <p:nvPr/>
        </p:nvPicPr>
        <p:blipFill>
          <a:blip r:embed="rId1"/>
          <a:stretch/>
        </p:blipFill>
        <p:spPr>
          <a:xfrm>
            <a:off x="277920" y="1927080"/>
            <a:ext cx="4228920" cy="4524480"/>
          </a:xfrm>
          <a:prstGeom prst="rect">
            <a:avLst/>
          </a:prstGeom>
          <a:ln w="0">
            <a:noFill/>
          </a:ln>
        </p:spPr>
      </p:pic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97200" y="1469520"/>
            <a:ext cx="4352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ket-switching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ore and forward behavi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7" name="" descr=""/>
          <p:cNvPicPr/>
          <p:nvPr/>
        </p:nvPicPr>
        <p:blipFill>
          <a:blip r:embed="rId2"/>
          <a:stretch/>
        </p:blipFill>
        <p:spPr>
          <a:xfrm>
            <a:off x="755640" y="1365120"/>
            <a:ext cx="646200" cy="533520"/>
          </a:xfrm>
          <a:prstGeom prst="rect">
            <a:avLst/>
          </a:prstGeom>
          <a:ln w="0">
            <a:noFill/>
          </a:ln>
        </p:spPr>
      </p:pic>
      <p:pic>
        <p:nvPicPr>
          <p:cNvPr id="1618" name="" descr=""/>
          <p:cNvPicPr/>
          <p:nvPr/>
        </p:nvPicPr>
        <p:blipFill>
          <a:blip r:embed="rId3"/>
          <a:stretch/>
        </p:blipFill>
        <p:spPr>
          <a:xfrm>
            <a:off x="3632040" y="1374840"/>
            <a:ext cx="646200" cy="533160"/>
          </a:xfrm>
          <a:prstGeom prst="rect">
            <a:avLst/>
          </a:prstGeom>
          <a:ln w="0">
            <a:noFill/>
          </a:ln>
        </p:spPr>
      </p:pic>
      <p:grpSp>
        <p:nvGrpSpPr>
          <p:cNvPr id="1619" name=""/>
          <p:cNvGrpSpPr/>
          <p:nvPr/>
        </p:nvGrpSpPr>
        <p:grpSpPr>
          <a:xfrm>
            <a:off x="1889280" y="1593720"/>
            <a:ext cx="568080" cy="284040"/>
            <a:chOff x="1889280" y="1593720"/>
            <a:chExt cx="568080" cy="284040"/>
          </a:xfrm>
        </p:grpSpPr>
        <p:sp>
          <p:nvSpPr>
            <p:cNvPr id="1620" name=""/>
            <p:cNvSpPr/>
            <p:nvPr/>
          </p:nvSpPr>
          <p:spPr>
            <a:xfrm>
              <a:off x="1893960" y="1720800"/>
              <a:ext cx="563400" cy="156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893960" y="170820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457360" y="170820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893960" y="1708200"/>
              <a:ext cx="558720" cy="95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889280" y="1593720"/>
              <a:ext cx="563400" cy="1843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5" name=""/>
            <p:cNvGrpSpPr/>
            <p:nvPr/>
          </p:nvGrpSpPr>
          <p:grpSpPr>
            <a:xfrm>
              <a:off x="2025720" y="1635120"/>
              <a:ext cx="278640" cy="106200"/>
              <a:chOff x="2025720" y="1635120"/>
              <a:chExt cx="278640" cy="106200"/>
            </a:xfrm>
          </p:grpSpPr>
          <p:sp>
            <p:nvSpPr>
              <p:cNvPr id="1626" name=""/>
              <p:cNvSpPr/>
              <p:nvPr/>
            </p:nvSpPr>
            <p:spPr>
              <a:xfrm flipV="1">
                <a:off x="2025720" y="163512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216880" y="174132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117520" y="1637280"/>
                <a:ext cx="103320" cy="10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2025720" y="1633320"/>
              <a:ext cx="278640" cy="106560"/>
              <a:chOff x="2025720" y="1633320"/>
              <a:chExt cx="278640" cy="106560"/>
            </a:xfrm>
          </p:grpSpPr>
          <p:sp>
            <p:nvSpPr>
              <p:cNvPr id="1630" name=""/>
              <p:cNvSpPr/>
              <p:nvPr/>
            </p:nvSpPr>
            <p:spPr>
              <a:xfrm>
                <a:off x="2025720" y="173772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2216880" y="163332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V="1">
                <a:off x="2117520" y="1633320"/>
                <a:ext cx="10332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3" name=""/>
          <p:cNvGrpSpPr/>
          <p:nvPr/>
        </p:nvGrpSpPr>
        <p:grpSpPr>
          <a:xfrm>
            <a:off x="2727360" y="1574640"/>
            <a:ext cx="568080" cy="284040"/>
            <a:chOff x="2727360" y="1574640"/>
            <a:chExt cx="568080" cy="284040"/>
          </a:xfrm>
        </p:grpSpPr>
        <p:sp>
          <p:nvSpPr>
            <p:cNvPr id="1634" name=""/>
            <p:cNvSpPr/>
            <p:nvPr/>
          </p:nvSpPr>
          <p:spPr>
            <a:xfrm>
              <a:off x="2732040" y="1701720"/>
              <a:ext cx="563400" cy="156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732040" y="168912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295440" y="168912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732040" y="1689120"/>
              <a:ext cx="558720" cy="95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727360" y="1574640"/>
              <a:ext cx="563400" cy="1843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9" name=""/>
            <p:cNvGrpSpPr/>
            <p:nvPr/>
          </p:nvGrpSpPr>
          <p:grpSpPr>
            <a:xfrm>
              <a:off x="2863800" y="1616040"/>
              <a:ext cx="278640" cy="106200"/>
              <a:chOff x="2863800" y="1616040"/>
              <a:chExt cx="278640" cy="106200"/>
            </a:xfrm>
          </p:grpSpPr>
          <p:sp>
            <p:nvSpPr>
              <p:cNvPr id="1640" name=""/>
              <p:cNvSpPr/>
              <p:nvPr/>
            </p:nvSpPr>
            <p:spPr>
              <a:xfrm flipV="1">
                <a:off x="2863800" y="161604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054960" y="172224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2955600" y="1618200"/>
                <a:ext cx="103320" cy="10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3" name=""/>
            <p:cNvGrpSpPr/>
            <p:nvPr/>
          </p:nvGrpSpPr>
          <p:grpSpPr>
            <a:xfrm>
              <a:off x="2863800" y="1614240"/>
              <a:ext cx="278640" cy="106560"/>
              <a:chOff x="2863800" y="1614240"/>
              <a:chExt cx="278640" cy="106560"/>
            </a:xfrm>
          </p:grpSpPr>
          <p:sp>
            <p:nvSpPr>
              <p:cNvPr id="1644" name=""/>
              <p:cNvSpPr/>
              <p:nvPr/>
            </p:nvSpPr>
            <p:spPr>
              <a:xfrm>
                <a:off x="2863800" y="171864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054960" y="161424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flipV="1">
                <a:off x="2955600" y="1614240"/>
                <a:ext cx="10332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7" name=""/>
          <p:cNvSpPr/>
          <p:nvPr/>
        </p:nvSpPr>
        <p:spPr>
          <a:xfrm>
            <a:off x="4791240" y="5351400"/>
            <a:ext cx="3714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4694400" y="2370240"/>
            <a:ext cx="3965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eak message into smaller chunks: “packe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e-and-forward: switch waits until chunk has completely arrived, then forwards/ro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: what if message was sent as single un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20760" y="2584440"/>
            <a:ext cx="49680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6635-96B8-4C4A-8611-4C8E266BBE7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y layering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546120" y="13460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aling with complex system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ularization eases maintenance, updating of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ge of implementation of layer’s service transparent to rest of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change in gate procedure doesn’t affect rest of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olating “functions” and interactions compon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yered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ference mode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discu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yering considered harmfu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17E7-C0F1-4CDF-9D9A-23BA754CFD4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Layering: logical communication 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53" name=""/>
          <p:cNvSpPr/>
          <p:nvPr/>
        </p:nvSpPr>
        <p:spPr>
          <a:xfrm>
            <a:off x="3002040" y="1601640"/>
            <a:ext cx="5943600" cy="445140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4" name=""/>
          <p:cNvGrpSpPr/>
          <p:nvPr/>
        </p:nvGrpSpPr>
        <p:grpSpPr>
          <a:xfrm>
            <a:off x="3362400" y="1952640"/>
            <a:ext cx="2332440" cy="891360"/>
            <a:chOff x="3362400" y="1952640"/>
            <a:chExt cx="2332440" cy="891360"/>
          </a:xfrm>
        </p:grpSpPr>
        <p:pic>
          <p:nvPicPr>
            <p:cNvPr id="1655" name="" descr=""/>
            <p:cNvPicPr/>
            <p:nvPr/>
          </p:nvPicPr>
          <p:blipFill>
            <a:blip r:embed="rId1"/>
            <a:stretch/>
          </p:blipFill>
          <p:spPr>
            <a:xfrm>
              <a:off x="3362400" y="1952640"/>
              <a:ext cx="1323720" cy="89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2"/>
            <a:stretch/>
          </p:blipFill>
          <p:spPr>
            <a:xfrm>
              <a:off x="4805640" y="2282760"/>
              <a:ext cx="88920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7" name=""/>
            <p:cNvSpPr/>
            <p:nvPr/>
          </p:nvSpPr>
          <p:spPr>
            <a:xfrm flipV="1">
              <a:off x="4655160" y="2628720"/>
              <a:ext cx="36324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8" name=""/>
          <p:cNvGrpSpPr/>
          <p:nvPr/>
        </p:nvGrpSpPr>
        <p:grpSpPr>
          <a:xfrm>
            <a:off x="3362400" y="3619440"/>
            <a:ext cx="2332440" cy="893160"/>
            <a:chOff x="3362400" y="3619440"/>
            <a:chExt cx="2332440" cy="893160"/>
          </a:xfrm>
        </p:grpSpPr>
        <p:pic>
          <p:nvPicPr>
            <p:cNvPr id="1659" name="" descr=""/>
            <p:cNvPicPr/>
            <p:nvPr/>
          </p:nvPicPr>
          <p:blipFill>
            <a:blip r:embed="rId3"/>
            <a:stretch/>
          </p:blipFill>
          <p:spPr>
            <a:xfrm>
              <a:off x="3362400" y="3619440"/>
              <a:ext cx="1323720" cy="89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0" name="" descr=""/>
            <p:cNvPicPr/>
            <p:nvPr/>
          </p:nvPicPr>
          <p:blipFill>
            <a:blip r:embed="rId4"/>
            <a:stretch/>
          </p:blipFill>
          <p:spPr>
            <a:xfrm>
              <a:off x="4805640" y="3950280"/>
              <a:ext cx="889200" cy="51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1" name=""/>
            <p:cNvSpPr/>
            <p:nvPr/>
          </p:nvSpPr>
          <p:spPr>
            <a:xfrm flipV="1">
              <a:off x="4655160" y="4296960"/>
              <a:ext cx="36324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2" name=""/>
          <p:cNvGrpSpPr/>
          <p:nvPr/>
        </p:nvGrpSpPr>
        <p:grpSpPr>
          <a:xfrm>
            <a:off x="5062680" y="2995560"/>
            <a:ext cx="164160" cy="599040"/>
            <a:chOff x="5062680" y="2995560"/>
            <a:chExt cx="164160" cy="599040"/>
          </a:xfrm>
        </p:grpSpPr>
        <p:sp>
          <p:nvSpPr>
            <p:cNvPr id="1663" name=""/>
            <p:cNvSpPr/>
            <p:nvPr/>
          </p:nvSpPr>
          <p:spPr>
            <a:xfrm>
              <a:off x="5062680" y="2995560"/>
              <a:ext cx="151200" cy="1692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069160" y="3210840"/>
              <a:ext cx="151200" cy="168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075640" y="3426480"/>
              <a:ext cx="151200" cy="168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6" name=""/>
          <p:cNvGrpSpPr/>
          <p:nvPr/>
        </p:nvGrpSpPr>
        <p:grpSpPr>
          <a:xfrm>
            <a:off x="6056280" y="4433760"/>
            <a:ext cx="666000" cy="1105920"/>
            <a:chOff x="6056280" y="4433760"/>
            <a:chExt cx="666000" cy="1105920"/>
          </a:xfrm>
        </p:grpSpPr>
        <p:sp>
          <p:nvSpPr>
            <p:cNvPr id="1667" name=""/>
            <p:cNvSpPr/>
            <p:nvPr/>
          </p:nvSpPr>
          <p:spPr>
            <a:xfrm>
              <a:off x="6056280" y="5284080"/>
              <a:ext cx="666000" cy="255600"/>
            </a:xfrm>
            <a:prstGeom prst="parallelogram">
              <a:avLst>
                <a:gd name="adj" fmla="val 10037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393600" y="4440960"/>
              <a:ext cx="306000" cy="8496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060240" y="4681800"/>
              <a:ext cx="421920" cy="850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056280" y="4433760"/>
              <a:ext cx="666000" cy="255600"/>
            </a:xfrm>
            <a:prstGeom prst="parallelogram">
              <a:avLst>
                <a:gd name="adj" fmla="val 10037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722280" y="4451400"/>
              <a:ext cx="0" cy="83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H="1">
              <a:off x="6482520" y="5284080"/>
              <a:ext cx="239760" cy="2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113520" y="4793760"/>
              <a:ext cx="28008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153840" y="4941720"/>
              <a:ext cx="212400" cy="17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5" name=""/>
          <p:cNvGrpSpPr/>
          <p:nvPr/>
        </p:nvGrpSpPr>
        <p:grpSpPr>
          <a:xfrm>
            <a:off x="6808680" y="4864680"/>
            <a:ext cx="741960" cy="226080"/>
            <a:chOff x="6808680" y="4864680"/>
            <a:chExt cx="741960" cy="226080"/>
          </a:xfrm>
        </p:grpSpPr>
        <p:sp>
          <p:nvSpPr>
            <p:cNvPr id="1676" name=""/>
            <p:cNvSpPr/>
            <p:nvPr/>
          </p:nvSpPr>
          <p:spPr>
            <a:xfrm rot="16200000">
              <a:off x="6809400" y="4881960"/>
              <a:ext cx="208080" cy="209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 rot="16200000">
              <a:off x="7075440" y="4873320"/>
              <a:ext cx="208080" cy="208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rot="16200000">
              <a:off x="7342200" y="4864320"/>
              <a:ext cx="208080" cy="208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9" name=""/>
          <p:cNvSpPr/>
          <p:nvPr/>
        </p:nvSpPr>
        <p:spPr>
          <a:xfrm>
            <a:off x="6489720" y="4175280"/>
            <a:ext cx="15778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500880" y="4165560"/>
            <a:ext cx="4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8078760" y="4160880"/>
            <a:ext cx="324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5535720" y="2662200"/>
            <a:ext cx="919080" cy="7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V="1">
            <a:off x="5575320" y="3463920"/>
            <a:ext cx="8794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V="1">
            <a:off x="7253280" y="3703680"/>
            <a:ext cx="46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5" name=""/>
          <p:cNvGrpSpPr/>
          <p:nvPr/>
        </p:nvGrpSpPr>
        <p:grpSpPr>
          <a:xfrm>
            <a:off x="7662960" y="4397400"/>
            <a:ext cx="666000" cy="1107360"/>
            <a:chOff x="7662960" y="4397400"/>
            <a:chExt cx="666000" cy="1107360"/>
          </a:xfrm>
        </p:grpSpPr>
        <p:sp>
          <p:nvSpPr>
            <p:cNvPr id="1686" name=""/>
            <p:cNvSpPr/>
            <p:nvPr/>
          </p:nvSpPr>
          <p:spPr>
            <a:xfrm>
              <a:off x="7662960" y="5248800"/>
              <a:ext cx="666000" cy="255960"/>
            </a:xfrm>
            <a:prstGeom prst="parallelogram">
              <a:avLst>
                <a:gd name="adj" fmla="val 10023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8000280" y="4404600"/>
              <a:ext cx="306000" cy="8506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666920" y="4645800"/>
              <a:ext cx="421920" cy="851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662960" y="4397400"/>
              <a:ext cx="666000" cy="255960"/>
            </a:xfrm>
            <a:prstGeom prst="parallelogram">
              <a:avLst>
                <a:gd name="adj" fmla="val 10023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8328960" y="4415040"/>
              <a:ext cx="0" cy="83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8089200" y="5248800"/>
              <a:ext cx="239760" cy="24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720200" y="4758120"/>
              <a:ext cx="280080" cy="4906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760520" y="4906080"/>
              <a:ext cx="212400" cy="17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4" name=""/>
          <p:cNvGrpSpPr/>
          <p:nvPr/>
        </p:nvGrpSpPr>
        <p:grpSpPr>
          <a:xfrm>
            <a:off x="6408720" y="3076560"/>
            <a:ext cx="1598040" cy="653400"/>
            <a:chOff x="6408720" y="3076560"/>
            <a:chExt cx="1598040" cy="653400"/>
          </a:xfrm>
        </p:grpSpPr>
        <p:sp>
          <p:nvSpPr>
            <p:cNvPr id="1695" name=""/>
            <p:cNvSpPr/>
            <p:nvPr/>
          </p:nvSpPr>
          <p:spPr>
            <a:xfrm>
              <a:off x="6421680" y="3368160"/>
              <a:ext cx="1584720" cy="361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421680" y="3337560"/>
              <a:ext cx="0" cy="22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8006760" y="3337560"/>
              <a:ext cx="0" cy="22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421680" y="3337560"/>
              <a:ext cx="1570680" cy="221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408720" y="3076560"/>
              <a:ext cx="1584000" cy="4219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0" name=""/>
            <p:cNvGrpSpPr/>
            <p:nvPr/>
          </p:nvGrpSpPr>
          <p:grpSpPr>
            <a:xfrm>
              <a:off x="6789960" y="3169800"/>
              <a:ext cx="784440" cy="246240"/>
              <a:chOff x="6789960" y="3169800"/>
              <a:chExt cx="784440" cy="246240"/>
            </a:xfrm>
          </p:grpSpPr>
          <p:sp>
            <p:nvSpPr>
              <p:cNvPr id="1701" name=""/>
              <p:cNvSpPr/>
              <p:nvPr/>
            </p:nvSpPr>
            <p:spPr>
              <a:xfrm flipV="1">
                <a:off x="6789960" y="3169800"/>
                <a:ext cx="27972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7327800" y="3416040"/>
                <a:ext cx="24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048080" y="3174840"/>
                <a:ext cx="291240" cy="24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4" name=""/>
            <p:cNvGrpSpPr/>
            <p:nvPr/>
          </p:nvGrpSpPr>
          <p:grpSpPr>
            <a:xfrm>
              <a:off x="6789960" y="3166200"/>
              <a:ext cx="784440" cy="246240"/>
              <a:chOff x="6789960" y="3166200"/>
              <a:chExt cx="784440" cy="246240"/>
            </a:xfrm>
          </p:grpSpPr>
          <p:sp>
            <p:nvSpPr>
              <p:cNvPr id="1705" name=""/>
              <p:cNvSpPr/>
              <p:nvPr/>
            </p:nvSpPr>
            <p:spPr>
              <a:xfrm>
                <a:off x="6789960" y="3407400"/>
                <a:ext cx="27972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7327800" y="3166200"/>
                <a:ext cx="24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V="1">
                <a:off x="7048080" y="3166200"/>
                <a:ext cx="291240" cy="24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8" name=""/>
          <p:cNvGrpSpPr/>
          <p:nvPr/>
        </p:nvGrpSpPr>
        <p:grpSpPr>
          <a:xfrm>
            <a:off x="3327480" y="1373040"/>
            <a:ext cx="5488920" cy="4439160"/>
            <a:chOff x="3327480" y="1373040"/>
            <a:chExt cx="5488920" cy="4439160"/>
          </a:xfrm>
        </p:grpSpPr>
        <p:grpSp>
          <p:nvGrpSpPr>
            <p:cNvPr id="1709" name=""/>
            <p:cNvGrpSpPr/>
            <p:nvPr/>
          </p:nvGrpSpPr>
          <p:grpSpPr>
            <a:xfrm>
              <a:off x="3404520" y="1373040"/>
              <a:ext cx="1314720" cy="1479240"/>
              <a:chOff x="3404520" y="1373040"/>
              <a:chExt cx="1314720" cy="1479240"/>
            </a:xfrm>
          </p:grpSpPr>
          <p:sp>
            <p:nvSpPr>
              <p:cNvPr id="1710" name=""/>
              <p:cNvSpPr/>
              <p:nvPr/>
            </p:nvSpPr>
            <p:spPr>
              <a:xfrm>
                <a:off x="3461040" y="1373040"/>
                <a:ext cx="1258200" cy="141804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413880" y="1434240"/>
                <a:ext cx="1258200" cy="1418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422160" y="1452960"/>
                <a:ext cx="1232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V="1">
                <a:off x="3409200" y="174960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V="1">
                <a:off x="3428280" y="203256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V="1">
                <a:off x="3428280" y="2286360"/>
                <a:ext cx="124380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V="1">
                <a:off x="3404520" y="256500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3327480" y="3081960"/>
              <a:ext cx="1314720" cy="1479600"/>
              <a:chOff x="3327480" y="3081960"/>
              <a:chExt cx="1314720" cy="1479600"/>
            </a:xfrm>
          </p:grpSpPr>
          <p:sp>
            <p:nvSpPr>
              <p:cNvPr id="1718" name=""/>
              <p:cNvSpPr/>
              <p:nvPr/>
            </p:nvSpPr>
            <p:spPr>
              <a:xfrm>
                <a:off x="3384000" y="3081960"/>
                <a:ext cx="1258200" cy="14184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336840" y="3143160"/>
                <a:ext cx="1258200" cy="141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343680" y="3183840"/>
                <a:ext cx="1232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V="1">
                <a:off x="3332160" y="345852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V="1">
                <a:off x="3351240" y="374148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V="1">
                <a:off x="3351240" y="3995640"/>
                <a:ext cx="124380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V="1">
                <a:off x="3327480" y="427428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5729760" y="4332240"/>
              <a:ext cx="1314720" cy="1479960"/>
              <a:chOff x="5729760" y="4332240"/>
              <a:chExt cx="1314720" cy="1479960"/>
            </a:xfrm>
          </p:grpSpPr>
          <p:sp>
            <p:nvSpPr>
              <p:cNvPr id="1726" name=""/>
              <p:cNvSpPr/>
              <p:nvPr/>
            </p:nvSpPr>
            <p:spPr>
              <a:xfrm>
                <a:off x="5786280" y="4332240"/>
                <a:ext cx="1258200" cy="14187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5739120" y="4393440"/>
                <a:ext cx="1258200" cy="14187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5745960" y="4407480"/>
                <a:ext cx="1232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V="1">
                <a:off x="5734440" y="470916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V="1">
                <a:off x="5753520" y="499212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V="1">
                <a:off x="5753520" y="5245920"/>
                <a:ext cx="124380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V="1">
                <a:off x="5729760" y="552492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7501680" y="4326480"/>
              <a:ext cx="1314720" cy="1479240"/>
              <a:chOff x="7501680" y="4326480"/>
              <a:chExt cx="1314720" cy="1479240"/>
            </a:xfrm>
          </p:grpSpPr>
          <p:sp>
            <p:nvSpPr>
              <p:cNvPr id="1734" name=""/>
              <p:cNvSpPr/>
              <p:nvPr/>
            </p:nvSpPr>
            <p:spPr>
              <a:xfrm>
                <a:off x="7558200" y="4326480"/>
                <a:ext cx="1258200" cy="141804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7511040" y="4387680"/>
                <a:ext cx="1258200" cy="1418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7517880" y="4404600"/>
                <a:ext cx="1232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V="1">
                <a:off x="7506360" y="470304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 flipV="1">
                <a:off x="7525440" y="498600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V="1">
                <a:off x="7525440" y="5239800"/>
                <a:ext cx="124380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V="1">
                <a:off x="7501680" y="551844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1" name=""/>
            <p:cNvGrpSpPr/>
            <p:nvPr/>
          </p:nvGrpSpPr>
          <p:grpSpPr>
            <a:xfrm>
              <a:off x="6535800" y="2815200"/>
              <a:ext cx="1312200" cy="945360"/>
              <a:chOff x="6535800" y="2815200"/>
              <a:chExt cx="1312200" cy="945360"/>
            </a:xfrm>
          </p:grpSpPr>
          <p:sp>
            <p:nvSpPr>
              <p:cNvPr id="1742" name=""/>
              <p:cNvSpPr/>
              <p:nvPr/>
            </p:nvSpPr>
            <p:spPr>
              <a:xfrm>
                <a:off x="6589440" y="2815200"/>
                <a:ext cx="1258560" cy="9154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6535800" y="2876400"/>
                <a:ext cx="1258560" cy="88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658560" y="2893680"/>
                <a:ext cx="9669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V="1">
                <a:off x="6536880" y="3191400"/>
                <a:ext cx="124488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V="1">
                <a:off x="6555960" y="3474360"/>
                <a:ext cx="124488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254160" y="1396800"/>
            <a:ext cx="2743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laye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ribu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tities” implement layer functions at each n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tities perform actions, exchange messages with peer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8258-1787-4032-9169-CEC28C0D9EF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“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ool” Internet Applianc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654440" y="1501920"/>
            <a:ext cx="3000600" cy="3528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1166760" y="1368360"/>
            <a:ext cx="1895400" cy="15606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281960" y="2774880"/>
            <a:ext cx="215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pictur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eiva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97160" y="5048280"/>
            <a:ext cx="386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-enabled toaster+weather forec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dancing-man.com/robin/toasty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F151-032D-40D5-A007-14E8053BA5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04560" y="132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Layering: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logical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ommunication 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49" name=""/>
          <p:cNvSpPr/>
          <p:nvPr/>
        </p:nvSpPr>
        <p:spPr>
          <a:xfrm>
            <a:off x="3002040" y="1601640"/>
            <a:ext cx="5943600" cy="445140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0" name="" descr=""/>
          <p:cNvPicPr/>
          <p:nvPr/>
        </p:nvPicPr>
        <p:blipFill>
          <a:blip r:embed="rId1"/>
          <a:stretch/>
        </p:blipFill>
        <p:spPr>
          <a:xfrm>
            <a:off x="3362400" y="1952640"/>
            <a:ext cx="1324080" cy="892080"/>
          </a:xfrm>
          <a:prstGeom prst="rect">
            <a:avLst/>
          </a:prstGeom>
          <a:ln w="0">
            <a:noFill/>
          </a:ln>
        </p:spPr>
      </p:pic>
      <p:sp>
        <p:nvSpPr>
          <p:cNvPr id="1751" name=""/>
          <p:cNvSpPr/>
          <p:nvPr/>
        </p:nvSpPr>
        <p:spPr>
          <a:xfrm flipV="1">
            <a:off x="4654440" y="2629080"/>
            <a:ext cx="3636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2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1324080" cy="893880"/>
          </a:xfrm>
          <a:prstGeom prst="rect">
            <a:avLst/>
          </a:prstGeom>
          <a:ln w="0">
            <a:noFill/>
          </a:ln>
        </p:spPr>
      </p:pic>
      <p:sp>
        <p:nvSpPr>
          <p:cNvPr id="1753" name=""/>
          <p:cNvSpPr/>
          <p:nvPr/>
        </p:nvSpPr>
        <p:spPr>
          <a:xfrm flipV="1">
            <a:off x="4654440" y="4297320"/>
            <a:ext cx="36360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4" name=""/>
          <p:cNvGrpSpPr/>
          <p:nvPr/>
        </p:nvGrpSpPr>
        <p:grpSpPr>
          <a:xfrm>
            <a:off x="5062680" y="2995560"/>
            <a:ext cx="164160" cy="599040"/>
            <a:chOff x="5062680" y="2995560"/>
            <a:chExt cx="164160" cy="599040"/>
          </a:xfrm>
        </p:grpSpPr>
        <p:sp>
          <p:nvSpPr>
            <p:cNvPr id="1755" name=""/>
            <p:cNvSpPr/>
            <p:nvPr/>
          </p:nvSpPr>
          <p:spPr>
            <a:xfrm>
              <a:off x="5062680" y="2995560"/>
              <a:ext cx="151200" cy="1692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069160" y="3210840"/>
              <a:ext cx="151200" cy="168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075640" y="3426480"/>
              <a:ext cx="151200" cy="168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8" name=""/>
          <p:cNvGrpSpPr/>
          <p:nvPr/>
        </p:nvGrpSpPr>
        <p:grpSpPr>
          <a:xfrm>
            <a:off x="6056280" y="4433760"/>
            <a:ext cx="666000" cy="1105920"/>
            <a:chOff x="6056280" y="4433760"/>
            <a:chExt cx="666000" cy="1105920"/>
          </a:xfrm>
        </p:grpSpPr>
        <p:sp>
          <p:nvSpPr>
            <p:cNvPr id="1759" name=""/>
            <p:cNvSpPr/>
            <p:nvPr/>
          </p:nvSpPr>
          <p:spPr>
            <a:xfrm>
              <a:off x="6056280" y="5284080"/>
              <a:ext cx="666000" cy="255600"/>
            </a:xfrm>
            <a:prstGeom prst="parallelogram">
              <a:avLst>
                <a:gd name="adj" fmla="val 10037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393600" y="4440960"/>
              <a:ext cx="306000" cy="8496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060240" y="4681800"/>
              <a:ext cx="421920" cy="850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056280" y="4433760"/>
              <a:ext cx="666000" cy="255600"/>
            </a:xfrm>
            <a:prstGeom prst="parallelogram">
              <a:avLst>
                <a:gd name="adj" fmla="val 10037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722280" y="4451400"/>
              <a:ext cx="0" cy="83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6482520" y="5284080"/>
              <a:ext cx="239760" cy="2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113520" y="4793760"/>
              <a:ext cx="28008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153840" y="4941720"/>
              <a:ext cx="212400" cy="17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6808680" y="4864680"/>
            <a:ext cx="741960" cy="226080"/>
            <a:chOff x="6808680" y="4864680"/>
            <a:chExt cx="741960" cy="226080"/>
          </a:xfrm>
        </p:grpSpPr>
        <p:sp>
          <p:nvSpPr>
            <p:cNvPr id="1768" name=""/>
            <p:cNvSpPr/>
            <p:nvPr/>
          </p:nvSpPr>
          <p:spPr>
            <a:xfrm rot="16200000">
              <a:off x="6809400" y="4881960"/>
              <a:ext cx="208080" cy="209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rot="16200000">
              <a:off x="7075440" y="4873320"/>
              <a:ext cx="208080" cy="208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rot="16200000">
              <a:off x="7342200" y="4864320"/>
              <a:ext cx="208080" cy="208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1" name=""/>
          <p:cNvSpPr/>
          <p:nvPr/>
        </p:nvSpPr>
        <p:spPr>
          <a:xfrm>
            <a:off x="6489720" y="4175280"/>
            <a:ext cx="15778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500880" y="4165560"/>
            <a:ext cx="4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8078760" y="4160880"/>
            <a:ext cx="324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5535720" y="2662200"/>
            <a:ext cx="919080" cy="7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V="1">
            <a:off x="5575320" y="3463920"/>
            <a:ext cx="8794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V="1">
            <a:off x="7253280" y="3703680"/>
            <a:ext cx="46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7" name=""/>
          <p:cNvGrpSpPr/>
          <p:nvPr/>
        </p:nvGrpSpPr>
        <p:grpSpPr>
          <a:xfrm>
            <a:off x="7662960" y="4397400"/>
            <a:ext cx="666000" cy="1107360"/>
            <a:chOff x="7662960" y="4397400"/>
            <a:chExt cx="666000" cy="1107360"/>
          </a:xfrm>
        </p:grpSpPr>
        <p:sp>
          <p:nvSpPr>
            <p:cNvPr id="1778" name=""/>
            <p:cNvSpPr/>
            <p:nvPr/>
          </p:nvSpPr>
          <p:spPr>
            <a:xfrm>
              <a:off x="7662960" y="5248800"/>
              <a:ext cx="666000" cy="255960"/>
            </a:xfrm>
            <a:prstGeom prst="parallelogram">
              <a:avLst>
                <a:gd name="adj" fmla="val 10023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8000280" y="4404600"/>
              <a:ext cx="306000" cy="8506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666920" y="4645800"/>
              <a:ext cx="421920" cy="851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662960" y="4397400"/>
              <a:ext cx="666000" cy="255960"/>
            </a:xfrm>
            <a:prstGeom prst="parallelogram">
              <a:avLst>
                <a:gd name="adj" fmla="val 10023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8328960" y="4415040"/>
              <a:ext cx="0" cy="83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>
              <a:off x="8089200" y="5248800"/>
              <a:ext cx="239760" cy="24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720200" y="4758120"/>
              <a:ext cx="280080" cy="4906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760520" y="4906080"/>
              <a:ext cx="212400" cy="17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6" name=""/>
          <p:cNvGrpSpPr/>
          <p:nvPr/>
        </p:nvGrpSpPr>
        <p:grpSpPr>
          <a:xfrm>
            <a:off x="6408720" y="3076560"/>
            <a:ext cx="1598040" cy="653400"/>
            <a:chOff x="6408720" y="3076560"/>
            <a:chExt cx="1598040" cy="653400"/>
          </a:xfrm>
        </p:grpSpPr>
        <p:sp>
          <p:nvSpPr>
            <p:cNvPr id="1787" name=""/>
            <p:cNvSpPr/>
            <p:nvPr/>
          </p:nvSpPr>
          <p:spPr>
            <a:xfrm>
              <a:off x="6421680" y="3368160"/>
              <a:ext cx="1584720" cy="361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421680" y="3337560"/>
              <a:ext cx="0" cy="22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8006760" y="3337560"/>
              <a:ext cx="0" cy="22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421680" y="3337560"/>
              <a:ext cx="1570680" cy="221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408720" y="3076560"/>
              <a:ext cx="1584000" cy="4219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2" name=""/>
            <p:cNvGrpSpPr/>
            <p:nvPr/>
          </p:nvGrpSpPr>
          <p:grpSpPr>
            <a:xfrm>
              <a:off x="6789960" y="3169800"/>
              <a:ext cx="784440" cy="246240"/>
              <a:chOff x="6789960" y="3169800"/>
              <a:chExt cx="784440" cy="246240"/>
            </a:xfrm>
          </p:grpSpPr>
          <p:sp>
            <p:nvSpPr>
              <p:cNvPr id="1793" name=""/>
              <p:cNvSpPr/>
              <p:nvPr/>
            </p:nvSpPr>
            <p:spPr>
              <a:xfrm flipV="1">
                <a:off x="6789960" y="3169800"/>
                <a:ext cx="27972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7327800" y="3416040"/>
                <a:ext cx="24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7048080" y="3174840"/>
                <a:ext cx="291240" cy="24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6" name=""/>
            <p:cNvGrpSpPr/>
            <p:nvPr/>
          </p:nvGrpSpPr>
          <p:grpSpPr>
            <a:xfrm>
              <a:off x="6789960" y="3166200"/>
              <a:ext cx="784440" cy="246240"/>
              <a:chOff x="6789960" y="3166200"/>
              <a:chExt cx="784440" cy="246240"/>
            </a:xfrm>
          </p:grpSpPr>
          <p:sp>
            <p:nvSpPr>
              <p:cNvPr id="1797" name=""/>
              <p:cNvSpPr/>
              <p:nvPr/>
            </p:nvSpPr>
            <p:spPr>
              <a:xfrm>
                <a:off x="6789960" y="3407400"/>
                <a:ext cx="27972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327800" y="3166200"/>
                <a:ext cx="24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V="1">
                <a:off x="7048080" y="3166200"/>
                <a:ext cx="291240" cy="24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0" name=""/>
          <p:cNvGrpSpPr/>
          <p:nvPr/>
        </p:nvGrpSpPr>
        <p:grpSpPr>
          <a:xfrm>
            <a:off x="3327480" y="1305000"/>
            <a:ext cx="5488920" cy="4439160"/>
            <a:chOff x="3327480" y="1305000"/>
            <a:chExt cx="5488920" cy="4439160"/>
          </a:xfrm>
        </p:grpSpPr>
        <p:grpSp>
          <p:nvGrpSpPr>
            <p:cNvPr id="1801" name=""/>
            <p:cNvGrpSpPr/>
            <p:nvPr/>
          </p:nvGrpSpPr>
          <p:grpSpPr>
            <a:xfrm>
              <a:off x="3404520" y="1305000"/>
              <a:ext cx="1314720" cy="1479240"/>
              <a:chOff x="3404520" y="1305000"/>
              <a:chExt cx="1314720" cy="1479240"/>
            </a:xfrm>
          </p:grpSpPr>
          <p:sp>
            <p:nvSpPr>
              <p:cNvPr id="1802" name=""/>
              <p:cNvSpPr/>
              <p:nvPr/>
            </p:nvSpPr>
            <p:spPr>
              <a:xfrm>
                <a:off x="3461040" y="1305000"/>
                <a:ext cx="1258200" cy="141804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3413880" y="1366200"/>
                <a:ext cx="1258200" cy="1418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3422160" y="1384920"/>
                <a:ext cx="1232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flipV="1">
                <a:off x="3409200" y="168156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V="1">
                <a:off x="3428280" y="196452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V="1">
                <a:off x="3428280" y="2218320"/>
                <a:ext cx="124380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V="1">
                <a:off x="3404520" y="249696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9" name=""/>
            <p:cNvGrpSpPr/>
            <p:nvPr/>
          </p:nvGrpSpPr>
          <p:grpSpPr>
            <a:xfrm>
              <a:off x="3327480" y="3013920"/>
              <a:ext cx="1314720" cy="1479600"/>
              <a:chOff x="3327480" y="3013920"/>
              <a:chExt cx="1314720" cy="1479600"/>
            </a:xfrm>
          </p:grpSpPr>
          <p:sp>
            <p:nvSpPr>
              <p:cNvPr id="1810" name=""/>
              <p:cNvSpPr/>
              <p:nvPr/>
            </p:nvSpPr>
            <p:spPr>
              <a:xfrm>
                <a:off x="3384000" y="3013920"/>
                <a:ext cx="1258200" cy="14184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3336840" y="3075120"/>
                <a:ext cx="1258200" cy="141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3343680" y="3115800"/>
                <a:ext cx="1232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V="1">
                <a:off x="3332160" y="339048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V="1">
                <a:off x="3351240" y="367344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V="1">
                <a:off x="3351240" y="3927600"/>
                <a:ext cx="124380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V="1">
                <a:off x="3327480" y="420624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7" name=""/>
            <p:cNvGrpSpPr/>
            <p:nvPr/>
          </p:nvGrpSpPr>
          <p:grpSpPr>
            <a:xfrm>
              <a:off x="5729760" y="4264200"/>
              <a:ext cx="1314720" cy="1479960"/>
              <a:chOff x="5729760" y="4264200"/>
              <a:chExt cx="1314720" cy="1479960"/>
            </a:xfrm>
          </p:grpSpPr>
          <p:sp>
            <p:nvSpPr>
              <p:cNvPr id="1818" name=""/>
              <p:cNvSpPr/>
              <p:nvPr/>
            </p:nvSpPr>
            <p:spPr>
              <a:xfrm>
                <a:off x="5786280" y="4264200"/>
                <a:ext cx="1258200" cy="14187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739120" y="4325400"/>
                <a:ext cx="1258200" cy="14187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745960" y="4339440"/>
                <a:ext cx="1232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5734440" y="464112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5753520" y="492408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5753520" y="5177880"/>
                <a:ext cx="124380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5729760" y="545688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"/>
            <p:cNvGrpSpPr/>
            <p:nvPr/>
          </p:nvGrpSpPr>
          <p:grpSpPr>
            <a:xfrm>
              <a:off x="7501680" y="4258440"/>
              <a:ext cx="1314720" cy="1479240"/>
              <a:chOff x="7501680" y="4258440"/>
              <a:chExt cx="1314720" cy="1479240"/>
            </a:xfrm>
          </p:grpSpPr>
          <p:sp>
            <p:nvSpPr>
              <p:cNvPr id="1826" name=""/>
              <p:cNvSpPr/>
              <p:nvPr/>
            </p:nvSpPr>
            <p:spPr>
              <a:xfrm>
                <a:off x="7558200" y="4258440"/>
                <a:ext cx="1258200" cy="141804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511040" y="4319640"/>
                <a:ext cx="1258200" cy="1418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7517880" y="4336560"/>
                <a:ext cx="1232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flipV="1">
                <a:off x="7506360" y="463500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V="1">
                <a:off x="7525440" y="4917960"/>
                <a:ext cx="124380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V="1">
                <a:off x="7525440" y="5171760"/>
                <a:ext cx="124380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V="1">
                <a:off x="7501680" y="545040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3" name=""/>
            <p:cNvGrpSpPr/>
            <p:nvPr/>
          </p:nvGrpSpPr>
          <p:grpSpPr>
            <a:xfrm>
              <a:off x="6535800" y="2747160"/>
              <a:ext cx="1312200" cy="945360"/>
              <a:chOff x="6535800" y="2747160"/>
              <a:chExt cx="1312200" cy="945360"/>
            </a:xfrm>
          </p:grpSpPr>
          <p:sp>
            <p:nvSpPr>
              <p:cNvPr id="1834" name=""/>
              <p:cNvSpPr/>
              <p:nvPr/>
            </p:nvSpPr>
            <p:spPr>
              <a:xfrm>
                <a:off x="6589440" y="2747160"/>
                <a:ext cx="1258560" cy="9154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6535800" y="2808360"/>
                <a:ext cx="1258560" cy="88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6658560" y="2825640"/>
                <a:ext cx="9669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V="1">
                <a:off x="6536880" y="3123360"/>
                <a:ext cx="124488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V="1">
                <a:off x="6555960" y="3406320"/>
                <a:ext cx="124488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9" name=""/>
          <p:cNvSpPr/>
          <p:nvPr/>
        </p:nvSpPr>
        <p:spPr>
          <a:xfrm>
            <a:off x="3828960" y="1514520"/>
            <a:ext cx="3724200" cy="3162240"/>
          </a:xfrm>
          <a:custGeom>
            <a:avLst/>
            <a:gdLst/>
            <a:ahLst/>
            <a:rect l="l" t="t" r="r" b="b"/>
            <a:pathLst>
              <a:path w="2346" h="1992">
                <a:moveTo>
                  <a:pt x="12" y="0"/>
                </a:moveTo>
                <a:lnTo>
                  <a:pt x="0" y="288"/>
                </a:lnTo>
                <a:lnTo>
                  <a:pt x="2112" y="1812"/>
                </a:lnTo>
                <a:lnTo>
                  <a:pt x="2346" y="19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0" name=""/>
          <p:cNvGrpSpPr/>
          <p:nvPr/>
        </p:nvGrpSpPr>
        <p:grpSpPr>
          <a:xfrm>
            <a:off x="7966080" y="4046400"/>
            <a:ext cx="700200" cy="383760"/>
            <a:chOff x="7966080" y="4046400"/>
            <a:chExt cx="700200" cy="383760"/>
          </a:xfrm>
        </p:grpSpPr>
        <p:sp>
          <p:nvSpPr>
            <p:cNvPr id="1841" name=""/>
            <p:cNvSpPr/>
            <p:nvPr/>
          </p:nvSpPr>
          <p:spPr>
            <a:xfrm>
              <a:off x="7966080" y="4046400"/>
              <a:ext cx="700200" cy="376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7988400" y="406188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3" name=""/>
          <p:cNvGrpSpPr/>
          <p:nvPr/>
        </p:nvGrpSpPr>
        <p:grpSpPr>
          <a:xfrm>
            <a:off x="3451320" y="1114560"/>
            <a:ext cx="701640" cy="383760"/>
            <a:chOff x="3451320" y="1114560"/>
            <a:chExt cx="701640" cy="383760"/>
          </a:xfrm>
        </p:grpSpPr>
        <p:sp>
          <p:nvSpPr>
            <p:cNvPr id="1844" name=""/>
            <p:cNvSpPr/>
            <p:nvPr/>
          </p:nvSpPr>
          <p:spPr>
            <a:xfrm>
              <a:off x="3451320" y="1114560"/>
              <a:ext cx="701640" cy="376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473640" y="113004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254160" y="1396800"/>
            <a:ext cx="2813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.g.: transp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ke data from ap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addressing, reliability check info to form “datagram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 datagram to pe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it for peer to ack receip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ogy: post off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47" name=""/>
          <p:cNvGrpSpPr/>
          <p:nvPr/>
        </p:nvGrpSpPr>
        <p:grpSpPr>
          <a:xfrm>
            <a:off x="5308560" y="3408480"/>
            <a:ext cx="700200" cy="383760"/>
            <a:chOff x="5308560" y="3408480"/>
            <a:chExt cx="700200" cy="383760"/>
          </a:xfrm>
        </p:grpSpPr>
        <p:sp>
          <p:nvSpPr>
            <p:cNvPr id="1848" name=""/>
            <p:cNvSpPr/>
            <p:nvPr/>
          </p:nvSpPr>
          <p:spPr>
            <a:xfrm>
              <a:off x="5308560" y="3408480"/>
              <a:ext cx="700200" cy="376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330880" y="342396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0" name=""/>
          <p:cNvSpPr/>
          <p:nvPr/>
        </p:nvSpPr>
        <p:spPr>
          <a:xfrm>
            <a:off x="6019920" y="3753000"/>
            <a:ext cx="285480" cy="218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 flipH="1" flipV="1">
            <a:off x="5448240" y="2790720"/>
            <a:ext cx="200160" cy="16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7524720" y="4714920"/>
            <a:ext cx="1257480" cy="276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438360" y="1762200"/>
            <a:ext cx="1257480" cy="276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8439120" y="4419720"/>
            <a:ext cx="9720" cy="361800"/>
          </a:xfrm>
          <a:custGeom>
            <a:avLst/>
            <a:gdLst/>
            <a:ahLst/>
            <a:rect l="l" t="t" r="r" b="b"/>
            <a:pathLst>
              <a:path w="6" h="228">
                <a:moveTo>
                  <a:pt x="6" y="2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824360" y="2206800"/>
            <a:ext cx="890640" cy="518760"/>
          </a:xfrm>
          <a:custGeom>
            <a:avLst/>
            <a:gdLst/>
            <a:ahLst/>
            <a:rect l="l" t="t" r="r" b="b"/>
            <a:pathLst>
              <a:path w="1122" h="981">
                <a:moveTo>
                  <a:pt x="986" y="98"/>
                </a:moveTo>
                <a:lnTo>
                  <a:pt x="964" y="84"/>
                </a:lnTo>
                <a:lnTo>
                  <a:pt x="941" y="72"/>
                </a:lnTo>
                <a:lnTo>
                  <a:pt x="918" y="61"/>
                </a:lnTo>
                <a:lnTo>
                  <a:pt x="894" y="52"/>
                </a:lnTo>
                <a:lnTo>
                  <a:pt x="870" y="42"/>
                </a:lnTo>
                <a:lnTo>
                  <a:pt x="847" y="35"/>
                </a:lnTo>
                <a:lnTo>
                  <a:pt x="821" y="28"/>
                </a:lnTo>
                <a:lnTo>
                  <a:pt x="796" y="21"/>
                </a:lnTo>
                <a:lnTo>
                  <a:pt x="770" y="15"/>
                </a:lnTo>
                <a:lnTo>
                  <a:pt x="744" y="11"/>
                </a:lnTo>
                <a:lnTo>
                  <a:pt x="715" y="8"/>
                </a:lnTo>
                <a:lnTo>
                  <a:pt x="687" y="4"/>
                </a:lnTo>
                <a:lnTo>
                  <a:pt x="657" y="3"/>
                </a:lnTo>
                <a:lnTo>
                  <a:pt x="627" y="1"/>
                </a:lnTo>
                <a:lnTo>
                  <a:pt x="594" y="0"/>
                </a:lnTo>
                <a:lnTo>
                  <a:pt x="562" y="0"/>
                </a:lnTo>
                <a:lnTo>
                  <a:pt x="528" y="0"/>
                </a:lnTo>
                <a:lnTo>
                  <a:pt x="496" y="1"/>
                </a:lnTo>
                <a:lnTo>
                  <a:pt x="465" y="3"/>
                </a:lnTo>
                <a:lnTo>
                  <a:pt x="436" y="4"/>
                </a:lnTo>
                <a:lnTo>
                  <a:pt x="407" y="8"/>
                </a:lnTo>
                <a:lnTo>
                  <a:pt x="378" y="11"/>
                </a:lnTo>
                <a:lnTo>
                  <a:pt x="352" y="15"/>
                </a:lnTo>
                <a:lnTo>
                  <a:pt x="326" y="21"/>
                </a:lnTo>
                <a:lnTo>
                  <a:pt x="300" y="28"/>
                </a:lnTo>
                <a:lnTo>
                  <a:pt x="275" y="35"/>
                </a:lnTo>
                <a:lnTo>
                  <a:pt x="252" y="42"/>
                </a:lnTo>
                <a:lnTo>
                  <a:pt x="227" y="52"/>
                </a:lnTo>
                <a:lnTo>
                  <a:pt x="203" y="61"/>
                </a:lnTo>
                <a:lnTo>
                  <a:pt x="181" y="72"/>
                </a:lnTo>
                <a:lnTo>
                  <a:pt x="157" y="84"/>
                </a:lnTo>
                <a:lnTo>
                  <a:pt x="135" y="98"/>
                </a:lnTo>
                <a:lnTo>
                  <a:pt x="94" y="127"/>
                </a:lnTo>
                <a:lnTo>
                  <a:pt x="63" y="160"/>
                </a:lnTo>
                <a:lnTo>
                  <a:pt x="39" y="196"/>
                </a:lnTo>
                <a:lnTo>
                  <a:pt x="22" y="233"/>
                </a:lnTo>
                <a:lnTo>
                  <a:pt x="11" y="269"/>
                </a:lnTo>
                <a:lnTo>
                  <a:pt x="4" y="304"/>
                </a:lnTo>
                <a:lnTo>
                  <a:pt x="1" y="336"/>
                </a:lnTo>
                <a:lnTo>
                  <a:pt x="0" y="364"/>
                </a:lnTo>
                <a:lnTo>
                  <a:pt x="1" y="386"/>
                </a:lnTo>
                <a:lnTo>
                  <a:pt x="6" y="405"/>
                </a:lnTo>
                <a:lnTo>
                  <a:pt x="11" y="421"/>
                </a:lnTo>
                <a:lnTo>
                  <a:pt x="20" y="432"/>
                </a:lnTo>
                <a:lnTo>
                  <a:pt x="30" y="442"/>
                </a:lnTo>
                <a:lnTo>
                  <a:pt x="43" y="447"/>
                </a:lnTo>
                <a:lnTo>
                  <a:pt x="57" y="453"/>
                </a:lnTo>
                <a:lnTo>
                  <a:pt x="73" y="456"/>
                </a:lnTo>
                <a:lnTo>
                  <a:pt x="86" y="457"/>
                </a:lnTo>
                <a:lnTo>
                  <a:pt x="99" y="457"/>
                </a:lnTo>
                <a:lnTo>
                  <a:pt x="113" y="456"/>
                </a:lnTo>
                <a:lnTo>
                  <a:pt x="127" y="453"/>
                </a:lnTo>
                <a:lnTo>
                  <a:pt x="142" y="450"/>
                </a:lnTo>
                <a:lnTo>
                  <a:pt x="155" y="447"/>
                </a:lnTo>
                <a:lnTo>
                  <a:pt x="168" y="442"/>
                </a:lnTo>
                <a:lnTo>
                  <a:pt x="183" y="438"/>
                </a:lnTo>
                <a:lnTo>
                  <a:pt x="195" y="432"/>
                </a:lnTo>
                <a:lnTo>
                  <a:pt x="208" y="426"/>
                </a:lnTo>
                <a:lnTo>
                  <a:pt x="220" y="421"/>
                </a:lnTo>
                <a:lnTo>
                  <a:pt x="231" y="414"/>
                </a:lnTo>
                <a:lnTo>
                  <a:pt x="241" y="408"/>
                </a:lnTo>
                <a:lnTo>
                  <a:pt x="250" y="403"/>
                </a:lnTo>
                <a:lnTo>
                  <a:pt x="258" y="396"/>
                </a:lnTo>
                <a:lnTo>
                  <a:pt x="265" y="390"/>
                </a:lnTo>
                <a:lnTo>
                  <a:pt x="276" y="379"/>
                </a:lnTo>
                <a:lnTo>
                  <a:pt x="286" y="368"/>
                </a:lnTo>
                <a:lnTo>
                  <a:pt x="294" y="357"/>
                </a:lnTo>
                <a:lnTo>
                  <a:pt x="300" y="346"/>
                </a:lnTo>
                <a:lnTo>
                  <a:pt x="304" y="336"/>
                </a:lnTo>
                <a:lnTo>
                  <a:pt x="308" y="325"/>
                </a:lnTo>
                <a:lnTo>
                  <a:pt x="309" y="315"/>
                </a:lnTo>
                <a:lnTo>
                  <a:pt x="308" y="305"/>
                </a:lnTo>
                <a:lnTo>
                  <a:pt x="302" y="283"/>
                </a:lnTo>
                <a:lnTo>
                  <a:pt x="297" y="255"/>
                </a:lnTo>
                <a:lnTo>
                  <a:pt x="294" y="231"/>
                </a:lnTo>
                <a:lnTo>
                  <a:pt x="300" y="216"/>
                </a:lnTo>
                <a:lnTo>
                  <a:pt x="310" y="215"/>
                </a:lnTo>
                <a:lnTo>
                  <a:pt x="318" y="222"/>
                </a:lnTo>
                <a:lnTo>
                  <a:pt x="323" y="237"/>
                </a:lnTo>
                <a:lnTo>
                  <a:pt x="327" y="259"/>
                </a:lnTo>
                <a:lnTo>
                  <a:pt x="328" y="295"/>
                </a:lnTo>
                <a:lnTo>
                  <a:pt x="326" y="332"/>
                </a:lnTo>
                <a:lnTo>
                  <a:pt x="322" y="365"/>
                </a:lnTo>
                <a:lnTo>
                  <a:pt x="317" y="389"/>
                </a:lnTo>
                <a:lnTo>
                  <a:pt x="312" y="401"/>
                </a:lnTo>
                <a:lnTo>
                  <a:pt x="302" y="419"/>
                </a:lnTo>
                <a:lnTo>
                  <a:pt x="290" y="440"/>
                </a:lnTo>
                <a:lnTo>
                  <a:pt x="275" y="464"/>
                </a:lnTo>
                <a:lnTo>
                  <a:pt x="258" y="489"/>
                </a:lnTo>
                <a:lnTo>
                  <a:pt x="243" y="513"/>
                </a:lnTo>
                <a:lnTo>
                  <a:pt x="227" y="535"/>
                </a:lnTo>
                <a:lnTo>
                  <a:pt x="213" y="553"/>
                </a:lnTo>
                <a:lnTo>
                  <a:pt x="200" y="574"/>
                </a:lnTo>
                <a:lnTo>
                  <a:pt x="185" y="606"/>
                </a:lnTo>
                <a:lnTo>
                  <a:pt x="170" y="644"/>
                </a:lnTo>
                <a:lnTo>
                  <a:pt x="154" y="686"/>
                </a:lnTo>
                <a:lnTo>
                  <a:pt x="138" y="730"/>
                </a:lnTo>
                <a:lnTo>
                  <a:pt x="126" y="772"/>
                </a:lnTo>
                <a:lnTo>
                  <a:pt x="116" y="810"/>
                </a:lnTo>
                <a:lnTo>
                  <a:pt x="110" y="840"/>
                </a:lnTo>
                <a:lnTo>
                  <a:pt x="107" y="882"/>
                </a:lnTo>
                <a:lnTo>
                  <a:pt x="108" y="916"/>
                </a:lnTo>
                <a:lnTo>
                  <a:pt x="113" y="941"/>
                </a:lnTo>
                <a:lnTo>
                  <a:pt x="124" y="957"/>
                </a:lnTo>
                <a:lnTo>
                  <a:pt x="139" y="970"/>
                </a:lnTo>
                <a:lnTo>
                  <a:pt x="159" y="977"/>
                </a:lnTo>
                <a:lnTo>
                  <a:pt x="185" y="980"/>
                </a:lnTo>
                <a:lnTo>
                  <a:pt x="217" y="981"/>
                </a:lnTo>
                <a:lnTo>
                  <a:pt x="235" y="981"/>
                </a:lnTo>
                <a:lnTo>
                  <a:pt x="255" y="981"/>
                </a:lnTo>
                <a:lnTo>
                  <a:pt x="277" y="981"/>
                </a:lnTo>
                <a:lnTo>
                  <a:pt x="301" y="981"/>
                </a:lnTo>
                <a:lnTo>
                  <a:pt x="326" y="981"/>
                </a:lnTo>
                <a:lnTo>
                  <a:pt x="352" y="981"/>
                </a:lnTo>
                <a:lnTo>
                  <a:pt x="378" y="981"/>
                </a:lnTo>
                <a:lnTo>
                  <a:pt x="404" y="981"/>
                </a:lnTo>
                <a:lnTo>
                  <a:pt x="430" y="981"/>
                </a:lnTo>
                <a:lnTo>
                  <a:pt x="455" y="981"/>
                </a:lnTo>
                <a:lnTo>
                  <a:pt x="477" y="981"/>
                </a:lnTo>
                <a:lnTo>
                  <a:pt x="499" y="981"/>
                </a:lnTo>
                <a:lnTo>
                  <a:pt x="518" y="981"/>
                </a:lnTo>
                <a:lnTo>
                  <a:pt x="533" y="981"/>
                </a:lnTo>
                <a:lnTo>
                  <a:pt x="546" y="981"/>
                </a:lnTo>
                <a:lnTo>
                  <a:pt x="555" y="981"/>
                </a:lnTo>
                <a:lnTo>
                  <a:pt x="555" y="872"/>
                </a:lnTo>
                <a:lnTo>
                  <a:pt x="535" y="871"/>
                </a:lnTo>
                <a:lnTo>
                  <a:pt x="514" y="867"/>
                </a:lnTo>
                <a:lnTo>
                  <a:pt x="495" y="860"/>
                </a:lnTo>
                <a:lnTo>
                  <a:pt x="477" y="851"/>
                </a:lnTo>
                <a:lnTo>
                  <a:pt x="459" y="842"/>
                </a:lnTo>
                <a:lnTo>
                  <a:pt x="444" y="828"/>
                </a:lnTo>
                <a:lnTo>
                  <a:pt x="428" y="814"/>
                </a:lnTo>
                <a:lnTo>
                  <a:pt x="413" y="797"/>
                </a:lnTo>
                <a:lnTo>
                  <a:pt x="401" y="779"/>
                </a:lnTo>
                <a:lnTo>
                  <a:pt x="389" y="761"/>
                </a:lnTo>
                <a:lnTo>
                  <a:pt x="380" y="740"/>
                </a:lnTo>
                <a:lnTo>
                  <a:pt x="371" y="718"/>
                </a:lnTo>
                <a:lnTo>
                  <a:pt x="364" y="694"/>
                </a:lnTo>
                <a:lnTo>
                  <a:pt x="359" y="670"/>
                </a:lnTo>
                <a:lnTo>
                  <a:pt x="356" y="645"/>
                </a:lnTo>
                <a:lnTo>
                  <a:pt x="355" y="620"/>
                </a:lnTo>
                <a:lnTo>
                  <a:pt x="356" y="595"/>
                </a:lnTo>
                <a:lnTo>
                  <a:pt x="359" y="570"/>
                </a:lnTo>
                <a:lnTo>
                  <a:pt x="364" y="546"/>
                </a:lnTo>
                <a:lnTo>
                  <a:pt x="371" y="523"/>
                </a:lnTo>
                <a:lnTo>
                  <a:pt x="380" y="500"/>
                </a:lnTo>
                <a:lnTo>
                  <a:pt x="389" y="479"/>
                </a:lnTo>
                <a:lnTo>
                  <a:pt x="401" y="461"/>
                </a:lnTo>
                <a:lnTo>
                  <a:pt x="413" y="443"/>
                </a:lnTo>
                <a:lnTo>
                  <a:pt x="428" y="426"/>
                </a:lnTo>
                <a:lnTo>
                  <a:pt x="444" y="412"/>
                </a:lnTo>
                <a:lnTo>
                  <a:pt x="459" y="399"/>
                </a:lnTo>
                <a:lnTo>
                  <a:pt x="477" y="389"/>
                </a:lnTo>
                <a:lnTo>
                  <a:pt x="495" y="380"/>
                </a:lnTo>
                <a:lnTo>
                  <a:pt x="514" y="373"/>
                </a:lnTo>
                <a:lnTo>
                  <a:pt x="535" y="369"/>
                </a:lnTo>
                <a:lnTo>
                  <a:pt x="555" y="368"/>
                </a:lnTo>
                <a:lnTo>
                  <a:pt x="555" y="241"/>
                </a:lnTo>
                <a:lnTo>
                  <a:pt x="546" y="241"/>
                </a:lnTo>
                <a:lnTo>
                  <a:pt x="536" y="241"/>
                </a:lnTo>
                <a:lnTo>
                  <a:pt x="524" y="242"/>
                </a:lnTo>
                <a:lnTo>
                  <a:pt x="513" y="242"/>
                </a:lnTo>
                <a:lnTo>
                  <a:pt x="503" y="242"/>
                </a:lnTo>
                <a:lnTo>
                  <a:pt x="493" y="244"/>
                </a:lnTo>
                <a:lnTo>
                  <a:pt x="484" y="244"/>
                </a:lnTo>
                <a:lnTo>
                  <a:pt x="477" y="244"/>
                </a:lnTo>
                <a:lnTo>
                  <a:pt x="467" y="237"/>
                </a:lnTo>
                <a:lnTo>
                  <a:pt x="462" y="220"/>
                </a:lnTo>
                <a:lnTo>
                  <a:pt x="460" y="203"/>
                </a:lnTo>
                <a:lnTo>
                  <a:pt x="465" y="195"/>
                </a:lnTo>
                <a:lnTo>
                  <a:pt x="471" y="194"/>
                </a:lnTo>
                <a:lnTo>
                  <a:pt x="478" y="194"/>
                </a:lnTo>
                <a:lnTo>
                  <a:pt x="489" y="194"/>
                </a:lnTo>
                <a:lnTo>
                  <a:pt x="501" y="194"/>
                </a:lnTo>
                <a:lnTo>
                  <a:pt x="514" y="194"/>
                </a:lnTo>
                <a:lnTo>
                  <a:pt x="530" y="195"/>
                </a:lnTo>
                <a:lnTo>
                  <a:pt x="546" y="195"/>
                </a:lnTo>
                <a:lnTo>
                  <a:pt x="562" y="195"/>
                </a:lnTo>
                <a:lnTo>
                  <a:pt x="577" y="195"/>
                </a:lnTo>
                <a:lnTo>
                  <a:pt x="593" y="195"/>
                </a:lnTo>
                <a:lnTo>
                  <a:pt x="608" y="194"/>
                </a:lnTo>
                <a:lnTo>
                  <a:pt x="621" y="194"/>
                </a:lnTo>
                <a:lnTo>
                  <a:pt x="633" y="194"/>
                </a:lnTo>
                <a:lnTo>
                  <a:pt x="644" y="194"/>
                </a:lnTo>
                <a:lnTo>
                  <a:pt x="651" y="194"/>
                </a:lnTo>
                <a:lnTo>
                  <a:pt x="657" y="195"/>
                </a:lnTo>
                <a:lnTo>
                  <a:pt x="662" y="203"/>
                </a:lnTo>
                <a:lnTo>
                  <a:pt x="662" y="220"/>
                </a:lnTo>
                <a:lnTo>
                  <a:pt x="655" y="237"/>
                </a:lnTo>
                <a:lnTo>
                  <a:pt x="645" y="244"/>
                </a:lnTo>
                <a:lnTo>
                  <a:pt x="637" y="244"/>
                </a:lnTo>
                <a:lnTo>
                  <a:pt x="628" y="244"/>
                </a:lnTo>
                <a:lnTo>
                  <a:pt x="617" y="242"/>
                </a:lnTo>
                <a:lnTo>
                  <a:pt x="605" y="242"/>
                </a:lnTo>
                <a:lnTo>
                  <a:pt x="593" y="242"/>
                </a:lnTo>
                <a:lnTo>
                  <a:pt x="581" y="241"/>
                </a:lnTo>
                <a:lnTo>
                  <a:pt x="571" y="241"/>
                </a:lnTo>
                <a:lnTo>
                  <a:pt x="562" y="241"/>
                </a:lnTo>
                <a:lnTo>
                  <a:pt x="560" y="241"/>
                </a:lnTo>
                <a:lnTo>
                  <a:pt x="558" y="241"/>
                </a:lnTo>
                <a:lnTo>
                  <a:pt x="557" y="241"/>
                </a:lnTo>
                <a:lnTo>
                  <a:pt x="555" y="241"/>
                </a:lnTo>
                <a:lnTo>
                  <a:pt x="555" y="368"/>
                </a:lnTo>
                <a:lnTo>
                  <a:pt x="556" y="368"/>
                </a:lnTo>
                <a:lnTo>
                  <a:pt x="557" y="368"/>
                </a:lnTo>
                <a:lnTo>
                  <a:pt x="557" y="368"/>
                </a:lnTo>
                <a:lnTo>
                  <a:pt x="558" y="368"/>
                </a:lnTo>
                <a:lnTo>
                  <a:pt x="580" y="369"/>
                </a:lnTo>
                <a:lnTo>
                  <a:pt x="600" y="373"/>
                </a:lnTo>
                <a:lnTo>
                  <a:pt x="619" y="379"/>
                </a:lnTo>
                <a:lnTo>
                  <a:pt x="638" y="387"/>
                </a:lnTo>
                <a:lnTo>
                  <a:pt x="656" y="399"/>
                </a:lnTo>
                <a:lnTo>
                  <a:pt x="673" y="411"/>
                </a:lnTo>
                <a:lnTo>
                  <a:pt x="688" y="425"/>
                </a:lnTo>
                <a:lnTo>
                  <a:pt x="703" y="442"/>
                </a:lnTo>
                <a:lnTo>
                  <a:pt x="717" y="460"/>
                </a:lnTo>
                <a:lnTo>
                  <a:pt x="728" y="479"/>
                </a:lnTo>
                <a:lnTo>
                  <a:pt x="738" y="500"/>
                </a:lnTo>
                <a:lnTo>
                  <a:pt x="747" y="523"/>
                </a:lnTo>
                <a:lnTo>
                  <a:pt x="754" y="545"/>
                </a:lnTo>
                <a:lnTo>
                  <a:pt x="758" y="570"/>
                </a:lnTo>
                <a:lnTo>
                  <a:pt x="761" y="594"/>
                </a:lnTo>
                <a:lnTo>
                  <a:pt x="763" y="620"/>
                </a:lnTo>
                <a:lnTo>
                  <a:pt x="761" y="647"/>
                </a:lnTo>
                <a:lnTo>
                  <a:pt x="758" y="670"/>
                </a:lnTo>
                <a:lnTo>
                  <a:pt x="754" y="695"/>
                </a:lnTo>
                <a:lnTo>
                  <a:pt x="747" y="718"/>
                </a:lnTo>
                <a:lnTo>
                  <a:pt x="738" y="740"/>
                </a:lnTo>
                <a:lnTo>
                  <a:pt x="728" y="761"/>
                </a:lnTo>
                <a:lnTo>
                  <a:pt x="717" y="780"/>
                </a:lnTo>
                <a:lnTo>
                  <a:pt x="703" y="798"/>
                </a:lnTo>
                <a:lnTo>
                  <a:pt x="688" y="815"/>
                </a:lnTo>
                <a:lnTo>
                  <a:pt x="673" y="829"/>
                </a:lnTo>
                <a:lnTo>
                  <a:pt x="656" y="842"/>
                </a:lnTo>
                <a:lnTo>
                  <a:pt x="638" y="853"/>
                </a:lnTo>
                <a:lnTo>
                  <a:pt x="619" y="861"/>
                </a:lnTo>
                <a:lnTo>
                  <a:pt x="600" y="867"/>
                </a:lnTo>
                <a:lnTo>
                  <a:pt x="580" y="871"/>
                </a:lnTo>
                <a:lnTo>
                  <a:pt x="558" y="872"/>
                </a:lnTo>
                <a:lnTo>
                  <a:pt x="557" y="872"/>
                </a:lnTo>
                <a:lnTo>
                  <a:pt x="557" y="872"/>
                </a:lnTo>
                <a:lnTo>
                  <a:pt x="556" y="872"/>
                </a:lnTo>
                <a:lnTo>
                  <a:pt x="555" y="872"/>
                </a:lnTo>
                <a:lnTo>
                  <a:pt x="555" y="981"/>
                </a:lnTo>
                <a:lnTo>
                  <a:pt x="558" y="981"/>
                </a:lnTo>
                <a:lnTo>
                  <a:pt x="560" y="981"/>
                </a:lnTo>
                <a:lnTo>
                  <a:pt x="562" y="981"/>
                </a:lnTo>
                <a:lnTo>
                  <a:pt x="562" y="981"/>
                </a:lnTo>
                <a:lnTo>
                  <a:pt x="564" y="981"/>
                </a:lnTo>
                <a:lnTo>
                  <a:pt x="573" y="981"/>
                </a:lnTo>
                <a:lnTo>
                  <a:pt x="585" y="981"/>
                </a:lnTo>
                <a:lnTo>
                  <a:pt x="602" y="981"/>
                </a:lnTo>
                <a:lnTo>
                  <a:pt x="622" y="981"/>
                </a:lnTo>
                <a:lnTo>
                  <a:pt x="645" y="981"/>
                </a:lnTo>
                <a:lnTo>
                  <a:pt x="671" y="981"/>
                </a:lnTo>
                <a:lnTo>
                  <a:pt x="697" y="981"/>
                </a:lnTo>
                <a:lnTo>
                  <a:pt x="726" y="981"/>
                </a:lnTo>
                <a:lnTo>
                  <a:pt x="754" y="981"/>
                </a:lnTo>
                <a:lnTo>
                  <a:pt x="783" y="981"/>
                </a:lnTo>
                <a:lnTo>
                  <a:pt x="811" y="981"/>
                </a:lnTo>
                <a:lnTo>
                  <a:pt x="838" y="981"/>
                </a:lnTo>
                <a:lnTo>
                  <a:pt x="863" y="981"/>
                </a:lnTo>
                <a:lnTo>
                  <a:pt x="885" y="981"/>
                </a:lnTo>
                <a:lnTo>
                  <a:pt x="905" y="981"/>
                </a:lnTo>
                <a:lnTo>
                  <a:pt x="937" y="980"/>
                </a:lnTo>
                <a:lnTo>
                  <a:pt x="961" y="977"/>
                </a:lnTo>
                <a:lnTo>
                  <a:pt x="983" y="970"/>
                </a:lnTo>
                <a:lnTo>
                  <a:pt x="997" y="957"/>
                </a:lnTo>
                <a:lnTo>
                  <a:pt x="1009" y="941"/>
                </a:lnTo>
                <a:lnTo>
                  <a:pt x="1013" y="916"/>
                </a:lnTo>
                <a:lnTo>
                  <a:pt x="1014" y="882"/>
                </a:lnTo>
                <a:lnTo>
                  <a:pt x="1011" y="840"/>
                </a:lnTo>
                <a:lnTo>
                  <a:pt x="1005" y="810"/>
                </a:lnTo>
                <a:lnTo>
                  <a:pt x="995" y="772"/>
                </a:lnTo>
                <a:lnTo>
                  <a:pt x="983" y="730"/>
                </a:lnTo>
                <a:lnTo>
                  <a:pt x="968" y="686"/>
                </a:lnTo>
                <a:lnTo>
                  <a:pt x="951" y="644"/>
                </a:lnTo>
                <a:lnTo>
                  <a:pt x="936" y="606"/>
                </a:lnTo>
                <a:lnTo>
                  <a:pt x="921" y="574"/>
                </a:lnTo>
                <a:lnTo>
                  <a:pt x="907" y="553"/>
                </a:lnTo>
                <a:lnTo>
                  <a:pt x="894" y="535"/>
                </a:lnTo>
                <a:lnTo>
                  <a:pt x="878" y="513"/>
                </a:lnTo>
                <a:lnTo>
                  <a:pt x="863" y="489"/>
                </a:lnTo>
                <a:lnTo>
                  <a:pt x="846" y="464"/>
                </a:lnTo>
                <a:lnTo>
                  <a:pt x="831" y="440"/>
                </a:lnTo>
                <a:lnTo>
                  <a:pt x="819" y="419"/>
                </a:lnTo>
                <a:lnTo>
                  <a:pt x="809" y="401"/>
                </a:lnTo>
                <a:lnTo>
                  <a:pt x="804" y="389"/>
                </a:lnTo>
                <a:lnTo>
                  <a:pt x="799" y="365"/>
                </a:lnTo>
                <a:lnTo>
                  <a:pt x="795" y="332"/>
                </a:lnTo>
                <a:lnTo>
                  <a:pt x="794" y="295"/>
                </a:lnTo>
                <a:lnTo>
                  <a:pt x="794" y="259"/>
                </a:lnTo>
                <a:lnTo>
                  <a:pt x="797" y="237"/>
                </a:lnTo>
                <a:lnTo>
                  <a:pt x="803" y="222"/>
                </a:lnTo>
                <a:lnTo>
                  <a:pt x="811" y="215"/>
                </a:lnTo>
                <a:lnTo>
                  <a:pt x="821" y="216"/>
                </a:lnTo>
                <a:lnTo>
                  <a:pt x="827" y="231"/>
                </a:lnTo>
                <a:lnTo>
                  <a:pt x="824" y="255"/>
                </a:lnTo>
                <a:lnTo>
                  <a:pt x="819" y="283"/>
                </a:lnTo>
                <a:lnTo>
                  <a:pt x="813" y="305"/>
                </a:lnTo>
                <a:lnTo>
                  <a:pt x="812" y="315"/>
                </a:lnTo>
                <a:lnTo>
                  <a:pt x="813" y="325"/>
                </a:lnTo>
                <a:lnTo>
                  <a:pt x="817" y="336"/>
                </a:lnTo>
                <a:lnTo>
                  <a:pt x="821" y="346"/>
                </a:lnTo>
                <a:lnTo>
                  <a:pt x="827" y="357"/>
                </a:lnTo>
                <a:lnTo>
                  <a:pt x="834" y="368"/>
                </a:lnTo>
                <a:lnTo>
                  <a:pt x="845" y="379"/>
                </a:lnTo>
                <a:lnTo>
                  <a:pt x="856" y="390"/>
                </a:lnTo>
                <a:lnTo>
                  <a:pt x="863" y="396"/>
                </a:lnTo>
                <a:lnTo>
                  <a:pt x="870" y="403"/>
                </a:lnTo>
                <a:lnTo>
                  <a:pt x="879" y="408"/>
                </a:lnTo>
                <a:lnTo>
                  <a:pt x="890" y="414"/>
                </a:lnTo>
                <a:lnTo>
                  <a:pt x="901" y="421"/>
                </a:lnTo>
                <a:lnTo>
                  <a:pt x="913" y="426"/>
                </a:lnTo>
                <a:lnTo>
                  <a:pt x="925" y="432"/>
                </a:lnTo>
                <a:lnTo>
                  <a:pt x="939" y="438"/>
                </a:lnTo>
                <a:lnTo>
                  <a:pt x="952" y="442"/>
                </a:lnTo>
                <a:lnTo>
                  <a:pt x="966" y="447"/>
                </a:lnTo>
                <a:lnTo>
                  <a:pt x="980" y="450"/>
                </a:lnTo>
                <a:lnTo>
                  <a:pt x="994" y="453"/>
                </a:lnTo>
                <a:lnTo>
                  <a:pt x="1009" y="456"/>
                </a:lnTo>
                <a:lnTo>
                  <a:pt x="1022" y="457"/>
                </a:lnTo>
                <a:lnTo>
                  <a:pt x="1036" y="457"/>
                </a:lnTo>
                <a:lnTo>
                  <a:pt x="1048" y="456"/>
                </a:lnTo>
                <a:lnTo>
                  <a:pt x="1064" y="453"/>
                </a:lnTo>
                <a:lnTo>
                  <a:pt x="1078" y="447"/>
                </a:lnTo>
                <a:lnTo>
                  <a:pt x="1091" y="442"/>
                </a:lnTo>
                <a:lnTo>
                  <a:pt x="1102" y="432"/>
                </a:lnTo>
                <a:lnTo>
                  <a:pt x="1110" y="421"/>
                </a:lnTo>
                <a:lnTo>
                  <a:pt x="1116" y="405"/>
                </a:lnTo>
                <a:lnTo>
                  <a:pt x="1121" y="386"/>
                </a:lnTo>
                <a:lnTo>
                  <a:pt x="1122" y="364"/>
                </a:lnTo>
                <a:lnTo>
                  <a:pt x="1121" y="336"/>
                </a:lnTo>
                <a:lnTo>
                  <a:pt x="1118" y="304"/>
                </a:lnTo>
                <a:lnTo>
                  <a:pt x="1111" y="269"/>
                </a:lnTo>
                <a:lnTo>
                  <a:pt x="1100" y="233"/>
                </a:lnTo>
                <a:lnTo>
                  <a:pt x="1082" y="196"/>
                </a:lnTo>
                <a:lnTo>
                  <a:pt x="1058" y="160"/>
                </a:lnTo>
                <a:lnTo>
                  <a:pt x="1027" y="127"/>
                </a:lnTo>
                <a:lnTo>
                  <a:pt x="986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4495680" y="2048040"/>
            <a:ext cx="3822840" cy="2892240"/>
          </a:xfrm>
          <a:custGeom>
            <a:avLst/>
            <a:gdLst/>
            <a:ahLst/>
            <a:rect l="l" t="t" r="r" b="b"/>
            <a:pathLst>
              <a:path w="2408" h="1822">
                <a:moveTo>
                  <a:pt x="0" y="0"/>
                </a:moveTo>
                <a:lnTo>
                  <a:pt x="6" y="126"/>
                </a:lnTo>
                <a:lnTo>
                  <a:pt x="2408" y="18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7" name=""/>
          <p:cNvGrpSpPr/>
          <p:nvPr/>
        </p:nvGrpSpPr>
        <p:grpSpPr>
          <a:xfrm>
            <a:off x="5670720" y="2836800"/>
            <a:ext cx="699840" cy="383760"/>
            <a:chOff x="5670720" y="2836800"/>
            <a:chExt cx="699840" cy="383760"/>
          </a:xfrm>
        </p:grpSpPr>
        <p:sp>
          <p:nvSpPr>
            <p:cNvPr id="1858" name=""/>
            <p:cNvSpPr/>
            <p:nvPr/>
          </p:nvSpPr>
          <p:spPr>
            <a:xfrm>
              <a:off x="5670720" y="2836800"/>
              <a:ext cx="699840" cy="376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692320" y="2852280"/>
              <a:ext cx="5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0" name=""/>
          <p:cNvSpPr/>
          <p:nvPr/>
        </p:nvSpPr>
        <p:spPr>
          <a:xfrm>
            <a:off x="4843440" y="3911760"/>
            <a:ext cx="890640" cy="519120"/>
          </a:xfrm>
          <a:custGeom>
            <a:avLst/>
            <a:gdLst/>
            <a:ahLst/>
            <a:rect l="l" t="t" r="r" b="b"/>
            <a:pathLst>
              <a:path w="1122" h="981">
                <a:moveTo>
                  <a:pt x="986" y="98"/>
                </a:moveTo>
                <a:lnTo>
                  <a:pt x="964" y="84"/>
                </a:lnTo>
                <a:lnTo>
                  <a:pt x="941" y="72"/>
                </a:lnTo>
                <a:lnTo>
                  <a:pt x="918" y="61"/>
                </a:lnTo>
                <a:lnTo>
                  <a:pt x="894" y="52"/>
                </a:lnTo>
                <a:lnTo>
                  <a:pt x="870" y="42"/>
                </a:lnTo>
                <a:lnTo>
                  <a:pt x="847" y="35"/>
                </a:lnTo>
                <a:lnTo>
                  <a:pt x="821" y="28"/>
                </a:lnTo>
                <a:lnTo>
                  <a:pt x="796" y="21"/>
                </a:lnTo>
                <a:lnTo>
                  <a:pt x="770" y="15"/>
                </a:lnTo>
                <a:lnTo>
                  <a:pt x="744" y="11"/>
                </a:lnTo>
                <a:lnTo>
                  <a:pt x="715" y="8"/>
                </a:lnTo>
                <a:lnTo>
                  <a:pt x="687" y="4"/>
                </a:lnTo>
                <a:lnTo>
                  <a:pt x="657" y="3"/>
                </a:lnTo>
                <a:lnTo>
                  <a:pt x="627" y="1"/>
                </a:lnTo>
                <a:lnTo>
                  <a:pt x="594" y="0"/>
                </a:lnTo>
                <a:lnTo>
                  <a:pt x="562" y="0"/>
                </a:lnTo>
                <a:lnTo>
                  <a:pt x="528" y="0"/>
                </a:lnTo>
                <a:lnTo>
                  <a:pt x="496" y="1"/>
                </a:lnTo>
                <a:lnTo>
                  <a:pt x="465" y="3"/>
                </a:lnTo>
                <a:lnTo>
                  <a:pt x="436" y="4"/>
                </a:lnTo>
                <a:lnTo>
                  <a:pt x="407" y="8"/>
                </a:lnTo>
                <a:lnTo>
                  <a:pt x="378" y="11"/>
                </a:lnTo>
                <a:lnTo>
                  <a:pt x="352" y="15"/>
                </a:lnTo>
                <a:lnTo>
                  <a:pt x="326" y="21"/>
                </a:lnTo>
                <a:lnTo>
                  <a:pt x="300" y="28"/>
                </a:lnTo>
                <a:lnTo>
                  <a:pt x="275" y="35"/>
                </a:lnTo>
                <a:lnTo>
                  <a:pt x="252" y="42"/>
                </a:lnTo>
                <a:lnTo>
                  <a:pt x="227" y="52"/>
                </a:lnTo>
                <a:lnTo>
                  <a:pt x="203" y="61"/>
                </a:lnTo>
                <a:lnTo>
                  <a:pt x="181" y="72"/>
                </a:lnTo>
                <a:lnTo>
                  <a:pt x="157" y="84"/>
                </a:lnTo>
                <a:lnTo>
                  <a:pt x="135" y="98"/>
                </a:lnTo>
                <a:lnTo>
                  <a:pt x="94" y="127"/>
                </a:lnTo>
                <a:lnTo>
                  <a:pt x="63" y="160"/>
                </a:lnTo>
                <a:lnTo>
                  <a:pt x="39" y="196"/>
                </a:lnTo>
                <a:lnTo>
                  <a:pt x="22" y="233"/>
                </a:lnTo>
                <a:lnTo>
                  <a:pt x="11" y="269"/>
                </a:lnTo>
                <a:lnTo>
                  <a:pt x="4" y="304"/>
                </a:lnTo>
                <a:lnTo>
                  <a:pt x="1" y="336"/>
                </a:lnTo>
                <a:lnTo>
                  <a:pt x="0" y="364"/>
                </a:lnTo>
                <a:lnTo>
                  <a:pt x="1" y="386"/>
                </a:lnTo>
                <a:lnTo>
                  <a:pt x="6" y="405"/>
                </a:lnTo>
                <a:lnTo>
                  <a:pt x="11" y="421"/>
                </a:lnTo>
                <a:lnTo>
                  <a:pt x="20" y="432"/>
                </a:lnTo>
                <a:lnTo>
                  <a:pt x="30" y="442"/>
                </a:lnTo>
                <a:lnTo>
                  <a:pt x="43" y="447"/>
                </a:lnTo>
                <a:lnTo>
                  <a:pt x="57" y="453"/>
                </a:lnTo>
                <a:lnTo>
                  <a:pt x="73" y="456"/>
                </a:lnTo>
                <a:lnTo>
                  <a:pt x="86" y="457"/>
                </a:lnTo>
                <a:lnTo>
                  <a:pt x="99" y="457"/>
                </a:lnTo>
                <a:lnTo>
                  <a:pt x="113" y="456"/>
                </a:lnTo>
                <a:lnTo>
                  <a:pt x="127" y="453"/>
                </a:lnTo>
                <a:lnTo>
                  <a:pt x="142" y="450"/>
                </a:lnTo>
                <a:lnTo>
                  <a:pt x="155" y="447"/>
                </a:lnTo>
                <a:lnTo>
                  <a:pt x="168" y="442"/>
                </a:lnTo>
                <a:lnTo>
                  <a:pt x="183" y="438"/>
                </a:lnTo>
                <a:lnTo>
                  <a:pt x="195" y="432"/>
                </a:lnTo>
                <a:lnTo>
                  <a:pt x="208" y="426"/>
                </a:lnTo>
                <a:lnTo>
                  <a:pt x="220" y="421"/>
                </a:lnTo>
                <a:lnTo>
                  <a:pt x="231" y="414"/>
                </a:lnTo>
                <a:lnTo>
                  <a:pt x="241" y="408"/>
                </a:lnTo>
                <a:lnTo>
                  <a:pt x="250" y="403"/>
                </a:lnTo>
                <a:lnTo>
                  <a:pt x="258" y="396"/>
                </a:lnTo>
                <a:lnTo>
                  <a:pt x="265" y="390"/>
                </a:lnTo>
                <a:lnTo>
                  <a:pt x="276" y="379"/>
                </a:lnTo>
                <a:lnTo>
                  <a:pt x="286" y="368"/>
                </a:lnTo>
                <a:lnTo>
                  <a:pt x="294" y="357"/>
                </a:lnTo>
                <a:lnTo>
                  <a:pt x="300" y="346"/>
                </a:lnTo>
                <a:lnTo>
                  <a:pt x="304" y="336"/>
                </a:lnTo>
                <a:lnTo>
                  <a:pt x="308" y="325"/>
                </a:lnTo>
                <a:lnTo>
                  <a:pt x="309" y="315"/>
                </a:lnTo>
                <a:lnTo>
                  <a:pt x="308" y="305"/>
                </a:lnTo>
                <a:lnTo>
                  <a:pt x="302" y="283"/>
                </a:lnTo>
                <a:lnTo>
                  <a:pt x="297" y="255"/>
                </a:lnTo>
                <a:lnTo>
                  <a:pt x="294" y="231"/>
                </a:lnTo>
                <a:lnTo>
                  <a:pt x="300" y="216"/>
                </a:lnTo>
                <a:lnTo>
                  <a:pt x="310" y="215"/>
                </a:lnTo>
                <a:lnTo>
                  <a:pt x="318" y="222"/>
                </a:lnTo>
                <a:lnTo>
                  <a:pt x="323" y="237"/>
                </a:lnTo>
                <a:lnTo>
                  <a:pt x="327" y="259"/>
                </a:lnTo>
                <a:lnTo>
                  <a:pt x="328" y="295"/>
                </a:lnTo>
                <a:lnTo>
                  <a:pt x="326" y="332"/>
                </a:lnTo>
                <a:lnTo>
                  <a:pt x="322" y="365"/>
                </a:lnTo>
                <a:lnTo>
                  <a:pt x="317" y="389"/>
                </a:lnTo>
                <a:lnTo>
                  <a:pt x="312" y="401"/>
                </a:lnTo>
                <a:lnTo>
                  <a:pt x="302" y="419"/>
                </a:lnTo>
                <a:lnTo>
                  <a:pt x="290" y="440"/>
                </a:lnTo>
                <a:lnTo>
                  <a:pt x="275" y="464"/>
                </a:lnTo>
                <a:lnTo>
                  <a:pt x="258" y="489"/>
                </a:lnTo>
                <a:lnTo>
                  <a:pt x="243" y="513"/>
                </a:lnTo>
                <a:lnTo>
                  <a:pt x="227" y="535"/>
                </a:lnTo>
                <a:lnTo>
                  <a:pt x="213" y="553"/>
                </a:lnTo>
                <a:lnTo>
                  <a:pt x="200" y="574"/>
                </a:lnTo>
                <a:lnTo>
                  <a:pt x="185" y="606"/>
                </a:lnTo>
                <a:lnTo>
                  <a:pt x="170" y="644"/>
                </a:lnTo>
                <a:lnTo>
                  <a:pt x="154" y="686"/>
                </a:lnTo>
                <a:lnTo>
                  <a:pt x="138" y="730"/>
                </a:lnTo>
                <a:lnTo>
                  <a:pt x="126" y="772"/>
                </a:lnTo>
                <a:lnTo>
                  <a:pt x="116" y="810"/>
                </a:lnTo>
                <a:lnTo>
                  <a:pt x="110" y="840"/>
                </a:lnTo>
                <a:lnTo>
                  <a:pt x="107" y="882"/>
                </a:lnTo>
                <a:lnTo>
                  <a:pt x="108" y="916"/>
                </a:lnTo>
                <a:lnTo>
                  <a:pt x="113" y="941"/>
                </a:lnTo>
                <a:lnTo>
                  <a:pt x="124" y="957"/>
                </a:lnTo>
                <a:lnTo>
                  <a:pt x="139" y="970"/>
                </a:lnTo>
                <a:lnTo>
                  <a:pt x="159" y="977"/>
                </a:lnTo>
                <a:lnTo>
                  <a:pt x="185" y="980"/>
                </a:lnTo>
                <a:lnTo>
                  <a:pt x="217" y="981"/>
                </a:lnTo>
                <a:lnTo>
                  <a:pt x="235" y="981"/>
                </a:lnTo>
                <a:lnTo>
                  <a:pt x="255" y="981"/>
                </a:lnTo>
                <a:lnTo>
                  <a:pt x="277" y="981"/>
                </a:lnTo>
                <a:lnTo>
                  <a:pt x="301" y="981"/>
                </a:lnTo>
                <a:lnTo>
                  <a:pt x="326" y="981"/>
                </a:lnTo>
                <a:lnTo>
                  <a:pt x="352" y="981"/>
                </a:lnTo>
                <a:lnTo>
                  <a:pt x="378" y="981"/>
                </a:lnTo>
                <a:lnTo>
                  <a:pt x="404" y="981"/>
                </a:lnTo>
                <a:lnTo>
                  <a:pt x="430" y="981"/>
                </a:lnTo>
                <a:lnTo>
                  <a:pt x="455" y="981"/>
                </a:lnTo>
                <a:lnTo>
                  <a:pt x="477" y="981"/>
                </a:lnTo>
                <a:lnTo>
                  <a:pt x="499" y="981"/>
                </a:lnTo>
                <a:lnTo>
                  <a:pt x="518" y="981"/>
                </a:lnTo>
                <a:lnTo>
                  <a:pt x="533" y="981"/>
                </a:lnTo>
                <a:lnTo>
                  <a:pt x="546" y="981"/>
                </a:lnTo>
                <a:lnTo>
                  <a:pt x="555" y="981"/>
                </a:lnTo>
                <a:lnTo>
                  <a:pt x="555" y="872"/>
                </a:lnTo>
                <a:lnTo>
                  <a:pt x="535" y="871"/>
                </a:lnTo>
                <a:lnTo>
                  <a:pt x="514" y="867"/>
                </a:lnTo>
                <a:lnTo>
                  <a:pt x="495" y="860"/>
                </a:lnTo>
                <a:lnTo>
                  <a:pt x="477" y="851"/>
                </a:lnTo>
                <a:lnTo>
                  <a:pt x="459" y="842"/>
                </a:lnTo>
                <a:lnTo>
                  <a:pt x="444" y="828"/>
                </a:lnTo>
                <a:lnTo>
                  <a:pt x="428" y="814"/>
                </a:lnTo>
                <a:lnTo>
                  <a:pt x="413" y="797"/>
                </a:lnTo>
                <a:lnTo>
                  <a:pt x="401" y="779"/>
                </a:lnTo>
                <a:lnTo>
                  <a:pt x="389" y="761"/>
                </a:lnTo>
                <a:lnTo>
                  <a:pt x="380" y="740"/>
                </a:lnTo>
                <a:lnTo>
                  <a:pt x="371" y="718"/>
                </a:lnTo>
                <a:lnTo>
                  <a:pt x="364" y="694"/>
                </a:lnTo>
                <a:lnTo>
                  <a:pt x="359" y="670"/>
                </a:lnTo>
                <a:lnTo>
                  <a:pt x="356" y="645"/>
                </a:lnTo>
                <a:lnTo>
                  <a:pt x="355" y="620"/>
                </a:lnTo>
                <a:lnTo>
                  <a:pt x="356" y="595"/>
                </a:lnTo>
                <a:lnTo>
                  <a:pt x="359" y="570"/>
                </a:lnTo>
                <a:lnTo>
                  <a:pt x="364" y="546"/>
                </a:lnTo>
                <a:lnTo>
                  <a:pt x="371" y="523"/>
                </a:lnTo>
                <a:lnTo>
                  <a:pt x="380" y="500"/>
                </a:lnTo>
                <a:lnTo>
                  <a:pt x="389" y="479"/>
                </a:lnTo>
                <a:lnTo>
                  <a:pt x="401" y="461"/>
                </a:lnTo>
                <a:lnTo>
                  <a:pt x="413" y="443"/>
                </a:lnTo>
                <a:lnTo>
                  <a:pt x="428" y="426"/>
                </a:lnTo>
                <a:lnTo>
                  <a:pt x="444" y="412"/>
                </a:lnTo>
                <a:lnTo>
                  <a:pt x="459" y="399"/>
                </a:lnTo>
                <a:lnTo>
                  <a:pt x="477" y="389"/>
                </a:lnTo>
                <a:lnTo>
                  <a:pt x="495" y="380"/>
                </a:lnTo>
                <a:lnTo>
                  <a:pt x="514" y="373"/>
                </a:lnTo>
                <a:lnTo>
                  <a:pt x="535" y="369"/>
                </a:lnTo>
                <a:lnTo>
                  <a:pt x="555" y="368"/>
                </a:lnTo>
                <a:lnTo>
                  <a:pt x="555" y="241"/>
                </a:lnTo>
                <a:lnTo>
                  <a:pt x="546" y="241"/>
                </a:lnTo>
                <a:lnTo>
                  <a:pt x="536" y="241"/>
                </a:lnTo>
                <a:lnTo>
                  <a:pt x="524" y="242"/>
                </a:lnTo>
                <a:lnTo>
                  <a:pt x="513" y="242"/>
                </a:lnTo>
                <a:lnTo>
                  <a:pt x="503" y="242"/>
                </a:lnTo>
                <a:lnTo>
                  <a:pt x="493" y="244"/>
                </a:lnTo>
                <a:lnTo>
                  <a:pt x="484" y="244"/>
                </a:lnTo>
                <a:lnTo>
                  <a:pt x="477" y="244"/>
                </a:lnTo>
                <a:lnTo>
                  <a:pt x="467" y="237"/>
                </a:lnTo>
                <a:lnTo>
                  <a:pt x="462" y="220"/>
                </a:lnTo>
                <a:lnTo>
                  <a:pt x="460" y="203"/>
                </a:lnTo>
                <a:lnTo>
                  <a:pt x="465" y="195"/>
                </a:lnTo>
                <a:lnTo>
                  <a:pt x="471" y="194"/>
                </a:lnTo>
                <a:lnTo>
                  <a:pt x="478" y="194"/>
                </a:lnTo>
                <a:lnTo>
                  <a:pt x="489" y="194"/>
                </a:lnTo>
                <a:lnTo>
                  <a:pt x="501" y="194"/>
                </a:lnTo>
                <a:lnTo>
                  <a:pt x="514" y="194"/>
                </a:lnTo>
                <a:lnTo>
                  <a:pt x="530" y="195"/>
                </a:lnTo>
                <a:lnTo>
                  <a:pt x="546" y="195"/>
                </a:lnTo>
                <a:lnTo>
                  <a:pt x="562" y="195"/>
                </a:lnTo>
                <a:lnTo>
                  <a:pt x="577" y="195"/>
                </a:lnTo>
                <a:lnTo>
                  <a:pt x="593" y="195"/>
                </a:lnTo>
                <a:lnTo>
                  <a:pt x="608" y="194"/>
                </a:lnTo>
                <a:lnTo>
                  <a:pt x="621" y="194"/>
                </a:lnTo>
                <a:lnTo>
                  <a:pt x="633" y="194"/>
                </a:lnTo>
                <a:lnTo>
                  <a:pt x="644" y="194"/>
                </a:lnTo>
                <a:lnTo>
                  <a:pt x="651" y="194"/>
                </a:lnTo>
                <a:lnTo>
                  <a:pt x="657" y="195"/>
                </a:lnTo>
                <a:lnTo>
                  <a:pt x="662" y="203"/>
                </a:lnTo>
                <a:lnTo>
                  <a:pt x="662" y="220"/>
                </a:lnTo>
                <a:lnTo>
                  <a:pt x="655" y="237"/>
                </a:lnTo>
                <a:lnTo>
                  <a:pt x="645" y="244"/>
                </a:lnTo>
                <a:lnTo>
                  <a:pt x="637" y="244"/>
                </a:lnTo>
                <a:lnTo>
                  <a:pt x="628" y="244"/>
                </a:lnTo>
                <a:lnTo>
                  <a:pt x="617" y="242"/>
                </a:lnTo>
                <a:lnTo>
                  <a:pt x="605" y="242"/>
                </a:lnTo>
                <a:lnTo>
                  <a:pt x="593" y="242"/>
                </a:lnTo>
                <a:lnTo>
                  <a:pt x="581" y="241"/>
                </a:lnTo>
                <a:lnTo>
                  <a:pt x="571" y="241"/>
                </a:lnTo>
                <a:lnTo>
                  <a:pt x="562" y="241"/>
                </a:lnTo>
                <a:lnTo>
                  <a:pt x="560" y="241"/>
                </a:lnTo>
                <a:lnTo>
                  <a:pt x="558" y="241"/>
                </a:lnTo>
                <a:lnTo>
                  <a:pt x="557" y="241"/>
                </a:lnTo>
                <a:lnTo>
                  <a:pt x="555" y="241"/>
                </a:lnTo>
                <a:lnTo>
                  <a:pt x="555" y="368"/>
                </a:lnTo>
                <a:lnTo>
                  <a:pt x="556" y="368"/>
                </a:lnTo>
                <a:lnTo>
                  <a:pt x="557" y="368"/>
                </a:lnTo>
                <a:lnTo>
                  <a:pt x="557" y="368"/>
                </a:lnTo>
                <a:lnTo>
                  <a:pt x="558" y="368"/>
                </a:lnTo>
                <a:lnTo>
                  <a:pt x="580" y="369"/>
                </a:lnTo>
                <a:lnTo>
                  <a:pt x="600" y="373"/>
                </a:lnTo>
                <a:lnTo>
                  <a:pt x="619" y="379"/>
                </a:lnTo>
                <a:lnTo>
                  <a:pt x="638" y="387"/>
                </a:lnTo>
                <a:lnTo>
                  <a:pt x="656" y="399"/>
                </a:lnTo>
                <a:lnTo>
                  <a:pt x="673" y="411"/>
                </a:lnTo>
                <a:lnTo>
                  <a:pt x="688" y="425"/>
                </a:lnTo>
                <a:lnTo>
                  <a:pt x="703" y="442"/>
                </a:lnTo>
                <a:lnTo>
                  <a:pt x="717" y="460"/>
                </a:lnTo>
                <a:lnTo>
                  <a:pt x="728" y="479"/>
                </a:lnTo>
                <a:lnTo>
                  <a:pt x="738" y="500"/>
                </a:lnTo>
                <a:lnTo>
                  <a:pt x="747" y="523"/>
                </a:lnTo>
                <a:lnTo>
                  <a:pt x="754" y="545"/>
                </a:lnTo>
                <a:lnTo>
                  <a:pt x="758" y="570"/>
                </a:lnTo>
                <a:lnTo>
                  <a:pt x="761" y="594"/>
                </a:lnTo>
                <a:lnTo>
                  <a:pt x="763" y="620"/>
                </a:lnTo>
                <a:lnTo>
                  <a:pt x="761" y="647"/>
                </a:lnTo>
                <a:lnTo>
                  <a:pt x="758" y="670"/>
                </a:lnTo>
                <a:lnTo>
                  <a:pt x="754" y="695"/>
                </a:lnTo>
                <a:lnTo>
                  <a:pt x="747" y="718"/>
                </a:lnTo>
                <a:lnTo>
                  <a:pt x="738" y="740"/>
                </a:lnTo>
                <a:lnTo>
                  <a:pt x="728" y="761"/>
                </a:lnTo>
                <a:lnTo>
                  <a:pt x="717" y="780"/>
                </a:lnTo>
                <a:lnTo>
                  <a:pt x="703" y="798"/>
                </a:lnTo>
                <a:lnTo>
                  <a:pt x="688" y="815"/>
                </a:lnTo>
                <a:lnTo>
                  <a:pt x="673" y="829"/>
                </a:lnTo>
                <a:lnTo>
                  <a:pt x="656" y="842"/>
                </a:lnTo>
                <a:lnTo>
                  <a:pt x="638" y="853"/>
                </a:lnTo>
                <a:lnTo>
                  <a:pt x="619" y="861"/>
                </a:lnTo>
                <a:lnTo>
                  <a:pt x="600" y="867"/>
                </a:lnTo>
                <a:lnTo>
                  <a:pt x="580" y="871"/>
                </a:lnTo>
                <a:lnTo>
                  <a:pt x="558" y="872"/>
                </a:lnTo>
                <a:lnTo>
                  <a:pt x="557" y="872"/>
                </a:lnTo>
                <a:lnTo>
                  <a:pt x="557" y="872"/>
                </a:lnTo>
                <a:lnTo>
                  <a:pt x="556" y="872"/>
                </a:lnTo>
                <a:lnTo>
                  <a:pt x="555" y="872"/>
                </a:lnTo>
                <a:lnTo>
                  <a:pt x="555" y="981"/>
                </a:lnTo>
                <a:lnTo>
                  <a:pt x="558" y="981"/>
                </a:lnTo>
                <a:lnTo>
                  <a:pt x="560" y="981"/>
                </a:lnTo>
                <a:lnTo>
                  <a:pt x="562" y="981"/>
                </a:lnTo>
                <a:lnTo>
                  <a:pt x="562" y="981"/>
                </a:lnTo>
                <a:lnTo>
                  <a:pt x="564" y="981"/>
                </a:lnTo>
                <a:lnTo>
                  <a:pt x="573" y="981"/>
                </a:lnTo>
                <a:lnTo>
                  <a:pt x="585" y="981"/>
                </a:lnTo>
                <a:lnTo>
                  <a:pt x="602" y="981"/>
                </a:lnTo>
                <a:lnTo>
                  <a:pt x="622" y="981"/>
                </a:lnTo>
                <a:lnTo>
                  <a:pt x="645" y="981"/>
                </a:lnTo>
                <a:lnTo>
                  <a:pt x="671" y="981"/>
                </a:lnTo>
                <a:lnTo>
                  <a:pt x="697" y="981"/>
                </a:lnTo>
                <a:lnTo>
                  <a:pt x="726" y="981"/>
                </a:lnTo>
                <a:lnTo>
                  <a:pt x="754" y="981"/>
                </a:lnTo>
                <a:lnTo>
                  <a:pt x="783" y="981"/>
                </a:lnTo>
                <a:lnTo>
                  <a:pt x="811" y="981"/>
                </a:lnTo>
                <a:lnTo>
                  <a:pt x="838" y="981"/>
                </a:lnTo>
                <a:lnTo>
                  <a:pt x="863" y="981"/>
                </a:lnTo>
                <a:lnTo>
                  <a:pt x="885" y="981"/>
                </a:lnTo>
                <a:lnTo>
                  <a:pt x="905" y="981"/>
                </a:lnTo>
                <a:lnTo>
                  <a:pt x="937" y="980"/>
                </a:lnTo>
                <a:lnTo>
                  <a:pt x="961" y="977"/>
                </a:lnTo>
                <a:lnTo>
                  <a:pt x="983" y="970"/>
                </a:lnTo>
                <a:lnTo>
                  <a:pt x="997" y="957"/>
                </a:lnTo>
                <a:lnTo>
                  <a:pt x="1009" y="941"/>
                </a:lnTo>
                <a:lnTo>
                  <a:pt x="1013" y="916"/>
                </a:lnTo>
                <a:lnTo>
                  <a:pt x="1014" y="882"/>
                </a:lnTo>
                <a:lnTo>
                  <a:pt x="1011" y="840"/>
                </a:lnTo>
                <a:lnTo>
                  <a:pt x="1005" y="810"/>
                </a:lnTo>
                <a:lnTo>
                  <a:pt x="995" y="772"/>
                </a:lnTo>
                <a:lnTo>
                  <a:pt x="983" y="730"/>
                </a:lnTo>
                <a:lnTo>
                  <a:pt x="968" y="686"/>
                </a:lnTo>
                <a:lnTo>
                  <a:pt x="951" y="644"/>
                </a:lnTo>
                <a:lnTo>
                  <a:pt x="936" y="606"/>
                </a:lnTo>
                <a:lnTo>
                  <a:pt x="921" y="574"/>
                </a:lnTo>
                <a:lnTo>
                  <a:pt x="907" y="553"/>
                </a:lnTo>
                <a:lnTo>
                  <a:pt x="894" y="535"/>
                </a:lnTo>
                <a:lnTo>
                  <a:pt x="878" y="513"/>
                </a:lnTo>
                <a:lnTo>
                  <a:pt x="863" y="489"/>
                </a:lnTo>
                <a:lnTo>
                  <a:pt x="846" y="464"/>
                </a:lnTo>
                <a:lnTo>
                  <a:pt x="831" y="440"/>
                </a:lnTo>
                <a:lnTo>
                  <a:pt x="819" y="419"/>
                </a:lnTo>
                <a:lnTo>
                  <a:pt x="809" y="401"/>
                </a:lnTo>
                <a:lnTo>
                  <a:pt x="804" y="389"/>
                </a:lnTo>
                <a:lnTo>
                  <a:pt x="799" y="365"/>
                </a:lnTo>
                <a:lnTo>
                  <a:pt x="795" y="332"/>
                </a:lnTo>
                <a:lnTo>
                  <a:pt x="794" y="295"/>
                </a:lnTo>
                <a:lnTo>
                  <a:pt x="794" y="259"/>
                </a:lnTo>
                <a:lnTo>
                  <a:pt x="797" y="237"/>
                </a:lnTo>
                <a:lnTo>
                  <a:pt x="803" y="222"/>
                </a:lnTo>
                <a:lnTo>
                  <a:pt x="811" y="215"/>
                </a:lnTo>
                <a:lnTo>
                  <a:pt x="821" y="216"/>
                </a:lnTo>
                <a:lnTo>
                  <a:pt x="827" y="231"/>
                </a:lnTo>
                <a:lnTo>
                  <a:pt x="824" y="255"/>
                </a:lnTo>
                <a:lnTo>
                  <a:pt x="819" y="283"/>
                </a:lnTo>
                <a:lnTo>
                  <a:pt x="813" y="305"/>
                </a:lnTo>
                <a:lnTo>
                  <a:pt x="812" y="315"/>
                </a:lnTo>
                <a:lnTo>
                  <a:pt x="813" y="325"/>
                </a:lnTo>
                <a:lnTo>
                  <a:pt x="817" y="336"/>
                </a:lnTo>
                <a:lnTo>
                  <a:pt x="821" y="346"/>
                </a:lnTo>
                <a:lnTo>
                  <a:pt x="827" y="357"/>
                </a:lnTo>
                <a:lnTo>
                  <a:pt x="834" y="368"/>
                </a:lnTo>
                <a:lnTo>
                  <a:pt x="845" y="379"/>
                </a:lnTo>
                <a:lnTo>
                  <a:pt x="856" y="390"/>
                </a:lnTo>
                <a:lnTo>
                  <a:pt x="863" y="396"/>
                </a:lnTo>
                <a:lnTo>
                  <a:pt x="870" y="403"/>
                </a:lnTo>
                <a:lnTo>
                  <a:pt x="879" y="408"/>
                </a:lnTo>
                <a:lnTo>
                  <a:pt x="890" y="414"/>
                </a:lnTo>
                <a:lnTo>
                  <a:pt x="901" y="421"/>
                </a:lnTo>
                <a:lnTo>
                  <a:pt x="913" y="426"/>
                </a:lnTo>
                <a:lnTo>
                  <a:pt x="925" y="432"/>
                </a:lnTo>
                <a:lnTo>
                  <a:pt x="939" y="438"/>
                </a:lnTo>
                <a:lnTo>
                  <a:pt x="952" y="442"/>
                </a:lnTo>
                <a:lnTo>
                  <a:pt x="966" y="447"/>
                </a:lnTo>
                <a:lnTo>
                  <a:pt x="980" y="450"/>
                </a:lnTo>
                <a:lnTo>
                  <a:pt x="994" y="453"/>
                </a:lnTo>
                <a:lnTo>
                  <a:pt x="1009" y="456"/>
                </a:lnTo>
                <a:lnTo>
                  <a:pt x="1022" y="457"/>
                </a:lnTo>
                <a:lnTo>
                  <a:pt x="1036" y="457"/>
                </a:lnTo>
                <a:lnTo>
                  <a:pt x="1048" y="456"/>
                </a:lnTo>
                <a:lnTo>
                  <a:pt x="1064" y="453"/>
                </a:lnTo>
                <a:lnTo>
                  <a:pt x="1078" y="447"/>
                </a:lnTo>
                <a:lnTo>
                  <a:pt x="1091" y="442"/>
                </a:lnTo>
                <a:lnTo>
                  <a:pt x="1102" y="432"/>
                </a:lnTo>
                <a:lnTo>
                  <a:pt x="1110" y="421"/>
                </a:lnTo>
                <a:lnTo>
                  <a:pt x="1116" y="405"/>
                </a:lnTo>
                <a:lnTo>
                  <a:pt x="1121" y="386"/>
                </a:lnTo>
                <a:lnTo>
                  <a:pt x="1122" y="364"/>
                </a:lnTo>
                <a:lnTo>
                  <a:pt x="1121" y="336"/>
                </a:lnTo>
                <a:lnTo>
                  <a:pt x="1118" y="304"/>
                </a:lnTo>
                <a:lnTo>
                  <a:pt x="1111" y="269"/>
                </a:lnTo>
                <a:lnTo>
                  <a:pt x="1100" y="233"/>
                </a:lnTo>
                <a:lnTo>
                  <a:pt x="1082" y="196"/>
                </a:lnTo>
                <a:lnTo>
                  <a:pt x="1058" y="160"/>
                </a:lnTo>
                <a:lnTo>
                  <a:pt x="1027" y="127"/>
                </a:lnTo>
                <a:lnTo>
                  <a:pt x="986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81CA-49CC-4A97-AAF2-4C8D635FA1D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Layering: physical communication 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862" name=""/>
          <p:cNvGrpSpPr/>
          <p:nvPr/>
        </p:nvGrpSpPr>
        <p:grpSpPr>
          <a:xfrm>
            <a:off x="1731960" y="1670040"/>
            <a:ext cx="5981760" cy="4497480"/>
            <a:chOff x="1731960" y="1670040"/>
            <a:chExt cx="5981760" cy="4497480"/>
          </a:xfrm>
        </p:grpSpPr>
        <p:sp>
          <p:nvSpPr>
            <p:cNvPr id="1863" name=""/>
            <p:cNvSpPr/>
            <p:nvPr/>
          </p:nvSpPr>
          <p:spPr>
            <a:xfrm>
              <a:off x="1731960" y="1670040"/>
              <a:ext cx="5981760" cy="449748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4" name=""/>
            <p:cNvGrpSpPr/>
            <p:nvPr/>
          </p:nvGrpSpPr>
          <p:grpSpPr>
            <a:xfrm>
              <a:off x="2093760" y="2023920"/>
              <a:ext cx="2348640" cy="901080"/>
              <a:chOff x="2093760" y="2023920"/>
              <a:chExt cx="2348640" cy="901080"/>
            </a:xfrm>
          </p:grpSpPr>
          <p:pic>
            <p:nvPicPr>
              <p:cNvPr id="186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93760" y="2023920"/>
                <a:ext cx="1333080" cy="90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547080" y="2357640"/>
                <a:ext cx="895320" cy="52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7" name=""/>
              <p:cNvSpPr/>
              <p:nvPr/>
            </p:nvSpPr>
            <p:spPr>
              <a:xfrm flipV="1">
                <a:off x="3395520" y="2707200"/>
                <a:ext cx="365760" cy="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8" name=""/>
            <p:cNvGrpSpPr/>
            <p:nvPr/>
          </p:nvGrpSpPr>
          <p:grpSpPr>
            <a:xfrm>
              <a:off x="2093760" y="3708360"/>
              <a:ext cx="2348640" cy="902520"/>
              <a:chOff x="2093760" y="3708360"/>
              <a:chExt cx="2348640" cy="902520"/>
            </a:xfrm>
          </p:grpSpPr>
          <p:pic>
            <p:nvPicPr>
              <p:cNvPr id="18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93760" y="3708360"/>
                <a:ext cx="1333080" cy="90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547080" y="4042800"/>
                <a:ext cx="895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1" name=""/>
              <p:cNvSpPr/>
              <p:nvPr/>
            </p:nvSpPr>
            <p:spPr>
              <a:xfrm flipV="1">
                <a:off x="3395520" y="4393080"/>
                <a:ext cx="365760" cy="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2" name=""/>
            <p:cNvGrpSpPr/>
            <p:nvPr/>
          </p:nvGrpSpPr>
          <p:grpSpPr>
            <a:xfrm>
              <a:off x="3805200" y="3078000"/>
              <a:ext cx="165600" cy="605520"/>
              <a:chOff x="3805200" y="3078000"/>
              <a:chExt cx="165600" cy="605520"/>
            </a:xfrm>
          </p:grpSpPr>
          <p:sp>
            <p:nvSpPr>
              <p:cNvPr id="1873" name=""/>
              <p:cNvSpPr/>
              <p:nvPr/>
            </p:nvSpPr>
            <p:spPr>
              <a:xfrm>
                <a:off x="3805200" y="3078000"/>
                <a:ext cx="152640" cy="1710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3811680" y="3295800"/>
                <a:ext cx="152640" cy="169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3818160" y="3513600"/>
                <a:ext cx="152640" cy="169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6" name=""/>
            <p:cNvGrpSpPr/>
            <p:nvPr/>
          </p:nvGrpSpPr>
          <p:grpSpPr>
            <a:xfrm>
              <a:off x="4805280" y="4530600"/>
              <a:ext cx="671040" cy="1118520"/>
              <a:chOff x="4805280" y="4530600"/>
              <a:chExt cx="671040" cy="1118520"/>
            </a:xfrm>
          </p:grpSpPr>
          <p:sp>
            <p:nvSpPr>
              <p:cNvPr id="1877" name=""/>
              <p:cNvSpPr/>
              <p:nvPr/>
            </p:nvSpPr>
            <p:spPr>
              <a:xfrm>
                <a:off x="4805280" y="5390640"/>
                <a:ext cx="671040" cy="258480"/>
              </a:xfrm>
              <a:prstGeom prst="parallelogram">
                <a:avLst>
                  <a:gd name="adj" fmla="val 100010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5145120" y="4537800"/>
                <a:ext cx="308520" cy="8593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4809240" y="4781520"/>
                <a:ext cx="425160" cy="8600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4805280" y="4530600"/>
                <a:ext cx="671040" cy="258480"/>
              </a:xfrm>
              <a:prstGeom prst="parallelogram">
                <a:avLst>
                  <a:gd name="adj" fmla="val 100010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5476320" y="4548600"/>
                <a:ext cx="0" cy="84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H="1">
                <a:off x="5234040" y="5390640"/>
                <a:ext cx="24156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4862880" y="4894920"/>
                <a:ext cx="282240" cy="49572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4903560" y="5044320"/>
                <a:ext cx="214200" cy="1742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5" name=""/>
            <p:cNvGrpSpPr/>
            <p:nvPr/>
          </p:nvGrpSpPr>
          <p:grpSpPr>
            <a:xfrm>
              <a:off x="5562720" y="4966560"/>
              <a:ext cx="746640" cy="228960"/>
              <a:chOff x="5562720" y="4966560"/>
              <a:chExt cx="746640" cy="228960"/>
            </a:xfrm>
          </p:grpSpPr>
          <p:sp>
            <p:nvSpPr>
              <p:cNvPr id="1886" name=""/>
              <p:cNvSpPr/>
              <p:nvPr/>
            </p:nvSpPr>
            <p:spPr>
              <a:xfrm rot="16200000">
                <a:off x="5562360" y="4984560"/>
                <a:ext cx="210960" cy="2106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 rot="16200000">
                <a:off x="5830560" y="4976280"/>
                <a:ext cx="210960" cy="2095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rot="16200000">
                <a:off x="6099120" y="4967280"/>
                <a:ext cx="210960" cy="2095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9" name=""/>
            <p:cNvSpPr/>
            <p:nvPr/>
          </p:nvSpPr>
          <p:spPr>
            <a:xfrm>
              <a:off x="5241960" y="4270320"/>
              <a:ext cx="15876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253120" y="4260960"/>
              <a:ext cx="4680" cy="26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840360" y="4255920"/>
              <a:ext cx="5040" cy="23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281480" y="2741760"/>
              <a:ext cx="925560" cy="7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4321080" y="3551400"/>
              <a:ext cx="885960" cy="9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6010200" y="3793680"/>
              <a:ext cx="468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5" name=""/>
            <p:cNvGrpSpPr/>
            <p:nvPr/>
          </p:nvGrpSpPr>
          <p:grpSpPr>
            <a:xfrm>
              <a:off x="6423120" y="4494240"/>
              <a:ext cx="670680" cy="1118520"/>
              <a:chOff x="6423120" y="4494240"/>
              <a:chExt cx="670680" cy="1118520"/>
            </a:xfrm>
          </p:grpSpPr>
          <p:sp>
            <p:nvSpPr>
              <p:cNvPr id="1896" name=""/>
              <p:cNvSpPr/>
              <p:nvPr/>
            </p:nvSpPr>
            <p:spPr>
              <a:xfrm>
                <a:off x="6423120" y="5354280"/>
                <a:ext cx="670680" cy="258480"/>
              </a:xfrm>
              <a:prstGeom prst="parallelogram">
                <a:avLst>
                  <a:gd name="adj" fmla="val 99956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6762960" y="4501440"/>
                <a:ext cx="308160" cy="8593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427080" y="4745160"/>
                <a:ext cx="425160" cy="8600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6423120" y="4494240"/>
                <a:ext cx="670680" cy="258480"/>
              </a:xfrm>
              <a:prstGeom prst="parallelogram">
                <a:avLst>
                  <a:gd name="adj" fmla="val 99956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7093800" y="4512240"/>
                <a:ext cx="0" cy="84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H="1">
                <a:off x="6852240" y="5354280"/>
                <a:ext cx="24120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6480720" y="4858560"/>
                <a:ext cx="281880" cy="49572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6521400" y="5007960"/>
                <a:ext cx="213840" cy="1742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4" name=""/>
            <p:cNvGrpSpPr/>
            <p:nvPr/>
          </p:nvGrpSpPr>
          <p:grpSpPr>
            <a:xfrm>
              <a:off x="5160960" y="3160800"/>
              <a:ext cx="1607400" cy="659160"/>
              <a:chOff x="5160960" y="3160800"/>
              <a:chExt cx="1607400" cy="659160"/>
            </a:xfrm>
          </p:grpSpPr>
          <p:sp>
            <p:nvSpPr>
              <p:cNvPr id="1905" name=""/>
              <p:cNvSpPr/>
              <p:nvPr/>
            </p:nvSpPr>
            <p:spPr>
              <a:xfrm>
                <a:off x="5173920" y="3454920"/>
                <a:ext cx="1594080" cy="3650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173920" y="3424320"/>
                <a:ext cx="0" cy="22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6768360" y="3424320"/>
                <a:ext cx="0" cy="22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5173920" y="3424320"/>
                <a:ext cx="1580040" cy="2232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5160960" y="3160800"/>
                <a:ext cx="1593000" cy="4258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0" name=""/>
              <p:cNvGrpSpPr/>
              <p:nvPr/>
            </p:nvGrpSpPr>
            <p:grpSpPr>
              <a:xfrm>
                <a:off x="5544360" y="3254760"/>
                <a:ext cx="789120" cy="248400"/>
                <a:chOff x="5544360" y="3254760"/>
                <a:chExt cx="789120" cy="248400"/>
              </a:xfrm>
            </p:grpSpPr>
            <p:sp>
              <p:nvSpPr>
                <p:cNvPr id="1911" name=""/>
                <p:cNvSpPr/>
                <p:nvPr/>
              </p:nvSpPr>
              <p:spPr>
                <a:xfrm flipV="1">
                  <a:off x="5544360" y="3254760"/>
                  <a:ext cx="281520" cy="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6085440" y="3503160"/>
                  <a:ext cx="248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5803920" y="3259800"/>
                  <a:ext cx="293040" cy="243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4" name=""/>
              <p:cNvGrpSpPr/>
              <p:nvPr/>
            </p:nvGrpSpPr>
            <p:grpSpPr>
              <a:xfrm>
                <a:off x="5544360" y="3251160"/>
                <a:ext cx="789120" cy="248400"/>
                <a:chOff x="5544360" y="3251160"/>
                <a:chExt cx="789120" cy="248400"/>
              </a:xfrm>
            </p:grpSpPr>
            <p:sp>
              <p:nvSpPr>
                <p:cNvPr id="1915" name=""/>
                <p:cNvSpPr/>
                <p:nvPr/>
              </p:nvSpPr>
              <p:spPr>
                <a:xfrm>
                  <a:off x="5544360" y="3494520"/>
                  <a:ext cx="281520" cy="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6085440" y="3251160"/>
                  <a:ext cx="248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 flipV="1">
                  <a:off x="5803920" y="3251160"/>
                  <a:ext cx="293040" cy="243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18" name=""/>
          <p:cNvGrpSpPr/>
          <p:nvPr/>
        </p:nvGrpSpPr>
        <p:grpSpPr>
          <a:xfrm>
            <a:off x="2136600" y="1427040"/>
            <a:ext cx="1324080" cy="1495440"/>
            <a:chOff x="2136600" y="1427040"/>
            <a:chExt cx="1324080" cy="1495440"/>
          </a:xfrm>
        </p:grpSpPr>
        <p:sp>
          <p:nvSpPr>
            <p:cNvPr id="1919" name=""/>
            <p:cNvSpPr/>
            <p:nvPr/>
          </p:nvSpPr>
          <p:spPr>
            <a:xfrm>
              <a:off x="2193840" y="1427040"/>
              <a:ext cx="1266840" cy="1433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146320" y="1488960"/>
              <a:ext cx="1266840" cy="14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158200" y="1503360"/>
              <a:ext cx="12322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V="1">
              <a:off x="2141640" y="180756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V="1">
              <a:off x="2160720" y="209340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V="1">
              <a:off x="2160720" y="2350800"/>
              <a:ext cx="12524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V="1">
              <a:off x="2136600" y="2631600"/>
              <a:ext cx="1252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6" name=""/>
          <p:cNvGrpSpPr/>
          <p:nvPr/>
        </p:nvGrpSpPr>
        <p:grpSpPr>
          <a:xfrm>
            <a:off x="2058840" y="3154320"/>
            <a:ext cx="1324080" cy="1495440"/>
            <a:chOff x="2058840" y="3154320"/>
            <a:chExt cx="1324080" cy="1495440"/>
          </a:xfrm>
        </p:grpSpPr>
        <p:sp>
          <p:nvSpPr>
            <p:cNvPr id="1927" name=""/>
            <p:cNvSpPr/>
            <p:nvPr/>
          </p:nvSpPr>
          <p:spPr>
            <a:xfrm>
              <a:off x="2116080" y="3154320"/>
              <a:ext cx="1266840" cy="1433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2068560" y="3216240"/>
              <a:ext cx="1266840" cy="14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2080440" y="3230640"/>
              <a:ext cx="12322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V="1">
              <a:off x="2063880" y="353484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V="1">
              <a:off x="2082960" y="382068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V="1">
              <a:off x="2082960" y="4078080"/>
              <a:ext cx="12524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V="1">
              <a:off x="2058840" y="4358880"/>
              <a:ext cx="1252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4" name=""/>
          <p:cNvGrpSpPr/>
          <p:nvPr/>
        </p:nvGrpSpPr>
        <p:grpSpPr>
          <a:xfrm>
            <a:off x="4476600" y="4417920"/>
            <a:ext cx="1324080" cy="1495440"/>
            <a:chOff x="4476600" y="4417920"/>
            <a:chExt cx="1324080" cy="1495440"/>
          </a:xfrm>
        </p:grpSpPr>
        <p:sp>
          <p:nvSpPr>
            <p:cNvPr id="1935" name=""/>
            <p:cNvSpPr/>
            <p:nvPr/>
          </p:nvSpPr>
          <p:spPr>
            <a:xfrm>
              <a:off x="4533840" y="4417920"/>
              <a:ext cx="1266840" cy="1433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486320" y="4479840"/>
              <a:ext cx="1266840" cy="14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498200" y="4494240"/>
              <a:ext cx="12322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4481640" y="479844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V="1">
              <a:off x="4500720" y="508428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V="1">
              <a:off x="4500720" y="5341680"/>
              <a:ext cx="12524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V="1">
              <a:off x="4476600" y="5622480"/>
              <a:ext cx="1252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2" name=""/>
          <p:cNvGrpSpPr/>
          <p:nvPr/>
        </p:nvGrpSpPr>
        <p:grpSpPr>
          <a:xfrm>
            <a:off x="6259680" y="4411800"/>
            <a:ext cx="1323360" cy="1495440"/>
            <a:chOff x="6259680" y="4411800"/>
            <a:chExt cx="1323360" cy="1495440"/>
          </a:xfrm>
        </p:grpSpPr>
        <p:sp>
          <p:nvSpPr>
            <p:cNvPr id="1943" name=""/>
            <p:cNvSpPr/>
            <p:nvPr/>
          </p:nvSpPr>
          <p:spPr>
            <a:xfrm>
              <a:off x="6316560" y="4411800"/>
              <a:ext cx="1266480" cy="1433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269040" y="4473720"/>
              <a:ext cx="1266480" cy="14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280560" y="4488120"/>
              <a:ext cx="12322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V="1">
              <a:off x="6264360" y="4792320"/>
              <a:ext cx="125208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>
              <a:off x="6283440" y="5078160"/>
              <a:ext cx="125208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V="1">
              <a:off x="6283440" y="5335560"/>
              <a:ext cx="125208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V="1">
              <a:off x="6259680" y="561636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0" name=""/>
          <p:cNvGrpSpPr/>
          <p:nvPr/>
        </p:nvGrpSpPr>
        <p:grpSpPr>
          <a:xfrm>
            <a:off x="5288040" y="2884320"/>
            <a:ext cx="1320840" cy="955800"/>
            <a:chOff x="5288040" y="2884320"/>
            <a:chExt cx="1320840" cy="955800"/>
          </a:xfrm>
        </p:grpSpPr>
        <p:sp>
          <p:nvSpPr>
            <p:cNvPr id="1951" name=""/>
            <p:cNvSpPr/>
            <p:nvPr/>
          </p:nvSpPr>
          <p:spPr>
            <a:xfrm>
              <a:off x="5342040" y="2884320"/>
              <a:ext cx="1266840" cy="9255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288040" y="2946240"/>
              <a:ext cx="1266840" cy="89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438880" y="2960640"/>
              <a:ext cx="96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5289480" y="3265200"/>
              <a:ext cx="125280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5308560" y="3550680"/>
              <a:ext cx="1252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6" name=""/>
          <p:cNvSpPr/>
          <p:nvPr/>
        </p:nvSpPr>
        <p:spPr>
          <a:xfrm>
            <a:off x="2940120" y="1638360"/>
            <a:ext cx="6120" cy="1028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165720" y="3048120"/>
            <a:ext cx="6480" cy="273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 flipV="1">
            <a:off x="5549760" y="3015720"/>
            <a:ext cx="0" cy="61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5543640" y="3035160"/>
            <a:ext cx="62532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165720" y="5765760"/>
            <a:ext cx="787680" cy="9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6953400" y="4606920"/>
            <a:ext cx="12600" cy="1168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 flipV="1">
            <a:off x="2971800" y="2682720"/>
            <a:ext cx="1403280" cy="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346640" y="2698920"/>
            <a:ext cx="1212840" cy="965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4" name=""/>
          <p:cNvGrpSpPr/>
          <p:nvPr/>
        </p:nvGrpSpPr>
        <p:grpSpPr>
          <a:xfrm>
            <a:off x="6661080" y="4178160"/>
            <a:ext cx="704880" cy="384120"/>
            <a:chOff x="6661080" y="4178160"/>
            <a:chExt cx="704880" cy="384120"/>
          </a:xfrm>
        </p:grpSpPr>
        <p:sp>
          <p:nvSpPr>
            <p:cNvPr id="1965" name=""/>
            <p:cNvSpPr/>
            <p:nvPr/>
          </p:nvSpPr>
          <p:spPr>
            <a:xfrm>
              <a:off x="6661080" y="4178160"/>
              <a:ext cx="70488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683760" y="41940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7" name=""/>
          <p:cNvGrpSpPr/>
          <p:nvPr/>
        </p:nvGrpSpPr>
        <p:grpSpPr>
          <a:xfrm>
            <a:off x="2610000" y="1257480"/>
            <a:ext cx="704880" cy="384120"/>
            <a:chOff x="2610000" y="1257480"/>
            <a:chExt cx="704880" cy="384120"/>
          </a:xfrm>
        </p:grpSpPr>
        <p:sp>
          <p:nvSpPr>
            <p:cNvPr id="1968" name=""/>
            <p:cNvSpPr/>
            <p:nvPr/>
          </p:nvSpPr>
          <p:spPr>
            <a:xfrm>
              <a:off x="2610000" y="1257480"/>
              <a:ext cx="70488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2632680" y="127332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11A9-5F6C-42DE-802B-6530D4541CA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5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54612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Protocol layering and data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695160" y="1530000"/>
            <a:ext cx="77724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layer takes data from abo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s header information to create new data un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sses new data unit to layer be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72" name=""/>
          <p:cNvGrpSpPr/>
          <p:nvPr/>
        </p:nvGrpSpPr>
        <p:grpSpPr>
          <a:xfrm>
            <a:off x="1892160" y="3618000"/>
            <a:ext cx="1732680" cy="2009160"/>
            <a:chOff x="1892160" y="3618000"/>
            <a:chExt cx="1732680" cy="2009160"/>
          </a:xfrm>
        </p:grpSpPr>
        <p:grpSp>
          <p:nvGrpSpPr>
            <p:cNvPr id="1973" name=""/>
            <p:cNvGrpSpPr/>
            <p:nvPr/>
          </p:nvGrpSpPr>
          <p:grpSpPr>
            <a:xfrm>
              <a:off x="1892160" y="3618000"/>
              <a:ext cx="1732680" cy="2009160"/>
              <a:chOff x="1892160" y="3618000"/>
              <a:chExt cx="1732680" cy="2009160"/>
            </a:xfrm>
          </p:grpSpPr>
          <p:sp>
            <p:nvSpPr>
              <p:cNvPr id="1974" name=""/>
              <p:cNvSpPr/>
              <p:nvPr/>
            </p:nvSpPr>
            <p:spPr>
              <a:xfrm>
                <a:off x="1966320" y="3618000"/>
                <a:ext cx="1658520" cy="19260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904400" y="3701160"/>
                <a:ext cx="1658520" cy="192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flipV="1">
                <a:off x="1898280" y="412956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flipV="1">
                <a:off x="1923120" y="451368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V="1">
                <a:off x="1923120" y="485928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V="1">
                <a:off x="1892160" y="523692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0" name=""/>
            <p:cNvSpPr/>
            <p:nvPr/>
          </p:nvSpPr>
          <p:spPr>
            <a:xfrm>
              <a:off x="1977840" y="3774960"/>
              <a:ext cx="15019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1" name=""/>
          <p:cNvGrpSpPr/>
          <p:nvPr/>
        </p:nvGrpSpPr>
        <p:grpSpPr>
          <a:xfrm>
            <a:off x="4267080" y="3598920"/>
            <a:ext cx="1732680" cy="2009160"/>
            <a:chOff x="4267080" y="3598920"/>
            <a:chExt cx="1732680" cy="2009160"/>
          </a:xfrm>
        </p:grpSpPr>
        <p:grpSp>
          <p:nvGrpSpPr>
            <p:cNvPr id="1982" name=""/>
            <p:cNvGrpSpPr/>
            <p:nvPr/>
          </p:nvGrpSpPr>
          <p:grpSpPr>
            <a:xfrm>
              <a:off x="4267080" y="3598920"/>
              <a:ext cx="1732680" cy="2009160"/>
              <a:chOff x="4267080" y="3598920"/>
              <a:chExt cx="1732680" cy="2009160"/>
            </a:xfrm>
          </p:grpSpPr>
          <p:sp>
            <p:nvSpPr>
              <p:cNvPr id="1983" name=""/>
              <p:cNvSpPr/>
              <p:nvPr/>
            </p:nvSpPr>
            <p:spPr>
              <a:xfrm>
                <a:off x="4341240" y="3598920"/>
                <a:ext cx="1658520" cy="19260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4279320" y="3682080"/>
                <a:ext cx="1658520" cy="192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flipV="1">
                <a:off x="4273200" y="411048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flipV="1">
                <a:off x="4298040" y="449460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flipV="1">
                <a:off x="4298040" y="484020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4267080" y="521784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9" name=""/>
            <p:cNvSpPr/>
            <p:nvPr/>
          </p:nvSpPr>
          <p:spPr>
            <a:xfrm>
              <a:off x="4352760" y="3755880"/>
              <a:ext cx="15019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"/>
          <p:cNvSpPr/>
          <p:nvPr/>
        </p:nvSpPr>
        <p:spPr>
          <a:xfrm>
            <a:off x="2200680" y="30844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4257360" y="314172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1076400" y="3181320"/>
            <a:ext cx="5848200" cy="2828880"/>
          </a:xfrm>
          <a:custGeom>
            <a:avLst/>
            <a:gdLst/>
            <a:ahLst/>
            <a:rect l="l" t="t" r="r" b="b"/>
            <a:pathLst>
              <a:path w="4572" h="1752">
                <a:moveTo>
                  <a:pt x="0" y="264"/>
                </a:moveTo>
                <a:lnTo>
                  <a:pt x="0" y="1752"/>
                </a:lnTo>
                <a:lnTo>
                  <a:pt x="4572" y="1746"/>
                </a:lnTo>
                <a:lnTo>
                  <a:pt x="4572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3" name=""/>
          <p:cNvGrpSpPr/>
          <p:nvPr/>
        </p:nvGrpSpPr>
        <p:grpSpPr>
          <a:xfrm>
            <a:off x="165240" y="3753000"/>
            <a:ext cx="1667880" cy="1553040"/>
            <a:chOff x="165240" y="3753000"/>
            <a:chExt cx="1667880" cy="1553040"/>
          </a:xfrm>
        </p:grpSpPr>
        <p:sp>
          <p:nvSpPr>
            <p:cNvPr id="1994" name=""/>
            <p:cNvSpPr/>
            <p:nvPr/>
          </p:nvSpPr>
          <p:spPr>
            <a:xfrm>
              <a:off x="1215720" y="375300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1215720" y="4162320"/>
              <a:ext cx="599760" cy="314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233360" y="454680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1233360" y="492768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8" name=""/>
            <p:cNvGrpSpPr/>
            <p:nvPr/>
          </p:nvGrpSpPr>
          <p:grpSpPr>
            <a:xfrm>
              <a:off x="804600" y="4133880"/>
              <a:ext cx="486720" cy="407160"/>
              <a:chOff x="804600" y="4133880"/>
              <a:chExt cx="486720" cy="407160"/>
            </a:xfrm>
          </p:grpSpPr>
          <p:sp>
            <p:nvSpPr>
              <p:cNvPr id="1999" name=""/>
              <p:cNvSpPr/>
              <p:nvPr/>
            </p:nvSpPr>
            <p:spPr>
              <a:xfrm>
                <a:off x="880560" y="416268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804600" y="413388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994680" y="4203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2" name=""/>
            <p:cNvGrpSpPr/>
            <p:nvPr/>
          </p:nvGrpSpPr>
          <p:grpSpPr>
            <a:xfrm>
              <a:off x="825480" y="4518000"/>
              <a:ext cx="486360" cy="407160"/>
              <a:chOff x="825480" y="4518000"/>
              <a:chExt cx="486360" cy="407160"/>
            </a:xfrm>
          </p:grpSpPr>
          <p:sp>
            <p:nvSpPr>
              <p:cNvPr id="2003" name=""/>
              <p:cNvSpPr/>
              <p:nvPr/>
            </p:nvSpPr>
            <p:spPr>
              <a:xfrm>
                <a:off x="901440" y="4546800"/>
                <a:ext cx="32940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825480" y="4518000"/>
                <a:ext cx="31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015560" y="4587840"/>
                <a:ext cx="29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6" name=""/>
            <p:cNvGrpSpPr/>
            <p:nvPr/>
          </p:nvGrpSpPr>
          <p:grpSpPr>
            <a:xfrm>
              <a:off x="498240" y="4518000"/>
              <a:ext cx="486720" cy="407160"/>
              <a:chOff x="498240" y="4518000"/>
              <a:chExt cx="486720" cy="407160"/>
            </a:xfrm>
          </p:grpSpPr>
          <p:sp>
            <p:nvSpPr>
              <p:cNvPr id="2007" name=""/>
              <p:cNvSpPr/>
              <p:nvPr/>
            </p:nvSpPr>
            <p:spPr>
              <a:xfrm>
                <a:off x="574200" y="454680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498240" y="451800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688320" y="45878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0" name=""/>
            <p:cNvGrpSpPr/>
            <p:nvPr/>
          </p:nvGrpSpPr>
          <p:grpSpPr>
            <a:xfrm>
              <a:off x="498240" y="4897440"/>
              <a:ext cx="813240" cy="407160"/>
              <a:chOff x="498240" y="4897440"/>
              <a:chExt cx="813240" cy="407160"/>
            </a:xfrm>
          </p:grpSpPr>
          <p:grpSp>
            <p:nvGrpSpPr>
              <p:cNvPr id="2011" name=""/>
              <p:cNvGrpSpPr/>
              <p:nvPr/>
            </p:nvGrpSpPr>
            <p:grpSpPr>
              <a:xfrm>
                <a:off x="825120" y="4897440"/>
                <a:ext cx="486360" cy="407160"/>
                <a:chOff x="825120" y="4897440"/>
                <a:chExt cx="486360" cy="407160"/>
              </a:xfrm>
            </p:grpSpPr>
            <p:sp>
              <p:nvSpPr>
                <p:cNvPr id="2012" name=""/>
                <p:cNvSpPr/>
                <p:nvPr/>
              </p:nvSpPr>
              <p:spPr>
                <a:xfrm>
                  <a:off x="901080" y="4926240"/>
                  <a:ext cx="32940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825120" y="4897440"/>
                  <a:ext cx="312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1015200" y="4967280"/>
                  <a:ext cx="296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5" name=""/>
              <p:cNvGrpSpPr/>
              <p:nvPr/>
            </p:nvGrpSpPr>
            <p:grpSpPr>
              <a:xfrm>
                <a:off x="498240" y="4897440"/>
                <a:ext cx="486720" cy="407160"/>
                <a:chOff x="498240" y="4897440"/>
                <a:chExt cx="486720" cy="407160"/>
              </a:xfrm>
            </p:grpSpPr>
            <p:sp>
              <p:nvSpPr>
                <p:cNvPr id="2016" name=""/>
                <p:cNvSpPr/>
                <p:nvPr/>
              </p:nvSpPr>
              <p:spPr>
                <a:xfrm>
                  <a:off x="574200" y="4926240"/>
                  <a:ext cx="32976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498240" y="4897440"/>
                  <a:ext cx="31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688320" y="49672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9" name=""/>
            <p:cNvGrpSpPr/>
            <p:nvPr/>
          </p:nvGrpSpPr>
          <p:grpSpPr>
            <a:xfrm>
              <a:off x="165240" y="4898880"/>
              <a:ext cx="486720" cy="407160"/>
              <a:chOff x="165240" y="4898880"/>
              <a:chExt cx="486720" cy="407160"/>
            </a:xfrm>
          </p:grpSpPr>
          <p:sp>
            <p:nvSpPr>
              <p:cNvPr id="2020" name=""/>
              <p:cNvSpPr/>
              <p:nvPr/>
            </p:nvSpPr>
            <p:spPr>
              <a:xfrm>
                <a:off x="241200" y="492768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65240" y="489888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55320" y="4968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23" name=""/>
          <p:cNvGrpSpPr/>
          <p:nvPr/>
        </p:nvGrpSpPr>
        <p:grpSpPr>
          <a:xfrm>
            <a:off x="6051600" y="3695760"/>
            <a:ext cx="1667880" cy="1553040"/>
            <a:chOff x="6051600" y="3695760"/>
            <a:chExt cx="1667880" cy="1553040"/>
          </a:xfrm>
        </p:grpSpPr>
        <p:sp>
          <p:nvSpPr>
            <p:cNvPr id="2024" name=""/>
            <p:cNvSpPr/>
            <p:nvPr/>
          </p:nvSpPr>
          <p:spPr>
            <a:xfrm>
              <a:off x="7102080" y="369576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102080" y="4105080"/>
              <a:ext cx="599760" cy="314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119720" y="448956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7119720" y="487044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8" name=""/>
            <p:cNvGrpSpPr/>
            <p:nvPr/>
          </p:nvGrpSpPr>
          <p:grpSpPr>
            <a:xfrm>
              <a:off x="6690960" y="4076640"/>
              <a:ext cx="486720" cy="407160"/>
              <a:chOff x="6690960" y="4076640"/>
              <a:chExt cx="486720" cy="407160"/>
            </a:xfrm>
          </p:grpSpPr>
          <p:sp>
            <p:nvSpPr>
              <p:cNvPr id="2029" name=""/>
              <p:cNvSpPr/>
              <p:nvPr/>
            </p:nvSpPr>
            <p:spPr>
              <a:xfrm>
                <a:off x="6766920" y="410544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6690960" y="407664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6881040" y="4146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2" name=""/>
            <p:cNvGrpSpPr/>
            <p:nvPr/>
          </p:nvGrpSpPr>
          <p:grpSpPr>
            <a:xfrm>
              <a:off x="6711840" y="4460760"/>
              <a:ext cx="486360" cy="407160"/>
              <a:chOff x="6711840" y="4460760"/>
              <a:chExt cx="486360" cy="407160"/>
            </a:xfrm>
          </p:grpSpPr>
          <p:sp>
            <p:nvSpPr>
              <p:cNvPr id="2033" name=""/>
              <p:cNvSpPr/>
              <p:nvPr/>
            </p:nvSpPr>
            <p:spPr>
              <a:xfrm>
                <a:off x="6787800" y="4489560"/>
                <a:ext cx="32940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6711840" y="4460760"/>
                <a:ext cx="31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6901920" y="4530600"/>
                <a:ext cx="29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6" name=""/>
            <p:cNvGrpSpPr/>
            <p:nvPr/>
          </p:nvGrpSpPr>
          <p:grpSpPr>
            <a:xfrm>
              <a:off x="6384600" y="4460760"/>
              <a:ext cx="486720" cy="407160"/>
              <a:chOff x="6384600" y="4460760"/>
              <a:chExt cx="486720" cy="407160"/>
            </a:xfrm>
          </p:grpSpPr>
          <p:sp>
            <p:nvSpPr>
              <p:cNvPr id="2037" name=""/>
              <p:cNvSpPr/>
              <p:nvPr/>
            </p:nvSpPr>
            <p:spPr>
              <a:xfrm>
                <a:off x="6460560" y="448956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6384600" y="446076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6574680" y="4530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6384600" y="4840200"/>
              <a:ext cx="813240" cy="407160"/>
              <a:chOff x="6384600" y="4840200"/>
              <a:chExt cx="813240" cy="407160"/>
            </a:xfrm>
          </p:grpSpPr>
          <p:grpSp>
            <p:nvGrpSpPr>
              <p:cNvPr id="2041" name=""/>
              <p:cNvGrpSpPr/>
              <p:nvPr/>
            </p:nvGrpSpPr>
            <p:grpSpPr>
              <a:xfrm>
                <a:off x="6711480" y="4840200"/>
                <a:ext cx="486360" cy="407160"/>
                <a:chOff x="6711480" y="4840200"/>
                <a:chExt cx="486360" cy="407160"/>
              </a:xfrm>
            </p:grpSpPr>
            <p:sp>
              <p:nvSpPr>
                <p:cNvPr id="2042" name=""/>
                <p:cNvSpPr/>
                <p:nvPr/>
              </p:nvSpPr>
              <p:spPr>
                <a:xfrm>
                  <a:off x="6787440" y="4869000"/>
                  <a:ext cx="32940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6711480" y="4840200"/>
                  <a:ext cx="312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6901560" y="4910040"/>
                  <a:ext cx="296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5" name=""/>
              <p:cNvGrpSpPr/>
              <p:nvPr/>
            </p:nvGrpSpPr>
            <p:grpSpPr>
              <a:xfrm>
                <a:off x="6384600" y="4840200"/>
                <a:ext cx="486720" cy="407160"/>
                <a:chOff x="6384600" y="4840200"/>
                <a:chExt cx="486720" cy="407160"/>
              </a:xfrm>
            </p:grpSpPr>
            <p:sp>
              <p:nvSpPr>
                <p:cNvPr id="2046" name=""/>
                <p:cNvSpPr/>
                <p:nvPr/>
              </p:nvSpPr>
              <p:spPr>
                <a:xfrm>
                  <a:off x="6460560" y="4869000"/>
                  <a:ext cx="32976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6384600" y="4840200"/>
                  <a:ext cx="31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6574680" y="49100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49" name=""/>
            <p:cNvGrpSpPr/>
            <p:nvPr/>
          </p:nvGrpSpPr>
          <p:grpSpPr>
            <a:xfrm>
              <a:off x="6051600" y="4841640"/>
              <a:ext cx="486720" cy="407160"/>
              <a:chOff x="6051600" y="4841640"/>
              <a:chExt cx="486720" cy="407160"/>
            </a:xfrm>
          </p:grpSpPr>
          <p:sp>
            <p:nvSpPr>
              <p:cNvPr id="2050" name=""/>
              <p:cNvSpPr/>
              <p:nvPr/>
            </p:nvSpPr>
            <p:spPr>
              <a:xfrm>
                <a:off x="6127560" y="487044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6051600" y="484164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6241680" y="4911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53" name=""/>
          <p:cNvSpPr/>
          <p:nvPr/>
        </p:nvSpPr>
        <p:spPr>
          <a:xfrm>
            <a:off x="7755840" y="364644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7764480" y="404640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7792560" y="445608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at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7911000" y="486576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BB16-18C4-4D65-A669-2BAA9C424BB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net structure: network of network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352440" y="1428480"/>
            <a:ext cx="4362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ghly hierarchic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ational/international backbone providers (N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.g. BBN/GTE, Sprint, AT&amp;T, IBM, UU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connect (peer) with each other privately, or at public Network Access Point (NAPs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gional IS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 into NB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ocal IS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compan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 into regional IS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9" name=""/>
          <p:cNvSpPr/>
          <p:nvPr/>
        </p:nvSpPr>
        <p:spPr>
          <a:xfrm>
            <a:off x="4924440" y="4191120"/>
            <a:ext cx="384804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BP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4981680" y="2962440"/>
            <a:ext cx="3848040" cy="790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BP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1" name=""/>
          <p:cNvGrpSpPr/>
          <p:nvPr/>
        </p:nvGrpSpPr>
        <p:grpSpPr>
          <a:xfrm>
            <a:off x="4790880" y="3751200"/>
            <a:ext cx="800280" cy="459720"/>
            <a:chOff x="4790880" y="3751200"/>
            <a:chExt cx="800280" cy="459720"/>
          </a:xfrm>
        </p:grpSpPr>
        <p:sp>
          <p:nvSpPr>
            <p:cNvPr id="2062" name=""/>
            <p:cNvSpPr/>
            <p:nvPr/>
          </p:nvSpPr>
          <p:spPr>
            <a:xfrm>
              <a:off x="4790880" y="3781080"/>
              <a:ext cx="800280" cy="3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4792680" y="375120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N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4" name=""/>
          <p:cNvGrpSpPr/>
          <p:nvPr/>
        </p:nvGrpSpPr>
        <p:grpSpPr>
          <a:xfrm>
            <a:off x="8086320" y="3760920"/>
            <a:ext cx="800280" cy="459720"/>
            <a:chOff x="8086320" y="3760920"/>
            <a:chExt cx="800280" cy="459720"/>
          </a:xfrm>
        </p:grpSpPr>
        <p:sp>
          <p:nvSpPr>
            <p:cNvPr id="2065" name=""/>
            <p:cNvSpPr/>
            <p:nvPr/>
          </p:nvSpPr>
          <p:spPr>
            <a:xfrm>
              <a:off x="8086320" y="3790800"/>
              <a:ext cx="800280" cy="3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8088120" y="376092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N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7" name=""/>
          <p:cNvSpPr/>
          <p:nvPr/>
        </p:nvSpPr>
        <p:spPr>
          <a:xfrm>
            <a:off x="6753240" y="3848040"/>
            <a:ext cx="181080" cy="190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 flipV="1">
            <a:off x="5238720" y="3524400"/>
            <a:ext cx="399960" cy="257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 flipH="1" flipV="1">
            <a:off x="8210160" y="3590640"/>
            <a:ext cx="343080" cy="199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 flipH="1" flipV="1">
            <a:off x="6810120" y="3647880"/>
            <a:ext cx="2844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5229360" y="4152960"/>
            <a:ext cx="390240" cy="3333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 flipH="1">
            <a:off x="8477280" y="4181400"/>
            <a:ext cx="247680" cy="19044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6829560" y="4057560"/>
            <a:ext cx="0" cy="2667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6772320" y="2600280"/>
            <a:ext cx="1952640" cy="59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7010280" y="2952720"/>
            <a:ext cx="13356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7120080" y="271764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ional 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5086440" y="4695840"/>
            <a:ext cx="1952640" cy="590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296040" y="4724280"/>
            <a:ext cx="13320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5262480" y="48132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ional 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0" name=""/>
          <p:cNvGrpSpPr/>
          <p:nvPr/>
        </p:nvGrpSpPr>
        <p:grpSpPr>
          <a:xfrm>
            <a:off x="7419960" y="2066760"/>
            <a:ext cx="1056960" cy="695160"/>
            <a:chOff x="7419960" y="2066760"/>
            <a:chExt cx="1056960" cy="695160"/>
          </a:xfrm>
        </p:grpSpPr>
        <p:sp>
          <p:nvSpPr>
            <p:cNvPr id="2081" name=""/>
            <p:cNvSpPr/>
            <p:nvPr/>
          </p:nvSpPr>
          <p:spPr>
            <a:xfrm>
              <a:off x="7419960" y="206676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7524720" y="2098440"/>
              <a:ext cx="67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3" name=""/>
          <p:cNvGrpSpPr/>
          <p:nvPr/>
        </p:nvGrpSpPr>
        <p:grpSpPr>
          <a:xfrm>
            <a:off x="5429160" y="5133960"/>
            <a:ext cx="1056960" cy="695160"/>
            <a:chOff x="5429160" y="5133960"/>
            <a:chExt cx="1056960" cy="695160"/>
          </a:xfrm>
        </p:grpSpPr>
        <p:sp>
          <p:nvSpPr>
            <p:cNvPr id="2084" name=""/>
            <p:cNvSpPr/>
            <p:nvPr/>
          </p:nvSpPr>
          <p:spPr>
            <a:xfrm>
              <a:off x="5429160" y="513396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533920" y="5165640"/>
              <a:ext cx="67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6" name=""/>
          <p:cNvSpPr/>
          <p:nvPr/>
        </p:nvSpPr>
        <p:spPr>
          <a:xfrm>
            <a:off x="6124680" y="5181480"/>
            <a:ext cx="10476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8010360" y="2610000"/>
            <a:ext cx="105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8F90-0780-451D-8F2E-761F9112012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National Backbone Provid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89" name=""/>
          <p:cNvSpPr/>
          <p:nvPr/>
        </p:nvSpPr>
        <p:spPr>
          <a:xfrm>
            <a:off x="823680" y="1368360"/>
            <a:ext cx="48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Sprint US backbon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0" name="" descr=""/>
          <p:cNvPicPr/>
          <p:nvPr/>
        </p:nvPicPr>
        <p:blipFill>
          <a:blip r:embed="rId1"/>
          <a:stretch/>
        </p:blipFill>
        <p:spPr>
          <a:xfrm>
            <a:off x="700200" y="1878120"/>
            <a:ext cx="7775640" cy="45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3DFA-F17E-4404-B33A-29A01ABE45B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7628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 History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533520" y="1790280"/>
            <a:ext cx="3695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61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Kleinrock - queueing theory shows effectiveness of packet-switc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64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aran - packet-switching in military n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67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RPAnet conceived by Advanced Research Projects Agenc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69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irst ARPAnet node operatio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495680" y="1800360"/>
            <a:ext cx="38102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72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PAnet demonstrated public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CP (Network Control Protocol) first host-host protoco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st e-mail progr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PAnet has 15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"/>
          <p:cNvSpPr/>
          <p:nvPr/>
        </p:nvSpPr>
        <p:spPr>
          <a:xfrm>
            <a:off x="523800" y="102888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1961-1972: Early packet-switching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37F-D450-4478-BFF4-B931FC3F4B7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7628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 History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228600" y="1695600"/>
            <a:ext cx="415296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970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LOHAnet satellite network in Hawai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aloutsos is born 26 May ‘7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973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Metcalfe’s PhD thesis proposes Eth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974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erf and Kahn - architecture for interconnecting network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te70’s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roprietary architectures: DECnet, SNA, XN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te 70’s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witching fixed length packets (ATM precurso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979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RPAnet has 200 no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4495680" y="1800360"/>
            <a:ext cx="38102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erf and Kahn’s internetworking principl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nimalism, autonomy - no internal changes required to interconnect networ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st effort service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less rou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centralized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efine today’s Internet archite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8" name=""/>
          <p:cNvSpPr/>
          <p:nvPr/>
        </p:nvSpPr>
        <p:spPr>
          <a:xfrm>
            <a:off x="523800" y="1028880"/>
            <a:ext cx="7972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1972-1980: Internetworking, new and proprietary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4457880" y="1771560"/>
            <a:ext cx="3824280" cy="4391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ABF3-58F9-4211-9CC1-4ACA5E4DD75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7628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 History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533160" y="1790280"/>
            <a:ext cx="38098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83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ployment of TCP/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82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mtp e-mail protocol define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83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NS defined for name-to-IP-address transl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85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tp protocol defin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88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CP congestion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495680" y="1800360"/>
            <a:ext cx="38102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 national networks: Csnet, BITnet, NSFnet, Minit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0,000 hosts connected to confederation of net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3" name=""/>
          <p:cNvSpPr/>
          <p:nvPr/>
        </p:nvSpPr>
        <p:spPr>
          <a:xfrm>
            <a:off x="523800" y="1028880"/>
            <a:ext cx="7962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1980-1990: new protocols, a proliferation of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3CF6-85EF-4627-A61F-6158E5A14EB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7628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 History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18680" y="1790280"/>
            <a:ext cx="409572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arly 1990’s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PAnet decommission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91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SF lifts restrictions on commercial use of NSFnet (decommissioned, 1995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arly 1990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W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ypertext [Bush 1945, Nelson 1960’s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ML, http: Berners-L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994: Mosaic, later Netsca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te 1990’s: commercializ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WW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876560" y="1800360"/>
            <a:ext cx="34290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ate 1990’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. 50 million computers on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. 100 million+ us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ckbone links running at 1 G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7" name=""/>
          <p:cNvSpPr/>
          <p:nvPr/>
        </p:nvSpPr>
        <p:spPr>
          <a:xfrm>
            <a:off x="523800" y="1028880"/>
            <a:ext cx="7962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1990’s: commercialization, the 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DA30-1489-4CB7-933B-9041444C549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roduction: Summar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574560" y="1565280"/>
            <a:ext cx="4384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Covered a “ton” of material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 overvie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’s a protocol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edge, core, access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ket-switching versus circuit-switc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ance: loss, del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yering and service mode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ckbones, NAPs, IS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5114520" y="1579320"/>
            <a:ext cx="372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You now hav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ext, overview, “feel” of networ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depth, detail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la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cour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67B6-8092-4A9C-AB76-0CAE4C79DA5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ome Internet Ling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acket switched best effort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CP or Transmission Control Protoco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unication between end-poi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 or Internet Protoco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things are rou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s are similar to postal let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om, to, cont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stman handles all packets similar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ressing is hierarchic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ETF: Internet Engineering Task Force: the bo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FC: Request For Comments: (pseudo)-standa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0A9A-1B31-42D9-A5C0-191BCCF96B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at’s a protocol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44680" y="12157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definition of a behavi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re: the format of a communication exchang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quence of actions, format of information, predefined interpreta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1413000" y="3160800"/>
            <a:ext cx="1761840" cy="276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7329600" y="3306600"/>
            <a:ext cx="354960" cy="932760"/>
            <a:chOff x="7329600" y="3306600"/>
            <a:chExt cx="354960" cy="932760"/>
          </a:xfrm>
        </p:grpSpPr>
        <p:sp>
          <p:nvSpPr>
            <p:cNvPr id="320" name=""/>
            <p:cNvSpPr/>
            <p:nvPr/>
          </p:nvSpPr>
          <p:spPr>
            <a:xfrm>
              <a:off x="7329600" y="4023720"/>
              <a:ext cx="354960" cy="215640"/>
            </a:xfrm>
            <a:prstGeom prst="parallelogram">
              <a:avLst>
                <a:gd name="adj" fmla="val 6341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509240" y="3312720"/>
              <a:ext cx="16308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31400" y="35157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29600" y="3306600"/>
              <a:ext cx="354960" cy="215640"/>
            </a:xfrm>
            <a:prstGeom prst="parallelogram">
              <a:avLst>
                <a:gd name="adj" fmla="val 63412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684560" y="33217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7556400" y="40237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0200" y="3610440"/>
              <a:ext cx="14904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81440" y="3735000"/>
              <a:ext cx="11304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8" name=""/>
          <p:cNvGraphicFramePr/>
          <p:nvPr/>
        </p:nvGraphicFramePr>
        <p:xfrm>
          <a:off x="4699080" y="3021120"/>
          <a:ext cx="622080" cy="5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9080" y="3021120"/>
                    <a:ext cx="6220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865080" y="276552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3284640" y="3160800"/>
            <a:ext cx="676080" cy="6904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1863000" y="2873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1127160" y="3741480"/>
            <a:ext cx="2085840" cy="3618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853280" y="3530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89000" y="4151160"/>
            <a:ext cx="2162160" cy="4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489320" y="4083120"/>
            <a:ext cx="1069200" cy="703800"/>
            <a:chOff x="1489320" y="4083120"/>
            <a:chExt cx="1069200" cy="703800"/>
          </a:xfrm>
        </p:grpSpPr>
        <p:sp>
          <p:nvSpPr>
            <p:cNvPr id="337" name=""/>
            <p:cNvSpPr/>
            <p:nvPr/>
          </p:nvSpPr>
          <p:spPr>
            <a:xfrm>
              <a:off x="1555560" y="4151160"/>
              <a:ext cx="9334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89320" y="4083120"/>
              <a:ext cx="10692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Got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ime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 flipV="1">
            <a:off x="1251000" y="4722840"/>
            <a:ext cx="1952640" cy="333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612080" y="4749840"/>
            <a:ext cx="784080" cy="459720"/>
            <a:chOff x="1612080" y="4749840"/>
            <a:chExt cx="784080" cy="459720"/>
          </a:xfrm>
        </p:grpSpPr>
        <p:sp>
          <p:nvSpPr>
            <p:cNvPr id="341" name=""/>
            <p:cNvSpPr/>
            <p:nvPr/>
          </p:nvSpPr>
          <p:spPr>
            <a:xfrm>
              <a:off x="1679400" y="4827240"/>
              <a:ext cx="70488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612080" y="474984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: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5305320" y="3044880"/>
            <a:ext cx="202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CP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q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099040" y="5036760"/>
            <a:ext cx="2343240" cy="4287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75160" y="3370320"/>
            <a:ext cx="1762200" cy="276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051520" y="3865320"/>
            <a:ext cx="2085840" cy="3618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285880" y="3797280"/>
            <a:ext cx="2026440" cy="703800"/>
            <a:chOff x="5285880" y="3797280"/>
            <a:chExt cx="2026440" cy="703800"/>
          </a:xfrm>
        </p:grpSpPr>
        <p:sp>
          <p:nvSpPr>
            <p:cNvPr id="348" name=""/>
            <p:cNvSpPr/>
            <p:nvPr/>
          </p:nvSpPr>
          <p:spPr>
            <a:xfrm>
              <a:off x="5403960" y="3865320"/>
              <a:ext cx="143820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85880" y="3797280"/>
              <a:ext cx="2026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CP 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reply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5099040" y="4475160"/>
            <a:ext cx="2400480" cy="419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156280" y="4151160"/>
            <a:ext cx="3794040" cy="307080"/>
            <a:chOff x="5156280" y="4151160"/>
            <a:chExt cx="3794040" cy="307080"/>
          </a:xfrm>
        </p:grpSpPr>
        <p:sp>
          <p:nvSpPr>
            <p:cNvPr id="352" name=""/>
            <p:cNvSpPr/>
            <p:nvPr/>
          </p:nvSpPr>
          <p:spPr>
            <a:xfrm>
              <a:off x="5219640" y="4200480"/>
              <a:ext cx="33339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56280" y="4151160"/>
              <a:ext cx="379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Get http://gaia.cs.umass.edu/index.ht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913000" y="5045040"/>
            <a:ext cx="962640" cy="459720"/>
            <a:chOff x="5913000" y="5045040"/>
            <a:chExt cx="962640" cy="459720"/>
          </a:xfrm>
        </p:grpSpPr>
        <p:sp>
          <p:nvSpPr>
            <p:cNvPr id="355" name=""/>
            <p:cNvSpPr/>
            <p:nvPr/>
          </p:nvSpPr>
          <p:spPr>
            <a:xfrm>
              <a:off x="6032160" y="5122800"/>
              <a:ext cx="704880" cy="29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13000" y="504504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&lt;file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4213080" y="2351160"/>
            <a:ext cx="0" cy="3857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830760" y="5483160"/>
            <a:ext cx="826920" cy="459720"/>
            <a:chOff x="3830760" y="5483160"/>
            <a:chExt cx="826920" cy="459720"/>
          </a:xfrm>
        </p:grpSpPr>
        <p:sp>
          <p:nvSpPr>
            <p:cNvPr id="359" name=""/>
            <p:cNvSpPr/>
            <p:nvPr/>
          </p:nvSpPr>
          <p:spPr>
            <a:xfrm>
              <a:off x="3908160" y="5580000"/>
              <a:ext cx="64800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30760" y="5483160"/>
              <a:ext cx="82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EAB6-E3DF-4F53-94A7-E8D144B49C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aloutsos’ Golden Rules of Network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hing is absolute in networks resear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applies for the first ru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no complicated concepts, just obscure jarg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0819-489D-45EA-A3FD-3F48F506B3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entralised versus Distributed Protocol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ntralised: all information is collected in one place and then process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tributed: decisions are taken locally with partial or summary of the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8406-6BB6-461B-9E60-0E6792CC8F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he Principles of the Interne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al: Interconnect existing net technolog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PA packet radio, and ARPA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ket switching? Felxibilit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de-off: poorer non-guaranteed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esign Philosophy of The DARPA Internet Protocols”, David Clark, MI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8D01-2917-4382-B3A8-1BAA75219D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M Faloutsos</cp:lastModifiedBy>
  <dcterms:modified xsi:type="dcterms:W3CDTF">2006-04-06T03:08:19Z</dcterms:modified>
  <cp:revision>136</cp:revision>
  <dc:subject/>
  <dc:title>Part I: Introduction</dc:title>
</cp:coreProperties>
</file>