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7.jpeg" ContentType="image/jpeg"/>
  <Override PartName="/ppt/media/image12.jpeg" ContentType="image/jpeg"/>
  <Override PartName="/ppt/media/image4.pct" ContentType="image/x-pict"/>
  <Override PartName="/ppt/media/image5.pct" ContentType="image/x-pict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4B4-F672-4A7E-9182-668E998B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ere we stoppe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701-B36E-400E-A1E5-8BF9FF1B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483-E11B-4352-B44A-3C7BC0E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EB5-4ECF-4ECF-BB8D-B801211E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F6E-65C0-43D5-AAC9-C70E4C7E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CCE-3D54-4B61-A7B2-F8B0978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A27-E75F-4FAF-8EB0-E5B3F240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932-1BBC-45E2-A05A-3D009EB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A2F-A2FD-46C9-B69A-47325D7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36A-8E61-41B3-A426-153B4F2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FC0-753E-46BD-8CA6-B6EDAEC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8BF-05D1-470A-B798-420929F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CE9-E22B-46AB-A5E8-494B8057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5AC5-F84B-49A5-8AB5-2C4160BCF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image" Target="../media/image1.pct"/><Relationship Id="rId17" Type="http://schemas.openxmlformats.org/officeDocument/2006/relationships/image" Target="../media/image4.pct"/><Relationship Id="rId18" Type="http://schemas.openxmlformats.org/officeDocument/2006/relationships/image" Target="../media/image5.pct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4.pct"/><Relationship Id="rId9" Type="http://schemas.openxmlformats.org/officeDocument/2006/relationships/image" Target="../media/image5.pct"/><Relationship Id="rId10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pct"/><Relationship Id="rId10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nd Stuff:The Bas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Intern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it consist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terminology and l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amental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-using some slides from Kurose and Ross bo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701-5B76-40F6-8CDE-83C483AB0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condary Internet Princi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lt-tolerance to component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operate with different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distributed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ost effective (ie shar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easily extend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entities must be accountable (for security purpo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F82-401A-449B-B9A3-ABEEF3E1A1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rchitecture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 to millions of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structure combined with address aggreg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less routing: Routers do not keep detailed info per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-effort service: no guarant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configu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1E1-1DFA-4AB1-A97C-ACEB78B80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protocol stac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pporting network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-host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ing of datagram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, routing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neighboring 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7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E3E-19DD-47E3-95E1-55911D7EFE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les of Lay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, ftp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d-to-end iss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ick the route (delays, Q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PF, BGP, PI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iven a link transfer a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, P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, ie. Voltage mod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8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2AB-5324-454B-8913-84178C4D9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Routing Concep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= postal le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receives pa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decide which link to send i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: decide on local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keep “summary”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it the hierarchy in th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453-245D-4556-A7EE-CBBBEF046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v4 addresses have 32 bits: 4 octets of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101.5 is an IP address (32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P prefix is a group of  IP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0.0/16 is a prefix of the first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28.32.0.0 – 128.32.255.255      (2^16 address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4.0/24 is a longer prefix 2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: find the longest mat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prefix in table that matches most bits of the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5EE-1BDC-4E0B-AA0F-0E8E9F516D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 Switc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serve a slice of resour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Circuit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keep per connection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s: no per conn.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oriented (state at end points, handshake - T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less (no state at end points -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E12-85B9-4361-B05D-BDC36B28EB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packe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 to implement distribute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circui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uarantee performance (Quality of Serv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9FB-0843-4B14-890E-7F46970CB9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 more detail…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ED1-ECC3-42A7-88AC-A963B4D2F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417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421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430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440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449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454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473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476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479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483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492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513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521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8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529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531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4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545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547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553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0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561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563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569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6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577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579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2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593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595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609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611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617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4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625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627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633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0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AF9-A1ED-4853-B582-5775F4DBFC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etwork of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possible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fficial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a-domain: within an Autonomous System (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-domain: between Autonomous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: autonomously administered part of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es  are identified by their AS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25C-E6A0-4A38-A6B4-BCDD046DA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651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655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659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668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678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687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692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711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714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717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721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730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751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761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765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775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779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785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789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793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799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803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807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817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821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831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835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845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849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855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859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8E2-7510-4E07-AB67-0349619E3D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937-6CE3-4D08-AF1C-7CDCB36B2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ircuit Switching: FDMA and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96000" y="1585800"/>
            <a:ext cx="7236720" cy="2440800"/>
            <a:chOff x="396000" y="1585800"/>
            <a:chExt cx="7236720" cy="2440800"/>
          </a:xfrm>
        </p:grpSpPr>
        <p:sp>
          <p:nvSpPr>
            <p:cNvPr id="869" name=""/>
            <p:cNvSpPr/>
            <p:nvPr/>
          </p:nvSpPr>
          <p:spPr>
            <a:xfrm>
              <a:off x="39600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081440" y="2196360"/>
              <a:ext cx="6551280" cy="1830240"/>
              <a:chOff x="1081440" y="2196360"/>
              <a:chExt cx="6551280" cy="1830240"/>
            </a:xfrm>
          </p:grpSpPr>
          <p:sp>
            <p:nvSpPr>
              <p:cNvPr id="871" name="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8144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881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68480" y="5183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64240" y="60958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888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894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900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906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912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916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936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857680" y="5029200"/>
            <a:ext cx="4343400" cy="914400"/>
            <a:chOff x="2857680" y="5029200"/>
            <a:chExt cx="4343400" cy="914400"/>
          </a:xfrm>
        </p:grpSpPr>
        <p:sp>
          <p:nvSpPr>
            <p:cNvPr id="941" name=""/>
            <p:cNvSpPr/>
            <p:nvPr/>
          </p:nvSpPr>
          <p:spPr>
            <a:xfrm>
              <a:off x="2857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86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14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43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2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00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29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57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86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15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3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72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00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829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58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86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5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43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72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01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962" name="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963" name="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37552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EE2-5A06-4AA4-87BF-453E170B12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5029200" y="12492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11280" y="4648320"/>
            <a:ext cx="3682800" cy="1946160"/>
            <a:chOff x="611280" y="4648320"/>
            <a:chExt cx="3682800" cy="1946160"/>
          </a:xfrm>
        </p:grpSpPr>
        <p:sp>
          <p:nvSpPr>
            <p:cNvPr id="973" name=""/>
            <p:cNvSpPr/>
            <p:nvPr/>
          </p:nvSpPr>
          <p:spPr>
            <a:xfrm>
              <a:off x="611280" y="5050800"/>
              <a:ext cx="3682800" cy="11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36600" y="4648320"/>
              <a:ext cx="2153880" cy="194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3480" y="4849560"/>
              <a:ext cx="1389600" cy="14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5DB-F144-4DA4-80B3-6D0889C8E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 versus circuit switching: postal service versus telephone or FAX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984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989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013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4328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03288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032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037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039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3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52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058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2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0F9-49CF-4C04-BCFA-2821FD1A6B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n .000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0492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6464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077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082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9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625-E232-46E6-890F-CD4F22C5B9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see QoS, multimed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C6F-07C1-42CF-B7A4-F888A82BB1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of the Types of Communic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562716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gs are more fuzzy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631800" y="221472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610240" y="22543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17320" y="3078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121520" y="303696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rtual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211480" y="1588680"/>
            <a:ext cx="204948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41880" y="1579680"/>
            <a:ext cx="21286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934240" y="2570040"/>
            <a:ext cx="379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6711840" y="2567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1120" y="4145040"/>
            <a:ext cx="1877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UDP, end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keep- much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80760" y="3981600"/>
            <a:ext cx="13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CP, end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165560" y="3522240"/>
            <a:ext cx="84780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 flipV="1">
            <a:off x="5924520" y="3521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22840" y="2927520"/>
            <a:ext cx="132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o per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in rou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931520" y="3560760"/>
            <a:ext cx="121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er flow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outer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61960" y="2536920"/>
            <a:ext cx="51264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455840" y="254016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06960" y="2909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" y="3005280"/>
            <a:ext cx="11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1082520" y="381492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00160" y="3868200"/>
            <a:ext cx="5126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452960" y="41958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0" y="43020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139-5A11-4C16-B3E5-0827B05583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18760" y="1363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BF3-CF31-4ABA-9EBF-B126630E38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Q: How to connect end systems to edge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1131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1135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1144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1154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1167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184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1185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7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1188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1191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1200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1221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1227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1235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1245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1249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1255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1259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1263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1269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1273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6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1277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1283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1287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0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1291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1297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1301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1305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1311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1315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8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1319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1329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2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1334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1345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1352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3CE-764E-4AA3-81FB-838D6C75FC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sualizing the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DA’s phones, toa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94200" y="1079640"/>
            <a:ext cx="3687480" cy="4959000"/>
            <a:chOff x="4894200" y="1079640"/>
            <a:chExt cx="3687480" cy="4959000"/>
          </a:xfrm>
        </p:grpSpPr>
        <p:sp>
          <p:nvSpPr>
            <p:cNvPr id="55" name=""/>
            <p:cNvSpPr/>
            <p:nvPr/>
          </p:nvSpPr>
          <p:spPr>
            <a:xfrm>
              <a:off x="6772680" y="248364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94200" y="234072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62840" y="379332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010840" y="2477160"/>
              <a:ext cx="733680" cy="318960"/>
              <a:chOff x="5010840" y="2477160"/>
              <a:chExt cx="733680" cy="318960"/>
            </a:xfrm>
          </p:grpSpPr>
          <p:pic>
            <p:nvPicPr>
              <p:cNvPr id="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0840" y="247716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0" y="259524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5417640" y="2718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10840" y="3072240"/>
              <a:ext cx="733680" cy="318960"/>
              <a:chOff x="5010840" y="3072240"/>
              <a:chExt cx="733680" cy="318960"/>
            </a:xfrm>
          </p:grpSpPr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0840" y="307224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4800" y="319032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flipV="1">
                <a:off x="5417640" y="331380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387040" y="2858760"/>
              <a:ext cx="70560" cy="214200"/>
              <a:chOff x="5387040" y="2858760"/>
              <a:chExt cx="70560" cy="214200"/>
            </a:xfrm>
          </p:grpSpPr>
          <p:sp>
            <p:nvSpPr>
              <p:cNvPr id="67" name=""/>
              <p:cNvSpPr/>
              <p:nvPr/>
            </p:nvSpPr>
            <p:spPr>
              <a:xfrm>
                <a:off x="5387040" y="285876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89560" y="293580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2440" y="30128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857560" y="3361680"/>
              <a:ext cx="208800" cy="394920"/>
              <a:chOff x="5857560" y="3361680"/>
              <a:chExt cx="208800" cy="394920"/>
            </a:xfrm>
          </p:grpSpPr>
          <p:sp>
            <p:nvSpPr>
              <p:cNvPr id="71" name=""/>
              <p:cNvSpPr/>
              <p:nvPr/>
            </p:nvSpPr>
            <p:spPr>
              <a:xfrm>
                <a:off x="5857560" y="36655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63400" y="33642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58640" y="34502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57560" y="33616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66360" y="33678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991120" y="36655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75560" y="34902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88160" y="35431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094440" y="3515760"/>
              <a:ext cx="231840" cy="81000"/>
              <a:chOff x="6094440" y="3515760"/>
              <a:chExt cx="231840" cy="81000"/>
            </a:xfrm>
          </p:grpSpPr>
          <p:sp>
            <p:nvSpPr>
              <p:cNvPr id="80" name=""/>
              <p:cNvSpPr/>
              <p:nvPr/>
            </p:nvSpPr>
            <p:spPr>
              <a:xfrm rot="16200000">
                <a:off x="6089760" y="35265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200000">
                <a:off x="6172920" y="35236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6256440" y="352044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994000" y="326988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6880" y="32670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2960" y="326448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93400" y="27306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707440" y="301572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233760" y="31014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353640" y="3340440"/>
              <a:ext cx="208440" cy="394560"/>
              <a:chOff x="6353640" y="3340440"/>
              <a:chExt cx="208440" cy="394560"/>
            </a:xfrm>
          </p:grpSpPr>
          <p:sp>
            <p:nvSpPr>
              <p:cNvPr id="90" name=""/>
              <p:cNvSpPr/>
              <p:nvPr/>
            </p:nvSpPr>
            <p:spPr>
              <a:xfrm>
                <a:off x="6353640" y="36439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59120" y="33429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54720" y="34290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53640" y="33404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62080" y="33465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486840" y="36439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280" y="34689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83880" y="35218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395320" y="3958560"/>
              <a:ext cx="478800" cy="925560"/>
              <a:chOff x="5395320" y="3958560"/>
              <a:chExt cx="478800" cy="925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5320" y="39585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5801760" y="42051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5320" y="455328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flipV="1">
                <a:off x="5801760" y="48038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520600" y="4299840"/>
                <a:ext cx="70560" cy="222480"/>
                <a:chOff x="5520600" y="4299840"/>
                <a:chExt cx="70560" cy="222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520600" y="42998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23120" y="43797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26000" y="44600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5868720" y="42026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264720" y="49690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5648760" y="49568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6066360" y="50608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151320" y="50598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6228000" y="506376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17800" y="49143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93920" y="49035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895000" y="49104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874480" y="45352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6040" y="45802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272360" y="457812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7449480" y="41306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6112440" y="421092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94880" y="398664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460920" y="5407920"/>
              <a:ext cx="406080" cy="426960"/>
              <a:chOff x="6460920" y="5407920"/>
              <a:chExt cx="406080" cy="4269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0920" y="54079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0680" y="55198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238160" y="5439960"/>
              <a:ext cx="406440" cy="426960"/>
              <a:chOff x="7238160" y="5439960"/>
              <a:chExt cx="406440" cy="4269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38160" y="54399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97920" y="55519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6824160" y="5155920"/>
              <a:ext cx="378720" cy="376200"/>
              <a:chOff x="6824160" y="5155920"/>
              <a:chExt cx="378720" cy="37620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4160" y="515592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933960" y="52880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130880" y="5059800"/>
              <a:ext cx="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850880" y="4483440"/>
              <a:ext cx="208800" cy="408960"/>
              <a:chOff x="7850880" y="4483440"/>
              <a:chExt cx="208800" cy="40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7850880" y="47980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56720" y="448596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1960" y="457524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50880" y="448344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59680" y="448992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7984440" y="47980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68880" y="461664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81480" y="467136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838640" y="4927680"/>
              <a:ext cx="208440" cy="409680"/>
              <a:chOff x="7838640" y="4927680"/>
              <a:chExt cx="208440" cy="409680"/>
            </a:xfrm>
          </p:grpSpPr>
          <p:sp>
            <p:nvSpPr>
              <p:cNvPr id="142" name=""/>
              <p:cNvSpPr/>
              <p:nvPr/>
            </p:nvSpPr>
            <p:spPr>
              <a:xfrm>
                <a:off x="7838640" y="5242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44120" y="49302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39720" y="50194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38640" y="4927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47080" y="49341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1840" y="52426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56280" y="50608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68880" y="51156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7770240" y="45511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7360" y="51598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4480" y="46846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87200" y="278136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3560" y="276516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941600" y="31014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2640" y="28774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97480" y="352620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56840" y="399060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431120" y="306972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440120" y="250920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58320" y="268524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26280" y="232344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6520" y="533484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5040" y="3476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826960" y="1079640"/>
              <a:ext cx="501480" cy="232920"/>
              <a:chOff x="5826960" y="1079640"/>
              <a:chExt cx="501480" cy="23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830920" y="11836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3092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844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0920" y="11725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6960" y="10796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946480" y="1112400"/>
                <a:ext cx="246240" cy="88200"/>
                <a:chOff x="5946480" y="1112400"/>
                <a:chExt cx="246240" cy="8820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5946480" y="11124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15320" y="1200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27480" y="11145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46480" y="1111680"/>
                <a:ext cx="246240" cy="88200"/>
                <a:chOff x="5946480" y="1111680"/>
                <a:chExt cx="246240" cy="88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946480" y="119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15320" y="1111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6027480" y="1111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5837040" y="1656000"/>
              <a:ext cx="208440" cy="409680"/>
              <a:chOff x="5837040" y="1656000"/>
              <a:chExt cx="208440" cy="40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837040" y="1971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42520" y="165852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38120" y="174780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7040" y="1656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45480" y="16624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70240" y="19710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54680" y="17892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18439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16"/>
            <a:stretch/>
          </p:blipFill>
          <p:spPr>
            <a:xfrm>
              <a:off x="7091640" y="113436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7029360" y="1740240"/>
              <a:ext cx="406080" cy="426960"/>
              <a:chOff x="7029360" y="1740240"/>
              <a:chExt cx="406080" cy="42696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29360" y="174024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89120" y="185220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969160" y="2877480"/>
              <a:ext cx="501120" cy="232920"/>
              <a:chOff x="5969160" y="2877480"/>
              <a:chExt cx="501120" cy="232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973120" y="29815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312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028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73120" y="29703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69160" y="28774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6088680" y="2910240"/>
                <a:ext cx="245880" cy="88200"/>
                <a:chOff x="6088680" y="2910240"/>
                <a:chExt cx="245880" cy="8820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6088680" y="2910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57160" y="299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69680" y="2912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088680" y="2909520"/>
                <a:ext cx="245880" cy="88200"/>
                <a:chOff x="6088680" y="2909520"/>
                <a:chExt cx="245880" cy="88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088680" y="2995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57160" y="2909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6169680" y="2909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6921720" y="2649240"/>
              <a:ext cx="501480" cy="232920"/>
              <a:chOff x="6921720" y="2649240"/>
              <a:chExt cx="501480" cy="232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925680" y="27532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2568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2320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25680" y="2742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21720" y="26492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7041240" y="2682000"/>
                <a:ext cx="246240" cy="88200"/>
                <a:chOff x="7041240" y="2682000"/>
                <a:chExt cx="246240" cy="8820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7041240" y="2682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10080" y="2770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22240" y="2684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41240" y="2681280"/>
                <a:ext cx="246240" cy="88200"/>
                <a:chOff x="7041240" y="2681280"/>
                <a:chExt cx="246240" cy="88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041240" y="2767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210080" y="2681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122240" y="2681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6938640" y="3305880"/>
              <a:ext cx="501480" cy="233280"/>
              <a:chOff x="6938640" y="3305880"/>
              <a:chExt cx="501480" cy="23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2600" y="34099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260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4012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42600" y="3399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8640" y="3305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7058160" y="3338640"/>
                <a:ext cx="246240" cy="88560"/>
                <a:chOff x="7058160" y="3338640"/>
                <a:chExt cx="246240" cy="8856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7058160" y="3338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27000" y="3427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39160" y="33408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058160" y="3337560"/>
                <a:ext cx="246240" cy="88560"/>
                <a:chOff x="7058160" y="3337560"/>
                <a:chExt cx="246240" cy="88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058160" y="34243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27000" y="3337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139160" y="33375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7908120" y="2857320"/>
              <a:ext cx="501480" cy="233280"/>
              <a:chOff x="7908120" y="2857320"/>
              <a:chExt cx="501480" cy="233280"/>
            </a:xfrm>
          </p:grpSpPr>
          <p:sp>
            <p:nvSpPr>
              <p:cNvPr id="235" name=""/>
              <p:cNvSpPr/>
              <p:nvPr/>
            </p:nvSpPr>
            <p:spPr>
              <a:xfrm>
                <a:off x="7912080" y="2961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1208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0960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12080" y="2950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8120" y="2857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8027640" y="2890080"/>
                <a:ext cx="246240" cy="88560"/>
                <a:chOff x="8027640" y="2890080"/>
                <a:chExt cx="246240" cy="8856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8027640" y="2890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96480" y="297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08640" y="2892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027640" y="2889000"/>
                <a:ext cx="246240" cy="88560"/>
                <a:chOff x="8027640" y="2889000"/>
                <a:chExt cx="246240" cy="8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8027640" y="2975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196480" y="2889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08640" y="2889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7715880" y="3754440"/>
              <a:ext cx="501120" cy="233280"/>
              <a:chOff x="7715880" y="3754440"/>
              <a:chExt cx="501120" cy="233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719840" y="38584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1984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1700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19840" y="38476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15880" y="37544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835400" y="3787200"/>
                <a:ext cx="245880" cy="88560"/>
                <a:chOff x="7835400" y="3787200"/>
                <a:chExt cx="245880" cy="8856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7835400" y="3787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3880" y="3875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6400" y="37893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835400" y="3786120"/>
                <a:ext cx="245880" cy="88560"/>
                <a:chOff x="7835400" y="3786120"/>
                <a:chExt cx="245880" cy="88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35400" y="3872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3880" y="378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7916400" y="3786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381440" y="4339080"/>
              <a:ext cx="501480" cy="233280"/>
              <a:chOff x="7381440" y="4339080"/>
              <a:chExt cx="501480" cy="233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385400" y="44431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8540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8292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85400" y="44323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81440" y="43390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7500960" y="4371840"/>
                <a:ext cx="246240" cy="88560"/>
                <a:chOff x="7500960" y="4371840"/>
                <a:chExt cx="246240" cy="88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7500960" y="4371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69800" y="4460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81960" y="4374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500960" y="4370760"/>
                <a:ext cx="246240" cy="88560"/>
                <a:chOff x="7500960" y="4370760"/>
                <a:chExt cx="246240" cy="88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500960" y="4457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69800" y="4370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81960" y="43707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771600" y="4827600"/>
              <a:ext cx="501120" cy="233280"/>
              <a:chOff x="6771600" y="4827600"/>
              <a:chExt cx="501120" cy="233280"/>
            </a:xfrm>
          </p:grpSpPr>
          <p:sp>
            <p:nvSpPr>
              <p:cNvPr id="277" name=""/>
              <p:cNvSpPr/>
              <p:nvPr/>
            </p:nvSpPr>
            <p:spPr>
              <a:xfrm>
                <a:off x="6775560" y="493164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7556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7272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75560" y="49208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71600" y="482760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891120" y="4860360"/>
                <a:ext cx="245880" cy="88560"/>
                <a:chOff x="6891120" y="4860360"/>
                <a:chExt cx="245880" cy="8856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6891120" y="4860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59600" y="4948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72120" y="48625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91120" y="4859280"/>
                <a:ext cx="245880" cy="88560"/>
                <a:chOff x="6891120" y="4859280"/>
                <a:chExt cx="245880" cy="88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891120" y="494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59600" y="485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6972120" y="48592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969160" y="4451040"/>
              <a:ext cx="501120" cy="232920"/>
              <a:chOff x="5969160" y="4451040"/>
              <a:chExt cx="501120" cy="232920"/>
            </a:xfrm>
          </p:grpSpPr>
          <p:sp>
            <p:nvSpPr>
              <p:cNvPr id="291" name=""/>
              <p:cNvSpPr/>
              <p:nvPr/>
            </p:nvSpPr>
            <p:spPr>
              <a:xfrm>
                <a:off x="5973120" y="4555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312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7028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73120" y="4543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9160" y="4451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088680" y="4483800"/>
                <a:ext cx="245880" cy="88200"/>
                <a:chOff x="6088680" y="4483800"/>
                <a:chExt cx="245880" cy="8820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6088680" y="448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57160" y="4572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69680" y="4485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88680" y="4483080"/>
                <a:ext cx="245880" cy="88200"/>
                <a:chOff x="6088680" y="4483080"/>
                <a:chExt cx="245880" cy="88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088680" y="456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57160" y="4483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169680" y="4483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787720" y="1243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82200" y="137052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09120" y="175356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46880" y="194040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44C-B8F2-4E13-B184-7F3B2D677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555120" y="12160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itutions, home LANs happening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1361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3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4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1366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0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1377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1386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1397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1403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0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FB4-826C-4B98-B867-6E9A2FF0DB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ly used link layer IEEE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4990320" y="1779120"/>
            <a:ext cx="3274560" cy="3949920"/>
            <a:chOff x="4990320" y="1779120"/>
            <a:chExt cx="3274560" cy="3949920"/>
          </a:xfrm>
        </p:grpSpPr>
        <p:grpSp>
          <p:nvGrpSpPr>
            <p:cNvPr id="1415" name=""/>
            <p:cNvGrpSpPr/>
            <p:nvPr/>
          </p:nvGrpSpPr>
          <p:grpSpPr>
            <a:xfrm>
              <a:off x="5794200" y="4084560"/>
              <a:ext cx="621720" cy="793800"/>
              <a:chOff x="5794200" y="4084560"/>
              <a:chExt cx="621720" cy="793800"/>
            </a:xfrm>
          </p:grpSpPr>
          <p:pic>
            <p:nvPicPr>
              <p:cNvPr id="14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06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000" y="4292640"/>
                <a:ext cx="52992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8" name=""/>
            <p:cNvGrpSpPr/>
            <p:nvPr/>
          </p:nvGrpSpPr>
          <p:grpSpPr>
            <a:xfrm>
              <a:off x="6949800" y="3998880"/>
              <a:ext cx="621360" cy="793440"/>
              <a:chOff x="6949800" y="3998880"/>
              <a:chExt cx="621360" cy="79344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240" y="420696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029280" y="2840040"/>
              <a:ext cx="580320" cy="701280"/>
              <a:chOff x="6029280" y="2840040"/>
              <a:chExt cx="580320" cy="7012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3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"/>
              <p:cNvSpPr/>
              <p:nvPr/>
            </p:nvSpPr>
            <p:spPr>
              <a:xfrm>
                <a:off x="6198120" y="3086280"/>
                <a:ext cx="40896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6062400" y="2230200"/>
              <a:ext cx="766080" cy="432720"/>
              <a:chOff x="6062400" y="2230200"/>
              <a:chExt cx="766080" cy="432720"/>
            </a:xfrm>
          </p:grpSpPr>
          <p:sp>
            <p:nvSpPr>
              <p:cNvPr id="1425" name=""/>
              <p:cNvSpPr/>
              <p:nvPr/>
            </p:nvSpPr>
            <p:spPr>
              <a:xfrm>
                <a:off x="6068520" y="2423160"/>
                <a:ext cx="75996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2848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068520" y="2403000"/>
                <a:ext cx="75312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62400" y="2230200"/>
                <a:ext cx="75924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6245280" y="2291400"/>
                <a:ext cx="375840" cy="163440"/>
                <a:chOff x="6245280" y="2291400"/>
                <a:chExt cx="375840" cy="163440"/>
              </a:xfrm>
            </p:grpSpPr>
            <p:sp>
              <p:nvSpPr>
                <p:cNvPr id="1431" name=""/>
                <p:cNvSpPr/>
                <p:nvPr/>
              </p:nvSpPr>
              <p:spPr>
                <a:xfrm flipV="1">
                  <a:off x="6245280" y="229140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50304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368760" y="229500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6245280" y="2289960"/>
                <a:ext cx="375840" cy="163440"/>
                <a:chOff x="6245280" y="2289960"/>
                <a:chExt cx="375840" cy="1634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6245280" y="245016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50304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6368760" y="228996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7194240" y="2395440"/>
              <a:ext cx="621360" cy="793440"/>
              <a:chOff x="7194240" y="2395440"/>
              <a:chExt cx="621360" cy="793440"/>
            </a:xfrm>
          </p:grpSpPr>
          <p:pic>
            <p:nvPicPr>
              <p:cNvPr id="14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5680" y="2603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2" name=""/>
            <p:cNvGrpSpPr/>
            <p:nvPr/>
          </p:nvGrpSpPr>
          <p:grpSpPr>
            <a:xfrm>
              <a:off x="7643520" y="3457440"/>
              <a:ext cx="621360" cy="793440"/>
              <a:chOff x="7643520" y="3457440"/>
              <a:chExt cx="621360" cy="793440"/>
            </a:xfrm>
          </p:grpSpPr>
          <p:pic>
            <p:nvPicPr>
              <p:cNvPr id="14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4960" y="3665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5" name=""/>
            <p:cNvSpPr/>
            <p:nvPr/>
          </p:nvSpPr>
          <p:spPr>
            <a:xfrm>
              <a:off x="500724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97356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99032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2C4-5D1F-47E6-BBD1-645CD4AF90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ome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38120" y="1266480"/>
            <a:ext cx="7770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ical home network component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r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/firew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1452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4" name=""/>
          <p:cNvGrpSpPr/>
          <p:nvPr/>
        </p:nvGrpSpPr>
        <p:grpSpPr>
          <a:xfrm>
            <a:off x="6800760" y="4330800"/>
            <a:ext cx="622080" cy="793440"/>
            <a:chOff x="6800760" y="4330800"/>
            <a:chExt cx="622080" cy="793440"/>
          </a:xfrm>
        </p:grpSpPr>
        <p:pic>
          <p:nvPicPr>
            <p:cNvPr id="1455" name="" descr=""/>
            <p:cNvPicPr/>
            <p:nvPr/>
          </p:nvPicPr>
          <p:blipFill>
            <a:blip r:embed="rId3"/>
            <a:stretch/>
          </p:blipFill>
          <p:spPr>
            <a:xfrm>
              <a:off x="6800760" y="4330800"/>
              <a:ext cx="5792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4"/>
            <a:stretch/>
          </p:blipFill>
          <p:spPr>
            <a:xfrm>
              <a:off x="6892560" y="4538880"/>
              <a:ext cx="5302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7" name=""/>
          <p:cNvGrpSpPr/>
          <p:nvPr/>
        </p:nvGrpSpPr>
        <p:grpSpPr>
          <a:xfrm>
            <a:off x="6108840" y="3936960"/>
            <a:ext cx="539280" cy="633240"/>
            <a:chOff x="6108840" y="3936960"/>
            <a:chExt cx="539280" cy="633240"/>
          </a:xfrm>
        </p:grpSpPr>
        <p:pic>
          <p:nvPicPr>
            <p:cNvPr id="1458" name="" descr=""/>
            <p:cNvPicPr/>
            <p:nvPr/>
          </p:nvPicPr>
          <p:blipFill>
            <a:blip r:embed="rId5"/>
            <a:stretch/>
          </p:blipFill>
          <p:spPr>
            <a:xfrm>
              <a:off x="610884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"/>
            <p:cNvSpPr/>
            <p:nvPr/>
          </p:nvSpPr>
          <p:spPr>
            <a:xfrm>
              <a:off x="626544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478200" y="5133960"/>
            <a:ext cx="11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570440" y="3981600"/>
            <a:ext cx="11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629160" y="449892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ut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06128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/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1477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1483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0" name=""/>
          <p:cNvSpPr/>
          <p:nvPr/>
        </p:nvSpPr>
        <p:spPr>
          <a:xfrm>
            <a:off x="4142520" y="56325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switch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D0E-E28D-42EB-BB38-838B7CF581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rformance Issu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F85-61BD-4857-A341-5A248864FE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experien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end-to-end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s of delay at each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05040" y="1324080"/>
            <a:ext cx="38098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al process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bit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output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waiting at output link for transmiss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s on congestion level of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1500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1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1506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3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7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36520" y="43844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958760" y="39654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084400" y="549900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880" y="5756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2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1543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1544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250-F3BF-4E09-AC85-41F92DB559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send bits into link = L/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476600" y="1362240"/>
            <a:ext cx="4152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agat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length of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propagation speed in medium (~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/se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delay = d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637560" y="4432320"/>
            <a:ext cx="6006240" cy="2176200"/>
            <a:chOff x="637560" y="4432320"/>
            <a:chExt cx="6006240" cy="2176200"/>
          </a:xfrm>
        </p:grpSpPr>
        <p:pic>
          <p:nvPicPr>
            <p:cNvPr id="1555" name="" descr=""/>
            <p:cNvPicPr/>
            <p:nvPr/>
          </p:nvPicPr>
          <p:blipFill>
            <a:blip r:embed="rId1"/>
            <a:stretch/>
          </p:blipFill>
          <p:spPr>
            <a:xfrm>
              <a:off x="1289160" y="562284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>
              <a:off x="2330640" y="538164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330640" y="531324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340360" y="508464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2686320" y="5114880"/>
              <a:ext cx="497160" cy="118800"/>
              <a:chOff x="2686320" y="5114880"/>
              <a:chExt cx="497160" cy="118800"/>
            </a:xfrm>
          </p:grpSpPr>
          <p:grpSp>
            <p:nvGrpSpPr>
              <p:cNvPr id="1560" name=""/>
              <p:cNvGrpSpPr/>
              <p:nvPr/>
            </p:nvGrpSpPr>
            <p:grpSpPr>
              <a:xfrm>
                <a:off x="2686320" y="5116320"/>
                <a:ext cx="497160" cy="117360"/>
                <a:chOff x="2686320" y="5116320"/>
                <a:chExt cx="497160" cy="117360"/>
              </a:xfrm>
            </p:grpSpPr>
            <p:sp>
              <p:nvSpPr>
                <p:cNvPr id="1561" name=""/>
                <p:cNvSpPr/>
                <p:nvPr/>
              </p:nvSpPr>
              <p:spPr>
                <a:xfrm flipV="1">
                  <a:off x="2686320" y="511632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027240" y="52336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849760" y="511848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2686320" y="5114880"/>
                <a:ext cx="497160" cy="117360"/>
                <a:chOff x="2686320" y="5114880"/>
                <a:chExt cx="497160" cy="1173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2686320" y="52300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027240" y="5114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2849760" y="51152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8" name=""/>
            <p:cNvSpPr/>
            <p:nvPr/>
          </p:nvSpPr>
          <p:spPr>
            <a:xfrm>
              <a:off x="5426280" y="540072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436000" y="538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436000" y="534204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45360" y="511344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2" name="" descr=""/>
            <p:cNvPicPr/>
            <p:nvPr/>
          </p:nvPicPr>
          <p:blipFill>
            <a:blip r:embed="rId2"/>
            <a:stretch/>
          </p:blipFill>
          <p:spPr>
            <a:xfrm>
              <a:off x="974880" y="461340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>
              <a:off x="1600560" y="50198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905120" y="600516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524400" y="543888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105280" y="501012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115000" y="544356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43840" y="523872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91040" y="5310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53040" y="531036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38760" y="521028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14800" y="531504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981440" y="5591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15320" y="50389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560" y="46371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97840" y="56563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81560" y="5248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27160" y="48513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624120" y="50389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949400" y="44323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047400" y="470484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075040" y="596592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357280" y="60102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167280" y="577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521520" y="622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3329280" y="577224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5772600" y="5172120"/>
              <a:ext cx="497160" cy="118800"/>
              <a:chOff x="5772600" y="5172120"/>
              <a:chExt cx="497160" cy="118800"/>
            </a:xfrm>
          </p:grpSpPr>
          <p:grpSp>
            <p:nvGrpSpPr>
              <p:cNvPr id="1598" name=""/>
              <p:cNvGrpSpPr/>
              <p:nvPr/>
            </p:nvGrpSpPr>
            <p:grpSpPr>
              <a:xfrm>
                <a:off x="5772600" y="5173560"/>
                <a:ext cx="497160" cy="117360"/>
                <a:chOff x="5772600" y="5173560"/>
                <a:chExt cx="497160" cy="117360"/>
              </a:xfrm>
            </p:grpSpPr>
            <p:sp>
              <p:nvSpPr>
                <p:cNvPr id="1599" name=""/>
                <p:cNvSpPr/>
                <p:nvPr/>
              </p:nvSpPr>
              <p:spPr>
                <a:xfrm flipV="1">
                  <a:off x="5772600" y="51735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113520" y="52909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936040" y="51757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5772600" y="5172120"/>
                <a:ext cx="497160" cy="117360"/>
                <a:chOff x="5772600" y="5172120"/>
                <a:chExt cx="497160" cy="1173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5772600" y="52873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6113520" y="5172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V="1">
                  <a:off x="5936040" y="51724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6" name=""/>
          <p:cNvSpPr/>
          <p:nvPr/>
        </p:nvSpPr>
        <p:spPr>
          <a:xfrm>
            <a:off x="4476600" y="3790800"/>
            <a:ext cx="3800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nd R a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quantit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476600" y="3800520"/>
            <a:ext cx="3676680" cy="876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834-DCDC-4972-9236-B04166C48D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3981600" y="1290600"/>
            <a:ext cx="5162400" cy="3170160"/>
          </a:xfrm>
          <a:prstGeom prst="rect">
            <a:avLst/>
          </a:prstGeom>
          <a:ln w="0">
            <a:noFill/>
          </a:ln>
        </p:spPr>
      </p:pic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Queueing dela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71320" y="1638360"/>
            <a:ext cx="38098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average packet arrival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714240" y="3552840"/>
            <a:ext cx="381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ffic intensity = La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71680" y="4448160"/>
            <a:ext cx="6972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~ 0: average queueing dela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-&gt; 1: delays becom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&gt; 1: more “work” arriving than can be serviced, average delay infin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9EA-AE27-454E-96B9-31CB242E76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5" name="" descr=""/>
          <p:cNvPicPr/>
          <p:nvPr/>
        </p:nvPicPr>
        <p:blipFill>
          <a:blip r:embed="rId1"/>
          <a:stretch/>
        </p:blipFill>
        <p:spPr>
          <a:xfrm>
            <a:off x="277920" y="19270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97200" y="146952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619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1620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1626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3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1634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1640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1644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7" name=""/>
          <p:cNvSpPr/>
          <p:nvPr/>
        </p:nvSpPr>
        <p:spPr>
          <a:xfrm>
            <a:off x="4791240" y="5351400"/>
            <a:ext cx="371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694400" y="2370240"/>
            <a:ext cx="396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message into smaller chunks: “packe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-and-forward: switch waits until chunk has completely arrived, then forwards/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: what if message was sent as singl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20760" y="2584440"/>
            <a:ext cx="4968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F77-355E-454E-9064-18FBC49EB0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mall versus large pack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Packet 2 M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packets: 2Mb/5000 = 400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ssion delay: 400bits/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ssion delay over one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: 1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: 5000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go over 3 lin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5004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3 x 5000 = 15000 sec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the difference: parallelism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3D7-95B3-488D-A33C-A923157568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layering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46120" y="1346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ling with complex syst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ization eases maintenance, updating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of implementation of layer’s service transparent to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hange in gate procedure doesn’t affect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olating “functions” and interactions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eren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ing considered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D99-09F0-434A-8B7D-40E8DACCDE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l” Internet Applia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54440" y="1501920"/>
            <a:ext cx="3000600" cy="352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66760" y="1368360"/>
            <a:ext cx="1895400" cy="1560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81960" y="277488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ictur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iva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97160" y="5048280"/>
            <a:ext cx="38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enabled toaster+weather forec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ancing-man.com/robin/toas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F69-5EFA-4AE7-ACAD-4DC4B67D89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log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3362400" y="1952640"/>
            <a:ext cx="2332440" cy="891360"/>
            <a:chOff x="3362400" y="1952640"/>
            <a:chExt cx="2332440" cy="891360"/>
          </a:xfrm>
        </p:grpSpPr>
        <p:pic>
          <p:nvPicPr>
            <p:cNvPr id="1657" name="" descr=""/>
            <p:cNvPicPr/>
            <p:nvPr/>
          </p:nvPicPr>
          <p:blipFill>
            <a:blip r:embed="rId1"/>
            <a:stretch/>
          </p:blipFill>
          <p:spPr>
            <a:xfrm>
              <a:off x="3362400" y="1952640"/>
              <a:ext cx="13237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2"/>
            <a:stretch/>
          </p:blipFill>
          <p:spPr>
            <a:xfrm>
              <a:off x="4805640" y="2282760"/>
              <a:ext cx="889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flipV="1">
              <a:off x="4655160" y="262872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3362400" y="3619440"/>
            <a:ext cx="2332440" cy="893160"/>
            <a:chOff x="3362400" y="3619440"/>
            <a:chExt cx="2332440" cy="893160"/>
          </a:xfrm>
        </p:grpSpPr>
        <p:pic>
          <p:nvPicPr>
            <p:cNvPr id="1661" name="" descr=""/>
            <p:cNvPicPr/>
            <p:nvPr/>
          </p:nvPicPr>
          <p:blipFill>
            <a:blip r:embed="rId3"/>
            <a:stretch/>
          </p:blipFill>
          <p:spPr>
            <a:xfrm>
              <a:off x="3362400" y="3619440"/>
              <a:ext cx="1323720" cy="8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4"/>
            <a:stretch/>
          </p:blipFill>
          <p:spPr>
            <a:xfrm>
              <a:off x="4805640" y="3950280"/>
              <a:ext cx="889200" cy="51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 flipV="1">
              <a:off x="4655160" y="429696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1665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1669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1678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1688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1697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2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1703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1707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0" name=""/>
          <p:cNvGrpSpPr/>
          <p:nvPr/>
        </p:nvGrpSpPr>
        <p:grpSpPr>
          <a:xfrm>
            <a:off x="3327480" y="1373040"/>
            <a:ext cx="5488920" cy="4439160"/>
            <a:chOff x="3327480" y="1373040"/>
            <a:chExt cx="5488920" cy="4439160"/>
          </a:xfrm>
        </p:grpSpPr>
        <p:grpSp>
          <p:nvGrpSpPr>
            <p:cNvPr id="1711" name=""/>
            <p:cNvGrpSpPr/>
            <p:nvPr/>
          </p:nvGrpSpPr>
          <p:grpSpPr>
            <a:xfrm>
              <a:off x="3404520" y="1373040"/>
              <a:ext cx="1314720" cy="1479240"/>
              <a:chOff x="3404520" y="1373040"/>
              <a:chExt cx="1314720" cy="1479240"/>
            </a:xfrm>
          </p:grpSpPr>
          <p:sp>
            <p:nvSpPr>
              <p:cNvPr id="1712" name=""/>
              <p:cNvSpPr/>
              <p:nvPr/>
            </p:nvSpPr>
            <p:spPr>
              <a:xfrm>
                <a:off x="3461040" y="13730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413880" y="14342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422160" y="14529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3409200" y="17496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3428280" y="2032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3428280" y="22863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3404520" y="2565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3327480" y="3081960"/>
              <a:ext cx="1314720" cy="1479600"/>
              <a:chOff x="3327480" y="3081960"/>
              <a:chExt cx="1314720" cy="1479600"/>
            </a:xfrm>
          </p:grpSpPr>
          <p:sp>
            <p:nvSpPr>
              <p:cNvPr id="1720" name=""/>
              <p:cNvSpPr/>
              <p:nvPr/>
            </p:nvSpPr>
            <p:spPr>
              <a:xfrm>
                <a:off x="3384000" y="308196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336840" y="314316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343680" y="31838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3332160" y="3458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3351240" y="3741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3351240" y="399564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3327480" y="42742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5729760" y="4332240"/>
              <a:ext cx="1314720" cy="1479960"/>
              <a:chOff x="5729760" y="4332240"/>
              <a:chExt cx="1314720" cy="1479960"/>
            </a:xfrm>
          </p:grpSpPr>
          <p:sp>
            <p:nvSpPr>
              <p:cNvPr id="1728" name=""/>
              <p:cNvSpPr/>
              <p:nvPr/>
            </p:nvSpPr>
            <p:spPr>
              <a:xfrm>
                <a:off x="5786280" y="433224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739120" y="439344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745960" y="440748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5734440" y="47091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5753520" y="4992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753520" y="52459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5729760" y="55249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7501680" y="4326480"/>
              <a:ext cx="1314720" cy="1479240"/>
              <a:chOff x="7501680" y="4326480"/>
              <a:chExt cx="1314720" cy="1479240"/>
            </a:xfrm>
          </p:grpSpPr>
          <p:sp>
            <p:nvSpPr>
              <p:cNvPr id="1736" name=""/>
              <p:cNvSpPr/>
              <p:nvPr/>
            </p:nvSpPr>
            <p:spPr>
              <a:xfrm>
                <a:off x="7558200" y="432648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511040" y="438768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17880" y="44046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7506360" y="47030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7525440" y="4986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7525440" y="52398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7501680" y="55184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535800" y="2815200"/>
              <a:ext cx="1312200" cy="945360"/>
              <a:chOff x="6535800" y="2815200"/>
              <a:chExt cx="1312200" cy="945360"/>
            </a:xfrm>
          </p:grpSpPr>
          <p:sp>
            <p:nvSpPr>
              <p:cNvPr id="1744" name=""/>
              <p:cNvSpPr/>
              <p:nvPr/>
            </p:nvSpPr>
            <p:spPr>
              <a:xfrm>
                <a:off x="6589440" y="281520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535800" y="287640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658560" y="289368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536880" y="319140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6555960" y="34743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” implement layer functions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 perform actions, exchange messages with pe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BB1-3B5E-4433-BE52-DA7ECA5CF8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ogical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1755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1757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1761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1770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1780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1789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1795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1799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2" name=""/>
          <p:cNvGrpSpPr/>
          <p:nvPr/>
        </p:nvGrpSpPr>
        <p:grpSpPr>
          <a:xfrm>
            <a:off x="3327480" y="1305000"/>
            <a:ext cx="5488920" cy="4439160"/>
            <a:chOff x="3327480" y="1305000"/>
            <a:chExt cx="5488920" cy="4439160"/>
          </a:xfrm>
        </p:grpSpPr>
        <p:grpSp>
          <p:nvGrpSpPr>
            <p:cNvPr id="1803" name=""/>
            <p:cNvGrpSpPr/>
            <p:nvPr/>
          </p:nvGrpSpPr>
          <p:grpSpPr>
            <a:xfrm>
              <a:off x="3404520" y="1305000"/>
              <a:ext cx="1314720" cy="1479240"/>
              <a:chOff x="3404520" y="1305000"/>
              <a:chExt cx="1314720" cy="1479240"/>
            </a:xfrm>
          </p:grpSpPr>
          <p:sp>
            <p:nvSpPr>
              <p:cNvPr id="1804" name=""/>
              <p:cNvSpPr/>
              <p:nvPr/>
            </p:nvSpPr>
            <p:spPr>
              <a:xfrm>
                <a:off x="3461040" y="130500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13880" y="136620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422160" y="138492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3409200" y="1681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3428280" y="1964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3428280" y="22183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3404520" y="24969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3327480" y="3013920"/>
              <a:ext cx="1314720" cy="1479600"/>
              <a:chOff x="3327480" y="3013920"/>
              <a:chExt cx="1314720" cy="1479600"/>
            </a:xfrm>
          </p:grpSpPr>
          <p:sp>
            <p:nvSpPr>
              <p:cNvPr id="1812" name=""/>
              <p:cNvSpPr/>
              <p:nvPr/>
            </p:nvSpPr>
            <p:spPr>
              <a:xfrm>
                <a:off x="3384000" y="301392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336840" y="307512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343680" y="31158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332160" y="3390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3351240" y="36734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3351240" y="39276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3327480" y="42062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5729760" y="4264200"/>
              <a:ext cx="1314720" cy="1479960"/>
              <a:chOff x="5729760" y="4264200"/>
              <a:chExt cx="1314720" cy="1479960"/>
            </a:xfrm>
          </p:grpSpPr>
          <p:sp>
            <p:nvSpPr>
              <p:cNvPr id="1820" name=""/>
              <p:cNvSpPr/>
              <p:nvPr/>
            </p:nvSpPr>
            <p:spPr>
              <a:xfrm>
                <a:off x="5786280" y="426420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739120" y="432540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745960" y="43394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5734440" y="4641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5753520" y="49240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753520" y="517788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5729760" y="54568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7501680" y="4258440"/>
              <a:ext cx="1314720" cy="1479240"/>
              <a:chOff x="7501680" y="4258440"/>
              <a:chExt cx="1314720" cy="1479240"/>
            </a:xfrm>
          </p:grpSpPr>
          <p:sp>
            <p:nvSpPr>
              <p:cNvPr id="1828" name=""/>
              <p:cNvSpPr/>
              <p:nvPr/>
            </p:nvSpPr>
            <p:spPr>
              <a:xfrm>
                <a:off x="7558200" y="42584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511040" y="43196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517880" y="43365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7506360" y="4635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7525440" y="49179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7525440" y="51717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7501680" y="54504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535800" y="2747160"/>
              <a:ext cx="1312200" cy="945360"/>
              <a:chOff x="6535800" y="2747160"/>
              <a:chExt cx="1312200" cy="945360"/>
            </a:xfrm>
          </p:grpSpPr>
          <p:sp>
            <p:nvSpPr>
              <p:cNvPr id="1836" name=""/>
              <p:cNvSpPr/>
              <p:nvPr/>
            </p:nvSpPr>
            <p:spPr>
              <a:xfrm>
                <a:off x="6589440" y="274716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535800" y="280836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658560" y="282564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36880" y="312336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6555960" y="340632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1" name=""/>
          <p:cNvSpPr/>
          <p:nvPr/>
        </p:nvSpPr>
        <p:spPr>
          <a:xfrm>
            <a:off x="3828960" y="1514520"/>
            <a:ext cx="37242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7966080" y="4046400"/>
            <a:ext cx="700200" cy="383760"/>
            <a:chOff x="7966080" y="4046400"/>
            <a:chExt cx="700200" cy="383760"/>
          </a:xfrm>
        </p:grpSpPr>
        <p:sp>
          <p:nvSpPr>
            <p:cNvPr id="1843" name=""/>
            <p:cNvSpPr/>
            <p:nvPr/>
          </p:nvSpPr>
          <p:spPr>
            <a:xfrm>
              <a:off x="7966080" y="4046400"/>
              <a:ext cx="700200" cy="3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88400" y="4061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5" name=""/>
          <p:cNvGrpSpPr/>
          <p:nvPr/>
        </p:nvGrpSpPr>
        <p:grpSpPr>
          <a:xfrm>
            <a:off x="3451320" y="1114560"/>
            <a:ext cx="701640" cy="383760"/>
            <a:chOff x="3451320" y="1114560"/>
            <a:chExt cx="701640" cy="383760"/>
          </a:xfrm>
        </p:grpSpPr>
        <p:sp>
          <p:nvSpPr>
            <p:cNvPr id="1846" name=""/>
            <p:cNvSpPr/>
            <p:nvPr/>
          </p:nvSpPr>
          <p:spPr>
            <a:xfrm>
              <a:off x="3451320" y="1114560"/>
              <a:ext cx="7016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473640" y="11300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3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.g.: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data from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addressing, reliability check info to form “datagra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datagram to 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for peer to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5308560" y="3408480"/>
            <a:ext cx="700200" cy="383760"/>
            <a:chOff x="5308560" y="3408480"/>
            <a:chExt cx="700200" cy="383760"/>
          </a:xfrm>
        </p:grpSpPr>
        <p:sp>
          <p:nvSpPr>
            <p:cNvPr id="1850" name=""/>
            <p:cNvSpPr/>
            <p:nvPr/>
          </p:nvSpPr>
          <p:spPr>
            <a:xfrm>
              <a:off x="5308560" y="340848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30880" y="342396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6019920" y="3753000"/>
            <a:ext cx="2854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 flipV="1">
            <a:off x="5448240" y="2790720"/>
            <a:ext cx="2001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52472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439120" y="4419720"/>
            <a:ext cx="972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495680" y="2048040"/>
            <a:ext cx="382284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1860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9232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793-305F-4182-9B8E-8990D158CE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phys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1865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18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9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18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3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1875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1879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1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1898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1907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2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1913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0" name=""/>
          <p:cNvGrpSpPr/>
          <p:nvPr/>
        </p:nvGrpSpPr>
        <p:grpSpPr>
          <a:xfrm>
            <a:off x="2136600" y="1427040"/>
            <a:ext cx="1324080" cy="1495440"/>
            <a:chOff x="2136600" y="1427040"/>
            <a:chExt cx="1324080" cy="1495440"/>
          </a:xfrm>
        </p:grpSpPr>
        <p:sp>
          <p:nvSpPr>
            <p:cNvPr id="1921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58200" y="150336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058840" y="3154320"/>
            <a:ext cx="1324080" cy="1495440"/>
            <a:chOff x="2058840" y="3154320"/>
            <a:chExt cx="1324080" cy="1495440"/>
          </a:xfrm>
        </p:grpSpPr>
        <p:sp>
          <p:nvSpPr>
            <p:cNvPr id="1929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080440" y="32306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4476600" y="4417920"/>
            <a:ext cx="1324080" cy="1495440"/>
            <a:chOff x="4476600" y="4417920"/>
            <a:chExt cx="1324080" cy="1495440"/>
          </a:xfrm>
        </p:grpSpPr>
        <p:sp>
          <p:nvSpPr>
            <p:cNvPr id="1937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498200" y="44942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4" name=""/>
          <p:cNvGrpSpPr/>
          <p:nvPr/>
        </p:nvGrpSpPr>
        <p:grpSpPr>
          <a:xfrm>
            <a:off x="6259680" y="4411800"/>
            <a:ext cx="1323360" cy="1495440"/>
            <a:chOff x="6259680" y="4411800"/>
            <a:chExt cx="1323360" cy="1495440"/>
          </a:xfrm>
        </p:grpSpPr>
        <p:sp>
          <p:nvSpPr>
            <p:cNvPr id="1945" name=""/>
            <p:cNvSpPr/>
            <p:nvPr/>
          </p:nvSpPr>
          <p:spPr>
            <a:xfrm>
              <a:off x="6316560" y="4411800"/>
              <a:ext cx="126648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69040" y="4473720"/>
              <a:ext cx="126648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280560" y="448812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6264360" y="479232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83440" y="507816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283440" y="5335560"/>
              <a:ext cx="12520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259680" y="56163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5288040" y="2884320"/>
            <a:ext cx="1320840" cy="955800"/>
            <a:chOff x="5288040" y="2884320"/>
            <a:chExt cx="1320840" cy="955800"/>
          </a:xfrm>
        </p:grpSpPr>
        <p:sp>
          <p:nvSpPr>
            <p:cNvPr id="1953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38880" y="2960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55497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543640" y="3035160"/>
            <a:ext cx="6253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165720" y="5765760"/>
            <a:ext cx="78768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6953400" y="4606920"/>
            <a:ext cx="1260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6661080" y="4178160"/>
            <a:ext cx="704880" cy="384120"/>
            <a:chOff x="6661080" y="4178160"/>
            <a:chExt cx="704880" cy="384120"/>
          </a:xfrm>
        </p:grpSpPr>
        <p:sp>
          <p:nvSpPr>
            <p:cNvPr id="1967" name=""/>
            <p:cNvSpPr/>
            <p:nvPr/>
          </p:nvSpPr>
          <p:spPr>
            <a:xfrm>
              <a:off x="6661080" y="417816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83760" y="41940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2610000" y="1257480"/>
            <a:ext cx="704880" cy="384120"/>
            <a:chOff x="2610000" y="1257480"/>
            <a:chExt cx="704880" cy="384120"/>
          </a:xfrm>
        </p:grpSpPr>
        <p:sp>
          <p:nvSpPr>
            <p:cNvPr id="1970" name=""/>
            <p:cNvSpPr/>
            <p:nvPr/>
          </p:nvSpPr>
          <p:spPr>
            <a:xfrm>
              <a:off x="2610000" y="125748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632680" y="127332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730-EA74-4FDC-9BAD-43334351D6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 layering and da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95160" y="1530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 takes data from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892160" y="3618000"/>
            <a:ext cx="1732680" cy="2009160"/>
            <a:chOff x="1892160" y="3618000"/>
            <a:chExt cx="1732680" cy="2009160"/>
          </a:xfrm>
        </p:grpSpPr>
        <p:grpSp>
          <p:nvGrpSpPr>
            <p:cNvPr id="1975" name=""/>
            <p:cNvGrpSpPr/>
            <p:nvPr/>
          </p:nvGrpSpPr>
          <p:grpSpPr>
            <a:xfrm>
              <a:off x="1892160" y="3618000"/>
              <a:ext cx="1732680" cy="2009160"/>
              <a:chOff x="1892160" y="3618000"/>
              <a:chExt cx="1732680" cy="2009160"/>
            </a:xfrm>
          </p:grpSpPr>
          <p:sp>
            <p:nvSpPr>
              <p:cNvPr id="1976" name=""/>
              <p:cNvSpPr/>
              <p:nvPr/>
            </p:nvSpPr>
            <p:spPr>
              <a:xfrm>
                <a:off x="1966320" y="361800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904400" y="370116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1898280" y="4129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192312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192312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1892160" y="523692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2" name=""/>
            <p:cNvSpPr/>
            <p:nvPr/>
          </p:nvSpPr>
          <p:spPr>
            <a:xfrm>
              <a:off x="1977840" y="377496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4267080" y="3598920"/>
            <a:ext cx="1732680" cy="2009160"/>
            <a:chOff x="4267080" y="3598920"/>
            <a:chExt cx="1732680" cy="2009160"/>
          </a:xfrm>
        </p:grpSpPr>
        <p:grpSp>
          <p:nvGrpSpPr>
            <p:cNvPr id="1984" name=""/>
            <p:cNvGrpSpPr/>
            <p:nvPr/>
          </p:nvGrpSpPr>
          <p:grpSpPr>
            <a:xfrm>
              <a:off x="4267080" y="3598920"/>
              <a:ext cx="1732680" cy="2009160"/>
              <a:chOff x="4267080" y="3598920"/>
              <a:chExt cx="1732680" cy="2009160"/>
            </a:xfrm>
          </p:grpSpPr>
          <p:sp>
            <p:nvSpPr>
              <p:cNvPr id="1985" name=""/>
              <p:cNvSpPr/>
              <p:nvPr/>
            </p:nvSpPr>
            <p:spPr>
              <a:xfrm>
                <a:off x="4341240" y="359892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279320" y="368208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4273200" y="41104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2980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2980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4267080" y="52178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1" name=""/>
            <p:cNvSpPr/>
            <p:nvPr/>
          </p:nvSpPr>
          <p:spPr>
            <a:xfrm>
              <a:off x="4352760" y="375588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220068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5736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165240" y="3753000"/>
            <a:ext cx="1667880" cy="1553040"/>
            <a:chOff x="165240" y="3753000"/>
            <a:chExt cx="1667880" cy="1553040"/>
          </a:xfrm>
        </p:grpSpPr>
        <p:sp>
          <p:nvSpPr>
            <p:cNvPr id="1996" name=""/>
            <p:cNvSpPr/>
            <p:nvPr/>
          </p:nvSpPr>
          <p:spPr>
            <a:xfrm>
              <a:off x="1215720" y="37530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15720" y="416232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33360" y="4546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33360" y="49276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804600" y="4133880"/>
              <a:ext cx="486720" cy="407160"/>
              <a:chOff x="804600" y="4133880"/>
              <a:chExt cx="486720" cy="407160"/>
            </a:xfrm>
          </p:grpSpPr>
          <p:sp>
            <p:nvSpPr>
              <p:cNvPr id="2001" name=""/>
              <p:cNvSpPr/>
              <p:nvPr/>
            </p:nvSpPr>
            <p:spPr>
              <a:xfrm>
                <a:off x="880560" y="4162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04600" y="4133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994680" y="4203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825480" y="4518000"/>
              <a:ext cx="486360" cy="407160"/>
              <a:chOff x="825480" y="4518000"/>
              <a:chExt cx="486360" cy="407160"/>
            </a:xfrm>
          </p:grpSpPr>
          <p:sp>
            <p:nvSpPr>
              <p:cNvPr id="2005" name=""/>
              <p:cNvSpPr/>
              <p:nvPr/>
            </p:nvSpPr>
            <p:spPr>
              <a:xfrm>
                <a:off x="9014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254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155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498240" y="4518000"/>
              <a:ext cx="486720" cy="407160"/>
              <a:chOff x="498240" y="4518000"/>
              <a:chExt cx="486720" cy="407160"/>
            </a:xfrm>
          </p:grpSpPr>
          <p:sp>
            <p:nvSpPr>
              <p:cNvPr id="2009" name=""/>
              <p:cNvSpPr/>
              <p:nvPr/>
            </p:nvSpPr>
            <p:spPr>
              <a:xfrm>
                <a:off x="574200" y="454680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98240" y="451800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88320" y="4587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498240" y="4897440"/>
              <a:ext cx="813240" cy="407160"/>
              <a:chOff x="498240" y="4897440"/>
              <a:chExt cx="813240" cy="407160"/>
            </a:xfrm>
          </p:grpSpPr>
          <p:grpSp>
            <p:nvGrpSpPr>
              <p:cNvPr id="2013" name=""/>
              <p:cNvGrpSpPr/>
              <p:nvPr/>
            </p:nvGrpSpPr>
            <p:grpSpPr>
              <a:xfrm>
                <a:off x="825120" y="4897440"/>
                <a:ext cx="486360" cy="407160"/>
                <a:chOff x="825120" y="4897440"/>
                <a:chExt cx="486360" cy="40716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90108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82512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01520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498240" y="4897440"/>
                <a:ext cx="486720" cy="407160"/>
                <a:chOff x="498240" y="4897440"/>
                <a:chExt cx="486720" cy="40716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574200" y="49262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98240" y="48974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88320" y="49672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1" name=""/>
            <p:cNvGrpSpPr/>
            <p:nvPr/>
          </p:nvGrpSpPr>
          <p:grpSpPr>
            <a:xfrm>
              <a:off x="165240" y="4898880"/>
              <a:ext cx="486720" cy="407160"/>
              <a:chOff x="165240" y="4898880"/>
              <a:chExt cx="486720" cy="407160"/>
            </a:xfrm>
          </p:grpSpPr>
          <p:sp>
            <p:nvSpPr>
              <p:cNvPr id="2022" name=""/>
              <p:cNvSpPr/>
              <p:nvPr/>
            </p:nvSpPr>
            <p:spPr>
              <a:xfrm>
                <a:off x="241200" y="4927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65240" y="4898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55320" y="4968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5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2026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0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2031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2035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2039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2043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2048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1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2052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5" name=""/>
          <p:cNvSpPr/>
          <p:nvPr/>
        </p:nvSpPr>
        <p:spPr>
          <a:xfrm>
            <a:off x="775584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76448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79256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911000" y="4865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910-C34B-461D-9015-B5A29ABF70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structure: network of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h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tional/international backbone providers (N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BBN/GTE, Sprint, AT&amp;T, IBM, UU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connect (peer) with each other privately, or at public Network Access Point (NAP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mp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regional IS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064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792680" y="3751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067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088120" y="3760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5238720" y="3524400"/>
            <a:ext cx="39996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 flipV="1">
            <a:off x="821016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 flipV="1">
            <a:off x="6810120" y="3647880"/>
            <a:ext cx="284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229360" y="4152960"/>
            <a:ext cx="3902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847728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772320" y="2600280"/>
            <a:ext cx="195264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10280" y="295272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120080" y="2717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086440" y="4695840"/>
            <a:ext cx="195264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262480" y="481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7419960" y="2066760"/>
            <a:ext cx="1056960" cy="695160"/>
            <a:chOff x="7419960" y="2066760"/>
            <a:chExt cx="1056960" cy="695160"/>
          </a:xfrm>
        </p:grpSpPr>
        <p:sp>
          <p:nvSpPr>
            <p:cNvPr id="2083" name=""/>
            <p:cNvSpPr/>
            <p:nvPr/>
          </p:nvSpPr>
          <p:spPr>
            <a:xfrm>
              <a:off x="7419960" y="2066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52472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5429160" y="5133960"/>
            <a:ext cx="1056960" cy="695160"/>
            <a:chOff x="5429160" y="5133960"/>
            <a:chExt cx="1056960" cy="695160"/>
          </a:xfrm>
        </p:grpSpPr>
        <p:sp>
          <p:nvSpPr>
            <p:cNvPr id="2086" name=""/>
            <p:cNvSpPr/>
            <p:nvPr/>
          </p:nvSpPr>
          <p:spPr>
            <a:xfrm>
              <a:off x="5429160" y="51339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53392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6124680" y="5181480"/>
            <a:ext cx="10476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010360" y="2610000"/>
            <a:ext cx="105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757-53ED-498E-BD1F-BB5FD6EE8A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tional Backbone Provi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1" name=""/>
          <p:cNvSpPr/>
          <p:nvPr/>
        </p:nvSpPr>
        <p:spPr>
          <a:xfrm>
            <a:off x="823680" y="136836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print US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1"/>
          <a:stretch/>
        </p:blipFill>
        <p:spPr>
          <a:xfrm>
            <a:off x="700200" y="1878120"/>
            <a:ext cx="777564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99F-C042-4613-9974-8DB1B21B44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leinrock - queueing theory shows effectiveness of packe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ran - packet-switching in military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conceived by Advanced Research Projects Ag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rst ARPAnet node opera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monstrated public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P (Network Control Protocol) first host-host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e-mail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has 15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61-1972: Early packet-switch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379-7080-4982-B71F-02424B5654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52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OHAnet satellite network in Hawa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loutsos is born 26 May ‘7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etcalfe’s PhD thesis proposes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erf and Kahn - architecture for interconnecting net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oprietary architectures: DECnet, SNA, X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 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witching fixed length packets (ATM precurs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PAnet has 200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f and Kahn’s internetworking princi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alism, autonomy - no internal changes required to interconnect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e today’s Internet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"/>
          <p:cNvSpPr/>
          <p:nvPr/>
        </p:nvSpPr>
        <p:spPr>
          <a:xfrm>
            <a:off x="523800" y="1028880"/>
            <a:ext cx="797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networking, new and proprietary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457880" y="1771560"/>
            <a:ext cx="3824280" cy="4391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FC1-C23D-4215-ABF7-4DC539023B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ployment of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mtp e-mail protocol 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NS defined for name-to-IP-address tran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tp protocol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national networks: Csnet, BITnet, NSFnet, Minit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,000 hosts connected to confederation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ew protocols, a prolife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118-EE19-4BE8-B9A9-27BD78FFA1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186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’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commissio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lifts restrictions on commercial use of NSFnet (decommissioned,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: Mosaic, later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 1990’s: commercializ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WW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te 1990’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50 million computers on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100 million+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bone links running at 1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90’s: commercialization, the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1CA-DCAB-4C37-9562-F0673D7F5C4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Internet Lin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cket switched best effort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or Transmission Control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between end-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r Internet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hings are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are similar to postal le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, to,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man handles all packets similar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 is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: Internet Engineering Task Force: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: Request For Comments: (pseudo)-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0C0-D27A-4663-B6D1-DB1B7911C4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574560" y="1565280"/>
            <a:ext cx="4384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vered a “ton” of materia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over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, core, access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and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114520" y="1579320"/>
            <a:ext cx="372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You now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xt, overview, “feel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A69-3A89-430D-A226-FD74182B10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44680" y="1215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finition of 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: the format of a communication exchang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actions, format of information, predefined interpre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1413000" y="3160800"/>
            <a:ext cx="176184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329600" y="3306600"/>
            <a:ext cx="354960" cy="932760"/>
            <a:chOff x="7329600" y="3306600"/>
            <a:chExt cx="354960" cy="932760"/>
          </a:xfrm>
        </p:grpSpPr>
        <p:sp>
          <p:nvSpPr>
            <p:cNvPr id="320" name=""/>
            <p:cNvSpPr/>
            <p:nvPr/>
          </p:nvSpPr>
          <p:spPr>
            <a:xfrm>
              <a:off x="7329600" y="40237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240" y="33127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1400" y="3515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9600" y="33066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84560" y="3321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556400" y="4023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0200" y="36104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1440" y="37350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4699080" y="3021120"/>
          <a:ext cx="62208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302112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865080" y="2765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3284640" y="316080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863000" y="2873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127160" y="374148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5328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89000" y="4151160"/>
            <a:ext cx="2162160" cy="4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89320" y="4083120"/>
            <a:ext cx="1069200" cy="703800"/>
            <a:chOff x="1489320" y="4083120"/>
            <a:chExt cx="1069200" cy="703800"/>
          </a:xfrm>
        </p:grpSpPr>
        <p:sp>
          <p:nvSpPr>
            <p:cNvPr id="337" name=""/>
            <p:cNvSpPr/>
            <p:nvPr/>
          </p:nvSpPr>
          <p:spPr>
            <a:xfrm>
              <a:off x="1555560" y="415116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9320" y="408312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1251000" y="47228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612080" y="4749840"/>
            <a:ext cx="784080" cy="459720"/>
            <a:chOff x="1612080" y="4749840"/>
            <a:chExt cx="784080" cy="459720"/>
          </a:xfrm>
        </p:grpSpPr>
        <p:sp>
          <p:nvSpPr>
            <p:cNvPr id="341" name=""/>
            <p:cNvSpPr/>
            <p:nvPr/>
          </p:nvSpPr>
          <p:spPr>
            <a:xfrm>
              <a:off x="1679400" y="4827240"/>
              <a:ext cx="70488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12080" y="47498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305320" y="304488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099040" y="5036760"/>
            <a:ext cx="2343240" cy="428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75160" y="3370320"/>
            <a:ext cx="176220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51520" y="386532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85880" y="3797280"/>
            <a:ext cx="2026440" cy="703800"/>
            <a:chOff x="5285880" y="3797280"/>
            <a:chExt cx="2026440" cy="703800"/>
          </a:xfrm>
        </p:grpSpPr>
        <p:sp>
          <p:nvSpPr>
            <p:cNvPr id="348" name=""/>
            <p:cNvSpPr/>
            <p:nvPr/>
          </p:nvSpPr>
          <p:spPr>
            <a:xfrm>
              <a:off x="5403960" y="38653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85880" y="37972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099040" y="4475160"/>
            <a:ext cx="240048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352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913000" y="5045040"/>
            <a:ext cx="962640" cy="459720"/>
            <a:chOff x="5913000" y="5045040"/>
            <a:chExt cx="962640" cy="459720"/>
          </a:xfrm>
        </p:grpSpPr>
        <p:sp>
          <p:nvSpPr>
            <p:cNvPr id="355" name=""/>
            <p:cNvSpPr/>
            <p:nvPr/>
          </p:nvSpPr>
          <p:spPr>
            <a:xfrm>
              <a:off x="6032160" y="5122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3000" y="50450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213080" y="2351160"/>
            <a:ext cx="0" cy="38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30760" y="5483160"/>
            <a:ext cx="826920" cy="459720"/>
            <a:chOff x="3830760" y="5483160"/>
            <a:chExt cx="826920" cy="459720"/>
          </a:xfrm>
        </p:grpSpPr>
        <p:sp>
          <p:nvSpPr>
            <p:cNvPr id="359" name=""/>
            <p:cNvSpPr/>
            <p:nvPr/>
          </p:nvSpPr>
          <p:spPr>
            <a:xfrm>
              <a:off x="3908160" y="55800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30760" y="54831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675-8118-48F8-BCB7-D73458E9B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loutsos’ Golden Rules of Network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is absolute in network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applies for the first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no complicated concepts, just obscure jarg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066-1189-4513-94A3-120C605CC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sed versus Distributed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sed: all information is collected in one place and then proces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ed: decisions are taken locally with partial or summary of th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5F3-49DF-4905-AD61-1A182A035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rinciples of 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 Interconnect existing net techno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 packet radio, and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? Felx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e-off: poorer non-guaranteed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Philosophy of The DARPA Internet Protocols”, David Clark, M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F8-487A-4F3F-8A05-D697DADE6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dcterms:modified xsi:type="dcterms:W3CDTF">2006-04-06T20:27:50Z</dcterms:modified>
  <cp:revision>139</cp:revision>
  <dc:subject/>
  <dc:title>Part I: Introduction</dc:title>
</cp:coreProperties>
</file>