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17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7.jpeg" ContentType="image/jpeg"/>
  <Override PartName="/ppt/media/image4.jpeg" ContentType="image/jpeg"/>
  <Override PartName="/ppt/media/image6.jpeg" ContentType="image/jpeg"/>
  <Override PartName="/ppt/media/image3.pct" ContentType="image/x-pict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F13E1-C7F7-44EA-A809-57F53C4B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MA/CD implemented at hub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E14-9EA7-4B7C-BAF6-2B534682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44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418-5674-4982-B37B-F573D89E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1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844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1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DB4-9A5A-4DC1-9E8C-C6A5DA7A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2408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8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2408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075-E10E-44EB-A7AB-5DBB2689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844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01B-8455-4C51-B010-2CBFF9D8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57D-4E19-4AED-A0C0-A9B8470C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1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C9F-CE6D-43D1-BE5A-C80E3790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BD8-D178-48D8-A1BA-42911002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8440" y="5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6B7-96B6-48C7-96AB-F925AA88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11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844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177-1EC9-4B5E-8F72-19B12508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1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11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C47-6094-4F66-BD06-5221B6D4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11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844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913-8140-449F-B762-A8572B29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844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7440" y="6400800"/>
            <a:ext cx="781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nsselaer Polytechnic Institute          © Shivkumar Kalvanaraman    &amp;     © Biplab Sikd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836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BE74-BFE9-48B9-B68B-0A465CF838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image" Target="../media/image3.pct"/><Relationship Id="rId5" Type="http://schemas.openxmlformats.org/officeDocument/2006/relationships/image" Target="../media/image3.pct"/><Relationship Id="rId6" Type="http://schemas.openxmlformats.org/officeDocument/2006/relationships/image" Target="../media/image3.pct"/><Relationship Id="rId7" Type="http://schemas.openxmlformats.org/officeDocument/2006/relationships/image" Target="../media/image3.pct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ata Link Layer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928-77D4-4A41-BEB7-D1CC5E9E57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outing to another LAN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5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lkthrough: routing from A to B via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image2" descr=""/>
          <p:cNvPicPr/>
          <p:nvPr/>
        </p:nvPicPr>
        <p:blipFill>
          <a:blip r:embed="rId1"/>
          <a:stretch/>
        </p:blipFill>
        <p:spPr>
          <a:xfrm>
            <a:off x="584280" y="2543040"/>
            <a:ext cx="7997760" cy="326088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51C-446A-4D5D-9F6C-47CD5B11BE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outing to another LAN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9160" y="1147680"/>
            <a:ext cx="877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reates IP packet with source A, destination 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uses ARP to get R’s physical layer address for 111.111.111.1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reates Ethernet frame with R's physical address as dest, Ethernet frame contains A-to-B IP dat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’s data link layer sends Ethernet 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image2" descr=""/>
          <p:cNvPicPr/>
          <p:nvPr/>
        </p:nvPicPr>
        <p:blipFill>
          <a:blip r:embed="rId1"/>
          <a:stretch/>
        </p:blipFill>
        <p:spPr>
          <a:xfrm>
            <a:off x="2392200" y="4540320"/>
            <a:ext cx="4496040" cy="177300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897-609F-4BA4-97B8-D9F42795DB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outing to another LAN - 3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923760"/>
            <a:ext cx="830880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’s data link layer receives Ethernet fr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 removes IP datagram from Ethernet frame, sees its destined to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 uses ARP to get B’s physical layer add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 creates frame containing A-to-B IP datagram sends to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2" descr=""/>
          <p:cNvPicPr/>
          <p:nvPr/>
        </p:nvPicPr>
        <p:blipFill>
          <a:blip r:embed="rId1"/>
          <a:stretch/>
        </p:blipFill>
        <p:spPr>
          <a:xfrm>
            <a:off x="1886040" y="4075200"/>
            <a:ext cx="5862600" cy="231120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F93-AD8C-4B77-BC70-B1234CBBE6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therne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8360" y="1153800"/>
            <a:ext cx="805464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minant” LAN technolog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ap $20 for 100Mb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widely used LAN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r, cheaper than token LANs and A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pt up with speed race: 10, 100, 1000 Mb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87440" y="4410000"/>
            <a:ext cx="297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etcalfe’s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k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image3" descr=""/>
          <p:cNvPicPr/>
          <p:nvPr/>
        </p:nvPicPr>
        <p:blipFill>
          <a:blip r:embed="rId1"/>
          <a:stretch/>
        </p:blipFill>
        <p:spPr>
          <a:xfrm>
            <a:off x="1122480" y="3911760"/>
            <a:ext cx="4522680" cy="242388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A6D-C2BD-41AE-8074-62F6962D54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thernet Frame Structure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2320" y="1325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ing adapter encapsulates IP datagram (or other network layer protocol packet) in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thernet 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ambl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 bytes with pattern 10101010 followed by one byte with pattern 10101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to synchronize receiver, sender clock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552%20Ethernet%20frame" descr=""/>
          <p:cNvPicPr/>
          <p:nvPr/>
        </p:nvPicPr>
        <p:blipFill>
          <a:blip r:embed="rId1"/>
          <a:stretch/>
        </p:blipFill>
        <p:spPr>
          <a:xfrm>
            <a:off x="1878120" y="2781360"/>
            <a:ext cx="5487840" cy="94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67B-6782-4088-BEA4-0B7E34D1A0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thernet Frame Structure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19988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ddresse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6 bytes, frame is received by all adapters on a LAN and dropped if address does not 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yp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dicates the higher layer protocol, mostly IP but others may be supported such as Novell IPX and AppleTal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RC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hecked at receiver, if error is detected, the frame is simply drop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image4" descr=""/>
          <p:cNvPicPr/>
          <p:nvPr/>
        </p:nvPicPr>
        <p:blipFill>
          <a:blip r:embed="rId1"/>
          <a:stretch/>
        </p:blipFill>
        <p:spPr>
          <a:xfrm>
            <a:off x="538200" y="4950000"/>
            <a:ext cx="8177040" cy="139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74C-3390-450D-9529-20F62B0088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therne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93760" y="927000"/>
            <a:ext cx="8555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ernet uses 1-persistent CSMA/CD on coaxial cable at 10 Mbps (802.3 allows other speeds &amp; med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aximum cable length allowed: 500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er distances covered using repeaters to connect multiple “segments” of c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two stations can be separated by more than 2500 meters and 4 repe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luding the propagation delay for 2500m and the store and forward delay in 4 repeaters, the maximum time for a bit to travel between any two stations i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25.6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(one w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81A-13B8-425E-999A-BE8FB446C1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thernet: uses CSMA/CD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8680" y="1166760"/>
            <a:ext cx="84009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e channel, if id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mit and monitor the channel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tect another transmi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ort and send jam signal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e # collision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ay as required by exponential backoff algorithm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goto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{done with the frame; set collisions to zero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{wait until ongoing transmission is over and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goto 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D43-7743-46C6-9247-05A5A2956A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thernet’s CSMA/CD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8680" y="1082520"/>
            <a:ext cx="83502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rder to ensure that every collision is “heard" by all stations, when a station detects a collision , it jams the channel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stations, A and B, are close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hird station, C, is far a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and B will detect each other’s transmission very quickly and shut 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will only cause a short blip which may not be detected by C but will still cause enough errors to destroy C’s pac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EC0-0DD2-45F4-A713-FD65D4E2EF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thernet’s CSMA/CD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3680" y="993240"/>
            <a:ext cx="88599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collisions occur, Ethernet uses a random retransmission scheme call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ponential backoff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packet is in a collision, set  K=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k a number k at random from {0, 1,..,K-1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k*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econds, sense channel, transmit if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collision occurs, let K=2 x K, go to ste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10 repeats, stop doubling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16, give up and tell layer above “I give u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xes” random access stability problem by passing it to the layer abov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A8C-769B-4660-BD41-5C5FA580BC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ummary of MAC protocol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7160" y="1274400"/>
            <a:ext cx="858816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 you do with a shared med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nel Partitioning: time, frequency or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Division,Code Division, Frequency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dom partitioning (dynamic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OHA, S-ALOHA, CSMA, CSMA/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rier sensing: easy in some technologies (wire), hard in others (wirel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SMA/CD used in Eth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ing Tu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ling from a central cite, token pa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7DB-2F0D-46A6-954F-08AFE17442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68440" y="540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Ethernet Technologies: 10Base2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2000" y="1143000"/>
            <a:ext cx="863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0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10Mbps;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2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under 200 meters max cable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 coaxial cable in a bus top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eaters used to connect up to multiple se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eater repeats bits it hears on one interface to its other interfaces: physical layer devic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image5" descr=""/>
          <p:cNvPicPr/>
          <p:nvPr/>
        </p:nvPicPr>
        <p:blipFill>
          <a:blip r:embed="rId1"/>
          <a:stretch/>
        </p:blipFill>
        <p:spPr>
          <a:xfrm>
            <a:off x="2503440" y="2430360"/>
            <a:ext cx="4757760" cy="224964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71A-21E1-4457-BE6F-AA6B1CA4FF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10BaseT and 100BaseT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158480"/>
            <a:ext cx="8196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/100 Mbps rate; latter called “fast etherne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tands for Twisted 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b to which nodes are connected by twisted pair, thus “star topolog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561%20hubTier" descr=""/>
          <p:cNvPicPr/>
          <p:nvPr/>
        </p:nvPicPr>
        <p:blipFill>
          <a:blip r:embed="rId1"/>
          <a:stretch/>
        </p:blipFill>
        <p:spPr>
          <a:xfrm>
            <a:off x="1449360" y="3835440"/>
            <a:ext cx="6402240" cy="24955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EC5-25AA-469A-80CB-7F872CD7C4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10BaseT and 100BaseT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 distance from node to Hub is 100 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b can gather monitoring information, statistics for display to LAN administ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CD6-95C5-415F-B926-6EBA3524D1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Gbit Etherne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8280" y="1599840"/>
            <a:ext cx="817416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 standard Ethernet frame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lows for point-to-point links and shared broadcast channe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shared mode, CSMA/CD is used; short distances between nodes to be effic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s hubs, called here “Buffered Distributo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ull-Duplex at 1 Gbps for point-to-point lin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89B-524D-4BED-A322-2EB6E6CB16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68080" y="54000"/>
            <a:ext cx="779436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oken Rings (IEEE 802.5)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39360" y="1099800"/>
            <a:ext cx="786276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ring topology is a single unidirectional loop connecting a series of stations in sequ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bit is stored and forwarded by each station’s network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Untitled-6%20copy" descr=""/>
          <p:cNvPicPr/>
          <p:nvPr/>
        </p:nvPicPr>
        <p:blipFill>
          <a:blip r:embed="rId1"/>
          <a:stretch/>
        </p:blipFill>
        <p:spPr>
          <a:xfrm>
            <a:off x="2770200" y="3360600"/>
            <a:ext cx="3498840" cy="30337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E1B-003F-45D2-8822-4FD8C58CB1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oken Rings: IEEE 802.5 -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9680" y="1134720"/>
            <a:ext cx="83246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sions that operate at 1, 4, and 16 Mbps over shielded twisted pair copper w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 token holding time: 10 ms, limiting frame leng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3240" y="4068720"/>
            <a:ext cx="79916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D, 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rk start, end of packe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image6" descr=""/>
          <p:cNvPicPr/>
          <p:nvPr/>
        </p:nvPicPr>
        <p:blipFill>
          <a:blip r:embed="rId1"/>
          <a:stretch/>
        </p:blipFill>
        <p:spPr>
          <a:xfrm>
            <a:off x="301680" y="3357720"/>
            <a:ext cx="8599320" cy="140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DCA-AA3A-4C14-87D0-CB7A833980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3520" y="1444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C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ccess control byt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oken bit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alue 0 means token can be seized, value 1 means data follows F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iority bi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iority of pac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servation bi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tation can write these bits to prevent stations with lower priority packet from seizing token after token becomes fre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image6" descr=""/>
          <p:cNvPicPr/>
          <p:nvPr/>
        </p:nvPicPr>
        <p:blipFill>
          <a:blip r:embed="rId1"/>
          <a:stretch/>
        </p:blipFill>
        <p:spPr>
          <a:xfrm>
            <a:off x="1384200" y="5284800"/>
            <a:ext cx="6373800" cy="1022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oken Ring: IEEE 802.5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3DA-6C09-43F2-A12B-3B22B3452D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76360" y="1111320"/>
            <a:ext cx="799128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C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ame control used for monitoring and mainten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ource, destination addres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48 bit physical address, as in Ether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ata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cket from network la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ecksum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ame status: set by dest., read by sen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to indicate destination up, frame copied OK from 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LC-level AC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oken Ring: IEEE 802.5 - 3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85A-2A9F-4A4E-BE04-F80129ECB6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oken Ring: IEEE 802.5 - 4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048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transmitting one or more packets (depending on the rules of the protocol), the node transmits a new token to the next node in one of 3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Packet Mode: Token is transmitted after receiving the last bit of transmitted packet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 Token Mode: Token is transmitted immediately after the last bit of the packet(s) is trans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small rings, the last two are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DAA-1714-4EC8-897D-78306EA95E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Interconnecting LAN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hy not just one big L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amount of supportable traffic: on single LAN, all stations must share bandwid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length: 802.3 specifies maximum cable leng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rge “collision domain” (can collide with many st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number of stations: 802.5 have token passing delays at each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F4E-F288-4A01-B945-5BAA50A7E7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LAN technologie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280" y="1349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a link layer so f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, error detection/correction, multiple ac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xt: LAN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bs, bridges,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image1" descr=""/>
          <p:cNvPicPr/>
          <p:nvPr/>
        </p:nvPicPr>
        <p:blipFill>
          <a:blip r:embed="rId1"/>
          <a:stretch/>
        </p:blipFill>
        <p:spPr>
          <a:xfrm>
            <a:off x="4160880" y="4551480"/>
            <a:ext cx="4390920" cy="187164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025-5C14-4BA7-B729-B375B94EA3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ubs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0960" y="1017360"/>
            <a:ext cx="777240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 Layer devices: essentially repeaters operating at bit levels: repeat received bits on one interface to all other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s can be arranged in a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ierarch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or multi-tier design), with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ackbon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 at its 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561%20hubTier" descr=""/>
          <p:cNvPicPr/>
          <p:nvPr/>
        </p:nvPicPr>
        <p:blipFill>
          <a:blip r:embed="rId1"/>
          <a:stretch/>
        </p:blipFill>
        <p:spPr>
          <a:xfrm>
            <a:off x="2523960" y="3803760"/>
            <a:ext cx="6402600" cy="24955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DE7-AD18-4FA4-A88D-7F73EA1071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ubs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288800"/>
            <a:ext cx="8210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onnected LAN referred to as LAN se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ubs do not isolate collis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mai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node may collide with any node residing at any segment in L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 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, inexpensive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tier provides graceful degradation: portions of the LAN continue to operate if one hub mal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ds maximum distance between node pairs (100m per Hu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B50-2F49-4C33-8521-873D4CFBF2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ub limitation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1048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collision domain results in no increase in max through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-tier throughput same as single segment through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vidual LAN restrictions pose limits on number of nodes in same collision domain and on total allowed geographical cover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not connect different Ethernet types (e.g., 10BaseT and 100bas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11A-4951-4F5F-AB0F-06602EAE35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Bridges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nk Layer device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perate on Ethernet frames, examining frame header and selectively forwarding frame based on its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g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solates colli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omains since it buffers fr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frame is to be forwarded on segment, bridge uses CSMA/CD to access segment and transm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366-A38A-4138-AB5F-851DA8A9BE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Bridges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ge 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lates collision domains resulting in higher total max throughput, and does not limit the number of nodes nor geographical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connect different type Ethernet since it is a store and forward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parent: no need for any change to hosts LAN adap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D17-7D3E-4CF6-AD8F-1EF61A1404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Bridges: frame filtering, forwarding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ges filter pa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me-LAN -segment frames not forwarded onto other LAN seg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ward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know which LAN segment on which to forward fr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s like a routing problem (more shortly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1D4-4409-41CE-81D4-A8B34CD5DD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Backbone Bridg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5" name="562%20Bridge" descr=""/>
          <p:cNvPicPr/>
          <p:nvPr/>
        </p:nvPicPr>
        <p:blipFill>
          <a:blip r:embed="rId1"/>
          <a:stretch/>
        </p:blipFill>
        <p:spPr>
          <a:xfrm>
            <a:off x="568440" y="2522520"/>
            <a:ext cx="7772400" cy="280188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D5C-40D2-464B-85F7-B20434CC99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Interconnection Without Backbon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320" y="3728520"/>
            <a:ext cx="8202600" cy="17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recommended for two r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Single point of failure at Computer Science h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All traffic between EE and SE must path over CS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567%20noBackbone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02600" cy="155232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5B6-B8B9-40C8-85B4-403619A104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Bridge Filtering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0720" y="154764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ges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ar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hich hosts can be reached through which interfaces: maintain filtering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frame received, bridge “learns”  location of sender: incoming LAN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rds sender location in filtering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tering table entr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Node LAN Address, Bridge Interface, Time Sta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le entries in Filtering Table dropped (TTL can be 60 minu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B92-813F-4162-ABDD-1FD4C5E326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Bridge Filtering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9680" y="105228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tering proced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tination is on LAN on which frame was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rop the 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lse {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ookup filtering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try found for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2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ward the frame on interface indicate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2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ls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od;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/* forward on all but the interface on       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which the frame arrived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E14-B434-47D5-BABF-D39A26D4640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LAN Addresses and ARP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8440" y="13554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32-bit IP address: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twork-lay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to get datagram to destination network (recall IP network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LAN (or MAC or physical) addres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to get datagram from one interface to another physically-connected interface (same networ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8 bit MAC address (for most LANs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rned in the adapter 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E46-2E1A-4C88-8655-7CDB8EE5CB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68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Bridge Learning: example - 1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2880" y="11397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se C sends frame to D and D replies back with frame to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IMG00085" descr=""/>
          <p:cNvPicPr/>
          <p:nvPr/>
        </p:nvPicPr>
        <p:blipFill>
          <a:blip r:embed="rId1"/>
          <a:stretch/>
        </p:blipFill>
        <p:spPr>
          <a:xfrm>
            <a:off x="2529000" y="2089080"/>
            <a:ext cx="4243320" cy="1933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71400" y="400068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 sends frame, bridge has no info about D, so floods to both L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ge notes that C is on port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me ignored on upper 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me received by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A5D-05BF-48E3-99C7-CDFD04FD726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G00085" descr=""/>
          <p:cNvPicPr/>
          <p:nvPr/>
        </p:nvPicPr>
        <p:blipFill>
          <a:blip r:embed="rId1"/>
          <a:stretch/>
        </p:blipFill>
        <p:spPr>
          <a:xfrm>
            <a:off x="1906560" y="1293840"/>
            <a:ext cx="5057640" cy="230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34880" y="3875040"/>
            <a:ext cx="870912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generates reply to C, se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ge sees frame from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ge notes that D is on interface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ge knows C on interface 1, so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selectivel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wards frame out via interface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Bridge Learning: example - 2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A6F-9319-4494-9B7B-D1008D19B74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Bridges Spanning Tre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098360"/>
            <a:ext cx="814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increased reliability, desirable to have redundant, alternate paths from source to d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ultiple simultaneous paths, cycles result - bridges may multiply and forward frame for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: organize bridges in a spanning tree by disabling subset of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47840" y="4560840"/>
            <a:ext cx="5085000" cy="1671480"/>
            <a:chOff x="2247840" y="4560840"/>
            <a:chExt cx="5085000" cy="1671480"/>
          </a:xfrm>
        </p:grpSpPr>
        <p:pic>
          <p:nvPicPr>
            <p:cNvPr id="243" name="565%20Bridges%20SpanningTree" descr=""/>
            <p:cNvPicPr/>
            <p:nvPr/>
          </p:nvPicPr>
          <p:blipFill>
            <a:blip r:embed="rId1"/>
            <a:stretch/>
          </p:blipFill>
          <p:spPr>
            <a:xfrm>
              <a:off x="2247840" y="4609080"/>
              <a:ext cx="5085000" cy="16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123800" y="4899960"/>
              <a:ext cx="423360" cy="241920"/>
            </a:xfrm>
            <a:prstGeom prst="irregularSeal1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21080" y="5675040"/>
              <a:ext cx="423360" cy="242280"/>
            </a:xfrm>
            <a:prstGeom prst="irregularSeal1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79120" y="4754520"/>
              <a:ext cx="483840" cy="193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96000" y="456084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E51-585D-47E3-9A6F-07C246BC4EE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288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WF Bridges vs. Router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2880" y="1044720"/>
            <a:ext cx="79819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store-and-forward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ters: network layer devices (examine network layer head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ges are Link Layer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ters maintain routing tables, implement routing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ges maintain filtering tables, implement filtering, learning and spanning tree algorith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566%20Bridge%20and%20router%20stacks" descr=""/>
          <p:cNvPicPr/>
          <p:nvPr/>
        </p:nvPicPr>
        <p:blipFill>
          <a:blip r:embed="rId1"/>
          <a:stretch/>
        </p:blipFill>
        <p:spPr>
          <a:xfrm>
            <a:off x="3467160" y="4556160"/>
            <a:ext cx="4564080" cy="180504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AC7-1508-4A9D-AA55-2A25B8015E7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outers vs. Bridges - 1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844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ridges + and 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 Bridge operation is simpler requiring less processing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Topologies are restricted with bridges: a spanning tree must be built to avoid cyc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Bridges do not offer protection from broadcast storms (endless broadcasting by a host will be forwarded by a brid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B55-6877-491D-A17D-BB316DF81C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outers vs. Bridges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28760" y="1290600"/>
            <a:ext cx="8586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outers + and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 arbitrary topologies can be supported, cycling is limited by TTL counters (and good routing protoc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 provide firewall protection against broadcast 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require IP address configuration (not plug and pl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 require higher processing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dges do well in small (few hundred hosts) while routers used in large networks (thousands of ho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47C-2794-499F-8269-20C403EAD7C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LAN Addresses and ARP - 2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" name="5.4-1addresses" descr=""/>
          <p:cNvPicPr/>
          <p:nvPr/>
        </p:nvPicPr>
        <p:blipFill>
          <a:blip r:embed="rId1"/>
          <a:stretch/>
        </p:blipFill>
        <p:spPr>
          <a:xfrm>
            <a:off x="1684440" y="1976400"/>
            <a:ext cx="5943600" cy="411480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777240" y="1209600"/>
            <a:ext cx="80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adapter on LAN has unique LA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7A1-F45C-4D2B-8FA6-8C7B989A27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LAN Address (more)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6360" y="1322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C address allocation administered by IE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facturer buys portion of MAC address space (to assure unique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) MAC address: like Social Security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) IP address: like posta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C flat address  =&gt; port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move LAN card from one LAN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hierarchical address NOT p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ends on network to which one att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394-9F9F-41F9-848D-DA2DEA766E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83080" y="1090440"/>
            <a:ext cx="3645000" cy="260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97080" y="4826160"/>
            <a:ext cx="3402000" cy="669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-68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ata Link and Routing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403960" y="1079640"/>
            <a:ext cx="3676320" cy="2601360"/>
            <a:chOff x="5403960" y="1079640"/>
            <a:chExt cx="3676320" cy="2601360"/>
          </a:xfrm>
        </p:grpSpPr>
        <p:sp>
          <p:nvSpPr>
            <p:cNvPr id="66" name=""/>
            <p:cNvSpPr/>
            <p:nvPr/>
          </p:nvSpPr>
          <p:spPr>
            <a:xfrm>
              <a:off x="5403960" y="1079640"/>
              <a:ext cx="1613880" cy="1690200"/>
            </a:xfrm>
            <a:custGeom>
              <a:avLst/>
              <a:gdLst/>
              <a:ahLst/>
              <a:rect l="l" t="t" r="r" b="b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95560" y="1316520"/>
              <a:ext cx="1584720" cy="1615680"/>
            </a:xfrm>
            <a:custGeom>
              <a:avLst/>
              <a:gdLst/>
              <a:ahLst/>
              <a:rect l="l" t="t" r="r" b="b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08000" y="2451600"/>
              <a:ext cx="1708920" cy="1229400"/>
            </a:xfrm>
            <a:custGeom>
              <a:avLst/>
              <a:gdLst/>
              <a:ahLst/>
              <a:rect l="l" t="t" r="r" b="b"/>
              <a:pathLst>
                <a:path w="1295" h="939">
                  <a:moveTo>
                    <a:pt x="600" y="30"/>
                  </a:moveTo>
                  <a:cubicBezTo>
                    <a:pt x="486" y="60"/>
                    <a:pt x="610" y="247"/>
                    <a:pt x="525" y="393"/>
                  </a:cubicBezTo>
                  <a:cubicBezTo>
                    <a:pt x="439" y="467"/>
                    <a:pt x="162" y="394"/>
                    <a:pt x="81" y="471"/>
                  </a:cubicBezTo>
                  <a:cubicBezTo>
                    <a:pt x="0" y="548"/>
                    <a:pt x="18" y="779"/>
                    <a:pt x="39" y="855"/>
                  </a:cubicBezTo>
                  <a:cubicBezTo>
                    <a:pt x="60" y="931"/>
                    <a:pt x="142" y="915"/>
                    <a:pt x="207" y="927"/>
                  </a:cubicBezTo>
                  <a:cubicBezTo>
                    <a:pt x="272" y="939"/>
                    <a:pt x="346" y="933"/>
                    <a:pt x="429" y="927"/>
                  </a:cubicBezTo>
                  <a:cubicBezTo>
                    <a:pt x="512" y="921"/>
                    <a:pt x="572" y="904"/>
                    <a:pt x="705" y="891"/>
                  </a:cubicBezTo>
                  <a:cubicBezTo>
                    <a:pt x="838" y="878"/>
                    <a:pt x="1159" y="921"/>
                    <a:pt x="1227" y="849"/>
                  </a:cubicBezTo>
                  <a:cubicBezTo>
                    <a:pt x="1295" y="777"/>
                    <a:pt x="1188" y="540"/>
                    <a:pt x="1113" y="459"/>
                  </a:cubicBezTo>
                  <a:cubicBezTo>
                    <a:pt x="1038" y="378"/>
                    <a:pt x="835" y="432"/>
                    <a:pt x="777" y="363"/>
                  </a:cubicBezTo>
                  <a:cubicBezTo>
                    <a:pt x="719" y="294"/>
                    <a:pt x="791" y="97"/>
                    <a:pt x="762" y="42"/>
                  </a:cubicBezTo>
                  <a:cubicBezTo>
                    <a:pt x="708" y="15"/>
                    <a:pt x="714" y="0"/>
                    <a:pt x="600" y="3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5468400" y="1166040"/>
              <a:ext cx="48528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934240" y="1473480"/>
              <a:ext cx="230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75800" y="1461960"/>
              <a:ext cx="0" cy="106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934240" y="2005200"/>
              <a:ext cx="23076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2160" y="2522160"/>
              <a:ext cx="226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5468400" y="1715760"/>
              <a:ext cx="485280" cy="38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468400" y="2218680"/>
              <a:ext cx="48528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175800" y="2169000"/>
              <a:ext cx="8604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6959880" y="2140200"/>
              <a:ext cx="590400" cy="313560"/>
              <a:chOff x="6959880" y="2140200"/>
              <a:chExt cx="590400" cy="313560"/>
            </a:xfrm>
          </p:grpSpPr>
          <p:sp>
            <p:nvSpPr>
              <p:cNvPr id="78" name=""/>
              <p:cNvSpPr/>
              <p:nvPr/>
            </p:nvSpPr>
            <p:spPr>
              <a:xfrm>
                <a:off x="6964560" y="2280240"/>
                <a:ext cx="585720" cy="173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964560" y="226548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550280" y="2265480"/>
                <a:ext cx="0" cy="10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64560" y="2265480"/>
                <a:ext cx="580680" cy="106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959880" y="2140200"/>
                <a:ext cx="585360" cy="2026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100640" y="2184840"/>
                <a:ext cx="290160" cy="118440"/>
                <a:chOff x="7100640" y="2184840"/>
                <a:chExt cx="290160" cy="118440"/>
              </a:xfrm>
            </p:grpSpPr>
            <p:sp>
              <p:nvSpPr>
                <p:cNvPr id="84" name=""/>
                <p:cNvSpPr/>
                <p:nvPr/>
              </p:nvSpPr>
              <p:spPr>
                <a:xfrm flipV="1">
                  <a:off x="7100640" y="2184840"/>
                  <a:ext cx="1033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299720" y="2303280"/>
                  <a:ext cx="9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196040" y="2187000"/>
                  <a:ext cx="107640" cy="11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100640" y="2182680"/>
                <a:ext cx="290160" cy="118440"/>
                <a:chOff x="7100640" y="2182680"/>
                <a:chExt cx="290160" cy="1184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100640" y="2298960"/>
                  <a:ext cx="1033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299720" y="2182680"/>
                  <a:ext cx="91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7196040" y="2183040"/>
                  <a:ext cx="107640" cy="11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5899680" y="12049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72400" y="1799640"/>
              <a:ext cx="257040" cy="149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3000" y="1723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6080" y="25081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64520" y="19555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62440" y="2176560"/>
              <a:ext cx="844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56600" y="19476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13840" y="1603440"/>
              <a:ext cx="0" cy="106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8461440" y="1362240"/>
              <a:ext cx="48564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313840" y="1607040"/>
              <a:ext cx="195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8465400" y="2501640"/>
              <a:ext cx="485640" cy="38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313840" y="2656080"/>
              <a:ext cx="195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68840" y="2447640"/>
              <a:ext cx="142200" cy="149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60880" y="23760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80720" y="1646280"/>
              <a:ext cx="205560" cy="149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36680" y="15663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4440" y="2455920"/>
              <a:ext cx="0" cy="59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718320" y="3048840"/>
              <a:ext cx="98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715080" y="3042360"/>
              <a:ext cx="2520" cy="1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7692840" y="3045600"/>
              <a:ext cx="2520" cy="19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7515360" y="3177000"/>
              <a:ext cx="485640" cy="38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7"/>
            <a:stretch/>
          </p:blipFill>
          <p:spPr>
            <a:xfrm>
              <a:off x="6470280" y="3188880"/>
              <a:ext cx="48528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700040" y="2920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91760" y="29530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11880" y="2565720"/>
              <a:ext cx="106560" cy="149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65480" y="250164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563800" y="1134360"/>
              <a:ext cx="343800" cy="398880"/>
              <a:chOff x="5563800" y="1134360"/>
              <a:chExt cx="343800" cy="398880"/>
            </a:xfrm>
          </p:grpSpPr>
          <p:sp>
            <p:nvSpPr>
              <p:cNvPr id="118" name=""/>
              <p:cNvSpPr/>
              <p:nvPr/>
            </p:nvSpPr>
            <p:spPr>
              <a:xfrm>
                <a:off x="5635440" y="1198440"/>
                <a:ext cx="150120" cy="21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63800" y="113436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541120" y="2156040"/>
              <a:ext cx="346680" cy="398880"/>
              <a:chOff x="5541120" y="2156040"/>
              <a:chExt cx="346680" cy="398880"/>
            </a:xfrm>
          </p:grpSpPr>
          <p:sp>
            <p:nvSpPr>
              <p:cNvPr id="121" name=""/>
              <p:cNvSpPr/>
              <p:nvPr/>
            </p:nvSpPr>
            <p:spPr>
              <a:xfrm>
                <a:off x="5627520" y="2219760"/>
                <a:ext cx="150120" cy="21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41120" y="21560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8553240" y="2453040"/>
              <a:ext cx="322560" cy="398880"/>
              <a:chOff x="8553240" y="2453040"/>
              <a:chExt cx="322560" cy="398880"/>
            </a:xfrm>
          </p:grpSpPr>
          <p:sp>
            <p:nvSpPr>
              <p:cNvPr id="124" name=""/>
              <p:cNvSpPr/>
              <p:nvPr/>
            </p:nvSpPr>
            <p:spPr>
              <a:xfrm>
                <a:off x="8628480" y="2518560"/>
                <a:ext cx="150480" cy="21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553240" y="2453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104760" y="1041480"/>
            <a:ext cx="516096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ing at A, given IP datagram addressed to 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 up net. address of B, find B on same net. 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nk layer send datagram to B inside link-layer fra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4760" y="4838760"/>
            <a:ext cx="10692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’s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5600" y="4838760"/>
            <a:ext cx="10692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’s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32080" y="48211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s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87520" y="48276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s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93720" y="4959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pay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120" y="4824360"/>
            <a:ext cx="6060960" cy="669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36640" y="4835520"/>
            <a:ext cx="0" cy="669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32120" y="4830840"/>
            <a:ext cx="0" cy="669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00320" y="4836960"/>
            <a:ext cx="0" cy="66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6360" y="4773600"/>
            <a:ext cx="74520" cy="1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0800" y="5408640"/>
            <a:ext cx="74520" cy="15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22480" y="4776840"/>
            <a:ext cx="74880" cy="1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40120" y="5423040"/>
            <a:ext cx="74520" cy="1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07960" y="5614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56800" y="5945040"/>
            <a:ext cx="80100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64280" y="5810400"/>
            <a:ext cx="1193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139920" y="5819760"/>
            <a:ext cx="98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12560" y="6108840"/>
            <a:ext cx="223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7560" y="6130800"/>
            <a:ext cx="302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94760" y="380844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sour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34960" y="3835440"/>
            <a:ext cx="20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gra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ur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182240" y="4448160"/>
            <a:ext cx="492120" cy="3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8160" y="4443480"/>
            <a:ext cx="439920" cy="3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22240" y="4452840"/>
            <a:ext cx="49212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8160" y="4448160"/>
            <a:ext cx="43992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4D9-B7F2-4310-88FB-2EFBC822DD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5.4-2arp" descr=""/>
          <p:cNvPicPr/>
          <p:nvPr/>
        </p:nvPicPr>
        <p:blipFill>
          <a:blip r:embed="rId1"/>
          <a:stretch/>
        </p:blipFill>
        <p:spPr>
          <a:xfrm>
            <a:off x="304920" y="3448080"/>
            <a:ext cx="3632040" cy="2233440"/>
          </a:xfrm>
          <a:prstGeom prst="rect">
            <a:avLst/>
          </a:prstGeom>
          <a:ln w="38160">
            <a:solidFill>
              <a:srgbClr val="ffffcc"/>
            </a:solidFill>
            <a:miter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120" y="240840"/>
            <a:ext cx="81918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RP: Address Resolution Protocol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00080" y="1393560"/>
            <a:ext cx="5443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IP node (Host, Router) on LAN has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RP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ule,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P Table: IP/MAC address mappings for some LAN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IP address; MAC address; TT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     …………………………..   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TL (Time To Live): time after which address mapping will be forgotten (typically 20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7320" y="1362240"/>
            <a:ext cx="3585960" cy="155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: how to 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AC address of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given B’s IP addr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B10-B108-41E3-8A8A-6E77A79C2C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684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ARP protocol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0520" y="1104840"/>
            <a:ext cx="8022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knows B's IP address, wants to learn physical address of 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roadcas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P query pkt, containing B's IP add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chines on LAN receive ARP qu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 receives ARP packet, replies to A with its (B's) physical layer add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aches (saves) IP-to-physical address pairs until information becomes old (times ou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state: information that times out (goes away) unless refre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033-E67C-4BD5-8125-FC8383C0AB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M Faloutsos</cp:lastModifiedBy>
  <cp:lastPrinted>2000-10-23T11:49:35Z</cp:lastPrinted>
  <dcterms:modified xsi:type="dcterms:W3CDTF">2005-04-07T04:04:43Z</dcterms:modified>
  <cp:revision>163</cp:revision>
  <dc:subject/>
  <dc:title>Part I: Introduction</dc:title>
</cp:coreProperties>
</file>