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684-DBE2-4C09-823D-47A7521A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A0C-796A-4706-BF76-0E073030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3C5-9EFC-4446-A5E0-2689FC8A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B87-A51C-43FC-BE51-C59B6AEC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8BEA-CCB8-4F9D-85E5-4B01281F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16A8-7FD6-4C1D-9B16-E38E1D98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D981-B875-41AB-9002-32782B6C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F4E1-A3C6-48AF-A55A-5DF593EA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0FDB-085A-4FC9-9EB9-82195427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5400" y="22824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EA11-7AC2-48F6-BCD1-933D8617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FB69-AF35-493F-A7AD-8C7BA0E3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E61-788F-42E3-AF96-17A98F1D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DD08-DBCD-4EAC-AA6C-A8F06DFD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347E-74D2-4E1C-93F5-0F8FC0C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CD5A-47C2-4C58-A6EB-D0E06B6F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F669-87E5-4E4F-BF6D-4E5927E6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2F7E-2047-4291-AE0E-304AC5AF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FA2-8559-4855-B9C4-8B589D8A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D48-367B-49CB-AAE2-A60583B9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6C2-2345-4BC3-96B2-5DBD1951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400" y="22824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9E6-C4F8-499F-928F-A527ABEF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A5B-1DDC-4DFD-8772-87967BCE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C2C-0773-4267-B375-CA1D79C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858-9647-4843-B7B2-22543959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ff66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29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17220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168960"/>
            <a:ext cx="1625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DDAD-7329-49A0-AF87-5114B5C7FE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UCR" descr=""/>
          <p:cNvPicPr/>
          <p:nvPr/>
        </p:nvPicPr>
        <p:blipFill>
          <a:blip r:embed="rId3"/>
          <a:stretch/>
        </p:blipFill>
        <p:spPr>
          <a:xfrm>
            <a:off x="455760" y="6307200"/>
            <a:ext cx="1471320" cy="323640"/>
          </a:xfrm>
          <a:prstGeom prst="rect">
            <a:avLst/>
          </a:prstGeom>
          <a:ln w="0">
            <a:noFill/>
          </a:ln>
        </p:spPr>
      </p:pic>
      <p:pic>
        <p:nvPicPr>
          <p:cNvPr id="6" name="paint" descr=""/>
          <p:cNvPicPr/>
          <p:nvPr/>
        </p:nvPicPr>
        <p:blipFill>
          <a:blip r:embed="rId4"/>
          <a:stretch/>
        </p:blipFill>
        <p:spPr>
          <a:xfrm>
            <a:off x="455760" y="13716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743200" y="6229080"/>
            <a:ext cx="41911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162560" y="6229080"/>
            <a:ext cx="1269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9E4E-65DC-4A0C-8379-3C2D6B4986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2970360"/>
            <a:ext cx="7769160" cy="361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Book Antiqu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 to Wireless Network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chalis Faloutso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A87C-62D3-4814-A761-8F941160AE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Different Her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roadcasts of nodes can “overlap” -&gt; collis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w do we handle thi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MAC layer protocol could be the answer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f one node broadcasts, neighbors keeps qui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us, nearby nodes compete for air 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s is called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FE0-EC7A-4E7E-AFD8-0EF42EB52B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ion in ad hoc network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major difference with wireline networ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ir-time is the critical resour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act 1: connections that cross vertically interfe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act 2: connections that do not share nodes interfe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act 3: a single connection with itself interferes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B28-096C-4E5C-8BEF-4F94403136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 of conten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7800" y="1828440"/>
            <a:ext cx="34257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ellow connection bothers pink connec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ellow bothers itself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n A-E is activ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-F is silen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-G is silent (is it?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9480" y="2514600"/>
            <a:ext cx="4114440" cy="2133360"/>
            <a:chOff x="609480" y="2514600"/>
            <a:chExt cx="4114440" cy="2133360"/>
          </a:xfrm>
        </p:grpSpPr>
        <p:sp>
          <p:nvSpPr>
            <p:cNvPr id="131" name=""/>
            <p:cNvSpPr/>
            <p:nvPr/>
          </p:nvSpPr>
          <p:spPr>
            <a:xfrm>
              <a:off x="609480" y="2978640"/>
              <a:ext cx="382320" cy="3704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4840" y="2700360"/>
              <a:ext cx="382680" cy="3704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4800" y="2607480"/>
              <a:ext cx="382320" cy="3711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10160" y="2607480"/>
              <a:ext cx="382680" cy="3711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75520" y="2700360"/>
              <a:ext cx="382680" cy="3704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41600" y="2514600"/>
              <a:ext cx="382320" cy="3711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3905640"/>
              <a:ext cx="382320" cy="37116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70600" y="3627360"/>
              <a:ext cx="382320" cy="37116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40200" y="3998520"/>
              <a:ext cx="382680" cy="37116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10160" y="3905640"/>
              <a:ext cx="382680" cy="37116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71640" y="3627360"/>
              <a:ext cx="382680" cy="37116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49720" y="4276800"/>
              <a:ext cx="382680" cy="37116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991800" y="2885760"/>
              <a:ext cx="382680" cy="18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1760" y="2792520"/>
              <a:ext cx="382680" cy="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27120" y="2792520"/>
              <a:ext cx="382680" cy="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93200" y="2792520"/>
              <a:ext cx="382320" cy="9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958560" y="2792520"/>
              <a:ext cx="382680" cy="9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991800" y="3905640"/>
              <a:ext cx="478440" cy="18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52920" y="3905640"/>
              <a:ext cx="286920" cy="18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523240" y="4091400"/>
              <a:ext cx="286920" cy="9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193200" y="3813120"/>
              <a:ext cx="478080" cy="18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58560" y="3905640"/>
              <a:ext cx="382680" cy="46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96400" y="3256920"/>
              <a:ext cx="1800" cy="648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61760" y="3070440"/>
              <a:ext cx="1800" cy="556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62800" y="3070440"/>
              <a:ext cx="2160" cy="556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001320" y="2978280"/>
              <a:ext cx="2160" cy="927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433520" y="2193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2168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552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34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D35-CA4C-4470-87A3-030283F543C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400" y="2268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idden Terminal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idden terminals: A, C cannot hear each oth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bstacles, signal attenu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llisions at B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oal: avoid collisions at 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SMA/CA: CSMA with Collision Avoidan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3" name="1f" descr=""/>
          <p:cNvPicPr/>
          <p:nvPr/>
        </p:nvPicPr>
        <p:blipFill>
          <a:blip r:embed="rId4"/>
          <a:stretch/>
        </p:blipFill>
        <p:spPr>
          <a:xfrm>
            <a:off x="2076480" y="4081320"/>
            <a:ext cx="5292720" cy="229896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8D7-F24A-4BD0-B09E-CC1DAAF977D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2920" y="25200"/>
            <a:ext cx="869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ision Avoidance: RTS-CTS exchange -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0880" y="1238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09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SMA/CA: explicit channel reserv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nder: send short RTS: request to sen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eceiver: reply with short CTS: clear to sen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TS reserves channel for sender, notifying (possibly hidden) stat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void hidden station collision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7" name="1g" descr=""/>
          <p:cNvPicPr/>
          <p:nvPr/>
        </p:nvPicPr>
        <p:blipFill>
          <a:blip r:embed="rId4"/>
          <a:stretch/>
        </p:blipFill>
        <p:spPr>
          <a:xfrm>
            <a:off x="5205240" y="2168640"/>
            <a:ext cx="3773520" cy="305748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818-9C62-4732-805C-499D0D7FD64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2920" y="61560"/>
            <a:ext cx="86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ision Avoidance: RTS-CTS exchange -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0880" y="1238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400" y="1905120"/>
            <a:ext cx="502452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TS and CTS short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llisions less likely, of shorter dur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nd result similar to collision detec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EEE 802.11 allows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SMA/CA: reservat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olling from AP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1" name="1g" descr=""/>
          <p:cNvPicPr/>
          <p:nvPr/>
        </p:nvPicPr>
        <p:blipFill>
          <a:blip r:embed="rId3"/>
          <a:stretch/>
        </p:blipFill>
        <p:spPr>
          <a:xfrm>
            <a:off x="5060880" y="2147760"/>
            <a:ext cx="3995640" cy="32371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563-22EB-4B01-A25C-987D0752F8D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802.11 MAC protoco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822636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roduced to reduce collis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nder sends Request To Send (RTS): ask permiss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se A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eceiver gives permission Clear To Send (CTS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nder sends 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ceiver sends ACK, if received correctl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se B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eceiver does not respon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nder waits, times out, exponential back-off, and tries agai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"/>
          <p:cNvSpPr/>
          <p:nvPr/>
        </p:nvSpPr>
        <p:spPr>
          <a:xfrm>
            <a:off x="4089240" y="1886040"/>
            <a:ext cx="341640" cy="31428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93040" y="2095560"/>
            <a:ext cx="341280" cy="31428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2200320"/>
            <a:ext cx="341280" cy="31428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8920" y="1938240"/>
            <a:ext cx="341640" cy="31428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45000" y="1938240"/>
            <a:ext cx="909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487400" y="2095560"/>
            <a:ext cx="911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79880" y="1938240"/>
            <a:ext cx="909360" cy="366840"/>
          </a:xfrm>
          <a:custGeom>
            <a:avLst/>
            <a:gdLst/>
            <a:ahLst/>
            <a:rect l="l" t="t" r="r" b="b"/>
            <a:pathLst>
              <a:path w="768" h="336">
                <a:moveTo>
                  <a:pt x="768" y="48"/>
                </a:moveTo>
                <a:cubicBezTo>
                  <a:pt x="592" y="24"/>
                  <a:pt x="416" y="0"/>
                  <a:pt x="288" y="48"/>
                </a:cubicBezTo>
                <a:cubicBezTo>
                  <a:pt x="160" y="96"/>
                  <a:pt x="80" y="216"/>
                  <a:pt x="0" y="336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83320" y="1868400"/>
            <a:ext cx="1023840" cy="227160"/>
          </a:xfrm>
          <a:custGeom>
            <a:avLst/>
            <a:gdLst/>
            <a:ahLst/>
            <a:rect l="l" t="t" r="r" b="b"/>
            <a:pathLst>
              <a:path w="864" h="208">
                <a:moveTo>
                  <a:pt x="0" y="112"/>
                </a:moveTo>
                <a:cubicBezTo>
                  <a:pt x="192" y="56"/>
                  <a:pt x="384" y="0"/>
                  <a:pt x="528" y="16"/>
                </a:cubicBezTo>
                <a:cubicBezTo>
                  <a:pt x="672" y="32"/>
                  <a:pt x="768" y="120"/>
                  <a:pt x="864" y="208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9480" y="15238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213372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600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220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C05-FA70-40F3-91AF-EA07A393B48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is this necessar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3808440"/>
            <a:ext cx="8226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: RTS, and B replies with a C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 hears RTS and avoids sending anyth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 could have been near B (not shown here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 hears CTS so it does not send anything to 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523880" y="2133720"/>
            <a:ext cx="5410080" cy="1218600"/>
            <a:chOff x="1523880" y="2133720"/>
            <a:chExt cx="5410080" cy="1218600"/>
          </a:xfrm>
        </p:grpSpPr>
        <p:sp>
          <p:nvSpPr>
            <p:cNvPr id="189" name=""/>
            <p:cNvSpPr/>
            <p:nvPr/>
          </p:nvSpPr>
          <p:spPr>
            <a:xfrm>
              <a:off x="3124080" y="243828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6760" y="274320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3880" y="289548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76560" y="251460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33560" y="2514600"/>
              <a:ext cx="121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657600" y="274320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4760" y="2514600"/>
              <a:ext cx="1219320" cy="53280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768" y="48"/>
                  </a:moveTo>
                  <a:cubicBezTo>
                    <a:pt x="592" y="24"/>
                    <a:pt x="416" y="0"/>
                    <a:pt x="288" y="48"/>
                  </a:cubicBezTo>
                  <a:cubicBezTo>
                    <a:pt x="160" y="96"/>
                    <a:pt x="80" y="216"/>
                    <a:pt x="0" y="336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57800" y="2412720"/>
              <a:ext cx="1371600" cy="330120"/>
            </a:xfrm>
            <a:custGeom>
              <a:avLst/>
              <a:gdLst/>
              <a:ahLst/>
              <a:rect l="l" t="t" r="r" b="b"/>
              <a:pathLst>
                <a:path w="864" h="208">
                  <a:moveTo>
                    <a:pt x="0" y="112"/>
                  </a:moveTo>
                  <a:cubicBezTo>
                    <a:pt x="192" y="56"/>
                    <a:pt x="384" y="0"/>
                    <a:pt x="528" y="16"/>
                  </a:cubicBezTo>
                  <a:cubicBezTo>
                    <a:pt x="672" y="32"/>
                    <a:pt x="768" y="120"/>
                    <a:pt x="864" y="20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86200" y="2133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2160" y="28191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BE4-AD77-4DBE-B460-A95E4B1BCD8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numbers for 802.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ypical radius of power-range: 250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ference range: 500m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 500m one can not hear, but they are bothered!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TS packet 40 by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TS and ACK 39 by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C header is 47 by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585-B44B-4A41-8B9C-122DAE61D55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ypical Simulation Environ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2-dimensional rectang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xed number of nod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tic: uniformly distribut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ynamic: way-point mod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ick location, move with speed v, paus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wer range: fixed or variab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nder-receivers uniformly distribut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881-252B-453B-8339-C7B88F9D58B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268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1 Wireless LAN - 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9320" y="1828800"/>
            <a:ext cx="817236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ireless LANs: untethered (often mobile) networ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EEE 802.11 standard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nlicensed frequency spectrum: 900Mhz,  2.4Ghz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9" name="1c" descr=""/>
          <p:cNvPicPr/>
          <p:nvPr/>
        </p:nvPicPr>
        <p:blipFill>
          <a:blip r:embed="rId3"/>
          <a:stretch/>
        </p:blipFill>
        <p:spPr>
          <a:xfrm>
            <a:off x="2862360" y="4156200"/>
            <a:ext cx="377640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9E9-BC16-4A19-B4EF-E4ED2E7D3ED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ious Communication Paradig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roadcasting: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ne nodes reaches everybod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ulticasting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ne node reaches some nod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ycasting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ne node reaches a subset of some target nodes (one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pplication Layer protocols and overlay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pplications like peer-to-pee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A06-8F76-4B3C-AF5E-13F60B96607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5040" y="1541520"/>
            <a:ext cx="81867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Book Antiqua"/>
              </a:rPr>
              <a:t>Basic Service Set (BSS)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a.k.a. “cell”) conta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Book Antiqua"/>
              </a:rPr>
              <a:t>wireless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Book Antiqua"/>
              </a:rPr>
              <a:t>access point (AP):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SS’s combined to form distribution system (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1 Wireless LAN - 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4FA-A320-4830-BDA9-87655FE31C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1 used for Ad Hoc Network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77240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Book Antiqua"/>
              </a:rPr>
              <a:t>Ad hoc network: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IEEE 802.11 stations can dynamically form network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without</a:t>
            </a: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pplications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aptop” meeting in conference room, c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terconnection of “personal” devic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attlefield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ETF MANE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Mobile Ad hoc Networks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orking group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4" name="1d" descr=""/>
          <p:cNvPicPr/>
          <p:nvPr/>
        </p:nvPicPr>
        <p:blipFill>
          <a:blip r:embed="rId4"/>
          <a:stretch/>
        </p:blipFill>
        <p:spPr>
          <a:xfrm>
            <a:off x="6113520" y="3865680"/>
            <a:ext cx="2519280" cy="24019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F24-7EE4-4428-B8EF-6851ACBAC1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4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1 MAC Protocol: CSMA/C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4240" y="1752120"/>
            <a:ext cx="511164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802.11 CSMA sender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if sense channel idle for DIFS sec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en transmit entire frame (no collision detection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if sense channel busy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en binary backoff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802.11 CSMA receiver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f received O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eturn ACK after SIF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7" name="1e" descr=""/>
          <p:cNvPicPr/>
          <p:nvPr/>
        </p:nvPicPr>
        <p:blipFill>
          <a:blip r:embed="rId1"/>
          <a:stretch/>
        </p:blipFill>
        <p:spPr>
          <a:xfrm>
            <a:off x="5052960" y="2355840"/>
            <a:ext cx="3944880" cy="276876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461-AA55-4EE8-8381-B26F98958A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1 MAC Protoco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0960" y="1980720"/>
            <a:ext cx="445608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802.11 CSMA Protocol: other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V: Network Alloc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802.11 frame has transmission time fiel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thers (hearing data) defer access for NAV time unit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0" name="1e" descr=""/>
          <p:cNvPicPr/>
          <p:nvPr/>
        </p:nvPicPr>
        <p:blipFill>
          <a:blip r:embed="rId4"/>
          <a:stretch/>
        </p:blipFill>
        <p:spPr>
          <a:xfrm>
            <a:off x="5076720" y="1981080"/>
            <a:ext cx="3878280" cy="272124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A56-60B3-4E70-9F67-4345194A44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 Hoc Network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26A-8433-4543-B56C-91D9CF32AE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n ad hoc net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collection of nodes that can communicate with each other without the use of existing infrastructure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ach node is a sender, a receiver,  and a rela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re are no “special nodes” (in principal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 specialized routers, no DNS server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des can be static or mobi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 be thought of us: peer-to-peer communic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A7A-408D-44D3-8598-28B550791AB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Ad hoc net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50840" y="1827000"/>
            <a:ext cx="4032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des have power ran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munication happens between nodes within ran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304920" cy="304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3581280"/>
            <a:ext cx="30456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057400"/>
            <a:ext cx="3049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666880"/>
            <a:ext cx="3049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970360"/>
            <a:ext cx="304920" cy="3045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514600"/>
            <a:ext cx="30456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200400"/>
            <a:ext cx="30456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809880"/>
            <a:ext cx="3049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048120"/>
            <a:ext cx="304560" cy="3045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505320"/>
            <a:ext cx="304920" cy="3045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886200"/>
            <a:ext cx="3049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362320"/>
            <a:ext cx="304920" cy="3045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895480"/>
            <a:ext cx="3049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581280"/>
            <a:ext cx="30456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657600"/>
            <a:ext cx="3049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523880"/>
            <a:ext cx="1828800" cy="1752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6FF-9E53-4900-8124-13F2545FE8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4:47:52Z</dcterms:created>
  <dc:creator>Michalis Faloutsos</dc:creator>
  <dc:description/>
  <dc:language>en-US</dc:language>
  <cp:lastModifiedBy>M Faloutsos</cp:lastModifiedBy>
  <dcterms:modified xsi:type="dcterms:W3CDTF">2005-04-07T04:38:09Z</dcterms:modified>
  <cp:revision>128</cp:revision>
  <dc:subject/>
  <dc:title>Challenging the Modeling Assumptions of Mobile Networks</dc:title>
</cp:coreProperties>
</file>