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7.png" ContentType="image/png"/>
  <Override PartName="/ppt/media/image5.pct" ContentType="image/x-pict"/>
  <Override PartName="/ppt/media/image6.jpeg" ContentType="image/jpeg"/>
  <Override PartName="/ppt/media/image8.png" ContentType="image/png"/>
  <Override PartName="/ppt/media/image9.png" ContentType="image/png"/>
  <Override PartName="/ppt/media/image11.pct" ContentType="image/x-pict"/>
  <Override PartName="/ppt/media/image10.jpeg" ContentType="image/jpeg"/>
  <Override PartName="/ppt/media/image12.pct" ContentType="image/x-pict"/>
  <Override PartName="/ppt/media/image13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82F-9813-4717-8A5A-A5BF5A83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EA2-E4A8-456E-BC52-06B1CB85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FDDD-F209-4EAE-8C89-AB5B75CD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C32-221C-417B-9ECC-AC517C08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AE9D-34B8-4349-B0DA-2DB476F9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C42-38FD-4271-A760-301B335F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018-792E-4F31-8CC3-E10BD57C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FEC-30B4-4E60-B7E8-B87BE405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DF9-7F7C-4DD7-AD38-B6902058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F93-9CD7-4CB5-B425-86B694F0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472-5F0A-42A7-A4EA-A0A562A8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4FB-1595-4415-8CBD-23471163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plication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6D26-6B3C-4A38-8601-B211190A2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image" Target="../media/image2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4.pct"/><Relationship Id="rId12" Type="http://schemas.openxmlformats.org/officeDocument/2006/relationships/image" Target="../media/image5.pct"/><Relationship Id="rId13" Type="http://schemas.openxmlformats.org/officeDocument/2006/relationships/image" Target="../media/image4.pct"/><Relationship Id="rId14" Type="http://schemas.openxmlformats.org/officeDocument/2006/relationships/image" Target="../media/image5.pct"/><Relationship Id="rId15" Type="http://schemas.openxmlformats.org/officeDocument/2006/relationships/image" Target="../media/image4.pct"/><Relationship Id="rId16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ct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apter 2: Application Lay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ur goal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eptual, implementation aspects of network application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-layer service mod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-server paradig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er-to-peer paradig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19720" y="14414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rn about protocols by examining popular application-level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 / POP3 /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ing network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cket A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1F6-29C7-4F67-86C0-030F765215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 transport protocols servic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33160" y="14526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CP servi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connection-oriented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tup required between client and server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reliable transpor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tween sending and receiving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flow contro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der won’t overwhelm receiv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congestion contro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rottle sender when network overloa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does not provid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iming, minimum bandwidth guarante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34000" y="15620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UDP servi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reliable data transfer between sending and receiving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es not provide: connection setup, reliability, flow control, congestion control, timing, or bandwidth guarante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hy bother?  Why is there a UDP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28E-1975-4FBC-AAB2-5A65999A9D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onpersistent HTT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0" y="1114560"/>
            <a:ext cx="834408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se user enters UR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657000" y="2095560"/>
            <a:ext cx="3943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a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HTTP client initiates TCP connection to HTTP server (process) 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omeSchool.edu on por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0" name="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TT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lient sends HTTP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request messag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containing URL) into TCP connection socket. Message indicates that client wants obj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Department/home.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b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TT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rver at ho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omeSchool.edu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iting for TCP connection at port 80.  “accepts” connection, notifying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4724280" y="438156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TT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rver receives request message, forms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response messag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ntaining requested object, and sends message into its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flipH="1">
            <a:off x="3933360" y="512460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70640" y="594216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 flipH="1">
            <a:off x="4019040" y="316224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7247880" y="96840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ains tex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to 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eg im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00C-2AF3-4F9D-89A6-3DB35755165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onpersistent HTTP (cont.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1095120" y="2047680"/>
            <a:ext cx="3809880" cy="15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1" name="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s 1-5 repeated for each of 10 jpeg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TT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rver closes TCP conne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04920" y="3519360"/>
            <a:ext cx="34272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44000" y="338292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7F8-ADFF-4EF2-AB45-A4DEDA8629F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47320" y="228240"/>
            <a:ext cx="87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Internet apps:  application, transport protocol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312480" y="1773360"/>
            <a:ext cx="281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terminal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ulti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299040" y="1459080"/>
            <a:ext cx="2433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RealNetwor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Dialp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130800" y="1477800"/>
            <a:ext cx="2624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71440" y="2152800"/>
            <a:ext cx="7334280" cy="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23920" y="2743200"/>
            <a:ext cx="732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33640" y="3038400"/>
            <a:ext cx="72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43000" y="3333600"/>
            <a:ext cx="727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162080" y="3657600"/>
            <a:ext cx="725796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14560" y="4257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61920" y="5181480"/>
            <a:ext cx="73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C80-1060-4874-B70A-8C34DA7069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apter 2 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1 Principles of app layer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s and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.2 Web and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4 Electronic Ma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6 Socket programming with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7 Socket programming with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8 Building a Web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9 Content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Web ca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nt distribution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2P file sh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039-BD66-4691-85BF-3706AD90FA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eb and HTT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First some jarg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eb p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sists of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 can be HTML file, JPEG image, Java applet, audio file,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 page consists of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ase HTML-fi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hich includes several referenced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object is addressable by 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URL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198080" y="5008680"/>
            <a:ext cx="6839280" cy="1146960"/>
            <a:chOff x="1198080" y="5008680"/>
            <a:chExt cx="6839280" cy="1146960"/>
          </a:xfrm>
        </p:grpSpPr>
        <p:sp>
          <p:nvSpPr>
            <p:cNvPr id="629" name=""/>
            <p:cNvSpPr/>
            <p:nvPr/>
          </p:nvSpPr>
          <p:spPr>
            <a:xfrm>
              <a:off x="1198080" y="500868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www.someschool.edu/someDept/pic.g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6200000">
              <a:off x="2841480" y="3938040"/>
              <a:ext cx="90360" cy="330696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960"/>
                <a:gd name="textAreaBottom" fmla="*/ 3220920 h 33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6200000">
              <a:off x="6338880" y="3931920"/>
              <a:ext cx="90360" cy="330660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600"/>
                <a:gd name="textAreaBottom" fmla="*/ 3220560 h 33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12840" y="569592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st 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32400" y="5616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th 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8C7-03DE-4A5F-88AC-E402E58913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HTTP overview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TTP: hypertext transfer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’s application layer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/server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clien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rowser that requests, receives, “displays” Web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serv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eb server sends objects in response to requ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1.0: RFC 19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1.1: RFC 206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4924440" y="186048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4732560" y="2455920"/>
            <a:ext cx="12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lo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019840" y="455616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7498440" y="3836880"/>
            <a:ext cx="136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910640" y="2725560"/>
            <a:ext cx="504000" cy="1070640"/>
            <a:chOff x="7910640" y="2725560"/>
            <a:chExt cx="504000" cy="1070640"/>
          </a:xfrm>
        </p:grpSpPr>
        <p:sp>
          <p:nvSpPr>
            <p:cNvPr id="641" name=""/>
            <p:cNvSpPr/>
            <p:nvPr/>
          </p:nvSpPr>
          <p:spPr>
            <a:xfrm>
              <a:off x="7910640" y="354888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165880" y="2732400"/>
              <a:ext cx="231840" cy="82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13520" y="2966040"/>
              <a:ext cx="319680" cy="823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10640" y="272556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14640" y="2742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8233200" y="3548880"/>
              <a:ext cx="181440" cy="24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53840" y="3074400"/>
              <a:ext cx="212040" cy="474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984440" y="3217680"/>
              <a:ext cx="1609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5743440" y="2133720"/>
            <a:ext cx="2086200" cy="96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5800320" y="2333520"/>
            <a:ext cx="1971720" cy="90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5734080" y="3505320"/>
            <a:ext cx="2047680" cy="109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810400" y="3629160"/>
            <a:ext cx="2047680" cy="113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887000" y="5218200"/>
            <a:ext cx="139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c ru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vig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rot="1422000">
            <a:off x="6119280" y="229392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9906800">
            <a:off x="5910480" y="378972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1411200">
            <a:off x="5914440" y="274140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19861800">
            <a:off x="6095880" y="412164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752-04BC-4EBE-A66C-B1A2877E9D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781520" y="3400560"/>
            <a:ext cx="3957840" cy="303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TTP overview (continued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ses TC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initiates TCP connection (creates socket) to server, port 8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accepts TCP connection from 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messages (application-layer protocol messages) exchanged between browser (HTTP client) and Web server (HTTP serv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connection clos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28840" y="1561680"/>
            <a:ext cx="317196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TTP is “stateles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maintains no information about past client requ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4809960" y="3419640"/>
            <a:ext cx="37530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tocols that maintain “state” are complex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st history (state) must be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server/client crashes, their views of “state” may be inconsistent, must be reconc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593840" y="3160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C31-01F3-428A-83DF-0D6EE9025D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TTP connec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onpersistent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most one object is sent over a TCP conn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/1.0 uses nonpersistent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Persistent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e objects can be sent over single TCP connection between client and ser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/1.1 uses persistent connections in default m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9E34-7ADD-49B7-8F0D-4DFFFC8030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esponse time model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33520" y="1258920"/>
            <a:ext cx="409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finition of R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ime to send a small packet to travel from client to server and bac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Response tim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RTT to initiate TCP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RTT for HTTP request and first few bytes of HTTP response to retur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transmission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otal = 2RTT+transmit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588560" y="1260360"/>
            <a:ext cx="4217040" cy="4413960"/>
            <a:chOff x="4588560" y="1260360"/>
            <a:chExt cx="4217040" cy="441396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5694480" y="1665360"/>
              <a:ext cx="752400" cy="59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2" name=""/>
            <p:cNvGrpSpPr/>
            <p:nvPr/>
          </p:nvGrpSpPr>
          <p:grpSpPr>
            <a:xfrm>
              <a:off x="7593120" y="1260360"/>
              <a:ext cx="504000" cy="1070640"/>
              <a:chOff x="7593120" y="1260360"/>
              <a:chExt cx="504000" cy="1070640"/>
            </a:xfrm>
          </p:grpSpPr>
          <p:sp>
            <p:nvSpPr>
              <p:cNvPr id="673" name=""/>
              <p:cNvSpPr/>
              <p:nvPr/>
            </p:nvSpPr>
            <p:spPr>
              <a:xfrm>
                <a:off x="7593120" y="2083680"/>
                <a:ext cx="504000" cy="247320"/>
              </a:xfrm>
              <a:prstGeom prst="parallelogram">
                <a:avLst>
                  <a:gd name="adj" fmla="val 7850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848360" y="1267200"/>
                <a:ext cx="231840" cy="8226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96000" y="1500840"/>
                <a:ext cx="319680" cy="8233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93120" y="1260360"/>
                <a:ext cx="504000" cy="247320"/>
              </a:xfrm>
              <a:prstGeom prst="parallelogram">
                <a:avLst>
                  <a:gd name="adj" fmla="val 7850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097120" y="1277640"/>
                <a:ext cx="0" cy="80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7915680" y="2083680"/>
                <a:ext cx="181440" cy="24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636320" y="1609200"/>
                <a:ext cx="212040" cy="474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666920" y="1752480"/>
                <a:ext cx="160920" cy="1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6105600" y="2490840"/>
              <a:ext cx="0" cy="28321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96160" y="2484360"/>
              <a:ext cx="0" cy="288144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19640" y="2722680"/>
              <a:ext cx="168444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6105600" y="3160800"/>
              <a:ext cx="167328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13520" y="3668760"/>
              <a:ext cx="168444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6129360" y="4151160"/>
              <a:ext cx="1673280" cy="3794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875720" y="4067280"/>
              <a:ext cx="74520" cy="182520"/>
            </a:xfrm>
            <a:custGeom>
              <a:avLst/>
              <a:gdLst>
                <a:gd name="textAreaLeft" fmla="*/ 0 w 74520"/>
                <a:gd name="textAreaRight" fmla="*/ 27000 w 74520"/>
                <a:gd name="textAreaTop" fmla="*/ 4680 h 182520"/>
                <a:gd name="textAreaBottom" fmla="*/ 17784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10280" y="3760920"/>
              <a:ext cx="895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time t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transm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715000" y="2697120"/>
              <a:ext cx="390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588560" y="2406600"/>
              <a:ext cx="116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nitiate T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50000" y="2747880"/>
              <a:ext cx="128520" cy="8035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20880 h 803520"/>
                <a:gd name="textAreaBottom" fmla="*/ 782640 h 80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69040" y="295596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764320" y="3602160"/>
              <a:ext cx="35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15880" y="3298680"/>
              <a:ext cx="76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856120" y="3657600"/>
              <a:ext cx="128880" cy="803160"/>
            </a:xfrm>
            <a:custGeom>
              <a:avLst/>
              <a:gdLst>
                <a:gd name="textAreaLeft" fmla="*/ 82440 w 128880"/>
                <a:gd name="textAreaRight" fmla="*/ 128880 w 128880"/>
                <a:gd name="textAreaTop" fmla="*/ 20880 h 803160"/>
                <a:gd name="textAreaBottom" fmla="*/ 782280 h 80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387760" y="38782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5775480" y="459108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235480" y="4435560"/>
              <a:ext cx="86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eceiv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83840" y="533700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561800" y="531972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A17-9CF5-4EF1-9562-621355E2AB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ersistent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Nonpersistent HTTP issu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s 2 RTTs per ob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S must work and allocate host resources for each TCP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browsers often open parallel TCP connections to fetch referenced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Persistent 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leaves connection open after sending respon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sequent HTTP messages  between same client/server are sent over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428720" y="13921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Persistent without pipelin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issues new request only when previous response has been receiv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RTT for each referenced ob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Persistent with pipelin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ault in HTTP/1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sends requests as soon as it encounters a referenced ob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little as one RTT for all the referenced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296-2100-412F-BD1C-2FC0E9EF94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HTTP request messag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types of HTTP messages: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ques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TTP request messag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2926080" y="3444840"/>
            <a:ext cx="49050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 /somedir/page.html HTTP/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st: www.someschool.e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-agent: Mozilla/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ion: clo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-language:f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tra carriage return, line fe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7400" y="3103560"/>
            <a:ext cx="233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AD comm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8320" y="3314880"/>
            <a:ext cx="924120" cy="257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943360" y="3753000"/>
            <a:ext cx="226800" cy="1311120"/>
          </a:xfrm>
          <a:custGeom>
            <a:avLst/>
            <a:gdLst/>
            <a:ahLst/>
            <a:rect l="l" t="t" r="r" b="b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29240" y="4255920"/>
            <a:ext cx="10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162160" y="5324040"/>
            <a:ext cx="924120" cy="257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6480" y="5208480"/>
            <a:ext cx="216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e fe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dicates e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E73-8E38-44AE-AAB6-E7F82ECB4E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applications: some jarg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c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gram running within a h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in same host, two processes communicate using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r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defined by 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es running in different hosts communicate with 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pplication-layer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ser agen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rfaces with user “above” and network “below”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s user interface &amp; application-level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: brows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-mail: mail rea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eaming audio/video: media play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43C-84DE-46D3-B9A8-7AE4C2A991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 request message: general forma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120680" y="1649520"/>
            <a:ext cx="7512120" cy="377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CEA1-1602-4502-9E2E-51849EB1D20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Uploading form inpu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Post metho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page often includes form in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is uploaded to server in entity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495680" y="2393640"/>
            <a:ext cx="381024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URL metho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s GET meth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is uploaded in URL field of request lin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"/>
          <p:cNvSpPr/>
          <p:nvPr/>
        </p:nvSpPr>
        <p:spPr>
          <a:xfrm>
            <a:off x="2035080" y="4822920"/>
            <a:ext cx="68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ww.somesite.com/animalsearch?monkeys&amp;ban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5DC-AAAE-4AF6-8F9E-048C5AFEC6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thod typ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/1.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ke GET but user provides info (ie key word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ks server to leave requested object out of response (for debugging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/1.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loads file in entity body to path specified in URL fie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tes file specified in the URL fie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A56-8747-477B-AD66-EF03AB606D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HTTP response messag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3" name=""/>
          <p:cNvSpPr/>
          <p:nvPr/>
        </p:nvSpPr>
        <p:spPr>
          <a:xfrm>
            <a:off x="3183120" y="1987560"/>
            <a:ext cx="5819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1 200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ion 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: Thu, 06 Aug 1998 12:00:15 G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rver: Apache/1.3.0 (Uni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-Modified: Mon, 22 Jun 1998 …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t-Length: 68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65720" y="1407960"/>
            <a:ext cx="187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295360" y="1914480"/>
            <a:ext cx="924120" cy="257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95640" y="2349360"/>
            <a:ext cx="257040" cy="1859040"/>
          </a:xfrm>
          <a:custGeom>
            <a:avLst/>
            <a:gdLst/>
            <a:ahLst/>
            <a:rect l="l" t="t" r="r" b="b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95840" y="3017880"/>
            <a:ext cx="10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190600" y="4381560"/>
            <a:ext cx="924120" cy="257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30880" y="4361040"/>
            <a:ext cx="142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199-CF9F-4572-B550-1C5C586C19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HTTP response status cod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14440"/>
            <a:ext cx="7934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est succeeded, requested object later in this 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ested object moved, new location specified later in this message (Location: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est message not understood by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ested document not found on this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"/>
          <p:cNvSpPr/>
          <p:nvPr/>
        </p:nvSpPr>
        <p:spPr>
          <a:xfrm>
            <a:off x="523800" y="1324080"/>
            <a:ext cx="76867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first line in server-&gt;client response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few sample c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F4C-827B-49B3-AA11-0F1E560DD6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Trying out HTTP (client side) for yourself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90240" y="159084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Telnet to your favorite Web ser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4029120" y="2155680"/>
            <a:ext cx="51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ens TCP connection to port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efault HTTP server port) at www.eurecom.f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thing typed in s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port 80 at www.eurecom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9720" y="219060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elnet www.eurecom.fr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61800" y="36003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Type in a GET HTTP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85880" y="4202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ET /~ross/index.html HTTP/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873320" y="4098960"/>
            <a:ext cx="32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typing this in (hit carri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urn twice), you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minimal (but complet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T request to HTTP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29120" y="2162160"/>
            <a:ext cx="247680" cy="1181160"/>
          </a:xfrm>
          <a:custGeom>
            <a:avLst/>
            <a:gdLst/>
            <a:ahLst/>
            <a:rect l="l" t="t" r="r" b="b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829040" y="4067280"/>
            <a:ext cx="257400" cy="1190520"/>
          </a:xfrm>
          <a:custGeom>
            <a:avLst/>
            <a:gdLst/>
            <a:ahLst/>
            <a:rect l="l" t="t" r="r" b="b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1800" y="54291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Look at response message sent by HTTP serv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EE7-4BC0-4522-9EBA-ECBDA8C174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User-server interaction: authorizatio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60440" y="1339560"/>
            <a:ext cx="40860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uthorization 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trol access to server 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orization credentials: typically name, password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atele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lient must present authorization in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ac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qu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uthoriza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eader line in each requ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no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uthorization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eader, server refuses access, s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 authenticate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line in respon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4800600" y="199080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22240" y="145584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333920" y="14079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038560" y="1990800"/>
            <a:ext cx="2686320" cy="314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45040" y="1974960"/>
            <a:ext cx="2681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ual 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4828680" y="243828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162400" y="2411280"/>
            <a:ext cx="2505240" cy="55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83200" y="2374920"/>
            <a:ext cx="26431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1: authorization r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 authentic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09960" y="3581280"/>
            <a:ext cx="33055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4998960" y="3384720"/>
            <a:ext cx="2755440" cy="642600"/>
            <a:chOff x="4998960" y="3384720"/>
            <a:chExt cx="2755440" cy="642600"/>
          </a:xfrm>
        </p:grpSpPr>
        <p:sp>
          <p:nvSpPr>
            <p:cNvPr id="755" name=""/>
            <p:cNvSpPr/>
            <p:nvPr/>
          </p:nvSpPr>
          <p:spPr>
            <a:xfrm>
              <a:off x="5099760" y="3430440"/>
              <a:ext cx="2574720" cy="55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98960" y="3384720"/>
              <a:ext cx="27554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horization: &lt;cred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 flipH="1">
            <a:off x="4800240" y="406728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5016600" y="4098960"/>
            <a:ext cx="2766960" cy="642600"/>
            <a:chOff x="5016600" y="4098960"/>
            <a:chExt cx="2766960" cy="642600"/>
          </a:xfrm>
        </p:grpSpPr>
        <p:sp>
          <p:nvSpPr>
            <p:cNvPr id="759" name=""/>
            <p:cNvSpPr/>
            <p:nvPr/>
          </p:nvSpPr>
          <p:spPr>
            <a:xfrm>
              <a:off x="5038920" y="4114440"/>
              <a:ext cx="268596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16600" y="4098960"/>
              <a:ext cx="276696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sponse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4781520" y="50673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5054760" y="4889520"/>
            <a:ext cx="2681280" cy="642600"/>
            <a:chOff x="5054760" y="4889520"/>
            <a:chExt cx="2681280" cy="642600"/>
          </a:xfrm>
        </p:grpSpPr>
        <p:sp>
          <p:nvSpPr>
            <p:cNvPr id="763" name=""/>
            <p:cNvSpPr/>
            <p:nvPr/>
          </p:nvSpPr>
          <p:spPr>
            <a:xfrm>
              <a:off x="5153040" y="4935600"/>
              <a:ext cx="250524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54760" y="4889520"/>
              <a:ext cx="268128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Authorization: &lt;cred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 flipH="1">
            <a:off x="4809960" y="5562720"/>
            <a:ext cx="3305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025960" y="5594400"/>
            <a:ext cx="2766960" cy="642600"/>
            <a:chOff x="5025960" y="5594400"/>
            <a:chExt cx="2766960" cy="642600"/>
          </a:xfrm>
        </p:grpSpPr>
        <p:sp>
          <p:nvSpPr>
            <p:cNvPr id="767" name=""/>
            <p:cNvSpPr/>
            <p:nvPr/>
          </p:nvSpPr>
          <p:spPr>
            <a:xfrm>
              <a:off x="5048280" y="5609880"/>
              <a:ext cx="2685960" cy="3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25960" y="5594400"/>
              <a:ext cx="276696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sponse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8467560" y="2019240"/>
            <a:ext cx="0" cy="4143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8111880" y="5504040"/>
            <a:ext cx="718560" cy="398880"/>
            <a:chOff x="8111880" y="5504040"/>
            <a:chExt cx="718560" cy="398880"/>
          </a:xfrm>
        </p:grpSpPr>
        <p:sp>
          <p:nvSpPr>
            <p:cNvPr id="771" name=""/>
            <p:cNvSpPr/>
            <p:nvPr/>
          </p:nvSpPr>
          <p:spPr>
            <a:xfrm>
              <a:off x="8201160" y="5600880"/>
              <a:ext cx="5716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111880" y="550404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FE01-20F8-4538-8B6E-1D3B3EE2EF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okies: keeping “state”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major Web sites use cook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Four componen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) cookie header line in the HTTP response 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) cookie header line in HTTP request 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cookie file kept on user’s host and managed by user’s brows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) back-end database at Web s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san access Internet always from same P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e visits a specific e-commerce site for first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initial HTTP requests arrives at site, site creates a unique ID and creates an entry in backend database for 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9C6-E075-4563-B117-D8F43FF9F6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okies: keeping “state” (cont.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2179080" y="1424160"/>
            <a:ext cx="4920840" cy="4830480"/>
            <a:chOff x="2179080" y="1424160"/>
            <a:chExt cx="4920840" cy="4830480"/>
          </a:xfrm>
        </p:grpSpPr>
        <p:sp>
          <p:nvSpPr>
            <p:cNvPr id="778" name=""/>
            <p:cNvSpPr/>
            <p:nvPr/>
          </p:nvSpPr>
          <p:spPr>
            <a:xfrm>
              <a:off x="2557080" y="20084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79080" y="1424160"/>
              <a:ext cx="95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623920" y="144468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95400" y="2008440"/>
              <a:ext cx="2685960" cy="31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01520" y="199260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585520" y="245592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19240" y="2428920"/>
              <a:ext cx="2504880" cy="557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39680" y="2392560"/>
              <a:ext cx="2643120" cy="67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sponse 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et-cookie: 1678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66800" y="359892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2830320" y="3402360"/>
              <a:ext cx="2681280" cy="673200"/>
              <a:chOff x="2830320" y="3402360"/>
              <a:chExt cx="2681280" cy="673200"/>
            </a:xfrm>
          </p:grpSpPr>
          <p:sp>
            <p:nvSpPr>
              <p:cNvPr id="788" name=""/>
              <p:cNvSpPr/>
              <p:nvPr/>
            </p:nvSpPr>
            <p:spPr>
              <a:xfrm>
                <a:off x="2928600" y="3448440"/>
                <a:ext cx="2505240" cy="55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830320" y="3402360"/>
                <a:ext cx="2681280" cy="67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ual http request ms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cookie: 167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 flipH="1">
              <a:off x="2556720" y="408492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2773080" y="4116600"/>
              <a:ext cx="2766960" cy="642600"/>
              <a:chOff x="2773080" y="4116600"/>
              <a:chExt cx="2766960" cy="642600"/>
            </a:xfrm>
          </p:grpSpPr>
          <p:sp>
            <p:nvSpPr>
              <p:cNvPr id="792" name=""/>
              <p:cNvSpPr/>
              <p:nvPr/>
            </p:nvSpPr>
            <p:spPr>
              <a:xfrm>
                <a:off x="2795400" y="41324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773080" y="4116600"/>
                <a:ext cx="2766960" cy="642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2538000" y="508500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2811240" y="4907160"/>
              <a:ext cx="2681280" cy="673200"/>
              <a:chOff x="2811240" y="4907160"/>
              <a:chExt cx="2681280" cy="673200"/>
            </a:xfrm>
          </p:grpSpPr>
          <p:sp>
            <p:nvSpPr>
              <p:cNvPr id="796" name=""/>
              <p:cNvSpPr/>
              <p:nvPr/>
            </p:nvSpPr>
            <p:spPr>
              <a:xfrm>
                <a:off x="2909520" y="4953240"/>
                <a:ext cx="2505240" cy="55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811240" y="4907160"/>
                <a:ext cx="2681280" cy="67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ual http request ms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cookie: 167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 flipH="1">
              <a:off x="2566440" y="558036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2782800" y="5612040"/>
              <a:ext cx="2766960" cy="642600"/>
              <a:chOff x="2782800" y="5612040"/>
              <a:chExt cx="2766960" cy="642600"/>
            </a:xfrm>
          </p:grpSpPr>
          <p:sp>
            <p:nvSpPr>
              <p:cNvPr id="800" name=""/>
              <p:cNvSpPr/>
              <p:nvPr/>
            </p:nvSpPr>
            <p:spPr>
              <a:xfrm>
                <a:off x="2805120" y="562788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82800" y="5612040"/>
                <a:ext cx="2766960" cy="642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>
              <a:off x="5939640" y="3559320"/>
              <a:ext cx="1066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cookie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speci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42160" y="5035680"/>
              <a:ext cx="1157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cookie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specti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5636160" y="2063880"/>
            <a:ext cx="177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reates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678 for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8388360" y="3319560"/>
            <a:ext cx="293760" cy="395280"/>
            <a:chOff x="8388360" y="3319560"/>
            <a:chExt cx="293760" cy="395280"/>
          </a:xfrm>
        </p:grpSpPr>
        <p:sp>
          <p:nvSpPr>
            <p:cNvPr id="806" name=""/>
            <p:cNvSpPr/>
            <p:nvPr/>
          </p:nvSpPr>
          <p:spPr>
            <a:xfrm>
              <a:off x="8388360" y="3319560"/>
              <a:ext cx="280800" cy="109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394480" y="3605400"/>
              <a:ext cx="281160" cy="109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682120" y="33562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8360" y="33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7485120" y="2685960"/>
            <a:ext cx="8668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2224800">
            <a:off x="7273800" y="2388960"/>
            <a:ext cx="15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y in back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7107120" y="3614760"/>
            <a:ext cx="1098720" cy="426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20455800">
            <a:off x="7408440" y="37720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7229520" y="3870000"/>
            <a:ext cx="1195200" cy="12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18871200">
            <a:off x="7685280" y="4446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20680" y="3309840"/>
            <a:ext cx="1787400" cy="933120"/>
            <a:chOff x="220680" y="3309840"/>
            <a:chExt cx="1787400" cy="933120"/>
          </a:xfrm>
        </p:grpSpPr>
        <p:sp>
          <p:nvSpPr>
            <p:cNvPr id="817" name=""/>
            <p:cNvSpPr/>
            <p:nvPr/>
          </p:nvSpPr>
          <p:spPr>
            <a:xfrm>
              <a:off x="220680" y="3321000"/>
              <a:ext cx="1787400" cy="914400"/>
            </a:xfrm>
            <a:prstGeom prst="parallelogram">
              <a:avLst>
                <a:gd name="adj" fmla="val 488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399240" y="3309840"/>
              <a:ext cx="1452960" cy="933120"/>
              <a:chOff x="399240" y="3309840"/>
              <a:chExt cx="1452960" cy="933120"/>
            </a:xfrm>
          </p:grpSpPr>
          <p:sp>
            <p:nvSpPr>
              <p:cNvPr id="819" name=""/>
              <p:cNvSpPr/>
              <p:nvPr/>
            </p:nvSpPr>
            <p:spPr>
              <a:xfrm>
                <a:off x="741960" y="3309840"/>
                <a:ext cx="111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okie fi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99240" y="3662280"/>
                <a:ext cx="1326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mazon: 167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bay: 873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1" name=""/>
          <p:cNvSpPr/>
          <p:nvPr/>
        </p:nvSpPr>
        <p:spPr>
          <a:xfrm>
            <a:off x="287280" y="2057400"/>
            <a:ext cx="1787760" cy="914400"/>
          </a:xfrm>
          <a:prstGeom prst="parallelogram">
            <a:avLst>
              <a:gd name="adj" fmla="val 488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464760" y="2033640"/>
            <a:ext cx="1453680" cy="933120"/>
            <a:chOff x="464760" y="2033640"/>
            <a:chExt cx="1453680" cy="933120"/>
          </a:xfrm>
        </p:grpSpPr>
        <p:sp>
          <p:nvSpPr>
            <p:cNvPr id="823" name=""/>
            <p:cNvSpPr/>
            <p:nvPr/>
          </p:nvSpPr>
          <p:spPr>
            <a:xfrm>
              <a:off x="808200" y="2033640"/>
              <a:ext cx="111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okie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64760" y="2386080"/>
              <a:ext cx="108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bay: 87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262080" y="4989600"/>
            <a:ext cx="1787400" cy="933120"/>
            <a:chOff x="262080" y="4989600"/>
            <a:chExt cx="1787400" cy="933120"/>
          </a:xfrm>
        </p:grpSpPr>
        <p:sp>
          <p:nvSpPr>
            <p:cNvPr id="826" name=""/>
            <p:cNvSpPr/>
            <p:nvPr/>
          </p:nvSpPr>
          <p:spPr>
            <a:xfrm>
              <a:off x="262080" y="5000760"/>
              <a:ext cx="1787400" cy="914400"/>
            </a:xfrm>
            <a:prstGeom prst="parallelogram">
              <a:avLst>
                <a:gd name="adj" fmla="val 488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440640" y="4989600"/>
              <a:ext cx="1452960" cy="933120"/>
              <a:chOff x="440640" y="4989600"/>
              <a:chExt cx="1452960" cy="933120"/>
            </a:xfrm>
          </p:grpSpPr>
          <p:sp>
            <p:nvSpPr>
              <p:cNvPr id="828" name=""/>
              <p:cNvSpPr/>
              <p:nvPr/>
            </p:nvSpPr>
            <p:spPr>
              <a:xfrm>
                <a:off x="783360" y="4989600"/>
                <a:ext cx="111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okie fi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0640" y="5342040"/>
                <a:ext cx="1326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mazon: 167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bay: 873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0" name=""/>
          <p:cNvSpPr/>
          <p:nvPr/>
        </p:nvSpPr>
        <p:spPr>
          <a:xfrm>
            <a:off x="191520" y="448452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E5B-DF44-4D5E-BE1C-8AEE7081EB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okies (continued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33160" y="14778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What cookies can br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pping car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session state (Web e-mai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4911840" y="1411200"/>
            <a:ext cx="3809880" cy="46483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okies and privac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kies permit sites to learn a lot about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may supply name and e-mail to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arch engines use  redirection &amp; cookies to learn yet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vertising  companies  obtain info across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315200" y="1177920"/>
            <a:ext cx="81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E70-C864-46E1-9A8E-9F6762FAB9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pplications and application-layer protocol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8120" y="1399680"/>
            <a:ext cx="419112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: communicating, distributed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, e-mail, Web, P2P file sharing, instant messag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ning in end systems (hosts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 messages to implement appl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-layer protoc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“piece” of an ap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fine messages exchanged by apps and actions tak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communication services provided by lower layer protocols (TCP, UD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908600" y="1876320"/>
            <a:ext cx="3678120" cy="3670560"/>
            <a:chOff x="4908600" y="1876320"/>
            <a:chExt cx="3678120" cy="3670560"/>
          </a:xfrm>
        </p:grpSpPr>
        <p:sp>
          <p:nvSpPr>
            <p:cNvPr id="50" name=""/>
            <p:cNvSpPr/>
            <p:nvPr/>
          </p:nvSpPr>
          <p:spPr>
            <a:xfrm>
              <a:off x="6788160" y="2019240"/>
              <a:ext cx="1798560" cy="167472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08600" y="1876320"/>
              <a:ext cx="1866960" cy="158904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276880" y="3327480"/>
              <a:ext cx="2975040" cy="221940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5025960" y="2011320"/>
              <a:ext cx="732960" cy="318960"/>
              <a:chOff x="5025960" y="2011320"/>
              <a:chExt cx="732960" cy="318960"/>
            </a:xfrm>
          </p:grpSpPr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5960" y="2011320"/>
                <a:ext cx="4161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79560" y="212940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flipV="1">
                <a:off x="5432400" y="225288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025960" y="2606760"/>
              <a:ext cx="732960" cy="318960"/>
              <a:chOff x="5025960" y="2606760"/>
              <a:chExt cx="732960" cy="318960"/>
            </a:xfrm>
          </p:grpSpPr>
          <p:pic>
            <p:nvPicPr>
              <p:cNvPr id="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5960" y="2606760"/>
                <a:ext cx="4161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79560" y="272484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flipV="1">
                <a:off x="5432400" y="284832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402160" y="2394000"/>
              <a:ext cx="69480" cy="214200"/>
              <a:chOff x="5402160" y="2394000"/>
              <a:chExt cx="69480" cy="214200"/>
            </a:xfrm>
          </p:grpSpPr>
          <p:sp>
            <p:nvSpPr>
              <p:cNvPr id="62" name=""/>
              <p:cNvSpPr/>
              <p:nvPr/>
            </p:nvSpPr>
            <p:spPr>
              <a:xfrm>
                <a:off x="5402160" y="2394000"/>
                <a:ext cx="6408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404680" y="2471040"/>
                <a:ext cx="6408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407560" y="2548080"/>
                <a:ext cx="6408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872320" y="2897280"/>
              <a:ext cx="209520" cy="394920"/>
              <a:chOff x="5872320" y="2897280"/>
              <a:chExt cx="209520" cy="394920"/>
            </a:xfrm>
          </p:grpSpPr>
          <p:sp>
            <p:nvSpPr>
              <p:cNvPr id="66" name=""/>
              <p:cNvSpPr/>
              <p:nvPr/>
            </p:nvSpPr>
            <p:spPr>
              <a:xfrm>
                <a:off x="5872320" y="320112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978520" y="289980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873400" y="298584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72320" y="289728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81840" y="290340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6005880" y="320112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890320" y="3025800"/>
                <a:ext cx="8784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02920" y="307872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108840" y="3050640"/>
              <a:ext cx="233280" cy="81000"/>
              <a:chOff x="6108840" y="3050640"/>
              <a:chExt cx="233280" cy="81000"/>
            </a:xfrm>
          </p:grpSpPr>
          <p:sp>
            <p:nvSpPr>
              <p:cNvPr id="75" name=""/>
              <p:cNvSpPr/>
              <p:nvPr/>
            </p:nvSpPr>
            <p:spPr>
              <a:xfrm rot="16200000">
                <a:off x="6104160" y="306144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6200000">
                <a:off x="6188040" y="305820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6200000">
                <a:off x="6271920" y="305496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6008760" y="2805120"/>
              <a:ext cx="495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12000" y="2801880"/>
              <a:ext cx="1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07000" y="280044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08520" y="2265480"/>
              <a:ext cx="28908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721480" y="2550960"/>
              <a:ext cx="27612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248520" y="2637000"/>
              <a:ext cx="14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367320" y="2874960"/>
              <a:ext cx="209520" cy="394920"/>
              <a:chOff x="6367320" y="2874960"/>
              <a:chExt cx="209520" cy="394920"/>
            </a:xfrm>
          </p:grpSpPr>
          <p:sp>
            <p:nvSpPr>
              <p:cNvPr id="85" name=""/>
              <p:cNvSpPr/>
              <p:nvPr/>
            </p:nvSpPr>
            <p:spPr>
              <a:xfrm>
                <a:off x="6367320" y="317880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73520" y="287748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368400" y="296352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67320" y="287496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76840" y="288108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500880" y="317880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85320" y="3003480"/>
                <a:ext cx="8784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397920" y="305640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5410080" y="3494160"/>
              <a:ext cx="479160" cy="925200"/>
              <a:chOff x="5410080" y="3494160"/>
              <a:chExt cx="479160" cy="925200"/>
            </a:xfrm>
          </p:grpSpPr>
          <p:pic>
            <p:nvPicPr>
              <p:cNvPr id="9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10080" y="349416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flipV="1">
                <a:off x="5816880" y="37407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0080" y="408888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 flipV="1">
                <a:off x="5816880" y="433908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5535360" y="3835440"/>
                <a:ext cx="70560" cy="222480"/>
                <a:chOff x="5535360" y="3835440"/>
                <a:chExt cx="70560" cy="2224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535360" y="3835440"/>
                  <a:ext cx="65160" cy="62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537880" y="391536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40760" y="399564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5883840" y="3737880"/>
                <a:ext cx="0" cy="60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3" name="" descr=""/>
            <p:cNvPicPr/>
            <p:nvPr/>
          </p:nvPicPr>
          <p:blipFill>
            <a:blip r:embed="rId7"/>
            <a:stretch/>
          </p:blipFill>
          <p:spPr>
            <a:xfrm>
              <a:off x="6278400" y="4503600"/>
              <a:ext cx="4176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8"/>
            <a:stretch/>
          </p:blipFill>
          <p:spPr>
            <a:xfrm>
              <a:off x="5664240" y="4492800"/>
              <a:ext cx="415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16200000">
              <a:off x="6080760" y="4596480"/>
              <a:ext cx="6336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6165720" y="4593960"/>
              <a:ext cx="63720" cy="666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6243480" y="4598640"/>
              <a:ext cx="6192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532560" y="4449600"/>
              <a:ext cx="1440" cy="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908680" y="4438800"/>
              <a:ext cx="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910120" y="4444920"/>
              <a:ext cx="6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889600" y="4070520"/>
              <a:ext cx="936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91160" y="4116240"/>
              <a:ext cx="30348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286760" y="4113360"/>
              <a:ext cx="27936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9"/>
            <a:stretch/>
          </p:blipFill>
          <p:spPr>
            <a:xfrm>
              <a:off x="7464600" y="3665520"/>
              <a:ext cx="20304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0"/>
            <a:stretch/>
          </p:blipFill>
          <p:spPr>
            <a:xfrm>
              <a:off x="6127920" y="3746520"/>
              <a:ext cx="20304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208560" y="3521160"/>
              <a:ext cx="1354320" cy="30456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475320" y="4943520"/>
              <a:ext cx="406080" cy="426960"/>
              <a:chOff x="6475320" y="4943520"/>
              <a:chExt cx="406080" cy="426960"/>
            </a:xfrm>
          </p:grpSpPr>
          <p:pic>
            <p:nvPicPr>
              <p:cNvPr id="11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75320" y="494352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35080" y="505548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" name=""/>
            <p:cNvGrpSpPr/>
            <p:nvPr/>
          </p:nvGrpSpPr>
          <p:grpSpPr>
            <a:xfrm>
              <a:off x="7253280" y="4975200"/>
              <a:ext cx="406080" cy="426960"/>
              <a:chOff x="7253280" y="4975200"/>
              <a:chExt cx="406080" cy="426960"/>
            </a:xfrm>
          </p:grpSpPr>
          <p:pic>
            <p:nvPicPr>
              <p:cNvPr id="12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53280" y="497520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13040" y="508716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" name=""/>
            <p:cNvGrpSpPr/>
            <p:nvPr/>
          </p:nvGrpSpPr>
          <p:grpSpPr>
            <a:xfrm>
              <a:off x="6838920" y="4691160"/>
              <a:ext cx="379440" cy="376200"/>
              <a:chOff x="6838920" y="4691160"/>
              <a:chExt cx="379440" cy="376200"/>
            </a:xfrm>
          </p:grpSpPr>
          <p:pic>
            <p:nvPicPr>
              <p:cNvPr id="12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38920" y="4691160"/>
                <a:ext cx="37944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6949080" y="4823280"/>
                <a:ext cx="26748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7145280" y="4594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7866000" y="4017960"/>
              <a:ext cx="208080" cy="409680"/>
              <a:chOff x="7866000" y="4017960"/>
              <a:chExt cx="208080" cy="409680"/>
            </a:xfrm>
          </p:grpSpPr>
          <p:sp>
            <p:nvSpPr>
              <p:cNvPr id="128" name=""/>
              <p:cNvSpPr/>
              <p:nvPr/>
            </p:nvSpPr>
            <p:spPr>
              <a:xfrm>
                <a:off x="7866000" y="43329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71120" y="402048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867080" y="410976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866000" y="40179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074080" y="40244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7998840" y="43329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883640" y="415116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96240" y="42058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7853400" y="4462560"/>
              <a:ext cx="208080" cy="408960"/>
              <a:chOff x="7853400" y="4462560"/>
              <a:chExt cx="208080" cy="408960"/>
            </a:xfrm>
          </p:grpSpPr>
          <p:sp>
            <p:nvSpPr>
              <p:cNvPr id="137" name=""/>
              <p:cNvSpPr/>
              <p:nvPr/>
            </p:nvSpPr>
            <p:spPr>
              <a:xfrm>
                <a:off x="7853400" y="477720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58520" y="446508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54480" y="4554360"/>
                <a:ext cx="13176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853400" y="446256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061480" y="446904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986240" y="477720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71040" y="459576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83640" y="46504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7785000" y="4086000"/>
              <a:ext cx="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81760" y="4695840"/>
              <a:ext cx="1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8880" y="4219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502320" y="2315880"/>
              <a:ext cx="45900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37600" y="2300400"/>
              <a:ext cx="48564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956720" y="2637000"/>
              <a:ext cx="241200" cy="68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86680" y="24130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1880" y="306072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671960" y="3525840"/>
              <a:ext cx="2667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445520" y="2604960"/>
              <a:ext cx="560160" cy="3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454520" y="2044800"/>
              <a:ext cx="35100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8172360" y="2220840"/>
              <a:ext cx="20160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983200" y="2413080"/>
              <a:ext cx="501840" cy="232920"/>
              <a:chOff x="5983200" y="2413080"/>
              <a:chExt cx="501840" cy="232920"/>
            </a:xfrm>
          </p:grpSpPr>
          <p:sp>
            <p:nvSpPr>
              <p:cNvPr id="158" name=""/>
              <p:cNvSpPr/>
              <p:nvPr/>
            </p:nvSpPr>
            <p:spPr>
              <a:xfrm>
                <a:off x="5987160" y="251712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87160" y="250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85040" y="250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87160" y="25059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83200" y="24130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6102720" y="2445840"/>
                <a:ext cx="246240" cy="88200"/>
                <a:chOff x="6102720" y="2445840"/>
                <a:chExt cx="246240" cy="88200"/>
              </a:xfrm>
            </p:grpSpPr>
            <p:sp>
              <p:nvSpPr>
                <p:cNvPr id="164" name=""/>
                <p:cNvSpPr/>
                <p:nvPr/>
              </p:nvSpPr>
              <p:spPr>
                <a:xfrm flipV="1">
                  <a:off x="6102720" y="24458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271560" y="2534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183720" y="24480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102720" y="2445120"/>
                <a:ext cx="246240" cy="88200"/>
                <a:chOff x="6102720" y="2445120"/>
                <a:chExt cx="246240" cy="882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102720" y="2531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271560" y="2445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6183720" y="24451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" name=""/>
            <p:cNvGrpSpPr/>
            <p:nvPr/>
          </p:nvGrpSpPr>
          <p:grpSpPr>
            <a:xfrm>
              <a:off x="6935760" y="2184480"/>
              <a:ext cx="501840" cy="232920"/>
              <a:chOff x="6935760" y="2184480"/>
              <a:chExt cx="501840" cy="232920"/>
            </a:xfrm>
          </p:grpSpPr>
          <p:sp>
            <p:nvSpPr>
              <p:cNvPr id="172" name=""/>
              <p:cNvSpPr/>
              <p:nvPr/>
            </p:nvSpPr>
            <p:spPr>
              <a:xfrm>
                <a:off x="6939720" y="228852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939720" y="2277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37600" y="2277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39720" y="22773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35760" y="21844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7055280" y="2217240"/>
                <a:ext cx="246240" cy="88200"/>
                <a:chOff x="7055280" y="2217240"/>
                <a:chExt cx="246240" cy="88200"/>
              </a:xfrm>
            </p:grpSpPr>
            <p:sp>
              <p:nvSpPr>
                <p:cNvPr id="178" name=""/>
                <p:cNvSpPr/>
                <p:nvPr/>
              </p:nvSpPr>
              <p:spPr>
                <a:xfrm flipV="1">
                  <a:off x="7055280" y="2217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224120" y="2305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136280" y="2219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7055280" y="2216520"/>
                <a:ext cx="246240" cy="88200"/>
                <a:chOff x="7055280" y="2216520"/>
                <a:chExt cx="246240" cy="882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7055280" y="23029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224120" y="22165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7136280" y="22165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5" name=""/>
            <p:cNvGrpSpPr/>
            <p:nvPr/>
          </p:nvGrpSpPr>
          <p:grpSpPr>
            <a:xfrm>
              <a:off x="6953400" y="2841480"/>
              <a:ext cx="501480" cy="233280"/>
              <a:chOff x="6953400" y="2841480"/>
              <a:chExt cx="501480" cy="233280"/>
            </a:xfrm>
          </p:grpSpPr>
          <p:sp>
            <p:nvSpPr>
              <p:cNvPr id="186" name=""/>
              <p:cNvSpPr/>
              <p:nvPr/>
            </p:nvSpPr>
            <p:spPr>
              <a:xfrm>
                <a:off x="6957360" y="294552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57360" y="29347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54880" y="29347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57360" y="293472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53400" y="28414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7072920" y="2874240"/>
                <a:ext cx="246240" cy="88560"/>
                <a:chOff x="7072920" y="2874240"/>
                <a:chExt cx="246240" cy="88560"/>
              </a:xfrm>
            </p:grpSpPr>
            <p:sp>
              <p:nvSpPr>
                <p:cNvPr id="192" name=""/>
                <p:cNvSpPr/>
                <p:nvPr/>
              </p:nvSpPr>
              <p:spPr>
                <a:xfrm flipV="1">
                  <a:off x="7072920" y="2874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241760" y="2962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153920" y="28764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072920" y="2873160"/>
                <a:ext cx="246240" cy="88560"/>
                <a:chOff x="7072920" y="2873160"/>
                <a:chExt cx="246240" cy="885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072920" y="29599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241760" y="28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7153920" y="287316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7923240" y="2392200"/>
              <a:ext cx="500040" cy="233280"/>
              <a:chOff x="7923240" y="2392200"/>
              <a:chExt cx="500040" cy="233280"/>
            </a:xfrm>
          </p:grpSpPr>
          <p:sp>
            <p:nvSpPr>
              <p:cNvPr id="200" name=""/>
              <p:cNvSpPr/>
              <p:nvPr/>
            </p:nvSpPr>
            <p:spPr>
              <a:xfrm>
                <a:off x="7927200" y="2496240"/>
                <a:ext cx="49572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927200" y="24854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423280" y="24854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927200" y="248544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23240" y="2392200"/>
                <a:ext cx="4953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042400" y="2424960"/>
                <a:ext cx="245520" cy="88560"/>
                <a:chOff x="8042400" y="2424960"/>
                <a:chExt cx="245520" cy="88560"/>
              </a:xfrm>
            </p:grpSpPr>
            <p:sp>
              <p:nvSpPr>
                <p:cNvPr id="206" name=""/>
                <p:cNvSpPr/>
                <p:nvPr/>
              </p:nvSpPr>
              <p:spPr>
                <a:xfrm flipV="1">
                  <a:off x="8042400" y="24249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210880" y="25135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123040" y="24271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8042400" y="2423880"/>
                <a:ext cx="245520" cy="88560"/>
                <a:chOff x="8042400" y="2423880"/>
                <a:chExt cx="245520" cy="885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8042400" y="2510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10880" y="24238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8123040" y="242388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7729560" y="3289320"/>
              <a:ext cx="501480" cy="232920"/>
              <a:chOff x="7729560" y="3289320"/>
              <a:chExt cx="501480" cy="232920"/>
            </a:xfrm>
          </p:grpSpPr>
          <p:sp>
            <p:nvSpPr>
              <p:cNvPr id="214" name=""/>
              <p:cNvSpPr/>
              <p:nvPr/>
            </p:nvSpPr>
            <p:spPr>
              <a:xfrm>
                <a:off x="7733520" y="339336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733520" y="33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231040" y="33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733520" y="33822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29560" y="32893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7849080" y="3322080"/>
                <a:ext cx="246240" cy="88200"/>
                <a:chOff x="7849080" y="3322080"/>
                <a:chExt cx="246240" cy="88200"/>
              </a:xfrm>
            </p:grpSpPr>
            <p:sp>
              <p:nvSpPr>
                <p:cNvPr id="220" name=""/>
                <p:cNvSpPr/>
                <p:nvPr/>
              </p:nvSpPr>
              <p:spPr>
                <a:xfrm flipV="1">
                  <a:off x="7849080" y="3322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8017920" y="3410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30080" y="3324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7849080" y="3321360"/>
                <a:ext cx="246240" cy="88200"/>
                <a:chOff x="7849080" y="3321360"/>
                <a:chExt cx="246240" cy="882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849080" y="3407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017920" y="3321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7930080" y="3321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7" name=""/>
            <p:cNvGrpSpPr/>
            <p:nvPr/>
          </p:nvGrpSpPr>
          <p:grpSpPr>
            <a:xfrm>
              <a:off x="7396200" y="3873600"/>
              <a:ext cx="501480" cy="234360"/>
              <a:chOff x="7396200" y="3873600"/>
              <a:chExt cx="501480" cy="234360"/>
            </a:xfrm>
          </p:grpSpPr>
          <p:sp>
            <p:nvSpPr>
              <p:cNvPr id="228" name=""/>
              <p:cNvSpPr/>
              <p:nvPr/>
            </p:nvSpPr>
            <p:spPr>
              <a:xfrm>
                <a:off x="7400160" y="3978000"/>
                <a:ext cx="497160" cy="129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400160" y="396720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897680" y="396720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400160" y="3967200"/>
                <a:ext cx="492840" cy="79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396200" y="3873600"/>
                <a:ext cx="496800" cy="151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7515720" y="3906720"/>
                <a:ext cx="246240" cy="88920"/>
                <a:chOff x="7515720" y="3906720"/>
                <a:chExt cx="246240" cy="88920"/>
              </a:xfrm>
            </p:grpSpPr>
            <p:sp>
              <p:nvSpPr>
                <p:cNvPr id="234" name=""/>
                <p:cNvSpPr/>
                <p:nvPr/>
              </p:nvSpPr>
              <p:spPr>
                <a:xfrm flipV="1">
                  <a:off x="7515720" y="3906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684560" y="3995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596720" y="390888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7515720" y="3905640"/>
                <a:ext cx="246240" cy="88920"/>
                <a:chOff x="7515720" y="3905640"/>
                <a:chExt cx="246240" cy="889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515720" y="3992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684560" y="3905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7596720" y="390564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" name=""/>
            <p:cNvGrpSpPr/>
            <p:nvPr/>
          </p:nvGrpSpPr>
          <p:grpSpPr>
            <a:xfrm>
              <a:off x="6786720" y="4362480"/>
              <a:ext cx="500040" cy="232920"/>
              <a:chOff x="6786720" y="4362480"/>
              <a:chExt cx="500040" cy="232920"/>
            </a:xfrm>
          </p:grpSpPr>
          <p:sp>
            <p:nvSpPr>
              <p:cNvPr id="242" name=""/>
              <p:cNvSpPr/>
              <p:nvPr/>
            </p:nvSpPr>
            <p:spPr>
              <a:xfrm>
                <a:off x="6790680" y="4466520"/>
                <a:ext cx="4957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90680" y="4455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286760" y="4455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90680" y="445536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86720" y="436248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6905880" y="4395240"/>
                <a:ext cx="245520" cy="88200"/>
                <a:chOff x="6905880" y="4395240"/>
                <a:chExt cx="245520" cy="88200"/>
              </a:xfrm>
            </p:grpSpPr>
            <p:sp>
              <p:nvSpPr>
                <p:cNvPr id="248" name=""/>
                <p:cNvSpPr/>
                <p:nvPr/>
              </p:nvSpPr>
              <p:spPr>
                <a:xfrm flipV="1">
                  <a:off x="6905880" y="43952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074360" y="448344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986520" y="43974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905880" y="4394520"/>
                <a:ext cx="245520" cy="88200"/>
                <a:chOff x="6905880" y="4394520"/>
                <a:chExt cx="245520" cy="882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905880" y="4480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074360" y="43945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6986520" y="43945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5983200" y="3986280"/>
              <a:ext cx="501840" cy="232920"/>
              <a:chOff x="5983200" y="3986280"/>
              <a:chExt cx="501840" cy="232920"/>
            </a:xfrm>
          </p:grpSpPr>
          <p:sp>
            <p:nvSpPr>
              <p:cNvPr id="256" name=""/>
              <p:cNvSpPr/>
              <p:nvPr/>
            </p:nvSpPr>
            <p:spPr>
              <a:xfrm>
                <a:off x="5987160" y="409032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987160" y="4079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485040" y="4079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87160" y="40791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983200" y="39862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6102720" y="4019040"/>
                <a:ext cx="246240" cy="88200"/>
                <a:chOff x="6102720" y="4019040"/>
                <a:chExt cx="246240" cy="88200"/>
              </a:xfrm>
            </p:grpSpPr>
            <p:sp>
              <p:nvSpPr>
                <p:cNvPr id="262" name=""/>
                <p:cNvSpPr/>
                <p:nvPr/>
              </p:nvSpPr>
              <p:spPr>
                <a:xfrm flipV="1">
                  <a:off x="6102720" y="4019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271560" y="4107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183720" y="40212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6102720" y="4018320"/>
                <a:ext cx="246240" cy="88200"/>
                <a:chOff x="6102720" y="4018320"/>
                <a:chExt cx="246240" cy="8820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6102720" y="4104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271560" y="4018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6183720" y="40183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9" name=""/>
            <p:cNvSpPr/>
            <p:nvPr/>
          </p:nvSpPr>
          <p:spPr>
            <a:xfrm flipV="1">
              <a:off x="6238800" y="4199040"/>
              <a:ext cx="180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740120" y="1500120"/>
            <a:ext cx="3738600" cy="3984480"/>
            <a:chOff x="4740120" y="1500120"/>
            <a:chExt cx="3738600" cy="3984480"/>
          </a:xfrm>
        </p:grpSpPr>
        <p:grpSp>
          <p:nvGrpSpPr>
            <p:cNvPr id="271" name=""/>
            <p:cNvGrpSpPr/>
            <p:nvPr/>
          </p:nvGrpSpPr>
          <p:grpSpPr>
            <a:xfrm>
              <a:off x="4740120" y="1500120"/>
              <a:ext cx="814320" cy="1012680"/>
              <a:chOff x="4740120" y="1500120"/>
              <a:chExt cx="814320" cy="1012680"/>
            </a:xfrm>
          </p:grpSpPr>
          <p:sp>
            <p:nvSpPr>
              <p:cNvPr id="272" name=""/>
              <p:cNvSpPr/>
              <p:nvPr/>
            </p:nvSpPr>
            <p:spPr>
              <a:xfrm>
                <a:off x="4838400" y="1500120"/>
                <a:ext cx="67644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05280" y="152424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09960" y="152892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740120" y="150516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05280" y="18669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14640" y="20052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14640" y="21430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664400" y="4367160"/>
              <a:ext cx="814320" cy="1012680"/>
              <a:chOff x="7664400" y="4367160"/>
              <a:chExt cx="814320" cy="1012680"/>
            </a:xfrm>
          </p:grpSpPr>
          <p:sp>
            <p:nvSpPr>
              <p:cNvPr id="280" name=""/>
              <p:cNvSpPr/>
              <p:nvPr/>
            </p:nvSpPr>
            <p:spPr>
              <a:xfrm>
                <a:off x="7762680" y="4367160"/>
                <a:ext cx="67644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29560" y="439128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734240" y="439596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64400" y="4372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729560" y="47340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38920" y="4872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38920" y="501012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321160" y="4471920"/>
              <a:ext cx="814320" cy="1012680"/>
              <a:chOff x="5321160" y="4471920"/>
              <a:chExt cx="814320" cy="1012680"/>
            </a:xfrm>
          </p:grpSpPr>
          <p:sp>
            <p:nvSpPr>
              <p:cNvPr id="288" name=""/>
              <p:cNvSpPr/>
              <p:nvPr/>
            </p:nvSpPr>
            <p:spPr>
              <a:xfrm>
                <a:off x="5419440" y="4471920"/>
                <a:ext cx="67644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386320" y="449604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91000" y="450072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21160" y="447696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386320" y="48387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395680" y="49770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395680" y="51148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5524560" y="1619280"/>
              <a:ext cx="2190600" cy="2847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105600" y="4524480"/>
              <a:ext cx="1590480" cy="56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3A5-D4C4-4D2D-BB11-BABB8D55CA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nditional GET: client-side cach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590480"/>
            <a:ext cx="404496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on’t send object if client has up-to-date cached ver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: specify date of cached copy in HTTP requ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: response contains no object if cached copy is up-to-dat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"/>
          <p:cNvSpPr/>
          <p:nvPr/>
        </p:nvSpPr>
        <p:spPr>
          <a:xfrm>
            <a:off x="427680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889080" y="143676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333920" y="14079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83160" y="1998720"/>
            <a:ext cx="2681280" cy="85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4295520" y="31050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4564080" y="3098880"/>
            <a:ext cx="2643120" cy="855000"/>
            <a:chOff x="4564080" y="3098880"/>
            <a:chExt cx="2643120" cy="855000"/>
          </a:xfrm>
        </p:grpSpPr>
        <p:sp>
          <p:nvSpPr>
            <p:cNvPr id="843" name=""/>
            <p:cNvSpPr/>
            <p:nvPr/>
          </p:nvSpPr>
          <p:spPr>
            <a:xfrm>
              <a:off x="4662360" y="315468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564080" y="309888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TTP respo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7572600" y="2360520"/>
            <a:ext cx="124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d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00640" y="4172040"/>
            <a:ext cx="390528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343400" y="44672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87840" y="4351320"/>
            <a:ext cx="2681280" cy="85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436212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606920" y="5402160"/>
            <a:ext cx="2643120" cy="9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639200" y="4808520"/>
            <a:ext cx="124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d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E40-BD6E-4FDF-847A-5A973270A7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apter 2 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1 Principles of app layer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s and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2 Web and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4 Electronic Ma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6 Socket programming with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7 Socket programming with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8 Building a Web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9 Content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Web ca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nt distribution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2P file sh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DF7-7009-4241-9266-0499FC8D5C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FTP: the file transfer protoco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028880" y="3704760"/>
            <a:ext cx="74577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 file to/from remote h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/server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clien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ide that initiates transfer (either to/from remo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serv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mote h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tp: RFC 95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tp server: port 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3313080" y="1574640"/>
            <a:ext cx="776160" cy="623880"/>
          </a:xfrm>
          <a:prstGeom prst="rect">
            <a:avLst/>
          </a:prstGeom>
          <a:ln w="0">
            <a:noFill/>
          </a:ln>
        </p:spPr>
      </p:pic>
      <p:grpSp>
        <p:nvGrpSpPr>
          <p:cNvPr id="859" name=""/>
          <p:cNvGrpSpPr/>
          <p:nvPr/>
        </p:nvGrpSpPr>
        <p:grpSpPr>
          <a:xfrm>
            <a:off x="6764400" y="1413000"/>
            <a:ext cx="355320" cy="932760"/>
            <a:chOff x="6764400" y="1413000"/>
            <a:chExt cx="355320" cy="932760"/>
          </a:xfrm>
        </p:grpSpPr>
        <p:sp>
          <p:nvSpPr>
            <p:cNvPr id="860" name=""/>
            <p:cNvSpPr/>
            <p:nvPr/>
          </p:nvSpPr>
          <p:spPr>
            <a:xfrm>
              <a:off x="6764400" y="21301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944400" y="14191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66200" y="16221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64400" y="1413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119720" y="14281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6991200" y="21301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95000" y="17168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16240" y="18414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4352760" y="2190600"/>
            <a:ext cx="2210040" cy="9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75000" y="1874880"/>
            <a:ext cx="24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file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6522840" y="1866960"/>
            <a:ext cx="777960" cy="828720"/>
            <a:chOff x="6522840" y="1866960"/>
            <a:chExt cx="777960" cy="828720"/>
          </a:xfrm>
        </p:grpSpPr>
        <p:sp>
          <p:nvSpPr>
            <p:cNvPr id="871" name=""/>
            <p:cNvSpPr/>
            <p:nvPr/>
          </p:nvSpPr>
          <p:spPr>
            <a:xfrm>
              <a:off x="6562440" y="1866960"/>
              <a:ext cx="70452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522840" y="1989000"/>
              <a:ext cx="77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2583000" y="1857240"/>
            <a:ext cx="1789200" cy="851040"/>
            <a:chOff x="2583000" y="1857240"/>
            <a:chExt cx="1789200" cy="851040"/>
          </a:xfrm>
        </p:grpSpPr>
        <p:sp>
          <p:nvSpPr>
            <p:cNvPr id="874" name=""/>
            <p:cNvSpPr/>
            <p:nvPr/>
          </p:nvSpPr>
          <p:spPr>
            <a:xfrm>
              <a:off x="3667320" y="1857240"/>
              <a:ext cx="70488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676600" y="1866960"/>
              <a:ext cx="961920" cy="828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583000" y="1884240"/>
              <a:ext cx="117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669120" y="1979640"/>
              <a:ext cx="69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3219480" y="2695680"/>
            <a:ext cx="1674360" cy="712440"/>
            <a:chOff x="3219480" y="2695680"/>
            <a:chExt cx="1674360" cy="712440"/>
          </a:xfrm>
        </p:grpSpPr>
        <p:grpSp>
          <p:nvGrpSpPr>
            <p:cNvPr id="879" name=""/>
            <p:cNvGrpSpPr/>
            <p:nvPr/>
          </p:nvGrpSpPr>
          <p:grpSpPr>
            <a:xfrm>
              <a:off x="3363480" y="2805120"/>
              <a:ext cx="501120" cy="496440"/>
              <a:chOff x="3363480" y="2805120"/>
              <a:chExt cx="501120" cy="496440"/>
            </a:xfrm>
          </p:grpSpPr>
          <p:sp>
            <p:nvSpPr>
              <p:cNvPr id="880" name=""/>
              <p:cNvSpPr/>
              <p:nvPr/>
            </p:nvSpPr>
            <p:spPr>
              <a:xfrm>
                <a:off x="3366360" y="3173040"/>
                <a:ext cx="491760" cy="1285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368160" y="2898360"/>
                <a:ext cx="496440" cy="339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363840" y="2805120"/>
                <a:ext cx="496440" cy="1504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858480" y="2881080"/>
                <a:ext cx="1440" cy="36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3363480" y="2887560"/>
                <a:ext cx="1080" cy="36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3817800" y="2827440"/>
              <a:ext cx="1076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ocal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19480" y="2695680"/>
              <a:ext cx="32364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 flipH="1">
            <a:off x="3714840" y="2685960"/>
            <a:ext cx="333360" cy="438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6659640" y="2824200"/>
            <a:ext cx="501480" cy="496440"/>
            <a:chOff x="6659640" y="2824200"/>
            <a:chExt cx="501480" cy="496440"/>
          </a:xfrm>
        </p:grpSpPr>
        <p:sp>
          <p:nvSpPr>
            <p:cNvPr id="889" name=""/>
            <p:cNvSpPr/>
            <p:nvPr/>
          </p:nvSpPr>
          <p:spPr>
            <a:xfrm>
              <a:off x="6662520" y="3192120"/>
              <a:ext cx="492120" cy="128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64320" y="2917440"/>
              <a:ext cx="496800" cy="339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59640" y="2824200"/>
              <a:ext cx="496800" cy="150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154640" y="2900160"/>
              <a:ext cx="1800" cy="36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6659640" y="2906640"/>
              <a:ext cx="1440" cy="36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7161120" y="2789280"/>
            <a:ext cx="14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mote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915240" y="2695680"/>
            <a:ext cx="0" cy="428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1490760" y="19098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1379520" y="2617920"/>
            <a:ext cx="9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28960" y="230508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93F-6421-490C-AEE3-FF5688C899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FTP: separate control, data connectio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66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TP client contacts FTP server at port 21, specifying TCP as transport protoc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 obtains authorization over control conne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 browses remote directory by sending commands over control connec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server receives a command for a file transfer, the server opens a TCP data connection to cli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fter transferring one file, server closes connec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756320" y="1373040"/>
            <a:ext cx="3985560" cy="1884960"/>
            <a:chOff x="4756320" y="1373040"/>
            <a:chExt cx="3985560" cy="1884960"/>
          </a:xfrm>
        </p:grpSpPr>
        <p:pic>
          <p:nvPicPr>
            <p:cNvPr id="902" name="" descr=""/>
            <p:cNvPicPr/>
            <p:nvPr/>
          </p:nvPicPr>
          <p:blipFill>
            <a:blip r:embed="rId1"/>
            <a:stretch/>
          </p:blipFill>
          <p:spPr>
            <a:xfrm>
              <a:off x="4756320" y="1873080"/>
              <a:ext cx="77616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3" name=""/>
            <p:cNvGrpSpPr/>
            <p:nvPr/>
          </p:nvGrpSpPr>
          <p:grpSpPr>
            <a:xfrm>
              <a:off x="8169480" y="1654200"/>
              <a:ext cx="354960" cy="932760"/>
              <a:chOff x="8169480" y="1654200"/>
              <a:chExt cx="354960" cy="932760"/>
            </a:xfrm>
          </p:grpSpPr>
          <p:sp>
            <p:nvSpPr>
              <p:cNvPr id="904" name=""/>
              <p:cNvSpPr/>
              <p:nvPr/>
            </p:nvSpPr>
            <p:spPr>
              <a:xfrm>
                <a:off x="8169480" y="237132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349120" y="16603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171280" y="1863360"/>
                <a:ext cx="22500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169480" y="165420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524440" y="16693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8396280" y="2371320"/>
                <a:ext cx="12780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200080" y="195804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221320" y="20826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4795920" y="2544480"/>
              <a:ext cx="82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812720" y="2554200"/>
              <a:ext cx="92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19880" y="2022480"/>
              <a:ext cx="25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5538960" y="2336760"/>
              <a:ext cx="2562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613480" y="1373040"/>
              <a:ext cx="240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TCP control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port 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565960" y="2411280"/>
              <a:ext cx="240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TCP data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port 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4703760" y="3436920"/>
            <a:ext cx="406728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opens a second TCP data connection to transfer another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ol connection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“out of ban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TP server maintains “state”: current directory, earlier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11B-0A39-414F-AF56-F27825B56FF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FTP commands, respons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ample command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t as ASCII text over control chan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user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asswo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 list of file in current direct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 file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rieves (gets) f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 file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s (puts) file onto remote h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ample return c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us code and phrase (as in HTT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31 Username OK, password requi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5 data connection already open; transfer star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25 Can’t open data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52 Error writing f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DAA-4ED1-41D9-A952-FB9CBD78C9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apter 2 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1 Principles of app layer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s and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2 Web and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.4 Electronic Ma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6 Socket programming with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7 Socket programming with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8 Building a Web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9 Content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Web ca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nt distribution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2P file sh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75D-D5EC-4E83-8176-AE2D3CEE7D7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lectronic Mai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49000" y="136368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ree major component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agen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l serv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874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mail transfer protocol: SM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874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User Ag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k.a. “mail reader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sing, editing, reading mail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Eudora, Outlook, elm, Netscape Messen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going, incoming messages stored on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"/>
          <p:cNvSpPr/>
          <p:nvPr/>
        </p:nvSpPr>
        <p:spPr>
          <a:xfrm>
            <a:off x="6877080" y="600120"/>
            <a:ext cx="1828800" cy="9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6953400" y="569880"/>
            <a:ext cx="1793880" cy="956520"/>
            <a:chOff x="6953400" y="569880"/>
            <a:chExt cx="1793880" cy="956520"/>
          </a:xfrm>
        </p:grpSpPr>
        <p:sp>
          <p:nvSpPr>
            <p:cNvPr id="929" name=""/>
            <p:cNvSpPr/>
            <p:nvPr/>
          </p:nvSpPr>
          <p:spPr>
            <a:xfrm>
              <a:off x="7266600" y="1189080"/>
              <a:ext cx="141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 mail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6953400" y="685800"/>
              <a:ext cx="714240" cy="190440"/>
              <a:chOff x="6953400" y="685800"/>
              <a:chExt cx="714240" cy="190440"/>
            </a:xfrm>
          </p:grpSpPr>
          <p:sp>
            <p:nvSpPr>
              <p:cNvPr id="931" name=""/>
              <p:cNvSpPr/>
              <p:nvPr/>
            </p:nvSpPr>
            <p:spPr>
              <a:xfrm>
                <a:off x="6953400" y="68580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31160" y="7304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>
                <a:off x="7203600" y="72864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291440" y="731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81800" y="7286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478640" y="7286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567560" y="7286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115040" y="7304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9" name=""/>
            <p:cNvSpPr/>
            <p:nvPr/>
          </p:nvSpPr>
          <p:spPr>
            <a:xfrm>
              <a:off x="6975360" y="127476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57800" y="569880"/>
              <a:ext cx="1689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utgo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essage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724360" y="2552760"/>
            <a:ext cx="1124280" cy="790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7116840" y="2479680"/>
            <a:ext cx="355320" cy="932760"/>
            <a:chOff x="7116840" y="2479680"/>
            <a:chExt cx="355320" cy="932760"/>
          </a:xfrm>
        </p:grpSpPr>
        <p:sp>
          <p:nvSpPr>
            <p:cNvPr id="943" name=""/>
            <p:cNvSpPr/>
            <p:nvPr/>
          </p:nvSpPr>
          <p:spPr>
            <a:xfrm>
              <a:off x="7116840" y="31968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96840" y="248580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18640" y="268884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16840" y="247968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72160" y="249480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7343640" y="319680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47440" y="278352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168680" y="290808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84640" y="2932200"/>
            <a:ext cx="811440" cy="1049400"/>
            <a:chOff x="6884640" y="2932200"/>
            <a:chExt cx="811440" cy="1049400"/>
          </a:xfrm>
        </p:grpSpPr>
        <p:sp>
          <p:nvSpPr>
            <p:cNvPr id="952" name=""/>
            <p:cNvSpPr/>
            <p:nvPr/>
          </p:nvSpPr>
          <p:spPr>
            <a:xfrm>
              <a:off x="6886440" y="29721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84640" y="2932200"/>
              <a:ext cx="77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924600" y="35341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002360" y="3578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175520" y="3576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62640" y="3580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353360" y="3576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450200" y="3576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39120" y="3576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086600" y="3578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937200" y="37990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074000" y="37990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10440" y="3797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364160" y="37944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516800" y="37944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7588080" y="2070000"/>
            <a:ext cx="732240" cy="702720"/>
            <a:chOff x="7588080" y="2070000"/>
            <a:chExt cx="732240" cy="702720"/>
          </a:xfrm>
        </p:grpSpPr>
        <p:pic>
          <p:nvPicPr>
            <p:cNvPr id="968" name="" descr=""/>
            <p:cNvPicPr/>
            <p:nvPr/>
          </p:nvPicPr>
          <p:blipFill>
            <a:blip r:embed="rId1"/>
            <a:stretch/>
          </p:blipFill>
          <p:spPr>
            <a:xfrm>
              <a:off x="7600680" y="207000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9" name=""/>
            <p:cNvGrpSpPr/>
            <p:nvPr/>
          </p:nvGrpSpPr>
          <p:grpSpPr>
            <a:xfrm>
              <a:off x="7588080" y="2192040"/>
              <a:ext cx="732240" cy="580680"/>
              <a:chOff x="7588080" y="2192040"/>
              <a:chExt cx="732240" cy="580680"/>
            </a:xfrm>
          </p:grpSpPr>
          <p:sp>
            <p:nvSpPr>
              <p:cNvPr id="970" name=""/>
              <p:cNvSpPr/>
              <p:nvPr/>
            </p:nvSpPr>
            <p:spPr>
              <a:xfrm>
                <a:off x="7646760" y="22381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588080" y="219204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2" name=""/>
          <p:cNvGrpSpPr/>
          <p:nvPr/>
        </p:nvGrpSpPr>
        <p:grpSpPr>
          <a:xfrm>
            <a:off x="7816680" y="3079800"/>
            <a:ext cx="732240" cy="702720"/>
            <a:chOff x="7816680" y="3079800"/>
            <a:chExt cx="732240" cy="702720"/>
          </a:xfrm>
        </p:grpSpPr>
        <p:pic>
          <p:nvPicPr>
            <p:cNvPr id="973" name="" descr=""/>
            <p:cNvPicPr/>
            <p:nvPr/>
          </p:nvPicPr>
          <p:blipFill>
            <a:blip r:embed="rId2"/>
            <a:stretch/>
          </p:blipFill>
          <p:spPr>
            <a:xfrm>
              <a:off x="7829280" y="307980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4" name=""/>
            <p:cNvGrpSpPr/>
            <p:nvPr/>
          </p:nvGrpSpPr>
          <p:grpSpPr>
            <a:xfrm>
              <a:off x="7816680" y="3201840"/>
              <a:ext cx="732240" cy="580680"/>
              <a:chOff x="7816680" y="3201840"/>
              <a:chExt cx="732240" cy="580680"/>
            </a:xfrm>
          </p:grpSpPr>
          <p:sp>
            <p:nvSpPr>
              <p:cNvPr id="975" name=""/>
              <p:cNvSpPr/>
              <p:nvPr/>
            </p:nvSpPr>
            <p:spPr>
              <a:xfrm>
                <a:off x="7875360" y="32479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816680" y="320184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7" name=""/>
          <p:cNvGrpSpPr/>
          <p:nvPr/>
        </p:nvGrpSpPr>
        <p:grpSpPr>
          <a:xfrm>
            <a:off x="7588080" y="4127400"/>
            <a:ext cx="732240" cy="702720"/>
            <a:chOff x="7588080" y="4127400"/>
            <a:chExt cx="732240" cy="702720"/>
          </a:xfrm>
        </p:grpSpPr>
        <p:pic>
          <p:nvPicPr>
            <p:cNvPr id="978" name="" descr=""/>
            <p:cNvPicPr/>
            <p:nvPr/>
          </p:nvPicPr>
          <p:blipFill>
            <a:blip r:embed="rId3"/>
            <a:stretch/>
          </p:blipFill>
          <p:spPr>
            <a:xfrm>
              <a:off x="7600680" y="412740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9" name=""/>
            <p:cNvGrpSpPr/>
            <p:nvPr/>
          </p:nvGrpSpPr>
          <p:grpSpPr>
            <a:xfrm>
              <a:off x="7588080" y="4249440"/>
              <a:ext cx="732240" cy="580680"/>
              <a:chOff x="7588080" y="4249440"/>
              <a:chExt cx="732240" cy="580680"/>
            </a:xfrm>
          </p:grpSpPr>
          <p:sp>
            <p:nvSpPr>
              <p:cNvPr id="980" name=""/>
              <p:cNvSpPr/>
              <p:nvPr/>
            </p:nvSpPr>
            <p:spPr>
              <a:xfrm>
                <a:off x="7646760" y="42955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588080" y="424944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2" name=""/>
          <p:cNvGrpSpPr/>
          <p:nvPr/>
        </p:nvGrpSpPr>
        <p:grpSpPr>
          <a:xfrm>
            <a:off x="4884480" y="3889440"/>
            <a:ext cx="811440" cy="1500840"/>
            <a:chOff x="4884480" y="3889440"/>
            <a:chExt cx="811440" cy="1500840"/>
          </a:xfrm>
        </p:grpSpPr>
        <p:grpSp>
          <p:nvGrpSpPr>
            <p:cNvPr id="983" name=""/>
            <p:cNvGrpSpPr/>
            <p:nvPr/>
          </p:nvGrpSpPr>
          <p:grpSpPr>
            <a:xfrm>
              <a:off x="5106960" y="3889440"/>
              <a:ext cx="354600" cy="932400"/>
              <a:chOff x="5106960" y="3889440"/>
              <a:chExt cx="354600" cy="932400"/>
            </a:xfrm>
          </p:grpSpPr>
          <p:sp>
            <p:nvSpPr>
              <p:cNvPr id="984" name=""/>
              <p:cNvSpPr/>
              <p:nvPr/>
            </p:nvSpPr>
            <p:spPr>
              <a:xfrm>
                <a:off x="5106960" y="4606560"/>
                <a:ext cx="354600" cy="215280"/>
              </a:xfrm>
              <a:prstGeom prst="parallelogram">
                <a:avLst>
                  <a:gd name="adj" fmla="val 6345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286600" y="389556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108760" y="409860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106960" y="3889440"/>
                <a:ext cx="354600" cy="215280"/>
              </a:xfrm>
              <a:prstGeom prst="parallelogram">
                <a:avLst>
                  <a:gd name="adj" fmla="val 6345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461560" y="390456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5333760" y="460656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137200" y="419292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158800" y="431784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4884480" y="4341600"/>
              <a:ext cx="811440" cy="1048680"/>
              <a:chOff x="4884480" y="4341600"/>
              <a:chExt cx="811440" cy="1048680"/>
            </a:xfrm>
          </p:grpSpPr>
          <p:sp>
            <p:nvSpPr>
              <p:cNvPr id="993" name=""/>
              <p:cNvSpPr/>
              <p:nvPr/>
            </p:nvSpPr>
            <p:spPr>
              <a:xfrm>
                <a:off x="4886280" y="4381200"/>
                <a:ext cx="809640" cy="100908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884480" y="4341600"/>
                <a:ext cx="777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924440" y="4943160"/>
                <a:ext cx="714240" cy="19008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002200" y="49874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17536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262480" y="49892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35320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45004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53896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086440" y="49874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937040" y="520812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073840" y="520812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210280" y="520668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364000" y="520344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516640" y="520344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"/>
          <p:cNvGrpSpPr/>
          <p:nvPr/>
        </p:nvGrpSpPr>
        <p:grpSpPr>
          <a:xfrm>
            <a:off x="5816520" y="4994280"/>
            <a:ext cx="732240" cy="702720"/>
            <a:chOff x="5816520" y="4994280"/>
            <a:chExt cx="732240" cy="702720"/>
          </a:xfrm>
        </p:grpSpPr>
        <p:pic>
          <p:nvPicPr>
            <p:cNvPr id="1009" name="" descr=""/>
            <p:cNvPicPr/>
            <p:nvPr/>
          </p:nvPicPr>
          <p:blipFill>
            <a:blip r:embed="rId4"/>
            <a:stretch/>
          </p:blipFill>
          <p:spPr>
            <a:xfrm>
              <a:off x="5829120" y="499428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5816520" y="5116320"/>
              <a:ext cx="732240" cy="580680"/>
              <a:chOff x="5816520" y="5116320"/>
              <a:chExt cx="732240" cy="580680"/>
            </a:xfrm>
          </p:grpSpPr>
          <p:sp>
            <p:nvSpPr>
              <p:cNvPr id="1011" name=""/>
              <p:cNvSpPr/>
              <p:nvPr/>
            </p:nvSpPr>
            <p:spPr>
              <a:xfrm>
                <a:off x="5875200" y="516240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816520" y="511632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4978440" y="5499000"/>
            <a:ext cx="732240" cy="702720"/>
            <a:chOff x="4978440" y="5499000"/>
            <a:chExt cx="732240" cy="702720"/>
          </a:xfrm>
        </p:grpSpPr>
        <p:pic>
          <p:nvPicPr>
            <p:cNvPr id="1014" name="" descr=""/>
            <p:cNvPicPr/>
            <p:nvPr/>
          </p:nvPicPr>
          <p:blipFill>
            <a:blip r:embed="rId5"/>
            <a:stretch/>
          </p:blipFill>
          <p:spPr>
            <a:xfrm>
              <a:off x="4991040" y="549900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5" name=""/>
            <p:cNvGrpSpPr/>
            <p:nvPr/>
          </p:nvGrpSpPr>
          <p:grpSpPr>
            <a:xfrm>
              <a:off x="4978440" y="5621040"/>
              <a:ext cx="732240" cy="580680"/>
              <a:chOff x="4978440" y="5621040"/>
              <a:chExt cx="732240" cy="580680"/>
            </a:xfrm>
          </p:grpSpPr>
          <p:sp>
            <p:nvSpPr>
              <p:cNvPr id="1016" name=""/>
              <p:cNvSpPr/>
              <p:nvPr/>
            </p:nvSpPr>
            <p:spPr>
              <a:xfrm>
                <a:off x="5037120" y="56671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978440" y="562104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4884480" y="1631880"/>
            <a:ext cx="811440" cy="1501920"/>
            <a:chOff x="4884480" y="1631880"/>
            <a:chExt cx="811440" cy="1501920"/>
          </a:xfrm>
        </p:grpSpPr>
        <p:grpSp>
          <p:nvGrpSpPr>
            <p:cNvPr id="1019" name=""/>
            <p:cNvGrpSpPr/>
            <p:nvPr/>
          </p:nvGrpSpPr>
          <p:grpSpPr>
            <a:xfrm>
              <a:off x="5106960" y="1631880"/>
              <a:ext cx="354600" cy="932760"/>
              <a:chOff x="5106960" y="1631880"/>
              <a:chExt cx="354600" cy="932760"/>
            </a:xfrm>
          </p:grpSpPr>
          <p:sp>
            <p:nvSpPr>
              <p:cNvPr id="1020" name=""/>
              <p:cNvSpPr/>
              <p:nvPr/>
            </p:nvSpPr>
            <p:spPr>
              <a:xfrm>
                <a:off x="5106960" y="234900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286600" y="163800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108760" y="184104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106960" y="163188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461560" y="164700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5333760" y="234900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137200" y="193572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158800" y="206028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4884480" y="2084400"/>
              <a:ext cx="811440" cy="1049400"/>
              <a:chOff x="4884480" y="2084400"/>
              <a:chExt cx="811440" cy="1049400"/>
            </a:xfrm>
          </p:grpSpPr>
          <p:sp>
            <p:nvSpPr>
              <p:cNvPr id="1029" name=""/>
              <p:cNvSpPr/>
              <p:nvPr/>
            </p:nvSpPr>
            <p:spPr>
              <a:xfrm>
                <a:off x="4886280" y="2124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884480" y="2084400"/>
                <a:ext cx="777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24440" y="2686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002200" y="2730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7536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262480" y="2732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35320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45004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96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086440" y="2730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937040" y="2951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73840" y="2951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210280" y="2949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64000" y="2946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516640" y="2946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4" name=""/>
          <p:cNvGrpSpPr/>
          <p:nvPr/>
        </p:nvGrpSpPr>
        <p:grpSpPr>
          <a:xfrm>
            <a:off x="5607000" y="1374840"/>
            <a:ext cx="732240" cy="702720"/>
            <a:chOff x="5607000" y="1374840"/>
            <a:chExt cx="732240" cy="702720"/>
          </a:xfrm>
        </p:grpSpPr>
        <p:pic>
          <p:nvPicPr>
            <p:cNvPr id="1045" name="" descr=""/>
            <p:cNvPicPr/>
            <p:nvPr/>
          </p:nvPicPr>
          <p:blipFill>
            <a:blip r:embed="rId6"/>
            <a:stretch/>
          </p:blipFill>
          <p:spPr>
            <a:xfrm>
              <a:off x="5619600" y="137484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6" name=""/>
            <p:cNvGrpSpPr/>
            <p:nvPr/>
          </p:nvGrpSpPr>
          <p:grpSpPr>
            <a:xfrm>
              <a:off x="5607000" y="1496880"/>
              <a:ext cx="732240" cy="580680"/>
              <a:chOff x="5607000" y="1496880"/>
              <a:chExt cx="732240" cy="580680"/>
            </a:xfrm>
          </p:grpSpPr>
          <p:sp>
            <p:nvSpPr>
              <p:cNvPr id="1047" name=""/>
              <p:cNvSpPr/>
              <p:nvPr/>
            </p:nvSpPr>
            <p:spPr>
              <a:xfrm>
                <a:off x="5665680" y="154296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607000" y="149688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9" name=""/>
          <p:cNvSpPr/>
          <p:nvPr/>
        </p:nvSpPr>
        <p:spPr>
          <a:xfrm flipV="1">
            <a:off x="5724360" y="3676680"/>
            <a:ext cx="1124280" cy="1085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4981680" y="3152880"/>
            <a:ext cx="0" cy="1247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5848200" y="3970440"/>
            <a:ext cx="977760" cy="459720"/>
            <a:chOff x="5848200" y="3970440"/>
            <a:chExt cx="977760" cy="459720"/>
          </a:xfrm>
        </p:grpSpPr>
        <p:sp>
          <p:nvSpPr>
            <p:cNvPr id="1052" name=""/>
            <p:cNvSpPr/>
            <p:nvPr/>
          </p:nvSpPr>
          <p:spPr>
            <a:xfrm>
              <a:off x="5905440" y="4038480"/>
              <a:ext cx="857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48200" y="397044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5810400" y="2712960"/>
            <a:ext cx="977760" cy="459720"/>
            <a:chOff x="5810400" y="2712960"/>
            <a:chExt cx="977760" cy="459720"/>
          </a:xfrm>
        </p:grpSpPr>
        <p:sp>
          <p:nvSpPr>
            <p:cNvPr id="1055" name=""/>
            <p:cNvSpPr/>
            <p:nvPr/>
          </p:nvSpPr>
          <p:spPr>
            <a:xfrm>
              <a:off x="5867280" y="2781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810400" y="271296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4486320" y="3427560"/>
            <a:ext cx="977760" cy="459720"/>
            <a:chOff x="4486320" y="3427560"/>
            <a:chExt cx="977760" cy="459720"/>
          </a:xfrm>
        </p:grpSpPr>
        <p:sp>
          <p:nvSpPr>
            <p:cNvPr id="1058" name=""/>
            <p:cNvSpPr/>
            <p:nvPr/>
          </p:nvSpPr>
          <p:spPr>
            <a:xfrm>
              <a:off x="4543200" y="3495600"/>
              <a:ext cx="856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486320" y="342756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4D4-F216-46C4-BF6D-923FF218F0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09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lectronic Mail: mail server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il Serve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ailbo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tains incoming messages for us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e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outgoing (to be sent) mail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MTP protoco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tween mail servers to send email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: sending mail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”: receiving mail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6039000" y="2629080"/>
            <a:ext cx="1123920" cy="790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7431120" y="2556000"/>
            <a:ext cx="355320" cy="932760"/>
            <a:chOff x="7431120" y="2556000"/>
            <a:chExt cx="355320" cy="932760"/>
          </a:xfrm>
        </p:grpSpPr>
        <p:sp>
          <p:nvSpPr>
            <p:cNvPr id="1064" name=""/>
            <p:cNvSpPr/>
            <p:nvPr/>
          </p:nvSpPr>
          <p:spPr>
            <a:xfrm>
              <a:off x="7431120" y="32731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611120" y="25621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432920" y="27651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431120" y="2556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786440" y="25711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7657920" y="32731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461720" y="28598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482960" y="29844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7198920" y="3008160"/>
            <a:ext cx="811440" cy="1049400"/>
            <a:chOff x="7198920" y="3008160"/>
            <a:chExt cx="811440" cy="1049400"/>
          </a:xfrm>
        </p:grpSpPr>
        <p:sp>
          <p:nvSpPr>
            <p:cNvPr id="1073" name=""/>
            <p:cNvSpPr/>
            <p:nvPr/>
          </p:nvSpPr>
          <p:spPr>
            <a:xfrm>
              <a:off x="7200720" y="304812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198920" y="3008160"/>
              <a:ext cx="77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238880" y="361008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316640" y="3654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8980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576920" y="3656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6764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76448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85340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400880" y="3654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251480" y="38750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388280" y="38750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524720" y="3873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678440" y="387036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831080" y="38703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7902360" y="2146320"/>
            <a:ext cx="732240" cy="702720"/>
            <a:chOff x="7902360" y="2146320"/>
            <a:chExt cx="732240" cy="702720"/>
          </a:xfrm>
        </p:grpSpPr>
        <p:pic>
          <p:nvPicPr>
            <p:cNvPr id="1089" name="" descr=""/>
            <p:cNvPicPr/>
            <p:nvPr/>
          </p:nvPicPr>
          <p:blipFill>
            <a:blip r:embed="rId1"/>
            <a:stretch/>
          </p:blipFill>
          <p:spPr>
            <a:xfrm>
              <a:off x="7914960" y="214632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0" name=""/>
            <p:cNvGrpSpPr/>
            <p:nvPr/>
          </p:nvGrpSpPr>
          <p:grpSpPr>
            <a:xfrm>
              <a:off x="7902360" y="2268360"/>
              <a:ext cx="732240" cy="580680"/>
              <a:chOff x="7902360" y="2268360"/>
              <a:chExt cx="732240" cy="580680"/>
            </a:xfrm>
          </p:grpSpPr>
          <p:sp>
            <p:nvSpPr>
              <p:cNvPr id="1091" name=""/>
              <p:cNvSpPr/>
              <p:nvPr/>
            </p:nvSpPr>
            <p:spPr>
              <a:xfrm>
                <a:off x="7961040" y="231444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2360" y="226836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3" name=""/>
          <p:cNvGrpSpPr/>
          <p:nvPr/>
        </p:nvGrpSpPr>
        <p:grpSpPr>
          <a:xfrm>
            <a:off x="8130960" y="3156120"/>
            <a:ext cx="732240" cy="702720"/>
            <a:chOff x="8130960" y="3156120"/>
            <a:chExt cx="732240" cy="702720"/>
          </a:xfrm>
        </p:grpSpPr>
        <p:pic>
          <p:nvPicPr>
            <p:cNvPr id="1094" name="" descr=""/>
            <p:cNvPicPr/>
            <p:nvPr/>
          </p:nvPicPr>
          <p:blipFill>
            <a:blip r:embed="rId2"/>
            <a:stretch/>
          </p:blipFill>
          <p:spPr>
            <a:xfrm>
              <a:off x="8143560" y="315612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5" name=""/>
            <p:cNvGrpSpPr/>
            <p:nvPr/>
          </p:nvGrpSpPr>
          <p:grpSpPr>
            <a:xfrm>
              <a:off x="8130960" y="3278160"/>
              <a:ext cx="732240" cy="580680"/>
              <a:chOff x="8130960" y="3278160"/>
              <a:chExt cx="732240" cy="580680"/>
            </a:xfrm>
          </p:grpSpPr>
          <p:sp>
            <p:nvSpPr>
              <p:cNvPr id="1096" name=""/>
              <p:cNvSpPr/>
              <p:nvPr/>
            </p:nvSpPr>
            <p:spPr>
              <a:xfrm>
                <a:off x="8189640" y="332424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8130960" y="327816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8" name=""/>
          <p:cNvGrpSpPr/>
          <p:nvPr/>
        </p:nvGrpSpPr>
        <p:grpSpPr>
          <a:xfrm>
            <a:off x="7902360" y="4203720"/>
            <a:ext cx="732240" cy="702720"/>
            <a:chOff x="7902360" y="4203720"/>
            <a:chExt cx="732240" cy="702720"/>
          </a:xfrm>
        </p:grpSpPr>
        <p:pic>
          <p:nvPicPr>
            <p:cNvPr id="1099" name="" descr=""/>
            <p:cNvPicPr/>
            <p:nvPr/>
          </p:nvPicPr>
          <p:blipFill>
            <a:blip r:embed="rId3"/>
            <a:stretch/>
          </p:blipFill>
          <p:spPr>
            <a:xfrm>
              <a:off x="7914960" y="420372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0" name=""/>
            <p:cNvGrpSpPr/>
            <p:nvPr/>
          </p:nvGrpSpPr>
          <p:grpSpPr>
            <a:xfrm>
              <a:off x="7902360" y="4325760"/>
              <a:ext cx="732240" cy="580680"/>
              <a:chOff x="7902360" y="4325760"/>
              <a:chExt cx="732240" cy="580680"/>
            </a:xfrm>
          </p:grpSpPr>
          <p:sp>
            <p:nvSpPr>
              <p:cNvPr id="1101" name=""/>
              <p:cNvSpPr/>
              <p:nvPr/>
            </p:nvSpPr>
            <p:spPr>
              <a:xfrm>
                <a:off x="7961040" y="437184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2360" y="432576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3" name=""/>
          <p:cNvGrpSpPr/>
          <p:nvPr/>
        </p:nvGrpSpPr>
        <p:grpSpPr>
          <a:xfrm>
            <a:off x="5198760" y="3965400"/>
            <a:ext cx="811440" cy="1501920"/>
            <a:chOff x="5198760" y="3965400"/>
            <a:chExt cx="811440" cy="1501920"/>
          </a:xfrm>
        </p:grpSpPr>
        <p:grpSp>
          <p:nvGrpSpPr>
            <p:cNvPr id="1104" name=""/>
            <p:cNvGrpSpPr/>
            <p:nvPr/>
          </p:nvGrpSpPr>
          <p:grpSpPr>
            <a:xfrm>
              <a:off x="5421240" y="3965400"/>
              <a:ext cx="354600" cy="932760"/>
              <a:chOff x="5421240" y="3965400"/>
              <a:chExt cx="354600" cy="932760"/>
            </a:xfrm>
          </p:grpSpPr>
          <p:sp>
            <p:nvSpPr>
              <p:cNvPr id="1105" name=""/>
              <p:cNvSpPr/>
              <p:nvPr/>
            </p:nvSpPr>
            <p:spPr>
              <a:xfrm>
                <a:off x="5421240" y="468252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600880" y="39715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423040" y="417456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421240" y="396540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775840" y="39805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5648040" y="468252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451480" y="426924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473080" y="43938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5198760" y="4417920"/>
              <a:ext cx="811440" cy="1049400"/>
              <a:chOff x="5198760" y="4417920"/>
              <a:chExt cx="811440" cy="1049400"/>
            </a:xfrm>
          </p:grpSpPr>
          <p:sp>
            <p:nvSpPr>
              <p:cNvPr id="1114" name=""/>
              <p:cNvSpPr/>
              <p:nvPr/>
            </p:nvSpPr>
            <p:spPr>
              <a:xfrm>
                <a:off x="5200560" y="445788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198760" y="4417920"/>
                <a:ext cx="777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38720" y="50198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316480" y="50641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8964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576760" y="50659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66748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76432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85324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400720" y="50641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251320" y="52848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88120" y="52848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524560" y="52833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678280" y="5280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830920" y="5280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9" name=""/>
          <p:cNvGrpSpPr/>
          <p:nvPr/>
        </p:nvGrpSpPr>
        <p:grpSpPr>
          <a:xfrm>
            <a:off x="6130800" y="5070600"/>
            <a:ext cx="732240" cy="702720"/>
            <a:chOff x="6130800" y="5070600"/>
            <a:chExt cx="732240" cy="702720"/>
          </a:xfrm>
        </p:grpSpPr>
        <p:pic>
          <p:nvPicPr>
            <p:cNvPr id="1130" name="" descr=""/>
            <p:cNvPicPr/>
            <p:nvPr/>
          </p:nvPicPr>
          <p:blipFill>
            <a:blip r:embed="rId4"/>
            <a:stretch/>
          </p:blipFill>
          <p:spPr>
            <a:xfrm>
              <a:off x="6143400" y="507060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1" name=""/>
            <p:cNvGrpSpPr/>
            <p:nvPr/>
          </p:nvGrpSpPr>
          <p:grpSpPr>
            <a:xfrm>
              <a:off x="6130800" y="5192640"/>
              <a:ext cx="732240" cy="580680"/>
              <a:chOff x="6130800" y="5192640"/>
              <a:chExt cx="732240" cy="580680"/>
            </a:xfrm>
          </p:grpSpPr>
          <p:sp>
            <p:nvSpPr>
              <p:cNvPr id="1132" name=""/>
              <p:cNvSpPr/>
              <p:nvPr/>
            </p:nvSpPr>
            <p:spPr>
              <a:xfrm>
                <a:off x="6189480" y="52387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30800" y="519264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4" name=""/>
          <p:cNvGrpSpPr/>
          <p:nvPr/>
        </p:nvGrpSpPr>
        <p:grpSpPr>
          <a:xfrm>
            <a:off x="5292720" y="5575320"/>
            <a:ext cx="732240" cy="702720"/>
            <a:chOff x="5292720" y="5575320"/>
            <a:chExt cx="732240" cy="702720"/>
          </a:xfrm>
        </p:grpSpPr>
        <p:pic>
          <p:nvPicPr>
            <p:cNvPr id="1135" name="" descr=""/>
            <p:cNvPicPr/>
            <p:nvPr/>
          </p:nvPicPr>
          <p:blipFill>
            <a:blip r:embed="rId5"/>
            <a:stretch/>
          </p:blipFill>
          <p:spPr>
            <a:xfrm>
              <a:off x="5305320" y="557532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6" name=""/>
            <p:cNvGrpSpPr/>
            <p:nvPr/>
          </p:nvGrpSpPr>
          <p:grpSpPr>
            <a:xfrm>
              <a:off x="5292720" y="5697360"/>
              <a:ext cx="732240" cy="580680"/>
              <a:chOff x="5292720" y="5697360"/>
              <a:chExt cx="732240" cy="580680"/>
            </a:xfrm>
          </p:grpSpPr>
          <p:sp>
            <p:nvSpPr>
              <p:cNvPr id="1137" name=""/>
              <p:cNvSpPr/>
              <p:nvPr/>
            </p:nvSpPr>
            <p:spPr>
              <a:xfrm>
                <a:off x="5351400" y="574344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292720" y="569736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9" name=""/>
          <p:cNvGrpSpPr/>
          <p:nvPr/>
        </p:nvGrpSpPr>
        <p:grpSpPr>
          <a:xfrm>
            <a:off x="5198760" y="1708200"/>
            <a:ext cx="811440" cy="1500840"/>
            <a:chOff x="5198760" y="1708200"/>
            <a:chExt cx="811440" cy="1500840"/>
          </a:xfrm>
        </p:grpSpPr>
        <p:grpSp>
          <p:nvGrpSpPr>
            <p:cNvPr id="1140" name=""/>
            <p:cNvGrpSpPr/>
            <p:nvPr/>
          </p:nvGrpSpPr>
          <p:grpSpPr>
            <a:xfrm>
              <a:off x="5421240" y="1708200"/>
              <a:ext cx="354600" cy="932400"/>
              <a:chOff x="5421240" y="1708200"/>
              <a:chExt cx="354600" cy="932400"/>
            </a:xfrm>
          </p:grpSpPr>
          <p:sp>
            <p:nvSpPr>
              <p:cNvPr id="1141" name=""/>
              <p:cNvSpPr/>
              <p:nvPr/>
            </p:nvSpPr>
            <p:spPr>
              <a:xfrm>
                <a:off x="5421240" y="2425320"/>
                <a:ext cx="354600" cy="215280"/>
              </a:xfrm>
              <a:prstGeom prst="parallelogram">
                <a:avLst>
                  <a:gd name="adj" fmla="val 6345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600880" y="17143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423040" y="191736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421240" y="1708200"/>
                <a:ext cx="354600" cy="215280"/>
              </a:xfrm>
              <a:prstGeom prst="parallelogram">
                <a:avLst>
                  <a:gd name="adj" fmla="val 6345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775840" y="17233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5648040" y="242532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451480" y="201168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473080" y="21366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5198760" y="2160360"/>
              <a:ext cx="811440" cy="1048680"/>
              <a:chOff x="5198760" y="2160360"/>
              <a:chExt cx="811440" cy="1048680"/>
            </a:xfrm>
          </p:grpSpPr>
          <p:sp>
            <p:nvSpPr>
              <p:cNvPr id="1150" name=""/>
              <p:cNvSpPr/>
              <p:nvPr/>
            </p:nvSpPr>
            <p:spPr>
              <a:xfrm>
                <a:off x="5200560" y="2199960"/>
                <a:ext cx="809640" cy="100908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198760" y="2160360"/>
                <a:ext cx="777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238720" y="2761920"/>
                <a:ext cx="714240" cy="19008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316480" y="2806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48964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576760" y="2808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66748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76432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85324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400720" y="2806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251320" y="302688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388120" y="302688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524560" y="302544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678280" y="302220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30920" y="302220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5" name=""/>
          <p:cNvGrpSpPr/>
          <p:nvPr/>
        </p:nvGrpSpPr>
        <p:grpSpPr>
          <a:xfrm>
            <a:off x="5921280" y="1450800"/>
            <a:ext cx="732240" cy="702720"/>
            <a:chOff x="5921280" y="1450800"/>
            <a:chExt cx="732240" cy="702720"/>
          </a:xfrm>
        </p:grpSpPr>
        <p:pic>
          <p:nvPicPr>
            <p:cNvPr id="1166" name="" descr=""/>
            <p:cNvPicPr/>
            <p:nvPr/>
          </p:nvPicPr>
          <p:blipFill>
            <a:blip r:embed="rId6"/>
            <a:stretch/>
          </p:blipFill>
          <p:spPr>
            <a:xfrm>
              <a:off x="5933880" y="145080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7" name=""/>
            <p:cNvGrpSpPr/>
            <p:nvPr/>
          </p:nvGrpSpPr>
          <p:grpSpPr>
            <a:xfrm>
              <a:off x="5921280" y="1572840"/>
              <a:ext cx="732240" cy="580680"/>
              <a:chOff x="5921280" y="1572840"/>
              <a:chExt cx="732240" cy="580680"/>
            </a:xfrm>
          </p:grpSpPr>
          <p:sp>
            <p:nvSpPr>
              <p:cNvPr id="1168" name=""/>
              <p:cNvSpPr/>
              <p:nvPr/>
            </p:nvSpPr>
            <p:spPr>
              <a:xfrm>
                <a:off x="5979960" y="16189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921280" y="157284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0" name=""/>
          <p:cNvSpPr/>
          <p:nvPr/>
        </p:nvSpPr>
        <p:spPr>
          <a:xfrm flipV="1">
            <a:off x="6039000" y="3753000"/>
            <a:ext cx="1123920" cy="1085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5295960" y="3228840"/>
            <a:ext cx="0" cy="1247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6162840" y="4046400"/>
            <a:ext cx="977760" cy="459720"/>
            <a:chOff x="6162840" y="4046400"/>
            <a:chExt cx="977760" cy="459720"/>
          </a:xfrm>
        </p:grpSpPr>
        <p:sp>
          <p:nvSpPr>
            <p:cNvPr id="1173" name=""/>
            <p:cNvSpPr/>
            <p:nvPr/>
          </p:nvSpPr>
          <p:spPr>
            <a:xfrm>
              <a:off x="6219720" y="411480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162840" y="404640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6124680" y="2789280"/>
            <a:ext cx="977760" cy="459720"/>
            <a:chOff x="6124680" y="2789280"/>
            <a:chExt cx="977760" cy="459720"/>
          </a:xfrm>
        </p:grpSpPr>
        <p:sp>
          <p:nvSpPr>
            <p:cNvPr id="1176" name=""/>
            <p:cNvSpPr/>
            <p:nvPr/>
          </p:nvSpPr>
          <p:spPr>
            <a:xfrm>
              <a:off x="6181560" y="2857320"/>
              <a:ext cx="856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124680" y="27892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4800600" y="3503520"/>
            <a:ext cx="977760" cy="459720"/>
            <a:chOff x="4800600" y="3503520"/>
            <a:chExt cx="977760" cy="459720"/>
          </a:xfrm>
        </p:grpSpPr>
        <p:sp>
          <p:nvSpPr>
            <p:cNvPr id="1179" name=""/>
            <p:cNvSpPr/>
            <p:nvPr/>
          </p:nvSpPr>
          <p:spPr>
            <a:xfrm>
              <a:off x="4857480" y="357192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00600" y="35035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056B-E00D-4069-917D-8CF9BC26DE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lectronic Mail: SMTP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[RFC 2821]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324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TCP to reliably transfer email message from client to server, port 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rect transfer: sending server to receiving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e phases of trans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shaking (greeting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 of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os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and/response intera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mmand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SCII tex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spons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atus code and phr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s must be in 7-bit ASC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1BB-0C0D-4394-9A5B-9618711A85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22000" y="-36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cenario: Alice sends message to Bob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533160" y="1160640"/>
            <a:ext cx="3809880" cy="32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) Alice uses UA to compose message and “to”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b@someschool.ed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) Alice’s UA sends message to her mail server; message placed in message que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Client side of SMTP opens TCP connection with Bob’s mail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508280" y="1135080"/>
            <a:ext cx="3809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) SMTP client sends Alice’s message over the TCP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) Bob’s mail server places the message in Bob’s mailbo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) Bob invokes his user agent to read 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1258920" y="5062680"/>
            <a:ext cx="732240" cy="702720"/>
            <a:chOff x="1258920" y="5062680"/>
            <a:chExt cx="732240" cy="702720"/>
          </a:xfrm>
        </p:grpSpPr>
        <p:pic>
          <p:nvPicPr>
            <p:cNvPr id="1187" name="" descr=""/>
            <p:cNvPicPr/>
            <p:nvPr/>
          </p:nvPicPr>
          <p:blipFill>
            <a:blip r:embed="rId1"/>
            <a:stretch/>
          </p:blipFill>
          <p:spPr>
            <a:xfrm>
              <a:off x="1271520" y="506268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8" name=""/>
            <p:cNvGrpSpPr/>
            <p:nvPr/>
          </p:nvGrpSpPr>
          <p:grpSpPr>
            <a:xfrm>
              <a:off x="1258920" y="5184720"/>
              <a:ext cx="732240" cy="580680"/>
              <a:chOff x="1258920" y="5184720"/>
              <a:chExt cx="732240" cy="580680"/>
            </a:xfrm>
          </p:grpSpPr>
          <p:sp>
            <p:nvSpPr>
              <p:cNvPr id="1189" name=""/>
              <p:cNvSpPr/>
              <p:nvPr/>
            </p:nvSpPr>
            <p:spPr>
              <a:xfrm>
                <a:off x="1317600" y="523080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58920" y="518472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1" name=""/>
          <p:cNvGrpSpPr/>
          <p:nvPr/>
        </p:nvGrpSpPr>
        <p:grpSpPr>
          <a:xfrm>
            <a:off x="2806560" y="4503600"/>
            <a:ext cx="811440" cy="1501920"/>
            <a:chOff x="2806560" y="4503600"/>
            <a:chExt cx="811440" cy="1501920"/>
          </a:xfrm>
        </p:grpSpPr>
        <p:grpSp>
          <p:nvGrpSpPr>
            <p:cNvPr id="1192" name=""/>
            <p:cNvGrpSpPr/>
            <p:nvPr/>
          </p:nvGrpSpPr>
          <p:grpSpPr>
            <a:xfrm>
              <a:off x="3029040" y="4503600"/>
              <a:ext cx="354600" cy="932760"/>
              <a:chOff x="3029040" y="4503600"/>
              <a:chExt cx="354600" cy="9327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029040" y="522072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208680" y="45097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030840" y="471276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029040" y="450360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383640" y="45187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3255840" y="522072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059280" y="480744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080880" y="49320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2806560" y="4956120"/>
              <a:ext cx="811440" cy="1049400"/>
              <a:chOff x="2806560" y="4956120"/>
              <a:chExt cx="811440" cy="1049400"/>
            </a:xfrm>
          </p:grpSpPr>
          <p:sp>
            <p:nvSpPr>
              <p:cNvPr id="1202" name=""/>
              <p:cNvSpPr/>
              <p:nvPr/>
            </p:nvSpPr>
            <p:spPr>
              <a:xfrm>
                <a:off x="2808360" y="499608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806560" y="4956120"/>
                <a:ext cx="777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846520" y="5558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924280" y="5602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097440" y="5600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184560" y="56041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275280" y="5600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372120" y="5600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461040" y="5600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008520" y="5602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859120" y="5823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995920" y="5823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132360" y="5821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286080" y="5818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438720" y="5818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7" name="" descr=""/>
          <p:cNvPicPr/>
          <p:nvPr/>
        </p:nvPicPr>
        <p:blipFill>
          <a:blip r:embed="rId2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/>
          <p:cNvPicPr/>
          <p:nvPr/>
        </p:nvPicPr>
        <p:blipFill>
          <a:blip r:embed="rId3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1219" name=""/>
          <p:cNvGrpSpPr/>
          <p:nvPr/>
        </p:nvGrpSpPr>
        <p:grpSpPr>
          <a:xfrm>
            <a:off x="4997160" y="4449600"/>
            <a:ext cx="811440" cy="1501920"/>
            <a:chOff x="4997160" y="4449600"/>
            <a:chExt cx="811440" cy="1501920"/>
          </a:xfrm>
        </p:grpSpPr>
        <p:grpSp>
          <p:nvGrpSpPr>
            <p:cNvPr id="1220" name=""/>
            <p:cNvGrpSpPr/>
            <p:nvPr/>
          </p:nvGrpSpPr>
          <p:grpSpPr>
            <a:xfrm>
              <a:off x="5219640" y="4449600"/>
              <a:ext cx="354600" cy="932760"/>
              <a:chOff x="5219640" y="4449600"/>
              <a:chExt cx="354600" cy="932760"/>
            </a:xfrm>
          </p:grpSpPr>
          <p:sp>
            <p:nvSpPr>
              <p:cNvPr id="1221" name=""/>
              <p:cNvSpPr/>
              <p:nvPr/>
            </p:nvSpPr>
            <p:spPr>
              <a:xfrm>
                <a:off x="5219640" y="516672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399280" y="44557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221440" y="465876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219640" y="444960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574240" y="44647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>
                <a:off x="5446440" y="516672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249880" y="475344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271480" y="48780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4997160" y="4902120"/>
              <a:ext cx="811440" cy="1049400"/>
              <a:chOff x="4997160" y="4902120"/>
              <a:chExt cx="811440" cy="1049400"/>
            </a:xfrm>
          </p:grpSpPr>
          <p:sp>
            <p:nvSpPr>
              <p:cNvPr id="1230" name=""/>
              <p:cNvSpPr/>
              <p:nvPr/>
            </p:nvSpPr>
            <p:spPr>
              <a:xfrm>
                <a:off x="4998960" y="494208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997160" y="4902120"/>
                <a:ext cx="777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037120" y="5504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114880" y="5548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288040" y="5546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375160" y="55501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465880" y="5546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562720" y="5546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651640" y="5546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199120" y="5548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049720" y="5769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186520" y="5769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322960" y="5767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476680" y="5764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629320" y="5764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5" name=""/>
          <p:cNvGrpSpPr/>
          <p:nvPr/>
        </p:nvGrpSpPr>
        <p:grpSpPr>
          <a:xfrm>
            <a:off x="6808680" y="4946760"/>
            <a:ext cx="732240" cy="702720"/>
            <a:chOff x="6808680" y="4946760"/>
            <a:chExt cx="732240" cy="702720"/>
          </a:xfrm>
        </p:grpSpPr>
        <p:pic>
          <p:nvPicPr>
            <p:cNvPr id="1246" name="" descr=""/>
            <p:cNvPicPr/>
            <p:nvPr/>
          </p:nvPicPr>
          <p:blipFill>
            <a:blip r:embed="rId4"/>
            <a:stretch/>
          </p:blipFill>
          <p:spPr>
            <a:xfrm>
              <a:off x="6821280" y="494676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7" name=""/>
            <p:cNvGrpSpPr/>
            <p:nvPr/>
          </p:nvGrpSpPr>
          <p:grpSpPr>
            <a:xfrm>
              <a:off x="6808680" y="5068800"/>
              <a:ext cx="732240" cy="580680"/>
              <a:chOff x="6808680" y="5068800"/>
              <a:chExt cx="732240" cy="580680"/>
            </a:xfrm>
          </p:grpSpPr>
          <p:sp>
            <p:nvSpPr>
              <p:cNvPr id="1248" name=""/>
              <p:cNvSpPr/>
              <p:nvPr/>
            </p:nvSpPr>
            <p:spPr>
              <a:xfrm>
                <a:off x="6867360" y="511488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808680" y="506880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0" name="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581184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441440" y="487044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300640" y="570240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46C-E692-4630-B0EF-3BB0ADFA783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pp-layer protocol defin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s of messages exchanged, eg, request &amp; response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ntax of message types: what fields in messages &amp; how fields are deline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mantics of the fields, ie, meaning of information in fiel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les for when and how processes send &amp; respond to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ublic-domain protoco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d in RF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for interopera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, HTTP, SM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prietary protoco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, KaZa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405-F21E-4364-9184-DDAA0CC4F9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ample SMTP interact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60" name="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  How about pickl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B5D5-2DD1-4832-91D0-1C252F1CB09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Try SMTP interaction for yourself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net servername 2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 220 reply from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r HELO, MAIL FROM, RCPT TO, DATA, QUIT comma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ove lets you send email without using email client (read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F74-24F1-4BC4-AE46-91397A05E8C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MTP: final word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 uses persistent conne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 requires message (header &amp; body) to be in 7-bit ASC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 server us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determine end of 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arison with HTT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 pu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: pu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have ASCII command/response interaction, status c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 each object encapsulated in its own response ms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: multiple objects sent in multipart ms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AC7-28C1-47A8-9BF9-D5E366E23EA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Mail message forma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: protocol for exchanging email ms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FC 822: standard for text message forma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lines, e.g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bject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different</a:t>
            </a:r>
            <a:r>
              <a:rPr b="0" i="1" lang="en-US" sz="1800" spc="-1" strike="noStrike">
                <a:solidFill>
                  <a:srgbClr val="66ffcc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from SMTP command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“message”, ASCII characters on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115840" y="2112840"/>
            <a:ext cx="83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441-96BD-411C-A1C2-150014A71686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essage format: multimedia extensio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95000" y="1384200"/>
            <a:ext cx="732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E: multimedia mail extension, RFC 2045, 205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itional lines in msg header declare MIME content t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3943440" y="2851200"/>
            <a:ext cx="5003280" cy="3111480"/>
            <a:chOff x="3943440" y="2851200"/>
            <a:chExt cx="5003280" cy="3111480"/>
          </a:xfrm>
        </p:grpSpPr>
        <p:sp>
          <p:nvSpPr>
            <p:cNvPr id="1278" name=""/>
            <p:cNvSpPr/>
            <p:nvPr/>
          </p:nvSpPr>
          <p:spPr>
            <a:xfrm>
              <a:off x="3968640" y="2851200"/>
              <a:ext cx="49780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om: alice@crepes.f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o: bob@hamburger.ed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ubject: Picture of yummy crep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IME-Version: 1.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ontent-Transfer-Encoding: base6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ontent-Type: image/jpe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ase64 encoded data ..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......................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......base64 encoded dat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43440" y="2851200"/>
              <a:ext cx="4736880" cy="2927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95760" y="4348080"/>
            <a:ext cx="286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media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, subtyp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meter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87400" y="3560760"/>
            <a:ext cx="196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hod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encod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93600" y="3002040"/>
            <a:ext cx="18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E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081440" y="5529240"/>
            <a:ext cx="18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od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857680" y="3276720"/>
            <a:ext cx="1155600" cy="546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832120" y="3911760"/>
            <a:ext cx="1181160" cy="190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2806560" y="4419360"/>
            <a:ext cx="1244880" cy="355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2844720" y="5168520"/>
            <a:ext cx="1003320" cy="507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871800" y="4809960"/>
            <a:ext cx="309600" cy="881280"/>
          </a:xfrm>
          <a:custGeom>
            <a:avLst/>
            <a:gdLst/>
            <a:ahLst/>
            <a:rect l="l" t="t" r="r" b="b"/>
            <a:pathLst>
              <a:path w="195" h="555">
                <a:moveTo>
                  <a:pt x="159" y="3"/>
                </a:moveTo>
                <a:lnTo>
                  <a:pt x="0" y="0"/>
                </a:lnTo>
                <a:lnTo>
                  <a:pt x="0" y="555"/>
                </a:lnTo>
                <a:lnTo>
                  <a:pt x="195" y="55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FCF-D68C-4A47-AD4C-E30D391D12D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IME types</a:t>
            </a:r>
            <a:br>
              <a:rPr sz="32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tent-Type: type/subtype; parameters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subtyp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lain, ht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subtyp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e subtyp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8-bit mu-law encoded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2kadpcm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2 kbps coding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subtyp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peg, quick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data that must be processed by reader before “viewabl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subtyp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word, octet-strea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670-FCAB-401B-820D-496E3EEB2AA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10840" y="407520"/>
            <a:ext cx="83818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art Typ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3" name=""/>
          <p:cNvSpPr/>
          <p:nvPr/>
        </p:nvSpPr>
        <p:spPr>
          <a:xfrm>
            <a:off x="776160" y="1270080"/>
            <a:ext cx="73472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om: alice@crepes.f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: bob@hamburger.ed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ject: Picture of yummy crep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ME-Version: 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multipart/mixed; boundary=StartOfNext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StartOfNext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ar Bob, Please find a picture of a crep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StartOfNext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ransfer-Encoding: base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image/j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e64 encoded data ..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................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base64 encoded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StartOfNext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you want the recip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50080" y="2889360"/>
            <a:ext cx="323640" cy="377640"/>
          </a:xfrm>
          <a:custGeom>
            <a:avLst/>
            <a:gdLst/>
            <a:ahLst/>
            <a:rect l="l" t="t" r="r" b="b"/>
            <a:pathLst>
              <a:path w="204" h="806">
                <a:moveTo>
                  <a:pt x="32" y="0"/>
                </a:moveTo>
                <a:lnTo>
                  <a:pt x="204" y="0"/>
                </a:lnTo>
                <a:lnTo>
                  <a:pt x="203" y="806"/>
                </a:lnTo>
                <a:lnTo>
                  <a:pt x="0" y="8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916600" y="3340080"/>
            <a:ext cx="347760" cy="1405080"/>
          </a:xfrm>
          <a:custGeom>
            <a:avLst/>
            <a:gdLst/>
            <a:ahLst/>
            <a:rect l="l" t="t" r="r" b="b"/>
            <a:pathLst>
              <a:path w="204" h="806">
                <a:moveTo>
                  <a:pt x="32" y="0"/>
                </a:moveTo>
                <a:lnTo>
                  <a:pt x="204" y="0"/>
                </a:lnTo>
                <a:lnTo>
                  <a:pt x="203" y="806"/>
                </a:lnTo>
                <a:lnTo>
                  <a:pt x="0" y="8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573280" y="2573280"/>
            <a:ext cx="419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932440" y="4836960"/>
            <a:ext cx="324000" cy="378000"/>
          </a:xfrm>
          <a:custGeom>
            <a:avLst/>
            <a:gdLst/>
            <a:ahLst/>
            <a:rect l="l" t="t" r="r" b="b"/>
            <a:pathLst>
              <a:path w="204" h="806">
                <a:moveTo>
                  <a:pt x="32" y="0"/>
                </a:moveTo>
                <a:lnTo>
                  <a:pt x="204" y="0"/>
                </a:lnTo>
                <a:lnTo>
                  <a:pt x="203" y="806"/>
                </a:lnTo>
                <a:lnTo>
                  <a:pt x="0" y="8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C3B-B443-4672-AAFF-6654CC3EEA3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ail access protoco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80680" y="3219480"/>
            <a:ext cx="7381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: delivery/storage to receiver’s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l access protocol: retrieval from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42160" indent="-208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P: Post Office Protocol [RFC 1939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34120" indent="-1666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orization (agent &lt;--&gt;server) and downloa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42160" indent="-208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P: Internet Mail Access Protocol [RFC 1730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34120" indent="-1666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features (more comple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34120" indent="-1666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ipulation of stored msgs on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42160" indent="-208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 Hotmail , Yahoo! Mail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42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"/>
          <p:cNvSpPr/>
          <p:nvPr/>
        </p:nvSpPr>
        <p:spPr>
          <a:xfrm>
            <a:off x="2238480" y="1847880"/>
            <a:ext cx="84780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7007040" y="1536840"/>
            <a:ext cx="732240" cy="702720"/>
            <a:chOff x="7007040" y="1536840"/>
            <a:chExt cx="732240" cy="702720"/>
          </a:xfrm>
        </p:grpSpPr>
        <p:pic>
          <p:nvPicPr>
            <p:cNvPr id="1302" name="" descr=""/>
            <p:cNvPicPr/>
            <p:nvPr/>
          </p:nvPicPr>
          <p:blipFill>
            <a:blip r:embed="rId1"/>
            <a:stretch/>
          </p:blipFill>
          <p:spPr>
            <a:xfrm>
              <a:off x="7019640" y="153684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3" name=""/>
            <p:cNvGrpSpPr/>
            <p:nvPr/>
          </p:nvGrpSpPr>
          <p:grpSpPr>
            <a:xfrm>
              <a:off x="7007040" y="1658880"/>
              <a:ext cx="732240" cy="580680"/>
              <a:chOff x="7007040" y="1658880"/>
              <a:chExt cx="732240" cy="580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7065720" y="170496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007040" y="165888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6" name=""/>
          <p:cNvGrpSpPr/>
          <p:nvPr/>
        </p:nvGrpSpPr>
        <p:grpSpPr>
          <a:xfrm>
            <a:off x="3135240" y="1631880"/>
            <a:ext cx="355320" cy="932760"/>
            <a:chOff x="3135240" y="1631880"/>
            <a:chExt cx="355320" cy="932760"/>
          </a:xfrm>
        </p:grpSpPr>
        <p:sp>
          <p:nvSpPr>
            <p:cNvPr id="1307" name=""/>
            <p:cNvSpPr/>
            <p:nvPr/>
          </p:nvSpPr>
          <p:spPr>
            <a:xfrm>
              <a:off x="3135240" y="2349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315240" y="163800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137040" y="184104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35240" y="163188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490560" y="164700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>
              <a:off x="3362040" y="234900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165840" y="193572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187080" y="206028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2549880" y="2009880"/>
            <a:ext cx="1486800" cy="1179360"/>
            <a:chOff x="2549880" y="2009880"/>
            <a:chExt cx="1486800" cy="1179360"/>
          </a:xfrm>
        </p:grpSpPr>
        <p:sp>
          <p:nvSpPr>
            <p:cNvPr id="1316" name=""/>
            <p:cNvSpPr/>
            <p:nvPr/>
          </p:nvSpPr>
          <p:spPr>
            <a:xfrm>
              <a:off x="2549880" y="2608560"/>
              <a:ext cx="148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nder’s mai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7" name=""/>
            <p:cNvGrpSpPr/>
            <p:nvPr/>
          </p:nvGrpSpPr>
          <p:grpSpPr>
            <a:xfrm>
              <a:off x="2885760" y="2009880"/>
              <a:ext cx="809280" cy="561960"/>
              <a:chOff x="2885760" y="2009880"/>
              <a:chExt cx="809280" cy="561960"/>
            </a:xfrm>
          </p:grpSpPr>
          <p:sp>
            <p:nvSpPr>
              <p:cNvPr id="1318" name=""/>
              <p:cNvSpPr/>
              <p:nvPr/>
            </p:nvSpPr>
            <p:spPr>
              <a:xfrm>
                <a:off x="2885760" y="2009880"/>
                <a:ext cx="809280" cy="56196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923560" y="2124360"/>
                <a:ext cx="71388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3001320" y="21686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174480" y="2167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261600" y="217008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352320" y="2167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449160" y="2167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538080" y="2167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085560" y="21686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936160" y="2389320"/>
                <a:ext cx="10116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072600" y="2389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3209400" y="2387880"/>
                <a:ext cx="10116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3363120" y="2384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515760" y="2384640"/>
                <a:ext cx="10116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2" name=""/>
          <p:cNvGrpSpPr/>
          <p:nvPr/>
        </p:nvGrpSpPr>
        <p:grpSpPr>
          <a:xfrm>
            <a:off x="1558800" y="1641600"/>
            <a:ext cx="732240" cy="702720"/>
            <a:chOff x="1558800" y="1641600"/>
            <a:chExt cx="732240" cy="702720"/>
          </a:xfrm>
        </p:grpSpPr>
        <p:pic>
          <p:nvPicPr>
            <p:cNvPr id="1333" name="" descr=""/>
            <p:cNvPicPr/>
            <p:nvPr/>
          </p:nvPicPr>
          <p:blipFill>
            <a:blip r:embed="rId2"/>
            <a:stretch/>
          </p:blipFill>
          <p:spPr>
            <a:xfrm>
              <a:off x="1571400" y="164160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4" name=""/>
            <p:cNvGrpSpPr/>
            <p:nvPr/>
          </p:nvGrpSpPr>
          <p:grpSpPr>
            <a:xfrm>
              <a:off x="1558800" y="1763640"/>
              <a:ext cx="732240" cy="580680"/>
              <a:chOff x="1558800" y="1763640"/>
              <a:chExt cx="732240" cy="580680"/>
            </a:xfrm>
          </p:grpSpPr>
          <p:sp>
            <p:nvSpPr>
              <p:cNvPr id="1335" name=""/>
              <p:cNvSpPr/>
              <p:nvPr/>
            </p:nvSpPr>
            <p:spPr>
              <a:xfrm>
                <a:off x="1617480" y="18097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558800" y="176364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7" name=""/>
          <p:cNvGrpSpPr/>
          <p:nvPr/>
        </p:nvGrpSpPr>
        <p:grpSpPr>
          <a:xfrm>
            <a:off x="2200320" y="1389240"/>
            <a:ext cx="977760" cy="459720"/>
            <a:chOff x="2200320" y="1389240"/>
            <a:chExt cx="977760" cy="459720"/>
          </a:xfrm>
        </p:grpSpPr>
        <p:sp>
          <p:nvSpPr>
            <p:cNvPr id="1338" name=""/>
            <p:cNvSpPr/>
            <p:nvPr/>
          </p:nvSpPr>
          <p:spPr>
            <a:xfrm>
              <a:off x="2257200" y="1457280"/>
              <a:ext cx="856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200320" y="138924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5002200" y="1631880"/>
            <a:ext cx="355320" cy="932760"/>
            <a:chOff x="5002200" y="1631880"/>
            <a:chExt cx="355320" cy="932760"/>
          </a:xfrm>
        </p:grpSpPr>
        <p:sp>
          <p:nvSpPr>
            <p:cNvPr id="1341" name=""/>
            <p:cNvSpPr/>
            <p:nvPr/>
          </p:nvSpPr>
          <p:spPr>
            <a:xfrm>
              <a:off x="5002200" y="2349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182200" y="163800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004000" y="184104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02200" y="163188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57520" y="164700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5229000" y="234900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032800" y="193572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054040" y="206028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" name=""/>
          <p:cNvSpPr/>
          <p:nvPr/>
        </p:nvSpPr>
        <p:spPr>
          <a:xfrm>
            <a:off x="3524400" y="1866960"/>
            <a:ext cx="13906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24200" y="13892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400720" y="1857240"/>
            <a:ext cx="1647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598360" y="147492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345920" y="2598840"/>
            <a:ext cx="159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ceiver’s ma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4734000" y="2000160"/>
            <a:ext cx="809640" cy="561960"/>
            <a:chOff x="4734000" y="2000160"/>
            <a:chExt cx="809640" cy="561960"/>
          </a:xfrm>
        </p:grpSpPr>
        <p:sp>
          <p:nvSpPr>
            <p:cNvPr id="1356" name=""/>
            <p:cNvSpPr/>
            <p:nvPr/>
          </p:nvSpPr>
          <p:spPr>
            <a:xfrm>
              <a:off x="47340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7721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8499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0230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1102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2009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2977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386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9341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7847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9212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0580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2117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3643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0" name="" descr=""/>
          <p:cNvPicPr/>
          <p:nvPr/>
        </p:nvPicPr>
        <p:blipFill>
          <a:blip r:embed="rId3"/>
          <a:stretch/>
        </p:blipFill>
        <p:spPr>
          <a:xfrm>
            <a:off x="776160" y="163368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4"/>
          <a:stretch/>
        </p:blipFill>
        <p:spPr>
          <a:xfrm>
            <a:off x="7891560" y="1571760"/>
            <a:ext cx="676080" cy="69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285-F65A-4D0F-83F7-04AAFDECF08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OP3 protoco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uthorization ph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command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clare user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sswo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respon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action phase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ist message nu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trieve message by nu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le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433440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71960" y="847800"/>
            <a:ext cx="371520" cy="1457280"/>
          </a:xfrm>
          <a:custGeom>
            <a:avLst/>
            <a:gdLst/>
            <a:ahLst/>
            <a:rect l="l" t="t" r="r" b="b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3486240" y="1438200"/>
            <a:ext cx="1400040" cy="238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962600" y="2428920"/>
            <a:ext cx="371520" cy="3895560"/>
          </a:xfrm>
          <a:custGeom>
            <a:avLst/>
            <a:gdLst/>
            <a:ahLst/>
            <a:rect l="l" t="t" r="r" b="b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3152880" y="3952800"/>
            <a:ext cx="1733400" cy="32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126-9B35-4238-9733-97AAC42C39F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OP3 (more) and IMA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re about POP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vious example uses “download and delete” mo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b cannot re-read e-mail if he changes cli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wnload-and-keep”: copies of messages on different cli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3 is stateless across se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M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all messages in one place: the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user to organize messages in fold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AP keeps user state across sess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s of folders and mappings between message IDs and folder 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E05-4936-4D05-B3B1-1586316C30A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69720" y="1247760"/>
            <a:ext cx="4248360" cy="90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0440" y="23760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lient-server paradigm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0240" y="1304640"/>
            <a:ext cx="419076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network app has two pieces: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cli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898880" y="1847880"/>
            <a:ext cx="3678120" cy="3669840"/>
            <a:chOff x="4898880" y="1847880"/>
            <a:chExt cx="3678120" cy="3669840"/>
          </a:xfrm>
        </p:grpSpPr>
        <p:sp>
          <p:nvSpPr>
            <p:cNvPr id="304" name=""/>
            <p:cNvSpPr/>
            <p:nvPr/>
          </p:nvSpPr>
          <p:spPr>
            <a:xfrm>
              <a:off x="6778440" y="1990440"/>
              <a:ext cx="1798560" cy="167436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98880" y="1847880"/>
              <a:ext cx="1866960" cy="158868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67160" y="3298680"/>
              <a:ext cx="2975040" cy="221904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5016240" y="1982520"/>
              <a:ext cx="732960" cy="318600"/>
              <a:chOff x="5016240" y="1982520"/>
              <a:chExt cx="732960" cy="318600"/>
            </a:xfrm>
          </p:grpSpPr>
          <p:pic>
            <p:nvPicPr>
              <p:cNvPr id="30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16240" y="1982520"/>
                <a:ext cx="416160" cy="31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69840" y="210024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flipV="1">
                <a:off x="5422680" y="222372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5016240" y="2577960"/>
              <a:ext cx="732960" cy="318600"/>
              <a:chOff x="5016240" y="2577960"/>
              <a:chExt cx="732960" cy="318600"/>
            </a:xfrm>
          </p:grpSpPr>
          <p:pic>
            <p:nvPicPr>
              <p:cNvPr id="3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16240" y="2577960"/>
                <a:ext cx="416160" cy="31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69840" y="269568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flipV="1">
                <a:off x="5422680" y="281916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392440" y="2365200"/>
              <a:ext cx="69480" cy="213480"/>
              <a:chOff x="5392440" y="2365200"/>
              <a:chExt cx="69480" cy="213480"/>
            </a:xfrm>
          </p:grpSpPr>
          <p:sp>
            <p:nvSpPr>
              <p:cNvPr id="316" name=""/>
              <p:cNvSpPr/>
              <p:nvPr/>
            </p:nvSpPr>
            <p:spPr>
              <a:xfrm>
                <a:off x="5392440" y="2365200"/>
                <a:ext cx="6408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94960" y="2441880"/>
                <a:ext cx="64080" cy="597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397840" y="2518920"/>
                <a:ext cx="64080" cy="597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862600" y="2868480"/>
              <a:ext cx="209520" cy="394560"/>
              <a:chOff x="5862600" y="2868480"/>
              <a:chExt cx="209520" cy="39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5862600" y="317196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968800" y="2871000"/>
                <a:ext cx="96120" cy="3031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63680" y="2957040"/>
                <a:ext cx="132480" cy="303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862600" y="286848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72120" y="2874600"/>
                <a:ext cx="0" cy="2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996160" y="317196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80600" y="2997000"/>
                <a:ext cx="8784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93200" y="3049920"/>
                <a:ext cx="66600" cy="6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099120" y="3022560"/>
              <a:ext cx="233280" cy="80280"/>
              <a:chOff x="6099120" y="3022560"/>
              <a:chExt cx="233280" cy="80280"/>
            </a:xfrm>
          </p:grpSpPr>
          <p:sp>
            <p:nvSpPr>
              <p:cNvPr id="329" name=""/>
              <p:cNvSpPr/>
              <p:nvPr/>
            </p:nvSpPr>
            <p:spPr>
              <a:xfrm rot="16200000">
                <a:off x="6094800" y="3033000"/>
                <a:ext cx="7416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6178680" y="3030120"/>
                <a:ext cx="7416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6262560" y="3026880"/>
                <a:ext cx="7416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5999040" y="2776320"/>
              <a:ext cx="495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02280" y="2773080"/>
              <a:ext cx="144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97280" y="2771640"/>
              <a:ext cx="180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98800" y="2236680"/>
              <a:ext cx="289080" cy="26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5711760" y="2521800"/>
              <a:ext cx="27612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238800" y="2607840"/>
              <a:ext cx="1440" cy="16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357600" y="2846160"/>
              <a:ext cx="209520" cy="394560"/>
              <a:chOff x="6357600" y="2846160"/>
              <a:chExt cx="209520" cy="394560"/>
            </a:xfrm>
          </p:grpSpPr>
          <p:sp>
            <p:nvSpPr>
              <p:cNvPr id="339" name=""/>
              <p:cNvSpPr/>
              <p:nvPr/>
            </p:nvSpPr>
            <p:spPr>
              <a:xfrm>
                <a:off x="6357600" y="314964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463800" y="2848680"/>
                <a:ext cx="96120" cy="3031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358680" y="2934720"/>
                <a:ext cx="132480" cy="303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57600" y="284616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567120" y="2852280"/>
                <a:ext cx="0" cy="2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491160" y="314964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375600" y="2974680"/>
                <a:ext cx="8784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388200" y="3027600"/>
                <a:ext cx="66600" cy="6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400360" y="3465360"/>
              <a:ext cx="479160" cy="924840"/>
              <a:chOff x="5400360" y="3465360"/>
              <a:chExt cx="479160" cy="924840"/>
            </a:xfrm>
          </p:grpSpPr>
          <p:pic>
            <p:nvPicPr>
              <p:cNvPr id="3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00360" y="346536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flipV="1">
                <a:off x="5807160" y="37119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00360" y="405972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 flipV="1">
                <a:off x="5807160" y="430992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5525640" y="3806280"/>
                <a:ext cx="70560" cy="222120"/>
                <a:chOff x="5525640" y="3806280"/>
                <a:chExt cx="70560" cy="2221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525640" y="3806280"/>
                  <a:ext cx="65160" cy="62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528160" y="388620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531040" y="396612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5874120" y="3709080"/>
                <a:ext cx="0" cy="59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7" name="" descr=""/>
            <p:cNvPicPr/>
            <p:nvPr/>
          </p:nvPicPr>
          <p:blipFill>
            <a:blip r:embed="rId7"/>
            <a:stretch/>
          </p:blipFill>
          <p:spPr>
            <a:xfrm>
              <a:off x="6268680" y="4474800"/>
              <a:ext cx="41760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8"/>
            <a:stretch/>
          </p:blipFill>
          <p:spPr>
            <a:xfrm>
              <a:off x="5654520" y="4464000"/>
              <a:ext cx="415800" cy="32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 rot="16200000">
              <a:off x="6071400" y="4567320"/>
              <a:ext cx="6300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6156000" y="4565160"/>
              <a:ext cx="63360" cy="666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6200000">
              <a:off x="6234120" y="4569480"/>
              <a:ext cx="6156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22840" y="4420440"/>
              <a:ext cx="144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898960" y="4409640"/>
              <a:ext cx="0" cy="6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5900400" y="4416120"/>
              <a:ext cx="6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5879880" y="4041360"/>
              <a:ext cx="936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81440" y="4087440"/>
              <a:ext cx="30348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277040" y="4084560"/>
              <a:ext cx="279360" cy="39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9"/>
            <a:stretch/>
          </p:blipFill>
          <p:spPr>
            <a:xfrm>
              <a:off x="7454880" y="3636720"/>
              <a:ext cx="203040" cy="24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10"/>
            <a:stretch/>
          </p:blipFill>
          <p:spPr>
            <a:xfrm>
              <a:off x="6118200" y="3717720"/>
              <a:ext cx="203040" cy="23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6198840" y="3492360"/>
              <a:ext cx="1354320" cy="30420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6465600" y="4914720"/>
              <a:ext cx="406080" cy="426240"/>
              <a:chOff x="6465600" y="4914720"/>
              <a:chExt cx="406080" cy="426240"/>
            </a:xfrm>
          </p:grpSpPr>
          <p:pic>
            <p:nvPicPr>
              <p:cNvPr id="37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65600" y="4914720"/>
                <a:ext cx="378360" cy="37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25360" y="5026320"/>
                <a:ext cx="346320" cy="31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4" name=""/>
            <p:cNvGrpSpPr/>
            <p:nvPr/>
          </p:nvGrpSpPr>
          <p:grpSpPr>
            <a:xfrm>
              <a:off x="7243560" y="4946400"/>
              <a:ext cx="406080" cy="426240"/>
              <a:chOff x="7243560" y="4946400"/>
              <a:chExt cx="406080" cy="426240"/>
            </a:xfrm>
          </p:grpSpPr>
          <p:pic>
            <p:nvPicPr>
              <p:cNvPr id="37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43560" y="4946400"/>
                <a:ext cx="378360" cy="37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03320" y="5058000"/>
                <a:ext cx="346320" cy="31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7" name=""/>
            <p:cNvGrpSpPr/>
            <p:nvPr/>
          </p:nvGrpSpPr>
          <p:grpSpPr>
            <a:xfrm>
              <a:off x="6829200" y="4662360"/>
              <a:ext cx="379440" cy="375840"/>
              <a:chOff x="6829200" y="4662360"/>
              <a:chExt cx="379440" cy="375840"/>
            </a:xfrm>
          </p:grpSpPr>
          <p:pic>
            <p:nvPicPr>
              <p:cNvPr id="37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29200" y="4662360"/>
                <a:ext cx="379440" cy="37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6939360" y="4794120"/>
                <a:ext cx="267480" cy="243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135560" y="456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856280" y="3989160"/>
              <a:ext cx="208080" cy="408960"/>
              <a:chOff x="7856280" y="3989160"/>
              <a:chExt cx="208080" cy="408960"/>
            </a:xfrm>
          </p:grpSpPr>
          <p:sp>
            <p:nvSpPr>
              <p:cNvPr id="382" name=""/>
              <p:cNvSpPr/>
              <p:nvPr/>
            </p:nvSpPr>
            <p:spPr>
              <a:xfrm>
                <a:off x="7856280" y="430380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61400" y="399168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857360" y="4080960"/>
                <a:ext cx="13176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856280" y="398916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64360" y="399564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7989120" y="430380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873920" y="412236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886520" y="41770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7843680" y="4433760"/>
              <a:ext cx="208080" cy="408600"/>
              <a:chOff x="7843680" y="4433760"/>
              <a:chExt cx="208080" cy="408600"/>
            </a:xfrm>
          </p:grpSpPr>
          <p:sp>
            <p:nvSpPr>
              <p:cNvPr id="391" name=""/>
              <p:cNvSpPr/>
              <p:nvPr/>
            </p:nvSpPr>
            <p:spPr>
              <a:xfrm>
                <a:off x="7843680" y="474804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48800" y="4436280"/>
                <a:ext cx="95400" cy="3139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844760" y="4525560"/>
                <a:ext cx="131760" cy="3142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843680" y="443376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051760" y="444024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7976520" y="474804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861320" y="456696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873920" y="462132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 flipV="1">
              <a:off x="7775280" y="4057560"/>
              <a:ext cx="0" cy="61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72040" y="4667040"/>
              <a:ext cx="1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69160" y="41907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492600" y="2287440"/>
              <a:ext cx="459000" cy="20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27880" y="2271600"/>
              <a:ext cx="485640" cy="20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947000" y="2608200"/>
              <a:ext cx="241200" cy="68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76960" y="238428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02160" y="3031920"/>
              <a:ext cx="534960" cy="36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662240" y="3497040"/>
              <a:ext cx="266760" cy="36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435800" y="2576160"/>
              <a:ext cx="56016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444800" y="2016000"/>
              <a:ext cx="35100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8162640" y="2192040"/>
              <a:ext cx="20160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5973480" y="2384280"/>
              <a:ext cx="501840" cy="232560"/>
              <a:chOff x="5973480" y="2384280"/>
              <a:chExt cx="501840" cy="232560"/>
            </a:xfrm>
          </p:grpSpPr>
          <p:sp>
            <p:nvSpPr>
              <p:cNvPr id="412" name=""/>
              <p:cNvSpPr/>
              <p:nvPr/>
            </p:nvSpPr>
            <p:spPr>
              <a:xfrm>
                <a:off x="5977440" y="248796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77440" y="2477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75320" y="2477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977440" y="24771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973480" y="23842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6093000" y="2417040"/>
                <a:ext cx="246240" cy="88200"/>
                <a:chOff x="6093000" y="2417040"/>
                <a:chExt cx="246240" cy="88200"/>
              </a:xfrm>
            </p:grpSpPr>
            <p:sp>
              <p:nvSpPr>
                <p:cNvPr id="418" name=""/>
                <p:cNvSpPr/>
                <p:nvPr/>
              </p:nvSpPr>
              <p:spPr>
                <a:xfrm flipV="1">
                  <a:off x="6093000" y="241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261840" y="2505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174000" y="24192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6093000" y="2415960"/>
                <a:ext cx="246240" cy="88200"/>
                <a:chOff x="6093000" y="2415960"/>
                <a:chExt cx="246240" cy="882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6093000" y="25023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261840" y="24159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6174000" y="24159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5" name=""/>
            <p:cNvGrpSpPr/>
            <p:nvPr/>
          </p:nvGrpSpPr>
          <p:grpSpPr>
            <a:xfrm>
              <a:off x="6926040" y="2155680"/>
              <a:ext cx="501840" cy="232560"/>
              <a:chOff x="6926040" y="2155680"/>
              <a:chExt cx="501840" cy="232560"/>
            </a:xfrm>
          </p:grpSpPr>
          <p:sp>
            <p:nvSpPr>
              <p:cNvPr id="426" name=""/>
              <p:cNvSpPr/>
              <p:nvPr/>
            </p:nvSpPr>
            <p:spPr>
              <a:xfrm>
                <a:off x="6930000" y="225936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930000" y="2248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27880" y="2248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930000" y="22485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926040" y="21556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7045560" y="2188440"/>
                <a:ext cx="246240" cy="88200"/>
                <a:chOff x="7045560" y="2188440"/>
                <a:chExt cx="246240" cy="88200"/>
              </a:xfrm>
            </p:grpSpPr>
            <p:sp>
              <p:nvSpPr>
                <p:cNvPr id="432" name=""/>
                <p:cNvSpPr/>
                <p:nvPr/>
              </p:nvSpPr>
              <p:spPr>
                <a:xfrm flipV="1">
                  <a:off x="7045560" y="2188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214400" y="227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126560" y="2190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7045560" y="2187360"/>
                <a:ext cx="246240" cy="88200"/>
                <a:chOff x="7045560" y="2187360"/>
                <a:chExt cx="246240" cy="882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7045560" y="2273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214400" y="2187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V="1">
                  <a:off x="7126560" y="2187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9" name=""/>
            <p:cNvGrpSpPr/>
            <p:nvPr/>
          </p:nvGrpSpPr>
          <p:grpSpPr>
            <a:xfrm>
              <a:off x="6943680" y="2812680"/>
              <a:ext cx="501480" cy="232920"/>
              <a:chOff x="6943680" y="2812680"/>
              <a:chExt cx="501480" cy="23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6947640" y="291672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947640" y="2905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45160" y="2905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947640" y="29055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943680" y="281268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7063200" y="2845440"/>
                <a:ext cx="246240" cy="88200"/>
                <a:chOff x="7063200" y="2845440"/>
                <a:chExt cx="246240" cy="88200"/>
              </a:xfrm>
            </p:grpSpPr>
            <p:sp>
              <p:nvSpPr>
                <p:cNvPr id="446" name=""/>
                <p:cNvSpPr/>
                <p:nvPr/>
              </p:nvSpPr>
              <p:spPr>
                <a:xfrm flipV="1">
                  <a:off x="7063200" y="2845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232040" y="2933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144200" y="2847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7063200" y="2844720"/>
                <a:ext cx="246240" cy="88200"/>
                <a:chOff x="7063200" y="2844720"/>
                <a:chExt cx="246240" cy="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7063200" y="2931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232040" y="2844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V="1">
                  <a:off x="7144200" y="28447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3" name=""/>
            <p:cNvGrpSpPr/>
            <p:nvPr/>
          </p:nvGrpSpPr>
          <p:grpSpPr>
            <a:xfrm>
              <a:off x="7913520" y="2363400"/>
              <a:ext cx="500040" cy="232920"/>
              <a:chOff x="7913520" y="2363400"/>
              <a:chExt cx="500040" cy="232920"/>
            </a:xfrm>
          </p:grpSpPr>
          <p:sp>
            <p:nvSpPr>
              <p:cNvPr id="454" name=""/>
              <p:cNvSpPr/>
              <p:nvPr/>
            </p:nvSpPr>
            <p:spPr>
              <a:xfrm>
                <a:off x="7917480" y="2467440"/>
                <a:ext cx="4957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917480" y="24562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13560" y="24562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917480" y="245628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913520" y="236340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8032680" y="2396160"/>
                <a:ext cx="245520" cy="88200"/>
                <a:chOff x="8032680" y="2396160"/>
                <a:chExt cx="245520" cy="88200"/>
              </a:xfrm>
            </p:grpSpPr>
            <p:sp>
              <p:nvSpPr>
                <p:cNvPr id="460" name=""/>
                <p:cNvSpPr/>
                <p:nvPr/>
              </p:nvSpPr>
              <p:spPr>
                <a:xfrm flipV="1">
                  <a:off x="8032680" y="23961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8201160" y="24843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113320" y="23983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8032680" y="2395440"/>
                <a:ext cx="245520" cy="88200"/>
                <a:chOff x="8032680" y="2395440"/>
                <a:chExt cx="245520" cy="882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8032680" y="24818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201160" y="239544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V="1">
                  <a:off x="8113320" y="23954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7" name=""/>
            <p:cNvGrpSpPr/>
            <p:nvPr/>
          </p:nvGrpSpPr>
          <p:grpSpPr>
            <a:xfrm>
              <a:off x="7719840" y="3260520"/>
              <a:ext cx="501480" cy="232560"/>
              <a:chOff x="7719840" y="3260520"/>
              <a:chExt cx="501480" cy="232560"/>
            </a:xfrm>
          </p:grpSpPr>
          <p:sp>
            <p:nvSpPr>
              <p:cNvPr id="468" name=""/>
              <p:cNvSpPr/>
              <p:nvPr/>
            </p:nvSpPr>
            <p:spPr>
              <a:xfrm>
                <a:off x="7723800" y="336420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723800" y="3353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221320" y="3353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723800" y="33534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719840" y="32605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7839360" y="3293280"/>
                <a:ext cx="246240" cy="88200"/>
                <a:chOff x="7839360" y="3293280"/>
                <a:chExt cx="246240" cy="88200"/>
              </a:xfrm>
            </p:grpSpPr>
            <p:sp>
              <p:nvSpPr>
                <p:cNvPr id="474" name=""/>
                <p:cNvSpPr/>
                <p:nvPr/>
              </p:nvSpPr>
              <p:spPr>
                <a:xfrm flipV="1">
                  <a:off x="7839360" y="32932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8008200" y="3381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920360" y="32954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7839360" y="3292200"/>
                <a:ext cx="246240" cy="88200"/>
                <a:chOff x="7839360" y="3292200"/>
                <a:chExt cx="246240" cy="8820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7839360" y="3378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008200" y="3292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V="1">
                  <a:off x="7920360" y="32922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1" name=""/>
            <p:cNvGrpSpPr/>
            <p:nvPr/>
          </p:nvGrpSpPr>
          <p:grpSpPr>
            <a:xfrm>
              <a:off x="7386480" y="3844800"/>
              <a:ext cx="501480" cy="234000"/>
              <a:chOff x="7386480" y="3844800"/>
              <a:chExt cx="501480" cy="234000"/>
            </a:xfrm>
          </p:grpSpPr>
          <p:sp>
            <p:nvSpPr>
              <p:cNvPr id="482" name=""/>
              <p:cNvSpPr/>
              <p:nvPr/>
            </p:nvSpPr>
            <p:spPr>
              <a:xfrm>
                <a:off x="7390440" y="3949200"/>
                <a:ext cx="497160" cy="129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390440" y="39384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87960" y="39384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390440" y="3938400"/>
                <a:ext cx="492840" cy="79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86480" y="3844800"/>
                <a:ext cx="496800" cy="1512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7506000" y="3877560"/>
                <a:ext cx="246240" cy="88560"/>
                <a:chOff x="7506000" y="3877560"/>
                <a:chExt cx="246240" cy="88560"/>
              </a:xfrm>
            </p:grpSpPr>
            <p:sp>
              <p:nvSpPr>
                <p:cNvPr id="488" name=""/>
                <p:cNvSpPr/>
                <p:nvPr/>
              </p:nvSpPr>
              <p:spPr>
                <a:xfrm flipV="1">
                  <a:off x="7506000" y="38775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674840" y="3966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587000" y="387972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506000" y="3876480"/>
                <a:ext cx="246240" cy="88560"/>
                <a:chOff x="7506000" y="3876480"/>
                <a:chExt cx="246240" cy="885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06000" y="3963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674840" y="3876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7587000" y="387648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5" name=""/>
            <p:cNvGrpSpPr/>
            <p:nvPr/>
          </p:nvGrpSpPr>
          <p:grpSpPr>
            <a:xfrm>
              <a:off x="6777000" y="4333680"/>
              <a:ext cx="500040" cy="232560"/>
              <a:chOff x="6777000" y="4333680"/>
              <a:chExt cx="500040" cy="232560"/>
            </a:xfrm>
          </p:grpSpPr>
          <p:sp>
            <p:nvSpPr>
              <p:cNvPr id="496" name=""/>
              <p:cNvSpPr/>
              <p:nvPr/>
            </p:nvSpPr>
            <p:spPr>
              <a:xfrm>
                <a:off x="6780960" y="4437360"/>
                <a:ext cx="4957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780960" y="4426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277040" y="4426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780960" y="442656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777000" y="433368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1" name=""/>
              <p:cNvGrpSpPr/>
              <p:nvPr/>
            </p:nvGrpSpPr>
            <p:grpSpPr>
              <a:xfrm>
                <a:off x="6896160" y="4366440"/>
                <a:ext cx="245520" cy="88200"/>
                <a:chOff x="6896160" y="4366440"/>
                <a:chExt cx="245520" cy="88200"/>
              </a:xfrm>
            </p:grpSpPr>
            <p:sp>
              <p:nvSpPr>
                <p:cNvPr id="502" name=""/>
                <p:cNvSpPr/>
                <p:nvPr/>
              </p:nvSpPr>
              <p:spPr>
                <a:xfrm flipV="1">
                  <a:off x="6896160" y="43664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064640" y="445464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976800" y="43686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6896160" y="4365360"/>
                <a:ext cx="245520" cy="88200"/>
                <a:chOff x="6896160" y="4365360"/>
                <a:chExt cx="245520" cy="882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6896160" y="44517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064640" y="43653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V="1">
                  <a:off x="6976800" y="43653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9" name=""/>
            <p:cNvGrpSpPr/>
            <p:nvPr/>
          </p:nvGrpSpPr>
          <p:grpSpPr>
            <a:xfrm>
              <a:off x="5973480" y="3957480"/>
              <a:ext cx="501840" cy="232560"/>
              <a:chOff x="5973480" y="3957480"/>
              <a:chExt cx="501840" cy="232560"/>
            </a:xfrm>
          </p:grpSpPr>
          <p:sp>
            <p:nvSpPr>
              <p:cNvPr id="510" name=""/>
              <p:cNvSpPr/>
              <p:nvPr/>
            </p:nvSpPr>
            <p:spPr>
              <a:xfrm>
                <a:off x="5977440" y="406116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977440" y="4050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475320" y="4050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977440" y="40503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73480" y="39574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5" name=""/>
              <p:cNvGrpSpPr/>
              <p:nvPr/>
            </p:nvGrpSpPr>
            <p:grpSpPr>
              <a:xfrm>
                <a:off x="6093000" y="3990240"/>
                <a:ext cx="246240" cy="88200"/>
                <a:chOff x="6093000" y="3990240"/>
                <a:chExt cx="246240" cy="88200"/>
              </a:xfrm>
            </p:grpSpPr>
            <p:sp>
              <p:nvSpPr>
                <p:cNvPr id="516" name=""/>
                <p:cNvSpPr/>
                <p:nvPr/>
              </p:nvSpPr>
              <p:spPr>
                <a:xfrm flipV="1">
                  <a:off x="6093000" y="3990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261840" y="4078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174000" y="3992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6093000" y="3989160"/>
                <a:ext cx="246240" cy="88200"/>
                <a:chOff x="6093000" y="3989160"/>
                <a:chExt cx="246240" cy="882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6093000" y="40755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261840" y="3989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V="1">
                  <a:off x="6174000" y="39891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3" name=""/>
            <p:cNvSpPr/>
            <p:nvPr/>
          </p:nvSpPr>
          <p:spPr>
            <a:xfrm flipV="1">
              <a:off x="6229080" y="4169880"/>
              <a:ext cx="180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4740120" y="1500120"/>
            <a:ext cx="3738600" cy="3879720"/>
            <a:chOff x="4740120" y="1500120"/>
            <a:chExt cx="3738600" cy="3879720"/>
          </a:xfrm>
        </p:grpSpPr>
        <p:grpSp>
          <p:nvGrpSpPr>
            <p:cNvPr id="525" name=""/>
            <p:cNvGrpSpPr/>
            <p:nvPr/>
          </p:nvGrpSpPr>
          <p:grpSpPr>
            <a:xfrm>
              <a:off x="4740120" y="1500120"/>
              <a:ext cx="814320" cy="1012680"/>
              <a:chOff x="4740120" y="1500120"/>
              <a:chExt cx="814320" cy="1012680"/>
            </a:xfrm>
          </p:grpSpPr>
          <p:sp>
            <p:nvSpPr>
              <p:cNvPr id="526" name=""/>
              <p:cNvSpPr/>
              <p:nvPr/>
            </p:nvSpPr>
            <p:spPr>
              <a:xfrm>
                <a:off x="4838400" y="1500120"/>
                <a:ext cx="67644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05280" y="152424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809960" y="152892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740120" y="150516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805280" y="18669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640" y="20052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814640" y="21430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7664400" y="4367160"/>
              <a:ext cx="814320" cy="1012680"/>
              <a:chOff x="7664400" y="4367160"/>
              <a:chExt cx="814320" cy="1012680"/>
            </a:xfrm>
          </p:grpSpPr>
          <p:sp>
            <p:nvSpPr>
              <p:cNvPr id="534" name=""/>
              <p:cNvSpPr/>
              <p:nvPr/>
            </p:nvSpPr>
            <p:spPr>
              <a:xfrm>
                <a:off x="7762680" y="4367160"/>
                <a:ext cx="67644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729560" y="439128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734240" y="439596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64400" y="4372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729560" y="47340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738920" y="4872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738920" y="501012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1" name=""/>
          <p:cNvSpPr/>
          <p:nvPr/>
        </p:nvSpPr>
        <p:spPr>
          <a:xfrm>
            <a:off x="322200" y="2209680"/>
            <a:ext cx="429588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itiates contact with server (“speaks firs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ly requests service from serv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: client implemented in browser; e-mail: in mail 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473080" y="1724040"/>
            <a:ext cx="2242080" cy="2743200"/>
            <a:chOff x="5473080" y="1724040"/>
            <a:chExt cx="2242080" cy="2743200"/>
          </a:xfrm>
        </p:grpSpPr>
        <p:sp>
          <p:nvSpPr>
            <p:cNvPr id="543" name=""/>
            <p:cNvSpPr/>
            <p:nvPr/>
          </p:nvSpPr>
          <p:spPr>
            <a:xfrm>
              <a:off x="5495760" y="1724040"/>
              <a:ext cx="2219400" cy="274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5473080" y="2351160"/>
              <a:ext cx="1099800" cy="398880"/>
              <a:chOff x="5473080" y="2351160"/>
              <a:chExt cx="1099800" cy="398880"/>
            </a:xfrm>
          </p:grpSpPr>
          <p:sp>
            <p:nvSpPr>
              <p:cNvPr id="545" name=""/>
              <p:cNvSpPr/>
              <p:nvPr/>
            </p:nvSpPr>
            <p:spPr>
              <a:xfrm>
                <a:off x="5562360" y="2438280"/>
                <a:ext cx="942840" cy="26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73080" y="2351160"/>
                <a:ext cx="109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requ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5572080" y="1609560"/>
            <a:ext cx="2914560" cy="2743200"/>
            <a:chOff x="5572080" y="1609560"/>
            <a:chExt cx="2914560" cy="2743200"/>
          </a:xfrm>
        </p:grpSpPr>
        <p:sp>
          <p:nvSpPr>
            <p:cNvPr id="548" name=""/>
            <p:cNvSpPr/>
            <p:nvPr/>
          </p:nvSpPr>
          <p:spPr>
            <a:xfrm>
              <a:off x="5572080" y="1609560"/>
              <a:ext cx="2286000" cy="274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7543800" y="3789360"/>
              <a:ext cx="942840" cy="398880"/>
              <a:chOff x="7543800" y="3789360"/>
              <a:chExt cx="942840" cy="398880"/>
            </a:xfrm>
          </p:grpSpPr>
          <p:sp>
            <p:nvSpPr>
              <p:cNvPr id="550" name=""/>
              <p:cNvSpPr/>
              <p:nvPr/>
            </p:nvSpPr>
            <p:spPr>
              <a:xfrm>
                <a:off x="7543800" y="3876480"/>
                <a:ext cx="942840" cy="26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612920" y="3789360"/>
                <a:ext cx="78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rep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281160" y="4805280"/>
            <a:ext cx="51876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r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s requested service to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Web server sends requested Web page, mail server delivers 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ED3-9917-45AF-9C29-10E8600780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apter 2 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1 Principles of app layer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s and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2 Web and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4 Electronic Ma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6 Socket programming with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7 Socket programming with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8 Building a Web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9 Content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Web ca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nt distribution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2P file sh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015-2FA3-4FB5-9D5F-4915FDD030F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Domain Name System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SN, name, passport #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 address (32 bit) - used for addressing data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”, e.g., gaia.cs.umass.edu - used by hum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p between IP addresses and n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52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main Nam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distributed datab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mplemented in hierarchy of many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name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application-layer protoco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ost, routers, name servers to communicate to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resolve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s (address/name transla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e: core Internet function, implemented as application-layer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exity at network’s “edg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1D4-A881-4B21-A518-22BAA28157F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 name server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610160" y="1466640"/>
            <a:ext cx="420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server has all name-to-IP address mapp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cal name serv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ISP, company has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local (default)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DNS query first goes to local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uthoritative name ser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 host: stores that host’s IP address, 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perform name/address translation for that host’s nam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76280" y="150480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y not centralize DN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t centralized data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esn’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cal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6FB-F9F0-4A41-95C2-7DE4A28C378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Root name server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cted by local name server that can not resolve 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 name serv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cts authoritative name server if name mapping not kn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s mapp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s mapping to local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347760" y="3335040"/>
            <a:ext cx="6030720" cy="3148200"/>
            <a:chOff x="347760" y="3335040"/>
            <a:chExt cx="6030720" cy="3148200"/>
          </a:xfrm>
        </p:grpSpPr>
        <p:pic>
          <p:nvPicPr>
            <p:cNvPr id="1397" name="" descr=""/>
            <p:cNvPicPr/>
            <p:nvPr/>
          </p:nvPicPr>
          <p:blipFill>
            <a:blip r:embed="rId1"/>
            <a:stretch/>
          </p:blipFill>
          <p:spPr>
            <a:xfrm>
              <a:off x="1724400" y="4155840"/>
              <a:ext cx="4502520" cy="23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8" name=""/>
            <p:cNvSpPr/>
            <p:nvPr/>
          </p:nvSpPr>
          <p:spPr>
            <a:xfrm>
              <a:off x="2116800" y="3456720"/>
              <a:ext cx="672480" cy="1321560"/>
            </a:xfrm>
            <a:custGeom>
              <a:avLst/>
              <a:gdLst/>
              <a:ahLst/>
              <a:rect l="l" t="t" r="r" b="b"/>
              <a:pathLst>
                <a:path w="963" h="1893">
                  <a:moveTo>
                    <a:pt x="0" y="0"/>
                  </a:moveTo>
                  <a:lnTo>
                    <a:pt x="0" y="930"/>
                  </a:lnTo>
                  <a:lnTo>
                    <a:pt x="963" y="18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160" y="5519520"/>
              <a:ext cx="21092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 USC-ISI Marina del Rey, 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  ICANN Marina del Rey, 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437840" y="4942440"/>
              <a:ext cx="794160" cy="582120"/>
            </a:xfrm>
            <a:custGeom>
              <a:avLst/>
              <a:gdLst/>
              <a:ahLst/>
              <a:rect l="l" t="t" r="r" b="b"/>
              <a:pathLst>
                <a:path w="582" h="426">
                  <a:moveTo>
                    <a:pt x="0" y="426"/>
                  </a:moveTo>
                  <a:lnTo>
                    <a:pt x="5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7760" y="4321080"/>
              <a:ext cx="2031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 NASA Mt View, 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  Internet Software C. Palo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Alto, 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1330920" y="4680360"/>
              <a:ext cx="851760" cy="196560"/>
            </a:xfrm>
            <a:custGeom>
              <a:avLst/>
              <a:gdLst/>
              <a:ahLst/>
              <a:rect l="l" t="t" r="r" b="b"/>
              <a:pathLst>
                <a:path w="582" h="426">
                  <a:moveTo>
                    <a:pt x="0" y="426"/>
                  </a:moveTo>
                  <a:lnTo>
                    <a:pt x="5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62120" y="3676680"/>
              <a:ext cx="174024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 NORDUnet Stockhol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945240" y="3823200"/>
              <a:ext cx="464400" cy="701280"/>
            </a:xfrm>
            <a:custGeom>
              <a:avLst/>
              <a:gdLst/>
              <a:ahLst/>
              <a:rect l="l" t="t" r="r" b="b"/>
              <a:pathLst>
                <a:path w="666" h="1005">
                  <a:moveTo>
                    <a:pt x="666" y="0"/>
                  </a:moveTo>
                  <a:lnTo>
                    <a:pt x="0" y="10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351680" y="3468600"/>
              <a:ext cx="1594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 RIPE Lond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755520" y="3603600"/>
              <a:ext cx="643680" cy="1010880"/>
            </a:xfrm>
            <a:custGeom>
              <a:avLst/>
              <a:gdLst/>
              <a:ahLst/>
              <a:rect l="l" t="t" r="r" b="b"/>
              <a:pathLst>
                <a:path w="922" h="1448">
                  <a:moveTo>
                    <a:pt x="922" y="0"/>
                  </a:moveTo>
                  <a:lnTo>
                    <a:pt x="0" y="14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073480" y="4035240"/>
              <a:ext cx="13050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 WIDE Toky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657400" y="4221360"/>
              <a:ext cx="343800" cy="631080"/>
            </a:xfrm>
            <a:custGeom>
              <a:avLst/>
              <a:gdLst/>
              <a:ahLst/>
              <a:rect l="l" t="t" r="r" b="b"/>
              <a:pathLst>
                <a:path w="252" h="462">
                  <a:moveTo>
                    <a:pt x="252" y="0"/>
                  </a:moveTo>
                  <a:lnTo>
                    <a:pt x="0" y="4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135880" y="3335040"/>
              <a:ext cx="236700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NSI Herndon, 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 PSInet Herndon, 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 U Maryland College Park, M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 DISA Vienna, 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ARL Aberdeen, M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  NSI (TBD) Herndon, 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6186600" y="5032440"/>
            <a:ext cx="2681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3 root name server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488-01D2-4FDD-A40A-6B571CA91A5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imple DNS examp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rf.eurecom.f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ants IP address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aia.cs.umass.ed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tacts its local DNS server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.eurecom.f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.eurecom.f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tacts root name server, if necess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oot name server contacts authoritative name server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.umass.edu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f necessa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5103720" y="463536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1414" name=""/>
          <p:cNvSpPr/>
          <p:nvPr/>
        </p:nvSpPr>
        <p:spPr>
          <a:xfrm>
            <a:off x="4104360" y="5222880"/>
            <a:ext cx="200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rf.eurecom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649560" y="534528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" descr=""/>
          <p:cNvPicPr/>
          <p:nvPr/>
        </p:nvPicPr>
        <p:blipFill>
          <a:blip r:embed="rId2"/>
          <a:stretch/>
        </p:blipFill>
        <p:spPr>
          <a:xfrm>
            <a:off x="6970680" y="4597560"/>
            <a:ext cx="833400" cy="637920"/>
          </a:xfrm>
          <a:prstGeom prst="rect">
            <a:avLst/>
          </a:prstGeom>
          <a:ln w="0">
            <a:noFill/>
          </a:ln>
        </p:spPr>
      </p:pic>
      <p:grpSp>
        <p:nvGrpSpPr>
          <p:cNvPr id="1417" name=""/>
          <p:cNvGrpSpPr/>
          <p:nvPr/>
        </p:nvGrpSpPr>
        <p:grpSpPr>
          <a:xfrm>
            <a:off x="5265720" y="2570040"/>
            <a:ext cx="369720" cy="657000"/>
            <a:chOff x="5265720" y="2570040"/>
            <a:chExt cx="369720" cy="657000"/>
          </a:xfrm>
        </p:grpSpPr>
        <p:sp>
          <p:nvSpPr>
            <p:cNvPr id="1418" name=""/>
            <p:cNvSpPr/>
            <p:nvPr/>
          </p:nvSpPr>
          <p:spPr>
            <a:xfrm>
              <a:off x="5265720" y="30751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452920" y="25743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267880" y="271728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265720" y="25700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635440" y="25804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5501880" y="30751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297400" y="2783880"/>
              <a:ext cx="15552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319720" y="28717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6" name=""/>
          <p:cNvSpPr/>
          <p:nvPr/>
        </p:nvSpPr>
        <p:spPr>
          <a:xfrm>
            <a:off x="5791320" y="73656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548760" y="3408480"/>
            <a:ext cx="25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i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umass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5315040" y="325728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5429160" y="156168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734160" y="1743120"/>
            <a:ext cx="5619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 flipV="1">
            <a:off x="6819480" y="1571400"/>
            <a:ext cx="647640" cy="933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619600" y="1771560"/>
            <a:ext cx="73368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505480" y="328608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4403160" y="3384720"/>
            <a:ext cx="2081160" cy="611640"/>
            <a:chOff x="4403160" y="3384720"/>
            <a:chExt cx="2081160" cy="611640"/>
          </a:xfrm>
        </p:grpSpPr>
        <p:sp>
          <p:nvSpPr>
            <p:cNvPr id="1435" name=""/>
            <p:cNvSpPr/>
            <p:nvPr/>
          </p:nvSpPr>
          <p:spPr>
            <a:xfrm>
              <a:off x="4505400" y="345744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403160" y="3384720"/>
              <a:ext cx="2081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eurecom.f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7" name=""/>
          <p:cNvSpPr/>
          <p:nvPr/>
        </p:nvSpPr>
        <p:spPr>
          <a:xfrm>
            <a:off x="5027760" y="41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571000" y="177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714000" y="202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094880" y="177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942160" y="2103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561280" y="415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6380280" y="1150920"/>
            <a:ext cx="369360" cy="657000"/>
            <a:chOff x="6380280" y="1150920"/>
            <a:chExt cx="369360" cy="657000"/>
          </a:xfrm>
        </p:grpSpPr>
        <p:sp>
          <p:nvSpPr>
            <p:cNvPr id="1444" name=""/>
            <p:cNvSpPr/>
            <p:nvPr/>
          </p:nvSpPr>
          <p:spPr>
            <a:xfrm>
              <a:off x="6380280" y="165600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567480" y="11552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382440" y="129816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380280" y="115092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749640" y="11613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6616080" y="16560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11960" y="1364760"/>
              <a:ext cx="15516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434280" y="14526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7209000" y="2579760"/>
            <a:ext cx="369360" cy="656280"/>
            <a:chOff x="7209000" y="2579760"/>
            <a:chExt cx="369360" cy="656280"/>
          </a:xfrm>
        </p:grpSpPr>
        <p:sp>
          <p:nvSpPr>
            <p:cNvPr id="1453" name=""/>
            <p:cNvSpPr/>
            <p:nvPr/>
          </p:nvSpPr>
          <p:spPr>
            <a:xfrm>
              <a:off x="7209000" y="308448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396200" y="25840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211160" y="272700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209000" y="257976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578360" y="25902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7444800" y="30844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240680" y="2793600"/>
              <a:ext cx="15516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263000" y="28814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4A3-ABFD-485B-9459-846B0566CA9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 examp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316224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t name ser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not know authoritative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know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intermediate name serv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ho to contact to find authoritative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1"/>
          <a:stretch/>
        </p:blipFill>
        <p:spPr>
          <a:xfrm>
            <a:off x="4818240" y="4473720"/>
            <a:ext cx="833400" cy="637920"/>
          </a:xfrm>
          <a:prstGeom prst="rect">
            <a:avLst/>
          </a:prstGeom>
          <a:ln w="0">
            <a:noFill/>
          </a:ln>
        </p:spPr>
      </p:pic>
      <p:sp>
        <p:nvSpPr>
          <p:cNvPr id="1464" name=""/>
          <p:cNvSpPr/>
          <p:nvPr/>
        </p:nvSpPr>
        <p:spPr>
          <a:xfrm>
            <a:off x="3904560" y="5051520"/>
            <a:ext cx="200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rf.eurecom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316200" y="584028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6" name="" descr=""/>
          <p:cNvPicPr/>
          <p:nvPr/>
        </p:nvPicPr>
        <p:blipFill>
          <a:blip r:embed="rId2"/>
          <a:stretch/>
        </p:blipFill>
        <p:spPr>
          <a:xfrm>
            <a:off x="6942240" y="5273640"/>
            <a:ext cx="833400" cy="638280"/>
          </a:xfrm>
          <a:prstGeom prst="rect">
            <a:avLst/>
          </a:prstGeom>
          <a:ln w="0">
            <a:noFill/>
          </a:ln>
        </p:spPr>
      </p:pic>
      <p:grpSp>
        <p:nvGrpSpPr>
          <p:cNvPr id="1467" name=""/>
          <p:cNvGrpSpPr/>
          <p:nvPr/>
        </p:nvGrpSpPr>
        <p:grpSpPr>
          <a:xfrm>
            <a:off x="5065560" y="2398680"/>
            <a:ext cx="369720" cy="657000"/>
            <a:chOff x="5065560" y="2398680"/>
            <a:chExt cx="369720" cy="657000"/>
          </a:xfrm>
        </p:grpSpPr>
        <p:sp>
          <p:nvSpPr>
            <p:cNvPr id="1468" name=""/>
            <p:cNvSpPr/>
            <p:nvPr/>
          </p:nvSpPr>
          <p:spPr>
            <a:xfrm>
              <a:off x="5065560" y="290376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252760" y="240300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067720" y="254592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065560" y="239868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435280" y="24091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5301720" y="290376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097240" y="2612520"/>
              <a:ext cx="15552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119560" y="27003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6" name=""/>
          <p:cNvSpPr/>
          <p:nvPr/>
        </p:nvSpPr>
        <p:spPr>
          <a:xfrm>
            <a:off x="5591160" y="56520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5114880" y="308592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5229360" y="139032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534000" y="1571760"/>
            <a:ext cx="5619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 flipV="1">
            <a:off x="6619680" y="1399680"/>
            <a:ext cx="647640" cy="933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5419440" y="160020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305320" y="3114720"/>
            <a:ext cx="972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3917160" y="3232080"/>
            <a:ext cx="2081160" cy="611640"/>
            <a:chOff x="3917160" y="3232080"/>
            <a:chExt cx="2081160" cy="611640"/>
          </a:xfrm>
        </p:grpSpPr>
        <p:sp>
          <p:nvSpPr>
            <p:cNvPr id="1484" name=""/>
            <p:cNvSpPr/>
            <p:nvPr/>
          </p:nvSpPr>
          <p:spPr>
            <a:xfrm>
              <a:off x="4019400" y="330480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917160" y="3232080"/>
              <a:ext cx="2081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eurecom.f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/>
          <p:cNvSpPr/>
          <p:nvPr/>
        </p:nvSpPr>
        <p:spPr>
          <a:xfrm>
            <a:off x="4827960" y="39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370840" y="160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513840" y="185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780600" y="376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304400" y="373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913800" y="1569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6180120" y="979560"/>
            <a:ext cx="369720" cy="656280"/>
            <a:chOff x="6180120" y="979560"/>
            <a:chExt cx="369720" cy="656280"/>
          </a:xfrm>
        </p:grpSpPr>
        <p:sp>
          <p:nvSpPr>
            <p:cNvPr id="1493" name=""/>
            <p:cNvSpPr/>
            <p:nvPr/>
          </p:nvSpPr>
          <p:spPr>
            <a:xfrm>
              <a:off x="6180120" y="14842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67320" y="9838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182280" y="11268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180120" y="9795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549840" y="9900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6416280" y="14842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211800" y="1193400"/>
              <a:ext cx="15552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234120" y="12812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7008840" y="2408400"/>
            <a:ext cx="369360" cy="656280"/>
            <a:chOff x="7008840" y="2408400"/>
            <a:chExt cx="369360" cy="656280"/>
          </a:xfrm>
        </p:grpSpPr>
        <p:sp>
          <p:nvSpPr>
            <p:cNvPr id="1502" name=""/>
            <p:cNvSpPr/>
            <p:nvPr/>
          </p:nvSpPr>
          <p:spPr>
            <a:xfrm>
              <a:off x="7008840" y="291312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196040" y="24127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011000" y="255564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008840" y="2408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378200" y="24188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7244640" y="29131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040520" y="2622240"/>
              <a:ext cx="15516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062840" y="27100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6989760" y="4027320"/>
            <a:ext cx="369360" cy="657000"/>
            <a:chOff x="6989760" y="4027320"/>
            <a:chExt cx="369360" cy="657000"/>
          </a:xfrm>
        </p:grpSpPr>
        <p:sp>
          <p:nvSpPr>
            <p:cNvPr id="1511" name=""/>
            <p:cNvSpPr/>
            <p:nvPr/>
          </p:nvSpPr>
          <p:spPr>
            <a:xfrm>
              <a:off x="6989760" y="453240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176960" y="40316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991920" y="417456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989760" y="402732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359120" y="40377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7225560" y="4532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021440" y="4241160"/>
              <a:ext cx="15516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043760" y="43290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9" name=""/>
          <p:cNvSpPr/>
          <p:nvPr/>
        </p:nvSpPr>
        <p:spPr>
          <a:xfrm>
            <a:off x="6055920" y="4599000"/>
            <a:ext cx="26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095960" y="3114720"/>
            <a:ext cx="9720" cy="92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7286760" y="3124080"/>
            <a:ext cx="0" cy="866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6096960" y="3255840"/>
            <a:ext cx="2657160" cy="580680"/>
            <a:chOff x="6096960" y="3255840"/>
            <a:chExt cx="2657160" cy="580680"/>
          </a:xfrm>
        </p:grpSpPr>
        <p:sp>
          <p:nvSpPr>
            <p:cNvPr id="1523" name=""/>
            <p:cNvSpPr/>
            <p:nvPr/>
          </p:nvSpPr>
          <p:spPr>
            <a:xfrm>
              <a:off x="6201000" y="3333600"/>
              <a:ext cx="240012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096960" y="3255840"/>
              <a:ext cx="265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mediate nam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umass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5" name=""/>
          <p:cNvSpPr/>
          <p:nvPr/>
        </p:nvSpPr>
        <p:spPr>
          <a:xfrm>
            <a:off x="5799600" y="189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380200" y="396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A61-BF4F-4A9B-8DC3-94A9458BE8A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iterated queri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316224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cursive quer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ts burden of name resolution on contacted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vy loa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terated quer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cted server replies with name of server to conta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on’t know this name, but ask this server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9" name="" descr=""/>
          <p:cNvPicPr/>
          <p:nvPr/>
        </p:nvPicPr>
        <p:blipFill>
          <a:blip r:embed="rId1"/>
          <a:stretch/>
        </p:blipFill>
        <p:spPr>
          <a:xfrm>
            <a:off x="4818240" y="4473720"/>
            <a:ext cx="833400" cy="637920"/>
          </a:xfrm>
          <a:prstGeom prst="rect">
            <a:avLst/>
          </a:prstGeom>
          <a:ln w="0">
            <a:noFill/>
          </a:ln>
        </p:spPr>
      </p:pic>
      <p:sp>
        <p:nvSpPr>
          <p:cNvPr id="1530" name=""/>
          <p:cNvSpPr/>
          <p:nvPr/>
        </p:nvSpPr>
        <p:spPr>
          <a:xfrm>
            <a:off x="3904560" y="5051520"/>
            <a:ext cx="200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rf.eurecom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316200" y="584028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" descr=""/>
          <p:cNvPicPr/>
          <p:nvPr/>
        </p:nvPicPr>
        <p:blipFill>
          <a:blip r:embed="rId2"/>
          <a:stretch/>
        </p:blipFill>
        <p:spPr>
          <a:xfrm>
            <a:off x="6942240" y="5273640"/>
            <a:ext cx="833400" cy="63828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5065560" y="2398680"/>
            <a:ext cx="369720" cy="657000"/>
            <a:chOff x="5065560" y="2398680"/>
            <a:chExt cx="369720" cy="657000"/>
          </a:xfrm>
        </p:grpSpPr>
        <p:sp>
          <p:nvSpPr>
            <p:cNvPr id="1534" name=""/>
            <p:cNvSpPr/>
            <p:nvPr/>
          </p:nvSpPr>
          <p:spPr>
            <a:xfrm>
              <a:off x="5065560" y="290376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252760" y="240300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067720" y="254592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065560" y="239868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435280" y="24091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5301720" y="290376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097240" y="2612520"/>
              <a:ext cx="15552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119560" y="27003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"/>
          <p:cNvSpPr/>
          <p:nvPr/>
        </p:nvSpPr>
        <p:spPr>
          <a:xfrm>
            <a:off x="5619600" y="650880"/>
            <a:ext cx="20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114880" y="308592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229360" y="139032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514840" y="2552760"/>
            <a:ext cx="14860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>
            <a:off x="5514480" y="2724120"/>
            <a:ext cx="141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H="1">
            <a:off x="5438520" y="161928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305320" y="3114720"/>
            <a:ext cx="972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9" name=""/>
          <p:cNvGrpSpPr/>
          <p:nvPr/>
        </p:nvGrpSpPr>
        <p:grpSpPr>
          <a:xfrm>
            <a:off x="3917160" y="3232080"/>
            <a:ext cx="2081160" cy="611640"/>
            <a:chOff x="3917160" y="3232080"/>
            <a:chExt cx="2081160" cy="611640"/>
          </a:xfrm>
        </p:grpSpPr>
        <p:sp>
          <p:nvSpPr>
            <p:cNvPr id="1550" name=""/>
            <p:cNvSpPr/>
            <p:nvPr/>
          </p:nvSpPr>
          <p:spPr>
            <a:xfrm>
              <a:off x="4019400" y="330480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917160" y="3232080"/>
              <a:ext cx="2081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eurecom.f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"/>
          <p:cNvSpPr/>
          <p:nvPr/>
        </p:nvSpPr>
        <p:spPr>
          <a:xfrm>
            <a:off x="4827960" y="39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370840" y="160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808960" y="184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123240" y="225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694920" y="376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342560" y="377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8" name=""/>
          <p:cNvGrpSpPr/>
          <p:nvPr/>
        </p:nvGrpSpPr>
        <p:grpSpPr>
          <a:xfrm>
            <a:off x="6180120" y="979560"/>
            <a:ext cx="369720" cy="656280"/>
            <a:chOff x="6180120" y="979560"/>
            <a:chExt cx="369720" cy="656280"/>
          </a:xfrm>
        </p:grpSpPr>
        <p:sp>
          <p:nvSpPr>
            <p:cNvPr id="1559" name=""/>
            <p:cNvSpPr/>
            <p:nvPr/>
          </p:nvSpPr>
          <p:spPr>
            <a:xfrm>
              <a:off x="6180120" y="14842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67320" y="9838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182280" y="11268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180120" y="9795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549840" y="9900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6416280" y="14842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211800" y="1193400"/>
              <a:ext cx="15552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234120" y="12812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7008840" y="2408400"/>
            <a:ext cx="369360" cy="656280"/>
            <a:chOff x="7008840" y="2408400"/>
            <a:chExt cx="369360" cy="656280"/>
          </a:xfrm>
        </p:grpSpPr>
        <p:sp>
          <p:nvSpPr>
            <p:cNvPr id="1568" name=""/>
            <p:cNvSpPr/>
            <p:nvPr/>
          </p:nvSpPr>
          <p:spPr>
            <a:xfrm>
              <a:off x="7008840" y="291312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196040" y="24127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11000" y="255564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08840" y="2408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78200" y="24188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7244640" y="29131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40520" y="2622240"/>
              <a:ext cx="15516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2840" y="27100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6989760" y="4027320"/>
            <a:ext cx="369360" cy="657000"/>
            <a:chOff x="6989760" y="4027320"/>
            <a:chExt cx="369360" cy="657000"/>
          </a:xfrm>
        </p:grpSpPr>
        <p:sp>
          <p:nvSpPr>
            <p:cNvPr id="1577" name=""/>
            <p:cNvSpPr/>
            <p:nvPr/>
          </p:nvSpPr>
          <p:spPr>
            <a:xfrm>
              <a:off x="6989760" y="453240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176960" y="40316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91920" y="417456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89760" y="402732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59120" y="40377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7225560" y="4532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21440" y="4241160"/>
              <a:ext cx="15516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43760" y="43290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5" name=""/>
          <p:cNvSpPr/>
          <p:nvPr/>
        </p:nvSpPr>
        <p:spPr>
          <a:xfrm>
            <a:off x="6055920" y="4599000"/>
            <a:ext cx="26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095960" y="3114720"/>
            <a:ext cx="9720" cy="92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7286760" y="3124080"/>
            <a:ext cx="0" cy="866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6096960" y="3255840"/>
            <a:ext cx="2657160" cy="580680"/>
            <a:chOff x="6096960" y="3255840"/>
            <a:chExt cx="2657160" cy="580680"/>
          </a:xfrm>
        </p:grpSpPr>
        <p:sp>
          <p:nvSpPr>
            <p:cNvPr id="1589" name=""/>
            <p:cNvSpPr/>
            <p:nvPr/>
          </p:nvSpPr>
          <p:spPr>
            <a:xfrm>
              <a:off x="6201000" y="3333600"/>
              <a:ext cx="240012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096960" y="3255840"/>
              <a:ext cx="265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mediate nam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umass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6161400" y="277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380200" y="396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657760" y="1666800"/>
            <a:ext cx="1013040" cy="266760"/>
          </a:xfrm>
          <a:custGeom>
            <a:avLst/>
            <a:gdLst/>
            <a:ahLst/>
            <a:rect l="l" t="t" r="r" b="b"/>
            <a:pathLst>
              <a:path w="638" h="168">
                <a:moveTo>
                  <a:pt x="304" y="108"/>
                </a:moveTo>
                <a:cubicBezTo>
                  <a:pt x="332" y="42"/>
                  <a:pt x="308" y="46"/>
                  <a:pt x="284" y="30"/>
                </a:cubicBezTo>
                <a:cubicBezTo>
                  <a:pt x="260" y="14"/>
                  <a:pt x="83" y="0"/>
                  <a:pt x="54" y="26"/>
                </a:cubicBezTo>
                <a:cubicBezTo>
                  <a:pt x="25" y="52"/>
                  <a:pt x="0" y="144"/>
                  <a:pt x="54" y="152"/>
                </a:cubicBezTo>
                <a:cubicBezTo>
                  <a:pt x="108" y="160"/>
                  <a:pt x="215" y="168"/>
                  <a:pt x="240" y="164"/>
                </a:cubicBezTo>
                <a:cubicBezTo>
                  <a:pt x="265" y="160"/>
                  <a:pt x="292" y="134"/>
                  <a:pt x="306" y="118"/>
                </a:cubicBezTo>
                <a:cubicBezTo>
                  <a:pt x="320" y="102"/>
                  <a:pt x="586" y="36"/>
                  <a:pt x="638" y="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632640" y="1495440"/>
            <a:ext cx="17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terated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9A82-AE0E-4F85-838B-53BC95A5056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caching and updating record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18840" y="1438200"/>
            <a:ext cx="75150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ce (any) name server learns mapping, it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cach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pp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che entries timeout (disappear) after some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/notify mechanisms under design by IET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FC 213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ietf.org/html.charters/dnsind-charter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425-E144-4AEE-82D5-C1A816B18E0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 record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tributed db storing resource record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R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523440" y="3895560"/>
            <a:ext cx="400068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=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domain (e.g. foo.co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IP address of authoritative name server for this dom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1795320" y="1895400"/>
            <a:ext cx="5364360" cy="571680"/>
            <a:chOff x="1795320" y="1895400"/>
            <a:chExt cx="5364360" cy="571680"/>
          </a:xfrm>
        </p:grpSpPr>
        <p:sp>
          <p:nvSpPr>
            <p:cNvPr id="1601" name=""/>
            <p:cNvSpPr/>
            <p:nvPr/>
          </p:nvSpPr>
          <p:spPr>
            <a:xfrm>
              <a:off x="1795320" y="1906920"/>
              <a:ext cx="53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R format: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(name, value, type,tt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876320" y="1895400"/>
              <a:ext cx="5267520" cy="5716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3" name="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ho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21812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=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lias name for some “cannonical” (the real)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ww.ibm.com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re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cannonical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253040" y="503244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=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name of mailserver associat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044-C17E-43AE-8645-53D183FEC84F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 protocol, messag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DNS protocol 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query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ssages, both with same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essage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"/>
          <p:cNvSpPr/>
          <p:nvPr/>
        </p:nvSpPr>
        <p:spPr>
          <a:xfrm>
            <a:off x="533520" y="2352600"/>
            <a:ext cx="3574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sg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dentifica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6 bit # for query, reply to query uses same 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ry or 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ursion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ursion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y is authori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9" name="" descr=""/>
          <p:cNvPicPr/>
          <p:nvPr/>
        </p:nvPicPr>
        <p:blipFill>
          <a:blip r:embed="rId1"/>
          <a:stretch/>
        </p:blipFill>
        <p:spPr>
          <a:xfrm>
            <a:off x="4181400" y="2090880"/>
            <a:ext cx="5132520" cy="41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366-ABB1-4551-A913-9F2CC969D16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rocesses communicating across network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27160" y="1563840"/>
            <a:ext cx="420192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 sends/receives messages to/from its so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cket analogous to do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ding process shoves message out do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ding process asssumes transport infrastructure on other side of door which brings message to socket at receiving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5931000" y="3522600"/>
            <a:ext cx="1807920" cy="103176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4692600" y="1492200"/>
            <a:ext cx="1062000" cy="3606840"/>
            <a:chOff x="4692600" y="1492200"/>
            <a:chExt cx="1062000" cy="3606840"/>
          </a:xfrm>
        </p:grpSpPr>
        <p:sp>
          <p:nvSpPr>
            <p:cNvPr id="557" name=""/>
            <p:cNvSpPr/>
            <p:nvPr/>
          </p:nvSpPr>
          <p:spPr>
            <a:xfrm>
              <a:off x="5371920" y="46418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8" name="" descr=""/>
            <p:cNvPicPr/>
            <p:nvPr/>
          </p:nvPicPr>
          <p:blipFill>
            <a:blip r:embed="rId1"/>
            <a:stretch/>
          </p:blipFill>
          <p:spPr>
            <a:xfrm>
              <a:off x="4860720" y="2095560"/>
              <a:ext cx="642960" cy="5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9" name=""/>
            <p:cNvGrpSpPr/>
            <p:nvPr/>
          </p:nvGrpSpPr>
          <p:grpSpPr>
            <a:xfrm>
              <a:off x="4692600" y="2614680"/>
              <a:ext cx="1062000" cy="560160"/>
              <a:chOff x="4692600" y="2614680"/>
              <a:chExt cx="1062000" cy="560160"/>
            </a:xfrm>
          </p:grpSpPr>
          <p:sp>
            <p:nvSpPr>
              <p:cNvPr id="560" name=""/>
              <p:cNvSpPr/>
              <p:nvPr/>
            </p:nvSpPr>
            <p:spPr>
              <a:xfrm>
                <a:off x="4692600" y="2614680"/>
                <a:ext cx="1062000" cy="560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814280" y="2725920"/>
                <a:ext cx="79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4719960" y="3443400"/>
              <a:ext cx="964080" cy="1000080"/>
              <a:chOff x="4719960" y="3443400"/>
              <a:chExt cx="964080" cy="1000080"/>
            </a:xfrm>
          </p:grpSpPr>
          <p:sp>
            <p:nvSpPr>
              <p:cNvPr id="563" name=""/>
              <p:cNvSpPr/>
              <p:nvPr/>
            </p:nvSpPr>
            <p:spPr>
              <a:xfrm>
                <a:off x="4736880" y="3443400"/>
                <a:ext cx="941400" cy="1000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19960" y="3505320"/>
                <a:ext cx="964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CP wi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uffers,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variab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4884480" y="3140280"/>
              <a:ext cx="658800" cy="328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5213160" y="2992320"/>
              <a:ext cx="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25760" y="340848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45600" y="1492200"/>
              <a:ext cx="74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ost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7850160" y="1471680"/>
            <a:ext cx="1062000" cy="3606840"/>
            <a:chOff x="7850160" y="1471680"/>
            <a:chExt cx="1062000" cy="3606840"/>
          </a:xfrm>
        </p:grpSpPr>
        <p:sp>
          <p:nvSpPr>
            <p:cNvPr id="570" name=""/>
            <p:cNvSpPr/>
            <p:nvPr/>
          </p:nvSpPr>
          <p:spPr>
            <a:xfrm>
              <a:off x="8529480" y="46213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1" name="" descr=""/>
            <p:cNvPicPr/>
            <p:nvPr/>
          </p:nvPicPr>
          <p:blipFill>
            <a:blip r:embed="rId2"/>
            <a:stretch/>
          </p:blipFill>
          <p:spPr>
            <a:xfrm>
              <a:off x="8018280" y="2075040"/>
              <a:ext cx="642960" cy="5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2" name=""/>
            <p:cNvGrpSpPr/>
            <p:nvPr/>
          </p:nvGrpSpPr>
          <p:grpSpPr>
            <a:xfrm>
              <a:off x="7850160" y="2594160"/>
              <a:ext cx="1062000" cy="560160"/>
              <a:chOff x="7850160" y="2594160"/>
              <a:chExt cx="1062000" cy="560160"/>
            </a:xfrm>
          </p:grpSpPr>
          <p:sp>
            <p:nvSpPr>
              <p:cNvPr id="573" name=""/>
              <p:cNvSpPr/>
              <p:nvPr/>
            </p:nvSpPr>
            <p:spPr>
              <a:xfrm>
                <a:off x="7850160" y="2594160"/>
                <a:ext cx="1062000" cy="560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971840" y="2705400"/>
                <a:ext cx="79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7877520" y="3422880"/>
              <a:ext cx="964080" cy="1000080"/>
              <a:chOff x="7877520" y="3422880"/>
              <a:chExt cx="964080" cy="1000080"/>
            </a:xfrm>
          </p:grpSpPr>
          <p:sp>
            <p:nvSpPr>
              <p:cNvPr id="576" name=""/>
              <p:cNvSpPr/>
              <p:nvPr/>
            </p:nvSpPr>
            <p:spPr>
              <a:xfrm>
                <a:off x="7894440" y="3422880"/>
                <a:ext cx="941400" cy="1000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77520" y="3484800"/>
                <a:ext cx="964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CP wi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uffers,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variab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8042040" y="3119760"/>
              <a:ext cx="658800" cy="328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370720" y="2971800"/>
              <a:ext cx="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383320" y="338796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03160" y="1471680"/>
              <a:ext cx="74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ost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399720" y="365436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689440" y="4065480"/>
            <a:ext cx="221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522760" y="4667400"/>
            <a:ext cx="10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ntro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y 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 flipV="1">
            <a:off x="5470200" y="4444920"/>
            <a:ext cx="2444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09760" y="2306520"/>
            <a:ext cx="132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pp 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5678640" y="2589120"/>
            <a:ext cx="218880" cy="13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0680" y="5567400"/>
            <a:ext cx="830412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I: (1) choice of transport protocol; (2) ability to fix a few parameter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lots more on  this l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D56-D7BC-42C2-A93B-3B9DE12F03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 protocol, messag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11" name="" descr=""/>
          <p:cNvPicPr/>
          <p:nvPr/>
        </p:nvPicPr>
        <p:blipFill>
          <a:blip r:embed="rId1"/>
          <a:stretch/>
        </p:blipFill>
        <p:spPr>
          <a:xfrm>
            <a:off x="4403880" y="1509840"/>
            <a:ext cx="4387680" cy="3562200"/>
          </a:xfrm>
          <a:prstGeom prst="rect">
            <a:avLst/>
          </a:prstGeom>
          <a:ln w="0">
            <a:noFill/>
          </a:ln>
        </p:spPr>
      </p:pic>
      <p:sp>
        <p:nvSpPr>
          <p:cNvPr id="1612" name=""/>
          <p:cNvSpPr/>
          <p:nvPr/>
        </p:nvSpPr>
        <p:spPr>
          <a:xfrm>
            <a:off x="955080" y="1829160"/>
            <a:ext cx="22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, type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297440" y="2829240"/>
            <a:ext cx="195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Rs in re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51520" y="3715200"/>
            <a:ext cx="26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51080" y="4667760"/>
            <a:ext cx="277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itional “helpfu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152880" y="2171880"/>
            <a:ext cx="14475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152880" y="3200400"/>
            <a:ext cx="1514520" cy="371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181320" y="4076640"/>
            <a:ext cx="1447920" cy="133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V="1">
            <a:off x="3191040" y="4743360"/>
            <a:ext cx="14382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CF6-836D-467C-9D37-5811AD818A1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apter 2 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1 Principles of app layer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s and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2 Web and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4 Electronic Ma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.6 Socket programming with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7 Socket programming with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8 Building a Web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9 Content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Web ca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nt distribution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2P file sh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FF5-870C-48FA-9834-EA2A12B3AE3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533520" y="2473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cket programm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704520" y="2295360"/>
            <a:ext cx="396252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oduced in BSD4.1 UNIX, 198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icitly created, used, released by app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/server paradig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types of transport service via socket API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reliable datagra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able, byte stream-orient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5248440" y="2313360"/>
            <a:ext cx="3337920" cy="3715920"/>
            <a:chOff x="5248440" y="2313360"/>
            <a:chExt cx="3337920" cy="3715920"/>
          </a:xfrm>
        </p:grpSpPr>
        <p:sp>
          <p:nvSpPr>
            <p:cNvPr id="1626" name=""/>
            <p:cNvSpPr/>
            <p:nvPr/>
          </p:nvSpPr>
          <p:spPr>
            <a:xfrm>
              <a:off x="5288040" y="2863080"/>
              <a:ext cx="329832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Comic Sans MS"/>
                </a:rPr>
                <a:t>host-local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Comic Sans MS"/>
                </a:rPr>
                <a:t>application-created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Comic Sans MS"/>
                </a:rPr>
                <a:t>OS-controlled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interface (a “door”) into whi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 process can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oth send a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ceiv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messages to/from another application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248440" y="2543040"/>
              <a:ext cx="3295440" cy="348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8" name=""/>
            <p:cNvGrpSpPr/>
            <p:nvPr/>
          </p:nvGrpSpPr>
          <p:grpSpPr>
            <a:xfrm>
              <a:off x="5419440" y="2313360"/>
              <a:ext cx="1107000" cy="459720"/>
              <a:chOff x="5419440" y="2313360"/>
              <a:chExt cx="1107000" cy="459720"/>
            </a:xfrm>
          </p:grpSpPr>
          <p:sp>
            <p:nvSpPr>
              <p:cNvPr id="1629" name=""/>
              <p:cNvSpPr/>
              <p:nvPr/>
            </p:nvSpPr>
            <p:spPr>
              <a:xfrm>
                <a:off x="5419440" y="2343240"/>
                <a:ext cx="1075680" cy="399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423760" y="2313360"/>
                <a:ext cx="110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sock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1" name=""/>
          <p:cNvSpPr/>
          <p:nvPr/>
        </p:nvSpPr>
        <p:spPr>
          <a:xfrm>
            <a:off x="619200" y="1276200"/>
            <a:ext cx="81630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earn how to build client/server application that communicate using 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613-C080-451F-A272-65479FA0AC2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ocket-programming using TC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00120" y="1419120"/>
            <a:ext cx="77724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ocke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door between application process and end-end-transport protocol (UCP or TC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CP servic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liable transfer of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by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one process to ano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4" name="" descr=""/>
          <p:cNvPicPr/>
          <p:nvPr/>
        </p:nvPicPr>
        <p:blipFill>
          <a:blip r:embed="rId1"/>
          <a:stretch/>
        </p:blipFill>
        <p:spPr>
          <a:xfrm>
            <a:off x="2073240" y="3513240"/>
            <a:ext cx="1123920" cy="892080"/>
          </a:xfrm>
          <a:prstGeom prst="rect">
            <a:avLst/>
          </a:prstGeom>
          <a:ln w="0">
            <a:noFill/>
          </a:ln>
        </p:spPr>
      </p:pic>
      <p:grpSp>
        <p:nvGrpSpPr>
          <p:cNvPr id="1635" name=""/>
          <p:cNvGrpSpPr/>
          <p:nvPr/>
        </p:nvGrpSpPr>
        <p:grpSpPr>
          <a:xfrm>
            <a:off x="2111760" y="3853440"/>
            <a:ext cx="1145520" cy="1585440"/>
            <a:chOff x="2111760" y="3853440"/>
            <a:chExt cx="1145520" cy="1585440"/>
          </a:xfrm>
        </p:grpSpPr>
        <p:sp>
          <p:nvSpPr>
            <p:cNvPr id="1636" name=""/>
            <p:cNvSpPr/>
            <p:nvPr/>
          </p:nvSpPr>
          <p:spPr>
            <a:xfrm>
              <a:off x="2162160" y="3886200"/>
              <a:ext cx="1019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181960" y="385344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2111760" y="4438800"/>
              <a:ext cx="1145520" cy="1000080"/>
              <a:chOff x="2111760" y="4438800"/>
              <a:chExt cx="1145520" cy="1000080"/>
            </a:xfrm>
          </p:grpSpPr>
          <p:sp>
            <p:nvSpPr>
              <p:cNvPr id="1639" name=""/>
              <p:cNvSpPr/>
              <p:nvPr/>
            </p:nvSpPr>
            <p:spPr>
              <a:xfrm>
                <a:off x="2111760" y="4514040"/>
                <a:ext cx="114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CP wi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uffers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variabl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171520" y="4438800"/>
                <a:ext cx="1019160" cy="100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2270880" y="4234680"/>
              <a:ext cx="872640" cy="368280"/>
              <a:chOff x="2270880" y="4234680"/>
              <a:chExt cx="872640" cy="368280"/>
            </a:xfrm>
          </p:grpSpPr>
          <p:sp>
            <p:nvSpPr>
              <p:cNvPr id="1642" name=""/>
              <p:cNvSpPr/>
              <p:nvPr/>
            </p:nvSpPr>
            <p:spPr>
              <a:xfrm>
                <a:off x="2305080" y="4295880"/>
                <a:ext cx="780840" cy="247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270880" y="4234680"/>
                <a:ext cx="87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sock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4" name=""/>
          <p:cNvSpPr/>
          <p:nvPr/>
        </p:nvSpPr>
        <p:spPr>
          <a:xfrm>
            <a:off x="518400" y="3682080"/>
            <a:ext cx="14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89600" y="4548960"/>
            <a:ext cx="14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1943280" y="3895560"/>
            <a:ext cx="0" cy="4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1933560" y="4476240"/>
            <a:ext cx="0" cy="1000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161800" y="5599440"/>
            <a:ext cx="10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9" name="" descr=""/>
          <p:cNvPicPr/>
          <p:nvPr/>
        </p:nvPicPr>
        <p:blipFill>
          <a:blip r:embed="rId2"/>
          <a:stretch/>
        </p:blipFill>
        <p:spPr>
          <a:xfrm>
            <a:off x="5730840" y="3408480"/>
            <a:ext cx="1123920" cy="892080"/>
          </a:xfrm>
          <a:prstGeom prst="rect">
            <a:avLst/>
          </a:prstGeom>
          <a:ln w="0">
            <a:noFill/>
          </a:ln>
        </p:spPr>
      </p:pic>
      <p:grpSp>
        <p:nvGrpSpPr>
          <p:cNvPr id="1650" name=""/>
          <p:cNvGrpSpPr/>
          <p:nvPr/>
        </p:nvGrpSpPr>
        <p:grpSpPr>
          <a:xfrm>
            <a:off x="5769360" y="3748680"/>
            <a:ext cx="1145520" cy="1585440"/>
            <a:chOff x="5769360" y="3748680"/>
            <a:chExt cx="1145520" cy="1585440"/>
          </a:xfrm>
        </p:grpSpPr>
        <p:sp>
          <p:nvSpPr>
            <p:cNvPr id="1651" name=""/>
            <p:cNvSpPr/>
            <p:nvPr/>
          </p:nvSpPr>
          <p:spPr>
            <a:xfrm>
              <a:off x="5819760" y="3781440"/>
              <a:ext cx="1019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839560" y="374868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3" name=""/>
            <p:cNvGrpSpPr/>
            <p:nvPr/>
          </p:nvGrpSpPr>
          <p:grpSpPr>
            <a:xfrm>
              <a:off x="5769360" y="4334040"/>
              <a:ext cx="1145520" cy="1000080"/>
              <a:chOff x="5769360" y="4334040"/>
              <a:chExt cx="1145520" cy="1000080"/>
            </a:xfrm>
          </p:grpSpPr>
          <p:sp>
            <p:nvSpPr>
              <p:cNvPr id="1654" name=""/>
              <p:cNvSpPr/>
              <p:nvPr/>
            </p:nvSpPr>
            <p:spPr>
              <a:xfrm>
                <a:off x="5769360" y="4409280"/>
                <a:ext cx="114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CP wi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uffers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variabl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829120" y="4334040"/>
                <a:ext cx="1019160" cy="100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5928480" y="4129920"/>
              <a:ext cx="872640" cy="368280"/>
              <a:chOff x="5928480" y="4129920"/>
              <a:chExt cx="872640" cy="368280"/>
            </a:xfrm>
          </p:grpSpPr>
          <p:sp>
            <p:nvSpPr>
              <p:cNvPr id="1657" name=""/>
              <p:cNvSpPr/>
              <p:nvPr/>
            </p:nvSpPr>
            <p:spPr>
              <a:xfrm>
                <a:off x="5962680" y="4191120"/>
                <a:ext cx="780840" cy="247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928480" y="4129920"/>
                <a:ext cx="87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sock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9" name=""/>
          <p:cNvSpPr/>
          <p:nvPr/>
        </p:nvSpPr>
        <p:spPr>
          <a:xfrm>
            <a:off x="7119000" y="3520080"/>
            <a:ext cx="14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123680" y="4434480"/>
            <a:ext cx="14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7029360" y="3762000"/>
            <a:ext cx="0" cy="48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7020000" y="4343400"/>
            <a:ext cx="0" cy="100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819400" y="5494680"/>
            <a:ext cx="10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597120" y="4229280"/>
            <a:ext cx="17989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949200" y="483840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3228840" y="4734000"/>
            <a:ext cx="2533680" cy="9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8FF-1D91-407E-8D10-5105034686D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ocket programming 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with TC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98240" y="1247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lient must contact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process must first be run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must have created socket (door) that welcomes client’s conta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lient contacts server b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client-local TCP so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ying IP address, port number of server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lient creates sock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client TCP establishes connection to server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495320" y="1390680"/>
            <a:ext cx="396252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contacted by client,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erver TCP creates new socke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server process to communicate with cli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s server to talk with multiple cli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port numbers used to distinguish cli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4637160" y="4760640"/>
            <a:ext cx="4133880" cy="1635480"/>
            <a:chOff x="4637160" y="4760640"/>
            <a:chExt cx="4133880" cy="1635480"/>
          </a:xfrm>
        </p:grpSpPr>
        <p:sp>
          <p:nvSpPr>
            <p:cNvPr id="1671" name=""/>
            <p:cNvSpPr/>
            <p:nvPr/>
          </p:nvSpPr>
          <p:spPr>
            <a:xfrm>
              <a:off x="4880160" y="5160960"/>
              <a:ext cx="3579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TCP provides reliable, in-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transfer of bytes (“pipe”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between client and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637160" y="4977000"/>
              <a:ext cx="4133880" cy="14191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3" name=""/>
            <p:cNvGrpSpPr/>
            <p:nvPr/>
          </p:nvGrpSpPr>
          <p:grpSpPr>
            <a:xfrm>
              <a:off x="4641120" y="4760640"/>
              <a:ext cx="2730240" cy="398880"/>
              <a:chOff x="4641120" y="4760640"/>
              <a:chExt cx="2730240" cy="398880"/>
            </a:xfrm>
          </p:grpSpPr>
          <p:sp>
            <p:nvSpPr>
              <p:cNvPr id="1674" name=""/>
              <p:cNvSpPr/>
              <p:nvPr/>
            </p:nvSpPr>
            <p:spPr>
              <a:xfrm>
                <a:off x="4741560" y="4834080"/>
                <a:ext cx="251460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641120" y="4760640"/>
                <a:ext cx="273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pplication viewpoi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FDC-7FAF-4E24-9345-69031DFC420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tream jarg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re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sequence of characters that flow into or out of a proc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put stre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ttached to some input source for the process, eg, keyboard or sock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utput stre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ttached to an output source, eg, monitor or sock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ECD-2FA8-46AD-BC3B-228DBA4F999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ocket programming with TC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92120" y="14745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ample client-server ap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) client reads line from standard inpu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romUs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ream) , sends to server via socke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ToServ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rea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) server reads line from so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server converts line to uppercase, sends back to 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) client reads, prints  modified line from socke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romServ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rea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1" name=""/>
          <p:cNvGraphicFramePr/>
          <p:nvPr/>
        </p:nvGraphicFramePr>
        <p:xfrm>
          <a:off x="5059440" y="1397160"/>
          <a:ext cx="367020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9440" y="1397160"/>
                    <a:ext cx="36702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3" name=""/>
          <p:cNvSpPr/>
          <p:nvPr/>
        </p:nvSpPr>
        <p:spPr>
          <a:xfrm>
            <a:off x="5305320" y="2608200"/>
            <a:ext cx="1206720" cy="7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418440" y="5132520"/>
            <a:ext cx="1450800" cy="54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342120" y="507600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ent TCP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7427880" y="562428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CBF-61AE-4A9F-A024-A620F2D335B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lient/server socket interaction: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308240" y="3216600"/>
            <a:ext cx="2127600" cy="929880"/>
            <a:chOff x="1308240" y="3216600"/>
            <a:chExt cx="2127600" cy="929880"/>
          </a:xfrm>
        </p:grpSpPr>
        <p:sp>
          <p:nvSpPr>
            <p:cNvPr id="1689" name=""/>
            <p:cNvSpPr/>
            <p:nvPr/>
          </p:nvSpPr>
          <p:spPr>
            <a:xfrm>
              <a:off x="1308240" y="3216600"/>
              <a:ext cx="16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inco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08960" y="3626280"/>
              <a:ext cx="2126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onnectionSocket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welcomeSocket.accept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1299240" y="1879920"/>
            <a:ext cx="1641960" cy="1415880"/>
            <a:chOff x="1299240" y="1879920"/>
            <a:chExt cx="1641960" cy="1415880"/>
          </a:xfrm>
        </p:grpSpPr>
        <p:grpSp>
          <p:nvGrpSpPr>
            <p:cNvPr id="1692" name=""/>
            <p:cNvGrpSpPr/>
            <p:nvPr/>
          </p:nvGrpSpPr>
          <p:grpSpPr>
            <a:xfrm>
              <a:off x="1299240" y="1879920"/>
              <a:ext cx="1641960" cy="1132920"/>
              <a:chOff x="1299240" y="1879920"/>
              <a:chExt cx="1641960" cy="1132920"/>
            </a:xfrm>
          </p:grpSpPr>
          <p:sp>
            <p:nvSpPr>
              <p:cNvPr id="1693" name=""/>
              <p:cNvSpPr/>
              <p:nvPr/>
            </p:nvSpPr>
            <p:spPr>
              <a:xfrm>
                <a:off x="1299240" y="1879920"/>
                <a:ext cx="1590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306440" y="2492640"/>
                <a:ext cx="1634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welcomeSocket =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erverSocket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>
              <a:off x="2038320" y="297180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5087520" y="3148200"/>
            <a:ext cx="2315520" cy="912240"/>
            <a:chOff x="5087520" y="3148200"/>
            <a:chExt cx="2315520" cy="912240"/>
          </a:xfrm>
        </p:grpSpPr>
        <p:sp>
          <p:nvSpPr>
            <p:cNvPr id="1697" name=""/>
            <p:cNvSpPr/>
            <p:nvPr/>
          </p:nvSpPr>
          <p:spPr>
            <a:xfrm>
              <a:off x="5087520" y="3148200"/>
              <a:ext cx="231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socket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087880" y="35402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lientSocket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1276200" y="3124080"/>
            <a:ext cx="5444280" cy="3353040"/>
            <a:chOff x="1276200" y="3124080"/>
            <a:chExt cx="5444280" cy="3353040"/>
          </a:xfrm>
        </p:grpSpPr>
        <p:sp>
          <p:nvSpPr>
            <p:cNvPr id="1700" name=""/>
            <p:cNvSpPr/>
            <p:nvPr/>
          </p:nvSpPr>
          <p:spPr>
            <a:xfrm>
              <a:off x="1328400" y="57787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048040" y="565776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276200" y="3124080"/>
              <a:ext cx="781200" cy="3353040"/>
            </a:xfrm>
            <a:custGeom>
              <a:avLst/>
              <a:gdLst/>
              <a:ahLst/>
              <a:rect l="l" t="t" r="r" b="b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3" name=""/>
            <p:cNvGrpSpPr/>
            <p:nvPr/>
          </p:nvGrpSpPr>
          <p:grpSpPr>
            <a:xfrm>
              <a:off x="5338800" y="5359680"/>
              <a:ext cx="1381680" cy="1101240"/>
              <a:chOff x="5338800" y="5359680"/>
              <a:chExt cx="1381680" cy="1101240"/>
            </a:xfrm>
          </p:grpSpPr>
          <p:sp>
            <p:nvSpPr>
              <p:cNvPr id="1704" name=""/>
              <p:cNvSpPr/>
              <p:nvPr/>
            </p:nvSpPr>
            <p:spPr>
              <a:xfrm>
                <a:off x="5338800" y="5359680"/>
                <a:ext cx="1381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d reply fro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378040" y="59407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6058080" y="5857920"/>
                <a:ext cx="0" cy="3236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7" name=""/>
          <p:cNvSpPr/>
          <p:nvPr/>
        </p:nvSpPr>
        <p:spPr>
          <a:xfrm>
            <a:off x="581760" y="131292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unning 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259240" y="133200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2933640" y="4010040"/>
            <a:ext cx="4046760" cy="1371600"/>
            <a:chOff x="2933640" y="4010040"/>
            <a:chExt cx="4046760" cy="1371600"/>
          </a:xfrm>
        </p:grpSpPr>
        <p:sp>
          <p:nvSpPr>
            <p:cNvPr id="1710" name=""/>
            <p:cNvSpPr/>
            <p:nvPr/>
          </p:nvSpPr>
          <p:spPr>
            <a:xfrm flipH="1">
              <a:off x="6019920" y="4705200"/>
              <a:ext cx="9360" cy="676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1" name=""/>
            <p:cNvGrpSpPr/>
            <p:nvPr/>
          </p:nvGrpSpPr>
          <p:grpSpPr>
            <a:xfrm>
              <a:off x="2933640" y="4010040"/>
              <a:ext cx="4046760" cy="819000"/>
              <a:chOff x="2933640" y="4010040"/>
              <a:chExt cx="4046760" cy="819000"/>
            </a:xfrm>
          </p:grpSpPr>
          <p:sp>
            <p:nvSpPr>
              <p:cNvPr id="1712" name=""/>
              <p:cNvSpPr/>
              <p:nvPr/>
            </p:nvSpPr>
            <p:spPr>
              <a:xfrm>
                <a:off x="5289480" y="4245480"/>
                <a:ext cx="16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d request us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019920" y="4010040"/>
                <a:ext cx="0" cy="324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2933640" y="4429080"/>
                <a:ext cx="2409840" cy="399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5" name=""/>
          <p:cNvGrpSpPr/>
          <p:nvPr/>
        </p:nvGrpSpPr>
        <p:grpSpPr>
          <a:xfrm>
            <a:off x="1299600" y="4105440"/>
            <a:ext cx="4101120" cy="1488600"/>
            <a:chOff x="1299600" y="4105440"/>
            <a:chExt cx="4101120" cy="1488600"/>
          </a:xfrm>
        </p:grpSpPr>
        <p:sp>
          <p:nvSpPr>
            <p:cNvPr id="1716" name=""/>
            <p:cNvSpPr/>
            <p:nvPr/>
          </p:nvSpPr>
          <p:spPr>
            <a:xfrm>
              <a:off x="1299600" y="44262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347480" y="507384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028960" y="410544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2037960" y="4905360"/>
              <a:ext cx="9720" cy="247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962440" y="5248440"/>
              <a:ext cx="243828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2924280" y="3040920"/>
            <a:ext cx="2200320" cy="642600"/>
            <a:chOff x="2924280" y="3040920"/>
            <a:chExt cx="2200320" cy="642600"/>
          </a:xfrm>
        </p:grpSpPr>
        <p:sp>
          <p:nvSpPr>
            <p:cNvPr id="1722" name=""/>
            <p:cNvSpPr/>
            <p:nvPr/>
          </p:nvSpPr>
          <p:spPr>
            <a:xfrm>
              <a:off x="2924280" y="3381480"/>
              <a:ext cx="2200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961360" y="3040920"/>
              <a:ext cx="203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connection set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E71-0373-4077-B3C3-E83749E67B4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xample: Java client (TCP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25" name=""/>
          <p:cNvSpPr/>
          <p:nvPr/>
        </p:nvSpPr>
        <p:spPr>
          <a:xfrm>
            <a:off x="2189520" y="1510200"/>
            <a:ext cx="68191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TCPClient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void main(String argv[]) throws Exce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sentenc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modifiedSentenc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edReader inFromUser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ufferedReader(new InputStreamReader(System.in)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clientSocket = new Socket("hostname", 678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OutputStream outToServer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taOutputStream(clientSocket.getOutputStream()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685440" y="380916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put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77120" y="4504680"/>
            <a:ext cx="20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e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lient socke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nect to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0960" y="5420880"/>
            <a:ext cx="215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output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ttached t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081160" y="3890880"/>
            <a:ext cx="123840" cy="5428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2214720" y="4152600"/>
            <a:ext cx="3618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081160" y="4605480"/>
            <a:ext cx="123840" cy="76680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209680" y="4987800"/>
            <a:ext cx="424080" cy="3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109960" y="5519880"/>
            <a:ext cx="123480" cy="80460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2238480" y="5619600"/>
            <a:ext cx="36180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9E5-E0E1-4B3C-B6B8-A0A6118750A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xample: Java client (TCP), cont.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36" name=""/>
          <p:cNvSpPr/>
          <p:nvPr/>
        </p:nvSpPr>
        <p:spPr>
          <a:xfrm>
            <a:off x="2491560" y="1866600"/>
            <a:ext cx="639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edReader inFromServer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ufferedReader(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treamReader(clientSocket.getInputStream())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ence = inFromUser.readLin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ToServer.writeBytes(sentence + '\n'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Sentence = inFromServer.readLin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"FROM SERVER: " + modifiedSent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ocket.clos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14480" y="1848960"/>
            <a:ext cx="23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put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ttached t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490760" y="332028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o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195560" y="41094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ad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rom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467080" y="1919160"/>
            <a:ext cx="114120" cy="7905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V="1">
            <a:off x="2581200" y="2324160"/>
            <a:ext cx="34308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2505240" y="3357720"/>
            <a:ext cx="123840" cy="5857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633760" y="3666600"/>
            <a:ext cx="309600" cy="16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2523960" y="4186080"/>
            <a:ext cx="123840" cy="5097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2662200" y="4295520"/>
            <a:ext cx="2952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8D5-F71F-4AC7-85C9-60C43E785F9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dressing processes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62040" y="1085760"/>
            <a:ext cx="3921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 process to receive messages, it must have an identifi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ry host has a unique 32-bit IP add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oes the IP address of the host on which the  process runs suffice for identifying the proces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nsw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o, many processes can be running on same h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19600" y="1245960"/>
            <a:ext cx="3835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ier includes both the IP address an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ort numbe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ssociated with the process on the h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 port numb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server: 8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l server: 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re on this l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87D-233C-4BFA-BAA7-8173303454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xample: Java server (TCP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47" name=""/>
          <p:cNvSpPr/>
          <p:nvPr/>
        </p:nvSpPr>
        <p:spPr>
          <a:xfrm>
            <a:off x="2578680" y="1245960"/>
            <a:ext cx="62355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TCPServer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tatic void main(String argv[]) throws 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clientSentenc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capitalizedSentenc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Socket welcomeSocket = new ServerSocket(6789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(true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ket connectionSocket = welcomeSocket.accep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edReader inFromClient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BufferedReader(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StreamReader(connectionSocket.getInputStream()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10320" y="3249000"/>
            <a:ext cx="21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lcoming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t port 67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67400" y="426024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ait, on welco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ocket for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y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24720" y="5277960"/>
            <a:ext cx="205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eate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tream, attach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2247840" y="3309840"/>
            <a:ext cx="152640" cy="8002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419200" y="3843360"/>
            <a:ext cx="4194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314440" y="4348080"/>
            <a:ext cx="123840" cy="76680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452680" y="4788000"/>
            <a:ext cx="604800" cy="12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286000" y="5386320"/>
            <a:ext cx="152280" cy="7383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2443320" y="5581440"/>
            <a:ext cx="64764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A84-8045-4E9A-89E7-F5EA3764249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xample: Java server (TCP), con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58" name=""/>
          <p:cNvSpPr/>
          <p:nvPr/>
        </p:nvSpPr>
        <p:spPr>
          <a:xfrm>
            <a:off x="1855080" y="1619280"/>
            <a:ext cx="699120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OutputStream  outToClien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taOutputStre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nectionSocket.getOutputStream()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entence = inFromClient.readLin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izedSentence = clientSentence.toUpperCase() + '\n'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ToClient.writeBytes(capitalizedSentenc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34760" y="275832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ad in 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rom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27080" y="173448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eat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tream, attach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028960" y="2814480"/>
            <a:ext cx="161640" cy="5335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2209680" y="311436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057400" y="1795320"/>
            <a:ext cx="133200" cy="8146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2214720" y="2485800"/>
            <a:ext cx="28548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16240" y="3901320"/>
            <a:ext cx="16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rite out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009880" y="3957480"/>
            <a:ext cx="162000" cy="5716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2190600" y="421920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183120" y="4889160"/>
            <a:ext cx="293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d of while loop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oop back and wait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other client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rot="10783800">
            <a:off x="3190680" y="4879800"/>
            <a:ext cx="160200" cy="9129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 flipV="1">
            <a:off x="2543040" y="4552920"/>
            <a:ext cx="648000" cy="604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4CE-29FE-454B-BBC1-300CBD6FA88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apter 2 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1 Principles of app layer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s and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2 Web and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4 Electronic Ma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6 Socket programming with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.7 Socket programming with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8 Building a Web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9 Content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Web ca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nt distribution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2P file sh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707-CA4C-4BD8-948D-A2B8A70CE26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ocket programming 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with UD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DP: no “connection” between client and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handsha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explicitly attaches IP address and port of destination to each pa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must extract IP address, port of sender from received pa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DP: transmitted data may be received out of order, or l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6" name=""/>
          <p:cNvGrpSpPr/>
          <p:nvPr/>
        </p:nvGrpSpPr>
        <p:grpSpPr>
          <a:xfrm>
            <a:off x="4657680" y="2679120"/>
            <a:ext cx="4133880" cy="1760400"/>
            <a:chOff x="4657680" y="2679120"/>
            <a:chExt cx="4133880" cy="1760400"/>
          </a:xfrm>
        </p:grpSpPr>
        <p:sp>
          <p:nvSpPr>
            <p:cNvPr id="1777" name=""/>
            <p:cNvSpPr/>
            <p:nvPr/>
          </p:nvSpPr>
          <p:spPr>
            <a:xfrm>
              <a:off x="4657680" y="2895480"/>
              <a:ext cx="4133880" cy="14191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8" name=""/>
            <p:cNvGrpSpPr/>
            <p:nvPr/>
          </p:nvGrpSpPr>
          <p:grpSpPr>
            <a:xfrm>
              <a:off x="4661640" y="2679120"/>
              <a:ext cx="2730240" cy="398880"/>
              <a:chOff x="4661640" y="2679120"/>
              <a:chExt cx="2730240" cy="398880"/>
            </a:xfrm>
          </p:grpSpPr>
          <p:sp>
            <p:nvSpPr>
              <p:cNvPr id="1779" name=""/>
              <p:cNvSpPr/>
              <p:nvPr/>
            </p:nvSpPr>
            <p:spPr>
              <a:xfrm>
                <a:off x="4762080" y="2752560"/>
                <a:ext cx="251460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661640" y="2679120"/>
                <a:ext cx="273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pplication viewpoi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1" name=""/>
            <p:cNvSpPr/>
            <p:nvPr/>
          </p:nvSpPr>
          <p:spPr>
            <a:xfrm>
              <a:off x="4738680" y="3125880"/>
              <a:ext cx="3916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UDP provides </a:t>
              </a:r>
              <a:r>
                <a:rPr b="0" i="1" lang="en-US" sz="20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unreliable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 trans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of groups of bytes (“datagrams”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between client and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B8B-5DAF-40A0-9311-3988E7EF39B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lient/server socket interaction: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1276200" y="3324240"/>
            <a:ext cx="5437800" cy="2546280"/>
            <a:chOff x="1276200" y="3324240"/>
            <a:chExt cx="5437800" cy="2546280"/>
          </a:xfrm>
        </p:grpSpPr>
        <p:sp>
          <p:nvSpPr>
            <p:cNvPr id="1784" name=""/>
            <p:cNvSpPr/>
            <p:nvPr/>
          </p:nvSpPr>
          <p:spPr>
            <a:xfrm>
              <a:off x="1276200" y="3324240"/>
              <a:ext cx="876600" cy="2543040"/>
            </a:xfrm>
            <a:custGeom>
              <a:avLst/>
              <a:gdLst/>
              <a:ahLst/>
              <a:rect l="l" t="t" r="r" b="b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568480" y="5350320"/>
              <a:ext cx="114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lient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248520" y="526716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7" name=""/>
          <p:cNvSpPr/>
          <p:nvPr/>
        </p:nvSpPr>
        <p:spPr>
          <a:xfrm>
            <a:off x="581760" y="131292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unning 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5529240" y="3933720"/>
            <a:ext cx="1381680" cy="1355760"/>
            <a:chOff x="5529240" y="3933720"/>
            <a:chExt cx="1381680" cy="1355760"/>
          </a:xfrm>
        </p:grpSpPr>
        <p:sp>
          <p:nvSpPr>
            <p:cNvPr id="1789" name=""/>
            <p:cNvSpPr/>
            <p:nvPr/>
          </p:nvSpPr>
          <p:spPr>
            <a:xfrm>
              <a:off x="5529240" y="4769280"/>
              <a:ext cx="138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ply fr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lient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134040" y="3933720"/>
              <a:ext cx="0" cy="828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1" name=""/>
          <p:cNvGrpSpPr/>
          <p:nvPr/>
        </p:nvGrpSpPr>
        <p:grpSpPr>
          <a:xfrm>
            <a:off x="3000240" y="1332000"/>
            <a:ext cx="5534640" cy="2597040"/>
            <a:chOff x="3000240" y="1332000"/>
            <a:chExt cx="5534640" cy="2597040"/>
          </a:xfrm>
        </p:grpSpPr>
        <p:grpSp>
          <p:nvGrpSpPr>
            <p:cNvPr id="1792" name=""/>
            <p:cNvGrpSpPr/>
            <p:nvPr/>
          </p:nvGrpSpPr>
          <p:grpSpPr>
            <a:xfrm>
              <a:off x="5375880" y="2205360"/>
              <a:ext cx="1642680" cy="664560"/>
              <a:chOff x="5375880" y="2205360"/>
              <a:chExt cx="1642680" cy="664560"/>
            </a:xfrm>
          </p:grpSpPr>
          <p:sp>
            <p:nvSpPr>
              <p:cNvPr id="1793" name=""/>
              <p:cNvSpPr/>
              <p:nvPr/>
            </p:nvSpPr>
            <p:spPr>
              <a:xfrm>
                <a:off x="5375880" y="2205360"/>
                <a:ext cx="1296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389920" y="2349720"/>
                <a:ext cx="162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clientSocket =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DatagramSocket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5" name=""/>
            <p:cNvSpPr/>
            <p:nvPr/>
          </p:nvSpPr>
          <p:spPr>
            <a:xfrm>
              <a:off x="5259240" y="133200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373360" y="3195720"/>
              <a:ext cx="3161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, address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, port=x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datagram reques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ing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lient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1299240" y="2079720"/>
            <a:ext cx="1704240" cy="2152440"/>
            <a:chOff x="1299240" y="2079720"/>
            <a:chExt cx="1704240" cy="2152440"/>
          </a:xfrm>
        </p:grpSpPr>
        <p:grpSp>
          <p:nvGrpSpPr>
            <p:cNvPr id="1800" name=""/>
            <p:cNvGrpSpPr/>
            <p:nvPr/>
          </p:nvGrpSpPr>
          <p:grpSpPr>
            <a:xfrm>
              <a:off x="1299240" y="2079720"/>
              <a:ext cx="1642320" cy="1133280"/>
              <a:chOff x="1299240" y="2079720"/>
              <a:chExt cx="1642320" cy="1133280"/>
            </a:xfrm>
          </p:grpSpPr>
          <p:sp>
            <p:nvSpPr>
              <p:cNvPr id="1801" name=""/>
              <p:cNvSpPr/>
              <p:nvPr/>
            </p:nvSpPr>
            <p:spPr>
              <a:xfrm>
                <a:off x="1299240" y="2079720"/>
                <a:ext cx="1590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312920" y="2692800"/>
                <a:ext cx="162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erverSocket =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DatagramSocket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3" name=""/>
            <p:cNvSpPr/>
            <p:nvPr/>
          </p:nvSpPr>
          <p:spPr>
            <a:xfrm>
              <a:off x="2038320" y="3171960"/>
              <a:ext cx="0" cy="581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413000" y="3711960"/>
              <a:ext cx="159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erver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1423440" y="4229280"/>
            <a:ext cx="3977280" cy="1360800"/>
            <a:chOff x="1423440" y="4229280"/>
            <a:chExt cx="3977280" cy="1360800"/>
          </a:xfrm>
        </p:grpSpPr>
        <p:sp>
          <p:nvSpPr>
            <p:cNvPr id="1806" name=""/>
            <p:cNvSpPr/>
            <p:nvPr/>
          </p:nvSpPr>
          <p:spPr>
            <a:xfrm>
              <a:off x="1423440" y="4430520"/>
              <a:ext cx="1443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erver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fying 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st addres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 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066760" y="4229280"/>
              <a:ext cx="0" cy="314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962440" y="4714920"/>
              <a:ext cx="2438280" cy="28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6384-8E40-467C-A67F-658793A536A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xample: Java client (UDP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10" name=""/>
          <p:cNvSpPr/>
          <p:nvPr/>
        </p:nvSpPr>
        <p:spPr>
          <a:xfrm>
            <a:off x="0" y="11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1" name=""/>
          <p:cNvGraphicFramePr/>
          <p:nvPr/>
        </p:nvGraphicFramePr>
        <p:xfrm>
          <a:off x="2655720" y="1262160"/>
          <a:ext cx="406728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5720" y="1262160"/>
                    <a:ext cx="406728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3" name=""/>
          <p:cNvSpPr/>
          <p:nvPr/>
        </p:nvSpPr>
        <p:spPr>
          <a:xfrm>
            <a:off x="1522440" y="3408480"/>
            <a:ext cx="21844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Output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ds packet (TCP sent “byte stream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932440" y="2759040"/>
            <a:ext cx="2184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Input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eives packet (TCP received “byte stream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294000" y="3595680"/>
            <a:ext cx="952560" cy="438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5388120" y="2971800"/>
            <a:ext cx="576000" cy="789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62360" y="2482920"/>
            <a:ext cx="1206360" cy="7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051440" y="4768920"/>
            <a:ext cx="1625400" cy="509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087800" y="469980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ent UDP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flipV="1">
            <a:off x="5235480" y="5248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C09-6588-4C4D-B6B8-3828BAD722F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xample: Java client (UDP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22" name=""/>
          <p:cNvSpPr/>
          <p:nvPr/>
        </p:nvSpPr>
        <p:spPr>
          <a:xfrm>
            <a:off x="2193840" y="1589760"/>
            <a:ext cx="631044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UDPClien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tatic void main(String args[]) throws 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edReader inFromUser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BufferedReader(new InputStreamReader(System.in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Socket clientSocket = new DatagramSocke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tAddress IPAddress = InetAddress.getByName("hostname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[] sendData = new byte[1024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[] receiveData = new byte[1024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sentence = inFromUser.readLin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Data = sentence.getBytes(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66360" y="293292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put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29360" y="363132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e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lient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-2880" y="4327200"/>
            <a:ext cx="22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ostname to 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ddress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sing D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071800" y="2986200"/>
            <a:ext cx="123840" cy="5428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2205000" y="3419280"/>
            <a:ext cx="3240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081160" y="3710160"/>
            <a:ext cx="123840" cy="50940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V="1">
            <a:off x="2200320" y="4066920"/>
            <a:ext cx="328680" cy="6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2081160" y="4424400"/>
            <a:ext cx="123840" cy="8049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2209680" y="4572000"/>
            <a:ext cx="36216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3B0-D2CB-469D-80B4-877C015158B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xample: Java client (UDP), cont.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33" name=""/>
          <p:cNvSpPr/>
          <p:nvPr/>
        </p:nvSpPr>
        <p:spPr>
          <a:xfrm>
            <a:off x="2185560" y="1760040"/>
            <a:ext cx="6949080" cy="43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Packet sendPacket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gramPacket(sendData, sendData.length, IPAddress, 9876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Socket.send(sendPacke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Packet receivePacket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gramPacket(receiveData, receiveData.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Socket.receive(receivePacke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modifiedSentence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String(receivePacket.getData(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"FROM SERVER:" + modifiedSentence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Socket.clos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0" y="1445760"/>
            <a:ext cx="239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eate datagram with data-to-sen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ength, IP addr,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7840" y="247248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 dat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o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53960" y="3537720"/>
            <a:ext cx="18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ad dat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rom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228760" y="1528920"/>
            <a:ext cx="114480" cy="7905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2343240" y="2181240"/>
            <a:ext cx="34272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2076480" y="2509920"/>
            <a:ext cx="123840" cy="5857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V="1">
            <a:off x="2214720" y="2647440"/>
            <a:ext cx="309240" cy="16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095560" y="3605040"/>
            <a:ext cx="123840" cy="5097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2233440" y="3924000"/>
            <a:ext cx="2955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0BA-EBD1-432A-BCB9-0F9040B8C6F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xample: Java server (UDP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44" name=""/>
          <p:cNvSpPr/>
          <p:nvPr/>
        </p:nvSpPr>
        <p:spPr>
          <a:xfrm>
            <a:off x="2573640" y="1549440"/>
            <a:ext cx="614268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UDPServer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tatic void main(String args[]) throws 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Socket serverSocket = new DatagramSocket(9876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[] receiveData = new byte[1024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[] sendData  = new byte[1024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(tru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Packet receivePacket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gramPacket(receiveData, receiveData.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Socket.receive(receivePacket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37040" y="2810880"/>
            <a:ext cx="19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atagram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t port 98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93760" y="501732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eate space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ceived dat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328760" y="5650200"/>
            <a:ext cx="12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at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286000" y="2871720"/>
            <a:ext cx="152280" cy="8002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457360" y="3405240"/>
            <a:ext cx="41904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2362320" y="5072040"/>
            <a:ext cx="85680" cy="5475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2471760" y="5407200"/>
            <a:ext cx="604800" cy="12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352600" y="5805360"/>
            <a:ext cx="138240" cy="5860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2490840" y="5972040"/>
            <a:ext cx="59220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5AB-8B4A-43C7-A352-B1D63540118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xample: Java server (UDP), con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5" name=""/>
          <p:cNvSpPr/>
          <p:nvPr/>
        </p:nvSpPr>
        <p:spPr>
          <a:xfrm>
            <a:off x="1860840" y="1181880"/>
            <a:ext cx="654336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sentence = new String(receivePacket.getData(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tAddress IPAddress = receivePacket.getAddress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port = receivePacket.getPor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capitalizedSentence = sentence.toUpperCas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Data = capitalizedSentence.getBytes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Packet sendPacket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gramPacket(sendData, sendData.length, IPAddre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Socket.send(sendPacke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27080" y="173628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Get IP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ort #,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057400" y="1795320"/>
            <a:ext cx="133200" cy="8146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2214720" y="2533680"/>
            <a:ext cx="28548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800640" y="4507920"/>
            <a:ext cx="124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rite 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at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895400" y="4595760"/>
            <a:ext cx="162000" cy="8193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2076480" y="499068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215520" y="563184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d of while loop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oop back and wait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other dat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rot="10783800">
            <a:off x="3209760" y="5622840"/>
            <a:ext cx="160560" cy="9129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 flipV="1">
            <a:off x="2561760" y="5295960"/>
            <a:ext cx="647640" cy="604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2205000" y="2095560"/>
            <a:ext cx="28584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05480" y="37011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eate dat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o send 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933560" y="3757680"/>
            <a:ext cx="162000" cy="5713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2114640" y="4019400"/>
            <a:ext cx="333360" cy="5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4FE-2181-4165-B4DD-85DEE1EDB70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hat transport service does an app need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6280" y="1390680"/>
            <a:ext cx="4316400" cy="27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ata l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apps (e.g., audio) can tolerate some l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apps (e.g., file transfer, telnet) require 100% reliable data transf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56920" y="4105440"/>
            <a:ext cx="3809880" cy="24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apps (e.g., Internet telephony, interactive games) require low delay to be “effectiv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"/>
          <p:cNvSpPr/>
          <p:nvPr/>
        </p:nvSpPr>
        <p:spPr>
          <a:xfrm>
            <a:off x="5025960" y="1424160"/>
            <a:ext cx="38862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apps (e.g., multimedia) require minimum amount of bandwidth to be “effect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apps (“elastic apps”) make use of whatever bandwidth they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0A9-D05D-497C-9E85-6B3F6EDB4C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uilding a simple Web serv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68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ndles one HTTP requ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pts the requ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ses hea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ains requested file from server’s fil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s HTTP response messag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lines + f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s response to cli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727160" y="15746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ter creating server, you can request file using a browser (eg IE explor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  text for detai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ABE-D5B0-4CA5-8A9E-0F6023141F4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ocket programming: referenc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201240" y="1449360"/>
            <a:ext cx="864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-language tutor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audio/slides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x Network Programming” (J. Kurose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manic.cs.umass.edu/~amldemo/courseware/intr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Java-tutoria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About Sockets” (Sun tutorial), http://www.javaworld.com/javaworld/jw-12-1996/jw-12-sockets.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cket Programming in Java: a tutorial,” http://www.javaworld.com/javaworld/jw-12-1996/jw-12-sockets.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A788-54A0-42C6-9280-0F4535B3327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apter 2 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1 Principles of app layer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s and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2 Web and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4 Electronic Ma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6 Socket programming with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7 Socket programming with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8 Building a Web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.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tent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twork Web ca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tent distribution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2P file sh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043-2443-47F0-9E9E-16603308667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Web caches (proxy server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520200" y="2096640"/>
            <a:ext cx="35514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sets browser: Web accesses via 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wser sends all HTTP requests to 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 in cache: cache returns objec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se cache requests object from origin server, then returns object to cli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"/>
          <p:cNvSpPr/>
          <p:nvPr/>
        </p:nvSpPr>
        <p:spPr>
          <a:xfrm>
            <a:off x="527040" y="1379520"/>
            <a:ext cx="7201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atisfy client request without involving origi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0" name="" descr=""/>
          <p:cNvPicPr/>
          <p:nvPr/>
        </p:nvPicPr>
        <p:blipFill>
          <a:blip r:embed="rId1"/>
          <a:stretch/>
        </p:blipFill>
        <p:spPr>
          <a:xfrm>
            <a:off x="4203720" y="2955960"/>
            <a:ext cx="515880" cy="414360"/>
          </a:xfrm>
          <a:prstGeom prst="rect">
            <a:avLst/>
          </a:prstGeom>
          <a:ln w="0">
            <a:noFill/>
          </a:ln>
        </p:spPr>
      </p:pic>
      <p:sp>
        <p:nvSpPr>
          <p:cNvPr id="1881" name=""/>
          <p:cNvSpPr/>
          <p:nvPr/>
        </p:nvSpPr>
        <p:spPr>
          <a:xfrm>
            <a:off x="4153320" y="336852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2" name="" descr=""/>
          <p:cNvPicPr/>
          <p:nvPr/>
        </p:nvPicPr>
        <p:blipFill>
          <a:blip r:embed="rId2"/>
          <a:stretch/>
        </p:blipFill>
        <p:spPr>
          <a:xfrm>
            <a:off x="4268880" y="4826160"/>
            <a:ext cx="515880" cy="412560"/>
          </a:xfrm>
          <a:prstGeom prst="rect">
            <a:avLst/>
          </a:prstGeom>
          <a:ln w="0">
            <a:noFill/>
          </a:ln>
        </p:spPr>
      </p:pic>
      <p:sp>
        <p:nvSpPr>
          <p:cNvPr id="1883" name=""/>
          <p:cNvSpPr/>
          <p:nvPr/>
        </p:nvSpPr>
        <p:spPr>
          <a:xfrm>
            <a:off x="6037920" y="2774880"/>
            <a:ext cx="9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4" name=""/>
          <p:cNvGrpSpPr/>
          <p:nvPr/>
        </p:nvGrpSpPr>
        <p:grpSpPr>
          <a:xfrm>
            <a:off x="6249960" y="3556080"/>
            <a:ext cx="345600" cy="742680"/>
            <a:chOff x="6249960" y="3556080"/>
            <a:chExt cx="345600" cy="742680"/>
          </a:xfrm>
        </p:grpSpPr>
        <p:sp>
          <p:nvSpPr>
            <p:cNvPr id="1885" name=""/>
            <p:cNvSpPr/>
            <p:nvPr/>
          </p:nvSpPr>
          <p:spPr>
            <a:xfrm>
              <a:off x="6249960" y="41270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424920" y="35607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251760" y="37227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249960" y="35560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595560" y="356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6470640" y="41270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279480" y="3798000"/>
              <a:ext cx="145080" cy="329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300360" y="38970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3" name=""/>
          <p:cNvSpPr/>
          <p:nvPr/>
        </p:nvSpPr>
        <p:spPr>
          <a:xfrm>
            <a:off x="4765680" y="3141720"/>
            <a:ext cx="3251160" cy="730080"/>
          </a:xfrm>
          <a:custGeom>
            <a:avLst/>
            <a:gdLst/>
            <a:ahLst/>
            <a:rect l="l" t="t" r="r" b="b"/>
            <a:pathLst>
              <a:path w="2048" h="460">
                <a:moveTo>
                  <a:pt x="0" y="2"/>
                </a:moveTo>
                <a:lnTo>
                  <a:pt x="1011" y="460"/>
                </a:lnTo>
                <a:lnTo>
                  <a:pt x="204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4759200" y="4095720"/>
            <a:ext cx="140184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H="1">
            <a:off x="4809600" y="4183200"/>
            <a:ext cx="1403640" cy="785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308840" y="52848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rot="1422000">
            <a:off x="4885560" y="318420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rot="19906800">
            <a:off x="4589640" y="42008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rot="1411200">
            <a:off x="4609440" y="356220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rot="19861800">
            <a:off x="4778280" y="451872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8174160" y="2765520"/>
            <a:ext cx="345600" cy="741960"/>
            <a:chOff x="8174160" y="2765520"/>
            <a:chExt cx="345600" cy="741960"/>
          </a:xfrm>
        </p:grpSpPr>
        <p:sp>
          <p:nvSpPr>
            <p:cNvPr id="1902" name=""/>
            <p:cNvSpPr/>
            <p:nvPr/>
          </p:nvSpPr>
          <p:spPr>
            <a:xfrm>
              <a:off x="8174160" y="33361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349120" y="277020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175960" y="2932200"/>
              <a:ext cx="218880" cy="570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174160" y="27655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519760" y="27774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8394840" y="333612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203680" y="3007080"/>
              <a:ext cx="145080" cy="328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224560" y="310644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8174160" y="4670280"/>
            <a:ext cx="345600" cy="742680"/>
            <a:chOff x="8174160" y="4670280"/>
            <a:chExt cx="345600" cy="742680"/>
          </a:xfrm>
        </p:grpSpPr>
        <p:sp>
          <p:nvSpPr>
            <p:cNvPr id="1911" name=""/>
            <p:cNvSpPr/>
            <p:nvPr/>
          </p:nvSpPr>
          <p:spPr>
            <a:xfrm>
              <a:off x="8174160" y="52412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349120" y="46749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175960" y="48369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174160" y="46702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519760" y="4682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8394840" y="52412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203680" y="4912200"/>
              <a:ext cx="145080" cy="329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224560" y="50112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4738680" y="3216240"/>
            <a:ext cx="3363840" cy="755640"/>
          </a:xfrm>
          <a:custGeom>
            <a:avLst/>
            <a:gdLst/>
            <a:ahLst/>
            <a:rect l="l" t="t" r="r" b="b"/>
            <a:pathLst>
              <a:path w="2119" h="476">
                <a:moveTo>
                  <a:pt x="2119" y="0"/>
                </a:moveTo>
                <a:lnTo>
                  <a:pt x="1020" y="476"/>
                </a:lnTo>
                <a:lnTo>
                  <a:pt x="0" y="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rot="20179800">
            <a:off x="6523200" y="320076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rot="20184000">
            <a:off x="6562800" y="354312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888320" y="5465880"/>
            <a:ext cx="79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916760" y="2131920"/>
            <a:ext cx="79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53E-4FD0-4F8A-871A-F6E8772EB2C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ore about Web cach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che acts as both client and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che can do up-to-date check us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-modified-sin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TTP hea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sue: should cache take risk and deliver cached object without checking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uristics are us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ly cache is installed by ISP (university, company, residential IS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Why Web caching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ce response time for client reque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ce traffic on an institution’s access lin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 dense with caches enables “poor” content providers to effectively deliver 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4B5-7B49-466A-8CC2-A697B003C80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aching example (1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520200" y="1379520"/>
            <a:ext cx="416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erage object size = 100,000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g. request rate from institution’s browser to origin serves = 15/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ay from institutional router to any origin server and back to router  = 2 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sequen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tilization on LAN = 1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tilization on access link = 10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2 sec + minutes + millisecon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1931" name="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9" name=""/>
          <p:cNvGrpSpPr/>
          <p:nvPr/>
        </p:nvGrpSpPr>
        <p:grpSpPr>
          <a:xfrm>
            <a:off x="5802480" y="1155600"/>
            <a:ext cx="183960" cy="542520"/>
            <a:chOff x="5802480" y="1155600"/>
            <a:chExt cx="183960" cy="542520"/>
          </a:xfrm>
        </p:grpSpPr>
        <p:sp>
          <p:nvSpPr>
            <p:cNvPr id="1940" name=""/>
            <p:cNvSpPr/>
            <p:nvPr/>
          </p:nvSpPr>
          <p:spPr>
            <a:xfrm>
              <a:off x="5802480" y="15728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895720" y="11592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803560" y="12772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802480" y="11556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986440" y="11642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H="1">
              <a:off x="5920200" y="15728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818320" y="13323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829480" y="14047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478560" y="1184400"/>
            <a:ext cx="184320" cy="542520"/>
            <a:chOff x="6478560" y="1184400"/>
            <a:chExt cx="184320" cy="542520"/>
          </a:xfrm>
        </p:grpSpPr>
        <p:sp>
          <p:nvSpPr>
            <p:cNvPr id="1949" name=""/>
            <p:cNvSpPr/>
            <p:nvPr/>
          </p:nvSpPr>
          <p:spPr>
            <a:xfrm>
              <a:off x="6478560" y="1601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571800" y="1188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479640" y="1306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478560" y="1184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662880" y="1193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>
              <a:off x="6596280" y="1601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494400" y="13611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505560" y="1433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059600" y="1365120"/>
            <a:ext cx="184320" cy="542520"/>
            <a:chOff x="7059600" y="1365120"/>
            <a:chExt cx="184320" cy="542520"/>
          </a:xfrm>
        </p:grpSpPr>
        <p:sp>
          <p:nvSpPr>
            <p:cNvPr id="1958" name=""/>
            <p:cNvSpPr/>
            <p:nvPr/>
          </p:nvSpPr>
          <p:spPr>
            <a:xfrm>
              <a:off x="7059600" y="17823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152840" y="13687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060680" y="148680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059600" y="1365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7243920" y="13737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7177320" y="17823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075440" y="15418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086600" y="161424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1967" name="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7615080" y="1208160"/>
            <a:ext cx="105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877000" y="169560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6505200" y="173340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H="1">
            <a:off x="6962760" y="189540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162400" y="1689120"/>
            <a:ext cx="2175120" cy="158112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1" name="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1982" name="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1988" name="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1" name="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1992" name="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5" name=""/>
          <p:cNvSpPr/>
          <p:nvPr/>
        </p:nvSpPr>
        <p:spPr>
          <a:xfrm>
            <a:off x="5630040" y="1998720"/>
            <a:ext cx="101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/>
            <a:ahLst/>
            <a:rect l="l" t="t" r="r" b="b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7" name="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1998" name="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1999" name="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2000" name="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2001" name=""/>
          <p:cNvSpPr/>
          <p:nvPr/>
        </p:nvSpPr>
        <p:spPr>
          <a:xfrm flipV="1">
            <a:off x="5172120" y="4592520"/>
            <a:ext cx="155736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6" name="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2007" name="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2" name="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2013" name="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6" name="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2017" name="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0" name="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700520" y="394668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635880" y="429408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 Mbp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395760" y="3322800"/>
            <a:ext cx="11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5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877080" y="537048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14E-FECA-4186-A03A-C1E6E357E11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aching example (2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520200" y="1379520"/>
            <a:ext cx="416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Possible sol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 bandwidth of access link to, say, 1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sequen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tilization on LAN = 1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tilization on access link = 1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2 sec + msecs + msec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ten a costly upgra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29" name="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2030" name="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5802480" y="1155600"/>
            <a:ext cx="183960" cy="542520"/>
            <a:chOff x="5802480" y="1155600"/>
            <a:chExt cx="183960" cy="542520"/>
          </a:xfrm>
        </p:grpSpPr>
        <p:sp>
          <p:nvSpPr>
            <p:cNvPr id="2039" name=""/>
            <p:cNvSpPr/>
            <p:nvPr/>
          </p:nvSpPr>
          <p:spPr>
            <a:xfrm>
              <a:off x="5802480" y="15728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895720" y="11592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803560" y="12772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802480" y="11556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986440" y="11642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5920200" y="15728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818320" y="13323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829480" y="14047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6478560" y="1184400"/>
            <a:ext cx="184320" cy="542520"/>
            <a:chOff x="6478560" y="1184400"/>
            <a:chExt cx="184320" cy="542520"/>
          </a:xfrm>
        </p:grpSpPr>
        <p:sp>
          <p:nvSpPr>
            <p:cNvPr id="2048" name=""/>
            <p:cNvSpPr/>
            <p:nvPr/>
          </p:nvSpPr>
          <p:spPr>
            <a:xfrm>
              <a:off x="6478560" y="1601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571800" y="1188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479640" y="1306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478560" y="1184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662880" y="1193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>
              <a:off x="6596280" y="1601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494400" y="13611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05560" y="1433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6" name=""/>
          <p:cNvGrpSpPr/>
          <p:nvPr/>
        </p:nvGrpSpPr>
        <p:grpSpPr>
          <a:xfrm>
            <a:off x="7059600" y="1365120"/>
            <a:ext cx="184320" cy="542520"/>
            <a:chOff x="7059600" y="1365120"/>
            <a:chExt cx="184320" cy="542520"/>
          </a:xfrm>
        </p:grpSpPr>
        <p:sp>
          <p:nvSpPr>
            <p:cNvPr id="2057" name=""/>
            <p:cNvSpPr/>
            <p:nvPr/>
          </p:nvSpPr>
          <p:spPr>
            <a:xfrm>
              <a:off x="7059600" y="17823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152840" y="13687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060680" y="148680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059600" y="1365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243920" y="13737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7177320" y="17823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075440" y="15418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086600" y="161424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5" name="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2066" name="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4" name=""/>
          <p:cNvSpPr/>
          <p:nvPr/>
        </p:nvSpPr>
        <p:spPr>
          <a:xfrm>
            <a:off x="7615080" y="1208160"/>
            <a:ext cx="105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877000" y="169560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>
            <a:off x="6505200" y="173340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6962760" y="189540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5162400" y="1689120"/>
            <a:ext cx="2175120" cy="158112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0" name="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2081" name="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6" name="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2087" name="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2091" name="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4" name=""/>
          <p:cNvSpPr/>
          <p:nvPr/>
        </p:nvSpPr>
        <p:spPr>
          <a:xfrm>
            <a:off x="5630040" y="1998720"/>
            <a:ext cx="101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/>
            <a:ahLst/>
            <a:rect l="l" t="t" r="r" b="b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6" name="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2097" name="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2098" name="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2099" name="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2100" name=""/>
          <p:cNvSpPr/>
          <p:nvPr/>
        </p:nvSpPr>
        <p:spPr>
          <a:xfrm flipV="1">
            <a:off x="5172120" y="4592520"/>
            <a:ext cx="155736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5" name="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2106" name="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1" name="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2112" name="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5" name="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2116" name="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9" name="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00520" y="394668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6635880" y="429408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 Mbp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6395760" y="3322800"/>
            <a:ext cx="11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877080" y="537048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540-426B-4931-AFA4-D3FFCE5DFED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aching example (3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56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stall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se hit rate is .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sequ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% requests will be satisfied almost immediate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0% requests satisfied by origin 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tilization of access link reduced to 60%, resulting in negligible  delays (say 10 mse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.6*2 sec + .6*.01 secs + milliseconds &lt; 1.3 sec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28" name="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2129" name="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5802480" y="1155600"/>
            <a:ext cx="183960" cy="542520"/>
            <a:chOff x="5802480" y="1155600"/>
            <a:chExt cx="183960" cy="542520"/>
          </a:xfrm>
        </p:grpSpPr>
        <p:sp>
          <p:nvSpPr>
            <p:cNvPr id="2138" name=""/>
            <p:cNvSpPr/>
            <p:nvPr/>
          </p:nvSpPr>
          <p:spPr>
            <a:xfrm>
              <a:off x="5802480" y="15728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895720" y="11592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803560" y="12772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802480" y="11556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986440" y="11642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5920200" y="15728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818320" y="13323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829480" y="14047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6478560" y="1184400"/>
            <a:ext cx="184320" cy="542520"/>
            <a:chOff x="6478560" y="1184400"/>
            <a:chExt cx="184320" cy="542520"/>
          </a:xfrm>
        </p:grpSpPr>
        <p:sp>
          <p:nvSpPr>
            <p:cNvPr id="2147" name=""/>
            <p:cNvSpPr/>
            <p:nvPr/>
          </p:nvSpPr>
          <p:spPr>
            <a:xfrm>
              <a:off x="6478560" y="1601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571800" y="1188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479640" y="1306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478560" y="1184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662880" y="1193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>
              <a:off x="6596280" y="1601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494400" y="13611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505560" y="1433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5" name=""/>
          <p:cNvGrpSpPr/>
          <p:nvPr/>
        </p:nvGrpSpPr>
        <p:grpSpPr>
          <a:xfrm>
            <a:off x="7059600" y="1365120"/>
            <a:ext cx="184320" cy="542520"/>
            <a:chOff x="7059600" y="1365120"/>
            <a:chExt cx="184320" cy="542520"/>
          </a:xfrm>
        </p:grpSpPr>
        <p:sp>
          <p:nvSpPr>
            <p:cNvPr id="2156" name=""/>
            <p:cNvSpPr/>
            <p:nvPr/>
          </p:nvSpPr>
          <p:spPr>
            <a:xfrm>
              <a:off x="7059600" y="17823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152840" y="13687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060680" y="148680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059600" y="1365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243920" y="13737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>
              <a:off x="7177320" y="17823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075440" y="15418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086600" y="161424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4" name="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2165" name="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3" name=""/>
          <p:cNvSpPr/>
          <p:nvPr/>
        </p:nvSpPr>
        <p:spPr>
          <a:xfrm>
            <a:off x="7615080" y="1208160"/>
            <a:ext cx="105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877000" y="169560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H="1">
            <a:off x="6505200" y="173340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 flipH="1">
            <a:off x="6962760" y="189540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162400" y="1689120"/>
            <a:ext cx="2175120" cy="158112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2180" name="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5" name="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2186" name="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2190" name="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3" name=""/>
          <p:cNvSpPr/>
          <p:nvPr/>
        </p:nvSpPr>
        <p:spPr>
          <a:xfrm>
            <a:off x="5630040" y="1998720"/>
            <a:ext cx="101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/>
            <a:ahLst/>
            <a:rect l="l" t="t" r="r" b="b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5" name="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2196" name="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2197" name="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2198" name="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2199" name=""/>
          <p:cNvSpPr/>
          <p:nvPr/>
        </p:nvSpPr>
        <p:spPr>
          <a:xfrm>
            <a:off x="5172120" y="4605480"/>
            <a:ext cx="220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7367760" y="4605480"/>
            <a:ext cx="0" cy="22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7142040" y="4689360"/>
            <a:ext cx="347760" cy="695160"/>
            <a:chOff x="7142040" y="4689360"/>
            <a:chExt cx="347760" cy="695160"/>
          </a:xfrm>
        </p:grpSpPr>
        <p:sp>
          <p:nvSpPr>
            <p:cNvPr id="2206" name=""/>
            <p:cNvSpPr/>
            <p:nvPr/>
          </p:nvSpPr>
          <p:spPr>
            <a:xfrm>
              <a:off x="7142040" y="4689360"/>
              <a:ext cx="34776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7" name=""/>
            <p:cNvGrpSpPr/>
            <p:nvPr/>
          </p:nvGrpSpPr>
          <p:grpSpPr>
            <a:xfrm>
              <a:off x="7207200" y="4770360"/>
              <a:ext cx="183960" cy="542520"/>
              <a:chOff x="7207200" y="4770360"/>
              <a:chExt cx="183960" cy="542520"/>
            </a:xfrm>
          </p:grpSpPr>
          <p:sp>
            <p:nvSpPr>
              <p:cNvPr id="2208" name=""/>
              <p:cNvSpPr/>
              <p:nvPr/>
            </p:nvSpPr>
            <p:spPr>
              <a:xfrm>
                <a:off x="7207200" y="518760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300440" y="477396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208280" y="489204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207200" y="477036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391160" y="477900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H="1">
                <a:off x="7324920" y="518760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223040" y="494712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7234200" y="501948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6" name="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2217" name="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2223" name="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6" name="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2227" name="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0" name="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700520" y="394668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672240" y="429408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 Mbp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395760" y="3322800"/>
            <a:ext cx="11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5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77080" y="537048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481-2A67-472F-A257-A5AA7636B50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ent distribution networks (CDN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65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ntent providers are the CDN custom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tent re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DN company installs hundreds of CDN servers throughout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lower-tier ISPs, close to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DN replicates its customers’ content in CDN servers. When provider updates content, CDN updates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38" name=""/>
          <p:cNvGrpSpPr/>
          <p:nvPr/>
        </p:nvGrpSpPr>
        <p:grpSpPr>
          <a:xfrm>
            <a:off x="6435720" y="1841400"/>
            <a:ext cx="184320" cy="542520"/>
            <a:chOff x="6435720" y="1841400"/>
            <a:chExt cx="184320" cy="542520"/>
          </a:xfrm>
        </p:grpSpPr>
        <p:sp>
          <p:nvSpPr>
            <p:cNvPr id="2239" name=""/>
            <p:cNvSpPr/>
            <p:nvPr/>
          </p:nvSpPr>
          <p:spPr>
            <a:xfrm>
              <a:off x="6435720" y="2258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528960" y="1845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436800" y="1963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435720" y="1841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620040" y="1850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6553440" y="2258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451560" y="20181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462720" y="2090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7" name=""/>
          <p:cNvGrpSpPr/>
          <p:nvPr/>
        </p:nvGrpSpPr>
        <p:grpSpPr>
          <a:xfrm>
            <a:off x="5284800" y="4213080"/>
            <a:ext cx="347760" cy="695160"/>
            <a:chOff x="5284800" y="4213080"/>
            <a:chExt cx="347760" cy="695160"/>
          </a:xfrm>
        </p:grpSpPr>
        <p:sp>
          <p:nvSpPr>
            <p:cNvPr id="2248" name=""/>
            <p:cNvSpPr/>
            <p:nvPr/>
          </p:nvSpPr>
          <p:spPr>
            <a:xfrm>
              <a:off x="5284800" y="4213080"/>
              <a:ext cx="34776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9" name=""/>
            <p:cNvGrpSpPr/>
            <p:nvPr/>
          </p:nvGrpSpPr>
          <p:grpSpPr>
            <a:xfrm>
              <a:off x="5349960" y="4294080"/>
              <a:ext cx="183960" cy="542520"/>
              <a:chOff x="5349960" y="4294080"/>
              <a:chExt cx="183960" cy="542520"/>
            </a:xfrm>
          </p:grpSpPr>
          <p:sp>
            <p:nvSpPr>
              <p:cNvPr id="2250" name=""/>
              <p:cNvSpPr/>
              <p:nvPr/>
            </p:nvSpPr>
            <p:spPr>
              <a:xfrm>
                <a:off x="5349960" y="471132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443200" y="429768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351040" y="441576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349960" y="429408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533920" y="430272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>
                <a:off x="5467680" y="471132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5365800" y="447084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5376960" y="454320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8" name=""/>
          <p:cNvGrpSpPr/>
          <p:nvPr/>
        </p:nvGrpSpPr>
        <p:grpSpPr>
          <a:xfrm>
            <a:off x="6426360" y="4524480"/>
            <a:ext cx="347400" cy="695160"/>
            <a:chOff x="6426360" y="4524480"/>
            <a:chExt cx="347400" cy="695160"/>
          </a:xfrm>
        </p:grpSpPr>
        <p:sp>
          <p:nvSpPr>
            <p:cNvPr id="2259" name=""/>
            <p:cNvSpPr/>
            <p:nvPr/>
          </p:nvSpPr>
          <p:spPr>
            <a:xfrm>
              <a:off x="6426360" y="4524480"/>
              <a:ext cx="34740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0" name=""/>
            <p:cNvGrpSpPr/>
            <p:nvPr/>
          </p:nvGrpSpPr>
          <p:grpSpPr>
            <a:xfrm>
              <a:off x="6491160" y="4605480"/>
              <a:ext cx="183600" cy="542520"/>
              <a:chOff x="6491160" y="4605480"/>
              <a:chExt cx="183600" cy="542520"/>
            </a:xfrm>
          </p:grpSpPr>
          <p:sp>
            <p:nvSpPr>
              <p:cNvPr id="2261" name=""/>
              <p:cNvSpPr/>
              <p:nvPr/>
            </p:nvSpPr>
            <p:spPr>
              <a:xfrm>
                <a:off x="6491160" y="5022720"/>
                <a:ext cx="183600" cy="125280"/>
              </a:xfrm>
              <a:prstGeom prst="parallelogram">
                <a:avLst>
                  <a:gd name="adj" fmla="val 5645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584040" y="4609080"/>
                <a:ext cx="8424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492240" y="4727160"/>
                <a:ext cx="11628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491160" y="4605480"/>
                <a:ext cx="183600" cy="125280"/>
              </a:xfrm>
              <a:prstGeom prst="parallelogram">
                <a:avLst>
                  <a:gd name="adj" fmla="val 5645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674760" y="461412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>
                <a:off x="6608160" y="5022720"/>
                <a:ext cx="6588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506640" y="4782240"/>
                <a:ext cx="7704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517800" y="4854600"/>
                <a:ext cx="583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9" name=""/>
          <p:cNvGrpSpPr/>
          <p:nvPr/>
        </p:nvGrpSpPr>
        <p:grpSpPr>
          <a:xfrm>
            <a:off x="7421400" y="4335480"/>
            <a:ext cx="347760" cy="695160"/>
            <a:chOff x="7421400" y="4335480"/>
            <a:chExt cx="347760" cy="695160"/>
          </a:xfrm>
        </p:grpSpPr>
        <p:sp>
          <p:nvSpPr>
            <p:cNvPr id="2270" name=""/>
            <p:cNvSpPr/>
            <p:nvPr/>
          </p:nvSpPr>
          <p:spPr>
            <a:xfrm>
              <a:off x="7421400" y="4335480"/>
              <a:ext cx="34776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1" name=""/>
            <p:cNvGrpSpPr/>
            <p:nvPr/>
          </p:nvGrpSpPr>
          <p:grpSpPr>
            <a:xfrm>
              <a:off x="7486560" y="4416480"/>
              <a:ext cx="183960" cy="542520"/>
              <a:chOff x="7486560" y="4416480"/>
              <a:chExt cx="183960" cy="542520"/>
            </a:xfrm>
          </p:grpSpPr>
          <p:sp>
            <p:nvSpPr>
              <p:cNvPr id="2272" name=""/>
              <p:cNvSpPr/>
              <p:nvPr/>
            </p:nvSpPr>
            <p:spPr>
              <a:xfrm>
                <a:off x="7486560" y="483372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579800" y="442008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487640" y="453816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486560" y="441648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670520" y="442512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H="1">
                <a:off x="7604280" y="483372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502400" y="459324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513560" y="466560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0" name=""/>
          <p:cNvGrpSpPr/>
          <p:nvPr/>
        </p:nvGrpSpPr>
        <p:grpSpPr>
          <a:xfrm>
            <a:off x="6404040" y="3230640"/>
            <a:ext cx="347760" cy="695160"/>
            <a:chOff x="6404040" y="3230640"/>
            <a:chExt cx="347760" cy="695160"/>
          </a:xfrm>
        </p:grpSpPr>
        <p:sp>
          <p:nvSpPr>
            <p:cNvPr id="2281" name=""/>
            <p:cNvSpPr/>
            <p:nvPr/>
          </p:nvSpPr>
          <p:spPr>
            <a:xfrm>
              <a:off x="6404040" y="3230640"/>
              <a:ext cx="34776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2" name=""/>
            <p:cNvGrpSpPr/>
            <p:nvPr/>
          </p:nvGrpSpPr>
          <p:grpSpPr>
            <a:xfrm>
              <a:off x="6469200" y="3311640"/>
              <a:ext cx="183960" cy="542520"/>
              <a:chOff x="6469200" y="3311640"/>
              <a:chExt cx="183960" cy="542520"/>
            </a:xfrm>
          </p:grpSpPr>
          <p:sp>
            <p:nvSpPr>
              <p:cNvPr id="2283" name=""/>
              <p:cNvSpPr/>
              <p:nvPr/>
            </p:nvSpPr>
            <p:spPr>
              <a:xfrm>
                <a:off x="6469200" y="372888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6562440" y="331524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470280" y="343332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6469200" y="331164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6653160" y="332028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H="1">
                <a:off x="6586920" y="372888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485040" y="348840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496200" y="356076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91" name=""/>
          <p:cNvSpPr/>
          <p:nvPr/>
        </p:nvSpPr>
        <p:spPr>
          <a:xfrm>
            <a:off x="5746680" y="1249200"/>
            <a:ext cx="1802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igin ser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481720" y="286056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DN distribution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508800" y="2394000"/>
            <a:ext cx="0" cy="4874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 flipH="1">
            <a:off x="5629320" y="3736800"/>
            <a:ext cx="720720" cy="6955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581880" y="4016520"/>
            <a:ext cx="0" cy="452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800760" y="3711600"/>
            <a:ext cx="598680" cy="7081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577040" y="4962600"/>
            <a:ext cx="1410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DN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.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004440" y="5291280"/>
            <a:ext cx="126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DN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7315560" y="5113440"/>
            <a:ext cx="126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DN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A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C2B-1721-4F99-8819-B5BD6DD83FFD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53352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DN exampl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512280" y="3857400"/>
            <a:ext cx="494676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ww.foo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s 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ac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foo.com/sports.ruth.gi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tp://www.cdn.com/www.foo.com/sports/ruth.gi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02" name=""/>
          <p:cNvGrpSpPr/>
          <p:nvPr/>
        </p:nvGrpSpPr>
        <p:grpSpPr>
          <a:xfrm>
            <a:off x="1477800" y="541440"/>
            <a:ext cx="6326640" cy="3439440"/>
            <a:chOff x="1477800" y="541440"/>
            <a:chExt cx="6326640" cy="3439440"/>
          </a:xfrm>
        </p:grpSpPr>
        <p:pic>
          <p:nvPicPr>
            <p:cNvPr id="2303" name="" descr=""/>
            <p:cNvPicPr/>
            <p:nvPr/>
          </p:nvPicPr>
          <p:blipFill>
            <a:blip r:embed="rId1"/>
            <a:stretch/>
          </p:blipFill>
          <p:spPr>
            <a:xfrm>
              <a:off x="1477800" y="1644480"/>
              <a:ext cx="444600" cy="35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4" name=""/>
            <p:cNvGrpSpPr/>
            <p:nvPr/>
          </p:nvGrpSpPr>
          <p:grpSpPr>
            <a:xfrm>
              <a:off x="4055760" y="646200"/>
              <a:ext cx="184320" cy="542520"/>
              <a:chOff x="4055760" y="646200"/>
              <a:chExt cx="184320" cy="542520"/>
            </a:xfrm>
          </p:grpSpPr>
          <p:sp>
            <p:nvSpPr>
              <p:cNvPr id="2305" name=""/>
              <p:cNvSpPr/>
              <p:nvPr/>
            </p:nvSpPr>
            <p:spPr>
              <a:xfrm>
                <a:off x="4055760" y="1063440"/>
                <a:ext cx="184320" cy="125280"/>
              </a:xfrm>
              <a:prstGeom prst="parallelogram">
                <a:avLst>
                  <a:gd name="adj" fmla="val 5667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149000" y="64980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056840" y="76788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4055760" y="646200"/>
                <a:ext cx="184320" cy="125280"/>
              </a:xfrm>
              <a:prstGeom prst="parallelogram">
                <a:avLst>
                  <a:gd name="adj" fmla="val 5667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240080" y="65484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>
                <a:off x="4173480" y="106344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4071600" y="82296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4082760" y="89532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3" name=""/>
            <p:cNvGrpSpPr/>
            <p:nvPr/>
          </p:nvGrpSpPr>
          <p:grpSpPr>
            <a:xfrm>
              <a:off x="3867480" y="1761480"/>
              <a:ext cx="548280" cy="201240"/>
              <a:chOff x="3867480" y="1761480"/>
              <a:chExt cx="548280" cy="201240"/>
            </a:xfrm>
          </p:grpSpPr>
          <p:sp>
            <p:nvSpPr>
              <p:cNvPr id="2314" name=""/>
              <p:cNvSpPr/>
              <p:nvPr/>
            </p:nvSpPr>
            <p:spPr>
              <a:xfrm rot="5510400">
                <a:off x="3840840" y="179244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5510400">
                <a:off x="4156920" y="169884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5510400">
                <a:off x="4025160" y="161856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5510400">
                <a:off x="4258080" y="180576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H="1" flipV="1">
                <a:off x="3993120" y="1949400"/>
                <a:ext cx="4078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 flipV="1">
                <a:off x="3873240" y="1879200"/>
                <a:ext cx="1195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5510400">
                <a:off x="4078440" y="170352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5510400">
                <a:off x="4093200" y="178344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2" name=""/>
            <p:cNvGrpSpPr/>
            <p:nvPr/>
          </p:nvGrpSpPr>
          <p:grpSpPr>
            <a:xfrm>
              <a:off x="3928680" y="2638440"/>
              <a:ext cx="347760" cy="695160"/>
              <a:chOff x="3928680" y="2638440"/>
              <a:chExt cx="347760" cy="695160"/>
            </a:xfrm>
          </p:grpSpPr>
          <p:sp>
            <p:nvSpPr>
              <p:cNvPr id="2323" name=""/>
              <p:cNvSpPr/>
              <p:nvPr/>
            </p:nvSpPr>
            <p:spPr>
              <a:xfrm>
                <a:off x="3928680" y="2638440"/>
                <a:ext cx="347760" cy="695160"/>
              </a:xfrm>
              <a:custGeom>
                <a:avLst/>
                <a:gdLst/>
                <a:ahLst/>
                <a:rect l="l" t="t" r="r" b="b"/>
                <a:pathLst>
                  <a:path w="219" h="438">
                    <a:moveTo>
                      <a:pt x="16" y="109"/>
                    </a:moveTo>
                    <a:cubicBezTo>
                      <a:pt x="31" y="58"/>
                      <a:pt x="67" y="14"/>
                      <a:pt x="94" y="7"/>
                    </a:cubicBezTo>
                    <a:cubicBezTo>
                      <a:pt x="121" y="0"/>
                      <a:pt x="161" y="5"/>
                      <a:pt x="178" y="67"/>
                    </a:cubicBezTo>
                    <a:cubicBezTo>
                      <a:pt x="195" y="129"/>
                      <a:pt x="219" y="320"/>
                      <a:pt x="196" y="379"/>
                    </a:cubicBezTo>
                    <a:cubicBezTo>
                      <a:pt x="173" y="438"/>
                      <a:pt x="72" y="432"/>
                      <a:pt x="40" y="421"/>
                    </a:cubicBezTo>
                    <a:cubicBezTo>
                      <a:pt x="8" y="410"/>
                      <a:pt x="8" y="365"/>
                      <a:pt x="4" y="313"/>
                    </a:cubicBezTo>
                    <a:cubicBezTo>
                      <a:pt x="0" y="261"/>
                      <a:pt x="1" y="160"/>
                      <a:pt x="16" y="109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4" name=""/>
              <p:cNvGrpSpPr/>
              <p:nvPr/>
            </p:nvGrpSpPr>
            <p:grpSpPr>
              <a:xfrm>
                <a:off x="3993840" y="2719440"/>
                <a:ext cx="183960" cy="542520"/>
                <a:chOff x="3993840" y="2719440"/>
                <a:chExt cx="183960" cy="542520"/>
              </a:xfrm>
            </p:grpSpPr>
            <p:sp>
              <p:nvSpPr>
                <p:cNvPr id="2325" name=""/>
                <p:cNvSpPr/>
                <p:nvPr/>
              </p:nvSpPr>
              <p:spPr>
                <a:xfrm>
                  <a:off x="3993840" y="3136680"/>
                  <a:ext cx="183960" cy="125280"/>
                </a:xfrm>
                <a:prstGeom prst="parallelogram">
                  <a:avLst>
                    <a:gd name="adj" fmla="val 56567"/>
                  </a:avLst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087080" y="2723040"/>
                  <a:ext cx="84600" cy="41688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3994920" y="2841120"/>
                  <a:ext cx="116640" cy="41724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3993840" y="2719440"/>
                  <a:ext cx="183960" cy="125280"/>
                </a:xfrm>
                <a:prstGeom prst="parallelogram">
                  <a:avLst>
                    <a:gd name="adj" fmla="val 56567"/>
                  </a:avLst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4177800" y="2728080"/>
                  <a:ext cx="0" cy="40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 flipH="1">
                  <a:off x="4111560" y="3136680"/>
                  <a:ext cx="66240" cy="12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4009680" y="2896200"/>
                  <a:ext cx="77400" cy="2404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4020840" y="2968560"/>
                  <a:ext cx="58680" cy="84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33" name=""/>
            <p:cNvSpPr/>
            <p:nvPr/>
          </p:nvSpPr>
          <p:spPr>
            <a:xfrm flipV="1">
              <a:off x="2064960" y="1100160"/>
              <a:ext cx="1746360" cy="5731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433760" y="541440"/>
              <a:ext cx="2533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TTP request f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ww.foo.com/sports/sports.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519440" y="1657440"/>
              <a:ext cx="26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NS query for www.cdn.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450680" y="2781360"/>
              <a:ext cx="335376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TTP request f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ww.cdn.com/www.foo.com/sports/ruth.gi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126880" y="1820880"/>
              <a:ext cx="161136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052360" y="2003400"/>
              <a:ext cx="1820880" cy="9414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809800" y="1271520"/>
              <a:ext cx="206280" cy="220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841480" y="1716120"/>
              <a:ext cx="206280" cy="220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798640" y="2370240"/>
              <a:ext cx="206280" cy="220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534840" y="1227240"/>
              <a:ext cx="14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rigin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3082680" y="1947960"/>
              <a:ext cx="38638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DNs authoritativ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NS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491280" y="3349440"/>
              <a:ext cx="1261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arb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DN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5" name=""/>
          <p:cNvSpPr/>
          <p:nvPr/>
        </p:nvSpPr>
        <p:spPr>
          <a:xfrm>
            <a:off x="5281560" y="3795840"/>
            <a:ext cx="33958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100480" y="3844800"/>
            <a:ext cx="38354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CDN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d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s gif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s its authoritative DNS server to route redirect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F67-F215-41C7-87E9-3AED6AD3B80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71160" y="3027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Transport service requirements of common app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7" name=""/>
          <p:cNvSpPr/>
          <p:nvPr/>
        </p:nvSpPr>
        <p:spPr>
          <a:xfrm>
            <a:off x="181080" y="1727280"/>
            <a:ext cx="254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/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audio/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15200" y="1752480"/>
            <a:ext cx="156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502160" y="1751040"/>
            <a:ext cx="257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: 5kbps-1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:10kbps-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abo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bps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935760" y="169704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en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’s m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ew s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’s m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and 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895320" y="2133720"/>
            <a:ext cx="7562880" cy="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47800" y="273384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57160" y="302904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66880" y="332424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85960" y="393372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38080" y="424800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8080" y="457200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00280" y="490536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042-E1B1-489E-92EE-9971145754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ore about CD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509400" y="1430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outing reque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DN creates a “map”, indicating distances from leaf ISPs and CDN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query arrives at authoritative DNS ser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determines ISP from which query origin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“map” to determine best CDN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495680" y="1465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ot just Web p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aming stored audio/vide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aming real-time audio/vide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DN nodes create application-layer overlay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DB9-78E8-4081-A8BF-BDC402C4062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 file shar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runs P2P client application on her notebook comp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mittently connects to Internet; gets new IP address for each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s for “Hey Jud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 displays other peers that have copy of Hey Ju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544640" y="1110960"/>
            <a:ext cx="38098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chooses one of the peers, Bo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e is copied from Bob’s PC to Alice’s notebook: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Alice downloads, other users uploading from Al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’s peer is both a Web client and a transient Web ser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ll peers are servers = highly scalabl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644-E2FB-4B09-8C04-06CDF41D5CF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: centralized director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iginal “Napster” desig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when peer connects, it informs central ser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 add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Alice queries for “Hey Jud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 Alice requests file from B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5" name=""/>
          <p:cNvGrpSpPr/>
          <p:nvPr/>
        </p:nvGrpSpPr>
        <p:grpSpPr>
          <a:xfrm>
            <a:off x="4501080" y="838080"/>
            <a:ext cx="4339800" cy="5164200"/>
            <a:chOff x="4501080" y="838080"/>
            <a:chExt cx="4339800" cy="5164200"/>
          </a:xfrm>
        </p:grpSpPr>
        <p:graphicFrame>
          <p:nvGraphicFramePr>
            <p:cNvPr id="2356" name=""/>
            <p:cNvGraphicFramePr/>
            <p:nvPr/>
          </p:nvGraphicFramePr>
          <p:xfrm>
            <a:off x="6343560" y="4708440"/>
            <a:ext cx="833400" cy="72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3560" y="4708440"/>
                      <a:ext cx="833400" cy="7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358" name=""/>
            <p:cNvGrpSpPr/>
            <p:nvPr/>
          </p:nvGrpSpPr>
          <p:grpSpPr>
            <a:xfrm>
              <a:off x="5048280" y="2519280"/>
              <a:ext cx="371160" cy="748440"/>
              <a:chOff x="5048280" y="2519280"/>
              <a:chExt cx="371160" cy="748440"/>
            </a:xfrm>
          </p:grpSpPr>
          <p:sp>
            <p:nvSpPr>
              <p:cNvPr id="2359" name=""/>
              <p:cNvSpPr/>
              <p:nvPr/>
            </p:nvSpPr>
            <p:spPr>
              <a:xfrm>
                <a:off x="5048280" y="3094920"/>
                <a:ext cx="371160" cy="172800"/>
              </a:xfrm>
              <a:prstGeom prst="parallelogram">
                <a:avLst>
                  <a:gd name="adj" fmla="val 8274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236200" y="2523960"/>
                <a:ext cx="170640" cy="5749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050440" y="2687400"/>
                <a:ext cx="235080" cy="575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048280" y="2519280"/>
                <a:ext cx="371160" cy="172800"/>
              </a:xfrm>
              <a:prstGeom prst="parallelogram">
                <a:avLst>
                  <a:gd name="adj" fmla="val 8274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419440" y="2531160"/>
                <a:ext cx="0" cy="56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H="1">
                <a:off x="5285520" y="3094920"/>
                <a:ext cx="13356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5079960" y="2763000"/>
                <a:ext cx="155880" cy="331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5102640" y="2863080"/>
                <a:ext cx="118440" cy="11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7" name=""/>
            <p:cNvSpPr/>
            <p:nvPr/>
          </p:nvSpPr>
          <p:spPr>
            <a:xfrm>
              <a:off x="4925880" y="4708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68" name=""/>
            <p:cNvGraphicFramePr/>
            <p:nvPr/>
          </p:nvGraphicFramePr>
          <p:xfrm>
            <a:off x="8172360" y="2970000"/>
            <a:ext cx="668520" cy="58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72360" y="2970000"/>
                      <a:ext cx="668520" cy="58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70" name=""/>
            <p:cNvGraphicFramePr/>
            <p:nvPr/>
          </p:nvGraphicFramePr>
          <p:xfrm>
            <a:off x="7553160" y="3876480"/>
            <a:ext cx="681120" cy="59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53160" y="3876480"/>
                      <a:ext cx="68112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72" name=""/>
            <p:cNvGraphicFramePr/>
            <p:nvPr/>
          </p:nvGraphicFramePr>
          <p:xfrm>
            <a:off x="7440480" y="1780920"/>
            <a:ext cx="693720" cy="60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7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440480" y="1780920"/>
                      <a:ext cx="693720" cy="60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4" name=""/>
            <p:cNvSpPr/>
            <p:nvPr/>
          </p:nvSpPr>
          <p:spPr>
            <a:xfrm>
              <a:off x="4501080" y="1815840"/>
              <a:ext cx="150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entral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irectory 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868880" y="2512800"/>
              <a:ext cx="65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e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5611680" y="2603520"/>
              <a:ext cx="1006560" cy="274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 flipV="1">
              <a:off x="5521320" y="2878200"/>
              <a:ext cx="2558880" cy="366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5611680" y="2512800"/>
              <a:ext cx="914400" cy="18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5611680" y="2512800"/>
              <a:ext cx="1006560" cy="18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 flipV="1">
              <a:off x="5520960" y="3152520"/>
              <a:ext cx="2011320" cy="10065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5521320" y="2055600"/>
              <a:ext cx="1828800" cy="639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978520" y="2512800"/>
              <a:ext cx="15541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 flipV="1">
              <a:off x="5428800" y="3244680"/>
              <a:ext cx="1189080" cy="1371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246640" y="3335400"/>
              <a:ext cx="1189080" cy="146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7165800" y="2421000"/>
              <a:ext cx="549360" cy="23778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350120" y="4616280"/>
              <a:ext cx="912960" cy="54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588000" y="5451480"/>
              <a:ext cx="6397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945560" y="1506600"/>
              <a:ext cx="6397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327720" y="227304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370560" y="286524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375240" y="3544920"/>
              <a:ext cx="243000" cy="231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059520" y="3983040"/>
              <a:ext cx="24264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667480" y="3921120"/>
              <a:ext cx="24264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340400" y="347004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95" name="" descr=""/>
            <p:cNvPicPr/>
            <p:nvPr/>
          </p:nvPicPr>
          <p:blipFill>
            <a:blip r:embed="rId9"/>
            <a:stretch/>
          </p:blipFill>
          <p:spPr>
            <a:xfrm>
              <a:off x="7966080" y="838080"/>
              <a:ext cx="676080" cy="69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6" name="" descr=""/>
            <p:cNvPicPr/>
            <p:nvPr/>
          </p:nvPicPr>
          <p:blipFill>
            <a:blip r:embed="rId10"/>
            <a:stretch/>
          </p:blipFill>
          <p:spPr>
            <a:xfrm>
              <a:off x="7273800" y="5308560"/>
              <a:ext cx="561960" cy="6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50F-B62B-4BD2-9C4F-E48B7AC4846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2P: problems with centralized directory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formance bottlene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pyright infrin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4812840" y="1599840"/>
            <a:ext cx="3614760" cy="1646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le transfer is decentralized, but locating content is highly  decentraliz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CE2-F81C-420E-B669-5A2658828D9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: decentralized director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peer is either a group leader or assigned to a group lead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 leader tracks the content in  all its childr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 queries group leader; group leader may query other group lead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02" name=""/>
          <p:cNvGraphicFramePr/>
          <p:nvPr/>
        </p:nvGraphicFramePr>
        <p:xfrm>
          <a:off x="4917960" y="1173240"/>
          <a:ext cx="3494160" cy="49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1173240"/>
                    <a:ext cx="349416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39E-35E9-46BD-81C2-879BD4D7132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More about decentralized direc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10760" y="1600200"/>
            <a:ext cx="3932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verlay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s are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s between peers and their group lead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s between some pairs of group lead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rtual neighb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bootstrap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ing peer is either assigned to a group leader or designated as lea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dvantages of appro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entralized directory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ation service distributed over pe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difficult to  shut d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disadvantages of appro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tstrap node 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 leaders can get overloa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C07-5E74-4F73-9113-A0154691410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: Query  flood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nutell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ierarc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bootstrap node to learn about ot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in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3864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 query to neighb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ighbors forward qu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queried peer has object, it sends message back to querying pe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0" name=""/>
          <p:cNvGrpSpPr/>
          <p:nvPr/>
        </p:nvGrpSpPr>
        <p:grpSpPr>
          <a:xfrm>
            <a:off x="915840" y="4308480"/>
            <a:ext cx="2680920" cy="1649520"/>
            <a:chOff x="915840" y="4308480"/>
            <a:chExt cx="2680920" cy="1649520"/>
          </a:xfrm>
        </p:grpSpPr>
        <p:sp>
          <p:nvSpPr>
            <p:cNvPr id="2411" name=""/>
            <p:cNvSpPr/>
            <p:nvPr/>
          </p:nvSpPr>
          <p:spPr>
            <a:xfrm>
              <a:off x="915840" y="4946760"/>
              <a:ext cx="109080" cy="10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353600" y="526608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010240" y="430848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955520" y="484020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900800" y="5851440"/>
              <a:ext cx="109080" cy="10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353600" y="462744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666520" y="441468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3104640" y="5053680"/>
              <a:ext cx="109080" cy="105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3049920" y="574488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487680" y="462744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448000" y="5212800"/>
              <a:ext cx="109080" cy="10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>
              <a:off x="1024920" y="4734000"/>
              <a:ext cx="32832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H="1">
              <a:off x="1462680" y="4361400"/>
              <a:ext cx="547200" cy="26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H="1">
              <a:off x="2009880" y="4414680"/>
              <a:ext cx="5436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024920" y="5053680"/>
              <a:ext cx="328320" cy="26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flipV="1">
              <a:off x="1462680" y="4946760"/>
              <a:ext cx="49248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064960" y="4893480"/>
              <a:ext cx="38304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2502360" y="4521240"/>
              <a:ext cx="218520" cy="69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775960" y="4467960"/>
              <a:ext cx="711720" cy="21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775960" y="4521240"/>
              <a:ext cx="328320" cy="53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H="1">
              <a:off x="3104640" y="4734000"/>
              <a:ext cx="43776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H="1">
              <a:off x="3104280" y="5159520"/>
              <a:ext cx="54360" cy="5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V="1">
              <a:off x="2064960" y="4467960"/>
              <a:ext cx="6015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V="1">
              <a:off x="2010240" y="5372640"/>
              <a:ext cx="437760" cy="478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127960" y="554652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mic Sans MS"/>
                </a:rPr>
                <a:t>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4835520" y="4235400"/>
            <a:ext cx="3211560" cy="1752120"/>
            <a:chOff x="4835520" y="4235400"/>
            <a:chExt cx="3211560" cy="1752120"/>
          </a:xfrm>
        </p:grpSpPr>
        <p:sp>
          <p:nvSpPr>
            <p:cNvPr id="2437" name=""/>
            <p:cNvSpPr/>
            <p:nvPr/>
          </p:nvSpPr>
          <p:spPr>
            <a:xfrm>
              <a:off x="4835520" y="4960440"/>
              <a:ext cx="13068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359680" y="5322960"/>
              <a:ext cx="13068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146280" y="4235400"/>
              <a:ext cx="13068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081120" y="4839840"/>
              <a:ext cx="13068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081120" y="5745960"/>
              <a:ext cx="130680" cy="121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359680" y="4597560"/>
              <a:ext cx="13068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932880" y="4355640"/>
              <a:ext cx="130680" cy="121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457400" y="5081040"/>
              <a:ext cx="130680" cy="121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391880" y="5867280"/>
              <a:ext cx="13068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916400" y="4597560"/>
              <a:ext cx="13068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670800" y="5262480"/>
              <a:ext cx="13068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H="1">
              <a:off x="4965840" y="4718520"/>
              <a:ext cx="39348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H="1">
              <a:off x="5490000" y="4295520"/>
              <a:ext cx="65556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H="1">
              <a:off x="6145920" y="4355640"/>
              <a:ext cx="65160" cy="48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966200" y="5081040"/>
              <a:ext cx="39348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490360" y="4960440"/>
              <a:ext cx="59040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211800" y="4900320"/>
              <a:ext cx="45900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6211800" y="5383440"/>
              <a:ext cx="45900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>
              <a:off x="6736320" y="4477320"/>
              <a:ext cx="262080" cy="78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063560" y="4416840"/>
              <a:ext cx="85248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7063560" y="4477320"/>
              <a:ext cx="393480" cy="60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>
              <a:off x="7457400" y="4718520"/>
              <a:ext cx="524160" cy="11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H="1">
              <a:off x="7457040" y="5202360"/>
              <a:ext cx="6516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V="1">
              <a:off x="6211800" y="4416840"/>
              <a:ext cx="72108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4900680" y="4658040"/>
              <a:ext cx="393480" cy="241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V="1">
              <a:off x="5490360" y="4295520"/>
              <a:ext cx="524160" cy="241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032080" y="5020560"/>
              <a:ext cx="327600" cy="241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V="1">
              <a:off x="5490360" y="4900320"/>
              <a:ext cx="524160" cy="362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>
              <a:off x="6211440" y="4416840"/>
              <a:ext cx="65160" cy="362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V="1">
              <a:off x="6277320" y="4537080"/>
              <a:ext cx="590400" cy="302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77320" y="4900320"/>
              <a:ext cx="393480" cy="3621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H="1">
              <a:off x="6211440" y="5383440"/>
              <a:ext cx="393480" cy="362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129800" y="4355640"/>
              <a:ext cx="786600" cy="241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129800" y="4477320"/>
              <a:ext cx="327240" cy="543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>
              <a:off x="7522920" y="4779360"/>
              <a:ext cx="524160" cy="1087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7391520" y="5202360"/>
              <a:ext cx="65160" cy="603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6822720" y="4589280"/>
              <a:ext cx="219600" cy="621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6B9-F557-4007-9BBA-787BE3FF1A4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2P: more on query flood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ers have similar responsibilities: no group lead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ly decentraliz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peer maintains directory 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essive query traf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ry radius: may not  have content when pres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tstrap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enance of overlay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81C-C2BF-4A3E-B48B-11FF498A4E6E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apter 2: Summar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47640" y="2028600"/>
            <a:ext cx="381024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 service requiremen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ability, bandwidth, del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-server paradig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t transport service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ion-oriented, reliable: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reliable, datagrams: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552600" y="1390680"/>
            <a:ext cx="7581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ur study of network apps now complet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0" name=""/>
          <p:cNvSpPr/>
          <p:nvPr/>
        </p:nvSpPr>
        <p:spPr>
          <a:xfrm>
            <a:off x="4772160" y="2124000"/>
            <a:ext cx="396216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 protoc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, POP, I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cket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ent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ches, C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68EC-D8B1-49EE-AA64-88A17FDD422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apter 2: Summar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95000" y="2161800"/>
            <a:ext cx="380988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request/reply message exchang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requests info or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responds with data, status c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forma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s: fields giving info about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: info being communic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552600" y="1390680"/>
            <a:ext cx="7581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ost importantly: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learned about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4" name=""/>
          <p:cNvSpPr/>
          <p:nvPr/>
        </p:nvSpPr>
        <p:spPr>
          <a:xfrm>
            <a:off x="4667400" y="2400480"/>
            <a:ext cx="396216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ol vs. data ms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-band, out-of-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tralized vs. decentral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less vs. state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able vs. unreliable msg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exity at network edg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urity: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F60-9B1F-4AFD-857D-B6739890455A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>Keith updated in July 2002</dc:description>
  <dc:language>en-US</dc:language>
  <cp:lastModifiedBy>M Faloutsos</cp:lastModifiedBy>
  <dcterms:modified xsi:type="dcterms:W3CDTF">2005-06-02T18:00:03Z</dcterms:modified>
  <cp:revision>145</cp:revision>
  <dc:subject/>
  <dc:title>chap2_2ed_5July02</dc:title>
</cp:coreProperties>
</file>