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ct" ContentType="image/x-pict"/>
  <Override PartName="/ppt/media/image13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ACE90-44E3-4E4C-991A-A7C8C1408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ECA29-FED3-481B-8132-6861067B3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A5633-049F-4E4B-BE7F-88A4E52FF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152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789160" y="16002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3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152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789160" y="402840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33A51-3669-4D61-A646-DFFCFC392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6ED92-676A-47E3-908B-4E5ACC3BB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CB109-29FA-45FE-9C32-6EDB1CB20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7BF6B-6309-4AEC-AD08-67C0E5243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91480-5C6C-4254-BDA5-B859D5885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352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4D8A6-379C-4A28-BF6D-1B35C0D0C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D0441-AE8E-4F96-992F-19D36C7CD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16200" y="40284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D7244-31AB-4601-B975-9B9B38874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16200" y="160020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3520" y="402840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8C105-EF72-43EF-AF31-9C17D7A9C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Click to edit the title text format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SzPct val="7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410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 Network Lay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163000" y="6400800"/>
            <a:ext cx="676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CBE17-D945-4018-ADD8-A15D232B76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image" Target="../media/image1.pct"/><Relationship Id="rId3" Type="http://schemas.openxmlformats.org/officeDocument/2006/relationships/image" Target="../media/image1.pct"/><Relationship Id="rId4" Type="http://schemas.openxmlformats.org/officeDocument/2006/relationships/image" Target="../media/image1.pct"/><Relationship Id="rId5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Routing Protocols and Forwarding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IP protoco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outing Protocol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tra-domain (inside an AS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ter-domain (between ASes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orwarding: inside a rout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A11AB-EE0B-467C-A167-A14618D8E3D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2305080" y="2211480"/>
            <a:ext cx="1278000" cy="1440"/>
          </a:xfrm>
          <a:custGeom>
            <a:avLst/>
            <a:gdLst/>
            <a:ahLst/>
            <a:rect l="l" t="t" r="r" b="b"/>
            <a:pathLst>
              <a:path w="805" h="1">
                <a:moveTo>
                  <a:pt x="0" y="0"/>
                </a:moveTo>
                <a:lnTo>
                  <a:pt x="805" y="1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22360" y="275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33cc"/>
                </a:solidFill>
                <a:uFillTx/>
                <a:latin typeface="Comic Sans MS"/>
              </a:rPr>
              <a:t>RIP (Routing Information Protocol) </a:t>
            </a:r>
            <a:endParaRPr b="0" lang="en-US" sz="28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25" name=""/>
          <p:cNvSpPr/>
          <p:nvPr/>
        </p:nvSpPr>
        <p:spPr>
          <a:xfrm>
            <a:off x="609480" y="3649680"/>
            <a:ext cx="8229600" cy="207324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Comic Sans MS"/>
              </a:rPr>
              <a:t>Destination Network</a:t>
            </a:r>
            <a:r>
              <a:rPr b="1" lang="en-US" sz="20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3333cc"/>
                </a:solidFill>
                <a:latin typeface="Comic Sans MS"/>
              </a:rPr>
              <a:t>  Next  Router      Num. of hops to des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w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y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z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x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--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…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….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.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306520" y="1974960"/>
            <a:ext cx="1095480" cy="434880"/>
          </a:xfrm>
          <a:custGeom>
            <a:avLst/>
            <a:gdLst/>
            <a:ahLst/>
            <a:rect l="l" t="t" r="r" b="b"/>
            <a:pathLst>
              <a:path w="690" h="274">
                <a:moveTo>
                  <a:pt x="391" y="60"/>
                </a:moveTo>
                <a:cubicBezTo>
                  <a:pt x="297" y="52"/>
                  <a:pt x="123" y="0"/>
                  <a:pt x="73" y="30"/>
                </a:cubicBezTo>
                <a:cubicBezTo>
                  <a:pt x="23" y="60"/>
                  <a:pt x="0" y="202"/>
                  <a:pt x="88" y="238"/>
                </a:cubicBezTo>
                <a:cubicBezTo>
                  <a:pt x="176" y="274"/>
                  <a:pt x="508" y="272"/>
                  <a:pt x="599" y="245"/>
                </a:cubicBezTo>
                <a:cubicBezTo>
                  <a:pt x="690" y="218"/>
                  <a:pt x="671" y="106"/>
                  <a:pt x="636" y="75"/>
                </a:cubicBezTo>
                <a:cubicBezTo>
                  <a:pt x="601" y="44"/>
                  <a:pt x="485" y="68"/>
                  <a:pt x="391" y="60"/>
                </a:cubicBez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7" name=""/>
          <p:cNvGrpSpPr/>
          <p:nvPr/>
        </p:nvGrpSpPr>
        <p:grpSpPr>
          <a:xfrm>
            <a:off x="3440160" y="2028960"/>
            <a:ext cx="678960" cy="313920"/>
            <a:chOff x="3440160" y="2028960"/>
            <a:chExt cx="678960" cy="313920"/>
          </a:xfrm>
        </p:grpSpPr>
        <p:sp>
          <p:nvSpPr>
            <p:cNvPr id="328" name=""/>
            <p:cNvSpPr/>
            <p:nvPr/>
          </p:nvSpPr>
          <p:spPr>
            <a:xfrm>
              <a:off x="3445560" y="2169000"/>
              <a:ext cx="673560" cy="1738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3445560" y="2154240"/>
              <a:ext cx="0" cy="108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4119120" y="2154240"/>
              <a:ext cx="0" cy="108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3445560" y="2154240"/>
              <a:ext cx="667440" cy="106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440160" y="2028960"/>
              <a:ext cx="673200" cy="2026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3" name=""/>
            <p:cNvGrpSpPr/>
            <p:nvPr/>
          </p:nvGrpSpPr>
          <p:grpSpPr>
            <a:xfrm>
              <a:off x="3602160" y="2073600"/>
              <a:ext cx="333360" cy="118440"/>
              <a:chOff x="3602160" y="2073600"/>
              <a:chExt cx="333360" cy="118440"/>
            </a:xfrm>
          </p:grpSpPr>
          <p:sp>
            <p:nvSpPr>
              <p:cNvPr id="334" name=""/>
              <p:cNvSpPr/>
              <p:nvPr/>
            </p:nvSpPr>
            <p:spPr>
              <a:xfrm flipV="1">
                <a:off x="3602160" y="2073600"/>
                <a:ext cx="11880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3830760" y="2192040"/>
                <a:ext cx="104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3711600" y="2075760"/>
                <a:ext cx="123480" cy="115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7" name=""/>
            <p:cNvGrpSpPr/>
            <p:nvPr/>
          </p:nvGrpSpPr>
          <p:grpSpPr>
            <a:xfrm>
              <a:off x="3602160" y="2071800"/>
              <a:ext cx="333360" cy="118440"/>
              <a:chOff x="3602160" y="2071800"/>
              <a:chExt cx="333360" cy="118440"/>
            </a:xfrm>
          </p:grpSpPr>
          <p:sp>
            <p:nvSpPr>
              <p:cNvPr id="338" name=""/>
              <p:cNvSpPr/>
              <p:nvPr/>
            </p:nvSpPr>
            <p:spPr>
              <a:xfrm>
                <a:off x="3602160" y="2188080"/>
                <a:ext cx="11880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3830760" y="2071800"/>
                <a:ext cx="104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flipV="1">
                <a:off x="3711600" y="2072160"/>
                <a:ext cx="123480" cy="115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41" name=""/>
          <p:cNvGrpSpPr/>
          <p:nvPr/>
        </p:nvGrpSpPr>
        <p:grpSpPr>
          <a:xfrm>
            <a:off x="1611360" y="2027160"/>
            <a:ext cx="678960" cy="313920"/>
            <a:chOff x="1611360" y="2027160"/>
            <a:chExt cx="678960" cy="313920"/>
          </a:xfrm>
        </p:grpSpPr>
        <p:sp>
          <p:nvSpPr>
            <p:cNvPr id="342" name=""/>
            <p:cNvSpPr/>
            <p:nvPr/>
          </p:nvSpPr>
          <p:spPr>
            <a:xfrm>
              <a:off x="1616760" y="2167200"/>
              <a:ext cx="673560" cy="1738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1616760" y="2152440"/>
              <a:ext cx="0" cy="108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2290320" y="2152440"/>
              <a:ext cx="0" cy="108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616760" y="2152440"/>
              <a:ext cx="667440" cy="106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1611360" y="2027160"/>
              <a:ext cx="673200" cy="2026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7" name=""/>
            <p:cNvGrpSpPr/>
            <p:nvPr/>
          </p:nvGrpSpPr>
          <p:grpSpPr>
            <a:xfrm>
              <a:off x="1773360" y="2071800"/>
              <a:ext cx="333360" cy="118440"/>
              <a:chOff x="1773360" y="2071800"/>
              <a:chExt cx="333360" cy="118440"/>
            </a:xfrm>
          </p:grpSpPr>
          <p:sp>
            <p:nvSpPr>
              <p:cNvPr id="348" name=""/>
              <p:cNvSpPr/>
              <p:nvPr/>
            </p:nvSpPr>
            <p:spPr>
              <a:xfrm flipV="1">
                <a:off x="1773360" y="2071800"/>
                <a:ext cx="11880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2001960" y="2190240"/>
                <a:ext cx="104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1882800" y="2073960"/>
                <a:ext cx="123480" cy="115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1" name=""/>
            <p:cNvGrpSpPr/>
            <p:nvPr/>
          </p:nvGrpSpPr>
          <p:grpSpPr>
            <a:xfrm>
              <a:off x="1773360" y="2070000"/>
              <a:ext cx="333360" cy="118440"/>
              <a:chOff x="1773360" y="2070000"/>
              <a:chExt cx="333360" cy="118440"/>
            </a:xfrm>
          </p:grpSpPr>
          <p:sp>
            <p:nvSpPr>
              <p:cNvPr id="352" name=""/>
              <p:cNvSpPr/>
              <p:nvPr/>
            </p:nvSpPr>
            <p:spPr>
              <a:xfrm>
                <a:off x="1773360" y="2186280"/>
                <a:ext cx="11880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2001960" y="2070000"/>
                <a:ext cx="104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 flipV="1">
                <a:off x="1882800" y="2070360"/>
                <a:ext cx="123480" cy="115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55" name=""/>
          <p:cNvGrpSpPr/>
          <p:nvPr/>
        </p:nvGrpSpPr>
        <p:grpSpPr>
          <a:xfrm>
            <a:off x="3427560" y="2825640"/>
            <a:ext cx="675720" cy="313920"/>
            <a:chOff x="3427560" y="2825640"/>
            <a:chExt cx="675720" cy="313920"/>
          </a:xfrm>
        </p:grpSpPr>
        <p:sp>
          <p:nvSpPr>
            <p:cNvPr id="356" name=""/>
            <p:cNvSpPr/>
            <p:nvPr/>
          </p:nvSpPr>
          <p:spPr>
            <a:xfrm>
              <a:off x="3432960" y="2965680"/>
              <a:ext cx="670320" cy="1738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432960" y="2950920"/>
              <a:ext cx="0" cy="108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4103280" y="2950920"/>
              <a:ext cx="0" cy="108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432960" y="2950920"/>
              <a:ext cx="664200" cy="106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427560" y="2825640"/>
              <a:ext cx="669960" cy="2026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1" name=""/>
            <p:cNvGrpSpPr/>
            <p:nvPr/>
          </p:nvGrpSpPr>
          <p:grpSpPr>
            <a:xfrm>
              <a:off x="3588840" y="2870280"/>
              <a:ext cx="331920" cy="118440"/>
              <a:chOff x="3588840" y="2870280"/>
              <a:chExt cx="331920" cy="118440"/>
            </a:xfrm>
          </p:grpSpPr>
          <p:sp>
            <p:nvSpPr>
              <p:cNvPr id="362" name=""/>
              <p:cNvSpPr/>
              <p:nvPr/>
            </p:nvSpPr>
            <p:spPr>
              <a:xfrm flipV="1">
                <a:off x="3588840" y="2870280"/>
                <a:ext cx="11808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3816360" y="2988720"/>
                <a:ext cx="104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3697920" y="2872440"/>
                <a:ext cx="123120" cy="115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5" name=""/>
            <p:cNvGrpSpPr/>
            <p:nvPr/>
          </p:nvGrpSpPr>
          <p:grpSpPr>
            <a:xfrm>
              <a:off x="3588840" y="2868480"/>
              <a:ext cx="331920" cy="118440"/>
              <a:chOff x="3588840" y="2868480"/>
              <a:chExt cx="331920" cy="118440"/>
            </a:xfrm>
          </p:grpSpPr>
          <p:sp>
            <p:nvSpPr>
              <p:cNvPr id="366" name=""/>
              <p:cNvSpPr/>
              <p:nvPr/>
            </p:nvSpPr>
            <p:spPr>
              <a:xfrm>
                <a:off x="3588840" y="2984760"/>
                <a:ext cx="11808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3816360" y="2868480"/>
                <a:ext cx="104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 flipV="1">
                <a:off x="3697920" y="2868840"/>
                <a:ext cx="123120" cy="115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69" name=""/>
          <p:cNvSpPr/>
          <p:nvPr/>
        </p:nvSpPr>
        <p:spPr>
          <a:xfrm>
            <a:off x="4151160" y="2211480"/>
            <a:ext cx="1278000" cy="1440"/>
          </a:xfrm>
          <a:custGeom>
            <a:avLst/>
            <a:gdLst/>
            <a:ahLst/>
            <a:rect l="l" t="t" r="r" b="b"/>
            <a:pathLst>
              <a:path w="805" h="1">
                <a:moveTo>
                  <a:pt x="0" y="0"/>
                </a:moveTo>
                <a:lnTo>
                  <a:pt x="805" y="1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0" name=""/>
          <p:cNvGrpSpPr/>
          <p:nvPr/>
        </p:nvGrpSpPr>
        <p:grpSpPr>
          <a:xfrm>
            <a:off x="5286240" y="2028960"/>
            <a:ext cx="679320" cy="313920"/>
            <a:chOff x="5286240" y="2028960"/>
            <a:chExt cx="679320" cy="313920"/>
          </a:xfrm>
        </p:grpSpPr>
        <p:sp>
          <p:nvSpPr>
            <p:cNvPr id="371" name=""/>
            <p:cNvSpPr/>
            <p:nvPr/>
          </p:nvSpPr>
          <p:spPr>
            <a:xfrm>
              <a:off x="5291640" y="2169000"/>
              <a:ext cx="673920" cy="1738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291640" y="2154240"/>
              <a:ext cx="0" cy="108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965560" y="2154240"/>
              <a:ext cx="0" cy="108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5291640" y="2154240"/>
              <a:ext cx="667800" cy="106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5286240" y="2028960"/>
              <a:ext cx="673560" cy="2026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6" name=""/>
            <p:cNvGrpSpPr/>
            <p:nvPr/>
          </p:nvGrpSpPr>
          <p:grpSpPr>
            <a:xfrm>
              <a:off x="5448240" y="2073600"/>
              <a:ext cx="333360" cy="118440"/>
              <a:chOff x="5448240" y="2073600"/>
              <a:chExt cx="333360" cy="118440"/>
            </a:xfrm>
          </p:grpSpPr>
          <p:sp>
            <p:nvSpPr>
              <p:cNvPr id="377" name=""/>
              <p:cNvSpPr/>
              <p:nvPr/>
            </p:nvSpPr>
            <p:spPr>
              <a:xfrm flipV="1">
                <a:off x="5448240" y="2073600"/>
                <a:ext cx="11880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5676840" y="2192040"/>
                <a:ext cx="104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5558040" y="2075760"/>
                <a:ext cx="123840" cy="115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0" name=""/>
            <p:cNvGrpSpPr/>
            <p:nvPr/>
          </p:nvGrpSpPr>
          <p:grpSpPr>
            <a:xfrm>
              <a:off x="5448240" y="2071800"/>
              <a:ext cx="333360" cy="118440"/>
              <a:chOff x="5448240" y="2071800"/>
              <a:chExt cx="333360" cy="118440"/>
            </a:xfrm>
          </p:grpSpPr>
          <p:sp>
            <p:nvSpPr>
              <p:cNvPr id="381" name=""/>
              <p:cNvSpPr/>
              <p:nvPr/>
            </p:nvSpPr>
            <p:spPr>
              <a:xfrm>
                <a:off x="5448240" y="2188080"/>
                <a:ext cx="11880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5676840" y="2071800"/>
                <a:ext cx="104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 flipV="1">
                <a:off x="5558040" y="2072160"/>
                <a:ext cx="123840" cy="115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84" name=""/>
          <p:cNvSpPr/>
          <p:nvPr/>
        </p:nvSpPr>
        <p:spPr>
          <a:xfrm>
            <a:off x="353880" y="2224080"/>
            <a:ext cx="1278000" cy="1440"/>
          </a:xfrm>
          <a:custGeom>
            <a:avLst/>
            <a:gdLst/>
            <a:ahLst/>
            <a:rect l="l" t="t" r="r" b="b"/>
            <a:pathLst>
              <a:path w="805" h="1">
                <a:moveTo>
                  <a:pt x="0" y="0"/>
                </a:moveTo>
                <a:lnTo>
                  <a:pt x="805" y="1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973840" y="2200320"/>
            <a:ext cx="1278000" cy="1440"/>
          </a:xfrm>
          <a:custGeom>
            <a:avLst/>
            <a:gdLst/>
            <a:ahLst/>
            <a:rect l="l" t="t" r="r" b="b"/>
            <a:pathLst>
              <a:path w="805" h="1">
                <a:moveTo>
                  <a:pt x="0" y="0"/>
                </a:moveTo>
                <a:lnTo>
                  <a:pt x="805" y="1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7683480" y="2049480"/>
            <a:ext cx="676080" cy="313920"/>
            <a:chOff x="7683480" y="2049480"/>
            <a:chExt cx="676080" cy="313920"/>
          </a:xfrm>
        </p:grpSpPr>
        <p:sp>
          <p:nvSpPr>
            <p:cNvPr id="387" name=""/>
            <p:cNvSpPr/>
            <p:nvPr/>
          </p:nvSpPr>
          <p:spPr>
            <a:xfrm>
              <a:off x="7688880" y="2189520"/>
              <a:ext cx="670680" cy="1738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7688880" y="2174760"/>
              <a:ext cx="0" cy="108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8359560" y="2174760"/>
              <a:ext cx="0" cy="108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7688880" y="2174760"/>
              <a:ext cx="664560" cy="106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7683480" y="2049480"/>
              <a:ext cx="670320" cy="2026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2" name=""/>
            <p:cNvGrpSpPr/>
            <p:nvPr/>
          </p:nvGrpSpPr>
          <p:grpSpPr>
            <a:xfrm>
              <a:off x="7844760" y="2094120"/>
              <a:ext cx="332280" cy="118440"/>
              <a:chOff x="7844760" y="2094120"/>
              <a:chExt cx="332280" cy="118440"/>
            </a:xfrm>
          </p:grpSpPr>
          <p:sp>
            <p:nvSpPr>
              <p:cNvPr id="393" name=""/>
              <p:cNvSpPr/>
              <p:nvPr/>
            </p:nvSpPr>
            <p:spPr>
              <a:xfrm flipV="1">
                <a:off x="7844760" y="2094120"/>
                <a:ext cx="11844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8072640" y="2212560"/>
                <a:ext cx="104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7953840" y="2096280"/>
                <a:ext cx="123120" cy="115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6" name=""/>
            <p:cNvGrpSpPr/>
            <p:nvPr/>
          </p:nvGrpSpPr>
          <p:grpSpPr>
            <a:xfrm>
              <a:off x="7844760" y="2092320"/>
              <a:ext cx="332280" cy="118440"/>
              <a:chOff x="7844760" y="2092320"/>
              <a:chExt cx="332280" cy="118440"/>
            </a:xfrm>
          </p:grpSpPr>
          <p:sp>
            <p:nvSpPr>
              <p:cNvPr id="397" name=""/>
              <p:cNvSpPr/>
              <p:nvPr/>
            </p:nvSpPr>
            <p:spPr>
              <a:xfrm>
                <a:off x="7844760" y="2208600"/>
                <a:ext cx="11844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8072640" y="2092320"/>
                <a:ext cx="104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 flipV="1">
                <a:off x="7953840" y="2092680"/>
                <a:ext cx="123120" cy="115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00" name=""/>
          <p:cNvSpPr/>
          <p:nvPr/>
        </p:nvSpPr>
        <p:spPr>
          <a:xfrm flipV="1">
            <a:off x="2128680" y="1611000"/>
            <a:ext cx="622440" cy="399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 flipV="1">
            <a:off x="3963960" y="1645920"/>
            <a:ext cx="622440" cy="399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 flipV="1">
            <a:off x="5799240" y="1680840"/>
            <a:ext cx="622080" cy="399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 flipV="1">
            <a:off x="8164440" y="1634760"/>
            <a:ext cx="622440" cy="399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8174160" y="2386080"/>
            <a:ext cx="622080" cy="399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2139840" y="2352600"/>
            <a:ext cx="1292400" cy="657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 rot="1183800">
            <a:off x="2271240" y="2503440"/>
            <a:ext cx="1095480" cy="434880"/>
          </a:xfrm>
          <a:custGeom>
            <a:avLst/>
            <a:gdLst/>
            <a:ahLst/>
            <a:rect l="l" t="t" r="r" b="b"/>
            <a:pathLst>
              <a:path w="690" h="274">
                <a:moveTo>
                  <a:pt x="391" y="60"/>
                </a:moveTo>
                <a:cubicBezTo>
                  <a:pt x="297" y="52"/>
                  <a:pt x="123" y="0"/>
                  <a:pt x="73" y="30"/>
                </a:cubicBezTo>
                <a:cubicBezTo>
                  <a:pt x="23" y="60"/>
                  <a:pt x="0" y="202"/>
                  <a:pt x="88" y="238"/>
                </a:cubicBezTo>
                <a:cubicBezTo>
                  <a:pt x="176" y="274"/>
                  <a:pt x="508" y="272"/>
                  <a:pt x="599" y="245"/>
                </a:cubicBezTo>
                <a:cubicBezTo>
                  <a:pt x="690" y="218"/>
                  <a:pt x="671" y="106"/>
                  <a:pt x="636" y="75"/>
                </a:cubicBezTo>
                <a:cubicBezTo>
                  <a:pt x="601" y="44"/>
                  <a:pt x="485" y="68"/>
                  <a:pt x="391" y="60"/>
                </a:cubicBez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55680" y="1987560"/>
            <a:ext cx="1095120" cy="434880"/>
          </a:xfrm>
          <a:custGeom>
            <a:avLst/>
            <a:gdLst/>
            <a:ahLst/>
            <a:rect l="l" t="t" r="r" b="b"/>
            <a:pathLst>
              <a:path w="690" h="274">
                <a:moveTo>
                  <a:pt x="391" y="60"/>
                </a:moveTo>
                <a:cubicBezTo>
                  <a:pt x="297" y="52"/>
                  <a:pt x="123" y="0"/>
                  <a:pt x="73" y="30"/>
                </a:cubicBezTo>
                <a:cubicBezTo>
                  <a:pt x="23" y="60"/>
                  <a:pt x="0" y="202"/>
                  <a:pt x="88" y="238"/>
                </a:cubicBezTo>
                <a:cubicBezTo>
                  <a:pt x="176" y="274"/>
                  <a:pt x="508" y="272"/>
                  <a:pt x="599" y="245"/>
                </a:cubicBezTo>
                <a:cubicBezTo>
                  <a:pt x="690" y="218"/>
                  <a:pt x="671" y="106"/>
                  <a:pt x="636" y="75"/>
                </a:cubicBezTo>
                <a:cubicBezTo>
                  <a:pt x="601" y="44"/>
                  <a:pt x="485" y="68"/>
                  <a:pt x="391" y="60"/>
                </a:cubicBez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152960" y="1974960"/>
            <a:ext cx="1095480" cy="434880"/>
          </a:xfrm>
          <a:custGeom>
            <a:avLst/>
            <a:gdLst/>
            <a:ahLst/>
            <a:rect l="l" t="t" r="r" b="b"/>
            <a:pathLst>
              <a:path w="690" h="274">
                <a:moveTo>
                  <a:pt x="391" y="60"/>
                </a:moveTo>
                <a:cubicBezTo>
                  <a:pt x="297" y="52"/>
                  <a:pt x="123" y="0"/>
                  <a:pt x="73" y="30"/>
                </a:cubicBezTo>
                <a:cubicBezTo>
                  <a:pt x="23" y="60"/>
                  <a:pt x="0" y="202"/>
                  <a:pt x="88" y="238"/>
                </a:cubicBezTo>
                <a:cubicBezTo>
                  <a:pt x="176" y="274"/>
                  <a:pt x="508" y="272"/>
                  <a:pt x="599" y="245"/>
                </a:cubicBezTo>
                <a:cubicBezTo>
                  <a:pt x="690" y="218"/>
                  <a:pt x="671" y="106"/>
                  <a:pt x="636" y="75"/>
                </a:cubicBezTo>
                <a:cubicBezTo>
                  <a:pt x="601" y="44"/>
                  <a:pt x="485" y="68"/>
                  <a:pt x="391" y="60"/>
                </a:cubicBez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5975280" y="1963800"/>
            <a:ext cx="1095480" cy="434880"/>
          </a:xfrm>
          <a:custGeom>
            <a:avLst/>
            <a:gdLst/>
            <a:ahLst/>
            <a:rect l="l" t="t" r="r" b="b"/>
            <a:pathLst>
              <a:path w="690" h="274">
                <a:moveTo>
                  <a:pt x="391" y="60"/>
                </a:moveTo>
                <a:cubicBezTo>
                  <a:pt x="297" y="52"/>
                  <a:pt x="123" y="0"/>
                  <a:pt x="73" y="30"/>
                </a:cubicBezTo>
                <a:cubicBezTo>
                  <a:pt x="23" y="60"/>
                  <a:pt x="0" y="202"/>
                  <a:pt x="88" y="238"/>
                </a:cubicBezTo>
                <a:cubicBezTo>
                  <a:pt x="176" y="274"/>
                  <a:pt x="508" y="272"/>
                  <a:pt x="599" y="245"/>
                </a:cubicBezTo>
                <a:cubicBezTo>
                  <a:pt x="690" y="218"/>
                  <a:pt x="671" y="106"/>
                  <a:pt x="636" y="75"/>
                </a:cubicBezTo>
                <a:cubicBezTo>
                  <a:pt x="601" y="44"/>
                  <a:pt x="485" y="68"/>
                  <a:pt x="391" y="60"/>
                </a:cubicBez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 rot="19010400">
            <a:off x="8048160" y="1398240"/>
            <a:ext cx="1095480" cy="434880"/>
          </a:xfrm>
          <a:custGeom>
            <a:avLst/>
            <a:gdLst/>
            <a:ahLst/>
            <a:rect l="l" t="t" r="r" b="b"/>
            <a:pathLst>
              <a:path w="690" h="274">
                <a:moveTo>
                  <a:pt x="391" y="60"/>
                </a:moveTo>
                <a:cubicBezTo>
                  <a:pt x="297" y="52"/>
                  <a:pt x="123" y="0"/>
                  <a:pt x="73" y="30"/>
                </a:cubicBezTo>
                <a:cubicBezTo>
                  <a:pt x="23" y="60"/>
                  <a:pt x="0" y="202"/>
                  <a:pt x="88" y="238"/>
                </a:cubicBezTo>
                <a:cubicBezTo>
                  <a:pt x="176" y="274"/>
                  <a:pt x="508" y="272"/>
                  <a:pt x="599" y="245"/>
                </a:cubicBezTo>
                <a:cubicBezTo>
                  <a:pt x="690" y="218"/>
                  <a:pt x="671" y="106"/>
                  <a:pt x="636" y="75"/>
                </a:cubicBezTo>
                <a:cubicBezTo>
                  <a:pt x="601" y="44"/>
                  <a:pt x="485" y="68"/>
                  <a:pt x="391" y="60"/>
                </a:cubicBez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35400" y="1935000"/>
            <a:ext cx="4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669400" y="1982880"/>
            <a:ext cx="34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270840" y="1982880"/>
            <a:ext cx="33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8441280" y="1441440"/>
            <a:ext cx="3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723320" y="2298600"/>
            <a:ext cx="37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563280" y="3098880"/>
            <a:ext cx="37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3564720" y="2322360"/>
            <a:ext cx="40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397840" y="2357280"/>
            <a:ext cx="37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521240" y="3278160"/>
            <a:ext cx="211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outing table in 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930CB-4089-4517-8360-BAB264DCBA2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33cc"/>
                </a:solidFill>
                <a:uFillTx/>
                <a:latin typeface="Comic Sans MS"/>
              </a:rPr>
              <a:t>RIP: Link Failure and Recovery</a:t>
            </a: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 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no advertisement heard after 180 sec --&gt; neighbor/link declared dea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outes via neighbor invalidate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ew advertisements sent to neighbor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eighbors in turn send out new advertisements (if tables changed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ink failure info quickly propagates to entire ne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oison reverse used to prevent ping-pong loops (infinite distance = 16 hops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82477-0526-483F-BB49-27FB50A14D2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33cc"/>
                </a:solidFill>
                <a:uFillTx/>
                <a:latin typeface="Comic Sans MS"/>
              </a:rPr>
              <a:t>RIP Table</a:t>
            </a: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 </a:t>
            </a:r>
            <a:r>
              <a:rPr b="0" lang="en-US" sz="2800" spc="-1" strike="noStrike" u="sng">
                <a:solidFill>
                  <a:srgbClr val="3333cc"/>
                </a:solidFill>
                <a:uFillTx/>
                <a:latin typeface="Comic Sans MS"/>
              </a:rPr>
              <a:t>processing</a:t>
            </a:r>
            <a:endParaRPr b="0" lang="en-US" sz="28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IP routing tables managed by a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plication-level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process called route-d (daemon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dvertisements sent in UDP packets, periodically repeate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24" name="routed" descr=""/>
          <p:cNvPicPr/>
          <p:nvPr/>
        </p:nvPicPr>
        <p:blipFill>
          <a:blip r:embed="rId1"/>
          <a:stretch/>
        </p:blipFill>
        <p:spPr>
          <a:xfrm>
            <a:off x="1174680" y="3516480"/>
            <a:ext cx="6489720" cy="27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6E3B4-34DE-498F-B236-01D032746FE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33cc"/>
                </a:solidFill>
                <a:uFillTx/>
                <a:latin typeface="Comic Sans MS"/>
              </a:rPr>
              <a:t>RIP Table example (continued)</a:t>
            </a:r>
            <a:endParaRPr b="0" lang="en-US" sz="28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81040" y="1317600"/>
            <a:ext cx="77724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outer: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giroflee.eurocom.f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7" name=""/>
          <p:cNvSpPr/>
          <p:nvPr/>
        </p:nvSpPr>
        <p:spPr>
          <a:xfrm>
            <a:off x="485640" y="3997440"/>
            <a:ext cx="7772400" cy="22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ree attached class C networks (LAN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outer only knows routes to attached L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efault router used to “go up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oute multicast address: 224.0.0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oopback interface (for debugg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487440" y="1874880"/>
            <a:ext cx="8381880" cy="19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estination           Gateway           Flags  Ref   Use   Interfac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-------------------- -------------------- ----- ----- ------ ---------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127.0.0.1            127.0.0.1             UH       0  26492  lo0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192.168.2.           192.168.2.5           U        2     13  fa0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193.55.114.          193.55.114.6          U        3  58503  le0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192.168.3.           192.168.3.5           U        2     25  qaa0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224.0.0.0            193.55.114.6          U        3      0  le0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default              193.55.114.129        UG       0 143454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63B72-7C5B-42F1-90B9-847BDC96CB6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33cc"/>
                </a:solidFill>
                <a:uFillTx/>
                <a:latin typeface="Comic Sans MS"/>
              </a:rPr>
              <a:t>OSPF (Open Shortest Path First)</a:t>
            </a:r>
            <a:endParaRPr b="0" lang="en-US" sz="28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pen”: publicly availab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ses Link State algorithm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LS packet disseminati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opology map at each nod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Route computation using Dijkstra’s algorithm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SPF advertisement carries one entry per neighbor rout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dvertisements disseminated to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entir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AS (via flooding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07B96-8B99-430C-943A-8891BB871AF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Comic Sans MS"/>
              </a:rPr>
              <a:t>OSPF “advanced” features (not in RIP)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533520" y="1676520"/>
            <a:ext cx="82296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Security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all OSPF messages authenticated (to prevent malicious intrusion); TCP connections use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Multi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le same-cost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path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 allowed (only one path in RIP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r each link, multiple cost metrics for different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OS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eg, satellite link cost set “low” for best effort; high for real time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tegrated uni- and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multicas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support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ulticast OSPF (MOSPF) uses same topology data base as OSPF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Hierarchical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OSPF in large domain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D7928-6D00-42E6-865F-5349F8CB87B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cc"/>
                </a:solidFill>
                <a:uFillTx/>
                <a:latin typeface="Comic Sans MS"/>
              </a:rPr>
              <a:t>Hierarchical OSPF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pic>
        <p:nvPicPr>
          <p:cNvPr id="434" name="04-33" descr=""/>
          <p:cNvPicPr/>
          <p:nvPr/>
        </p:nvPicPr>
        <p:blipFill>
          <a:blip r:embed="rId1"/>
          <a:stretch/>
        </p:blipFill>
        <p:spPr>
          <a:xfrm>
            <a:off x="1084320" y="1341360"/>
            <a:ext cx="7315200" cy="4734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387C9-45FE-43B8-B127-8EF798C5774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cc"/>
                </a:solidFill>
                <a:uFillTx/>
                <a:latin typeface="Comic Sans MS"/>
              </a:rPr>
              <a:t>Hierarchical OSPF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520560" y="1468080"/>
            <a:ext cx="8229600" cy="40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wo-level hierarchy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local area, backbon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ink-state advertisements only in area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ach nodes has detailed area topology; only know direction (shortest path) to nets in other area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Area border routers:</a:t>
            </a: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“summarize” distances  to nets in own area, advertise to other Area Border router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Backbone routers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run OSPF routing limited to backbon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Boundary routers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connect to other AS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16526-13A9-45A4-A2FD-5861C4E455F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15440" y="498240"/>
            <a:ext cx="8301240" cy="80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Comic Sans MS"/>
              </a:rPr>
              <a:t>IGRP (Interior Gateway Routing Protocol)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ISCO proprietary; successor of RIP (mid 80s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stance Vector, like RI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veral cost metrics (delay, bandwidth, reliability, load etc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ses TCP to exchange routing updat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oop-free routing via Distributed Updating Alg. (DUAL) based on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diffused computa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1D20D-18AB-4642-A0DE-D23269D9C9D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cc"/>
                </a:solidFill>
                <a:uFillTx/>
                <a:latin typeface="Comic Sans MS"/>
              </a:rPr>
              <a:t>Inter-AS routing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pic>
        <p:nvPicPr>
          <p:cNvPr id="440" name="hier" descr=""/>
          <p:cNvPicPr/>
          <p:nvPr/>
        </p:nvPicPr>
        <p:blipFill>
          <a:blip r:embed="rId1"/>
          <a:stretch/>
        </p:blipFill>
        <p:spPr>
          <a:xfrm>
            <a:off x="1219320" y="2286000"/>
            <a:ext cx="7175520" cy="2949480"/>
          </a:xfrm>
          <a:prstGeom prst="rect">
            <a:avLst/>
          </a:prstGeom>
          <a:ln w="0">
            <a:noFill/>
          </a:ln>
        </p:spPr>
      </p:pic>
      <p:sp>
        <p:nvSpPr>
          <p:cNvPr id="441" name=""/>
          <p:cNvSpPr/>
          <p:nvPr/>
        </p:nvSpPr>
        <p:spPr>
          <a:xfrm>
            <a:off x="3244680" y="2644920"/>
            <a:ext cx="2986200" cy="21096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V="1">
            <a:off x="5433840" y="2936880"/>
            <a:ext cx="901800" cy="7207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 flipH="1" flipV="1">
            <a:off x="3257280" y="2793960"/>
            <a:ext cx="415800" cy="28728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 flipH="1" flipV="1">
            <a:off x="4431960" y="3156120"/>
            <a:ext cx="461880" cy="40464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0B0EB-A40F-463F-8022-BDA58FFA964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190440"/>
            <a:ext cx="7772400" cy="78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cc"/>
                </a:solidFill>
                <a:uFillTx/>
                <a:latin typeface="Comic Sans MS"/>
              </a:rPr>
              <a:t>IP datagram format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44" name=""/>
          <p:cNvSpPr/>
          <p:nvPr/>
        </p:nvSpPr>
        <p:spPr>
          <a:xfrm>
            <a:off x="2897280" y="1512720"/>
            <a:ext cx="3951360" cy="48247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01880" y="1619280"/>
            <a:ext cx="3951360" cy="4805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751120" y="1684440"/>
            <a:ext cx="52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226480" y="1746360"/>
            <a:ext cx="87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814480" y="2195640"/>
            <a:ext cx="3946680" cy="4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flipV="1">
            <a:off x="4754520" y="1628280"/>
            <a:ext cx="0" cy="506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278960" y="1103400"/>
            <a:ext cx="89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2 b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297400" y="1344600"/>
            <a:ext cx="1427400" cy="4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2789280" y="1355760"/>
            <a:ext cx="1341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756600" y="4573440"/>
            <a:ext cx="2224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at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(variable length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typically a TCP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r UDP segmen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720880" y="2230560"/>
            <a:ext cx="215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16-bit identifi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808360" y="3635280"/>
            <a:ext cx="3951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08360" y="4111560"/>
            <a:ext cx="3951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57720" y="2643120"/>
            <a:ext cx="1276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ntern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checks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803680" y="2629080"/>
            <a:ext cx="95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ime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66000" y="3249720"/>
            <a:ext cx="275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2 bit source IP addr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96640" y="998640"/>
            <a:ext cx="220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P protocol ver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u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17920" y="1546200"/>
            <a:ext cx="169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eader l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byt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63040" y="2546280"/>
            <a:ext cx="2018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max nu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maining ho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decremented a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ach route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400480" y="1324080"/>
            <a:ext cx="528480" cy="4618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428920" y="1881360"/>
            <a:ext cx="904680" cy="1476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067160" y="1927080"/>
            <a:ext cx="1825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ragmentation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ssemb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030440" y="1193760"/>
            <a:ext cx="178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otal datagr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ength (byt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8320" y="3822840"/>
            <a:ext cx="238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pper layer protoc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o deliver payload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2543040" y="2867040"/>
            <a:ext cx="1467000" cy="11239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5124600" y="2381400"/>
            <a:ext cx="2038320" cy="1904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505200" y="1514520"/>
            <a:ext cx="638280" cy="4096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172680" y="1579680"/>
            <a:ext cx="781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hea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849480" y="1569960"/>
            <a:ext cx="92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ype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3859200" y="1623600"/>
            <a:ext cx="0" cy="506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3244680" y="1633680"/>
            <a:ext cx="0" cy="506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821880" y="2098800"/>
            <a:ext cx="16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ype” of dat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2448000" y="1895040"/>
            <a:ext cx="1533600" cy="414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4754520" y="2142720"/>
            <a:ext cx="0" cy="506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606920" y="2220840"/>
            <a:ext cx="77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l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5221440" y="2204640"/>
            <a:ext cx="0" cy="506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264280" y="2087640"/>
            <a:ext cx="142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frag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off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 flipV="1">
            <a:off x="6486480" y="2276280"/>
            <a:ext cx="657360" cy="1141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4609800" y="2390760"/>
            <a:ext cx="2514600" cy="572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808360" y="2717640"/>
            <a:ext cx="3951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4754520" y="2647440"/>
            <a:ext cx="0" cy="654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3680" y="3306600"/>
            <a:ext cx="3951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865680" y="2560680"/>
            <a:ext cx="82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p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801960" y="2788920"/>
            <a:ext cx="0" cy="506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523960" y="2833560"/>
            <a:ext cx="552600" cy="9072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161880" y="3687840"/>
            <a:ext cx="324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32 bit destination IP addre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808360" y="4559400"/>
            <a:ext cx="3951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36880" y="4154400"/>
            <a:ext cx="181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Options (if any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931800" y="4127400"/>
            <a:ext cx="1847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.g. timestamp,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cord rou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aken, pecif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ist of router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to visi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190920" y="4343400"/>
            <a:ext cx="819000" cy="936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C6868-F7B2-4F02-B75F-62700744198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cc"/>
                </a:solidFill>
                <a:uFillTx/>
                <a:latin typeface="Comic Sans MS"/>
              </a:rPr>
              <a:t>Internet inter-AS routing: BGP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BGP (Border Gateway Protocol)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th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de facto standar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Path Vector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protocol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milar to Distance Vector protoco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ach Border Gateway broadcast to neighbors (peers) 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entire path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(I.e, sequence of ASs) to destina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.g., Gateway X may send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its path to dest. Z: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ath (X,Z) = X,Y1,Y2,Y3,…,Z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1BB07-AEF0-4168-9559-00E9D69EB3C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cc"/>
                </a:solidFill>
                <a:uFillTx/>
                <a:latin typeface="Comic Sans MS"/>
              </a:rPr>
              <a:t>Internet inter-AS routing: BGP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533520" y="1523520"/>
            <a:ext cx="8229600" cy="278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Comic Sans MS"/>
              </a:rPr>
              <a:t>Suppose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gateway X send its path to peer gateway W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57040" indent="-257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W may or may not select path offered by X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557280" indent="-214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7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st, policy (don’t route via competitors AS), loop prevention reason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257040" indent="-257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f W selects path advertised by X, then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570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ath (W,Z) = w, Path (X,Z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57040" indent="-257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te: X can control incoming traffic by controling its route advertisements to peer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557280" indent="-2142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.g., don’t want to route traffic to Z -&gt; don’t advertise any routes to Z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4CDCC-5E49-41F5-8329-E88E7616CDF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cc"/>
                </a:solidFill>
                <a:uFillTx/>
                <a:latin typeface="Comic Sans MS"/>
              </a:rPr>
              <a:t>Internet inter-AS routing: BGP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GP messages exchanged using TCP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GP message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OPEN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opens TCP connection to peer and authenticates send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UPDATE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advertises new path (or withdraws old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KEEPALIV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keeps connection alive in absence of UPDATES; also ACKs OPEN reques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NOTIFICATION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reports errors in previous msg; also used to close connec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26BBE-3B04-4691-805C-E9C32D0AEFF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33cc"/>
                </a:solidFill>
                <a:uFillTx/>
                <a:latin typeface="Comic Sans MS"/>
              </a:rPr>
              <a:t>Why different Intra- and Inter-AS routing ?</a:t>
            </a: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 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557280" y="13939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Policy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ter-AS: admin wants control over how its traffic routed, who routes through its net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tra-AS: single admin, so no policy decisions neede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Scale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ierarchical routing saves table size, reduced update traffic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Performance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tra-AS: can focus on performanc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ter-AS: policy may dominate over performanc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0E1A0-1FE6-4D13-A150-3DB4E14EF4A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cc"/>
                </a:solidFill>
                <a:uFillTx/>
                <a:latin typeface="Comic Sans MS"/>
              </a:rPr>
              <a:t>Router Architecture Overview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81266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8000"/>
          </a:bodyPr>
          <a:p>
            <a:pPr marL="233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wo key router functions: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233280" indent="-2332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un routing algorithms/protocol (RIP, OSPF, BGP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33280" indent="-2332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switching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atagrams from incoming to outgoing link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55" name="461%20swtch%20components" descr=""/>
          <p:cNvPicPr/>
          <p:nvPr/>
        </p:nvPicPr>
        <p:blipFill>
          <a:blip r:embed="rId1"/>
          <a:stretch/>
        </p:blipFill>
        <p:spPr>
          <a:xfrm>
            <a:off x="1486080" y="2900520"/>
            <a:ext cx="6399000" cy="3525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9CAD5-3240-4221-8A22-B9F17C05FCE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6" name="462%20Input%20Ports" descr=""/>
          <p:cNvPicPr/>
          <p:nvPr/>
        </p:nvPicPr>
        <p:blipFill>
          <a:blip r:embed="rId1"/>
          <a:stretch/>
        </p:blipFill>
        <p:spPr>
          <a:xfrm>
            <a:off x="2076480" y="938160"/>
            <a:ext cx="5410080" cy="2590920"/>
          </a:xfrm>
          <a:prstGeom prst="rect">
            <a:avLst/>
          </a:prstGeom>
          <a:ln w="0">
            <a:noFill/>
          </a:ln>
        </p:spPr>
      </p:pic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44400" y="5047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cc"/>
                </a:solidFill>
                <a:uFillTx/>
                <a:latin typeface="Comic Sans MS"/>
              </a:rPr>
              <a:t>Input Port Functions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3394080" y="3668760"/>
            <a:ext cx="545616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Decentralized switching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given datagram dest., lookup output port using routing table in input port memory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goal: complete input port processing at ‘line speed’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queuing: if datagrams arrive faster than forwarding rate into switch fabric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9" name=""/>
          <p:cNvSpPr/>
          <p:nvPr/>
        </p:nvSpPr>
        <p:spPr>
          <a:xfrm>
            <a:off x="24120" y="3060720"/>
            <a:ext cx="2328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Physical lay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bit-level recep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23360" y="3789360"/>
            <a:ext cx="1954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Data link lay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e.g., Ether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e chapter 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V="1">
            <a:off x="1963800" y="2661480"/>
            <a:ext cx="797040" cy="422280"/>
          </a:xfrm>
          <a:custGeom>
            <a:avLst/>
            <a:gdLst/>
            <a:ahLst/>
            <a:rect l="l" t="t" r="r" b="b"/>
            <a:pathLst>
              <a:path w="769" h="517">
                <a:moveTo>
                  <a:pt x="0" y="0"/>
                </a:moveTo>
                <a:cubicBezTo>
                  <a:pt x="71" y="62"/>
                  <a:pt x="351" y="347"/>
                  <a:pt x="428" y="375"/>
                </a:cubicBezTo>
                <a:cubicBezTo>
                  <a:pt x="505" y="403"/>
                  <a:pt x="404" y="145"/>
                  <a:pt x="461" y="169"/>
                </a:cubicBezTo>
                <a:cubicBezTo>
                  <a:pt x="518" y="192"/>
                  <a:pt x="705" y="444"/>
                  <a:pt x="769" y="517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V="1">
            <a:off x="2338560" y="2674800"/>
            <a:ext cx="1407960" cy="1198800"/>
          </a:xfrm>
          <a:custGeom>
            <a:avLst/>
            <a:gdLst/>
            <a:ahLst/>
            <a:rect l="l" t="t" r="r" b="b"/>
            <a:pathLst>
              <a:path w="769" h="517">
                <a:moveTo>
                  <a:pt x="0" y="0"/>
                </a:moveTo>
                <a:cubicBezTo>
                  <a:pt x="71" y="62"/>
                  <a:pt x="351" y="347"/>
                  <a:pt x="428" y="375"/>
                </a:cubicBezTo>
                <a:cubicBezTo>
                  <a:pt x="505" y="403"/>
                  <a:pt x="404" y="145"/>
                  <a:pt x="461" y="169"/>
                </a:cubicBezTo>
                <a:cubicBezTo>
                  <a:pt x="518" y="192"/>
                  <a:pt x="705" y="444"/>
                  <a:pt x="769" y="517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 flipV="1">
            <a:off x="5222880" y="2872800"/>
            <a:ext cx="760320" cy="880920"/>
          </a:xfrm>
          <a:custGeom>
            <a:avLst/>
            <a:gdLst/>
            <a:ahLst/>
            <a:rect l="l" t="t" r="r" b="b"/>
            <a:pathLst>
              <a:path w="769" h="517">
                <a:moveTo>
                  <a:pt x="0" y="0"/>
                </a:moveTo>
                <a:cubicBezTo>
                  <a:pt x="71" y="62"/>
                  <a:pt x="351" y="347"/>
                  <a:pt x="428" y="375"/>
                </a:cubicBezTo>
                <a:cubicBezTo>
                  <a:pt x="505" y="403"/>
                  <a:pt x="404" y="145"/>
                  <a:pt x="461" y="169"/>
                </a:cubicBezTo>
                <a:cubicBezTo>
                  <a:pt x="518" y="192"/>
                  <a:pt x="705" y="444"/>
                  <a:pt x="769" y="517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A7290-6A39-45D2-A391-539A6F9864D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85800" y="3697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Comic Sans MS"/>
              </a:rPr>
              <a:t>Input Port Queuing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731520" y="1126800"/>
            <a:ext cx="8101080" cy="301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abric slower than input ports combined -&gt; queueing may occur at input queues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Head-of-the-Line (HOL) blocking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queued datagram at front of queue prevents others in queue from moving forwar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Comic Sans MS"/>
              </a:rPr>
              <a:t>queueing delay and loss due to input buffer overflow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66" name="466%20HOL%20Blocking" descr=""/>
          <p:cNvPicPr/>
          <p:nvPr/>
        </p:nvPicPr>
        <p:blipFill>
          <a:blip r:embed="rId1"/>
          <a:stretch/>
        </p:blipFill>
        <p:spPr>
          <a:xfrm>
            <a:off x="1106640" y="3895560"/>
            <a:ext cx="6900840" cy="2495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37257-EF09-4B9A-B827-E5832093DC4E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7" name="463%20swtching%20methods" descr=""/>
          <p:cNvPicPr/>
          <p:nvPr/>
        </p:nvPicPr>
        <p:blipFill>
          <a:blip r:embed="rId1"/>
          <a:stretch/>
        </p:blipFill>
        <p:spPr>
          <a:xfrm>
            <a:off x="803160" y="1387440"/>
            <a:ext cx="7391520" cy="5019840"/>
          </a:xfrm>
          <a:prstGeom prst="rect">
            <a:avLst/>
          </a:prstGeom>
          <a:ln w="0">
            <a:noFill/>
          </a:ln>
        </p:spPr>
      </p:pic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cc"/>
                </a:solidFill>
                <a:uFillTx/>
                <a:latin typeface="Comic Sans MS"/>
              </a:rPr>
              <a:t>Three types of switching fabrics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62763-54BF-4545-B052-1E0BCAFDEB3C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cc"/>
                </a:solidFill>
                <a:uFillTx/>
                <a:latin typeface="Comic Sans MS"/>
              </a:rPr>
              <a:t>Switching Via Memory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84872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marL="8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First generation router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83520" indent="-835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acket copied by system’s (single) CPU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83520" indent="-835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peed limited by memory bandwidth (2 bus crossings per datagram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71" name=""/>
          <p:cNvGrpSpPr/>
          <p:nvPr/>
        </p:nvGrpSpPr>
        <p:grpSpPr>
          <a:xfrm>
            <a:off x="1352160" y="2754360"/>
            <a:ext cx="6400800" cy="2071800"/>
            <a:chOff x="1352160" y="2754360"/>
            <a:chExt cx="6400800" cy="2071800"/>
          </a:xfrm>
        </p:grpSpPr>
        <p:sp>
          <p:nvSpPr>
            <p:cNvPr id="472" name=""/>
            <p:cNvSpPr/>
            <p:nvPr/>
          </p:nvSpPr>
          <p:spPr>
            <a:xfrm>
              <a:off x="2495520" y="3454560"/>
              <a:ext cx="838080" cy="685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5771880" y="3454560"/>
              <a:ext cx="838440" cy="685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3714480" y="3149640"/>
              <a:ext cx="1752840" cy="990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2190600" y="4673520"/>
              <a:ext cx="4648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2952720" y="414036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4628880" y="414036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6229080" y="414036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 flipH="1">
              <a:off x="1352160" y="368316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 flipH="1">
              <a:off x="6609960" y="360684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1581120" y="3835440"/>
              <a:ext cx="1295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2876400" y="3835440"/>
              <a:ext cx="0" cy="99072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2876400" y="4826160"/>
              <a:ext cx="15238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 flipV="1">
              <a:off x="4400280" y="3835440"/>
              <a:ext cx="0" cy="99072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4400280" y="383544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4933800" y="3835440"/>
              <a:ext cx="0" cy="99072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4933800" y="48261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 flipV="1">
              <a:off x="6153120" y="3682800"/>
              <a:ext cx="0" cy="114300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6153120" y="3683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2481480" y="2830680"/>
              <a:ext cx="6105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p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or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5773320" y="2844720"/>
              <a:ext cx="746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utp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or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854520" y="2754360"/>
              <a:ext cx="878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Memor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6520680" y="4354560"/>
              <a:ext cx="1145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ystem Bu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4" name=""/>
          <p:cNvSpPr/>
          <p:nvPr/>
        </p:nvSpPr>
        <p:spPr>
          <a:xfrm>
            <a:off x="638280" y="4898880"/>
            <a:ext cx="78483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 marL="87840" indent="-87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Modern route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7840" indent="-878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put port processor performs lookup, copy into mem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87840" indent="-8784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isco Catalyst 8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971B8-ADB8-4612-A989-8FF719B05CF8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5" name=""/>
          <p:cNvGrpSpPr/>
          <p:nvPr/>
        </p:nvGrpSpPr>
        <p:grpSpPr>
          <a:xfrm>
            <a:off x="1190520" y="671400"/>
            <a:ext cx="7391160" cy="5184360"/>
            <a:chOff x="1190520" y="671400"/>
            <a:chExt cx="7391160" cy="5184360"/>
          </a:xfrm>
        </p:grpSpPr>
        <p:pic>
          <p:nvPicPr>
            <p:cNvPr id="496" name="463%20swtching%20methods" descr=""/>
            <p:cNvPicPr/>
            <p:nvPr/>
          </p:nvPicPr>
          <p:blipFill>
            <a:blip r:embed="rId1"/>
            <a:stretch/>
          </p:blipFill>
          <p:spPr>
            <a:xfrm>
              <a:off x="1190520" y="682200"/>
              <a:ext cx="7391160" cy="5019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7" name=""/>
            <p:cNvSpPr/>
            <p:nvPr/>
          </p:nvSpPr>
          <p:spPr>
            <a:xfrm>
              <a:off x="1234800" y="671400"/>
              <a:ext cx="3927600" cy="2081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2761920" y="3057120"/>
              <a:ext cx="5138640" cy="2798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50880" y="798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cc"/>
                </a:solidFill>
                <a:uFillTx/>
                <a:latin typeface="Comic Sans MS"/>
              </a:rPr>
              <a:t>Switching Via Bus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96720" y="2499840"/>
            <a:ext cx="5608800" cy="40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atagram from input port memor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o output port memory via a shared bu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bus contention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switching speed limited by bus bandwidth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 Gbps bus, Cisco 1900: sufficient speed for access and enterprise routers (not regional or backbone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931E2-73EB-481B-BC6E-0EAB812969BA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cc"/>
                </a:solidFill>
                <a:uFillTx/>
                <a:latin typeface="Comic Sans MS"/>
              </a:rPr>
              <a:t>IP Fragmentation &amp; Reassembly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76120" y="1304640"/>
            <a:ext cx="38102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twork links have MTU (max.transfer size) - largest possible link-level frame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different link types, different MTUs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large IP datagram divided (“fragmented”) within net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one datagram becomes several datagram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reassembled” only at final destinatio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P header bits used to identify, order related fragment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6" name=""/>
          <p:cNvSpPr/>
          <p:nvPr/>
        </p:nvSpPr>
        <p:spPr>
          <a:xfrm>
            <a:off x="4597560" y="1628640"/>
            <a:ext cx="2436480" cy="2256120"/>
          </a:xfrm>
          <a:custGeom>
            <a:avLst/>
            <a:gdLst/>
            <a:ahLst/>
            <a:rect l="l" t="t" r="r" b="b"/>
            <a:pathLst>
              <a:path w="1292" h="1255">
                <a:moveTo>
                  <a:pt x="239" y="7"/>
                </a:moveTo>
                <a:cubicBezTo>
                  <a:pt x="120" y="14"/>
                  <a:pt x="70" y="71"/>
                  <a:pt x="35" y="157"/>
                </a:cubicBezTo>
                <a:cubicBezTo>
                  <a:pt x="0" y="243"/>
                  <a:pt x="26" y="411"/>
                  <a:pt x="29" y="523"/>
                </a:cubicBezTo>
                <a:cubicBezTo>
                  <a:pt x="32" y="635"/>
                  <a:pt x="17" y="771"/>
                  <a:pt x="53" y="829"/>
                </a:cubicBezTo>
                <a:cubicBezTo>
                  <a:pt x="89" y="887"/>
                  <a:pt x="146" y="821"/>
                  <a:pt x="245" y="871"/>
                </a:cubicBezTo>
                <a:cubicBezTo>
                  <a:pt x="344" y="921"/>
                  <a:pt x="522" y="1068"/>
                  <a:pt x="647" y="1129"/>
                </a:cubicBezTo>
                <a:cubicBezTo>
                  <a:pt x="772" y="1190"/>
                  <a:pt x="903" y="1255"/>
                  <a:pt x="995" y="1237"/>
                </a:cubicBezTo>
                <a:cubicBezTo>
                  <a:pt x="1087" y="1219"/>
                  <a:pt x="1153" y="1153"/>
                  <a:pt x="1199" y="1021"/>
                </a:cubicBezTo>
                <a:cubicBezTo>
                  <a:pt x="1245" y="889"/>
                  <a:pt x="1270" y="580"/>
                  <a:pt x="1271" y="445"/>
                </a:cubicBezTo>
                <a:cubicBezTo>
                  <a:pt x="1272" y="310"/>
                  <a:pt x="1292" y="266"/>
                  <a:pt x="1205" y="211"/>
                </a:cubicBezTo>
                <a:cubicBezTo>
                  <a:pt x="1118" y="156"/>
                  <a:pt x="908" y="150"/>
                  <a:pt x="749" y="115"/>
                </a:cubicBezTo>
                <a:cubicBezTo>
                  <a:pt x="590" y="80"/>
                  <a:pt x="358" y="0"/>
                  <a:pt x="239" y="7"/>
                </a:cubicBez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597560" y="4030560"/>
            <a:ext cx="1976400" cy="1987560"/>
          </a:xfrm>
          <a:custGeom>
            <a:avLst/>
            <a:gdLst/>
            <a:ahLst/>
            <a:rect l="l" t="t" r="r" b="b"/>
            <a:pathLst>
              <a:path w="873" h="940">
                <a:moveTo>
                  <a:pt x="2" y="405"/>
                </a:moveTo>
                <a:cubicBezTo>
                  <a:pt x="17" y="290"/>
                  <a:pt x="138" y="129"/>
                  <a:pt x="230" y="65"/>
                </a:cubicBezTo>
                <a:cubicBezTo>
                  <a:pt x="322" y="1"/>
                  <a:pt x="460" y="0"/>
                  <a:pt x="555" y="22"/>
                </a:cubicBezTo>
                <a:cubicBezTo>
                  <a:pt x="650" y="44"/>
                  <a:pt x="748" y="143"/>
                  <a:pt x="800" y="197"/>
                </a:cubicBezTo>
                <a:cubicBezTo>
                  <a:pt x="852" y="251"/>
                  <a:pt x="859" y="292"/>
                  <a:pt x="866" y="347"/>
                </a:cubicBezTo>
                <a:cubicBezTo>
                  <a:pt x="873" y="402"/>
                  <a:pt x="855" y="457"/>
                  <a:pt x="842" y="527"/>
                </a:cubicBezTo>
                <a:cubicBezTo>
                  <a:pt x="829" y="597"/>
                  <a:pt x="827" y="714"/>
                  <a:pt x="788" y="767"/>
                </a:cubicBezTo>
                <a:cubicBezTo>
                  <a:pt x="749" y="820"/>
                  <a:pt x="670" y="819"/>
                  <a:pt x="608" y="845"/>
                </a:cubicBezTo>
                <a:cubicBezTo>
                  <a:pt x="546" y="871"/>
                  <a:pt x="496" y="940"/>
                  <a:pt x="418" y="925"/>
                </a:cubicBezTo>
                <a:cubicBezTo>
                  <a:pt x="340" y="910"/>
                  <a:pt x="208" y="840"/>
                  <a:pt x="139" y="754"/>
                </a:cubicBezTo>
                <a:cubicBezTo>
                  <a:pt x="69" y="667"/>
                  <a:pt x="0" y="546"/>
                  <a:pt x="2" y="405"/>
                </a:cubicBez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4191120" y="2008080"/>
            <a:ext cx="648720" cy="1247400"/>
            <a:chOff x="4191120" y="2008080"/>
            <a:chExt cx="648720" cy="1247400"/>
          </a:xfrm>
        </p:grpSpPr>
        <p:pic>
          <p:nvPicPr>
            <p:cNvPr id="99" name="" descr=""/>
            <p:cNvPicPr/>
            <p:nvPr/>
          </p:nvPicPr>
          <p:blipFill>
            <a:blip r:embed="rId1"/>
            <a:stretch/>
          </p:blipFill>
          <p:spPr>
            <a:xfrm>
              <a:off x="4191120" y="2008080"/>
              <a:ext cx="563760" cy="44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 flipV="1">
              <a:off x="4741560" y="2340360"/>
              <a:ext cx="98280" cy="86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1" name="" descr=""/>
            <p:cNvPicPr/>
            <p:nvPr/>
          </p:nvPicPr>
          <p:blipFill>
            <a:blip r:embed="rId2"/>
            <a:stretch/>
          </p:blipFill>
          <p:spPr>
            <a:xfrm>
              <a:off x="4191120" y="2809800"/>
              <a:ext cx="563760" cy="44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 flipV="1">
              <a:off x="4741560" y="3147480"/>
              <a:ext cx="98280" cy="3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3" name=""/>
            <p:cNvGrpSpPr/>
            <p:nvPr/>
          </p:nvGrpSpPr>
          <p:grpSpPr>
            <a:xfrm>
              <a:off x="4360680" y="2468160"/>
              <a:ext cx="95760" cy="299880"/>
              <a:chOff x="4360680" y="2468160"/>
              <a:chExt cx="95760" cy="299880"/>
            </a:xfrm>
          </p:grpSpPr>
          <p:sp>
            <p:nvSpPr>
              <p:cNvPr id="104" name=""/>
              <p:cNvSpPr/>
              <p:nvPr/>
            </p:nvSpPr>
            <p:spPr>
              <a:xfrm>
                <a:off x="4360680" y="2468160"/>
                <a:ext cx="88200" cy="8460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4364280" y="2575800"/>
                <a:ext cx="88200" cy="8424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960" bIns="12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4368240" y="2683800"/>
                <a:ext cx="88200" cy="84240"/>
              </a:xfrm>
              <a:prstGeom prst="ellipse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960" bIns="12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4832280" y="2336760"/>
              <a:ext cx="0" cy="808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" name=""/>
          <p:cNvSpPr/>
          <p:nvPr/>
        </p:nvSpPr>
        <p:spPr>
          <a:xfrm flipV="1">
            <a:off x="4670280" y="2584080"/>
            <a:ext cx="12708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246640" y="1909800"/>
            <a:ext cx="658800" cy="279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093000" y="2246400"/>
            <a:ext cx="196560" cy="669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995720" y="2022480"/>
            <a:ext cx="1800" cy="5824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1280" y="2670120"/>
            <a:ext cx="971640" cy="40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 flipV="1">
            <a:off x="6548040" y="3162240"/>
            <a:ext cx="476280" cy="687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5254560" y="2214720"/>
            <a:ext cx="758880" cy="517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5263920" y="1654200"/>
            <a:ext cx="476280" cy="34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5981760" y="1830240"/>
            <a:ext cx="272880" cy="236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4745160" y="1793880"/>
            <a:ext cx="678960" cy="313920"/>
            <a:chOff x="4745160" y="1793880"/>
            <a:chExt cx="678960" cy="313920"/>
          </a:xfrm>
        </p:grpSpPr>
        <p:sp>
          <p:nvSpPr>
            <p:cNvPr id="118" name=""/>
            <p:cNvSpPr/>
            <p:nvPr/>
          </p:nvSpPr>
          <p:spPr>
            <a:xfrm>
              <a:off x="4750560" y="1933920"/>
              <a:ext cx="673560" cy="1738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750560" y="1919160"/>
              <a:ext cx="0" cy="108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424120" y="1919160"/>
              <a:ext cx="0" cy="108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750560" y="1919160"/>
              <a:ext cx="667440" cy="106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745160" y="1793880"/>
              <a:ext cx="673200" cy="2026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3" name=""/>
            <p:cNvGrpSpPr/>
            <p:nvPr/>
          </p:nvGrpSpPr>
          <p:grpSpPr>
            <a:xfrm>
              <a:off x="4907160" y="1838520"/>
              <a:ext cx="333360" cy="118440"/>
              <a:chOff x="4907160" y="1838520"/>
              <a:chExt cx="333360" cy="118440"/>
            </a:xfrm>
          </p:grpSpPr>
          <p:sp>
            <p:nvSpPr>
              <p:cNvPr id="124" name=""/>
              <p:cNvSpPr/>
              <p:nvPr/>
            </p:nvSpPr>
            <p:spPr>
              <a:xfrm flipV="1">
                <a:off x="4907160" y="1838520"/>
                <a:ext cx="11880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5135760" y="1956960"/>
                <a:ext cx="104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016600" y="1840680"/>
                <a:ext cx="123480" cy="115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" name=""/>
            <p:cNvGrpSpPr/>
            <p:nvPr/>
          </p:nvGrpSpPr>
          <p:grpSpPr>
            <a:xfrm>
              <a:off x="4907160" y="1836720"/>
              <a:ext cx="333360" cy="118440"/>
              <a:chOff x="4907160" y="1836720"/>
              <a:chExt cx="333360" cy="118440"/>
            </a:xfrm>
          </p:grpSpPr>
          <p:sp>
            <p:nvSpPr>
              <p:cNvPr id="128" name=""/>
              <p:cNvSpPr/>
              <p:nvPr/>
            </p:nvSpPr>
            <p:spPr>
              <a:xfrm>
                <a:off x="4907160" y="1953000"/>
                <a:ext cx="11880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135760" y="1836720"/>
                <a:ext cx="104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V="1">
                <a:off x="5016600" y="1837080"/>
                <a:ext cx="123480" cy="115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1" name=""/>
          <p:cNvGrpSpPr/>
          <p:nvPr/>
        </p:nvGrpSpPr>
        <p:grpSpPr>
          <a:xfrm>
            <a:off x="4762440" y="2451240"/>
            <a:ext cx="679320" cy="313920"/>
            <a:chOff x="4762440" y="2451240"/>
            <a:chExt cx="679320" cy="313920"/>
          </a:xfrm>
        </p:grpSpPr>
        <p:sp>
          <p:nvSpPr>
            <p:cNvPr id="132" name=""/>
            <p:cNvSpPr/>
            <p:nvPr/>
          </p:nvSpPr>
          <p:spPr>
            <a:xfrm>
              <a:off x="4767840" y="2591280"/>
              <a:ext cx="673920" cy="1738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767840" y="2576520"/>
              <a:ext cx="0" cy="108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441760" y="2576520"/>
              <a:ext cx="0" cy="108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4767840" y="2576520"/>
              <a:ext cx="667800" cy="106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762440" y="2451240"/>
              <a:ext cx="673560" cy="2026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7" name=""/>
            <p:cNvGrpSpPr/>
            <p:nvPr/>
          </p:nvGrpSpPr>
          <p:grpSpPr>
            <a:xfrm>
              <a:off x="4924440" y="2495880"/>
              <a:ext cx="333360" cy="118440"/>
              <a:chOff x="4924440" y="2495880"/>
              <a:chExt cx="333360" cy="118440"/>
            </a:xfrm>
          </p:grpSpPr>
          <p:sp>
            <p:nvSpPr>
              <p:cNvPr id="138" name=""/>
              <p:cNvSpPr/>
              <p:nvPr/>
            </p:nvSpPr>
            <p:spPr>
              <a:xfrm flipV="1">
                <a:off x="4924440" y="2495880"/>
                <a:ext cx="11880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153040" y="2614320"/>
                <a:ext cx="104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034240" y="2498040"/>
                <a:ext cx="123840" cy="115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1" name=""/>
            <p:cNvGrpSpPr/>
            <p:nvPr/>
          </p:nvGrpSpPr>
          <p:grpSpPr>
            <a:xfrm>
              <a:off x="4924440" y="2494080"/>
              <a:ext cx="333360" cy="118440"/>
              <a:chOff x="4924440" y="2494080"/>
              <a:chExt cx="333360" cy="118440"/>
            </a:xfrm>
          </p:grpSpPr>
          <p:sp>
            <p:nvSpPr>
              <p:cNvPr id="142" name=""/>
              <p:cNvSpPr/>
              <p:nvPr/>
            </p:nvSpPr>
            <p:spPr>
              <a:xfrm>
                <a:off x="4924440" y="2610360"/>
                <a:ext cx="11880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153040" y="2494080"/>
                <a:ext cx="104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 flipV="1">
                <a:off x="5034240" y="2494440"/>
                <a:ext cx="123840" cy="115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5" name=""/>
          <p:cNvGrpSpPr/>
          <p:nvPr/>
        </p:nvGrpSpPr>
        <p:grpSpPr>
          <a:xfrm>
            <a:off x="5732640" y="2001960"/>
            <a:ext cx="675720" cy="313920"/>
            <a:chOff x="5732640" y="2001960"/>
            <a:chExt cx="675720" cy="313920"/>
          </a:xfrm>
        </p:grpSpPr>
        <p:sp>
          <p:nvSpPr>
            <p:cNvPr id="146" name=""/>
            <p:cNvSpPr/>
            <p:nvPr/>
          </p:nvSpPr>
          <p:spPr>
            <a:xfrm>
              <a:off x="5738040" y="2142000"/>
              <a:ext cx="670320" cy="1738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738040" y="2127240"/>
              <a:ext cx="0" cy="108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408360" y="2127240"/>
              <a:ext cx="0" cy="108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738040" y="2127240"/>
              <a:ext cx="664200" cy="106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732640" y="2001960"/>
              <a:ext cx="669960" cy="2026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1" name=""/>
            <p:cNvGrpSpPr/>
            <p:nvPr/>
          </p:nvGrpSpPr>
          <p:grpSpPr>
            <a:xfrm>
              <a:off x="5893920" y="2046600"/>
              <a:ext cx="331920" cy="118440"/>
              <a:chOff x="5893920" y="2046600"/>
              <a:chExt cx="331920" cy="118440"/>
            </a:xfrm>
          </p:grpSpPr>
          <p:sp>
            <p:nvSpPr>
              <p:cNvPr id="152" name=""/>
              <p:cNvSpPr/>
              <p:nvPr/>
            </p:nvSpPr>
            <p:spPr>
              <a:xfrm flipV="1">
                <a:off x="5893920" y="2046600"/>
                <a:ext cx="11808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6121440" y="2165040"/>
                <a:ext cx="104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6003000" y="2048760"/>
                <a:ext cx="123120" cy="115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5893920" y="2044800"/>
              <a:ext cx="331920" cy="118440"/>
              <a:chOff x="5893920" y="2044800"/>
              <a:chExt cx="331920" cy="118440"/>
            </a:xfrm>
          </p:grpSpPr>
          <p:sp>
            <p:nvSpPr>
              <p:cNvPr id="156" name=""/>
              <p:cNvSpPr/>
              <p:nvPr/>
            </p:nvSpPr>
            <p:spPr>
              <a:xfrm>
                <a:off x="5893920" y="2161080"/>
                <a:ext cx="11808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6121440" y="2044800"/>
                <a:ext cx="10440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flipV="1">
                <a:off x="6003000" y="2045160"/>
                <a:ext cx="123120" cy="115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9" name=""/>
          <p:cNvGrpSpPr/>
          <p:nvPr/>
        </p:nvGrpSpPr>
        <p:grpSpPr>
          <a:xfrm>
            <a:off x="5977080" y="2908440"/>
            <a:ext cx="678960" cy="313920"/>
            <a:chOff x="5977080" y="2908440"/>
            <a:chExt cx="678960" cy="313920"/>
          </a:xfrm>
        </p:grpSpPr>
        <p:sp>
          <p:nvSpPr>
            <p:cNvPr id="160" name=""/>
            <p:cNvSpPr/>
            <p:nvPr/>
          </p:nvSpPr>
          <p:spPr>
            <a:xfrm>
              <a:off x="5982480" y="3048480"/>
              <a:ext cx="673560" cy="1738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982480" y="3033720"/>
              <a:ext cx="0" cy="108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656040" y="3033720"/>
              <a:ext cx="0" cy="108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982480" y="3033720"/>
              <a:ext cx="667440" cy="106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977080" y="2908440"/>
              <a:ext cx="673200" cy="2026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5" name=""/>
            <p:cNvGrpSpPr/>
            <p:nvPr/>
          </p:nvGrpSpPr>
          <p:grpSpPr>
            <a:xfrm>
              <a:off x="6139080" y="2953080"/>
              <a:ext cx="333360" cy="118440"/>
              <a:chOff x="6139080" y="2953080"/>
              <a:chExt cx="333360" cy="118440"/>
            </a:xfrm>
          </p:grpSpPr>
          <p:sp>
            <p:nvSpPr>
              <p:cNvPr id="166" name=""/>
              <p:cNvSpPr/>
              <p:nvPr/>
            </p:nvSpPr>
            <p:spPr>
              <a:xfrm flipV="1">
                <a:off x="6139080" y="2953080"/>
                <a:ext cx="11880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6367680" y="3071520"/>
                <a:ext cx="104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6248520" y="2955240"/>
                <a:ext cx="123480" cy="115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9" name=""/>
            <p:cNvGrpSpPr/>
            <p:nvPr/>
          </p:nvGrpSpPr>
          <p:grpSpPr>
            <a:xfrm>
              <a:off x="6139080" y="2951280"/>
              <a:ext cx="333360" cy="118440"/>
              <a:chOff x="6139080" y="2951280"/>
              <a:chExt cx="333360" cy="118440"/>
            </a:xfrm>
          </p:grpSpPr>
          <p:sp>
            <p:nvSpPr>
              <p:cNvPr id="170" name=""/>
              <p:cNvSpPr/>
              <p:nvPr/>
            </p:nvSpPr>
            <p:spPr>
              <a:xfrm>
                <a:off x="6139080" y="3067560"/>
                <a:ext cx="11880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6367680" y="2951280"/>
                <a:ext cx="104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 flipV="1">
                <a:off x="6248520" y="2951640"/>
                <a:ext cx="123480" cy="115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3" name=""/>
          <p:cNvGrpSpPr/>
          <p:nvPr/>
        </p:nvGrpSpPr>
        <p:grpSpPr>
          <a:xfrm>
            <a:off x="5745240" y="4900680"/>
            <a:ext cx="715680" cy="310680"/>
            <a:chOff x="5745240" y="4900680"/>
            <a:chExt cx="715680" cy="310680"/>
          </a:xfrm>
        </p:grpSpPr>
        <p:sp>
          <p:nvSpPr>
            <p:cNvPr id="174" name=""/>
            <p:cNvSpPr/>
            <p:nvPr/>
          </p:nvSpPr>
          <p:spPr>
            <a:xfrm>
              <a:off x="5751000" y="5039280"/>
              <a:ext cx="709920" cy="1720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751000" y="5024880"/>
              <a:ext cx="0" cy="106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460920" y="5024880"/>
              <a:ext cx="0" cy="106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751000" y="5024880"/>
              <a:ext cx="703440" cy="1051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745240" y="4900680"/>
              <a:ext cx="709560" cy="20052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9" name=""/>
            <p:cNvGrpSpPr/>
            <p:nvPr/>
          </p:nvGrpSpPr>
          <p:grpSpPr>
            <a:xfrm>
              <a:off x="5915880" y="4944960"/>
              <a:ext cx="351720" cy="117360"/>
              <a:chOff x="5915880" y="4944960"/>
              <a:chExt cx="351720" cy="117360"/>
            </a:xfrm>
          </p:grpSpPr>
          <p:sp>
            <p:nvSpPr>
              <p:cNvPr id="180" name=""/>
              <p:cNvSpPr/>
              <p:nvPr/>
            </p:nvSpPr>
            <p:spPr>
              <a:xfrm flipV="1">
                <a:off x="5915880" y="4944960"/>
                <a:ext cx="12528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6157080" y="5062320"/>
                <a:ext cx="1105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6031440" y="4947120"/>
                <a:ext cx="130320" cy="114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3" name=""/>
            <p:cNvGrpSpPr/>
            <p:nvPr/>
          </p:nvGrpSpPr>
          <p:grpSpPr>
            <a:xfrm>
              <a:off x="5915880" y="4943160"/>
              <a:ext cx="351720" cy="117360"/>
              <a:chOff x="5915880" y="4943160"/>
              <a:chExt cx="351720" cy="117360"/>
            </a:xfrm>
          </p:grpSpPr>
          <p:sp>
            <p:nvSpPr>
              <p:cNvPr id="184" name=""/>
              <p:cNvSpPr/>
              <p:nvPr/>
            </p:nvSpPr>
            <p:spPr>
              <a:xfrm>
                <a:off x="5915880" y="5058360"/>
                <a:ext cx="12528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6157080" y="4943160"/>
                <a:ext cx="1105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 flipV="1">
                <a:off x="6031440" y="4943520"/>
                <a:ext cx="130320" cy="1148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7" name=""/>
          <p:cNvGrpSpPr/>
          <p:nvPr/>
        </p:nvGrpSpPr>
        <p:grpSpPr>
          <a:xfrm>
            <a:off x="6738840" y="3889440"/>
            <a:ext cx="679320" cy="313920"/>
            <a:chOff x="6738840" y="3889440"/>
            <a:chExt cx="679320" cy="313920"/>
          </a:xfrm>
        </p:grpSpPr>
        <p:sp>
          <p:nvSpPr>
            <p:cNvPr id="188" name=""/>
            <p:cNvSpPr/>
            <p:nvPr/>
          </p:nvSpPr>
          <p:spPr>
            <a:xfrm>
              <a:off x="6744240" y="4029480"/>
              <a:ext cx="673920" cy="1738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744240" y="4014720"/>
              <a:ext cx="0" cy="108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418160" y="4014720"/>
              <a:ext cx="0" cy="108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744240" y="4014720"/>
              <a:ext cx="667800" cy="106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738840" y="3889440"/>
              <a:ext cx="673560" cy="202680"/>
            </a:xfrm>
            <a:prstGeom prst="ellipse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3" name=""/>
            <p:cNvGrpSpPr/>
            <p:nvPr/>
          </p:nvGrpSpPr>
          <p:grpSpPr>
            <a:xfrm>
              <a:off x="6900840" y="3934080"/>
              <a:ext cx="333360" cy="118440"/>
              <a:chOff x="6900840" y="3934080"/>
              <a:chExt cx="333360" cy="118440"/>
            </a:xfrm>
          </p:grpSpPr>
          <p:sp>
            <p:nvSpPr>
              <p:cNvPr id="194" name=""/>
              <p:cNvSpPr/>
              <p:nvPr/>
            </p:nvSpPr>
            <p:spPr>
              <a:xfrm flipV="1">
                <a:off x="6900840" y="3934080"/>
                <a:ext cx="11880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7129440" y="4052520"/>
                <a:ext cx="104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7010640" y="3936240"/>
                <a:ext cx="123840" cy="115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7" name=""/>
            <p:cNvGrpSpPr/>
            <p:nvPr/>
          </p:nvGrpSpPr>
          <p:grpSpPr>
            <a:xfrm>
              <a:off x="6900840" y="3932280"/>
              <a:ext cx="333360" cy="118440"/>
              <a:chOff x="6900840" y="3932280"/>
              <a:chExt cx="333360" cy="118440"/>
            </a:xfrm>
          </p:grpSpPr>
          <p:sp>
            <p:nvSpPr>
              <p:cNvPr id="198" name=""/>
              <p:cNvSpPr/>
              <p:nvPr/>
            </p:nvSpPr>
            <p:spPr>
              <a:xfrm>
                <a:off x="6900840" y="4048560"/>
                <a:ext cx="118800" cy="2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7129440" y="3932280"/>
                <a:ext cx="10476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 flipV="1">
                <a:off x="7010640" y="3932640"/>
                <a:ext cx="123840" cy="115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201" name="" descr=""/>
          <p:cNvPicPr/>
          <p:nvPr/>
        </p:nvPicPr>
        <p:blipFill>
          <a:blip r:embed="rId3"/>
          <a:stretch/>
        </p:blipFill>
        <p:spPr>
          <a:xfrm>
            <a:off x="4705200" y="4392720"/>
            <a:ext cx="563760" cy="44604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5249880" y="4721400"/>
            <a:ext cx="3142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4"/>
          <a:stretch/>
        </p:blipFill>
        <p:spPr>
          <a:xfrm>
            <a:off x="4915080" y="5191200"/>
            <a:ext cx="563400" cy="44604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 flipV="1">
            <a:off x="5465880" y="5528880"/>
            <a:ext cx="9828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5084640" y="4849920"/>
            <a:ext cx="96480" cy="299160"/>
            <a:chOff x="5084640" y="4849920"/>
            <a:chExt cx="96480" cy="299160"/>
          </a:xfrm>
        </p:grpSpPr>
        <p:sp>
          <p:nvSpPr>
            <p:cNvPr id="206" name=""/>
            <p:cNvSpPr/>
            <p:nvPr/>
          </p:nvSpPr>
          <p:spPr>
            <a:xfrm>
              <a:off x="5084640" y="4849920"/>
              <a:ext cx="88920" cy="8460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3320" bIns="13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088240" y="4957560"/>
              <a:ext cx="88920" cy="8388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92200" y="5065200"/>
              <a:ext cx="88920" cy="83880"/>
            </a:xfrm>
            <a:prstGeom prst="ellipse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9" name=""/>
          <p:cNvSpPr/>
          <p:nvPr/>
        </p:nvSpPr>
        <p:spPr>
          <a:xfrm>
            <a:off x="5556240" y="4718160"/>
            <a:ext cx="0" cy="809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556240" y="5067360"/>
            <a:ext cx="187200" cy="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6461280" y="4206960"/>
            <a:ext cx="636480" cy="8776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5013000" y="2755080"/>
            <a:ext cx="1009800" cy="573120"/>
            <a:chOff x="5013000" y="2755080"/>
            <a:chExt cx="1009800" cy="573120"/>
          </a:xfrm>
        </p:grpSpPr>
        <p:sp>
          <p:nvSpPr>
            <p:cNvPr id="213" name=""/>
            <p:cNvSpPr/>
            <p:nvPr/>
          </p:nvSpPr>
          <p:spPr>
            <a:xfrm rot="1432800">
              <a:off x="5003640" y="2955600"/>
              <a:ext cx="1028520" cy="17136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rot="1432800">
              <a:off x="5011200" y="2919240"/>
              <a:ext cx="847440" cy="171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6310080" y="3094200"/>
            <a:ext cx="393480" cy="466560"/>
            <a:chOff x="6310080" y="3094200"/>
            <a:chExt cx="393480" cy="466560"/>
          </a:xfrm>
        </p:grpSpPr>
        <p:sp>
          <p:nvSpPr>
            <p:cNvPr id="216" name=""/>
            <p:cNvSpPr/>
            <p:nvPr/>
          </p:nvSpPr>
          <p:spPr>
            <a:xfrm rot="3346800">
              <a:off x="6454080" y="3332160"/>
              <a:ext cx="228600" cy="17136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 rot="3346800">
              <a:off x="6323400" y="3165480"/>
              <a:ext cx="263520" cy="171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6622560" y="3201120"/>
            <a:ext cx="403560" cy="461880"/>
            <a:chOff x="6622560" y="3201120"/>
            <a:chExt cx="403560" cy="461880"/>
          </a:xfrm>
        </p:grpSpPr>
        <p:sp>
          <p:nvSpPr>
            <p:cNvPr id="219" name=""/>
            <p:cNvSpPr/>
            <p:nvPr/>
          </p:nvSpPr>
          <p:spPr>
            <a:xfrm rot="3214800">
              <a:off x="6774840" y="3434040"/>
              <a:ext cx="228600" cy="17136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rot="3214800">
              <a:off x="6637680" y="3272040"/>
              <a:ext cx="263520" cy="171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6969240" y="3324960"/>
            <a:ext cx="415440" cy="455400"/>
            <a:chOff x="6969240" y="3324960"/>
            <a:chExt cx="415440" cy="455400"/>
          </a:xfrm>
        </p:grpSpPr>
        <p:sp>
          <p:nvSpPr>
            <p:cNvPr id="222" name=""/>
            <p:cNvSpPr/>
            <p:nvPr/>
          </p:nvSpPr>
          <p:spPr>
            <a:xfrm rot="3051600">
              <a:off x="7131600" y="3551760"/>
              <a:ext cx="228600" cy="17136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rot="3051600">
              <a:off x="6986880" y="3395520"/>
              <a:ext cx="263520" cy="171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4" name=""/>
          <p:cNvSpPr/>
          <p:nvPr/>
        </p:nvSpPr>
        <p:spPr>
          <a:xfrm>
            <a:off x="6006960" y="3276720"/>
            <a:ext cx="219240" cy="6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642000" y="3517920"/>
            <a:ext cx="133560" cy="177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966000" y="3616200"/>
            <a:ext cx="117360" cy="177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334280" y="3730680"/>
            <a:ext cx="101520" cy="18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594480" y="2246400"/>
            <a:ext cx="2570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fragmentation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Comic Sans MS"/>
              </a:rPr>
              <a:t>in: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one large datagr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Comic Sans MS"/>
              </a:rPr>
              <a:t>out: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3 smaller data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5609880" y="4350960"/>
            <a:ext cx="448920" cy="174960"/>
            <a:chOff x="5609880" y="4350960"/>
            <a:chExt cx="448920" cy="174960"/>
          </a:xfrm>
        </p:grpSpPr>
        <p:sp>
          <p:nvSpPr>
            <p:cNvPr id="230" name=""/>
            <p:cNvSpPr/>
            <p:nvPr/>
          </p:nvSpPr>
          <p:spPr>
            <a:xfrm rot="10826400">
              <a:off x="5610240" y="4351680"/>
              <a:ext cx="228600" cy="17136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 rot="10826400">
              <a:off x="5794200" y="4353480"/>
              <a:ext cx="263520" cy="171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" name=""/>
          <p:cNvGrpSpPr/>
          <p:nvPr/>
        </p:nvGrpSpPr>
        <p:grpSpPr>
          <a:xfrm>
            <a:off x="5612400" y="4544640"/>
            <a:ext cx="448920" cy="174960"/>
            <a:chOff x="5612400" y="4544640"/>
            <a:chExt cx="448920" cy="174960"/>
          </a:xfrm>
        </p:grpSpPr>
        <p:sp>
          <p:nvSpPr>
            <p:cNvPr id="233" name=""/>
            <p:cNvSpPr/>
            <p:nvPr/>
          </p:nvSpPr>
          <p:spPr>
            <a:xfrm rot="10826400">
              <a:off x="5612760" y="4545360"/>
              <a:ext cx="228600" cy="17136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rot="10826400">
              <a:off x="5796720" y="4547160"/>
              <a:ext cx="263520" cy="171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5" name=""/>
          <p:cNvGrpSpPr/>
          <p:nvPr/>
        </p:nvGrpSpPr>
        <p:grpSpPr>
          <a:xfrm>
            <a:off x="5615640" y="4738320"/>
            <a:ext cx="448920" cy="174960"/>
            <a:chOff x="5615640" y="4738320"/>
            <a:chExt cx="448920" cy="174960"/>
          </a:xfrm>
        </p:grpSpPr>
        <p:sp>
          <p:nvSpPr>
            <p:cNvPr id="236" name=""/>
            <p:cNvSpPr/>
            <p:nvPr/>
          </p:nvSpPr>
          <p:spPr>
            <a:xfrm rot="10826400">
              <a:off x="5616000" y="4739040"/>
              <a:ext cx="228600" cy="17136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rot="10826400">
              <a:off x="5799960" y="4740840"/>
              <a:ext cx="263520" cy="1713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8" name=""/>
          <p:cNvSpPr/>
          <p:nvPr/>
        </p:nvSpPr>
        <p:spPr>
          <a:xfrm flipH="1">
            <a:off x="5360400" y="4443480"/>
            <a:ext cx="229680" cy="2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flipH="1">
            <a:off x="5350320" y="4618080"/>
            <a:ext cx="230040" cy="3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H="1">
            <a:off x="5353560" y="4824720"/>
            <a:ext cx="230040" cy="3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4281480" y="4188240"/>
            <a:ext cx="1030320" cy="174960"/>
            <a:chOff x="4281480" y="4188240"/>
            <a:chExt cx="1030320" cy="174960"/>
          </a:xfrm>
        </p:grpSpPr>
        <p:sp>
          <p:nvSpPr>
            <p:cNvPr id="242" name=""/>
            <p:cNvSpPr/>
            <p:nvPr/>
          </p:nvSpPr>
          <p:spPr>
            <a:xfrm rot="10792800">
              <a:off x="4281480" y="4188960"/>
              <a:ext cx="1029960" cy="17280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rot="10792800">
              <a:off x="4462560" y="4188960"/>
              <a:ext cx="848880" cy="1728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4" name=""/>
          <p:cNvSpPr/>
          <p:nvPr/>
        </p:nvSpPr>
        <p:spPr>
          <a:xfrm flipH="1">
            <a:off x="4026960" y="4265640"/>
            <a:ext cx="229680" cy="2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659120" y="3843360"/>
            <a:ext cx="127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reassemb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4EA5C-2314-4580-911A-F097DE1CDB9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33cc"/>
                </a:solidFill>
                <a:uFillTx/>
                <a:latin typeface="Comic Sans MS"/>
              </a:rPr>
              <a:t>Switching Via An Interconnection Network</a:t>
            </a:r>
            <a:endParaRPr b="0" lang="en-US" sz="28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vercome  bus bandwidth limitatio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anyan networks, other interconnection nets initially developed to connect processors in multiprocesso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dvanced design: fragmenting datagram into fixed length cells, switch cells through the fabric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isco 12000: switches Gbps through the interconnection network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97276-FFE4-4F23-92AD-4534C0689FF7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33cc"/>
                </a:solidFill>
                <a:uFillTx/>
                <a:latin typeface="Comic Sans MS"/>
              </a:rPr>
              <a:t>Output Ports</a:t>
            </a:r>
            <a:endParaRPr b="0" lang="en-US" sz="28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561960" y="43243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-2401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Comic Sans MS"/>
              </a:rPr>
              <a:t>Buffering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required when datagrams arrive from fabric faster than the transmission rat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40120" indent="-2401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Comic Sans MS"/>
              </a:rPr>
              <a:t>Scheduling disciplin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chooses among queued datagrams for transmiss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05" name="464%20Output%20Port" descr=""/>
          <p:cNvPicPr/>
          <p:nvPr/>
        </p:nvPicPr>
        <p:blipFill>
          <a:blip r:embed="rId1"/>
          <a:stretch/>
        </p:blipFill>
        <p:spPr>
          <a:xfrm>
            <a:off x="1447920" y="1143000"/>
            <a:ext cx="5943600" cy="2943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7445E-39A6-4439-9D3C-EF24325195A1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cc"/>
                </a:solidFill>
                <a:uFillTx/>
                <a:latin typeface="Comic Sans MS"/>
              </a:rPr>
              <a:t>Output port queueing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68440" y="4635360"/>
            <a:ext cx="7772400" cy="119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uffering when arrival rate via switch exceeds output line spee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Comic Sans MS"/>
              </a:rPr>
              <a:t>queueing (delay) and loss due to output port buffer overflow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08" name="04-38" descr=""/>
          <p:cNvPicPr/>
          <p:nvPr/>
        </p:nvPicPr>
        <p:blipFill>
          <a:blip r:embed="rId1"/>
          <a:stretch/>
        </p:blipFill>
        <p:spPr>
          <a:xfrm>
            <a:off x="811080" y="1563840"/>
            <a:ext cx="6966000" cy="2840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E1914-F7CB-4157-B5E4-5F0C711A256F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5800" y="42228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IPv6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511200" y="1401480"/>
            <a:ext cx="820584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Initial motivation: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32-bit address space completely allocated by 2008.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dditional motivation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eader format helps speed processing/forward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eader changes to facilitate QoS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ew “anycast” address: route to “best” of several replicated servers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IPv6 datagram format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ixed-length 40 byte header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 fragmentation allowe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1E6B3-B86C-4E97-BD35-1A8EC1E1CA81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IPv6 Header (Cont)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pic>
        <p:nvPicPr>
          <p:cNvPr id="512" name="471%20ipv6%20header%20format" descr=""/>
          <p:cNvPicPr/>
          <p:nvPr/>
        </p:nvPicPr>
        <p:blipFill>
          <a:blip r:embed="rId1"/>
          <a:stretch/>
        </p:blipFill>
        <p:spPr>
          <a:xfrm>
            <a:off x="544680" y="3143160"/>
            <a:ext cx="4865400" cy="3279960"/>
          </a:xfrm>
          <a:prstGeom prst="rect">
            <a:avLst/>
          </a:prstGeom>
          <a:ln w="0">
            <a:noFill/>
          </a:ln>
        </p:spPr>
      </p:pic>
      <p:sp>
        <p:nvSpPr>
          <p:cNvPr id="513" name=""/>
          <p:cNvSpPr/>
          <p:nvPr/>
        </p:nvSpPr>
        <p:spPr>
          <a:xfrm>
            <a:off x="613440" y="1359000"/>
            <a:ext cx="7373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Comic Sans MS"/>
              </a:rPr>
              <a:t>Priority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identify priority among datagrams in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Comic Sans MS"/>
              </a:rPr>
              <a:t>Flow Label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dentify datagrams in same “flow.”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(concept of“flow” not well defined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Comic Sans MS"/>
              </a:rPr>
              <a:t>Next header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dentify upper layer protocol for dat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EC850-2432-4A30-83BA-4342D5996704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Other Changes from IPv4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Comic Sans MS"/>
              </a:rPr>
              <a:t>Checksum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: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moved entirely to reduce processing time at each hop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Comic Sans MS"/>
              </a:rPr>
              <a:t>Options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allowed, but outside of header, indicated by “Next Header” fiel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Comic Sans MS"/>
              </a:rPr>
              <a:t>ICMPv6: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new version of ICMP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dditional message types, e.g. “Packet Too Big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ulticast group management functio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0BD45-F721-460D-A0F7-63D61E733BBF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Transition From IPv4 To IPv6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ot all routers can be upgraded simultaneou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 “flag days”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ow will the network operatewith mixed IPv4 and IPv6 routers?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wo proposed approaches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Dual Stack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some routers with dual stack (v6, v4) can “translate” between forma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7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Tunneling: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Pv6 carried as payload n IPv4 datagram among IPv4 router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3938B-7CA2-4E3F-AC4B-B0F642165659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Dual Stack Approach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pic>
        <p:nvPicPr>
          <p:cNvPr id="519" name="04-41" descr=""/>
          <p:cNvPicPr/>
          <p:nvPr/>
        </p:nvPicPr>
        <p:blipFill>
          <a:blip r:embed="rId1"/>
          <a:stretch/>
        </p:blipFill>
        <p:spPr>
          <a:xfrm>
            <a:off x="614520" y="1539720"/>
            <a:ext cx="8135640" cy="3813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1C39D-4F10-424B-9AAB-85FBCA60DEA9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26960" y="1602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Tunneling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pic>
        <p:nvPicPr>
          <p:cNvPr id="521" name="04-42" descr=""/>
          <p:cNvPicPr/>
          <p:nvPr/>
        </p:nvPicPr>
        <p:blipFill>
          <a:blip r:embed="rId1"/>
          <a:stretch/>
        </p:blipFill>
        <p:spPr>
          <a:xfrm>
            <a:off x="439560" y="1117440"/>
            <a:ext cx="6083640" cy="5450040"/>
          </a:xfrm>
          <a:prstGeom prst="rect">
            <a:avLst/>
          </a:prstGeom>
          <a:ln w="0">
            <a:noFill/>
          </a:ln>
        </p:spPr>
      </p:pic>
      <p:sp>
        <p:nvSpPr>
          <p:cNvPr id="522" name=""/>
          <p:cNvSpPr/>
          <p:nvPr/>
        </p:nvSpPr>
        <p:spPr>
          <a:xfrm>
            <a:off x="4494600" y="2346480"/>
            <a:ext cx="347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IPv6 inside IPv4 where nee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2233440" y="2398680"/>
            <a:ext cx="2246400" cy="693720"/>
          </a:xfrm>
          <a:custGeom>
            <a:avLst/>
            <a:gdLst/>
            <a:ahLst/>
            <a:rect l="l" t="t" r="r" b="b"/>
            <a:pathLst>
              <a:path w="1415" h="437">
                <a:moveTo>
                  <a:pt x="0" y="415"/>
                </a:moveTo>
                <a:lnTo>
                  <a:pt x="0" y="0"/>
                </a:lnTo>
                <a:lnTo>
                  <a:pt x="1415" y="0"/>
                </a:lnTo>
                <a:lnTo>
                  <a:pt x="1415" y="437"/>
                </a:lnTo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9CEF5-8F13-4D21-A466-671141BD67D2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3333cc"/>
                </a:solidFill>
                <a:uFillTx/>
                <a:latin typeface="Comic Sans MS"/>
              </a:rPr>
              <a:t>IP Fragmentation and Reassembly</a:t>
            </a:r>
            <a:endParaRPr b="0" lang="en-US" sz="36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1933560" y="1498680"/>
            <a:ext cx="4248000" cy="661680"/>
            <a:chOff x="1933560" y="1498680"/>
            <a:chExt cx="4248000" cy="661680"/>
          </a:xfrm>
        </p:grpSpPr>
        <p:sp>
          <p:nvSpPr>
            <p:cNvPr id="248" name=""/>
            <p:cNvSpPr/>
            <p:nvPr/>
          </p:nvSpPr>
          <p:spPr>
            <a:xfrm>
              <a:off x="2000160" y="1505160"/>
              <a:ext cx="4181400" cy="5428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933560" y="1552680"/>
              <a:ext cx="4181400" cy="5428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110040" y="1498680"/>
              <a:ext cx="432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I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=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513320" y="1517760"/>
              <a:ext cx="79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offse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=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497400" y="1517760"/>
              <a:ext cx="1028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fragfla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=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280600" y="1498680"/>
              <a:ext cx="875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lengt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=40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314440" y="1552680"/>
              <a:ext cx="0" cy="542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114360" y="1552680"/>
              <a:ext cx="0" cy="542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3543120" y="1571760"/>
              <a:ext cx="0" cy="542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524120" y="1552680"/>
              <a:ext cx="0" cy="542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276880" y="1552680"/>
              <a:ext cx="0" cy="542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467320" y="1505160"/>
              <a:ext cx="218880" cy="599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0" name=""/>
          <p:cNvGrpSpPr/>
          <p:nvPr/>
        </p:nvGrpSpPr>
        <p:grpSpPr>
          <a:xfrm>
            <a:off x="2486160" y="3251160"/>
            <a:ext cx="4248000" cy="661680"/>
            <a:chOff x="2486160" y="3251160"/>
            <a:chExt cx="4248000" cy="661680"/>
          </a:xfrm>
        </p:grpSpPr>
        <p:sp>
          <p:nvSpPr>
            <p:cNvPr id="261" name=""/>
            <p:cNvSpPr/>
            <p:nvPr/>
          </p:nvSpPr>
          <p:spPr>
            <a:xfrm>
              <a:off x="2552760" y="3257640"/>
              <a:ext cx="4181400" cy="5428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486160" y="3305160"/>
              <a:ext cx="4181400" cy="5428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662640" y="3251160"/>
              <a:ext cx="432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I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=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065920" y="3270240"/>
              <a:ext cx="79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offse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=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050000" y="3270240"/>
              <a:ext cx="1028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fragfla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=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829240" y="3251160"/>
              <a:ext cx="875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lengt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=15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867040" y="3305160"/>
              <a:ext cx="0" cy="542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666960" y="3305160"/>
              <a:ext cx="0" cy="542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095720" y="3324240"/>
              <a:ext cx="0" cy="542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076720" y="3305160"/>
              <a:ext cx="0" cy="542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829480" y="3305160"/>
              <a:ext cx="0" cy="542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019920" y="3257640"/>
              <a:ext cx="218880" cy="599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486160" y="4051440"/>
            <a:ext cx="4248000" cy="661680"/>
            <a:chOff x="2486160" y="4051440"/>
            <a:chExt cx="4248000" cy="661680"/>
          </a:xfrm>
        </p:grpSpPr>
        <p:sp>
          <p:nvSpPr>
            <p:cNvPr id="274" name=""/>
            <p:cNvSpPr/>
            <p:nvPr/>
          </p:nvSpPr>
          <p:spPr>
            <a:xfrm>
              <a:off x="2552760" y="4057920"/>
              <a:ext cx="4181400" cy="5428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486160" y="4105440"/>
              <a:ext cx="4181400" cy="5428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662640" y="4051440"/>
              <a:ext cx="432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I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=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046840" y="4070520"/>
              <a:ext cx="835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offse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=148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050000" y="4070520"/>
              <a:ext cx="1028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fragfla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=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2829240" y="4051440"/>
              <a:ext cx="875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lengt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=150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867040" y="4105440"/>
              <a:ext cx="0" cy="542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666960" y="4105440"/>
              <a:ext cx="0" cy="542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095720" y="4124520"/>
              <a:ext cx="0" cy="542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076720" y="4105440"/>
              <a:ext cx="0" cy="542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829480" y="4105440"/>
              <a:ext cx="0" cy="542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019920" y="4057920"/>
              <a:ext cx="218880" cy="599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6" name=""/>
          <p:cNvGrpSpPr/>
          <p:nvPr/>
        </p:nvGrpSpPr>
        <p:grpSpPr>
          <a:xfrm>
            <a:off x="2476440" y="4879800"/>
            <a:ext cx="4248000" cy="661680"/>
            <a:chOff x="2476440" y="4879800"/>
            <a:chExt cx="4248000" cy="661680"/>
          </a:xfrm>
        </p:grpSpPr>
        <p:sp>
          <p:nvSpPr>
            <p:cNvPr id="287" name=""/>
            <p:cNvSpPr/>
            <p:nvPr/>
          </p:nvSpPr>
          <p:spPr>
            <a:xfrm>
              <a:off x="2543040" y="4886280"/>
              <a:ext cx="4181400" cy="54288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476440" y="4933800"/>
              <a:ext cx="4181400" cy="5428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652920" y="4879800"/>
              <a:ext cx="432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ID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=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037120" y="4898880"/>
              <a:ext cx="835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offse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=296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040280" y="4898880"/>
              <a:ext cx="1028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fragfla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=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819520" y="4879800"/>
              <a:ext cx="875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lengt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=104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857320" y="4933800"/>
              <a:ext cx="0" cy="542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657240" y="4933800"/>
              <a:ext cx="0" cy="542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4086000" y="4952880"/>
              <a:ext cx="0" cy="542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067000" y="4933800"/>
              <a:ext cx="0" cy="542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19760" y="4933800"/>
              <a:ext cx="0" cy="542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010200" y="4886280"/>
              <a:ext cx="218880" cy="599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9" name=""/>
          <p:cNvSpPr/>
          <p:nvPr/>
        </p:nvSpPr>
        <p:spPr>
          <a:xfrm>
            <a:off x="2048040" y="2257560"/>
            <a:ext cx="333360" cy="2162160"/>
          </a:xfrm>
          <a:custGeom>
            <a:avLst/>
            <a:gdLst/>
            <a:ahLst/>
            <a:rect l="l" t="t" r="r" b="b"/>
            <a:pathLst>
              <a:path w="210" h="1362">
                <a:moveTo>
                  <a:pt x="0" y="0"/>
                </a:moveTo>
                <a:lnTo>
                  <a:pt x="0" y="1362"/>
                </a:lnTo>
                <a:lnTo>
                  <a:pt x="210" y="858"/>
                </a:lnTo>
              </a:path>
            </a:pathLst>
          </a:custGeom>
          <a:noFill/>
          <a:ln w="1908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048040" y="4390920"/>
            <a:ext cx="3618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057400" y="4400640"/>
            <a:ext cx="333360" cy="79056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963080" y="2336760"/>
            <a:ext cx="33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One large datagram becom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several smaller datagra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4EB41-F6B6-489E-BCE2-622A830C100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8124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33cc"/>
                </a:solidFill>
                <a:uFillTx/>
                <a:latin typeface="Comic Sans MS"/>
              </a:rPr>
              <a:t>ICMP: Internet Control Message Protocol</a:t>
            </a:r>
            <a:endParaRPr b="0" lang="en-US" sz="32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used by hosts, routers, gateways to communication network-level informatio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rror reporting: unreachable host, network, port, protocol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echo request/reply (used by ping)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network-layer “above” IP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7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ICMP msgs carried in IP datagrams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ICMP message: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type, code plus first 8 bytes of IP datagram causing error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" name=""/>
          <p:cNvSpPr/>
          <p:nvPr/>
        </p:nvSpPr>
        <p:spPr>
          <a:xfrm>
            <a:off x="4585680" y="1760400"/>
            <a:ext cx="4258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Typ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od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descri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        0         echo reply (pin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        0         dest. network unreach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        1         dest host unreach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        2         dest protocol unreach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        3         dest port unreach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        6         dest network unknow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        7         dest host unknow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        0         source quench (conges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rol - not use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        0         echo request (ping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        0         route advertis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      0         router discov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      0         TTL expir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      0         bad IP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31FD4-C24F-4690-AFBF-967DCC4EED8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33cc"/>
                </a:solidFill>
                <a:uFillTx/>
                <a:latin typeface="Comic Sans MS"/>
              </a:rPr>
              <a:t>Routing in the Internet</a:t>
            </a:r>
            <a:endParaRPr b="0" lang="en-US" sz="28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e Global Internet consists of </a:t>
            </a:r>
            <a:r>
              <a:rPr b="0" lang="en-US" sz="2400" spc="-1" strike="noStrike">
                <a:solidFill>
                  <a:srgbClr val="cc0000"/>
                </a:solidFill>
                <a:latin typeface="Comic Sans MS"/>
              </a:rPr>
              <a:t>Autonomous Systems (AS)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interconnected with each other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Stub A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: small corporati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Multihomed A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: large corporation (no transit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Transit A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: provid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wo-level routing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Intra-AS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administrator is responsible for choic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SzPct val="7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Inter-AS: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unique standar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52CD9-1E4F-492D-904B-ACDC57EE5F4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3333cc"/>
                </a:solidFill>
                <a:uFillTx/>
                <a:latin typeface="Comic Sans MS"/>
              </a:rPr>
              <a:t>Internet AS Hierarchy</a:t>
            </a:r>
            <a:endParaRPr b="0" lang="en-US" sz="40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pic>
        <p:nvPicPr>
          <p:cNvPr id="309" name="hier" descr=""/>
          <p:cNvPicPr/>
          <p:nvPr/>
        </p:nvPicPr>
        <p:blipFill>
          <a:blip r:embed="rId1"/>
          <a:stretch/>
        </p:blipFill>
        <p:spPr>
          <a:xfrm>
            <a:off x="1219320" y="2286000"/>
            <a:ext cx="7175520" cy="294948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949680" y="1357200"/>
            <a:ext cx="621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Intra-AS border (exterior gateway) rou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987640" y="1755720"/>
            <a:ext cx="1162080" cy="666720"/>
          </a:xfrm>
          <a:custGeom>
            <a:avLst/>
            <a:gdLst/>
            <a:ahLst/>
            <a:rect l="l" t="t" r="r" b="b"/>
            <a:pathLst>
              <a:path w="732" h="420">
                <a:moveTo>
                  <a:pt x="732" y="0"/>
                </a:moveTo>
                <a:cubicBezTo>
                  <a:pt x="732" y="0"/>
                  <a:pt x="398" y="282"/>
                  <a:pt x="325" y="305"/>
                </a:cubicBezTo>
                <a:cubicBezTo>
                  <a:pt x="252" y="328"/>
                  <a:pt x="347" y="118"/>
                  <a:pt x="293" y="137"/>
                </a:cubicBezTo>
                <a:cubicBezTo>
                  <a:pt x="239" y="156"/>
                  <a:pt x="61" y="361"/>
                  <a:pt x="0" y="420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892680" y="1801800"/>
            <a:ext cx="433080" cy="1209600"/>
          </a:xfrm>
          <a:custGeom>
            <a:avLst/>
            <a:gdLst/>
            <a:ahLst/>
            <a:rect l="l" t="t" r="r" b="b"/>
            <a:pathLst>
              <a:path w="273" h="762">
                <a:moveTo>
                  <a:pt x="273" y="0"/>
                </a:moveTo>
                <a:cubicBezTo>
                  <a:pt x="262" y="92"/>
                  <a:pt x="234" y="513"/>
                  <a:pt x="207" y="554"/>
                </a:cubicBezTo>
                <a:cubicBezTo>
                  <a:pt x="180" y="596"/>
                  <a:pt x="129" y="214"/>
                  <a:pt x="109" y="249"/>
                </a:cubicBezTo>
                <a:cubicBezTo>
                  <a:pt x="89" y="283"/>
                  <a:pt x="23" y="655"/>
                  <a:pt x="0" y="762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753080" y="1836720"/>
            <a:ext cx="420480" cy="1608120"/>
          </a:xfrm>
          <a:custGeom>
            <a:avLst/>
            <a:gdLst/>
            <a:ahLst/>
            <a:rect l="l" t="t" r="r" b="b"/>
            <a:pathLst>
              <a:path w="265" h="1013">
                <a:moveTo>
                  <a:pt x="0" y="0"/>
                </a:moveTo>
                <a:cubicBezTo>
                  <a:pt x="11" y="92"/>
                  <a:pt x="39" y="513"/>
                  <a:pt x="66" y="554"/>
                </a:cubicBezTo>
                <a:cubicBezTo>
                  <a:pt x="93" y="596"/>
                  <a:pt x="144" y="214"/>
                  <a:pt x="164" y="249"/>
                </a:cubicBezTo>
                <a:cubicBezTo>
                  <a:pt x="184" y="283"/>
                  <a:pt x="244" y="854"/>
                  <a:pt x="265" y="1013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384880" y="1825560"/>
            <a:ext cx="1220760" cy="820800"/>
          </a:xfrm>
          <a:custGeom>
            <a:avLst/>
            <a:gdLst/>
            <a:ahLst/>
            <a:rect l="l" t="t" r="r" b="b"/>
            <a:pathLst>
              <a:path w="769" h="517">
                <a:moveTo>
                  <a:pt x="0" y="0"/>
                </a:moveTo>
                <a:cubicBezTo>
                  <a:pt x="71" y="62"/>
                  <a:pt x="351" y="347"/>
                  <a:pt x="428" y="375"/>
                </a:cubicBezTo>
                <a:cubicBezTo>
                  <a:pt x="505" y="403"/>
                  <a:pt x="404" y="145"/>
                  <a:pt x="461" y="169"/>
                </a:cubicBezTo>
                <a:cubicBezTo>
                  <a:pt x="518" y="192"/>
                  <a:pt x="705" y="444"/>
                  <a:pt x="769" y="517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45040" y="5591160"/>
            <a:ext cx="50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Inter-AS</a:t>
            </a:r>
            <a:r>
              <a:rPr b="0" i="1" lang="en-US" sz="24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interior (gateway) rou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flipV="1">
            <a:off x="2492280" y="5048280"/>
            <a:ext cx="1279800" cy="598320"/>
          </a:xfrm>
          <a:custGeom>
            <a:avLst/>
            <a:gdLst/>
            <a:ahLst/>
            <a:rect l="l" t="t" r="r" b="b"/>
            <a:pathLst>
              <a:path w="769" h="517">
                <a:moveTo>
                  <a:pt x="0" y="0"/>
                </a:moveTo>
                <a:cubicBezTo>
                  <a:pt x="71" y="62"/>
                  <a:pt x="351" y="347"/>
                  <a:pt x="428" y="375"/>
                </a:cubicBezTo>
                <a:cubicBezTo>
                  <a:pt x="505" y="403"/>
                  <a:pt x="404" y="145"/>
                  <a:pt x="461" y="169"/>
                </a:cubicBezTo>
                <a:cubicBezTo>
                  <a:pt x="518" y="192"/>
                  <a:pt x="705" y="444"/>
                  <a:pt x="769" y="517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V="1">
            <a:off x="1857240" y="4801320"/>
            <a:ext cx="1325520" cy="846360"/>
          </a:xfrm>
          <a:custGeom>
            <a:avLst/>
            <a:gdLst/>
            <a:ahLst/>
            <a:rect l="l" t="t" r="r" b="b"/>
            <a:pathLst>
              <a:path w="769" h="517">
                <a:moveTo>
                  <a:pt x="0" y="0"/>
                </a:moveTo>
                <a:cubicBezTo>
                  <a:pt x="71" y="62"/>
                  <a:pt x="351" y="347"/>
                  <a:pt x="428" y="375"/>
                </a:cubicBezTo>
                <a:cubicBezTo>
                  <a:pt x="505" y="403"/>
                  <a:pt x="404" y="145"/>
                  <a:pt x="461" y="169"/>
                </a:cubicBezTo>
                <a:cubicBezTo>
                  <a:pt x="518" y="192"/>
                  <a:pt x="705" y="444"/>
                  <a:pt x="769" y="517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1292400" y="4110120"/>
            <a:ext cx="772920" cy="1504800"/>
          </a:xfrm>
          <a:custGeom>
            <a:avLst/>
            <a:gdLst/>
            <a:ahLst/>
            <a:rect l="l" t="t" r="r" b="b"/>
            <a:pathLst>
              <a:path w="769" h="517">
                <a:moveTo>
                  <a:pt x="0" y="0"/>
                </a:moveTo>
                <a:cubicBezTo>
                  <a:pt x="71" y="62"/>
                  <a:pt x="351" y="347"/>
                  <a:pt x="428" y="375"/>
                </a:cubicBezTo>
                <a:cubicBezTo>
                  <a:pt x="505" y="403"/>
                  <a:pt x="404" y="145"/>
                  <a:pt x="461" y="169"/>
                </a:cubicBezTo>
                <a:cubicBezTo>
                  <a:pt x="518" y="192"/>
                  <a:pt x="705" y="444"/>
                  <a:pt x="769" y="517"/>
                </a:cubicBez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2B7FF-99F2-4A3C-9AE8-EE2BF16855E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33cc"/>
                </a:solidFill>
                <a:uFillTx/>
                <a:latin typeface="Comic Sans MS"/>
              </a:rPr>
              <a:t>Intra-AS Routing</a:t>
            </a:r>
            <a:endParaRPr b="0" lang="en-US" sz="28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lso known as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Interior Gateway Protocols (IGP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st common IGPs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6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IP: Routing Information Protoco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OSPF: Open Shortest Path Firs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SzPct val="75000"/>
              <a:buFont typeface="Comic Sans MS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GRP: Interior Gateway Routing Protocol (Cisco propr.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DDDB6-2C57-4575-A5B4-481533B06F9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33cc"/>
                </a:solidFill>
                <a:uFillTx/>
                <a:latin typeface="Comic Sans MS"/>
              </a:rPr>
              <a:t>RIP ( Routing Information Protocol)</a:t>
            </a:r>
            <a:endParaRPr b="0" lang="en-US" sz="2800" spc="-1" strike="noStrike" u="sng">
              <a:solidFill>
                <a:srgbClr val="3333cc"/>
              </a:solidFill>
              <a:uFillTx/>
              <a:latin typeface="Comic Sans MS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stance vector algorithm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cluded in BSD-UNIX Distribution in 198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stance metric: # of hops (max = 15 hops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stance vectors: exchanged every 30 sec via Response Message (also called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dvertisement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8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ach advertisement: route to up to 25 destination ne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5B659-DF4F-41FE-B71E-37E3496A3F7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8T19:08:27Z</dcterms:created>
  <dc:creator>Don Towsley</dc:creator>
  <dc:description/>
  <dc:language>en-US</dc:language>
  <cp:lastModifiedBy>M Faloutsos</cp:lastModifiedBy>
  <dcterms:modified xsi:type="dcterms:W3CDTF">2005-04-19T17:45:14Z</dcterms:modified>
  <cp:revision>144</cp:revision>
  <dc:subject/>
  <dc:title>Part I: Introduction</dc:title>
</cp:coreProperties>
</file>