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3.pct" ContentType="image/x-pict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pct" ContentType="image/x-pict"/>
  <Override PartName="/ppt/media/image8.jpeg" ContentType="image/jpeg"/>
  <Override PartName="/ppt/media/image2.pct" ContentType="image/x-pict"/>
  <Override PartName="/ppt/media/image10.png" ContentType="image/png"/>
  <Override PartName="/ppt/media/image6.png" ContentType="image/png"/>
  <Override PartName="/ppt/media/image7.jpeg" ContentType="image/jpeg"/>
  <Override PartName="/ppt/media/image4.pct" ContentType="image/x-pict"/>
  <Override PartName="/ppt/media/image12.png" ContentType="image/png"/>
  <Override PartName="/ppt/media/image5.pct" ContentType="image/x-pi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lick to move the slid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348A5-4C7B-4419-BD74-8CEC8D26C6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simple multiple access control techniq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mobile’s share of the bandwidth is divided into portions for the uplink and the downlink. Also, possibly, out of band signal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we will see, used in AMPS, GSM, IS-54/1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BA39-E6CC-4236-8C71-377430191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0126-56CE-4A41-859E-814221246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822A-5EA1-454E-A05B-8321D645F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A015-6F20-491C-99AA-0896D9C4B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CD99-C2ED-497A-81B8-A21241935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B341-3932-4DA0-8C00-4EC122CA3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9EE9-D574-4577-B7AC-4E1F88FBF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164F-6C2E-4039-98C4-6F38C131F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07C7-1213-464B-96B8-0C357FB36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050C-9862-4C52-8851-A9B593D70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505E-8D76-4FEB-8B64-2522FC89A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BA3A-3C12-4668-8A03-1C9CB2A3C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lick to edit the title text format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10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059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36DF7-0978-4DDF-BF08-197869C78F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image" Target="../media/image1.pct"/><Relationship Id="rId4" Type="http://schemas.openxmlformats.org/officeDocument/2006/relationships/image" Target="../media/image2.pct"/><Relationship Id="rId5" Type="http://schemas.openxmlformats.org/officeDocument/2006/relationships/image" Target="../media/image1.pct"/><Relationship Id="rId6" Type="http://schemas.openxmlformats.org/officeDocument/2006/relationships/image" Target="../media/image1.pct"/><Relationship Id="rId7" Type="http://schemas.openxmlformats.org/officeDocument/2006/relationships/image" Target="../media/image1.pct"/><Relationship Id="rId8" Type="http://schemas.openxmlformats.org/officeDocument/2006/relationships/image" Target="../media/image1.pct"/><Relationship Id="rId9" Type="http://schemas.openxmlformats.org/officeDocument/2006/relationships/image" Target="../media/image3.pct"/><Relationship Id="rId10" Type="http://schemas.openxmlformats.org/officeDocument/2006/relationships/image" Target="../media/image3.pct"/><Relationship Id="rId11" Type="http://schemas.openxmlformats.org/officeDocument/2006/relationships/image" Target="../media/image4.pct"/><Relationship Id="rId12" Type="http://schemas.openxmlformats.org/officeDocument/2006/relationships/image" Target="../media/image5.pct"/><Relationship Id="rId13" Type="http://schemas.openxmlformats.org/officeDocument/2006/relationships/image" Target="../media/image4.pct"/><Relationship Id="rId14" Type="http://schemas.openxmlformats.org/officeDocument/2006/relationships/image" Target="../media/image5.pct"/><Relationship Id="rId15" Type="http://schemas.openxmlformats.org/officeDocument/2006/relationships/image" Target="../media/image4.pct"/><Relationship Id="rId16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image" Target="../media/image1.pct"/><Relationship Id="rId4" Type="http://schemas.openxmlformats.org/officeDocument/2006/relationships/image" Target="../media/image2.pct"/><Relationship Id="rId5" Type="http://schemas.openxmlformats.org/officeDocument/2006/relationships/image" Target="../media/image1.pct"/><Relationship Id="rId6" Type="http://schemas.openxmlformats.org/officeDocument/2006/relationships/image" Target="../media/image1.pct"/><Relationship Id="rId7" Type="http://schemas.openxmlformats.org/officeDocument/2006/relationships/image" Target="../media/image1.pct"/><Relationship Id="rId8" Type="http://schemas.openxmlformats.org/officeDocument/2006/relationships/image" Target="../media/image1.pct"/><Relationship Id="rId9" Type="http://schemas.openxmlformats.org/officeDocument/2006/relationships/image" Target="../media/image3.pct"/><Relationship Id="rId10" Type="http://schemas.openxmlformats.org/officeDocument/2006/relationships/image" Target="../media/image3.pct"/><Relationship Id="rId11" Type="http://schemas.openxmlformats.org/officeDocument/2006/relationships/image" Target="../media/image4.pct"/><Relationship Id="rId12" Type="http://schemas.openxmlformats.org/officeDocument/2006/relationships/image" Target="../media/image5.pct"/><Relationship Id="rId13" Type="http://schemas.openxmlformats.org/officeDocument/2006/relationships/image" Target="../media/image4.pct"/><Relationship Id="rId14" Type="http://schemas.openxmlformats.org/officeDocument/2006/relationships/image" Target="../media/image5.pct"/><Relationship Id="rId15" Type="http://schemas.openxmlformats.org/officeDocument/2006/relationships/image" Target="../media/image4.pct"/><Relationship Id="rId16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image" Target="../media/image1.pct"/><Relationship Id="rId4" Type="http://schemas.openxmlformats.org/officeDocument/2006/relationships/image" Target="../media/image2.pct"/><Relationship Id="rId5" Type="http://schemas.openxmlformats.org/officeDocument/2006/relationships/image" Target="../media/image1.pct"/><Relationship Id="rId6" Type="http://schemas.openxmlformats.org/officeDocument/2006/relationships/image" Target="../media/image1.pct"/><Relationship Id="rId7" Type="http://schemas.openxmlformats.org/officeDocument/2006/relationships/image" Target="../media/image1.pct"/><Relationship Id="rId8" Type="http://schemas.openxmlformats.org/officeDocument/2006/relationships/image" Target="../media/image1.pct"/><Relationship Id="rId9" Type="http://schemas.openxmlformats.org/officeDocument/2006/relationships/image" Target="../media/image3.pct"/><Relationship Id="rId10" Type="http://schemas.openxmlformats.org/officeDocument/2006/relationships/image" Target="../media/image3.pct"/><Relationship Id="rId11" Type="http://schemas.openxmlformats.org/officeDocument/2006/relationships/image" Target="../media/image4.pct"/><Relationship Id="rId12" Type="http://schemas.openxmlformats.org/officeDocument/2006/relationships/image" Target="../media/image5.pct"/><Relationship Id="rId13" Type="http://schemas.openxmlformats.org/officeDocument/2006/relationships/image" Target="../media/image4.pct"/><Relationship Id="rId14" Type="http://schemas.openxmlformats.org/officeDocument/2006/relationships/image" Target="../media/image5.pct"/><Relationship Id="rId15" Type="http://schemas.openxmlformats.org/officeDocument/2006/relationships/image" Target="../media/image4.pct"/><Relationship Id="rId16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image" Target="../media/image1.pct"/><Relationship Id="rId4" Type="http://schemas.openxmlformats.org/officeDocument/2006/relationships/image" Target="../media/image2.pct"/><Relationship Id="rId5" Type="http://schemas.openxmlformats.org/officeDocument/2006/relationships/image" Target="../media/image1.pct"/><Relationship Id="rId6" Type="http://schemas.openxmlformats.org/officeDocument/2006/relationships/image" Target="../media/image1.pct"/><Relationship Id="rId7" Type="http://schemas.openxmlformats.org/officeDocument/2006/relationships/image" Target="../media/image1.pct"/><Relationship Id="rId8" Type="http://schemas.openxmlformats.org/officeDocument/2006/relationships/image" Target="../media/image1.pct"/><Relationship Id="rId9" Type="http://schemas.openxmlformats.org/officeDocument/2006/relationships/image" Target="../media/image3.pct"/><Relationship Id="rId10" Type="http://schemas.openxmlformats.org/officeDocument/2006/relationships/image" Target="../media/image3.pct"/><Relationship Id="rId11" Type="http://schemas.openxmlformats.org/officeDocument/2006/relationships/image" Target="../media/image4.pct"/><Relationship Id="rId12" Type="http://schemas.openxmlformats.org/officeDocument/2006/relationships/image" Target="../media/image5.pct"/><Relationship Id="rId13" Type="http://schemas.openxmlformats.org/officeDocument/2006/relationships/image" Target="../media/image4.pct"/><Relationship Id="rId14" Type="http://schemas.openxmlformats.org/officeDocument/2006/relationships/image" Target="../media/image5.pct"/><Relationship Id="rId15" Type="http://schemas.openxmlformats.org/officeDocument/2006/relationships/image" Target="../media/image4.pct"/><Relationship Id="rId16" Type="http://schemas.openxmlformats.org/officeDocument/2006/relationships/image" Target="../media/image1.pct"/><Relationship Id="rId17" Type="http://schemas.openxmlformats.org/officeDocument/2006/relationships/image" Target="../media/image4.pct"/><Relationship Id="rId18" Type="http://schemas.openxmlformats.org/officeDocument/2006/relationships/image" Target="../media/image5.pct"/><Relationship Id="rId19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1.pct"/><Relationship Id="rId3" Type="http://schemas.openxmlformats.org/officeDocument/2006/relationships/image" Target="../media/image1.pct"/><Relationship Id="rId4" Type="http://schemas.openxmlformats.org/officeDocument/2006/relationships/image" Target="../media/image1.pct"/><Relationship Id="rId5" Type="http://schemas.openxmlformats.org/officeDocument/2006/relationships/image" Target="../media/image1.pct"/><Relationship Id="rId6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image" Target="../media/image1.pct"/><Relationship Id="rId4" Type="http://schemas.openxmlformats.org/officeDocument/2006/relationships/image" Target="../media/image2.pct"/><Relationship Id="rId5" Type="http://schemas.openxmlformats.org/officeDocument/2006/relationships/image" Target="../media/image1.pct"/><Relationship Id="rId6" Type="http://schemas.openxmlformats.org/officeDocument/2006/relationships/image" Target="../media/image1.pct"/><Relationship Id="rId7" Type="http://schemas.openxmlformats.org/officeDocument/2006/relationships/image" Target="../media/image1.pct"/><Relationship Id="rId8" Type="http://schemas.openxmlformats.org/officeDocument/2006/relationships/image" Target="../media/image1.pct"/><Relationship Id="rId9" Type="http://schemas.openxmlformats.org/officeDocument/2006/relationships/image" Target="../media/image3.pct"/><Relationship Id="rId10" Type="http://schemas.openxmlformats.org/officeDocument/2006/relationships/image" Target="../media/image3.pct"/><Relationship Id="rId11" Type="http://schemas.openxmlformats.org/officeDocument/2006/relationships/image" Target="../media/image4.pct"/><Relationship Id="rId12" Type="http://schemas.openxmlformats.org/officeDocument/2006/relationships/image" Target="../media/image5.pct"/><Relationship Id="rId13" Type="http://schemas.openxmlformats.org/officeDocument/2006/relationships/image" Target="../media/image4.pct"/><Relationship Id="rId14" Type="http://schemas.openxmlformats.org/officeDocument/2006/relationships/image" Target="../media/image5.pct"/><Relationship Id="rId15" Type="http://schemas.openxmlformats.org/officeDocument/2006/relationships/image" Target="../media/image4.pct"/><Relationship Id="rId16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image" Target="../media/image1.pct"/><Relationship Id="rId4" Type="http://schemas.openxmlformats.org/officeDocument/2006/relationships/image" Target="../media/image2.pct"/><Relationship Id="rId5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1.pct"/><Relationship Id="rId3" Type="http://schemas.openxmlformats.org/officeDocument/2006/relationships/image" Target="../media/image1.pct"/><Relationship Id="rId4" Type="http://schemas.openxmlformats.org/officeDocument/2006/relationships/image" Target="../media/image1.pct"/><Relationship Id="rId5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4.pct"/><Relationship Id="rId4" Type="http://schemas.openxmlformats.org/officeDocument/2006/relationships/image" Target="../media/image5.pct"/><Relationship Id="rId5" Type="http://schemas.openxmlformats.org/officeDocument/2006/relationships/image" Target="../media/image4.pct"/><Relationship Id="rId6" Type="http://schemas.openxmlformats.org/officeDocument/2006/relationships/image" Target="../media/image4.pct"/><Relationship Id="rId7" Type="http://schemas.openxmlformats.org/officeDocument/2006/relationships/image" Target="../media/image5.pct"/><Relationship Id="rId8" Type="http://schemas.openxmlformats.org/officeDocument/2006/relationships/image" Target="../media/image4.pct"/><Relationship Id="rId9" Type="http://schemas.openxmlformats.org/officeDocument/2006/relationships/image" Target="../media/image5.pct"/><Relationship Id="rId10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4.pct"/><Relationship Id="rId4" Type="http://schemas.openxmlformats.org/officeDocument/2006/relationships/image" Target="../media/image5.pct"/><Relationship Id="rId5" Type="http://schemas.openxmlformats.org/officeDocument/2006/relationships/image" Target="../media/image4.pct"/><Relationship Id="rId6" Type="http://schemas.openxmlformats.org/officeDocument/2006/relationships/oleObject" Target="../embeddings/oleObject1.bin"/><Relationship Id="rId7" Type="http://schemas.openxmlformats.org/officeDocument/2006/relationships/image" Target="../media/image1.pct"/><Relationship Id="rId8" Type="http://schemas.openxmlformats.org/officeDocument/2006/relationships/oleObject" Target="../embeddings/oleObject2.bin"/><Relationship Id="rId9" Type="http://schemas.openxmlformats.org/officeDocument/2006/relationships/image" Target="../media/image1.pct"/><Relationship Id="rId10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.pct"/><Relationship Id="rId3" Type="http://schemas.openxmlformats.org/officeDocument/2006/relationships/image" Target="../media/image1.pct"/><Relationship Id="rId4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image" Target="../media/image1.pct"/><Relationship Id="rId4" Type="http://schemas.openxmlformats.org/officeDocument/2006/relationships/image" Target="../media/image2.pct"/><Relationship Id="rId5" Type="http://schemas.openxmlformats.org/officeDocument/2006/relationships/slideLayout" Target="../slideLayouts/slideLayout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image" Target="../media/image1.pct"/><Relationship Id="rId4" Type="http://schemas.openxmlformats.org/officeDocument/2006/relationships/image" Target="../media/image2.pct"/><Relationship Id="rId5" Type="http://schemas.openxmlformats.org/officeDocument/2006/relationships/slideLayout" Target="../slideLayouts/slideLayout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4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Internet and Stuff:The Basic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is the Internet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does it consist of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in terminology and ling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undamental Concep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-using some slides from Kurose and Ross boo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EA1A-8E62-4FE3-AB39-7D240F26463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Secondary Internet Principle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ult-tolerance to component failur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pport multiple types of servic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operate with different technolog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low distributed manage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e cost effective (ie sharing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e easily extendib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ources and entities must be accountable (for security purpose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5B77-B84E-4AA3-ACC8-B5812A724FE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Internet Architecture Characteristic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calability to millions of us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eless routing: Routers cannot keep detailed info per connec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est-effort service: no guarante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centralized contro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lf-configur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B18C-809B-476B-92E6-4CCAA28407F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Organization of air travel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838080" y="5489640"/>
            <a:ext cx="7772400" cy="5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series of step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1111320" y="1587600"/>
            <a:ext cx="6508800" cy="3295800"/>
            <a:chOff x="1111320" y="1587600"/>
            <a:chExt cx="6508800" cy="3295800"/>
          </a:xfrm>
        </p:grpSpPr>
        <p:sp>
          <p:nvSpPr>
            <p:cNvPr id="376" name=""/>
            <p:cNvSpPr/>
            <p:nvPr/>
          </p:nvSpPr>
          <p:spPr>
            <a:xfrm>
              <a:off x="1378080" y="1598760"/>
              <a:ext cx="2154240" cy="28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ticket (purchas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baggage (check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gates (load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runway takeof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irplane rou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153760" y="1589040"/>
              <a:ext cx="2149560" cy="28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ticket (complain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baggage (claim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gates (unload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runway land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irplane rou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254400" y="4484520"/>
              <a:ext cx="21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irplane rou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111320" y="1587600"/>
              <a:ext cx="6508800" cy="3289320"/>
            </a:xfrm>
            <a:custGeom>
              <a:avLst/>
              <a:gdLst/>
              <a:ahLst/>
              <a:rect l="l" t="t" r="r" b="b"/>
              <a:pathLst>
                <a:path w="4100" h="2072">
                  <a:moveTo>
                    <a:pt x="0" y="0"/>
                  </a:moveTo>
                  <a:lnTo>
                    <a:pt x="4" y="1736"/>
                  </a:lnTo>
                  <a:lnTo>
                    <a:pt x="804" y="2064"/>
                  </a:lnTo>
                  <a:lnTo>
                    <a:pt x="3468" y="2072"/>
                  </a:lnTo>
                  <a:lnTo>
                    <a:pt x="4100" y="1736"/>
                  </a:lnTo>
                  <a:lnTo>
                    <a:pt x="4100" y="96"/>
                  </a:lnTo>
                </a:path>
              </a:pathLst>
            </a:custGeom>
            <a:noFill/>
            <a:ln w="381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90C0-F5B9-4206-948B-3584027A068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1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Organization of air travel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Comic Sans MS"/>
              </a:rPr>
              <a:t>: a different view</a:t>
            </a:r>
            <a:endParaRPr b="0" lang="en-US" sz="24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14440" y="5006880"/>
            <a:ext cx="7772400" cy="5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7000"/>
          </a:bodyPr>
          <a:p>
            <a:pPr marL="160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Layers: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ach layer implements a servi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49200" indent="-1342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ia its own internal-layer ac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49200" indent="-1342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lying on services provided by layer below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1231920" y="1468440"/>
            <a:ext cx="6083280" cy="3359160"/>
            <a:chOff x="1231920" y="1468440"/>
            <a:chExt cx="6083280" cy="3359160"/>
          </a:xfrm>
        </p:grpSpPr>
        <p:sp>
          <p:nvSpPr>
            <p:cNvPr id="383" name=""/>
            <p:cNvSpPr/>
            <p:nvPr/>
          </p:nvSpPr>
          <p:spPr>
            <a:xfrm>
              <a:off x="1378080" y="1584000"/>
              <a:ext cx="2154240" cy="242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ticket (purchas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baggage (check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gates (load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runway takeof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irplane rou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53760" y="1574640"/>
              <a:ext cx="2149560" cy="242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ticket (complain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baggage (claim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gates (unload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runway land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irplane rou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254400" y="4428720"/>
              <a:ext cx="21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irplane rou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270080" y="1468440"/>
              <a:ext cx="6045120" cy="53316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270080" y="2064960"/>
              <a:ext cx="6045120" cy="53316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257480" y="2712960"/>
              <a:ext cx="6045120" cy="53280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257480" y="3322440"/>
              <a:ext cx="6045120" cy="53316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231920" y="3944880"/>
              <a:ext cx="6045120" cy="86292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49C1-ABE9-439F-B2EC-586B3F4BBE6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6578640" y="1714680"/>
            <a:ext cx="1892160" cy="3530520"/>
          </a:xfrm>
          <a:prstGeom prst="rect">
            <a:avLst/>
          </a:prstGeom>
          <a:solidFill>
            <a:srgbClr val="3333cc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Internet protocol stack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71320" y="1422360"/>
            <a:ext cx="5715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pplication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supporting network applica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tp, smtp, htt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transport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host-host data transf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cp, ud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network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routing of datagrams from source to destin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p, routing protocol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link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data transfer between neighboring  network eleme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pp, etherne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physical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bits “on the wire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6508800" y="1828800"/>
            <a:ext cx="1898640" cy="3530520"/>
            <a:chOff x="6508800" y="1828800"/>
            <a:chExt cx="1898640" cy="3530520"/>
          </a:xfrm>
        </p:grpSpPr>
        <p:sp>
          <p:nvSpPr>
            <p:cNvPr id="395" name=""/>
            <p:cNvSpPr/>
            <p:nvPr/>
          </p:nvSpPr>
          <p:spPr>
            <a:xfrm>
              <a:off x="6515280" y="1828800"/>
              <a:ext cx="1892160" cy="35305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723360" y="1982880"/>
              <a:ext cx="1501920" cy="28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ppl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transpo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li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508800" y="2520720"/>
              <a:ext cx="188604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508800" y="3225600"/>
              <a:ext cx="188604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508800" y="3936960"/>
              <a:ext cx="188604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508800" y="4648320"/>
              <a:ext cx="188604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75D0-70C1-49C6-A4E9-713627FD442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6578640" y="1714680"/>
            <a:ext cx="1892160" cy="3530520"/>
          </a:xfrm>
          <a:prstGeom prst="rect">
            <a:avLst/>
          </a:prstGeom>
          <a:solidFill>
            <a:srgbClr val="3333cc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Roles of Layer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71320" y="1422360"/>
            <a:ext cx="5715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pplication: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pport applic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TTP, ftp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transport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end-to-end issue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CP, UD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network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pick the route (delays, Qo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SPF, BGP, PI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link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given a link transfer a pack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thernet, PP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physical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bits “on the wire”, ie. Voltage modul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6508800" y="1828800"/>
            <a:ext cx="1898640" cy="3530520"/>
            <a:chOff x="6508800" y="1828800"/>
            <a:chExt cx="1898640" cy="3530520"/>
          </a:xfrm>
        </p:grpSpPr>
        <p:sp>
          <p:nvSpPr>
            <p:cNvPr id="405" name=""/>
            <p:cNvSpPr/>
            <p:nvPr/>
          </p:nvSpPr>
          <p:spPr>
            <a:xfrm>
              <a:off x="6515280" y="1828800"/>
              <a:ext cx="1892160" cy="35305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723360" y="1982880"/>
              <a:ext cx="1501920" cy="28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ppl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transpo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li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508800" y="2520720"/>
              <a:ext cx="188604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08800" y="3225600"/>
              <a:ext cx="188604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08800" y="3936960"/>
              <a:ext cx="188604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508800" y="4648320"/>
              <a:ext cx="188604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4BA7-87A9-41CB-BC49-4C381779717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Types of Communication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ircuit Switching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reserve a slice of resource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requency division multiplex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ime division multiplex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cket switching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irtual Circuits: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outers keep per connection inf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atagrams: no per conn. Inform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nection oriented (state at end points, handshake - TCP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nectionless (no state at end points - UDP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5EDD-14CE-4DCA-91ED-43B70D4FDAD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Types of Communication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vantage of packet switching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source shar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need for reserv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sier to implement distributedl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vantage of circuit switching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 guarantee performance (Quality of Servic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6A43-3CD4-493B-918A-D584DB48077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Basic Routing Concept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cket = postal let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uter receives packe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eds to decide which link to send it t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calabality: decide on local inform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uters keep “summary” of inform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ploit the hierarchy in the IP addre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0318-56D0-4361-9A68-69767ECBCD6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IP Addresse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Pv4 addresses have 32 bits: 4 octets of bi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28.32.101.5 is an IP address (32 bit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 IP prefix is a group of  IP address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28.32.0.0/16 is a prefix of the first 16 bi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128.32.0.0 – 128.32.255.255      (2^16 addresse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28.32.4.0/24 is a longer prefix 24 bi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outing: find the longest match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P prefix in table that matches most bits of the addres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CCB9-999D-4348-BF28-ACA83B10590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The Internet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network of network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ierarchical structu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ultiple possible leve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wo official leve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ra-domain: within an Autonomous System (A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er-domain: between Autonomous System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S: autonomously administered part of the Intern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Ses  are identified by their AS numb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6C2D-1841-4988-83E9-C65E891452B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A Closer Look at a Router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D979-D920-4C95-A5C1-5ADBAFB5ECB3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12F6-4A1A-4F6A-B163-F3EE097843D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The network edge: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4495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nd systems (hosts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un application program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.g., WWW, emai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t “edge of network”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lient/server mod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ient host requests, receives service from serv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.g., WWW client (browser)/ server; email client/serv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eer-peer model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ost interaction symmetri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.g.: Gnutella, KaZa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"/>
          <p:cNvSpPr/>
          <p:nvPr/>
        </p:nvSpPr>
        <p:spPr>
          <a:xfrm>
            <a:off x="6769080" y="2200320"/>
            <a:ext cx="1798560" cy="1674720"/>
          </a:xfrm>
          <a:custGeom>
            <a:avLst/>
            <a:gdLst/>
            <a:ahLst/>
            <a:rect l="l" t="t" r="r" b="b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889520" y="2057400"/>
            <a:ext cx="1866960" cy="1589040"/>
          </a:xfrm>
          <a:custGeom>
            <a:avLst/>
            <a:gdLst/>
            <a:ahLst/>
            <a:rect l="l" t="t" r="r" b="b"/>
            <a:pathLst>
              <a:path w="1340" h="1191">
                <a:moveTo>
                  <a:pt x="550" y="42"/>
                </a:moveTo>
                <a:cubicBezTo>
                  <a:pt x="437" y="4"/>
                  <a:pt x="164" y="0"/>
                  <a:pt x="82" y="60"/>
                </a:cubicBezTo>
                <a:cubicBezTo>
                  <a:pt x="0" y="120"/>
                  <a:pt x="67" y="292"/>
                  <a:pt x="58" y="402"/>
                </a:cubicBezTo>
                <a:cubicBezTo>
                  <a:pt x="49" y="512"/>
                  <a:pt x="19" y="642"/>
                  <a:pt x="28" y="720"/>
                </a:cubicBezTo>
                <a:cubicBezTo>
                  <a:pt x="37" y="798"/>
                  <a:pt x="27" y="844"/>
                  <a:pt x="112" y="870"/>
                </a:cubicBezTo>
                <a:cubicBezTo>
                  <a:pt x="197" y="896"/>
                  <a:pt x="450" y="833"/>
                  <a:pt x="538" y="876"/>
                </a:cubicBezTo>
                <a:cubicBezTo>
                  <a:pt x="626" y="919"/>
                  <a:pt x="524" y="1091"/>
                  <a:pt x="640" y="1128"/>
                </a:cubicBezTo>
                <a:cubicBezTo>
                  <a:pt x="756" y="1165"/>
                  <a:pt x="1128" y="1191"/>
                  <a:pt x="1234" y="1098"/>
                </a:cubicBezTo>
                <a:cubicBezTo>
                  <a:pt x="1340" y="1005"/>
                  <a:pt x="1281" y="696"/>
                  <a:pt x="1276" y="570"/>
                </a:cubicBezTo>
                <a:cubicBezTo>
                  <a:pt x="1271" y="444"/>
                  <a:pt x="1290" y="389"/>
                  <a:pt x="1204" y="342"/>
                </a:cubicBezTo>
                <a:cubicBezTo>
                  <a:pt x="1118" y="295"/>
                  <a:pt x="868" y="338"/>
                  <a:pt x="760" y="288"/>
                </a:cubicBezTo>
                <a:cubicBezTo>
                  <a:pt x="652" y="238"/>
                  <a:pt x="663" y="80"/>
                  <a:pt x="550" y="42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257800" y="3508200"/>
            <a:ext cx="2975040" cy="2219400"/>
          </a:xfrm>
          <a:custGeom>
            <a:avLst/>
            <a:gdLst/>
            <a:ahLst/>
            <a:rect l="l" t="t" r="r" b="b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4316400" y="1785960"/>
            <a:ext cx="1100160" cy="874800"/>
            <a:chOff x="4316400" y="1785960"/>
            <a:chExt cx="1100160" cy="874800"/>
          </a:xfrm>
        </p:grpSpPr>
        <p:sp>
          <p:nvSpPr>
            <p:cNvPr id="429" name=""/>
            <p:cNvSpPr/>
            <p:nvPr/>
          </p:nvSpPr>
          <p:spPr>
            <a:xfrm>
              <a:off x="4316400" y="1785960"/>
              <a:ext cx="1100160" cy="874800"/>
            </a:xfrm>
            <a:custGeom>
              <a:avLst/>
              <a:gdLst/>
              <a:ahLst/>
              <a:rect l="l" t="t" r="r" b="b"/>
              <a:pathLst>
                <a:path w="693" h="551">
                  <a:moveTo>
                    <a:pt x="77" y="63"/>
                  </a:moveTo>
                  <a:cubicBezTo>
                    <a:pt x="31" y="105"/>
                    <a:pt x="42" y="191"/>
                    <a:pt x="35" y="255"/>
                  </a:cubicBezTo>
                  <a:cubicBezTo>
                    <a:pt x="28" y="319"/>
                    <a:pt x="0" y="404"/>
                    <a:pt x="35" y="447"/>
                  </a:cubicBezTo>
                  <a:cubicBezTo>
                    <a:pt x="70" y="490"/>
                    <a:pt x="179" y="497"/>
                    <a:pt x="245" y="513"/>
                  </a:cubicBezTo>
                  <a:cubicBezTo>
                    <a:pt x="311" y="529"/>
                    <a:pt x="364" y="551"/>
                    <a:pt x="431" y="543"/>
                  </a:cubicBezTo>
                  <a:cubicBezTo>
                    <a:pt x="498" y="535"/>
                    <a:pt x="604" y="505"/>
                    <a:pt x="647" y="465"/>
                  </a:cubicBezTo>
                  <a:cubicBezTo>
                    <a:pt x="690" y="425"/>
                    <a:pt x="685" y="363"/>
                    <a:pt x="689" y="303"/>
                  </a:cubicBezTo>
                  <a:cubicBezTo>
                    <a:pt x="693" y="243"/>
                    <a:pt x="683" y="149"/>
                    <a:pt x="671" y="105"/>
                  </a:cubicBezTo>
                  <a:cubicBezTo>
                    <a:pt x="659" y="61"/>
                    <a:pt x="677" y="56"/>
                    <a:pt x="617" y="39"/>
                  </a:cubicBezTo>
                  <a:cubicBezTo>
                    <a:pt x="557" y="22"/>
                    <a:pt x="401" y="0"/>
                    <a:pt x="311" y="3"/>
                  </a:cubicBezTo>
                  <a:cubicBezTo>
                    <a:pt x="221" y="6"/>
                    <a:pt x="123" y="21"/>
                    <a:pt x="77" y="63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30" name="" descr=""/>
            <p:cNvPicPr/>
            <p:nvPr/>
          </p:nvPicPr>
          <p:blipFill>
            <a:blip r:embed="rId1"/>
            <a:stretch/>
          </p:blipFill>
          <p:spPr>
            <a:xfrm>
              <a:off x="4397400" y="1863720"/>
              <a:ext cx="930240" cy="714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31" name="" descr=""/>
          <p:cNvPicPr/>
          <p:nvPr/>
        </p:nvPicPr>
        <p:blipFill>
          <a:blip r:embed="rId2"/>
          <a:stretch/>
        </p:blipFill>
        <p:spPr>
          <a:xfrm>
            <a:off x="5460840" y="2311560"/>
            <a:ext cx="279720" cy="18396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/>
          <p:nvPr/>
        </p:nvSpPr>
        <p:spPr>
          <a:xfrm flipV="1">
            <a:off x="5413320" y="2433240"/>
            <a:ext cx="11448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5006880" y="2787480"/>
            <a:ext cx="733680" cy="319320"/>
            <a:chOff x="5006880" y="2787480"/>
            <a:chExt cx="733680" cy="319320"/>
          </a:xfrm>
        </p:grpSpPr>
        <p:pic>
          <p:nvPicPr>
            <p:cNvPr id="434" name="" descr=""/>
            <p:cNvPicPr/>
            <p:nvPr/>
          </p:nvPicPr>
          <p:blipFill>
            <a:blip r:embed="rId3"/>
            <a:stretch/>
          </p:blipFill>
          <p:spPr>
            <a:xfrm>
              <a:off x="5006880" y="2787480"/>
              <a:ext cx="416160" cy="3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5" name="" descr=""/>
            <p:cNvPicPr/>
            <p:nvPr/>
          </p:nvPicPr>
          <p:blipFill>
            <a:blip r:embed="rId4"/>
            <a:stretch/>
          </p:blipFill>
          <p:spPr>
            <a:xfrm>
              <a:off x="5460840" y="2905560"/>
              <a:ext cx="279720" cy="18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 flipV="1">
              <a:off x="5413320" y="3029040"/>
              <a:ext cx="11412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83080" y="2575080"/>
            <a:ext cx="69480" cy="214200"/>
            <a:chOff x="5383080" y="2575080"/>
            <a:chExt cx="69480" cy="214200"/>
          </a:xfrm>
        </p:grpSpPr>
        <p:sp>
          <p:nvSpPr>
            <p:cNvPr id="438" name=""/>
            <p:cNvSpPr/>
            <p:nvPr/>
          </p:nvSpPr>
          <p:spPr>
            <a:xfrm>
              <a:off x="5383080" y="2575080"/>
              <a:ext cx="64080" cy="601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85600" y="2652120"/>
              <a:ext cx="64080" cy="601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88480" y="2729160"/>
              <a:ext cx="64080" cy="601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5853240" y="3078000"/>
            <a:ext cx="209520" cy="394920"/>
            <a:chOff x="5853240" y="3078000"/>
            <a:chExt cx="209520" cy="394920"/>
          </a:xfrm>
        </p:grpSpPr>
        <p:sp>
          <p:nvSpPr>
            <p:cNvPr id="442" name=""/>
            <p:cNvSpPr/>
            <p:nvPr/>
          </p:nvSpPr>
          <p:spPr>
            <a:xfrm>
              <a:off x="5853240" y="338184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959440" y="3080520"/>
              <a:ext cx="96120" cy="3034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854320" y="3166560"/>
              <a:ext cx="132480" cy="303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853240" y="307800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062760" y="308412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5986800" y="3381840"/>
              <a:ext cx="7524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871240" y="3206520"/>
              <a:ext cx="87840" cy="174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883840" y="3259440"/>
              <a:ext cx="66600" cy="6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6089760" y="3231720"/>
            <a:ext cx="233280" cy="81000"/>
            <a:chOff x="6089760" y="3231720"/>
            <a:chExt cx="233280" cy="81000"/>
          </a:xfrm>
        </p:grpSpPr>
        <p:sp>
          <p:nvSpPr>
            <p:cNvPr id="451" name=""/>
            <p:cNvSpPr/>
            <p:nvPr/>
          </p:nvSpPr>
          <p:spPr>
            <a:xfrm rot="16200000">
              <a:off x="6085080" y="3242520"/>
              <a:ext cx="74520" cy="65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rot="16200000">
              <a:off x="6168960" y="3239280"/>
              <a:ext cx="74520" cy="65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rot="16200000">
              <a:off x="6252840" y="3236040"/>
              <a:ext cx="74520" cy="65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"/>
          <p:cNvSpPr/>
          <p:nvPr/>
        </p:nvSpPr>
        <p:spPr>
          <a:xfrm>
            <a:off x="5989680" y="2986200"/>
            <a:ext cx="4953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992920" y="2982960"/>
            <a:ext cx="1440" cy="9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488280" y="2981160"/>
            <a:ext cx="1440" cy="82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689440" y="2446200"/>
            <a:ext cx="289080" cy="265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5702400" y="2731680"/>
            <a:ext cx="276120" cy="33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6229440" y="2817720"/>
            <a:ext cx="1440" cy="16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6348240" y="3056040"/>
            <a:ext cx="209880" cy="394920"/>
            <a:chOff x="6348240" y="3056040"/>
            <a:chExt cx="209880" cy="394920"/>
          </a:xfrm>
        </p:grpSpPr>
        <p:sp>
          <p:nvSpPr>
            <p:cNvPr id="461" name=""/>
            <p:cNvSpPr/>
            <p:nvPr/>
          </p:nvSpPr>
          <p:spPr>
            <a:xfrm>
              <a:off x="6348240" y="3359880"/>
              <a:ext cx="209880" cy="91080"/>
            </a:xfrm>
            <a:prstGeom prst="parallelogram">
              <a:avLst>
                <a:gd name="adj" fmla="val 8877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454440" y="3058560"/>
              <a:ext cx="96480" cy="3034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349320" y="3144600"/>
              <a:ext cx="132840" cy="303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348240" y="3056040"/>
              <a:ext cx="209880" cy="91080"/>
            </a:xfrm>
            <a:prstGeom prst="parallelogram">
              <a:avLst>
                <a:gd name="adj" fmla="val 88770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558120" y="306216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6482160" y="3359880"/>
              <a:ext cx="7524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366240" y="3184560"/>
              <a:ext cx="88200" cy="174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378840" y="3237480"/>
              <a:ext cx="66960" cy="6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5391000" y="3675240"/>
            <a:ext cx="479160" cy="924840"/>
            <a:chOff x="5391000" y="3675240"/>
            <a:chExt cx="479160" cy="924840"/>
          </a:xfrm>
        </p:grpSpPr>
        <p:pic>
          <p:nvPicPr>
            <p:cNvPr id="470" name="" descr=""/>
            <p:cNvPicPr/>
            <p:nvPr/>
          </p:nvPicPr>
          <p:blipFill>
            <a:blip r:embed="rId5"/>
            <a:stretch/>
          </p:blipFill>
          <p:spPr>
            <a:xfrm>
              <a:off x="5391000" y="3675240"/>
              <a:ext cx="416520" cy="3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1" name=""/>
            <p:cNvSpPr/>
            <p:nvPr/>
          </p:nvSpPr>
          <p:spPr>
            <a:xfrm flipV="1">
              <a:off x="5797800" y="3921840"/>
              <a:ext cx="7236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2" name="" descr=""/>
            <p:cNvPicPr/>
            <p:nvPr/>
          </p:nvPicPr>
          <p:blipFill>
            <a:blip r:embed="rId6"/>
            <a:stretch/>
          </p:blipFill>
          <p:spPr>
            <a:xfrm>
              <a:off x="5391000" y="4269600"/>
              <a:ext cx="416520" cy="3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3" name=""/>
            <p:cNvSpPr/>
            <p:nvPr/>
          </p:nvSpPr>
          <p:spPr>
            <a:xfrm flipV="1">
              <a:off x="5797800" y="4519800"/>
              <a:ext cx="7236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4" name=""/>
            <p:cNvGrpSpPr/>
            <p:nvPr/>
          </p:nvGrpSpPr>
          <p:grpSpPr>
            <a:xfrm>
              <a:off x="5516280" y="4016160"/>
              <a:ext cx="70560" cy="222120"/>
              <a:chOff x="5516280" y="4016160"/>
              <a:chExt cx="70560" cy="222120"/>
            </a:xfrm>
          </p:grpSpPr>
          <p:sp>
            <p:nvSpPr>
              <p:cNvPr id="475" name=""/>
              <p:cNvSpPr/>
              <p:nvPr/>
            </p:nvSpPr>
            <p:spPr>
              <a:xfrm>
                <a:off x="5516280" y="4016160"/>
                <a:ext cx="65160" cy="6264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518800" y="4096080"/>
                <a:ext cx="65160" cy="6228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521680" y="4176000"/>
                <a:ext cx="65160" cy="6228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8" name=""/>
            <p:cNvSpPr/>
            <p:nvPr/>
          </p:nvSpPr>
          <p:spPr>
            <a:xfrm>
              <a:off x="5864760" y="3918960"/>
              <a:ext cx="0" cy="59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9" name="" descr=""/>
          <p:cNvPicPr/>
          <p:nvPr/>
        </p:nvPicPr>
        <p:blipFill>
          <a:blip r:embed="rId7"/>
          <a:stretch/>
        </p:blipFill>
        <p:spPr>
          <a:xfrm>
            <a:off x="6259680" y="4684680"/>
            <a:ext cx="417240" cy="331920"/>
          </a:xfrm>
          <a:prstGeom prst="rect">
            <a:avLst/>
          </a:prstGeom>
          <a:ln w="0">
            <a:noFill/>
          </a:ln>
        </p:spPr>
      </p:pic>
      <p:pic>
        <p:nvPicPr>
          <p:cNvPr id="480" name="" descr=""/>
          <p:cNvPicPr/>
          <p:nvPr/>
        </p:nvPicPr>
        <p:blipFill>
          <a:blip r:embed="rId8"/>
          <a:stretch/>
        </p:blipFill>
        <p:spPr>
          <a:xfrm>
            <a:off x="5645160" y="4673520"/>
            <a:ext cx="415800" cy="330120"/>
          </a:xfrm>
          <a:prstGeom prst="rect">
            <a:avLst/>
          </a:prstGeom>
          <a:ln w="0">
            <a:noFill/>
          </a:ln>
        </p:spPr>
      </p:pic>
      <p:sp>
        <p:nvSpPr>
          <p:cNvPr id="481" name=""/>
          <p:cNvSpPr/>
          <p:nvPr/>
        </p:nvSpPr>
        <p:spPr>
          <a:xfrm rot="16200000">
            <a:off x="6061680" y="4777200"/>
            <a:ext cx="63720" cy="651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rot="16200000">
            <a:off x="6146640" y="4775040"/>
            <a:ext cx="63360" cy="66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rot="16200000">
            <a:off x="6224400" y="4779720"/>
            <a:ext cx="61920" cy="651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6513480" y="4630680"/>
            <a:ext cx="1800" cy="60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5889600" y="4619160"/>
            <a:ext cx="0" cy="63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5891040" y="4626000"/>
            <a:ext cx="62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5870520" y="4250880"/>
            <a:ext cx="9360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472080" y="4297320"/>
            <a:ext cx="303480" cy="38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7267680" y="4294080"/>
            <a:ext cx="279360" cy="39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9"/>
          <a:stretch/>
        </p:blipFill>
        <p:spPr>
          <a:xfrm>
            <a:off x="7445520" y="3846600"/>
            <a:ext cx="203040" cy="241200"/>
          </a:xfrm>
          <a:prstGeom prst="rect">
            <a:avLst/>
          </a:prstGeom>
          <a:ln w="0">
            <a:noFill/>
          </a:ln>
        </p:spPr>
      </p:pic>
      <p:pic>
        <p:nvPicPr>
          <p:cNvPr id="491" name="" descr=""/>
          <p:cNvPicPr/>
          <p:nvPr/>
        </p:nvPicPr>
        <p:blipFill>
          <a:blip r:embed="rId10"/>
          <a:stretch/>
        </p:blipFill>
        <p:spPr>
          <a:xfrm>
            <a:off x="6108840" y="3927600"/>
            <a:ext cx="203040" cy="23976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/>
          <p:nvPr/>
        </p:nvSpPr>
        <p:spPr>
          <a:xfrm>
            <a:off x="6189840" y="3701880"/>
            <a:ext cx="1353960" cy="304920"/>
          </a:xfrm>
          <a:custGeom>
            <a:avLst/>
            <a:gdLst/>
            <a:ahLst/>
            <a:rect l="l" t="t" r="r" b="b"/>
            <a:pathLst>
              <a:path w="972" h="228">
                <a:moveTo>
                  <a:pt x="0" y="228"/>
                </a:moveTo>
                <a:cubicBezTo>
                  <a:pt x="135" y="123"/>
                  <a:pt x="270" y="18"/>
                  <a:pt x="432" y="9"/>
                </a:cubicBezTo>
                <a:cubicBezTo>
                  <a:pt x="594" y="0"/>
                  <a:pt x="783" y="85"/>
                  <a:pt x="972" y="171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6456240" y="5124600"/>
            <a:ext cx="406080" cy="426960"/>
            <a:chOff x="6456240" y="5124600"/>
            <a:chExt cx="406080" cy="426960"/>
          </a:xfrm>
        </p:grpSpPr>
        <p:pic>
          <p:nvPicPr>
            <p:cNvPr id="494" name="" descr=""/>
            <p:cNvPicPr/>
            <p:nvPr/>
          </p:nvPicPr>
          <p:blipFill>
            <a:blip r:embed="rId11"/>
            <a:stretch/>
          </p:blipFill>
          <p:spPr>
            <a:xfrm>
              <a:off x="6456240" y="5124600"/>
              <a:ext cx="378360" cy="3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5" name="" descr=""/>
            <p:cNvPicPr/>
            <p:nvPr/>
          </p:nvPicPr>
          <p:blipFill>
            <a:blip r:embed="rId12"/>
            <a:stretch/>
          </p:blipFill>
          <p:spPr>
            <a:xfrm>
              <a:off x="6516000" y="5236560"/>
              <a:ext cx="346320" cy="31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6" name=""/>
          <p:cNvGrpSpPr/>
          <p:nvPr/>
        </p:nvGrpSpPr>
        <p:grpSpPr>
          <a:xfrm>
            <a:off x="7234200" y="5156280"/>
            <a:ext cx="406080" cy="426960"/>
            <a:chOff x="7234200" y="5156280"/>
            <a:chExt cx="406080" cy="426960"/>
          </a:xfrm>
        </p:grpSpPr>
        <p:pic>
          <p:nvPicPr>
            <p:cNvPr id="497" name="" descr=""/>
            <p:cNvPicPr/>
            <p:nvPr/>
          </p:nvPicPr>
          <p:blipFill>
            <a:blip r:embed="rId13"/>
            <a:stretch/>
          </p:blipFill>
          <p:spPr>
            <a:xfrm>
              <a:off x="7234200" y="5156280"/>
              <a:ext cx="378360" cy="3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8" name="" descr=""/>
            <p:cNvPicPr/>
            <p:nvPr/>
          </p:nvPicPr>
          <p:blipFill>
            <a:blip r:embed="rId14"/>
            <a:stretch/>
          </p:blipFill>
          <p:spPr>
            <a:xfrm>
              <a:off x="7293960" y="5268240"/>
              <a:ext cx="346320" cy="31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9" name=""/>
          <p:cNvGrpSpPr/>
          <p:nvPr/>
        </p:nvGrpSpPr>
        <p:grpSpPr>
          <a:xfrm>
            <a:off x="6819840" y="4871880"/>
            <a:ext cx="379440" cy="376560"/>
            <a:chOff x="6819840" y="4871880"/>
            <a:chExt cx="379440" cy="376560"/>
          </a:xfrm>
        </p:grpSpPr>
        <p:pic>
          <p:nvPicPr>
            <p:cNvPr id="500" name="" descr=""/>
            <p:cNvPicPr/>
            <p:nvPr/>
          </p:nvPicPr>
          <p:blipFill>
            <a:blip r:embed="rId15"/>
            <a:stretch/>
          </p:blipFill>
          <p:spPr>
            <a:xfrm>
              <a:off x="6819840" y="4871880"/>
              <a:ext cx="379440" cy="3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1" name=""/>
            <p:cNvSpPr/>
            <p:nvPr/>
          </p:nvSpPr>
          <p:spPr>
            <a:xfrm>
              <a:off x="6930000" y="5004000"/>
              <a:ext cx="267480" cy="244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2" name=""/>
          <p:cNvSpPr/>
          <p:nvPr/>
        </p:nvSpPr>
        <p:spPr>
          <a:xfrm>
            <a:off x="7126200" y="4775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7846920" y="4199040"/>
            <a:ext cx="208080" cy="408960"/>
            <a:chOff x="7846920" y="4199040"/>
            <a:chExt cx="208080" cy="408960"/>
          </a:xfrm>
        </p:grpSpPr>
        <p:sp>
          <p:nvSpPr>
            <p:cNvPr id="504" name=""/>
            <p:cNvSpPr/>
            <p:nvPr/>
          </p:nvSpPr>
          <p:spPr>
            <a:xfrm>
              <a:off x="7846920" y="4513680"/>
              <a:ext cx="208080" cy="94320"/>
            </a:xfrm>
            <a:prstGeom prst="parallelogram">
              <a:avLst>
                <a:gd name="adj" fmla="val 84986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952040" y="4201560"/>
              <a:ext cx="95400" cy="3142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848000" y="4290840"/>
              <a:ext cx="131760" cy="314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846920" y="4199040"/>
              <a:ext cx="208080" cy="94320"/>
            </a:xfrm>
            <a:prstGeom prst="parallelogram">
              <a:avLst>
                <a:gd name="adj" fmla="val 84986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8055000" y="4205520"/>
              <a:ext cx="0" cy="30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>
              <a:off x="7979760" y="4513680"/>
              <a:ext cx="7488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864560" y="4332240"/>
              <a:ext cx="87480" cy="1810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877160" y="4386960"/>
              <a:ext cx="6624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7808760" y="4653000"/>
            <a:ext cx="797040" cy="1260360"/>
            <a:chOff x="7808760" y="4653000"/>
            <a:chExt cx="797040" cy="1260360"/>
          </a:xfrm>
        </p:grpSpPr>
        <p:sp>
          <p:nvSpPr>
            <p:cNvPr id="513" name=""/>
            <p:cNvSpPr/>
            <p:nvPr/>
          </p:nvSpPr>
          <p:spPr>
            <a:xfrm>
              <a:off x="7808760" y="4653000"/>
              <a:ext cx="797040" cy="1260360"/>
            </a:xfrm>
            <a:custGeom>
              <a:avLst/>
              <a:gdLst/>
              <a:ahLst/>
              <a:rect l="l" t="t" r="r" b="b"/>
              <a:pathLst>
                <a:path w="502" h="794">
                  <a:moveTo>
                    <a:pt x="289" y="9"/>
                  </a:moveTo>
                  <a:cubicBezTo>
                    <a:pt x="232" y="0"/>
                    <a:pt x="171" y="0"/>
                    <a:pt x="127" y="33"/>
                  </a:cubicBezTo>
                  <a:cubicBezTo>
                    <a:pt x="83" y="66"/>
                    <a:pt x="44" y="109"/>
                    <a:pt x="25" y="207"/>
                  </a:cubicBezTo>
                  <a:cubicBezTo>
                    <a:pt x="6" y="305"/>
                    <a:pt x="0" y="527"/>
                    <a:pt x="13" y="621"/>
                  </a:cubicBezTo>
                  <a:cubicBezTo>
                    <a:pt x="26" y="715"/>
                    <a:pt x="60" y="748"/>
                    <a:pt x="103" y="771"/>
                  </a:cubicBezTo>
                  <a:cubicBezTo>
                    <a:pt x="146" y="794"/>
                    <a:pt x="218" y="765"/>
                    <a:pt x="271" y="759"/>
                  </a:cubicBezTo>
                  <a:cubicBezTo>
                    <a:pt x="324" y="753"/>
                    <a:pt x="388" y="765"/>
                    <a:pt x="421" y="735"/>
                  </a:cubicBezTo>
                  <a:cubicBezTo>
                    <a:pt x="454" y="705"/>
                    <a:pt x="458" y="623"/>
                    <a:pt x="469" y="579"/>
                  </a:cubicBezTo>
                  <a:cubicBezTo>
                    <a:pt x="480" y="535"/>
                    <a:pt x="487" y="553"/>
                    <a:pt x="487" y="471"/>
                  </a:cubicBezTo>
                  <a:cubicBezTo>
                    <a:pt x="487" y="389"/>
                    <a:pt x="502" y="164"/>
                    <a:pt x="469" y="87"/>
                  </a:cubicBezTo>
                  <a:cubicBezTo>
                    <a:pt x="436" y="10"/>
                    <a:pt x="346" y="18"/>
                    <a:pt x="289" y="9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4" name=""/>
            <p:cNvGrpSpPr/>
            <p:nvPr/>
          </p:nvGrpSpPr>
          <p:grpSpPr>
            <a:xfrm>
              <a:off x="7920000" y="4748400"/>
              <a:ext cx="550800" cy="1038240"/>
              <a:chOff x="7920000" y="4748400"/>
              <a:chExt cx="550800" cy="1038240"/>
            </a:xfrm>
          </p:grpSpPr>
          <p:sp>
            <p:nvSpPr>
              <p:cNvPr id="515" name=""/>
              <p:cNvSpPr/>
              <p:nvPr/>
            </p:nvSpPr>
            <p:spPr>
              <a:xfrm>
                <a:off x="7920000" y="5547240"/>
                <a:ext cx="550800" cy="239400"/>
              </a:xfrm>
              <a:prstGeom prst="parallelogram">
                <a:avLst>
                  <a:gd name="adj" fmla="val 88632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199360" y="4754880"/>
                <a:ext cx="262080" cy="7984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7923240" y="4982040"/>
                <a:ext cx="349200" cy="79848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7920000" y="4748400"/>
                <a:ext cx="550800" cy="239760"/>
              </a:xfrm>
              <a:prstGeom prst="parallelogram">
                <a:avLst>
                  <a:gd name="adj" fmla="val 88499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470800" y="4766040"/>
                <a:ext cx="0" cy="781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flipH="1">
                <a:off x="8272080" y="5547240"/>
                <a:ext cx="198360" cy="23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7967520" y="5086800"/>
                <a:ext cx="231840" cy="4604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8001000" y="5224680"/>
                <a:ext cx="176040" cy="163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3" name=""/>
          <p:cNvSpPr/>
          <p:nvPr/>
        </p:nvSpPr>
        <p:spPr>
          <a:xfrm flipV="1">
            <a:off x="7765920" y="4267080"/>
            <a:ext cx="0" cy="61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763040" y="4876920"/>
            <a:ext cx="102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7759800" y="440064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6483240" y="2496960"/>
            <a:ext cx="459000" cy="20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418520" y="2481120"/>
            <a:ext cx="485640" cy="20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H="1">
            <a:off x="7937640" y="2817720"/>
            <a:ext cx="241200" cy="68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7167600" y="259380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192800" y="3241800"/>
            <a:ext cx="53532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H="1">
            <a:off x="7652880" y="3706920"/>
            <a:ext cx="26676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H="1">
            <a:off x="7426440" y="2786040"/>
            <a:ext cx="560160" cy="38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H="1">
            <a:off x="7435440" y="2225520"/>
            <a:ext cx="351000" cy="255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H="1">
            <a:off x="8153280" y="2401920"/>
            <a:ext cx="201600" cy="176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5964120" y="2593800"/>
            <a:ext cx="501840" cy="233280"/>
            <a:chOff x="5964120" y="2593800"/>
            <a:chExt cx="501840" cy="233280"/>
          </a:xfrm>
        </p:grpSpPr>
        <p:sp>
          <p:nvSpPr>
            <p:cNvPr id="536" name=""/>
            <p:cNvSpPr/>
            <p:nvPr/>
          </p:nvSpPr>
          <p:spPr>
            <a:xfrm>
              <a:off x="5968080" y="2697840"/>
              <a:ext cx="497520" cy="1292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968080" y="268704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465960" y="268704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968080" y="2687040"/>
              <a:ext cx="4932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964120" y="2593800"/>
              <a:ext cx="49716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1" name=""/>
            <p:cNvGrpSpPr/>
            <p:nvPr/>
          </p:nvGrpSpPr>
          <p:grpSpPr>
            <a:xfrm>
              <a:off x="6083640" y="2626560"/>
              <a:ext cx="246240" cy="88560"/>
              <a:chOff x="6083640" y="2626560"/>
              <a:chExt cx="246240" cy="88560"/>
            </a:xfrm>
          </p:grpSpPr>
          <p:sp>
            <p:nvSpPr>
              <p:cNvPr id="542" name=""/>
              <p:cNvSpPr/>
              <p:nvPr/>
            </p:nvSpPr>
            <p:spPr>
              <a:xfrm flipV="1">
                <a:off x="6083640" y="26265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6252480" y="27151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6164640" y="262872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5" name=""/>
            <p:cNvGrpSpPr/>
            <p:nvPr/>
          </p:nvGrpSpPr>
          <p:grpSpPr>
            <a:xfrm>
              <a:off x="6083640" y="2625480"/>
              <a:ext cx="246240" cy="88560"/>
              <a:chOff x="6083640" y="2625480"/>
              <a:chExt cx="246240" cy="88560"/>
            </a:xfrm>
          </p:grpSpPr>
          <p:sp>
            <p:nvSpPr>
              <p:cNvPr id="546" name=""/>
              <p:cNvSpPr/>
              <p:nvPr/>
            </p:nvSpPr>
            <p:spPr>
              <a:xfrm>
                <a:off x="6083640" y="27122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6252480" y="26254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V="1">
                <a:off x="6164640" y="262548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9" name=""/>
          <p:cNvGrpSpPr/>
          <p:nvPr/>
        </p:nvGrpSpPr>
        <p:grpSpPr>
          <a:xfrm>
            <a:off x="6916680" y="2365200"/>
            <a:ext cx="501840" cy="233280"/>
            <a:chOff x="6916680" y="2365200"/>
            <a:chExt cx="501840" cy="233280"/>
          </a:xfrm>
        </p:grpSpPr>
        <p:sp>
          <p:nvSpPr>
            <p:cNvPr id="550" name=""/>
            <p:cNvSpPr/>
            <p:nvPr/>
          </p:nvSpPr>
          <p:spPr>
            <a:xfrm>
              <a:off x="6920640" y="2469240"/>
              <a:ext cx="497520" cy="1292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920640" y="245844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418520" y="245844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920640" y="2458440"/>
              <a:ext cx="4932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916680" y="2365200"/>
              <a:ext cx="49716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5" name=""/>
            <p:cNvGrpSpPr/>
            <p:nvPr/>
          </p:nvGrpSpPr>
          <p:grpSpPr>
            <a:xfrm>
              <a:off x="7036200" y="2397960"/>
              <a:ext cx="246240" cy="88560"/>
              <a:chOff x="7036200" y="2397960"/>
              <a:chExt cx="246240" cy="88560"/>
            </a:xfrm>
          </p:grpSpPr>
          <p:sp>
            <p:nvSpPr>
              <p:cNvPr id="556" name=""/>
              <p:cNvSpPr/>
              <p:nvPr/>
            </p:nvSpPr>
            <p:spPr>
              <a:xfrm flipV="1">
                <a:off x="7036200" y="23979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7205040" y="24865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7117200" y="240012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9" name=""/>
            <p:cNvGrpSpPr/>
            <p:nvPr/>
          </p:nvGrpSpPr>
          <p:grpSpPr>
            <a:xfrm>
              <a:off x="7036200" y="2396880"/>
              <a:ext cx="246240" cy="88560"/>
              <a:chOff x="7036200" y="2396880"/>
              <a:chExt cx="246240" cy="88560"/>
            </a:xfrm>
          </p:grpSpPr>
          <p:sp>
            <p:nvSpPr>
              <p:cNvPr id="560" name=""/>
              <p:cNvSpPr/>
              <p:nvPr/>
            </p:nvSpPr>
            <p:spPr>
              <a:xfrm>
                <a:off x="7036200" y="24836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7205040" y="23968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flipV="1">
                <a:off x="7117200" y="239688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63" name=""/>
          <p:cNvGrpSpPr/>
          <p:nvPr/>
        </p:nvGrpSpPr>
        <p:grpSpPr>
          <a:xfrm>
            <a:off x="6934320" y="3022560"/>
            <a:ext cx="501480" cy="232920"/>
            <a:chOff x="6934320" y="3022560"/>
            <a:chExt cx="501480" cy="232920"/>
          </a:xfrm>
        </p:grpSpPr>
        <p:sp>
          <p:nvSpPr>
            <p:cNvPr id="564" name=""/>
            <p:cNvSpPr/>
            <p:nvPr/>
          </p:nvSpPr>
          <p:spPr>
            <a:xfrm>
              <a:off x="6938280" y="3126600"/>
              <a:ext cx="49716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938280" y="31154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435800" y="31154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938280" y="3115440"/>
              <a:ext cx="49284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934320" y="302256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9" name=""/>
            <p:cNvGrpSpPr/>
            <p:nvPr/>
          </p:nvGrpSpPr>
          <p:grpSpPr>
            <a:xfrm>
              <a:off x="7053840" y="3055320"/>
              <a:ext cx="246240" cy="88200"/>
              <a:chOff x="7053840" y="3055320"/>
              <a:chExt cx="246240" cy="88200"/>
            </a:xfrm>
          </p:grpSpPr>
          <p:sp>
            <p:nvSpPr>
              <p:cNvPr id="570" name=""/>
              <p:cNvSpPr/>
              <p:nvPr/>
            </p:nvSpPr>
            <p:spPr>
              <a:xfrm flipV="1">
                <a:off x="7053840" y="30553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7222680" y="31435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7134840" y="305748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3" name=""/>
            <p:cNvGrpSpPr/>
            <p:nvPr/>
          </p:nvGrpSpPr>
          <p:grpSpPr>
            <a:xfrm>
              <a:off x="7053840" y="3054600"/>
              <a:ext cx="246240" cy="88200"/>
              <a:chOff x="7053840" y="3054600"/>
              <a:chExt cx="246240" cy="88200"/>
            </a:xfrm>
          </p:grpSpPr>
          <p:sp>
            <p:nvSpPr>
              <p:cNvPr id="574" name=""/>
              <p:cNvSpPr/>
              <p:nvPr/>
            </p:nvSpPr>
            <p:spPr>
              <a:xfrm>
                <a:off x="7053840" y="31410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7222680" y="30546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flipV="1">
                <a:off x="7134840" y="30546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77" name=""/>
          <p:cNvGrpSpPr/>
          <p:nvPr/>
        </p:nvGrpSpPr>
        <p:grpSpPr>
          <a:xfrm>
            <a:off x="7904160" y="2573280"/>
            <a:ext cx="500040" cy="232920"/>
            <a:chOff x="7904160" y="2573280"/>
            <a:chExt cx="500040" cy="232920"/>
          </a:xfrm>
        </p:grpSpPr>
        <p:sp>
          <p:nvSpPr>
            <p:cNvPr id="578" name=""/>
            <p:cNvSpPr/>
            <p:nvPr/>
          </p:nvSpPr>
          <p:spPr>
            <a:xfrm>
              <a:off x="7908120" y="2677320"/>
              <a:ext cx="4957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908120" y="26661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8404200" y="26661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908120" y="2666160"/>
              <a:ext cx="4914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904160" y="2573280"/>
              <a:ext cx="4953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3" name=""/>
            <p:cNvGrpSpPr/>
            <p:nvPr/>
          </p:nvGrpSpPr>
          <p:grpSpPr>
            <a:xfrm>
              <a:off x="8023320" y="2606040"/>
              <a:ext cx="245520" cy="88200"/>
              <a:chOff x="8023320" y="2606040"/>
              <a:chExt cx="245520" cy="88200"/>
            </a:xfrm>
          </p:grpSpPr>
          <p:sp>
            <p:nvSpPr>
              <p:cNvPr id="584" name=""/>
              <p:cNvSpPr/>
              <p:nvPr/>
            </p:nvSpPr>
            <p:spPr>
              <a:xfrm flipV="1">
                <a:off x="8023320" y="260604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191800" y="269424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103960" y="260820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7" name=""/>
            <p:cNvGrpSpPr/>
            <p:nvPr/>
          </p:nvGrpSpPr>
          <p:grpSpPr>
            <a:xfrm>
              <a:off x="8023320" y="2605320"/>
              <a:ext cx="245520" cy="88200"/>
              <a:chOff x="8023320" y="2605320"/>
              <a:chExt cx="245520" cy="88200"/>
            </a:xfrm>
          </p:grpSpPr>
          <p:sp>
            <p:nvSpPr>
              <p:cNvPr id="588" name=""/>
              <p:cNvSpPr/>
              <p:nvPr/>
            </p:nvSpPr>
            <p:spPr>
              <a:xfrm>
                <a:off x="8023320" y="269172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8191800" y="260532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flipV="1">
                <a:off x="8103960" y="260532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1" name=""/>
          <p:cNvGrpSpPr/>
          <p:nvPr/>
        </p:nvGrpSpPr>
        <p:grpSpPr>
          <a:xfrm>
            <a:off x="7710480" y="3470400"/>
            <a:ext cx="501480" cy="232920"/>
            <a:chOff x="7710480" y="3470400"/>
            <a:chExt cx="501480" cy="232920"/>
          </a:xfrm>
        </p:grpSpPr>
        <p:sp>
          <p:nvSpPr>
            <p:cNvPr id="592" name=""/>
            <p:cNvSpPr/>
            <p:nvPr/>
          </p:nvSpPr>
          <p:spPr>
            <a:xfrm>
              <a:off x="7714440" y="3574440"/>
              <a:ext cx="49716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714440" y="35632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8211960" y="35632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714440" y="3563280"/>
              <a:ext cx="49284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710480" y="347040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7" name=""/>
            <p:cNvGrpSpPr/>
            <p:nvPr/>
          </p:nvGrpSpPr>
          <p:grpSpPr>
            <a:xfrm>
              <a:off x="7830000" y="3503160"/>
              <a:ext cx="246240" cy="88200"/>
              <a:chOff x="7830000" y="3503160"/>
              <a:chExt cx="246240" cy="88200"/>
            </a:xfrm>
          </p:grpSpPr>
          <p:sp>
            <p:nvSpPr>
              <p:cNvPr id="598" name=""/>
              <p:cNvSpPr/>
              <p:nvPr/>
            </p:nvSpPr>
            <p:spPr>
              <a:xfrm flipV="1">
                <a:off x="7830000" y="35031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998840" y="35913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7911000" y="35053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1" name=""/>
            <p:cNvGrpSpPr/>
            <p:nvPr/>
          </p:nvGrpSpPr>
          <p:grpSpPr>
            <a:xfrm>
              <a:off x="7830000" y="3502440"/>
              <a:ext cx="246240" cy="88200"/>
              <a:chOff x="7830000" y="3502440"/>
              <a:chExt cx="246240" cy="88200"/>
            </a:xfrm>
          </p:grpSpPr>
          <p:sp>
            <p:nvSpPr>
              <p:cNvPr id="602" name=""/>
              <p:cNvSpPr/>
              <p:nvPr/>
            </p:nvSpPr>
            <p:spPr>
              <a:xfrm>
                <a:off x="7830000" y="35888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7998840" y="35024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V="1">
                <a:off x="7911000" y="35024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5" name=""/>
          <p:cNvGrpSpPr/>
          <p:nvPr/>
        </p:nvGrpSpPr>
        <p:grpSpPr>
          <a:xfrm>
            <a:off x="7377120" y="4054320"/>
            <a:ext cx="501480" cy="234720"/>
            <a:chOff x="7377120" y="4054320"/>
            <a:chExt cx="501480" cy="234720"/>
          </a:xfrm>
        </p:grpSpPr>
        <p:sp>
          <p:nvSpPr>
            <p:cNvPr id="606" name=""/>
            <p:cNvSpPr/>
            <p:nvPr/>
          </p:nvSpPr>
          <p:spPr>
            <a:xfrm>
              <a:off x="7381080" y="4159080"/>
              <a:ext cx="497160" cy="1299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381080" y="414792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878600" y="414792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381080" y="4147920"/>
              <a:ext cx="492840" cy="79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377120" y="4054320"/>
              <a:ext cx="496800" cy="1515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1" name=""/>
            <p:cNvGrpSpPr/>
            <p:nvPr/>
          </p:nvGrpSpPr>
          <p:grpSpPr>
            <a:xfrm>
              <a:off x="7496640" y="4087440"/>
              <a:ext cx="246240" cy="88920"/>
              <a:chOff x="7496640" y="4087440"/>
              <a:chExt cx="246240" cy="88920"/>
            </a:xfrm>
          </p:grpSpPr>
          <p:sp>
            <p:nvSpPr>
              <p:cNvPr id="612" name=""/>
              <p:cNvSpPr/>
              <p:nvPr/>
            </p:nvSpPr>
            <p:spPr>
              <a:xfrm flipV="1">
                <a:off x="7496640" y="40874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7665480" y="41763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577640" y="408960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5" name=""/>
            <p:cNvGrpSpPr/>
            <p:nvPr/>
          </p:nvGrpSpPr>
          <p:grpSpPr>
            <a:xfrm>
              <a:off x="7496640" y="4086360"/>
              <a:ext cx="246240" cy="88920"/>
              <a:chOff x="7496640" y="4086360"/>
              <a:chExt cx="246240" cy="88920"/>
            </a:xfrm>
          </p:grpSpPr>
          <p:sp>
            <p:nvSpPr>
              <p:cNvPr id="616" name=""/>
              <p:cNvSpPr/>
              <p:nvPr/>
            </p:nvSpPr>
            <p:spPr>
              <a:xfrm>
                <a:off x="7496640" y="41734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7665480" y="40863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V="1">
                <a:off x="7577640" y="408636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9" name=""/>
          <p:cNvGrpSpPr/>
          <p:nvPr/>
        </p:nvGrpSpPr>
        <p:grpSpPr>
          <a:xfrm>
            <a:off x="6767640" y="4543560"/>
            <a:ext cx="500040" cy="232920"/>
            <a:chOff x="6767640" y="4543560"/>
            <a:chExt cx="500040" cy="232920"/>
          </a:xfrm>
        </p:grpSpPr>
        <p:sp>
          <p:nvSpPr>
            <p:cNvPr id="620" name=""/>
            <p:cNvSpPr/>
            <p:nvPr/>
          </p:nvSpPr>
          <p:spPr>
            <a:xfrm>
              <a:off x="6771600" y="4647600"/>
              <a:ext cx="4957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771600" y="46364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267680" y="46364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771600" y="4636440"/>
              <a:ext cx="4914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767640" y="4543560"/>
              <a:ext cx="4953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5" name=""/>
            <p:cNvGrpSpPr/>
            <p:nvPr/>
          </p:nvGrpSpPr>
          <p:grpSpPr>
            <a:xfrm>
              <a:off x="6886800" y="4576320"/>
              <a:ext cx="245520" cy="88200"/>
              <a:chOff x="6886800" y="4576320"/>
              <a:chExt cx="245520" cy="88200"/>
            </a:xfrm>
          </p:grpSpPr>
          <p:sp>
            <p:nvSpPr>
              <p:cNvPr id="626" name=""/>
              <p:cNvSpPr/>
              <p:nvPr/>
            </p:nvSpPr>
            <p:spPr>
              <a:xfrm flipV="1">
                <a:off x="6886800" y="457632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7055280" y="466452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967440" y="457848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9" name=""/>
            <p:cNvGrpSpPr/>
            <p:nvPr/>
          </p:nvGrpSpPr>
          <p:grpSpPr>
            <a:xfrm>
              <a:off x="6886800" y="4575600"/>
              <a:ext cx="245520" cy="88200"/>
              <a:chOff x="6886800" y="4575600"/>
              <a:chExt cx="245520" cy="88200"/>
            </a:xfrm>
          </p:grpSpPr>
          <p:sp>
            <p:nvSpPr>
              <p:cNvPr id="630" name=""/>
              <p:cNvSpPr/>
              <p:nvPr/>
            </p:nvSpPr>
            <p:spPr>
              <a:xfrm>
                <a:off x="6886800" y="466200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7055280" y="457560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V="1">
                <a:off x="6967440" y="457560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33" name=""/>
          <p:cNvGrpSpPr/>
          <p:nvPr/>
        </p:nvGrpSpPr>
        <p:grpSpPr>
          <a:xfrm>
            <a:off x="5964120" y="4167360"/>
            <a:ext cx="501840" cy="232920"/>
            <a:chOff x="5964120" y="4167360"/>
            <a:chExt cx="501840" cy="232920"/>
          </a:xfrm>
        </p:grpSpPr>
        <p:sp>
          <p:nvSpPr>
            <p:cNvPr id="634" name=""/>
            <p:cNvSpPr/>
            <p:nvPr/>
          </p:nvSpPr>
          <p:spPr>
            <a:xfrm>
              <a:off x="5968080" y="4271400"/>
              <a:ext cx="4975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968080" y="42602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465960" y="42602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968080" y="4260240"/>
              <a:ext cx="4932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964120" y="4167360"/>
              <a:ext cx="4971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9" name=""/>
            <p:cNvGrpSpPr/>
            <p:nvPr/>
          </p:nvGrpSpPr>
          <p:grpSpPr>
            <a:xfrm>
              <a:off x="6083640" y="4200120"/>
              <a:ext cx="246240" cy="88200"/>
              <a:chOff x="6083640" y="4200120"/>
              <a:chExt cx="246240" cy="88200"/>
            </a:xfrm>
          </p:grpSpPr>
          <p:sp>
            <p:nvSpPr>
              <p:cNvPr id="640" name=""/>
              <p:cNvSpPr/>
              <p:nvPr/>
            </p:nvSpPr>
            <p:spPr>
              <a:xfrm flipV="1">
                <a:off x="6083640" y="42001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6252480" y="42883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164640" y="420228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3" name=""/>
            <p:cNvGrpSpPr/>
            <p:nvPr/>
          </p:nvGrpSpPr>
          <p:grpSpPr>
            <a:xfrm>
              <a:off x="6083640" y="4199400"/>
              <a:ext cx="246240" cy="88200"/>
              <a:chOff x="6083640" y="4199400"/>
              <a:chExt cx="246240" cy="88200"/>
            </a:xfrm>
          </p:grpSpPr>
          <p:sp>
            <p:nvSpPr>
              <p:cNvPr id="644" name=""/>
              <p:cNvSpPr/>
              <p:nvPr/>
            </p:nvSpPr>
            <p:spPr>
              <a:xfrm>
                <a:off x="6083640" y="42858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252480" y="41994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flipV="1">
                <a:off x="6164640" y="41994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47" name=""/>
          <p:cNvSpPr/>
          <p:nvPr/>
        </p:nvSpPr>
        <p:spPr>
          <a:xfrm>
            <a:off x="5391000" y="2266920"/>
            <a:ext cx="2724480" cy="2448000"/>
          </a:xfrm>
          <a:custGeom>
            <a:avLst/>
            <a:gdLst/>
            <a:ahLst/>
            <a:rect l="l" t="t" r="r" b="b"/>
            <a:pathLst>
              <a:path w="1716" h="1542">
                <a:moveTo>
                  <a:pt x="0" y="0"/>
                </a:moveTo>
                <a:cubicBezTo>
                  <a:pt x="62" y="7"/>
                  <a:pt x="230" y="4"/>
                  <a:pt x="372" y="42"/>
                </a:cubicBezTo>
                <a:cubicBezTo>
                  <a:pt x="514" y="80"/>
                  <a:pt x="672" y="114"/>
                  <a:pt x="852" y="228"/>
                </a:cubicBezTo>
                <a:cubicBezTo>
                  <a:pt x="1032" y="342"/>
                  <a:pt x="1308" y="507"/>
                  <a:pt x="1452" y="726"/>
                </a:cubicBezTo>
                <a:cubicBezTo>
                  <a:pt x="1596" y="945"/>
                  <a:pt x="1661" y="1372"/>
                  <a:pt x="1716" y="1542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V="1">
            <a:off x="6210360" y="4398480"/>
            <a:ext cx="1440" cy="22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42C8-ADD0-4214-BC09-B3941D8B603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Network edge: connection-oriented service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Goal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data transfer between end sy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handshaking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setup (prepare for) data transfer ahead of tim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ello, hello back human protoco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Comic Sans MS"/>
              </a:rPr>
              <a:t>set up “state”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in two communicating hos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CP - Transmission Control Protocol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ternet’s connection-oriented servic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191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TCP service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[RFC 793]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reliable, in-ord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byte-stream data transf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ss: acknowledgements and retransmission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flow control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nder won’t overwhelm receiv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congestion control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nders “slow down sending rate” when network congest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7840-C3F0-40D4-822D-2C861D7E8B1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Network edge: connectionless service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38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Goal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data transfer between end system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ame as before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UDP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- User Datagram Protocol [RFC 768]: Internet’s connectionless servi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reliable data transf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 flow contro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 congestion contro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5028840" y="1600200"/>
            <a:ext cx="3886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App’s using TCP: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TTP (WWW), FTP (file transfer), Telnet (remote login), SMTP (email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App’s using UDP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reaming media, teleconferencing, Internet telephon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7F9C-842F-4EA7-B588-7E096921E1E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The Network Cor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4190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sh of interconnected rout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the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fundamental question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how is data transferred through ne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ircuit switching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edicated circuit per call: telephone 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acket-switching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ata sent thru net in discrete “chunks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7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769080" y="2193840"/>
            <a:ext cx="1798560" cy="1674720"/>
          </a:xfrm>
          <a:custGeom>
            <a:avLst/>
            <a:gdLst/>
            <a:ahLst/>
            <a:rect l="l" t="t" r="r" b="b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889520" y="2050920"/>
            <a:ext cx="1866960" cy="1589040"/>
          </a:xfrm>
          <a:custGeom>
            <a:avLst/>
            <a:gdLst/>
            <a:ahLst/>
            <a:rect l="l" t="t" r="r" b="b"/>
            <a:pathLst>
              <a:path w="1340" h="1191">
                <a:moveTo>
                  <a:pt x="550" y="42"/>
                </a:moveTo>
                <a:cubicBezTo>
                  <a:pt x="437" y="4"/>
                  <a:pt x="164" y="0"/>
                  <a:pt x="82" y="60"/>
                </a:cubicBezTo>
                <a:cubicBezTo>
                  <a:pt x="0" y="120"/>
                  <a:pt x="67" y="292"/>
                  <a:pt x="58" y="402"/>
                </a:cubicBezTo>
                <a:cubicBezTo>
                  <a:pt x="49" y="512"/>
                  <a:pt x="19" y="642"/>
                  <a:pt x="28" y="720"/>
                </a:cubicBezTo>
                <a:cubicBezTo>
                  <a:pt x="37" y="798"/>
                  <a:pt x="27" y="844"/>
                  <a:pt x="112" y="870"/>
                </a:cubicBezTo>
                <a:cubicBezTo>
                  <a:pt x="197" y="896"/>
                  <a:pt x="450" y="833"/>
                  <a:pt x="538" y="876"/>
                </a:cubicBezTo>
                <a:cubicBezTo>
                  <a:pt x="626" y="919"/>
                  <a:pt x="524" y="1091"/>
                  <a:pt x="640" y="1128"/>
                </a:cubicBezTo>
                <a:cubicBezTo>
                  <a:pt x="756" y="1165"/>
                  <a:pt x="1128" y="1191"/>
                  <a:pt x="1234" y="1098"/>
                </a:cubicBezTo>
                <a:cubicBezTo>
                  <a:pt x="1340" y="1005"/>
                  <a:pt x="1281" y="696"/>
                  <a:pt x="1276" y="570"/>
                </a:cubicBezTo>
                <a:cubicBezTo>
                  <a:pt x="1271" y="444"/>
                  <a:pt x="1290" y="389"/>
                  <a:pt x="1204" y="342"/>
                </a:cubicBezTo>
                <a:cubicBezTo>
                  <a:pt x="1118" y="295"/>
                  <a:pt x="868" y="338"/>
                  <a:pt x="760" y="288"/>
                </a:cubicBezTo>
                <a:cubicBezTo>
                  <a:pt x="652" y="238"/>
                  <a:pt x="663" y="80"/>
                  <a:pt x="550" y="42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257800" y="3502080"/>
            <a:ext cx="2975040" cy="2219400"/>
          </a:xfrm>
          <a:custGeom>
            <a:avLst/>
            <a:gdLst/>
            <a:ahLst/>
            <a:rect l="l" t="t" r="r" b="b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2" name=""/>
          <p:cNvGrpSpPr/>
          <p:nvPr/>
        </p:nvGrpSpPr>
        <p:grpSpPr>
          <a:xfrm>
            <a:off x="5006880" y="2185920"/>
            <a:ext cx="733680" cy="319320"/>
            <a:chOff x="5006880" y="2185920"/>
            <a:chExt cx="733680" cy="319320"/>
          </a:xfrm>
        </p:grpSpPr>
        <p:pic>
          <p:nvPicPr>
            <p:cNvPr id="663" name="" descr=""/>
            <p:cNvPicPr/>
            <p:nvPr/>
          </p:nvPicPr>
          <p:blipFill>
            <a:blip r:embed="rId1"/>
            <a:stretch/>
          </p:blipFill>
          <p:spPr>
            <a:xfrm>
              <a:off x="5006880" y="2185920"/>
              <a:ext cx="416160" cy="3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4" name="" descr=""/>
            <p:cNvPicPr/>
            <p:nvPr/>
          </p:nvPicPr>
          <p:blipFill>
            <a:blip r:embed="rId2"/>
            <a:stretch/>
          </p:blipFill>
          <p:spPr>
            <a:xfrm>
              <a:off x="5460840" y="2304000"/>
              <a:ext cx="279720" cy="18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5" name=""/>
            <p:cNvSpPr/>
            <p:nvPr/>
          </p:nvSpPr>
          <p:spPr>
            <a:xfrm flipV="1">
              <a:off x="5413320" y="2427480"/>
              <a:ext cx="11412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6" name=""/>
          <p:cNvGrpSpPr/>
          <p:nvPr/>
        </p:nvGrpSpPr>
        <p:grpSpPr>
          <a:xfrm>
            <a:off x="5006880" y="2781360"/>
            <a:ext cx="733680" cy="318960"/>
            <a:chOff x="5006880" y="2781360"/>
            <a:chExt cx="733680" cy="318960"/>
          </a:xfrm>
        </p:grpSpPr>
        <p:pic>
          <p:nvPicPr>
            <p:cNvPr id="667" name="" descr=""/>
            <p:cNvPicPr/>
            <p:nvPr/>
          </p:nvPicPr>
          <p:blipFill>
            <a:blip r:embed="rId3"/>
            <a:stretch/>
          </p:blipFill>
          <p:spPr>
            <a:xfrm>
              <a:off x="5006880" y="2781360"/>
              <a:ext cx="416160" cy="3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" descr=""/>
            <p:cNvPicPr/>
            <p:nvPr/>
          </p:nvPicPr>
          <p:blipFill>
            <a:blip r:embed="rId4"/>
            <a:stretch/>
          </p:blipFill>
          <p:spPr>
            <a:xfrm>
              <a:off x="5460840" y="2899440"/>
              <a:ext cx="279720" cy="18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9" name=""/>
            <p:cNvSpPr/>
            <p:nvPr/>
          </p:nvSpPr>
          <p:spPr>
            <a:xfrm flipV="1">
              <a:off x="5413320" y="3022920"/>
              <a:ext cx="11412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0" name=""/>
          <p:cNvGrpSpPr/>
          <p:nvPr/>
        </p:nvGrpSpPr>
        <p:grpSpPr>
          <a:xfrm>
            <a:off x="5383080" y="2568600"/>
            <a:ext cx="69480" cy="214200"/>
            <a:chOff x="5383080" y="2568600"/>
            <a:chExt cx="69480" cy="214200"/>
          </a:xfrm>
        </p:grpSpPr>
        <p:sp>
          <p:nvSpPr>
            <p:cNvPr id="671" name=""/>
            <p:cNvSpPr/>
            <p:nvPr/>
          </p:nvSpPr>
          <p:spPr>
            <a:xfrm>
              <a:off x="5383080" y="2568600"/>
              <a:ext cx="64080" cy="601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385600" y="2645640"/>
              <a:ext cx="64080" cy="601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388480" y="2722680"/>
              <a:ext cx="64080" cy="601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4" name=""/>
          <p:cNvGrpSpPr/>
          <p:nvPr/>
        </p:nvGrpSpPr>
        <p:grpSpPr>
          <a:xfrm>
            <a:off x="5853240" y="3071880"/>
            <a:ext cx="209520" cy="394920"/>
            <a:chOff x="5853240" y="3071880"/>
            <a:chExt cx="209520" cy="394920"/>
          </a:xfrm>
        </p:grpSpPr>
        <p:sp>
          <p:nvSpPr>
            <p:cNvPr id="675" name=""/>
            <p:cNvSpPr/>
            <p:nvPr/>
          </p:nvSpPr>
          <p:spPr>
            <a:xfrm>
              <a:off x="5853240" y="337572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959440" y="3074400"/>
              <a:ext cx="96120" cy="3034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854320" y="3160440"/>
              <a:ext cx="132480" cy="303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853240" y="307188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062760" y="307800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>
              <a:off x="5986800" y="3375720"/>
              <a:ext cx="7524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871240" y="3200400"/>
              <a:ext cx="87840" cy="174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883840" y="3253320"/>
              <a:ext cx="66600" cy="6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6089760" y="3226320"/>
            <a:ext cx="233280" cy="80280"/>
            <a:chOff x="6089760" y="3226320"/>
            <a:chExt cx="233280" cy="80280"/>
          </a:xfrm>
        </p:grpSpPr>
        <p:sp>
          <p:nvSpPr>
            <p:cNvPr id="684" name=""/>
            <p:cNvSpPr/>
            <p:nvPr/>
          </p:nvSpPr>
          <p:spPr>
            <a:xfrm rot="16200000">
              <a:off x="6085440" y="3236760"/>
              <a:ext cx="74160" cy="65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16200000">
              <a:off x="6169320" y="3233880"/>
              <a:ext cx="74160" cy="65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rot="16200000">
              <a:off x="6253200" y="3230640"/>
              <a:ext cx="74160" cy="65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7" name=""/>
          <p:cNvSpPr/>
          <p:nvPr/>
        </p:nvSpPr>
        <p:spPr>
          <a:xfrm>
            <a:off x="5989680" y="2979720"/>
            <a:ext cx="4953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992920" y="2976480"/>
            <a:ext cx="1440" cy="9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488280" y="2975040"/>
            <a:ext cx="1440" cy="8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689440" y="2440080"/>
            <a:ext cx="289080" cy="264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V="1">
            <a:off x="5702400" y="2725560"/>
            <a:ext cx="276120" cy="330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V="1">
            <a:off x="6229440" y="2811600"/>
            <a:ext cx="1440" cy="16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6348240" y="3049560"/>
            <a:ext cx="209880" cy="394920"/>
            <a:chOff x="6348240" y="3049560"/>
            <a:chExt cx="209880" cy="394920"/>
          </a:xfrm>
        </p:grpSpPr>
        <p:sp>
          <p:nvSpPr>
            <p:cNvPr id="694" name=""/>
            <p:cNvSpPr/>
            <p:nvPr/>
          </p:nvSpPr>
          <p:spPr>
            <a:xfrm>
              <a:off x="6348240" y="3353400"/>
              <a:ext cx="209880" cy="91080"/>
            </a:xfrm>
            <a:prstGeom prst="parallelogram">
              <a:avLst>
                <a:gd name="adj" fmla="val 8877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454440" y="3052080"/>
              <a:ext cx="96480" cy="3034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349320" y="3138120"/>
              <a:ext cx="132840" cy="303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348240" y="3049560"/>
              <a:ext cx="209880" cy="91080"/>
            </a:xfrm>
            <a:prstGeom prst="parallelogram">
              <a:avLst>
                <a:gd name="adj" fmla="val 88770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558120" y="305568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H="1">
              <a:off x="6482160" y="3353400"/>
              <a:ext cx="7524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366240" y="3178080"/>
              <a:ext cx="88200" cy="174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6378840" y="3231000"/>
              <a:ext cx="66960" cy="6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5391000" y="3668760"/>
            <a:ext cx="479160" cy="925200"/>
            <a:chOff x="5391000" y="3668760"/>
            <a:chExt cx="479160" cy="925200"/>
          </a:xfrm>
        </p:grpSpPr>
        <p:pic>
          <p:nvPicPr>
            <p:cNvPr id="703" name="" descr=""/>
            <p:cNvPicPr/>
            <p:nvPr/>
          </p:nvPicPr>
          <p:blipFill>
            <a:blip r:embed="rId5"/>
            <a:stretch/>
          </p:blipFill>
          <p:spPr>
            <a:xfrm>
              <a:off x="5391000" y="3668760"/>
              <a:ext cx="416520" cy="3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"/>
            <p:cNvSpPr/>
            <p:nvPr/>
          </p:nvSpPr>
          <p:spPr>
            <a:xfrm flipV="1">
              <a:off x="5797800" y="3915360"/>
              <a:ext cx="7236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5" name="" descr=""/>
            <p:cNvPicPr/>
            <p:nvPr/>
          </p:nvPicPr>
          <p:blipFill>
            <a:blip r:embed="rId6"/>
            <a:stretch/>
          </p:blipFill>
          <p:spPr>
            <a:xfrm>
              <a:off x="5391000" y="4263480"/>
              <a:ext cx="416520" cy="3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6" name=""/>
            <p:cNvSpPr/>
            <p:nvPr/>
          </p:nvSpPr>
          <p:spPr>
            <a:xfrm flipV="1">
              <a:off x="5797800" y="4513680"/>
              <a:ext cx="7236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7" name=""/>
            <p:cNvGrpSpPr/>
            <p:nvPr/>
          </p:nvGrpSpPr>
          <p:grpSpPr>
            <a:xfrm>
              <a:off x="5516280" y="4010040"/>
              <a:ext cx="70560" cy="222480"/>
              <a:chOff x="5516280" y="4010040"/>
              <a:chExt cx="70560" cy="222480"/>
            </a:xfrm>
          </p:grpSpPr>
          <p:sp>
            <p:nvSpPr>
              <p:cNvPr id="708" name=""/>
              <p:cNvSpPr/>
              <p:nvPr/>
            </p:nvSpPr>
            <p:spPr>
              <a:xfrm>
                <a:off x="5516280" y="4010040"/>
                <a:ext cx="65160" cy="6264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5518800" y="4089960"/>
                <a:ext cx="65160" cy="6228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5521680" y="4170240"/>
                <a:ext cx="65160" cy="6228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1" name=""/>
            <p:cNvSpPr/>
            <p:nvPr/>
          </p:nvSpPr>
          <p:spPr>
            <a:xfrm>
              <a:off x="5864760" y="3912480"/>
              <a:ext cx="0" cy="60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12" name="" descr=""/>
          <p:cNvPicPr/>
          <p:nvPr/>
        </p:nvPicPr>
        <p:blipFill>
          <a:blip r:embed="rId7"/>
          <a:stretch/>
        </p:blipFill>
        <p:spPr>
          <a:xfrm>
            <a:off x="6259680" y="4678200"/>
            <a:ext cx="417240" cy="331920"/>
          </a:xfrm>
          <a:prstGeom prst="rect">
            <a:avLst/>
          </a:prstGeom>
          <a:ln w="0">
            <a:noFill/>
          </a:ln>
        </p:spPr>
      </p:pic>
      <p:pic>
        <p:nvPicPr>
          <p:cNvPr id="713" name="" descr=""/>
          <p:cNvPicPr/>
          <p:nvPr/>
        </p:nvPicPr>
        <p:blipFill>
          <a:blip r:embed="rId8"/>
          <a:stretch/>
        </p:blipFill>
        <p:spPr>
          <a:xfrm>
            <a:off x="5645160" y="4667400"/>
            <a:ext cx="415800" cy="33012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 rot="16200000">
            <a:off x="6061680" y="4771080"/>
            <a:ext cx="63360" cy="651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rot="16200000">
            <a:off x="6146640" y="4768560"/>
            <a:ext cx="63720" cy="66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rot="16200000">
            <a:off x="6224400" y="4773240"/>
            <a:ext cx="61920" cy="651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6513480" y="4624200"/>
            <a:ext cx="1800" cy="60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5889600" y="4613400"/>
            <a:ext cx="0" cy="63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H="1">
            <a:off x="5891040" y="4619520"/>
            <a:ext cx="62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V="1">
            <a:off x="5870520" y="4245120"/>
            <a:ext cx="9360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472080" y="4290840"/>
            <a:ext cx="303480" cy="385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H="1">
            <a:off x="7267680" y="4287960"/>
            <a:ext cx="279360" cy="392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3" name="" descr=""/>
          <p:cNvPicPr/>
          <p:nvPr/>
        </p:nvPicPr>
        <p:blipFill>
          <a:blip r:embed="rId9"/>
          <a:stretch/>
        </p:blipFill>
        <p:spPr>
          <a:xfrm>
            <a:off x="7445520" y="3840120"/>
            <a:ext cx="203040" cy="241200"/>
          </a:xfrm>
          <a:prstGeom prst="rect">
            <a:avLst/>
          </a:prstGeom>
          <a:ln w="0">
            <a:noFill/>
          </a:ln>
        </p:spPr>
      </p:pic>
      <p:pic>
        <p:nvPicPr>
          <p:cNvPr id="724" name="" descr=""/>
          <p:cNvPicPr/>
          <p:nvPr/>
        </p:nvPicPr>
        <p:blipFill>
          <a:blip r:embed="rId10"/>
          <a:stretch/>
        </p:blipFill>
        <p:spPr>
          <a:xfrm>
            <a:off x="6108840" y="3921120"/>
            <a:ext cx="203040" cy="239760"/>
          </a:xfrm>
          <a:prstGeom prst="rect">
            <a:avLst/>
          </a:prstGeom>
          <a:ln w="0">
            <a:noFill/>
          </a:ln>
        </p:spPr>
      </p:pic>
      <p:sp>
        <p:nvSpPr>
          <p:cNvPr id="725" name=""/>
          <p:cNvSpPr/>
          <p:nvPr/>
        </p:nvSpPr>
        <p:spPr>
          <a:xfrm>
            <a:off x="6189840" y="3695760"/>
            <a:ext cx="1353960" cy="304920"/>
          </a:xfrm>
          <a:custGeom>
            <a:avLst/>
            <a:gdLst/>
            <a:ahLst/>
            <a:rect l="l" t="t" r="r" b="b"/>
            <a:pathLst>
              <a:path w="972" h="228">
                <a:moveTo>
                  <a:pt x="0" y="228"/>
                </a:moveTo>
                <a:cubicBezTo>
                  <a:pt x="135" y="123"/>
                  <a:pt x="270" y="18"/>
                  <a:pt x="432" y="9"/>
                </a:cubicBezTo>
                <a:cubicBezTo>
                  <a:pt x="594" y="0"/>
                  <a:pt x="783" y="85"/>
                  <a:pt x="972" y="171"/>
                </a:cubicBezTo>
              </a:path>
            </a:pathLst>
          </a:custGeom>
          <a:noFill/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6" name=""/>
          <p:cNvGrpSpPr/>
          <p:nvPr/>
        </p:nvGrpSpPr>
        <p:grpSpPr>
          <a:xfrm>
            <a:off x="6456240" y="5118120"/>
            <a:ext cx="406080" cy="426960"/>
            <a:chOff x="6456240" y="5118120"/>
            <a:chExt cx="406080" cy="426960"/>
          </a:xfrm>
        </p:grpSpPr>
        <p:pic>
          <p:nvPicPr>
            <p:cNvPr id="727" name="" descr=""/>
            <p:cNvPicPr/>
            <p:nvPr/>
          </p:nvPicPr>
          <p:blipFill>
            <a:blip r:embed="rId11"/>
            <a:stretch/>
          </p:blipFill>
          <p:spPr>
            <a:xfrm>
              <a:off x="6456240" y="5118120"/>
              <a:ext cx="378360" cy="3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" descr=""/>
            <p:cNvPicPr/>
            <p:nvPr/>
          </p:nvPicPr>
          <p:blipFill>
            <a:blip r:embed="rId12"/>
            <a:stretch/>
          </p:blipFill>
          <p:spPr>
            <a:xfrm>
              <a:off x="6516000" y="5230080"/>
              <a:ext cx="346320" cy="31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9" name=""/>
          <p:cNvGrpSpPr/>
          <p:nvPr/>
        </p:nvGrpSpPr>
        <p:grpSpPr>
          <a:xfrm>
            <a:off x="7234200" y="5149800"/>
            <a:ext cx="406080" cy="426960"/>
            <a:chOff x="7234200" y="5149800"/>
            <a:chExt cx="406080" cy="426960"/>
          </a:xfrm>
        </p:grpSpPr>
        <p:pic>
          <p:nvPicPr>
            <p:cNvPr id="730" name="" descr=""/>
            <p:cNvPicPr/>
            <p:nvPr/>
          </p:nvPicPr>
          <p:blipFill>
            <a:blip r:embed="rId13"/>
            <a:stretch/>
          </p:blipFill>
          <p:spPr>
            <a:xfrm>
              <a:off x="7234200" y="5149800"/>
              <a:ext cx="378360" cy="3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1" name="" descr=""/>
            <p:cNvPicPr/>
            <p:nvPr/>
          </p:nvPicPr>
          <p:blipFill>
            <a:blip r:embed="rId14"/>
            <a:stretch/>
          </p:blipFill>
          <p:spPr>
            <a:xfrm>
              <a:off x="7293960" y="5261760"/>
              <a:ext cx="346320" cy="31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2" name=""/>
          <p:cNvGrpSpPr/>
          <p:nvPr/>
        </p:nvGrpSpPr>
        <p:grpSpPr>
          <a:xfrm>
            <a:off x="6819840" y="4865760"/>
            <a:ext cx="379440" cy="376200"/>
            <a:chOff x="6819840" y="4865760"/>
            <a:chExt cx="379440" cy="376200"/>
          </a:xfrm>
        </p:grpSpPr>
        <p:pic>
          <p:nvPicPr>
            <p:cNvPr id="733" name="" descr=""/>
            <p:cNvPicPr/>
            <p:nvPr/>
          </p:nvPicPr>
          <p:blipFill>
            <a:blip r:embed="rId15"/>
            <a:stretch/>
          </p:blipFill>
          <p:spPr>
            <a:xfrm>
              <a:off x="6819840" y="4865760"/>
              <a:ext cx="379440" cy="3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4" name=""/>
            <p:cNvSpPr/>
            <p:nvPr/>
          </p:nvSpPr>
          <p:spPr>
            <a:xfrm>
              <a:off x="6930000" y="4997880"/>
              <a:ext cx="267480" cy="244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5" name=""/>
          <p:cNvSpPr/>
          <p:nvPr/>
        </p:nvSpPr>
        <p:spPr>
          <a:xfrm>
            <a:off x="7126200" y="4768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6" name=""/>
          <p:cNvGrpSpPr/>
          <p:nvPr/>
        </p:nvGrpSpPr>
        <p:grpSpPr>
          <a:xfrm>
            <a:off x="7846920" y="4192560"/>
            <a:ext cx="208080" cy="409680"/>
            <a:chOff x="7846920" y="4192560"/>
            <a:chExt cx="208080" cy="409680"/>
          </a:xfrm>
        </p:grpSpPr>
        <p:sp>
          <p:nvSpPr>
            <p:cNvPr id="737" name=""/>
            <p:cNvSpPr/>
            <p:nvPr/>
          </p:nvSpPr>
          <p:spPr>
            <a:xfrm>
              <a:off x="7846920" y="4507560"/>
              <a:ext cx="208080" cy="94680"/>
            </a:xfrm>
            <a:prstGeom prst="parallelogram">
              <a:avLst>
                <a:gd name="adj" fmla="val 8466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952040" y="4195080"/>
              <a:ext cx="95400" cy="3146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848000" y="4284360"/>
              <a:ext cx="131760" cy="3150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846920" y="4192560"/>
              <a:ext cx="208080" cy="94680"/>
            </a:xfrm>
            <a:prstGeom prst="parallelogram">
              <a:avLst>
                <a:gd name="adj" fmla="val 8466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8055000" y="4199040"/>
              <a:ext cx="0" cy="3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flipH="1">
              <a:off x="7979760" y="4507560"/>
              <a:ext cx="7488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864560" y="4325760"/>
              <a:ext cx="87480" cy="1814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877160" y="4380480"/>
              <a:ext cx="6624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5" name=""/>
          <p:cNvGrpSpPr/>
          <p:nvPr/>
        </p:nvGrpSpPr>
        <p:grpSpPr>
          <a:xfrm>
            <a:off x="7834320" y="4637160"/>
            <a:ext cx="208080" cy="409680"/>
            <a:chOff x="7834320" y="4637160"/>
            <a:chExt cx="208080" cy="409680"/>
          </a:xfrm>
        </p:grpSpPr>
        <p:sp>
          <p:nvSpPr>
            <p:cNvPr id="746" name=""/>
            <p:cNvSpPr/>
            <p:nvPr/>
          </p:nvSpPr>
          <p:spPr>
            <a:xfrm>
              <a:off x="7834320" y="4952160"/>
              <a:ext cx="208080" cy="94680"/>
            </a:xfrm>
            <a:prstGeom prst="parallelogram">
              <a:avLst>
                <a:gd name="adj" fmla="val 8466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939440" y="4639680"/>
              <a:ext cx="95400" cy="3146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835400" y="4728960"/>
              <a:ext cx="131760" cy="3150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834320" y="4637160"/>
              <a:ext cx="208080" cy="94680"/>
            </a:xfrm>
            <a:prstGeom prst="parallelogram">
              <a:avLst>
                <a:gd name="adj" fmla="val 8466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8042400" y="4643640"/>
              <a:ext cx="0" cy="3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H="1">
              <a:off x="7967160" y="4952160"/>
              <a:ext cx="7488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851960" y="4770360"/>
              <a:ext cx="87480" cy="1814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864560" y="4825080"/>
              <a:ext cx="6624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4" name=""/>
          <p:cNvSpPr/>
          <p:nvPr/>
        </p:nvSpPr>
        <p:spPr>
          <a:xfrm flipV="1">
            <a:off x="7765920" y="4260600"/>
            <a:ext cx="0" cy="61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7763040" y="4870440"/>
            <a:ext cx="102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7759800" y="439416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flipV="1">
            <a:off x="6483240" y="2490840"/>
            <a:ext cx="459000" cy="208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7418520" y="2475000"/>
            <a:ext cx="485640" cy="207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 flipH="1">
            <a:off x="7937640" y="2811600"/>
            <a:ext cx="241200" cy="680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7167600" y="2587680"/>
            <a:ext cx="0" cy="431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7192800" y="3235320"/>
            <a:ext cx="535320" cy="368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H="1">
            <a:off x="7652880" y="3700440"/>
            <a:ext cx="266760" cy="36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 flipH="1">
            <a:off x="7426440" y="2779560"/>
            <a:ext cx="560160" cy="384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H="1">
            <a:off x="7435440" y="2219400"/>
            <a:ext cx="351000" cy="255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H="1">
            <a:off x="8153280" y="2395440"/>
            <a:ext cx="201600" cy="176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6" name=""/>
          <p:cNvGrpSpPr/>
          <p:nvPr/>
        </p:nvGrpSpPr>
        <p:grpSpPr>
          <a:xfrm>
            <a:off x="7221600" y="4043520"/>
            <a:ext cx="671400" cy="387360"/>
            <a:chOff x="7221600" y="4043520"/>
            <a:chExt cx="671400" cy="387360"/>
          </a:xfrm>
        </p:grpSpPr>
        <p:sp>
          <p:nvSpPr>
            <p:cNvPr id="767" name=""/>
            <p:cNvSpPr/>
            <p:nvPr/>
          </p:nvSpPr>
          <p:spPr>
            <a:xfrm>
              <a:off x="7221600" y="4043520"/>
              <a:ext cx="671400" cy="387360"/>
            </a:xfrm>
            <a:custGeom>
              <a:avLst/>
              <a:gdLst/>
              <a:ahLst/>
              <a:rect l="l" t="t" r="r" b="b"/>
              <a:pathLst>
                <a:path w="423" h="244">
                  <a:moveTo>
                    <a:pt x="183" y="11"/>
                  </a:moveTo>
                  <a:cubicBezTo>
                    <a:pt x="135" y="16"/>
                    <a:pt x="73" y="17"/>
                    <a:pt x="43" y="43"/>
                  </a:cubicBezTo>
                  <a:cubicBezTo>
                    <a:pt x="13" y="69"/>
                    <a:pt x="0" y="137"/>
                    <a:pt x="3" y="169"/>
                  </a:cubicBezTo>
                  <a:cubicBezTo>
                    <a:pt x="6" y="201"/>
                    <a:pt x="16" y="222"/>
                    <a:pt x="63" y="233"/>
                  </a:cubicBezTo>
                  <a:cubicBezTo>
                    <a:pt x="110" y="244"/>
                    <a:pt x="230" y="244"/>
                    <a:pt x="287" y="237"/>
                  </a:cubicBezTo>
                  <a:cubicBezTo>
                    <a:pt x="344" y="230"/>
                    <a:pt x="383" y="214"/>
                    <a:pt x="403" y="189"/>
                  </a:cubicBezTo>
                  <a:cubicBezTo>
                    <a:pt x="423" y="164"/>
                    <a:pt x="419" y="116"/>
                    <a:pt x="407" y="87"/>
                  </a:cubicBezTo>
                  <a:cubicBezTo>
                    <a:pt x="395" y="58"/>
                    <a:pt x="366" y="26"/>
                    <a:pt x="329" y="13"/>
                  </a:cubicBezTo>
                  <a:cubicBezTo>
                    <a:pt x="292" y="0"/>
                    <a:pt x="232" y="7"/>
                    <a:pt x="183" y="11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8" name=""/>
            <p:cNvGrpSpPr/>
            <p:nvPr/>
          </p:nvGrpSpPr>
          <p:grpSpPr>
            <a:xfrm>
              <a:off x="7296120" y="4130640"/>
              <a:ext cx="501120" cy="232920"/>
              <a:chOff x="7296120" y="4130640"/>
              <a:chExt cx="501120" cy="232920"/>
            </a:xfrm>
          </p:grpSpPr>
          <p:sp>
            <p:nvSpPr>
              <p:cNvPr id="769" name=""/>
              <p:cNvSpPr/>
              <p:nvPr/>
            </p:nvSpPr>
            <p:spPr>
              <a:xfrm>
                <a:off x="7300080" y="4234680"/>
                <a:ext cx="49680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7300080" y="422352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797240" y="422352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7300080" y="4223520"/>
                <a:ext cx="49248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7296120" y="4130640"/>
                <a:ext cx="49644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4" name=""/>
              <p:cNvGrpSpPr/>
              <p:nvPr/>
            </p:nvGrpSpPr>
            <p:grpSpPr>
              <a:xfrm>
                <a:off x="7415640" y="4163400"/>
                <a:ext cx="245880" cy="88200"/>
                <a:chOff x="7415640" y="4163400"/>
                <a:chExt cx="245880" cy="88200"/>
              </a:xfrm>
            </p:grpSpPr>
            <p:sp>
              <p:nvSpPr>
                <p:cNvPr id="775" name=""/>
                <p:cNvSpPr/>
                <p:nvPr/>
              </p:nvSpPr>
              <p:spPr>
                <a:xfrm flipV="1">
                  <a:off x="7415640" y="416340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7584120" y="42516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7496640" y="416556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8" name=""/>
              <p:cNvGrpSpPr/>
              <p:nvPr/>
            </p:nvGrpSpPr>
            <p:grpSpPr>
              <a:xfrm>
                <a:off x="7415640" y="4162680"/>
                <a:ext cx="245880" cy="88200"/>
                <a:chOff x="7415640" y="4162680"/>
                <a:chExt cx="245880" cy="88200"/>
              </a:xfrm>
            </p:grpSpPr>
            <p:sp>
              <p:nvSpPr>
                <p:cNvPr id="779" name=""/>
                <p:cNvSpPr/>
                <p:nvPr/>
              </p:nvSpPr>
              <p:spPr>
                <a:xfrm>
                  <a:off x="7415640" y="424908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7584120" y="41626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 flipV="1">
                  <a:off x="7496640" y="416268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82" name=""/>
          <p:cNvGrpSpPr/>
          <p:nvPr/>
        </p:nvGrpSpPr>
        <p:grpSpPr>
          <a:xfrm>
            <a:off x="7574040" y="3386160"/>
            <a:ext cx="671400" cy="387360"/>
            <a:chOff x="7574040" y="3386160"/>
            <a:chExt cx="671400" cy="387360"/>
          </a:xfrm>
        </p:grpSpPr>
        <p:sp>
          <p:nvSpPr>
            <p:cNvPr id="783" name=""/>
            <p:cNvSpPr/>
            <p:nvPr/>
          </p:nvSpPr>
          <p:spPr>
            <a:xfrm>
              <a:off x="7574040" y="3386160"/>
              <a:ext cx="671400" cy="387360"/>
            </a:xfrm>
            <a:custGeom>
              <a:avLst/>
              <a:gdLst/>
              <a:ahLst/>
              <a:rect l="l" t="t" r="r" b="b"/>
              <a:pathLst>
                <a:path w="423" h="244">
                  <a:moveTo>
                    <a:pt x="183" y="11"/>
                  </a:moveTo>
                  <a:cubicBezTo>
                    <a:pt x="135" y="16"/>
                    <a:pt x="73" y="17"/>
                    <a:pt x="43" y="43"/>
                  </a:cubicBezTo>
                  <a:cubicBezTo>
                    <a:pt x="13" y="69"/>
                    <a:pt x="0" y="137"/>
                    <a:pt x="3" y="169"/>
                  </a:cubicBezTo>
                  <a:cubicBezTo>
                    <a:pt x="6" y="201"/>
                    <a:pt x="16" y="222"/>
                    <a:pt x="63" y="233"/>
                  </a:cubicBezTo>
                  <a:cubicBezTo>
                    <a:pt x="110" y="244"/>
                    <a:pt x="230" y="244"/>
                    <a:pt x="287" y="237"/>
                  </a:cubicBezTo>
                  <a:cubicBezTo>
                    <a:pt x="344" y="230"/>
                    <a:pt x="383" y="214"/>
                    <a:pt x="403" y="189"/>
                  </a:cubicBezTo>
                  <a:cubicBezTo>
                    <a:pt x="423" y="164"/>
                    <a:pt x="419" y="116"/>
                    <a:pt x="407" y="87"/>
                  </a:cubicBezTo>
                  <a:cubicBezTo>
                    <a:pt x="395" y="58"/>
                    <a:pt x="366" y="26"/>
                    <a:pt x="329" y="13"/>
                  </a:cubicBezTo>
                  <a:cubicBezTo>
                    <a:pt x="292" y="0"/>
                    <a:pt x="232" y="7"/>
                    <a:pt x="183" y="11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4" name=""/>
            <p:cNvGrpSpPr/>
            <p:nvPr/>
          </p:nvGrpSpPr>
          <p:grpSpPr>
            <a:xfrm>
              <a:off x="7648560" y="3473280"/>
              <a:ext cx="501120" cy="232920"/>
              <a:chOff x="7648560" y="3473280"/>
              <a:chExt cx="501120" cy="232920"/>
            </a:xfrm>
          </p:grpSpPr>
          <p:sp>
            <p:nvSpPr>
              <p:cNvPr id="785" name=""/>
              <p:cNvSpPr/>
              <p:nvPr/>
            </p:nvSpPr>
            <p:spPr>
              <a:xfrm>
                <a:off x="7652520" y="3577320"/>
                <a:ext cx="49680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7652520" y="35661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8149680" y="35661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7652520" y="3566160"/>
                <a:ext cx="49248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7648560" y="3473280"/>
                <a:ext cx="49644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0" name=""/>
              <p:cNvGrpSpPr/>
              <p:nvPr/>
            </p:nvGrpSpPr>
            <p:grpSpPr>
              <a:xfrm>
                <a:off x="7768080" y="3506040"/>
                <a:ext cx="245880" cy="88200"/>
                <a:chOff x="7768080" y="3506040"/>
                <a:chExt cx="245880" cy="88200"/>
              </a:xfrm>
            </p:grpSpPr>
            <p:sp>
              <p:nvSpPr>
                <p:cNvPr id="791" name=""/>
                <p:cNvSpPr/>
                <p:nvPr/>
              </p:nvSpPr>
              <p:spPr>
                <a:xfrm flipV="1">
                  <a:off x="7768080" y="350604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7936560" y="35942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7849080" y="350820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4" name=""/>
              <p:cNvGrpSpPr/>
              <p:nvPr/>
            </p:nvGrpSpPr>
            <p:grpSpPr>
              <a:xfrm>
                <a:off x="7768080" y="3505320"/>
                <a:ext cx="245880" cy="88200"/>
                <a:chOff x="7768080" y="3505320"/>
                <a:chExt cx="245880" cy="88200"/>
              </a:xfrm>
            </p:grpSpPr>
            <p:sp>
              <p:nvSpPr>
                <p:cNvPr id="795" name=""/>
                <p:cNvSpPr/>
                <p:nvPr/>
              </p:nvSpPr>
              <p:spPr>
                <a:xfrm>
                  <a:off x="7768080" y="359172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7936560" y="35053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 flipV="1">
                  <a:off x="7849080" y="350532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98" name=""/>
          <p:cNvGrpSpPr/>
          <p:nvPr/>
        </p:nvGrpSpPr>
        <p:grpSpPr>
          <a:xfrm>
            <a:off x="6926400" y="2938320"/>
            <a:ext cx="671400" cy="387360"/>
            <a:chOff x="6926400" y="2938320"/>
            <a:chExt cx="671400" cy="387360"/>
          </a:xfrm>
        </p:grpSpPr>
        <p:sp>
          <p:nvSpPr>
            <p:cNvPr id="799" name=""/>
            <p:cNvSpPr/>
            <p:nvPr/>
          </p:nvSpPr>
          <p:spPr>
            <a:xfrm>
              <a:off x="6926400" y="2938320"/>
              <a:ext cx="671400" cy="387360"/>
            </a:xfrm>
            <a:custGeom>
              <a:avLst/>
              <a:gdLst/>
              <a:ahLst/>
              <a:rect l="l" t="t" r="r" b="b"/>
              <a:pathLst>
                <a:path w="423" h="244">
                  <a:moveTo>
                    <a:pt x="183" y="11"/>
                  </a:moveTo>
                  <a:cubicBezTo>
                    <a:pt x="135" y="16"/>
                    <a:pt x="73" y="17"/>
                    <a:pt x="43" y="43"/>
                  </a:cubicBezTo>
                  <a:cubicBezTo>
                    <a:pt x="13" y="69"/>
                    <a:pt x="0" y="137"/>
                    <a:pt x="3" y="169"/>
                  </a:cubicBezTo>
                  <a:cubicBezTo>
                    <a:pt x="6" y="201"/>
                    <a:pt x="16" y="222"/>
                    <a:pt x="63" y="233"/>
                  </a:cubicBezTo>
                  <a:cubicBezTo>
                    <a:pt x="110" y="244"/>
                    <a:pt x="230" y="244"/>
                    <a:pt x="287" y="237"/>
                  </a:cubicBezTo>
                  <a:cubicBezTo>
                    <a:pt x="344" y="230"/>
                    <a:pt x="383" y="214"/>
                    <a:pt x="403" y="189"/>
                  </a:cubicBezTo>
                  <a:cubicBezTo>
                    <a:pt x="423" y="164"/>
                    <a:pt x="419" y="116"/>
                    <a:pt x="407" y="87"/>
                  </a:cubicBezTo>
                  <a:cubicBezTo>
                    <a:pt x="395" y="58"/>
                    <a:pt x="366" y="26"/>
                    <a:pt x="329" y="13"/>
                  </a:cubicBezTo>
                  <a:cubicBezTo>
                    <a:pt x="292" y="0"/>
                    <a:pt x="232" y="7"/>
                    <a:pt x="183" y="11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0" name=""/>
            <p:cNvGrpSpPr/>
            <p:nvPr/>
          </p:nvGrpSpPr>
          <p:grpSpPr>
            <a:xfrm>
              <a:off x="7000920" y="3025440"/>
              <a:ext cx="501120" cy="232920"/>
              <a:chOff x="7000920" y="3025440"/>
              <a:chExt cx="501120" cy="232920"/>
            </a:xfrm>
          </p:grpSpPr>
          <p:sp>
            <p:nvSpPr>
              <p:cNvPr id="801" name=""/>
              <p:cNvSpPr/>
              <p:nvPr/>
            </p:nvSpPr>
            <p:spPr>
              <a:xfrm>
                <a:off x="7004880" y="3129480"/>
                <a:ext cx="49680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004880" y="311832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7502040" y="311832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7004880" y="3118320"/>
                <a:ext cx="49248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7000920" y="3025440"/>
                <a:ext cx="49644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6" name=""/>
              <p:cNvGrpSpPr/>
              <p:nvPr/>
            </p:nvGrpSpPr>
            <p:grpSpPr>
              <a:xfrm>
                <a:off x="7120440" y="3058200"/>
                <a:ext cx="245880" cy="88200"/>
                <a:chOff x="7120440" y="3058200"/>
                <a:chExt cx="245880" cy="88200"/>
              </a:xfrm>
            </p:grpSpPr>
            <p:sp>
              <p:nvSpPr>
                <p:cNvPr id="807" name=""/>
                <p:cNvSpPr/>
                <p:nvPr/>
              </p:nvSpPr>
              <p:spPr>
                <a:xfrm flipV="1">
                  <a:off x="7120440" y="305820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7288920" y="31464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7201440" y="306036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0" name=""/>
              <p:cNvGrpSpPr/>
              <p:nvPr/>
            </p:nvGrpSpPr>
            <p:grpSpPr>
              <a:xfrm>
                <a:off x="7120440" y="3057480"/>
                <a:ext cx="245880" cy="88200"/>
                <a:chOff x="7120440" y="3057480"/>
                <a:chExt cx="245880" cy="88200"/>
              </a:xfrm>
            </p:grpSpPr>
            <p:sp>
              <p:nvSpPr>
                <p:cNvPr id="811" name=""/>
                <p:cNvSpPr/>
                <p:nvPr/>
              </p:nvSpPr>
              <p:spPr>
                <a:xfrm>
                  <a:off x="7120440" y="314388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7288920" y="30574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 flipV="1">
                  <a:off x="7201440" y="305748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814" name=""/>
          <p:cNvGrpSpPr/>
          <p:nvPr/>
        </p:nvGrpSpPr>
        <p:grpSpPr>
          <a:xfrm>
            <a:off x="7745400" y="2462040"/>
            <a:ext cx="671400" cy="387360"/>
            <a:chOff x="7745400" y="2462040"/>
            <a:chExt cx="671400" cy="387360"/>
          </a:xfrm>
        </p:grpSpPr>
        <p:sp>
          <p:nvSpPr>
            <p:cNvPr id="815" name=""/>
            <p:cNvSpPr/>
            <p:nvPr/>
          </p:nvSpPr>
          <p:spPr>
            <a:xfrm>
              <a:off x="7745400" y="2462040"/>
              <a:ext cx="671400" cy="387360"/>
            </a:xfrm>
            <a:custGeom>
              <a:avLst/>
              <a:gdLst/>
              <a:ahLst/>
              <a:rect l="l" t="t" r="r" b="b"/>
              <a:pathLst>
                <a:path w="423" h="244">
                  <a:moveTo>
                    <a:pt x="183" y="11"/>
                  </a:moveTo>
                  <a:cubicBezTo>
                    <a:pt x="135" y="16"/>
                    <a:pt x="73" y="17"/>
                    <a:pt x="43" y="43"/>
                  </a:cubicBezTo>
                  <a:cubicBezTo>
                    <a:pt x="13" y="69"/>
                    <a:pt x="0" y="137"/>
                    <a:pt x="3" y="169"/>
                  </a:cubicBezTo>
                  <a:cubicBezTo>
                    <a:pt x="6" y="201"/>
                    <a:pt x="16" y="222"/>
                    <a:pt x="63" y="233"/>
                  </a:cubicBezTo>
                  <a:cubicBezTo>
                    <a:pt x="110" y="244"/>
                    <a:pt x="230" y="244"/>
                    <a:pt x="287" y="237"/>
                  </a:cubicBezTo>
                  <a:cubicBezTo>
                    <a:pt x="344" y="230"/>
                    <a:pt x="383" y="214"/>
                    <a:pt x="403" y="189"/>
                  </a:cubicBezTo>
                  <a:cubicBezTo>
                    <a:pt x="423" y="164"/>
                    <a:pt x="419" y="116"/>
                    <a:pt x="407" y="87"/>
                  </a:cubicBezTo>
                  <a:cubicBezTo>
                    <a:pt x="395" y="58"/>
                    <a:pt x="366" y="26"/>
                    <a:pt x="329" y="13"/>
                  </a:cubicBezTo>
                  <a:cubicBezTo>
                    <a:pt x="292" y="0"/>
                    <a:pt x="232" y="7"/>
                    <a:pt x="183" y="11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6" name=""/>
            <p:cNvGrpSpPr/>
            <p:nvPr/>
          </p:nvGrpSpPr>
          <p:grpSpPr>
            <a:xfrm>
              <a:off x="7819920" y="2549160"/>
              <a:ext cx="501120" cy="232920"/>
              <a:chOff x="7819920" y="2549160"/>
              <a:chExt cx="501120" cy="232920"/>
            </a:xfrm>
          </p:grpSpPr>
          <p:sp>
            <p:nvSpPr>
              <p:cNvPr id="817" name=""/>
              <p:cNvSpPr/>
              <p:nvPr/>
            </p:nvSpPr>
            <p:spPr>
              <a:xfrm>
                <a:off x="7823880" y="2653200"/>
                <a:ext cx="49680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7823880" y="264204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8321040" y="264204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7823880" y="2642040"/>
                <a:ext cx="49248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7819920" y="2549160"/>
                <a:ext cx="49644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22" name=""/>
              <p:cNvGrpSpPr/>
              <p:nvPr/>
            </p:nvGrpSpPr>
            <p:grpSpPr>
              <a:xfrm>
                <a:off x="7939440" y="2581920"/>
                <a:ext cx="245880" cy="88200"/>
                <a:chOff x="7939440" y="2581920"/>
                <a:chExt cx="245880" cy="88200"/>
              </a:xfrm>
            </p:grpSpPr>
            <p:sp>
              <p:nvSpPr>
                <p:cNvPr id="823" name=""/>
                <p:cNvSpPr/>
                <p:nvPr/>
              </p:nvSpPr>
              <p:spPr>
                <a:xfrm flipV="1">
                  <a:off x="7939440" y="258192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8107920" y="26701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8020440" y="258408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6" name=""/>
              <p:cNvGrpSpPr/>
              <p:nvPr/>
            </p:nvGrpSpPr>
            <p:grpSpPr>
              <a:xfrm>
                <a:off x="7939440" y="2581200"/>
                <a:ext cx="245880" cy="88200"/>
                <a:chOff x="7939440" y="2581200"/>
                <a:chExt cx="245880" cy="88200"/>
              </a:xfrm>
            </p:grpSpPr>
            <p:sp>
              <p:nvSpPr>
                <p:cNvPr id="827" name=""/>
                <p:cNvSpPr/>
                <p:nvPr/>
              </p:nvSpPr>
              <p:spPr>
                <a:xfrm>
                  <a:off x="7939440" y="266760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8107920" y="25812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 flipV="1">
                  <a:off x="8020440" y="258120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830" name=""/>
          <p:cNvGrpSpPr/>
          <p:nvPr/>
        </p:nvGrpSpPr>
        <p:grpSpPr>
          <a:xfrm>
            <a:off x="6840360" y="2262240"/>
            <a:ext cx="671760" cy="387360"/>
            <a:chOff x="6840360" y="2262240"/>
            <a:chExt cx="671760" cy="387360"/>
          </a:xfrm>
        </p:grpSpPr>
        <p:sp>
          <p:nvSpPr>
            <p:cNvPr id="831" name=""/>
            <p:cNvSpPr/>
            <p:nvPr/>
          </p:nvSpPr>
          <p:spPr>
            <a:xfrm>
              <a:off x="6840360" y="2262240"/>
              <a:ext cx="671760" cy="387360"/>
            </a:xfrm>
            <a:custGeom>
              <a:avLst/>
              <a:gdLst/>
              <a:ahLst/>
              <a:rect l="l" t="t" r="r" b="b"/>
              <a:pathLst>
                <a:path w="423" h="244">
                  <a:moveTo>
                    <a:pt x="183" y="11"/>
                  </a:moveTo>
                  <a:cubicBezTo>
                    <a:pt x="135" y="16"/>
                    <a:pt x="73" y="17"/>
                    <a:pt x="43" y="43"/>
                  </a:cubicBezTo>
                  <a:cubicBezTo>
                    <a:pt x="13" y="69"/>
                    <a:pt x="0" y="137"/>
                    <a:pt x="3" y="169"/>
                  </a:cubicBezTo>
                  <a:cubicBezTo>
                    <a:pt x="6" y="201"/>
                    <a:pt x="16" y="222"/>
                    <a:pt x="63" y="233"/>
                  </a:cubicBezTo>
                  <a:cubicBezTo>
                    <a:pt x="110" y="244"/>
                    <a:pt x="230" y="244"/>
                    <a:pt x="287" y="237"/>
                  </a:cubicBezTo>
                  <a:cubicBezTo>
                    <a:pt x="344" y="230"/>
                    <a:pt x="383" y="214"/>
                    <a:pt x="403" y="189"/>
                  </a:cubicBezTo>
                  <a:cubicBezTo>
                    <a:pt x="423" y="164"/>
                    <a:pt x="419" y="116"/>
                    <a:pt x="407" y="87"/>
                  </a:cubicBezTo>
                  <a:cubicBezTo>
                    <a:pt x="395" y="58"/>
                    <a:pt x="366" y="26"/>
                    <a:pt x="329" y="13"/>
                  </a:cubicBezTo>
                  <a:cubicBezTo>
                    <a:pt x="292" y="0"/>
                    <a:pt x="232" y="7"/>
                    <a:pt x="183" y="11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2" name=""/>
            <p:cNvGrpSpPr/>
            <p:nvPr/>
          </p:nvGrpSpPr>
          <p:grpSpPr>
            <a:xfrm>
              <a:off x="6915240" y="2349360"/>
              <a:ext cx="501480" cy="232920"/>
              <a:chOff x="6915240" y="2349360"/>
              <a:chExt cx="501480" cy="232920"/>
            </a:xfrm>
          </p:grpSpPr>
          <p:sp>
            <p:nvSpPr>
              <p:cNvPr id="833" name=""/>
              <p:cNvSpPr/>
              <p:nvPr/>
            </p:nvSpPr>
            <p:spPr>
              <a:xfrm>
                <a:off x="6919200" y="2453400"/>
                <a:ext cx="49716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6919200" y="244224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7416720" y="244224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6919200" y="2442240"/>
                <a:ext cx="49284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6915240" y="2349360"/>
                <a:ext cx="49680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38" name=""/>
              <p:cNvGrpSpPr/>
              <p:nvPr/>
            </p:nvGrpSpPr>
            <p:grpSpPr>
              <a:xfrm>
                <a:off x="7034760" y="2382120"/>
                <a:ext cx="246240" cy="88200"/>
                <a:chOff x="7034760" y="2382120"/>
                <a:chExt cx="246240" cy="88200"/>
              </a:xfrm>
            </p:grpSpPr>
            <p:sp>
              <p:nvSpPr>
                <p:cNvPr id="839" name=""/>
                <p:cNvSpPr/>
                <p:nvPr/>
              </p:nvSpPr>
              <p:spPr>
                <a:xfrm flipV="1">
                  <a:off x="7034760" y="238212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7203600" y="24703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7115760" y="238428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2" name=""/>
              <p:cNvGrpSpPr/>
              <p:nvPr/>
            </p:nvGrpSpPr>
            <p:grpSpPr>
              <a:xfrm>
                <a:off x="7034760" y="2381400"/>
                <a:ext cx="246240" cy="88200"/>
                <a:chOff x="7034760" y="2381400"/>
                <a:chExt cx="246240" cy="88200"/>
              </a:xfrm>
            </p:grpSpPr>
            <p:sp>
              <p:nvSpPr>
                <p:cNvPr id="843" name=""/>
                <p:cNvSpPr/>
                <p:nvPr/>
              </p:nvSpPr>
              <p:spPr>
                <a:xfrm>
                  <a:off x="7034760" y="246780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7203600" y="23814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 flipV="1">
                  <a:off x="7115760" y="238140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846" name=""/>
          <p:cNvGrpSpPr/>
          <p:nvPr/>
        </p:nvGrpSpPr>
        <p:grpSpPr>
          <a:xfrm>
            <a:off x="5897520" y="2471760"/>
            <a:ext cx="671400" cy="387360"/>
            <a:chOff x="5897520" y="2471760"/>
            <a:chExt cx="671400" cy="387360"/>
          </a:xfrm>
        </p:grpSpPr>
        <p:sp>
          <p:nvSpPr>
            <p:cNvPr id="847" name=""/>
            <p:cNvSpPr/>
            <p:nvPr/>
          </p:nvSpPr>
          <p:spPr>
            <a:xfrm>
              <a:off x="5897520" y="2471760"/>
              <a:ext cx="671400" cy="387360"/>
            </a:xfrm>
            <a:custGeom>
              <a:avLst/>
              <a:gdLst/>
              <a:ahLst/>
              <a:rect l="l" t="t" r="r" b="b"/>
              <a:pathLst>
                <a:path w="423" h="244">
                  <a:moveTo>
                    <a:pt x="183" y="11"/>
                  </a:moveTo>
                  <a:cubicBezTo>
                    <a:pt x="135" y="16"/>
                    <a:pt x="73" y="17"/>
                    <a:pt x="43" y="43"/>
                  </a:cubicBezTo>
                  <a:cubicBezTo>
                    <a:pt x="13" y="69"/>
                    <a:pt x="0" y="137"/>
                    <a:pt x="3" y="169"/>
                  </a:cubicBezTo>
                  <a:cubicBezTo>
                    <a:pt x="6" y="201"/>
                    <a:pt x="16" y="222"/>
                    <a:pt x="63" y="233"/>
                  </a:cubicBezTo>
                  <a:cubicBezTo>
                    <a:pt x="110" y="244"/>
                    <a:pt x="230" y="244"/>
                    <a:pt x="287" y="237"/>
                  </a:cubicBezTo>
                  <a:cubicBezTo>
                    <a:pt x="344" y="230"/>
                    <a:pt x="383" y="214"/>
                    <a:pt x="403" y="189"/>
                  </a:cubicBezTo>
                  <a:cubicBezTo>
                    <a:pt x="423" y="164"/>
                    <a:pt x="419" y="116"/>
                    <a:pt x="407" y="87"/>
                  </a:cubicBezTo>
                  <a:cubicBezTo>
                    <a:pt x="395" y="58"/>
                    <a:pt x="366" y="26"/>
                    <a:pt x="329" y="13"/>
                  </a:cubicBezTo>
                  <a:cubicBezTo>
                    <a:pt x="292" y="0"/>
                    <a:pt x="232" y="7"/>
                    <a:pt x="183" y="11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8" name=""/>
            <p:cNvGrpSpPr/>
            <p:nvPr/>
          </p:nvGrpSpPr>
          <p:grpSpPr>
            <a:xfrm>
              <a:off x="5972040" y="2558880"/>
              <a:ext cx="501120" cy="232920"/>
              <a:chOff x="5972040" y="2558880"/>
              <a:chExt cx="501120" cy="232920"/>
            </a:xfrm>
          </p:grpSpPr>
          <p:sp>
            <p:nvSpPr>
              <p:cNvPr id="849" name=""/>
              <p:cNvSpPr/>
              <p:nvPr/>
            </p:nvSpPr>
            <p:spPr>
              <a:xfrm>
                <a:off x="5976000" y="2662920"/>
                <a:ext cx="49680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5976000" y="26517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6473160" y="26517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5976000" y="2651760"/>
                <a:ext cx="49248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5972040" y="2558880"/>
                <a:ext cx="49644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4" name=""/>
              <p:cNvGrpSpPr/>
              <p:nvPr/>
            </p:nvGrpSpPr>
            <p:grpSpPr>
              <a:xfrm>
                <a:off x="6091560" y="2591640"/>
                <a:ext cx="245880" cy="88200"/>
                <a:chOff x="6091560" y="2591640"/>
                <a:chExt cx="245880" cy="88200"/>
              </a:xfrm>
            </p:grpSpPr>
            <p:sp>
              <p:nvSpPr>
                <p:cNvPr id="855" name=""/>
                <p:cNvSpPr/>
                <p:nvPr/>
              </p:nvSpPr>
              <p:spPr>
                <a:xfrm flipV="1">
                  <a:off x="6091560" y="259164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>
                  <a:off x="6260040" y="26798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>
                  <a:off x="6172560" y="259380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8" name=""/>
              <p:cNvGrpSpPr/>
              <p:nvPr/>
            </p:nvGrpSpPr>
            <p:grpSpPr>
              <a:xfrm>
                <a:off x="6091560" y="2590920"/>
                <a:ext cx="245880" cy="88200"/>
                <a:chOff x="6091560" y="2590920"/>
                <a:chExt cx="245880" cy="88200"/>
              </a:xfrm>
            </p:grpSpPr>
            <p:sp>
              <p:nvSpPr>
                <p:cNvPr id="859" name=""/>
                <p:cNvSpPr/>
                <p:nvPr/>
              </p:nvSpPr>
              <p:spPr>
                <a:xfrm>
                  <a:off x="6091560" y="267732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6260040" y="25909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 flipV="1">
                  <a:off x="6172560" y="259092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862" name=""/>
          <p:cNvGrpSpPr/>
          <p:nvPr/>
        </p:nvGrpSpPr>
        <p:grpSpPr>
          <a:xfrm>
            <a:off x="5878440" y="4129200"/>
            <a:ext cx="671760" cy="387360"/>
            <a:chOff x="5878440" y="4129200"/>
            <a:chExt cx="671760" cy="387360"/>
          </a:xfrm>
        </p:grpSpPr>
        <p:sp>
          <p:nvSpPr>
            <p:cNvPr id="863" name=""/>
            <p:cNvSpPr/>
            <p:nvPr/>
          </p:nvSpPr>
          <p:spPr>
            <a:xfrm>
              <a:off x="5878440" y="4129200"/>
              <a:ext cx="671760" cy="387360"/>
            </a:xfrm>
            <a:custGeom>
              <a:avLst/>
              <a:gdLst/>
              <a:ahLst/>
              <a:rect l="l" t="t" r="r" b="b"/>
              <a:pathLst>
                <a:path w="423" h="244">
                  <a:moveTo>
                    <a:pt x="183" y="11"/>
                  </a:moveTo>
                  <a:cubicBezTo>
                    <a:pt x="135" y="16"/>
                    <a:pt x="73" y="17"/>
                    <a:pt x="43" y="43"/>
                  </a:cubicBezTo>
                  <a:cubicBezTo>
                    <a:pt x="13" y="69"/>
                    <a:pt x="0" y="137"/>
                    <a:pt x="3" y="169"/>
                  </a:cubicBezTo>
                  <a:cubicBezTo>
                    <a:pt x="6" y="201"/>
                    <a:pt x="16" y="222"/>
                    <a:pt x="63" y="233"/>
                  </a:cubicBezTo>
                  <a:cubicBezTo>
                    <a:pt x="110" y="244"/>
                    <a:pt x="230" y="244"/>
                    <a:pt x="287" y="237"/>
                  </a:cubicBezTo>
                  <a:cubicBezTo>
                    <a:pt x="344" y="230"/>
                    <a:pt x="383" y="214"/>
                    <a:pt x="403" y="189"/>
                  </a:cubicBezTo>
                  <a:cubicBezTo>
                    <a:pt x="423" y="164"/>
                    <a:pt x="419" y="116"/>
                    <a:pt x="407" y="87"/>
                  </a:cubicBezTo>
                  <a:cubicBezTo>
                    <a:pt x="395" y="58"/>
                    <a:pt x="366" y="26"/>
                    <a:pt x="329" y="13"/>
                  </a:cubicBezTo>
                  <a:cubicBezTo>
                    <a:pt x="292" y="0"/>
                    <a:pt x="232" y="7"/>
                    <a:pt x="183" y="11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4" name=""/>
            <p:cNvGrpSpPr/>
            <p:nvPr/>
          </p:nvGrpSpPr>
          <p:grpSpPr>
            <a:xfrm>
              <a:off x="5953320" y="4216320"/>
              <a:ext cx="501480" cy="232920"/>
              <a:chOff x="5953320" y="4216320"/>
              <a:chExt cx="501480" cy="232920"/>
            </a:xfrm>
          </p:grpSpPr>
          <p:sp>
            <p:nvSpPr>
              <p:cNvPr id="865" name=""/>
              <p:cNvSpPr/>
              <p:nvPr/>
            </p:nvSpPr>
            <p:spPr>
              <a:xfrm>
                <a:off x="5957280" y="4320360"/>
                <a:ext cx="49716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5957280" y="430920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6454800" y="430920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5957280" y="4309200"/>
                <a:ext cx="49284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5953320" y="4216320"/>
                <a:ext cx="49680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70" name=""/>
              <p:cNvGrpSpPr/>
              <p:nvPr/>
            </p:nvGrpSpPr>
            <p:grpSpPr>
              <a:xfrm>
                <a:off x="6072840" y="4249080"/>
                <a:ext cx="246240" cy="88200"/>
                <a:chOff x="6072840" y="4249080"/>
                <a:chExt cx="246240" cy="88200"/>
              </a:xfrm>
            </p:grpSpPr>
            <p:sp>
              <p:nvSpPr>
                <p:cNvPr id="871" name=""/>
                <p:cNvSpPr/>
                <p:nvPr/>
              </p:nvSpPr>
              <p:spPr>
                <a:xfrm flipV="1">
                  <a:off x="6072840" y="424908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6241680" y="43372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6153840" y="425124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4" name=""/>
              <p:cNvGrpSpPr/>
              <p:nvPr/>
            </p:nvGrpSpPr>
            <p:grpSpPr>
              <a:xfrm>
                <a:off x="6072840" y="4248360"/>
                <a:ext cx="246240" cy="88200"/>
                <a:chOff x="6072840" y="4248360"/>
                <a:chExt cx="246240" cy="88200"/>
              </a:xfrm>
            </p:grpSpPr>
            <p:sp>
              <p:nvSpPr>
                <p:cNvPr id="875" name=""/>
                <p:cNvSpPr/>
                <p:nvPr/>
              </p:nvSpPr>
              <p:spPr>
                <a:xfrm>
                  <a:off x="6072840" y="433476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6241680" y="424836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 flipV="1">
                  <a:off x="6153840" y="424836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878" name=""/>
          <p:cNvGrpSpPr/>
          <p:nvPr/>
        </p:nvGrpSpPr>
        <p:grpSpPr>
          <a:xfrm>
            <a:off x="6688080" y="4471920"/>
            <a:ext cx="671400" cy="387360"/>
            <a:chOff x="6688080" y="4471920"/>
            <a:chExt cx="671400" cy="387360"/>
          </a:xfrm>
        </p:grpSpPr>
        <p:sp>
          <p:nvSpPr>
            <p:cNvPr id="879" name=""/>
            <p:cNvSpPr/>
            <p:nvPr/>
          </p:nvSpPr>
          <p:spPr>
            <a:xfrm>
              <a:off x="6688080" y="4471920"/>
              <a:ext cx="671400" cy="387360"/>
            </a:xfrm>
            <a:custGeom>
              <a:avLst/>
              <a:gdLst/>
              <a:ahLst/>
              <a:rect l="l" t="t" r="r" b="b"/>
              <a:pathLst>
                <a:path w="423" h="244">
                  <a:moveTo>
                    <a:pt x="183" y="11"/>
                  </a:moveTo>
                  <a:cubicBezTo>
                    <a:pt x="135" y="16"/>
                    <a:pt x="73" y="17"/>
                    <a:pt x="43" y="43"/>
                  </a:cubicBezTo>
                  <a:cubicBezTo>
                    <a:pt x="13" y="69"/>
                    <a:pt x="0" y="137"/>
                    <a:pt x="3" y="169"/>
                  </a:cubicBezTo>
                  <a:cubicBezTo>
                    <a:pt x="6" y="201"/>
                    <a:pt x="16" y="222"/>
                    <a:pt x="63" y="233"/>
                  </a:cubicBezTo>
                  <a:cubicBezTo>
                    <a:pt x="110" y="244"/>
                    <a:pt x="230" y="244"/>
                    <a:pt x="287" y="237"/>
                  </a:cubicBezTo>
                  <a:cubicBezTo>
                    <a:pt x="344" y="230"/>
                    <a:pt x="383" y="214"/>
                    <a:pt x="403" y="189"/>
                  </a:cubicBezTo>
                  <a:cubicBezTo>
                    <a:pt x="423" y="164"/>
                    <a:pt x="419" y="116"/>
                    <a:pt x="407" y="87"/>
                  </a:cubicBezTo>
                  <a:cubicBezTo>
                    <a:pt x="395" y="58"/>
                    <a:pt x="366" y="26"/>
                    <a:pt x="329" y="13"/>
                  </a:cubicBezTo>
                  <a:cubicBezTo>
                    <a:pt x="292" y="0"/>
                    <a:pt x="232" y="7"/>
                    <a:pt x="183" y="11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0" name=""/>
            <p:cNvGrpSpPr/>
            <p:nvPr/>
          </p:nvGrpSpPr>
          <p:grpSpPr>
            <a:xfrm>
              <a:off x="6762600" y="4559040"/>
              <a:ext cx="501120" cy="232920"/>
              <a:chOff x="6762600" y="4559040"/>
              <a:chExt cx="501120" cy="232920"/>
            </a:xfrm>
          </p:grpSpPr>
          <p:sp>
            <p:nvSpPr>
              <p:cNvPr id="881" name=""/>
              <p:cNvSpPr/>
              <p:nvPr/>
            </p:nvSpPr>
            <p:spPr>
              <a:xfrm>
                <a:off x="6766560" y="4663080"/>
                <a:ext cx="49680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6766560" y="465192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7263720" y="465192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6766560" y="4651920"/>
                <a:ext cx="49248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6762600" y="4559040"/>
                <a:ext cx="49644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86" name=""/>
              <p:cNvGrpSpPr/>
              <p:nvPr/>
            </p:nvGrpSpPr>
            <p:grpSpPr>
              <a:xfrm>
                <a:off x="6882120" y="4591800"/>
                <a:ext cx="245880" cy="88200"/>
                <a:chOff x="6882120" y="4591800"/>
                <a:chExt cx="245880" cy="88200"/>
              </a:xfrm>
            </p:grpSpPr>
            <p:sp>
              <p:nvSpPr>
                <p:cNvPr id="887" name=""/>
                <p:cNvSpPr/>
                <p:nvPr/>
              </p:nvSpPr>
              <p:spPr>
                <a:xfrm flipV="1">
                  <a:off x="6882120" y="459180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7050600" y="46800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>
                  <a:off x="6963120" y="459396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0" name=""/>
              <p:cNvGrpSpPr/>
              <p:nvPr/>
            </p:nvGrpSpPr>
            <p:grpSpPr>
              <a:xfrm>
                <a:off x="6882120" y="4591080"/>
                <a:ext cx="245880" cy="88200"/>
                <a:chOff x="6882120" y="4591080"/>
                <a:chExt cx="245880" cy="88200"/>
              </a:xfrm>
            </p:grpSpPr>
            <p:sp>
              <p:nvSpPr>
                <p:cNvPr id="891" name=""/>
                <p:cNvSpPr/>
                <p:nvPr/>
              </p:nvSpPr>
              <p:spPr>
                <a:xfrm>
                  <a:off x="6882120" y="467748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>
                  <a:off x="7050600" y="45910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 flipV="1">
                  <a:off x="6963120" y="459108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894" name=""/>
          <p:cNvSpPr/>
          <p:nvPr/>
        </p:nvSpPr>
        <p:spPr>
          <a:xfrm flipV="1">
            <a:off x="6210360" y="4459320"/>
            <a:ext cx="1440" cy="16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7EF2-8CEC-4C45-9690-39DAAC19B27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Network Core: Circuit Switching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nd-end resources reserved for “call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ink bandwidth,  switch capacit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dicated resources: no shar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ircuit-like (guaranteed) performan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ll setup requir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7" name=""/>
          <p:cNvSpPr/>
          <p:nvPr/>
        </p:nvSpPr>
        <p:spPr>
          <a:xfrm>
            <a:off x="6711840" y="1717560"/>
            <a:ext cx="2046240" cy="2049480"/>
          </a:xfrm>
          <a:custGeom>
            <a:avLst/>
            <a:gdLst/>
            <a:ahLst/>
            <a:rect l="l" t="t" r="r" b="b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4575240" y="1542960"/>
            <a:ext cx="2122560" cy="1943280"/>
          </a:xfrm>
          <a:custGeom>
            <a:avLst/>
            <a:gdLst/>
            <a:ahLst/>
            <a:rect l="l" t="t" r="r" b="b"/>
            <a:pathLst>
              <a:path w="1340" h="1191">
                <a:moveTo>
                  <a:pt x="550" y="42"/>
                </a:moveTo>
                <a:cubicBezTo>
                  <a:pt x="437" y="4"/>
                  <a:pt x="164" y="0"/>
                  <a:pt x="82" y="60"/>
                </a:cubicBezTo>
                <a:cubicBezTo>
                  <a:pt x="0" y="120"/>
                  <a:pt x="67" y="292"/>
                  <a:pt x="58" y="402"/>
                </a:cubicBezTo>
                <a:cubicBezTo>
                  <a:pt x="49" y="512"/>
                  <a:pt x="19" y="642"/>
                  <a:pt x="28" y="720"/>
                </a:cubicBezTo>
                <a:cubicBezTo>
                  <a:pt x="37" y="798"/>
                  <a:pt x="27" y="844"/>
                  <a:pt x="112" y="870"/>
                </a:cubicBezTo>
                <a:cubicBezTo>
                  <a:pt x="197" y="896"/>
                  <a:pt x="450" y="833"/>
                  <a:pt x="538" y="876"/>
                </a:cubicBezTo>
                <a:cubicBezTo>
                  <a:pt x="626" y="919"/>
                  <a:pt x="524" y="1091"/>
                  <a:pt x="640" y="1128"/>
                </a:cubicBezTo>
                <a:cubicBezTo>
                  <a:pt x="756" y="1165"/>
                  <a:pt x="1128" y="1191"/>
                  <a:pt x="1234" y="1098"/>
                </a:cubicBezTo>
                <a:cubicBezTo>
                  <a:pt x="1340" y="1005"/>
                  <a:pt x="1281" y="696"/>
                  <a:pt x="1276" y="570"/>
                </a:cubicBezTo>
                <a:cubicBezTo>
                  <a:pt x="1271" y="444"/>
                  <a:pt x="1290" y="389"/>
                  <a:pt x="1204" y="342"/>
                </a:cubicBezTo>
                <a:cubicBezTo>
                  <a:pt x="1118" y="295"/>
                  <a:pt x="868" y="338"/>
                  <a:pt x="760" y="288"/>
                </a:cubicBezTo>
                <a:cubicBezTo>
                  <a:pt x="652" y="238"/>
                  <a:pt x="663" y="80"/>
                  <a:pt x="550" y="42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4994280" y="3317760"/>
            <a:ext cx="3382920" cy="2714760"/>
          </a:xfrm>
          <a:custGeom>
            <a:avLst/>
            <a:gdLst/>
            <a:ahLst/>
            <a:rect l="l" t="t" r="r" b="b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0" name=""/>
          <p:cNvGrpSpPr/>
          <p:nvPr/>
        </p:nvGrpSpPr>
        <p:grpSpPr>
          <a:xfrm>
            <a:off x="4708440" y="1708200"/>
            <a:ext cx="834840" cy="390600"/>
            <a:chOff x="4708440" y="1708200"/>
            <a:chExt cx="834840" cy="390600"/>
          </a:xfrm>
        </p:grpSpPr>
        <p:pic>
          <p:nvPicPr>
            <p:cNvPr id="901" name="" descr=""/>
            <p:cNvPicPr/>
            <p:nvPr/>
          </p:nvPicPr>
          <p:blipFill>
            <a:blip r:embed="rId1"/>
            <a:stretch/>
          </p:blipFill>
          <p:spPr>
            <a:xfrm>
              <a:off x="4708440" y="1708200"/>
              <a:ext cx="473760" cy="39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2" name="" descr=""/>
            <p:cNvPicPr/>
            <p:nvPr/>
          </p:nvPicPr>
          <p:blipFill>
            <a:blip r:embed="rId2"/>
            <a:stretch/>
          </p:blipFill>
          <p:spPr>
            <a:xfrm>
              <a:off x="5225040" y="1852920"/>
              <a:ext cx="318240" cy="2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3" name=""/>
            <p:cNvSpPr/>
            <p:nvPr/>
          </p:nvSpPr>
          <p:spPr>
            <a:xfrm flipV="1">
              <a:off x="5171040" y="2004120"/>
              <a:ext cx="129960" cy="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4" name=""/>
          <p:cNvGrpSpPr/>
          <p:nvPr/>
        </p:nvGrpSpPr>
        <p:grpSpPr>
          <a:xfrm>
            <a:off x="4708440" y="2436840"/>
            <a:ext cx="834840" cy="390600"/>
            <a:chOff x="4708440" y="2436840"/>
            <a:chExt cx="834840" cy="390600"/>
          </a:xfrm>
        </p:grpSpPr>
        <p:pic>
          <p:nvPicPr>
            <p:cNvPr id="905" name="" descr=""/>
            <p:cNvPicPr/>
            <p:nvPr/>
          </p:nvPicPr>
          <p:blipFill>
            <a:blip r:embed="rId3"/>
            <a:stretch/>
          </p:blipFill>
          <p:spPr>
            <a:xfrm>
              <a:off x="4708440" y="2436840"/>
              <a:ext cx="473760" cy="39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6" name="" descr=""/>
            <p:cNvPicPr/>
            <p:nvPr/>
          </p:nvPicPr>
          <p:blipFill>
            <a:blip r:embed="rId4"/>
            <a:stretch/>
          </p:blipFill>
          <p:spPr>
            <a:xfrm>
              <a:off x="5225040" y="2581560"/>
              <a:ext cx="318240" cy="2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7" name=""/>
            <p:cNvSpPr/>
            <p:nvPr/>
          </p:nvSpPr>
          <p:spPr>
            <a:xfrm flipV="1">
              <a:off x="5171040" y="2732760"/>
              <a:ext cx="129960" cy="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8" name=""/>
          <p:cNvGrpSpPr/>
          <p:nvPr/>
        </p:nvGrpSpPr>
        <p:grpSpPr>
          <a:xfrm>
            <a:off x="5137200" y="2176560"/>
            <a:ext cx="78840" cy="261360"/>
            <a:chOff x="5137200" y="2176560"/>
            <a:chExt cx="78840" cy="261360"/>
          </a:xfrm>
        </p:grpSpPr>
        <p:sp>
          <p:nvSpPr>
            <p:cNvPr id="909" name=""/>
            <p:cNvSpPr/>
            <p:nvPr/>
          </p:nvSpPr>
          <p:spPr>
            <a:xfrm>
              <a:off x="5137200" y="2176560"/>
              <a:ext cx="72720" cy="7380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140080" y="2270520"/>
              <a:ext cx="72720" cy="7344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143320" y="2364480"/>
              <a:ext cx="72720" cy="7344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2" name=""/>
          <p:cNvGrpSpPr/>
          <p:nvPr/>
        </p:nvGrpSpPr>
        <p:grpSpPr>
          <a:xfrm>
            <a:off x="5670720" y="2792520"/>
            <a:ext cx="237960" cy="482040"/>
            <a:chOff x="5670720" y="2792520"/>
            <a:chExt cx="237960" cy="482040"/>
          </a:xfrm>
        </p:grpSpPr>
        <p:sp>
          <p:nvSpPr>
            <p:cNvPr id="913" name=""/>
            <p:cNvSpPr/>
            <p:nvPr/>
          </p:nvSpPr>
          <p:spPr>
            <a:xfrm>
              <a:off x="5670720" y="3163320"/>
              <a:ext cx="237960" cy="111240"/>
            </a:xfrm>
            <a:prstGeom prst="parallelogram">
              <a:avLst>
                <a:gd name="adj" fmla="val 82407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160" bIns="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5791320" y="2795400"/>
              <a:ext cx="109440" cy="3704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672160" y="2900520"/>
              <a:ext cx="150840" cy="3708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670720" y="2792520"/>
              <a:ext cx="237960" cy="111240"/>
            </a:xfrm>
            <a:prstGeom prst="parallelogram">
              <a:avLst>
                <a:gd name="adj" fmla="val 8240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160" bIns="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908680" y="2800080"/>
              <a:ext cx="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flipH="1">
              <a:off x="5823000" y="3163320"/>
              <a:ext cx="8568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691240" y="2949480"/>
              <a:ext cx="100080" cy="213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5705640" y="3013920"/>
              <a:ext cx="75960" cy="7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1" name=""/>
          <p:cNvGrpSpPr/>
          <p:nvPr/>
        </p:nvGrpSpPr>
        <p:grpSpPr>
          <a:xfrm>
            <a:off x="5940360" y="2980080"/>
            <a:ext cx="265320" cy="99720"/>
            <a:chOff x="5940360" y="2980080"/>
            <a:chExt cx="265320" cy="99720"/>
          </a:xfrm>
        </p:grpSpPr>
        <p:sp>
          <p:nvSpPr>
            <p:cNvPr id="922" name=""/>
            <p:cNvSpPr/>
            <p:nvPr/>
          </p:nvSpPr>
          <p:spPr>
            <a:xfrm rot="16200000">
              <a:off x="5931720" y="2996280"/>
              <a:ext cx="91800" cy="7488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 rot="16200000">
              <a:off x="6027120" y="2992680"/>
              <a:ext cx="91800" cy="74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rot="16200000">
              <a:off x="6122520" y="2988720"/>
              <a:ext cx="91800" cy="74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5" name=""/>
          <p:cNvSpPr/>
          <p:nvPr/>
        </p:nvSpPr>
        <p:spPr>
          <a:xfrm>
            <a:off x="5826240" y="2679840"/>
            <a:ext cx="5634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5829480" y="2674800"/>
            <a:ext cx="2880" cy="117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6392880" y="2673360"/>
            <a:ext cx="1440" cy="10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5484960" y="2019240"/>
            <a:ext cx="328320" cy="32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 flipV="1">
            <a:off x="5499000" y="2368440"/>
            <a:ext cx="314280" cy="40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 flipV="1">
            <a:off x="6099120" y="2473200"/>
            <a:ext cx="1800" cy="2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1" name=""/>
          <p:cNvGrpSpPr/>
          <p:nvPr/>
        </p:nvGrpSpPr>
        <p:grpSpPr>
          <a:xfrm>
            <a:off x="6234120" y="2763720"/>
            <a:ext cx="237960" cy="483840"/>
            <a:chOff x="6234120" y="2763720"/>
            <a:chExt cx="237960" cy="483840"/>
          </a:xfrm>
        </p:grpSpPr>
        <p:sp>
          <p:nvSpPr>
            <p:cNvPr id="932" name=""/>
            <p:cNvSpPr/>
            <p:nvPr/>
          </p:nvSpPr>
          <p:spPr>
            <a:xfrm>
              <a:off x="6234120" y="3135960"/>
              <a:ext cx="237960" cy="111600"/>
            </a:xfrm>
            <a:prstGeom prst="parallelogram">
              <a:avLst>
                <a:gd name="adj" fmla="val 82141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6354720" y="2766600"/>
              <a:ext cx="109440" cy="371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235560" y="2872080"/>
              <a:ext cx="150840" cy="3722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6234120" y="2763720"/>
              <a:ext cx="237960" cy="111600"/>
            </a:xfrm>
            <a:prstGeom prst="parallelogram">
              <a:avLst>
                <a:gd name="adj" fmla="val 82141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472080" y="2771280"/>
              <a:ext cx="0" cy="36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 flipH="1">
              <a:off x="6386400" y="3135960"/>
              <a:ext cx="85680" cy="10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254640" y="2921400"/>
              <a:ext cx="100080" cy="2145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269040" y="2985840"/>
              <a:ext cx="75960" cy="75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0" name=""/>
          <p:cNvGrpSpPr/>
          <p:nvPr/>
        </p:nvGrpSpPr>
        <p:grpSpPr>
          <a:xfrm>
            <a:off x="5145120" y="3521160"/>
            <a:ext cx="546120" cy="1132920"/>
            <a:chOff x="5145120" y="3521160"/>
            <a:chExt cx="546120" cy="1132920"/>
          </a:xfrm>
        </p:grpSpPr>
        <p:pic>
          <p:nvPicPr>
            <p:cNvPr id="941" name="" descr=""/>
            <p:cNvPicPr/>
            <p:nvPr/>
          </p:nvPicPr>
          <p:blipFill>
            <a:blip r:embed="rId5"/>
            <a:stretch/>
          </p:blipFill>
          <p:spPr>
            <a:xfrm>
              <a:off x="5145120" y="3521160"/>
              <a:ext cx="474480" cy="4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2" name=""/>
            <p:cNvSpPr/>
            <p:nvPr/>
          </p:nvSpPr>
          <p:spPr>
            <a:xfrm flipV="1">
              <a:off x="5608440" y="3823200"/>
              <a:ext cx="82800" cy="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43" name="" descr=""/>
            <p:cNvPicPr/>
            <p:nvPr/>
          </p:nvPicPr>
          <p:blipFill>
            <a:blip r:embed="rId6"/>
            <a:stretch/>
          </p:blipFill>
          <p:spPr>
            <a:xfrm>
              <a:off x="5145120" y="4249080"/>
              <a:ext cx="474480" cy="4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4" name=""/>
            <p:cNvSpPr/>
            <p:nvPr/>
          </p:nvSpPr>
          <p:spPr>
            <a:xfrm flipV="1">
              <a:off x="5608440" y="4555800"/>
              <a:ext cx="8280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5" name=""/>
            <p:cNvGrpSpPr/>
            <p:nvPr/>
          </p:nvGrpSpPr>
          <p:grpSpPr>
            <a:xfrm>
              <a:off x="5288040" y="3939120"/>
              <a:ext cx="81000" cy="272160"/>
              <a:chOff x="5288040" y="3939120"/>
              <a:chExt cx="81000" cy="272160"/>
            </a:xfrm>
          </p:grpSpPr>
          <p:sp>
            <p:nvSpPr>
              <p:cNvPr id="946" name=""/>
              <p:cNvSpPr/>
              <p:nvPr/>
            </p:nvSpPr>
            <p:spPr>
              <a:xfrm>
                <a:off x="5288040" y="3939120"/>
                <a:ext cx="74520" cy="7668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5291280" y="4037040"/>
                <a:ext cx="74520" cy="7632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5294520" y="4134960"/>
                <a:ext cx="74520" cy="7632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9" name=""/>
            <p:cNvSpPr/>
            <p:nvPr/>
          </p:nvSpPr>
          <p:spPr>
            <a:xfrm>
              <a:off x="5684760" y="3819600"/>
              <a:ext cx="0" cy="73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50" name="" descr=""/>
          <p:cNvPicPr/>
          <p:nvPr/>
        </p:nvPicPr>
        <p:blipFill>
          <a:blip r:embed="rId7"/>
          <a:stretch/>
        </p:blipFill>
        <p:spPr>
          <a:xfrm>
            <a:off x="6132600" y="4756320"/>
            <a:ext cx="476280" cy="406080"/>
          </a:xfrm>
          <a:prstGeom prst="rect">
            <a:avLst/>
          </a:prstGeom>
          <a:ln w="0">
            <a:noFill/>
          </a:ln>
        </p:spPr>
      </p:pic>
      <p:pic>
        <p:nvPicPr>
          <p:cNvPr id="951" name="" descr=""/>
          <p:cNvPicPr/>
          <p:nvPr/>
        </p:nvPicPr>
        <p:blipFill>
          <a:blip r:embed="rId8"/>
          <a:stretch/>
        </p:blipFill>
        <p:spPr>
          <a:xfrm>
            <a:off x="5433840" y="4743360"/>
            <a:ext cx="473400" cy="403200"/>
          </a:xfrm>
          <a:prstGeom prst="rect">
            <a:avLst/>
          </a:prstGeom>
          <a:ln w="0">
            <a:noFill/>
          </a:ln>
        </p:spPr>
      </p:pic>
      <p:sp>
        <p:nvSpPr>
          <p:cNvPr id="952" name=""/>
          <p:cNvSpPr/>
          <p:nvPr/>
        </p:nvSpPr>
        <p:spPr>
          <a:xfrm rot="16200000">
            <a:off x="5906160" y="4872600"/>
            <a:ext cx="76320" cy="7452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 rot="16200000">
            <a:off x="6002280" y="4870440"/>
            <a:ext cx="77760" cy="7452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 rot="16200000">
            <a:off x="6090120" y="4875840"/>
            <a:ext cx="76320" cy="7452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 flipV="1">
            <a:off x="6421320" y="4690800"/>
            <a:ext cx="3240" cy="7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 flipV="1">
            <a:off x="5711760" y="4676760"/>
            <a:ext cx="0" cy="77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 flipH="1">
            <a:off x="5715000" y="4684680"/>
            <a:ext cx="71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 flipV="1">
            <a:off x="5691240" y="4225680"/>
            <a:ext cx="10620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6375240" y="4282920"/>
            <a:ext cx="344520" cy="4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flipH="1">
            <a:off x="7280280" y="4278240"/>
            <a:ext cx="317520" cy="480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1" name="" descr=""/>
          <p:cNvPicPr/>
          <p:nvPr/>
        </p:nvPicPr>
        <p:blipFill>
          <a:blip r:embed="rId9"/>
          <a:stretch/>
        </p:blipFill>
        <p:spPr>
          <a:xfrm>
            <a:off x="7481880" y="3732120"/>
            <a:ext cx="231840" cy="293760"/>
          </a:xfrm>
          <a:prstGeom prst="rect">
            <a:avLst/>
          </a:prstGeom>
          <a:ln w="0">
            <a:noFill/>
          </a:ln>
        </p:spPr>
      </p:pic>
      <p:pic>
        <p:nvPicPr>
          <p:cNvPr id="962" name="" descr=""/>
          <p:cNvPicPr/>
          <p:nvPr/>
        </p:nvPicPr>
        <p:blipFill>
          <a:blip r:embed="rId10"/>
          <a:stretch/>
        </p:blipFill>
        <p:spPr>
          <a:xfrm>
            <a:off x="5961240" y="3830760"/>
            <a:ext cx="231480" cy="293400"/>
          </a:xfrm>
          <a:prstGeom prst="rect">
            <a:avLst/>
          </a:prstGeom>
          <a:ln w="0">
            <a:noFill/>
          </a:ln>
        </p:spPr>
      </p:pic>
      <p:sp>
        <p:nvSpPr>
          <p:cNvPr id="963" name=""/>
          <p:cNvSpPr/>
          <p:nvPr/>
        </p:nvSpPr>
        <p:spPr>
          <a:xfrm>
            <a:off x="6053040" y="3554280"/>
            <a:ext cx="1540080" cy="373320"/>
          </a:xfrm>
          <a:custGeom>
            <a:avLst/>
            <a:gdLst/>
            <a:ahLst/>
            <a:rect l="l" t="t" r="r" b="b"/>
            <a:pathLst>
              <a:path w="972" h="228">
                <a:moveTo>
                  <a:pt x="0" y="228"/>
                </a:moveTo>
                <a:cubicBezTo>
                  <a:pt x="135" y="123"/>
                  <a:pt x="270" y="18"/>
                  <a:pt x="432" y="9"/>
                </a:cubicBezTo>
                <a:cubicBezTo>
                  <a:pt x="594" y="0"/>
                  <a:pt x="783" y="85"/>
                  <a:pt x="972" y="171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4" name=""/>
          <p:cNvGrpSpPr/>
          <p:nvPr/>
        </p:nvGrpSpPr>
        <p:grpSpPr>
          <a:xfrm>
            <a:off x="6356520" y="5294160"/>
            <a:ext cx="462960" cy="522000"/>
            <a:chOff x="6356520" y="5294160"/>
            <a:chExt cx="462960" cy="522000"/>
          </a:xfrm>
        </p:grpSpPr>
        <p:pic>
          <p:nvPicPr>
            <p:cNvPr id="965" name="" descr=""/>
            <p:cNvPicPr/>
            <p:nvPr/>
          </p:nvPicPr>
          <p:blipFill>
            <a:blip r:embed="rId11"/>
            <a:stretch/>
          </p:blipFill>
          <p:spPr>
            <a:xfrm>
              <a:off x="6356520" y="5294160"/>
              <a:ext cx="431280" cy="46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6" name="" descr=""/>
            <p:cNvPicPr/>
            <p:nvPr/>
          </p:nvPicPr>
          <p:blipFill>
            <a:blip r:embed="rId12"/>
            <a:stretch/>
          </p:blipFill>
          <p:spPr>
            <a:xfrm>
              <a:off x="6424560" y="5430960"/>
              <a:ext cx="394920" cy="385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67" name=""/>
          <p:cNvGrpSpPr/>
          <p:nvPr/>
        </p:nvGrpSpPr>
        <p:grpSpPr>
          <a:xfrm>
            <a:off x="7242120" y="5334120"/>
            <a:ext cx="461520" cy="521640"/>
            <a:chOff x="7242120" y="5334120"/>
            <a:chExt cx="461520" cy="521640"/>
          </a:xfrm>
        </p:grpSpPr>
        <p:pic>
          <p:nvPicPr>
            <p:cNvPr id="968" name="" descr=""/>
            <p:cNvPicPr/>
            <p:nvPr/>
          </p:nvPicPr>
          <p:blipFill>
            <a:blip r:embed="rId13"/>
            <a:stretch/>
          </p:blipFill>
          <p:spPr>
            <a:xfrm>
              <a:off x="7242120" y="5334120"/>
              <a:ext cx="429840" cy="46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9" name="" descr=""/>
            <p:cNvPicPr/>
            <p:nvPr/>
          </p:nvPicPr>
          <p:blipFill>
            <a:blip r:embed="rId14"/>
            <a:stretch/>
          </p:blipFill>
          <p:spPr>
            <a:xfrm>
              <a:off x="7310160" y="5470920"/>
              <a:ext cx="393480" cy="384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70" name=""/>
          <p:cNvGrpSpPr/>
          <p:nvPr/>
        </p:nvGrpSpPr>
        <p:grpSpPr>
          <a:xfrm>
            <a:off x="6770520" y="4986360"/>
            <a:ext cx="432000" cy="460080"/>
            <a:chOff x="6770520" y="4986360"/>
            <a:chExt cx="432000" cy="460080"/>
          </a:xfrm>
        </p:grpSpPr>
        <p:pic>
          <p:nvPicPr>
            <p:cNvPr id="971" name="" descr=""/>
            <p:cNvPicPr/>
            <p:nvPr/>
          </p:nvPicPr>
          <p:blipFill>
            <a:blip r:embed="rId15"/>
            <a:stretch/>
          </p:blipFill>
          <p:spPr>
            <a:xfrm>
              <a:off x="6770520" y="4986360"/>
              <a:ext cx="432000" cy="46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2" name=""/>
            <p:cNvSpPr/>
            <p:nvPr/>
          </p:nvSpPr>
          <p:spPr>
            <a:xfrm>
              <a:off x="6896160" y="5148000"/>
              <a:ext cx="304560" cy="2984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3" name=""/>
          <p:cNvSpPr/>
          <p:nvPr/>
        </p:nvSpPr>
        <p:spPr>
          <a:xfrm>
            <a:off x="7118280" y="4867200"/>
            <a:ext cx="0" cy="27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4" name=""/>
          <p:cNvGrpSpPr/>
          <p:nvPr/>
        </p:nvGrpSpPr>
        <p:grpSpPr>
          <a:xfrm>
            <a:off x="7939080" y="4162320"/>
            <a:ext cx="236520" cy="501480"/>
            <a:chOff x="7939080" y="4162320"/>
            <a:chExt cx="236520" cy="501480"/>
          </a:xfrm>
        </p:grpSpPr>
        <p:sp>
          <p:nvSpPr>
            <p:cNvPr id="975" name=""/>
            <p:cNvSpPr/>
            <p:nvPr/>
          </p:nvSpPr>
          <p:spPr>
            <a:xfrm>
              <a:off x="7939080" y="4547880"/>
              <a:ext cx="236520" cy="115920"/>
            </a:xfrm>
            <a:prstGeom prst="parallelogram">
              <a:avLst>
                <a:gd name="adj" fmla="val 78601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8058600" y="4165560"/>
              <a:ext cx="108720" cy="38520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7940160" y="4274640"/>
              <a:ext cx="149760" cy="3855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7939080" y="4162320"/>
              <a:ext cx="236520" cy="115920"/>
            </a:xfrm>
            <a:prstGeom prst="parallelogram">
              <a:avLst>
                <a:gd name="adj" fmla="val 78601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8175600" y="4170240"/>
              <a:ext cx="0" cy="37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 flipH="1">
              <a:off x="8090280" y="4547880"/>
              <a:ext cx="84960" cy="11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7959240" y="4325760"/>
              <a:ext cx="99360" cy="2221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7973640" y="4392720"/>
              <a:ext cx="75240" cy="7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3" name=""/>
          <p:cNvGrpSpPr/>
          <p:nvPr/>
        </p:nvGrpSpPr>
        <p:grpSpPr>
          <a:xfrm>
            <a:off x="7924680" y="4707000"/>
            <a:ext cx="236520" cy="499680"/>
            <a:chOff x="7924680" y="4707000"/>
            <a:chExt cx="236520" cy="499680"/>
          </a:xfrm>
        </p:grpSpPr>
        <p:sp>
          <p:nvSpPr>
            <p:cNvPr id="984" name=""/>
            <p:cNvSpPr/>
            <p:nvPr/>
          </p:nvSpPr>
          <p:spPr>
            <a:xfrm>
              <a:off x="7924680" y="5091120"/>
              <a:ext cx="236520" cy="115560"/>
            </a:xfrm>
            <a:prstGeom prst="parallelogram">
              <a:avLst>
                <a:gd name="adj" fmla="val 78846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8044200" y="4710240"/>
              <a:ext cx="108720" cy="3837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7925760" y="4818960"/>
              <a:ext cx="149760" cy="3841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7924680" y="4707000"/>
              <a:ext cx="236520" cy="115560"/>
            </a:xfrm>
            <a:prstGeom prst="parallelogram">
              <a:avLst>
                <a:gd name="adj" fmla="val 78846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8161200" y="4714920"/>
              <a:ext cx="0" cy="37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 flipH="1">
              <a:off x="8075880" y="5091120"/>
              <a:ext cx="84960" cy="11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7944840" y="4869720"/>
              <a:ext cx="99360" cy="221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7959240" y="4936680"/>
              <a:ext cx="75240" cy="7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2" name=""/>
          <p:cNvSpPr/>
          <p:nvPr/>
        </p:nvSpPr>
        <p:spPr>
          <a:xfrm flipV="1">
            <a:off x="7846920" y="4246200"/>
            <a:ext cx="0" cy="747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7842240" y="4991040"/>
            <a:ext cx="117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7839000" y="4408560"/>
            <a:ext cx="10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 flipV="1">
            <a:off x="6388200" y="2081160"/>
            <a:ext cx="520560" cy="254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7451640" y="2062080"/>
            <a:ext cx="552600" cy="254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H="1">
            <a:off x="8042400" y="2473200"/>
            <a:ext cx="272880" cy="83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7165800" y="2198520"/>
            <a:ext cx="0" cy="52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7194600" y="2990880"/>
            <a:ext cx="608040" cy="45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 flipH="1">
            <a:off x="7718400" y="3560760"/>
            <a:ext cx="303120" cy="441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 flipH="1">
            <a:off x="7459200" y="2433600"/>
            <a:ext cx="638280" cy="46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 flipH="1">
            <a:off x="7470360" y="1749600"/>
            <a:ext cx="398520" cy="31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 flipH="1">
            <a:off x="8286480" y="1963800"/>
            <a:ext cx="23004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4" name=""/>
          <p:cNvGrpSpPr/>
          <p:nvPr/>
        </p:nvGrpSpPr>
        <p:grpSpPr>
          <a:xfrm>
            <a:off x="5797440" y="2198520"/>
            <a:ext cx="569880" cy="285480"/>
            <a:chOff x="5797440" y="2198520"/>
            <a:chExt cx="569880" cy="285480"/>
          </a:xfrm>
        </p:grpSpPr>
        <p:sp>
          <p:nvSpPr>
            <p:cNvPr id="1005" name=""/>
            <p:cNvSpPr/>
            <p:nvPr/>
          </p:nvSpPr>
          <p:spPr>
            <a:xfrm>
              <a:off x="5801760" y="2325960"/>
              <a:ext cx="565200" cy="1580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801760" y="2312640"/>
              <a:ext cx="0" cy="9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6367320" y="2312640"/>
              <a:ext cx="0" cy="9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5801760" y="2312640"/>
              <a:ext cx="560160" cy="964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797440" y="2198520"/>
              <a:ext cx="564840" cy="1843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0" name=""/>
            <p:cNvGrpSpPr/>
            <p:nvPr/>
          </p:nvGrpSpPr>
          <p:grpSpPr>
            <a:xfrm>
              <a:off x="5933160" y="2239200"/>
              <a:ext cx="279720" cy="107640"/>
              <a:chOff x="5933160" y="2239200"/>
              <a:chExt cx="279720" cy="107640"/>
            </a:xfrm>
          </p:grpSpPr>
          <p:sp>
            <p:nvSpPr>
              <p:cNvPr id="1011" name=""/>
              <p:cNvSpPr/>
              <p:nvPr/>
            </p:nvSpPr>
            <p:spPr>
              <a:xfrm flipV="1">
                <a:off x="5933160" y="2239200"/>
                <a:ext cx="99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6125040" y="2346840"/>
                <a:ext cx="8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6024960" y="2241360"/>
                <a:ext cx="103680" cy="10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4" name=""/>
            <p:cNvGrpSpPr/>
            <p:nvPr/>
          </p:nvGrpSpPr>
          <p:grpSpPr>
            <a:xfrm>
              <a:off x="5933160" y="2237400"/>
              <a:ext cx="279720" cy="107640"/>
              <a:chOff x="5933160" y="2237400"/>
              <a:chExt cx="279720" cy="107640"/>
            </a:xfrm>
          </p:grpSpPr>
          <p:sp>
            <p:nvSpPr>
              <p:cNvPr id="1015" name=""/>
              <p:cNvSpPr/>
              <p:nvPr/>
            </p:nvSpPr>
            <p:spPr>
              <a:xfrm>
                <a:off x="5933160" y="2342880"/>
                <a:ext cx="99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6125040" y="2237400"/>
                <a:ext cx="8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 flipV="1">
                <a:off x="6024960" y="2237400"/>
                <a:ext cx="103680" cy="10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18" name=""/>
          <p:cNvGrpSpPr/>
          <p:nvPr/>
        </p:nvGrpSpPr>
        <p:grpSpPr>
          <a:xfrm>
            <a:off x="6880320" y="1919160"/>
            <a:ext cx="571320" cy="285480"/>
            <a:chOff x="6880320" y="1919160"/>
            <a:chExt cx="571320" cy="285480"/>
          </a:xfrm>
        </p:grpSpPr>
        <p:sp>
          <p:nvSpPr>
            <p:cNvPr id="1019" name=""/>
            <p:cNvSpPr/>
            <p:nvPr/>
          </p:nvSpPr>
          <p:spPr>
            <a:xfrm>
              <a:off x="6884640" y="2046600"/>
              <a:ext cx="566640" cy="1580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6884640" y="2033280"/>
              <a:ext cx="0" cy="9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7451640" y="2033280"/>
              <a:ext cx="0" cy="9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6884640" y="2033280"/>
              <a:ext cx="561600" cy="964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6880320" y="1919160"/>
              <a:ext cx="566280" cy="1843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4" name=""/>
            <p:cNvGrpSpPr/>
            <p:nvPr/>
          </p:nvGrpSpPr>
          <p:grpSpPr>
            <a:xfrm>
              <a:off x="7016400" y="1959840"/>
              <a:ext cx="280440" cy="107640"/>
              <a:chOff x="7016400" y="1959840"/>
              <a:chExt cx="280440" cy="107640"/>
            </a:xfrm>
          </p:grpSpPr>
          <p:sp>
            <p:nvSpPr>
              <p:cNvPr id="1025" name=""/>
              <p:cNvSpPr/>
              <p:nvPr/>
            </p:nvSpPr>
            <p:spPr>
              <a:xfrm flipV="1">
                <a:off x="7016400" y="1959840"/>
                <a:ext cx="1000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7208640" y="2067480"/>
                <a:ext cx="88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7108560" y="1962000"/>
                <a:ext cx="104040" cy="10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8" name=""/>
            <p:cNvGrpSpPr/>
            <p:nvPr/>
          </p:nvGrpSpPr>
          <p:grpSpPr>
            <a:xfrm>
              <a:off x="7016400" y="1958040"/>
              <a:ext cx="280440" cy="107640"/>
              <a:chOff x="7016400" y="1958040"/>
              <a:chExt cx="280440" cy="107640"/>
            </a:xfrm>
          </p:grpSpPr>
          <p:sp>
            <p:nvSpPr>
              <p:cNvPr id="1029" name=""/>
              <p:cNvSpPr/>
              <p:nvPr/>
            </p:nvSpPr>
            <p:spPr>
              <a:xfrm>
                <a:off x="7016400" y="2063520"/>
                <a:ext cx="1000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7208640" y="1958040"/>
                <a:ext cx="88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 flipV="1">
                <a:off x="7108560" y="1958040"/>
                <a:ext cx="104040" cy="10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32" name=""/>
          <p:cNvGrpSpPr/>
          <p:nvPr/>
        </p:nvGrpSpPr>
        <p:grpSpPr>
          <a:xfrm>
            <a:off x="6900840" y="2724120"/>
            <a:ext cx="569880" cy="285480"/>
            <a:chOff x="6900840" y="2724120"/>
            <a:chExt cx="569880" cy="285480"/>
          </a:xfrm>
        </p:grpSpPr>
        <p:sp>
          <p:nvSpPr>
            <p:cNvPr id="1033" name=""/>
            <p:cNvSpPr/>
            <p:nvPr/>
          </p:nvSpPr>
          <p:spPr>
            <a:xfrm>
              <a:off x="6905160" y="2851560"/>
              <a:ext cx="565200" cy="1580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6905160" y="2838240"/>
              <a:ext cx="0" cy="9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7470720" y="2838240"/>
              <a:ext cx="0" cy="9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905160" y="2838240"/>
              <a:ext cx="560160" cy="964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6900840" y="2724120"/>
              <a:ext cx="564840" cy="1843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8" name=""/>
            <p:cNvGrpSpPr/>
            <p:nvPr/>
          </p:nvGrpSpPr>
          <p:grpSpPr>
            <a:xfrm>
              <a:off x="7036560" y="2764800"/>
              <a:ext cx="279720" cy="107640"/>
              <a:chOff x="7036560" y="2764800"/>
              <a:chExt cx="279720" cy="107640"/>
            </a:xfrm>
          </p:grpSpPr>
          <p:sp>
            <p:nvSpPr>
              <p:cNvPr id="1039" name=""/>
              <p:cNvSpPr/>
              <p:nvPr/>
            </p:nvSpPr>
            <p:spPr>
              <a:xfrm flipV="1">
                <a:off x="7036560" y="2764800"/>
                <a:ext cx="99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7228440" y="2872440"/>
                <a:ext cx="8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7128360" y="2766960"/>
                <a:ext cx="103680" cy="10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2" name=""/>
            <p:cNvGrpSpPr/>
            <p:nvPr/>
          </p:nvGrpSpPr>
          <p:grpSpPr>
            <a:xfrm>
              <a:off x="7036560" y="2763000"/>
              <a:ext cx="279720" cy="107640"/>
              <a:chOff x="7036560" y="2763000"/>
              <a:chExt cx="279720" cy="107640"/>
            </a:xfrm>
          </p:grpSpPr>
          <p:sp>
            <p:nvSpPr>
              <p:cNvPr id="1043" name=""/>
              <p:cNvSpPr/>
              <p:nvPr/>
            </p:nvSpPr>
            <p:spPr>
              <a:xfrm>
                <a:off x="7036560" y="2868480"/>
                <a:ext cx="99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7228440" y="2763000"/>
                <a:ext cx="8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 flipV="1">
                <a:off x="7128360" y="2763000"/>
                <a:ext cx="103680" cy="10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46" name=""/>
          <p:cNvGrpSpPr/>
          <p:nvPr/>
        </p:nvGrpSpPr>
        <p:grpSpPr>
          <a:xfrm>
            <a:off x="8004240" y="2174760"/>
            <a:ext cx="568440" cy="284040"/>
            <a:chOff x="8004240" y="2174760"/>
            <a:chExt cx="568440" cy="284040"/>
          </a:xfrm>
        </p:grpSpPr>
        <p:sp>
          <p:nvSpPr>
            <p:cNvPr id="1047" name=""/>
            <p:cNvSpPr/>
            <p:nvPr/>
          </p:nvSpPr>
          <p:spPr>
            <a:xfrm>
              <a:off x="8008560" y="2301480"/>
              <a:ext cx="563760" cy="1573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8008560" y="2288160"/>
              <a:ext cx="0" cy="9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8572680" y="2288160"/>
              <a:ext cx="0" cy="9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8008560" y="2288160"/>
              <a:ext cx="558720" cy="96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8004240" y="2174760"/>
              <a:ext cx="563400" cy="1836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2" name=""/>
            <p:cNvGrpSpPr/>
            <p:nvPr/>
          </p:nvGrpSpPr>
          <p:grpSpPr>
            <a:xfrm>
              <a:off x="8139600" y="2215080"/>
              <a:ext cx="278640" cy="107280"/>
              <a:chOff x="8139600" y="2215080"/>
              <a:chExt cx="278640" cy="107280"/>
            </a:xfrm>
          </p:grpSpPr>
          <p:sp>
            <p:nvSpPr>
              <p:cNvPr id="1053" name=""/>
              <p:cNvSpPr/>
              <p:nvPr/>
            </p:nvSpPr>
            <p:spPr>
              <a:xfrm flipV="1">
                <a:off x="8139600" y="2215080"/>
                <a:ext cx="9936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8330760" y="2322360"/>
                <a:ext cx="87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8231400" y="2217240"/>
                <a:ext cx="10332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6" name=""/>
            <p:cNvGrpSpPr/>
            <p:nvPr/>
          </p:nvGrpSpPr>
          <p:grpSpPr>
            <a:xfrm>
              <a:off x="8139600" y="2213640"/>
              <a:ext cx="278640" cy="107280"/>
              <a:chOff x="8139600" y="2213640"/>
              <a:chExt cx="278640" cy="107280"/>
            </a:xfrm>
          </p:grpSpPr>
          <p:sp>
            <p:nvSpPr>
              <p:cNvPr id="1057" name=""/>
              <p:cNvSpPr/>
              <p:nvPr/>
            </p:nvSpPr>
            <p:spPr>
              <a:xfrm>
                <a:off x="8139600" y="2318760"/>
                <a:ext cx="9936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8330760" y="2213640"/>
                <a:ext cx="87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 flipV="1">
                <a:off x="8231400" y="2213640"/>
                <a:ext cx="10332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60" name=""/>
          <p:cNvGrpSpPr/>
          <p:nvPr/>
        </p:nvGrpSpPr>
        <p:grpSpPr>
          <a:xfrm>
            <a:off x="7783560" y="3271680"/>
            <a:ext cx="569880" cy="284040"/>
            <a:chOff x="7783560" y="3271680"/>
            <a:chExt cx="569880" cy="284040"/>
          </a:xfrm>
        </p:grpSpPr>
        <p:sp>
          <p:nvSpPr>
            <p:cNvPr id="1061" name=""/>
            <p:cNvSpPr/>
            <p:nvPr/>
          </p:nvSpPr>
          <p:spPr>
            <a:xfrm>
              <a:off x="7787880" y="3398400"/>
              <a:ext cx="565200" cy="1573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7787880" y="3385080"/>
              <a:ext cx="0" cy="9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8353440" y="3385080"/>
              <a:ext cx="0" cy="9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7787880" y="3385080"/>
              <a:ext cx="560160" cy="96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7783560" y="3271680"/>
              <a:ext cx="564840" cy="1836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6" name=""/>
            <p:cNvGrpSpPr/>
            <p:nvPr/>
          </p:nvGrpSpPr>
          <p:grpSpPr>
            <a:xfrm>
              <a:off x="7919280" y="3312000"/>
              <a:ext cx="279720" cy="107280"/>
              <a:chOff x="7919280" y="3312000"/>
              <a:chExt cx="279720" cy="107280"/>
            </a:xfrm>
          </p:grpSpPr>
          <p:sp>
            <p:nvSpPr>
              <p:cNvPr id="1067" name=""/>
              <p:cNvSpPr/>
              <p:nvPr/>
            </p:nvSpPr>
            <p:spPr>
              <a:xfrm flipV="1">
                <a:off x="7919280" y="3312000"/>
                <a:ext cx="99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8111160" y="3419280"/>
                <a:ext cx="8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8011080" y="3314160"/>
                <a:ext cx="10368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0" name=""/>
            <p:cNvGrpSpPr/>
            <p:nvPr/>
          </p:nvGrpSpPr>
          <p:grpSpPr>
            <a:xfrm>
              <a:off x="7919280" y="3310560"/>
              <a:ext cx="279720" cy="107280"/>
              <a:chOff x="7919280" y="3310560"/>
              <a:chExt cx="279720" cy="107280"/>
            </a:xfrm>
          </p:grpSpPr>
          <p:sp>
            <p:nvSpPr>
              <p:cNvPr id="1071" name=""/>
              <p:cNvSpPr/>
              <p:nvPr/>
            </p:nvSpPr>
            <p:spPr>
              <a:xfrm>
                <a:off x="7919280" y="3415680"/>
                <a:ext cx="99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8111160" y="3310560"/>
                <a:ext cx="8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 flipV="1">
                <a:off x="8011080" y="3310560"/>
                <a:ext cx="10368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74" name=""/>
          <p:cNvGrpSpPr/>
          <p:nvPr/>
        </p:nvGrpSpPr>
        <p:grpSpPr>
          <a:xfrm>
            <a:off x="7404120" y="3986280"/>
            <a:ext cx="569880" cy="286920"/>
            <a:chOff x="7404120" y="3986280"/>
            <a:chExt cx="569880" cy="286920"/>
          </a:xfrm>
        </p:grpSpPr>
        <p:sp>
          <p:nvSpPr>
            <p:cNvPr id="1075" name=""/>
            <p:cNvSpPr/>
            <p:nvPr/>
          </p:nvSpPr>
          <p:spPr>
            <a:xfrm>
              <a:off x="7408440" y="4114440"/>
              <a:ext cx="565200" cy="1587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7408440" y="4100760"/>
              <a:ext cx="0" cy="9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7974000" y="4100760"/>
              <a:ext cx="0" cy="9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7408440" y="4100760"/>
              <a:ext cx="560160" cy="97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404120" y="3986280"/>
              <a:ext cx="564840" cy="1854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0" name=""/>
            <p:cNvGrpSpPr/>
            <p:nvPr/>
          </p:nvGrpSpPr>
          <p:grpSpPr>
            <a:xfrm>
              <a:off x="7539840" y="4026960"/>
              <a:ext cx="279720" cy="108360"/>
              <a:chOff x="7539840" y="4026960"/>
              <a:chExt cx="279720" cy="108360"/>
            </a:xfrm>
          </p:grpSpPr>
          <p:sp>
            <p:nvSpPr>
              <p:cNvPr id="1081" name=""/>
              <p:cNvSpPr/>
              <p:nvPr/>
            </p:nvSpPr>
            <p:spPr>
              <a:xfrm flipV="1">
                <a:off x="7539840" y="4026960"/>
                <a:ext cx="99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7731720" y="4135320"/>
                <a:ext cx="8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7631640" y="4029120"/>
                <a:ext cx="103680" cy="106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4" name=""/>
            <p:cNvGrpSpPr/>
            <p:nvPr/>
          </p:nvGrpSpPr>
          <p:grpSpPr>
            <a:xfrm>
              <a:off x="7539840" y="4025160"/>
              <a:ext cx="279720" cy="108360"/>
              <a:chOff x="7539840" y="4025160"/>
              <a:chExt cx="279720" cy="108360"/>
            </a:xfrm>
          </p:grpSpPr>
          <p:sp>
            <p:nvSpPr>
              <p:cNvPr id="1085" name=""/>
              <p:cNvSpPr/>
              <p:nvPr/>
            </p:nvSpPr>
            <p:spPr>
              <a:xfrm>
                <a:off x="7539840" y="4131360"/>
                <a:ext cx="99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7731720" y="4025160"/>
                <a:ext cx="8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 flipV="1">
                <a:off x="7631640" y="4025160"/>
                <a:ext cx="103680" cy="106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88" name=""/>
          <p:cNvGrpSpPr/>
          <p:nvPr/>
        </p:nvGrpSpPr>
        <p:grpSpPr>
          <a:xfrm>
            <a:off x="6710400" y="4584600"/>
            <a:ext cx="569880" cy="284040"/>
            <a:chOff x="6710400" y="4584600"/>
            <a:chExt cx="569880" cy="284040"/>
          </a:xfrm>
        </p:grpSpPr>
        <p:sp>
          <p:nvSpPr>
            <p:cNvPr id="1089" name=""/>
            <p:cNvSpPr/>
            <p:nvPr/>
          </p:nvSpPr>
          <p:spPr>
            <a:xfrm>
              <a:off x="6714720" y="4711320"/>
              <a:ext cx="565200" cy="1573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6714720" y="4698000"/>
              <a:ext cx="0" cy="9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7280280" y="4698000"/>
              <a:ext cx="0" cy="9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6714720" y="4698000"/>
              <a:ext cx="560160" cy="96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6710400" y="4584600"/>
              <a:ext cx="564840" cy="1836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4" name=""/>
            <p:cNvGrpSpPr/>
            <p:nvPr/>
          </p:nvGrpSpPr>
          <p:grpSpPr>
            <a:xfrm>
              <a:off x="6846120" y="4624920"/>
              <a:ext cx="279720" cy="107280"/>
              <a:chOff x="6846120" y="4624920"/>
              <a:chExt cx="279720" cy="107280"/>
            </a:xfrm>
          </p:grpSpPr>
          <p:sp>
            <p:nvSpPr>
              <p:cNvPr id="1095" name=""/>
              <p:cNvSpPr/>
              <p:nvPr/>
            </p:nvSpPr>
            <p:spPr>
              <a:xfrm flipV="1">
                <a:off x="6846120" y="4624920"/>
                <a:ext cx="99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7038000" y="4732200"/>
                <a:ext cx="8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6937920" y="4627080"/>
                <a:ext cx="10368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8" name=""/>
            <p:cNvGrpSpPr/>
            <p:nvPr/>
          </p:nvGrpSpPr>
          <p:grpSpPr>
            <a:xfrm>
              <a:off x="6846120" y="4623480"/>
              <a:ext cx="279720" cy="107280"/>
              <a:chOff x="6846120" y="4623480"/>
              <a:chExt cx="279720" cy="107280"/>
            </a:xfrm>
          </p:grpSpPr>
          <p:sp>
            <p:nvSpPr>
              <p:cNvPr id="1099" name=""/>
              <p:cNvSpPr/>
              <p:nvPr/>
            </p:nvSpPr>
            <p:spPr>
              <a:xfrm>
                <a:off x="6846120" y="4728600"/>
                <a:ext cx="99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7038000" y="4623480"/>
                <a:ext cx="8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 flipV="1">
                <a:off x="6937920" y="4623480"/>
                <a:ext cx="10368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02" name=""/>
          <p:cNvGrpSpPr/>
          <p:nvPr/>
        </p:nvGrpSpPr>
        <p:grpSpPr>
          <a:xfrm>
            <a:off x="5797440" y="4124160"/>
            <a:ext cx="569880" cy="284040"/>
            <a:chOff x="5797440" y="4124160"/>
            <a:chExt cx="569880" cy="284040"/>
          </a:xfrm>
        </p:grpSpPr>
        <p:sp>
          <p:nvSpPr>
            <p:cNvPr id="1103" name=""/>
            <p:cNvSpPr/>
            <p:nvPr/>
          </p:nvSpPr>
          <p:spPr>
            <a:xfrm>
              <a:off x="5801760" y="4250880"/>
              <a:ext cx="565200" cy="1573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5801760" y="4237560"/>
              <a:ext cx="0" cy="9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6367320" y="4237560"/>
              <a:ext cx="0" cy="9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801760" y="4237560"/>
              <a:ext cx="560160" cy="96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797440" y="4124160"/>
              <a:ext cx="564840" cy="1836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8" name=""/>
            <p:cNvGrpSpPr/>
            <p:nvPr/>
          </p:nvGrpSpPr>
          <p:grpSpPr>
            <a:xfrm>
              <a:off x="5933160" y="4164480"/>
              <a:ext cx="279720" cy="107280"/>
              <a:chOff x="5933160" y="4164480"/>
              <a:chExt cx="279720" cy="107280"/>
            </a:xfrm>
          </p:grpSpPr>
          <p:sp>
            <p:nvSpPr>
              <p:cNvPr id="1109" name=""/>
              <p:cNvSpPr/>
              <p:nvPr/>
            </p:nvSpPr>
            <p:spPr>
              <a:xfrm flipV="1">
                <a:off x="5933160" y="4164480"/>
                <a:ext cx="99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6125040" y="4271760"/>
                <a:ext cx="8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6024960" y="4166640"/>
                <a:ext cx="10368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2" name=""/>
            <p:cNvGrpSpPr/>
            <p:nvPr/>
          </p:nvGrpSpPr>
          <p:grpSpPr>
            <a:xfrm>
              <a:off x="5933160" y="4163040"/>
              <a:ext cx="279720" cy="107280"/>
              <a:chOff x="5933160" y="4163040"/>
              <a:chExt cx="279720" cy="107280"/>
            </a:xfrm>
          </p:grpSpPr>
          <p:sp>
            <p:nvSpPr>
              <p:cNvPr id="1113" name=""/>
              <p:cNvSpPr/>
              <p:nvPr/>
            </p:nvSpPr>
            <p:spPr>
              <a:xfrm>
                <a:off x="5933160" y="4268160"/>
                <a:ext cx="99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6125040" y="4163040"/>
                <a:ext cx="8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 flipV="1">
                <a:off x="6024960" y="4163040"/>
                <a:ext cx="10368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16" name=""/>
          <p:cNvSpPr/>
          <p:nvPr/>
        </p:nvSpPr>
        <p:spPr>
          <a:xfrm>
            <a:off x="5124600" y="1933560"/>
            <a:ext cx="3038400" cy="3114720"/>
          </a:xfrm>
          <a:custGeom>
            <a:avLst/>
            <a:gdLst/>
            <a:ahLst/>
            <a:rect l="l" t="t" r="r" b="b"/>
            <a:pathLst>
              <a:path w="1914" h="1962">
                <a:moveTo>
                  <a:pt x="0" y="0"/>
                </a:moveTo>
                <a:lnTo>
                  <a:pt x="258" y="12"/>
                </a:lnTo>
                <a:lnTo>
                  <a:pt x="426" y="198"/>
                </a:lnTo>
                <a:lnTo>
                  <a:pt x="768" y="204"/>
                </a:lnTo>
                <a:lnTo>
                  <a:pt x="1086" y="48"/>
                </a:lnTo>
                <a:lnTo>
                  <a:pt x="1326" y="48"/>
                </a:lnTo>
                <a:lnTo>
                  <a:pt x="1326" y="588"/>
                </a:lnTo>
                <a:lnTo>
                  <a:pt x="1890" y="990"/>
                </a:lnTo>
                <a:lnTo>
                  <a:pt x="1662" y="1320"/>
                </a:lnTo>
                <a:lnTo>
                  <a:pt x="1662" y="1944"/>
                </a:lnTo>
                <a:lnTo>
                  <a:pt x="1914" y="1962"/>
                </a:lnTo>
              </a:path>
            </a:pathLst>
          </a:custGeom>
          <a:noFill/>
          <a:ln w="57240">
            <a:solidFill>
              <a:srgbClr val="3333cc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5991120" y="2152800"/>
            <a:ext cx="1924200" cy="2990880"/>
          </a:xfrm>
          <a:custGeom>
            <a:avLst/>
            <a:gdLst/>
            <a:ahLst/>
            <a:rect l="l" t="t" r="r" b="b"/>
            <a:pathLst>
              <a:path w="1212" h="1884">
                <a:moveTo>
                  <a:pt x="0" y="702"/>
                </a:moveTo>
                <a:lnTo>
                  <a:pt x="0" y="228"/>
                </a:lnTo>
                <a:lnTo>
                  <a:pt x="156" y="228"/>
                </a:lnTo>
                <a:lnTo>
                  <a:pt x="612" y="0"/>
                </a:lnTo>
                <a:lnTo>
                  <a:pt x="714" y="0"/>
                </a:lnTo>
                <a:lnTo>
                  <a:pt x="714" y="558"/>
                </a:lnTo>
                <a:lnTo>
                  <a:pt x="1212" y="912"/>
                </a:lnTo>
                <a:lnTo>
                  <a:pt x="720" y="1668"/>
                </a:lnTo>
                <a:lnTo>
                  <a:pt x="720" y="1884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6080040" y="4416480"/>
            <a:ext cx="1800" cy="25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5BD4-22F9-4261-B336-B36BA225F49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Network Core: Circuit Switching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7710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twork resources (e.g., bandwidth)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divided into “pieces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ieces allocated to cal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source piece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id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f not used by owning call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(no sharing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viding link bandwidth into “pieces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requency divis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me divis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7867-1A22-4E5A-9310-2FE737E0BB4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39200" y="226800"/>
            <a:ext cx="846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Circuit Switching: TDMA and TDMA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grpSp>
        <p:nvGrpSpPr>
          <p:cNvPr id="1122" name=""/>
          <p:cNvGrpSpPr/>
          <p:nvPr/>
        </p:nvGrpSpPr>
        <p:grpSpPr>
          <a:xfrm>
            <a:off x="396000" y="1585800"/>
            <a:ext cx="7236720" cy="2440800"/>
            <a:chOff x="396000" y="1585800"/>
            <a:chExt cx="7236720" cy="2440800"/>
          </a:xfrm>
        </p:grpSpPr>
        <p:sp>
          <p:nvSpPr>
            <p:cNvPr id="1123" name=""/>
            <p:cNvSpPr/>
            <p:nvPr/>
          </p:nvSpPr>
          <p:spPr>
            <a:xfrm>
              <a:off x="396000" y="1585800"/>
              <a:ext cx="104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DM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4" name=""/>
            <p:cNvGrpSpPr/>
            <p:nvPr/>
          </p:nvGrpSpPr>
          <p:grpSpPr>
            <a:xfrm>
              <a:off x="1081440" y="2196360"/>
              <a:ext cx="6551280" cy="1830240"/>
              <a:chOff x="1081440" y="2196360"/>
              <a:chExt cx="6551280" cy="1830240"/>
            </a:xfrm>
          </p:grpSpPr>
          <p:sp>
            <p:nvSpPr>
              <p:cNvPr id="1125" name=""/>
              <p:cNvSpPr/>
              <p:nvPr/>
            </p:nvSpPr>
            <p:spPr>
              <a:xfrm flipV="1">
                <a:off x="2679840" y="2196360"/>
                <a:ext cx="0" cy="129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1081440" y="2653920"/>
                <a:ext cx="1518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frequenc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2679840" y="3492360"/>
                <a:ext cx="4952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4777200" y="3566880"/>
                <a:ext cx="75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im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2756160" y="2501640"/>
                <a:ext cx="4572000" cy="914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30" name=""/>
          <p:cNvSpPr/>
          <p:nvPr/>
        </p:nvSpPr>
        <p:spPr>
          <a:xfrm>
            <a:off x="2743200" y="2514600"/>
            <a:ext cx="4572000" cy="2286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2743200" y="2743200"/>
            <a:ext cx="457200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2743200" y="2971800"/>
            <a:ext cx="4572000" cy="228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2743200" y="3200400"/>
            <a:ext cx="4572000" cy="2286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4" name=""/>
          <p:cNvGrpSpPr/>
          <p:nvPr/>
        </p:nvGrpSpPr>
        <p:grpSpPr>
          <a:xfrm>
            <a:off x="383040" y="4037040"/>
            <a:ext cx="7236720" cy="2518560"/>
            <a:chOff x="383040" y="4037040"/>
            <a:chExt cx="7236720" cy="2518560"/>
          </a:xfrm>
        </p:grpSpPr>
        <p:sp>
          <p:nvSpPr>
            <p:cNvPr id="1135" name=""/>
            <p:cNvSpPr/>
            <p:nvPr/>
          </p:nvSpPr>
          <p:spPr>
            <a:xfrm>
              <a:off x="383040" y="4037040"/>
              <a:ext cx="104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DM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V="1">
              <a:off x="2666880" y="4726080"/>
              <a:ext cx="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068480" y="51832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requenc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2666880" y="6021360"/>
              <a:ext cx="4952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764240" y="6095880"/>
              <a:ext cx="75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2743200" y="5029200"/>
              <a:ext cx="4572000" cy="914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1" name=""/>
          <p:cNvGrpSpPr/>
          <p:nvPr/>
        </p:nvGrpSpPr>
        <p:grpSpPr>
          <a:xfrm>
            <a:off x="2743200" y="5029200"/>
            <a:ext cx="3886200" cy="914400"/>
            <a:chOff x="2743200" y="5029200"/>
            <a:chExt cx="3886200" cy="914400"/>
          </a:xfrm>
        </p:grpSpPr>
        <p:sp>
          <p:nvSpPr>
            <p:cNvPr id="1142" name=""/>
            <p:cNvSpPr/>
            <p:nvPr/>
          </p:nvSpPr>
          <p:spPr>
            <a:xfrm>
              <a:off x="2743200" y="5029200"/>
              <a:ext cx="228600" cy="91440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3657600" y="5029200"/>
              <a:ext cx="228600" cy="91440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4572000" y="5029200"/>
              <a:ext cx="228600" cy="91440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486400" y="5029200"/>
              <a:ext cx="228600" cy="91440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6400800" y="5029200"/>
              <a:ext cx="228600" cy="91440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7" name=""/>
          <p:cNvGrpSpPr/>
          <p:nvPr/>
        </p:nvGrpSpPr>
        <p:grpSpPr>
          <a:xfrm>
            <a:off x="2971800" y="5029200"/>
            <a:ext cx="3886200" cy="914400"/>
            <a:chOff x="2971800" y="5029200"/>
            <a:chExt cx="3886200" cy="914400"/>
          </a:xfrm>
        </p:grpSpPr>
        <p:sp>
          <p:nvSpPr>
            <p:cNvPr id="1148" name=""/>
            <p:cNvSpPr/>
            <p:nvPr/>
          </p:nvSpPr>
          <p:spPr>
            <a:xfrm>
              <a:off x="2971800" y="5029200"/>
              <a:ext cx="228600" cy="9144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3886200" y="5029200"/>
              <a:ext cx="228600" cy="9144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800600" y="5029200"/>
              <a:ext cx="228600" cy="9144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5715000" y="5029200"/>
              <a:ext cx="228600" cy="9144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6629400" y="5029200"/>
              <a:ext cx="228600" cy="9144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3" name=""/>
          <p:cNvGrpSpPr/>
          <p:nvPr/>
        </p:nvGrpSpPr>
        <p:grpSpPr>
          <a:xfrm>
            <a:off x="3200400" y="5029200"/>
            <a:ext cx="3886200" cy="914400"/>
            <a:chOff x="3200400" y="5029200"/>
            <a:chExt cx="3886200" cy="914400"/>
          </a:xfrm>
        </p:grpSpPr>
        <p:sp>
          <p:nvSpPr>
            <p:cNvPr id="1154" name=""/>
            <p:cNvSpPr/>
            <p:nvPr/>
          </p:nvSpPr>
          <p:spPr>
            <a:xfrm>
              <a:off x="3200400" y="5029200"/>
              <a:ext cx="228600" cy="914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4114800" y="5029200"/>
              <a:ext cx="228600" cy="914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5029200" y="5029200"/>
              <a:ext cx="228600" cy="914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5943600" y="5029200"/>
              <a:ext cx="228600" cy="914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6858000" y="5029200"/>
              <a:ext cx="228600" cy="914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9" name=""/>
          <p:cNvGrpSpPr/>
          <p:nvPr/>
        </p:nvGrpSpPr>
        <p:grpSpPr>
          <a:xfrm>
            <a:off x="3429000" y="5029200"/>
            <a:ext cx="3886200" cy="914400"/>
            <a:chOff x="3429000" y="5029200"/>
            <a:chExt cx="3886200" cy="914400"/>
          </a:xfrm>
        </p:grpSpPr>
        <p:sp>
          <p:nvSpPr>
            <p:cNvPr id="1160" name=""/>
            <p:cNvSpPr/>
            <p:nvPr/>
          </p:nvSpPr>
          <p:spPr>
            <a:xfrm>
              <a:off x="3429000" y="5029200"/>
              <a:ext cx="228600" cy="91440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343400" y="5029200"/>
              <a:ext cx="228600" cy="91440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257800" y="5029200"/>
              <a:ext cx="228600" cy="91440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6172200" y="5029200"/>
              <a:ext cx="228600" cy="91440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7086600" y="5029200"/>
              <a:ext cx="228600" cy="91440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5" name=""/>
          <p:cNvGrpSpPr/>
          <p:nvPr/>
        </p:nvGrpSpPr>
        <p:grpSpPr>
          <a:xfrm>
            <a:off x="2743200" y="2743200"/>
            <a:ext cx="4572000" cy="457200"/>
            <a:chOff x="2743200" y="2743200"/>
            <a:chExt cx="4572000" cy="457200"/>
          </a:xfrm>
        </p:grpSpPr>
        <p:sp>
          <p:nvSpPr>
            <p:cNvPr id="1166" name=""/>
            <p:cNvSpPr/>
            <p:nvPr/>
          </p:nvSpPr>
          <p:spPr>
            <a:xfrm>
              <a:off x="2743200" y="2743200"/>
              <a:ext cx="457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2743200" y="2971800"/>
              <a:ext cx="457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2743200" y="3200400"/>
              <a:ext cx="457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9" name=""/>
          <p:cNvGrpSpPr/>
          <p:nvPr/>
        </p:nvGrpSpPr>
        <p:grpSpPr>
          <a:xfrm>
            <a:off x="2971800" y="5029200"/>
            <a:ext cx="4114800" cy="914400"/>
            <a:chOff x="2971800" y="5029200"/>
            <a:chExt cx="4114800" cy="914400"/>
          </a:xfrm>
        </p:grpSpPr>
        <p:sp>
          <p:nvSpPr>
            <p:cNvPr id="1170" name=""/>
            <p:cNvSpPr/>
            <p:nvPr/>
          </p:nvSpPr>
          <p:spPr>
            <a:xfrm>
              <a:off x="297180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320040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342900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365760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388620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411480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434340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57200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80060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02920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525780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548640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571500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594360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617220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640080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662940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685800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708660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9" name=""/>
          <p:cNvGrpSpPr/>
          <p:nvPr/>
        </p:nvGrpSpPr>
        <p:grpSpPr>
          <a:xfrm>
            <a:off x="2743200" y="2629080"/>
            <a:ext cx="4572000" cy="685800"/>
            <a:chOff x="2743200" y="2629080"/>
            <a:chExt cx="4572000" cy="685800"/>
          </a:xfrm>
        </p:grpSpPr>
        <p:sp>
          <p:nvSpPr>
            <p:cNvPr id="1190" name=""/>
            <p:cNvSpPr/>
            <p:nvPr/>
          </p:nvSpPr>
          <p:spPr>
            <a:xfrm>
              <a:off x="2743200" y="2629080"/>
              <a:ext cx="4572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2743200" y="2857680"/>
              <a:ext cx="4572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2743200" y="3086280"/>
              <a:ext cx="4572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2743200" y="3314880"/>
              <a:ext cx="4572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4" name=""/>
          <p:cNvGrpSpPr/>
          <p:nvPr/>
        </p:nvGrpSpPr>
        <p:grpSpPr>
          <a:xfrm>
            <a:off x="2857680" y="5029200"/>
            <a:ext cx="4343400" cy="914400"/>
            <a:chOff x="2857680" y="5029200"/>
            <a:chExt cx="4343400" cy="914400"/>
          </a:xfrm>
        </p:grpSpPr>
        <p:sp>
          <p:nvSpPr>
            <p:cNvPr id="1195" name=""/>
            <p:cNvSpPr/>
            <p:nvPr/>
          </p:nvSpPr>
          <p:spPr>
            <a:xfrm>
              <a:off x="285768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308628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331488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354348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77208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00068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22928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45788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68648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91508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514368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537228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560088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582948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605808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628668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651528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674388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697248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720108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5" name=""/>
          <p:cNvGrpSpPr/>
          <p:nvPr/>
        </p:nvGrpSpPr>
        <p:grpSpPr>
          <a:xfrm>
            <a:off x="5370840" y="1257480"/>
            <a:ext cx="2707920" cy="954720"/>
            <a:chOff x="5370840" y="1257480"/>
            <a:chExt cx="2707920" cy="954720"/>
          </a:xfrm>
        </p:grpSpPr>
        <p:grpSp>
          <p:nvGrpSpPr>
            <p:cNvPr id="1216" name=""/>
            <p:cNvGrpSpPr/>
            <p:nvPr/>
          </p:nvGrpSpPr>
          <p:grpSpPr>
            <a:xfrm>
              <a:off x="5370840" y="1752480"/>
              <a:ext cx="2707920" cy="459720"/>
              <a:chOff x="5370840" y="1752480"/>
              <a:chExt cx="2707920" cy="459720"/>
            </a:xfrm>
          </p:grpSpPr>
          <p:sp>
            <p:nvSpPr>
              <p:cNvPr id="1217" name=""/>
              <p:cNvSpPr/>
              <p:nvPr/>
            </p:nvSpPr>
            <p:spPr>
              <a:xfrm>
                <a:off x="5370840" y="1752480"/>
                <a:ext cx="1180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4 user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6935760" y="1854000"/>
                <a:ext cx="228600" cy="228600"/>
              </a:xfrm>
              <a:prstGeom prst="rect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7240680" y="1854000"/>
                <a:ext cx="228600" cy="2286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7545240" y="1854000"/>
                <a:ext cx="228600" cy="22860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7850160" y="1854000"/>
                <a:ext cx="228600" cy="22860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2" name=""/>
            <p:cNvSpPr/>
            <p:nvPr/>
          </p:nvSpPr>
          <p:spPr>
            <a:xfrm>
              <a:off x="5375520" y="1257480"/>
              <a:ext cx="145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xampl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A2FA-276F-4463-ABDE-1B11E2314B6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5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Network Core: Packet Switching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4343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each end-end data stream divided into </a:t>
            </a:r>
            <a:r>
              <a:rPr b="0" i="1" lang="en-US" sz="2000" spc="-1" strike="noStrike">
                <a:solidFill>
                  <a:srgbClr val="ff0000"/>
                </a:solidFill>
                <a:latin typeface="Comic Sans MS"/>
              </a:rPr>
              <a:t>packe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r A, B packets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shar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network resource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ach packet uses full link bandwidth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sources used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as neede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5" name=""/>
          <p:cNvSpPr/>
          <p:nvPr/>
        </p:nvSpPr>
        <p:spPr>
          <a:xfrm>
            <a:off x="5029200" y="1249200"/>
            <a:ext cx="38862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resource contention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ggregate resource demand can exceed amount 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gestion: packets queue, wait for link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ore and forward: packets move one hop at a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nsmit over 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ait turn at next 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6" name=""/>
          <p:cNvGrpSpPr/>
          <p:nvPr/>
        </p:nvGrpSpPr>
        <p:grpSpPr>
          <a:xfrm>
            <a:off x="611280" y="4648320"/>
            <a:ext cx="3682800" cy="1946160"/>
            <a:chOff x="611280" y="4648320"/>
            <a:chExt cx="3682800" cy="1946160"/>
          </a:xfrm>
        </p:grpSpPr>
        <p:sp>
          <p:nvSpPr>
            <p:cNvPr id="1227" name=""/>
            <p:cNvSpPr/>
            <p:nvPr/>
          </p:nvSpPr>
          <p:spPr>
            <a:xfrm>
              <a:off x="611280" y="5050800"/>
              <a:ext cx="3682800" cy="114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1000"/>
            </a:bodyPr>
            <a:p>
              <a:pPr marL="312120" indent="-31212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Bandwidth division into “pieces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12120" indent="-31212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Dedicated allo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12120" indent="-31212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Resource reserv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1236600" y="4648320"/>
              <a:ext cx="2153880" cy="194616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1653480" y="4849560"/>
              <a:ext cx="1389600" cy="1476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15E3-7EFA-4FAE-9176-B2DFD474A5C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Visualizing the Internet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4190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illions of connected computing devices: </a:t>
            </a:r>
            <a:r>
              <a:rPr b="0" i="1" lang="en-US" sz="2000" spc="-1" strike="noStrike">
                <a:solidFill>
                  <a:srgbClr val="ff0000"/>
                </a:solidFill>
                <a:latin typeface="Comic Sans MS"/>
              </a:rPr>
              <a:t>hosts, end-system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c’s workstations, serve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DA’s phones, toaste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unning </a:t>
            </a:r>
            <a:r>
              <a:rPr b="0" i="1" lang="en-US" sz="2000" spc="-1" strike="noStrike">
                <a:solidFill>
                  <a:srgbClr val="ff0000"/>
                </a:solidFill>
                <a:latin typeface="Comic Sans MS"/>
              </a:rPr>
              <a:t>network app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Comic Sans MS"/>
              </a:rPr>
              <a:t>communication link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iber, copper, radio, satelli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Comic Sans MS"/>
              </a:rPr>
              <a:t>routers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forward packets (chunks) of data thru networ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4894200" y="1079640"/>
            <a:ext cx="3687480" cy="4959000"/>
            <a:chOff x="4894200" y="1079640"/>
            <a:chExt cx="3687480" cy="4959000"/>
          </a:xfrm>
        </p:grpSpPr>
        <p:sp>
          <p:nvSpPr>
            <p:cNvPr id="55" name=""/>
            <p:cNvSpPr/>
            <p:nvPr/>
          </p:nvSpPr>
          <p:spPr>
            <a:xfrm>
              <a:off x="6772680" y="2483640"/>
              <a:ext cx="1799640" cy="1675080"/>
            </a:xfrm>
            <a:custGeom>
              <a:avLst/>
              <a:gdLst/>
              <a:ahLst/>
              <a:rect l="l" t="t" r="r" b="b"/>
              <a:pathLst>
                <a:path w="1292" h="1255">
                  <a:moveTo>
                    <a:pt x="239" y="7"/>
                  </a:moveTo>
                  <a:cubicBezTo>
                    <a:pt x="120" y="14"/>
                    <a:pt x="70" y="71"/>
                    <a:pt x="35" y="157"/>
                  </a:cubicBezTo>
                  <a:cubicBezTo>
                    <a:pt x="0" y="243"/>
                    <a:pt x="26" y="411"/>
                    <a:pt x="29" y="523"/>
                  </a:cubicBezTo>
                  <a:cubicBezTo>
                    <a:pt x="32" y="635"/>
                    <a:pt x="17" y="771"/>
                    <a:pt x="53" y="829"/>
                  </a:cubicBezTo>
                  <a:cubicBezTo>
                    <a:pt x="89" y="887"/>
                    <a:pt x="146" y="821"/>
                    <a:pt x="245" y="871"/>
                  </a:cubicBezTo>
                  <a:cubicBezTo>
                    <a:pt x="344" y="921"/>
                    <a:pt x="522" y="1068"/>
                    <a:pt x="647" y="1129"/>
                  </a:cubicBezTo>
                  <a:cubicBezTo>
                    <a:pt x="772" y="1190"/>
                    <a:pt x="903" y="1255"/>
                    <a:pt x="995" y="1237"/>
                  </a:cubicBezTo>
                  <a:cubicBezTo>
                    <a:pt x="1087" y="1219"/>
                    <a:pt x="1153" y="1153"/>
                    <a:pt x="1199" y="1021"/>
                  </a:cubicBezTo>
                  <a:cubicBezTo>
                    <a:pt x="1245" y="889"/>
                    <a:pt x="1270" y="580"/>
                    <a:pt x="1271" y="445"/>
                  </a:cubicBezTo>
                  <a:cubicBezTo>
                    <a:pt x="1272" y="310"/>
                    <a:pt x="1292" y="266"/>
                    <a:pt x="1205" y="211"/>
                  </a:cubicBezTo>
                  <a:cubicBezTo>
                    <a:pt x="1118" y="156"/>
                    <a:pt x="908" y="150"/>
                    <a:pt x="749" y="115"/>
                  </a:cubicBezTo>
                  <a:cubicBezTo>
                    <a:pt x="590" y="80"/>
                    <a:pt x="358" y="0"/>
                    <a:pt x="239" y="7"/>
                  </a:cubicBez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894200" y="2340720"/>
              <a:ext cx="1866240" cy="1589760"/>
            </a:xfrm>
            <a:custGeom>
              <a:avLst/>
              <a:gdLst/>
              <a:ahLst/>
              <a:rect l="l" t="t" r="r" b="b"/>
              <a:pathLst>
                <a:path w="1340" h="1191">
                  <a:moveTo>
                    <a:pt x="550" y="42"/>
                  </a:moveTo>
                  <a:cubicBezTo>
                    <a:pt x="437" y="4"/>
                    <a:pt x="164" y="0"/>
                    <a:pt x="82" y="60"/>
                  </a:cubicBezTo>
                  <a:cubicBezTo>
                    <a:pt x="0" y="120"/>
                    <a:pt x="67" y="292"/>
                    <a:pt x="58" y="402"/>
                  </a:cubicBezTo>
                  <a:cubicBezTo>
                    <a:pt x="49" y="512"/>
                    <a:pt x="19" y="642"/>
                    <a:pt x="28" y="720"/>
                  </a:cubicBezTo>
                  <a:cubicBezTo>
                    <a:pt x="37" y="798"/>
                    <a:pt x="27" y="844"/>
                    <a:pt x="112" y="870"/>
                  </a:cubicBezTo>
                  <a:cubicBezTo>
                    <a:pt x="197" y="896"/>
                    <a:pt x="450" y="833"/>
                    <a:pt x="538" y="876"/>
                  </a:cubicBezTo>
                  <a:cubicBezTo>
                    <a:pt x="626" y="919"/>
                    <a:pt x="524" y="1091"/>
                    <a:pt x="640" y="1128"/>
                  </a:cubicBezTo>
                  <a:cubicBezTo>
                    <a:pt x="756" y="1165"/>
                    <a:pt x="1128" y="1191"/>
                    <a:pt x="1234" y="1098"/>
                  </a:cubicBezTo>
                  <a:cubicBezTo>
                    <a:pt x="1340" y="1005"/>
                    <a:pt x="1281" y="696"/>
                    <a:pt x="1276" y="570"/>
                  </a:cubicBezTo>
                  <a:cubicBezTo>
                    <a:pt x="1271" y="444"/>
                    <a:pt x="1290" y="389"/>
                    <a:pt x="1204" y="342"/>
                  </a:cubicBezTo>
                  <a:cubicBezTo>
                    <a:pt x="1118" y="295"/>
                    <a:pt x="868" y="338"/>
                    <a:pt x="760" y="288"/>
                  </a:cubicBezTo>
                  <a:cubicBezTo>
                    <a:pt x="652" y="238"/>
                    <a:pt x="663" y="80"/>
                    <a:pt x="550" y="42"/>
                  </a:cubicBez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262840" y="3793320"/>
              <a:ext cx="2973600" cy="2218320"/>
            </a:xfrm>
            <a:custGeom>
              <a:avLst/>
              <a:gdLst/>
              <a:ahLst/>
              <a:rect l="l" t="t" r="r" b="b"/>
              <a:pathLst>
                <a:path w="2135" h="1662">
                  <a:moveTo>
                    <a:pt x="27" y="652"/>
                  </a:moveTo>
                  <a:cubicBezTo>
                    <a:pt x="14" y="487"/>
                    <a:pt x="0" y="152"/>
                    <a:pt x="105" y="76"/>
                  </a:cubicBezTo>
                  <a:cubicBezTo>
                    <a:pt x="210" y="0"/>
                    <a:pt x="473" y="192"/>
                    <a:pt x="657" y="196"/>
                  </a:cubicBezTo>
                  <a:cubicBezTo>
                    <a:pt x="841" y="200"/>
                    <a:pt x="985" y="65"/>
                    <a:pt x="1209" y="100"/>
                  </a:cubicBezTo>
                  <a:cubicBezTo>
                    <a:pt x="1433" y="135"/>
                    <a:pt x="1867" y="232"/>
                    <a:pt x="2001" y="406"/>
                  </a:cubicBezTo>
                  <a:cubicBezTo>
                    <a:pt x="2135" y="580"/>
                    <a:pt x="2083" y="945"/>
                    <a:pt x="2013" y="1144"/>
                  </a:cubicBezTo>
                  <a:cubicBezTo>
                    <a:pt x="1943" y="1343"/>
                    <a:pt x="1781" y="1538"/>
                    <a:pt x="1581" y="1600"/>
                  </a:cubicBezTo>
                  <a:cubicBezTo>
                    <a:pt x="1381" y="1662"/>
                    <a:pt x="993" y="1571"/>
                    <a:pt x="813" y="1516"/>
                  </a:cubicBezTo>
                  <a:cubicBezTo>
                    <a:pt x="633" y="1461"/>
                    <a:pt x="606" y="1345"/>
                    <a:pt x="501" y="1270"/>
                  </a:cubicBezTo>
                  <a:cubicBezTo>
                    <a:pt x="396" y="1195"/>
                    <a:pt x="262" y="1169"/>
                    <a:pt x="183" y="1066"/>
                  </a:cubicBezTo>
                  <a:cubicBezTo>
                    <a:pt x="104" y="963"/>
                    <a:pt x="25" y="819"/>
                    <a:pt x="27" y="652"/>
                  </a:cubicBez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5010840" y="2477160"/>
              <a:ext cx="733680" cy="318960"/>
              <a:chOff x="5010840" y="2477160"/>
              <a:chExt cx="733680" cy="318960"/>
            </a:xfrm>
          </p:grpSpPr>
          <p:pic>
            <p:nvPicPr>
              <p:cNvPr id="5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010840" y="2477160"/>
                <a:ext cx="416520" cy="31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464800" y="2595240"/>
                <a:ext cx="279720" cy="18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"/>
              <p:cNvSpPr/>
              <p:nvPr/>
            </p:nvSpPr>
            <p:spPr>
              <a:xfrm flipV="1">
                <a:off x="5417640" y="2718720"/>
                <a:ext cx="114120" cy="2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5010840" y="3072240"/>
              <a:ext cx="733680" cy="318960"/>
              <a:chOff x="5010840" y="3072240"/>
              <a:chExt cx="733680" cy="318960"/>
            </a:xfrm>
          </p:grpSpPr>
          <p:pic>
            <p:nvPicPr>
              <p:cNvPr id="6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010840" y="3072240"/>
                <a:ext cx="416520" cy="31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464800" y="3190320"/>
                <a:ext cx="279720" cy="18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" name=""/>
              <p:cNvSpPr/>
              <p:nvPr/>
            </p:nvSpPr>
            <p:spPr>
              <a:xfrm flipV="1">
                <a:off x="5417640" y="3313800"/>
                <a:ext cx="114120" cy="2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5387040" y="2858760"/>
              <a:ext cx="70560" cy="214200"/>
              <a:chOff x="5387040" y="2858760"/>
              <a:chExt cx="70560" cy="214200"/>
            </a:xfrm>
          </p:grpSpPr>
          <p:sp>
            <p:nvSpPr>
              <p:cNvPr id="67" name=""/>
              <p:cNvSpPr/>
              <p:nvPr/>
            </p:nvSpPr>
            <p:spPr>
              <a:xfrm>
                <a:off x="5387040" y="2858760"/>
                <a:ext cx="65160" cy="6048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389560" y="2935800"/>
                <a:ext cx="65160" cy="6012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392440" y="3012840"/>
                <a:ext cx="65160" cy="6012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" name=""/>
            <p:cNvGrpSpPr/>
            <p:nvPr/>
          </p:nvGrpSpPr>
          <p:grpSpPr>
            <a:xfrm>
              <a:off x="5857560" y="3361680"/>
              <a:ext cx="208800" cy="394920"/>
              <a:chOff x="5857560" y="3361680"/>
              <a:chExt cx="208800" cy="394920"/>
            </a:xfrm>
          </p:grpSpPr>
          <p:sp>
            <p:nvSpPr>
              <p:cNvPr id="71" name=""/>
              <p:cNvSpPr/>
              <p:nvPr/>
            </p:nvSpPr>
            <p:spPr>
              <a:xfrm>
                <a:off x="5857560" y="3665520"/>
                <a:ext cx="208800" cy="91080"/>
              </a:xfrm>
              <a:prstGeom prst="parallelogram">
                <a:avLst>
                  <a:gd name="adj" fmla="val 88314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963400" y="3364200"/>
                <a:ext cx="95760" cy="3034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858640" y="3450240"/>
                <a:ext cx="132120" cy="3038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5857560" y="3361680"/>
                <a:ext cx="208800" cy="91080"/>
              </a:xfrm>
              <a:prstGeom prst="parallelogram">
                <a:avLst>
                  <a:gd name="adj" fmla="val 88314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6066360" y="3367800"/>
                <a:ext cx="0" cy="297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>
                <a:off x="5991120" y="3665520"/>
                <a:ext cx="74880" cy="8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5875560" y="3490200"/>
                <a:ext cx="87480" cy="17496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5888160" y="3543120"/>
                <a:ext cx="66600" cy="61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" name=""/>
            <p:cNvGrpSpPr/>
            <p:nvPr/>
          </p:nvGrpSpPr>
          <p:grpSpPr>
            <a:xfrm>
              <a:off x="6094440" y="3515760"/>
              <a:ext cx="231840" cy="81000"/>
              <a:chOff x="6094440" y="3515760"/>
              <a:chExt cx="231840" cy="81000"/>
            </a:xfrm>
          </p:grpSpPr>
          <p:sp>
            <p:nvSpPr>
              <p:cNvPr id="80" name=""/>
              <p:cNvSpPr/>
              <p:nvPr/>
            </p:nvSpPr>
            <p:spPr>
              <a:xfrm rot="16200000">
                <a:off x="6089760" y="3526560"/>
                <a:ext cx="74520" cy="6552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16200000">
                <a:off x="6172920" y="3523680"/>
                <a:ext cx="74520" cy="6516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6200000">
                <a:off x="6256440" y="3520440"/>
                <a:ext cx="74520" cy="6516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5994000" y="3269880"/>
              <a:ext cx="4957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96880" y="3267000"/>
              <a:ext cx="1080" cy="9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92960" y="3264480"/>
              <a:ext cx="1080" cy="8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93400" y="2730600"/>
              <a:ext cx="289440" cy="26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5707440" y="3015720"/>
              <a:ext cx="275400" cy="32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6233760" y="3101400"/>
              <a:ext cx="1080" cy="16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6353640" y="3340440"/>
              <a:ext cx="208440" cy="394560"/>
              <a:chOff x="6353640" y="3340440"/>
              <a:chExt cx="208440" cy="394560"/>
            </a:xfrm>
          </p:grpSpPr>
          <p:sp>
            <p:nvSpPr>
              <p:cNvPr id="90" name=""/>
              <p:cNvSpPr/>
              <p:nvPr/>
            </p:nvSpPr>
            <p:spPr>
              <a:xfrm>
                <a:off x="6353640" y="3643920"/>
                <a:ext cx="208440" cy="91080"/>
              </a:xfrm>
              <a:prstGeom prst="parallelogram">
                <a:avLst>
                  <a:gd name="adj" fmla="val 88161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459120" y="3342960"/>
                <a:ext cx="95760" cy="30312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354720" y="3429000"/>
                <a:ext cx="132120" cy="30348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353640" y="3340440"/>
                <a:ext cx="208440" cy="91080"/>
              </a:xfrm>
              <a:prstGeom prst="parallelogram">
                <a:avLst>
                  <a:gd name="adj" fmla="val 88161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562080" y="3346560"/>
                <a:ext cx="0" cy="297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H="1">
                <a:off x="6486840" y="3643920"/>
                <a:ext cx="74880" cy="8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371280" y="3468960"/>
                <a:ext cx="87480" cy="17496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6383880" y="3521880"/>
                <a:ext cx="66240" cy="61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5395320" y="3958560"/>
              <a:ext cx="478800" cy="925560"/>
              <a:chOff x="5395320" y="3958560"/>
              <a:chExt cx="478800" cy="925560"/>
            </a:xfrm>
          </p:grpSpPr>
          <p:pic>
            <p:nvPicPr>
              <p:cNvPr id="9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395320" y="3958560"/>
                <a:ext cx="416160" cy="330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" name=""/>
              <p:cNvSpPr/>
              <p:nvPr/>
            </p:nvSpPr>
            <p:spPr>
              <a:xfrm flipV="1">
                <a:off x="5801760" y="4205160"/>
                <a:ext cx="72360" cy="6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0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395320" y="4553280"/>
                <a:ext cx="416160" cy="330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" name=""/>
              <p:cNvSpPr/>
              <p:nvPr/>
            </p:nvSpPr>
            <p:spPr>
              <a:xfrm flipV="1">
                <a:off x="5801760" y="4803840"/>
                <a:ext cx="72360" cy="2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3" name=""/>
              <p:cNvGrpSpPr/>
              <p:nvPr/>
            </p:nvGrpSpPr>
            <p:grpSpPr>
              <a:xfrm>
                <a:off x="5520600" y="4299840"/>
                <a:ext cx="70560" cy="222480"/>
                <a:chOff x="5520600" y="4299840"/>
                <a:chExt cx="70560" cy="22248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5520600" y="4299840"/>
                  <a:ext cx="65160" cy="62640"/>
                </a:xfrm>
                <a:prstGeom prst="ellipse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5523120" y="4379760"/>
                  <a:ext cx="65160" cy="62280"/>
                </a:xfrm>
                <a:prstGeom prst="ellipse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5526000" y="4460040"/>
                  <a:ext cx="65160" cy="62280"/>
                </a:xfrm>
                <a:prstGeom prst="ellipse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7" name=""/>
              <p:cNvSpPr/>
              <p:nvPr/>
            </p:nvSpPr>
            <p:spPr>
              <a:xfrm>
                <a:off x="5868720" y="4202640"/>
                <a:ext cx="0" cy="600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08" name="" descr=""/>
            <p:cNvPicPr/>
            <p:nvPr/>
          </p:nvPicPr>
          <p:blipFill>
            <a:blip r:embed="rId7"/>
            <a:stretch/>
          </p:blipFill>
          <p:spPr>
            <a:xfrm>
              <a:off x="6264720" y="4969080"/>
              <a:ext cx="416160" cy="33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8"/>
            <a:stretch/>
          </p:blipFill>
          <p:spPr>
            <a:xfrm>
              <a:off x="5648760" y="4956840"/>
              <a:ext cx="416160" cy="33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 rot="16200000">
              <a:off x="6066360" y="5060880"/>
              <a:ext cx="62640" cy="6516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16200000">
              <a:off x="6151320" y="5059800"/>
              <a:ext cx="62640" cy="6516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16200000">
              <a:off x="6228000" y="5063760"/>
              <a:ext cx="62640" cy="6516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6517800" y="4914360"/>
              <a:ext cx="1440" cy="59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5893920" y="4903560"/>
              <a:ext cx="0" cy="62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5895000" y="4910400"/>
              <a:ext cx="62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5874480" y="4535280"/>
              <a:ext cx="9468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476040" y="4580280"/>
              <a:ext cx="303480" cy="38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7272360" y="4578120"/>
              <a:ext cx="278280" cy="3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9" name="" descr=""/>
            <p:cNvPicPr/>
            <p:nvPr/>
          </p:nvPicPr>
          <p:blipFill>
            <a:blip r:embed="rId9"/>
            <a:stretch/>
          </p:blipFill>
          <p:spPr>
            <a:xfrm>
              <a:off x="7449480" y="4130640"/>
              <a:ext cx="203400" cy="24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" descr=""/>
            <p:cNvPicPr/>
            <p:nvPr/>
          </p:nvPicPr>
          <p:blipFill>
            <a:blip r:embed="rId10"/>
            <a:stretch/>
          </p:blipFill>
          <p:spPr>
            <a:xfrm>
              <a:off x="6112440" y="4210920"/>
              <a:ext cx="203400" cy="24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6194880" y="3986640"/>
              <a:ext cx="1353960" cy="304200"/>
            </a:xfrm>
            <a:custGeom>
              <a:avLst/>
              <a:gdLst/>
              <a:ahLst/>
              <a:rect l="l" t="t" r="r" b="b"/>
              <a:pathLst>
                <a:path w="972" h="228">
                  <a:moveTo>
                    <a:pt x="0" y="228"/>
                  </a:moveTo>
                  <a:cubicBezTo>
                    <a:pt x="135" y="123"/>
                    <a:pt x="270" y="18"/>
                    <a:pt x="432" y="9"/>
                  </a:cubicBezTo>
                  <a:cubicBezTo>
                    <a:pt x="594" y="0"/>
                    <a:pt x="783" y="85"/>
                    <a:pt x="972" y="17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6460920" y="5407920"/>
              <a:ext cx="406080" cy="426960"/>
              <a:chOff x="6460920" y="5407920"/>
              <a:chExt cx="406080" cy="426960"/>
            </a:xfrm>
          </p:grpSpPr>
          <p:pic>
            <p:nvPicPr>
              <p:cNvPr id="12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6460920" y="5407920"/>
                <a:ext cx="378360" cy="37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6520680" y="5519880"/>
                <a:ext cx="346320" cy="315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5" name=""/>
            <p:cNvGrpSpPr/>
            <p:nvPr/>
          </p:nvGrpSpPr>
          <p:grpSpPr>
            <a:xfrm>
              <a:off x="7238160" y="5439960"/>
              <a:ext cx="406440" cy="426960"/>
              <a:chOff x="7238160" y="5439960"/>
              <a:chExt cx="406440" cy="426960"/>
            </a:xfrm>
          </p:grpSpPr>
          <p:pic>
            <p:nvPicPr>
              <p:cNvPr id="126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238160" y="5439960"/>
                <a:ext cx="378720" cy="37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7297920" y="5551920"/>
                <a:ext cx="346680" cy="315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8" name=""/>
            <p:cNvGrpSpPr/>
            <p:nvPr/>
          </p:nvGrpSpPr>
          <p:grpSpPr>
            <a:xfrm>
              <a:off x="6824160" y="5155920"/>
              <a:ext cx="378720" cy="376200"/>
              <a:chOff x="6824160" y="5155920"/>
              <a:chExt cx="378720" cy="376200"/>
            </a:xfrm>
          </p:grpSpPr>
          <p:pic>
            <p:nvPicPr>
              <p:cNvPr id="129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6824160" y="5155920"/>
                <a:ext cx="378720" cy="37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" name=""/>
              <p:cNvSpPr/>
              <p:nvPr/>
            </p:nvSpPr>
            <p:spPr>
              <a:xfrm>
                <a:off x="6933960" y="5288040"/>
                <a:ext cx="266760" cy="24408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7130880" y="5059800"/>
              <a:ext cx="0" cy="22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7850880" y="4483440"/>
              <a:ext cx="208800" cy="408960"/>
              <a:chOff x="7850880" y="4483440"/>
              <a:chExt cx="208800" cy="408960"/>
            </a:xfrm>
          </p:grpSpPr>
          <p:sp>
            <p:nvSpPr>
              <p:cNvPr id="133" name=""/>
              <p:cNvSpPr/>
              <p:nvPr/>
            </p:nvSpPr>
            <p:spPr>
              <a:xfrm>
                <a:off x="7850880" y="4798080"/>
                <a:ext cx="208800" cy="94320"/>
              </a:xfrm>
              <a:prstGeom prst="parallelogram">
                <a:avLst>
                  <a:gd name="adj" fmla="val 85280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956720" y="4485960"/>
                <a:ext cx="95760" cy="3142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851960" y="4575240"/>
                <a:ext cx="132120" cy="314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850880" y="4483440"/>
                <a:ext cx="208800" cy="94320"/>
              </a:xfrm>
              <a:prstGeom prst="parallelogram">
                <a:avLst>
                  <a:gd name="adj" fmla="val 85280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059680" y="4489920"/>
                <a:ext cx="0" cy="30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H="1">
                <a:off x="7984440" y="4798080"/>
                <a:ext cx="74880" cy="9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868880" y="4616640"/>
                <a:ext cx="87480" cy="1810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881480" y="4671360"/>
                <a:ext cx="66600" cy="6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7838640" y="4927680"/>
              <a:ext cx="208440" cy="409680"/>
              <a:chOff x="7838640" y="4927680"/>
              <a:chExt cx="208440" cy="409680"/>
            </a:xfrm>
          </p:grpSpPr>
          <p:sp>
            <p:nvSpPr>
              <p:cNvPr id="142" name=""/>
              <p:cNvSpPr/>
              <p:nvPr/>
            </p:nvSpPr>
            <p:spPr>
              <a:xfrm>
                <a:off x="7838640" y="5242680"/>
                <a:ext cx="208440" cy="94680"/>
              </a:xfrm>
              <a:prstGeom prst="parallelogram">
                <a:avLst>
                  <a:gd name="adj" fmla="val 84809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944120" y="4930200"/>
                <a:ext cx="95760" cy="31464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839720" y="5019480"/>
                <a:ext cx="132120" cy="31500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838640" y="4927680"/>
                <a:ext cx="208440" cy="94680"/>
              </a:xfrm>
              <a:prstGeom prst="parallelogram">
                <a:avLst>
                  <a:gd name="adj" fmla="val 84809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47080" y="4934160"/>
                <a:ext cx="0" cy="30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H="1">
                <a:off x="7971840" y="5242680"/>
                <a:ext cx="74880" cy="9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856280" y="5060880"/>
                <a:ext cx="87480" cy="1814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868880" y="5115600"/>
                <a:ext cx="66240" cy="6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" name=""/>
            <p:cNvSpPr/>
            <p:nvPr/>
          </p:nvSpPr>
          <p:spPr>
            <a:xfrm flipV="1">
              <a:off x="7770240" y="4551120"/>
              <a:ext cx="0" cy="61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767360" y="5159880"/>
              <a:ext cx="102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64480" y="468468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6487200" y="2781360"/>
              <a:ext cx="459720" cy="20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423560" y="2765160"/>
              <a:ext cx="484200" cy="20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7941600" y="3101400"/>
              <a:ext cx="241920" cy="68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172640" y="2877480"/>
              <a:ext cx="0" cy="43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197480" y="3526200"/>
              <a:ext cx="53496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7656840" y="3990600"/>
              <a:ext cx="267480" cy="36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7431120" y="3069720"/>
              <a:ext cx="559800" cy="38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7440120" y="2509200"/>
              <a:ext cx="350640" cy="25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8158320" y="2685240"/>
              <a:ext cx="200520" cy="17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426280" y="2323440"/>
              <a:ext cx="117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local IS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276520" y="5334840"/>
              <a:ext cx="1280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compan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etwor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935040" y="3476880"/>
              <a:ext cx="161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regional IS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5826960" y="1079640"/>
              <a:ext cx="501480" cy="232920"/>
              <a:chOff x="5826960" y="1079640"/>
              <a:chExt cx="501480" cy="232920"/>
            </a:xfrm>
          </p:grpSpPr>
          <p:sp>
            <p:nvSpPr>
              <p:cNvPr id="166" name=""/>
              <p:cNvSpPr/>
              <p:nvPr/>
            </p:nvSpPr>
            <p:spPr>
              <a:xfrm>
                <a:off x="5830920" y="1183680"/>
                <a:ext cx="49716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830920" y="117252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328440" y="117252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830920" y="1172520"/>
                <a:ext cx="49284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826960" y="1079640"/>
                <a:ext cx="49680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1" name=""/>
              <p:cNvGrpSpPr/>
              <p:nvPr/>
            </p:nvGrpSpPr>
            <p:grpSpPr>
              <a:xfrm>
                <a:off x="5946480" y="1112400"/>
                <a:ext cx="246240" cy="88200"/>
                <a:chOff x="5946480" y="1112400"/>
                <a:chExt cx="246240" cy="88200"/>
              </a:xfrm>
            </p:grpSpPr>
            <p:sp>
              <p:nvSpPr>
                <p:cNvPr id="172" name=""/>
                <p:cNvSpPr/>
                <p:nvPr/>
              </p:nvSpPr>
              <p:spPr>
                <a:xfrm flipV="1">
                  <a:off x="5946480" y="111240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6115320" y="12006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027480" y="111456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5946480" y="1111680"/>
                <a:ext cx="246240" cy="88200"/>
                <a:chOff x="5946480" y="1111680"/>
                <a:chExt cx="246240" cy="88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946480" y="119808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6115320" y="11116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 flipV="1">
                  <a:off x="6027480" y="111168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9" name=""/>
            <p:cNvGrpSpPr/>
            <p:nvPr/>
          </p:nvGrpSpPr>
          <p:grpSpPr>
            <a:xfrm>
              <a:off x="5837040" y="1656000"/>
              <a:ext cx="208440" cy="409680"/>
              <a:chOff x="5837040" y="1656000"/>
              <a:chExt cx="208440" cy="409680"/>
            </a:xfrm>
          </p:grpSpPr>
          <p:sp>
            <p:nvSpPr>
              <p:cNvPr id="180" name=""/>
              <p:cNvSpPr/>
              <p:nvPr/>
            </p:nvSpPr>
            <p:spPr>
              <a:xfrm>
                <a:off x="5837040" y="1971000"/>
                <a:ext cx="208440" cy="94680"/>
              </a:xfrm>
              <a:prstGeom prst="parallelogram">
                <a:avLst>
                  <a:gd name="adj" fmla="val 84809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942520" y="1658520"/>
                <a:ext cx="95760" cy="31464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838120" y="1747800"/>
                <a:ext cx="132120" cy="31500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837040" y="1656000"/>
                <a:ext cx="208440" cy="94680"/>
              </a:xfrm>
              <a:prstGeom prst="parallelogram">
                <a:avLst>
                  <a:gd name="adj" fmla="val 84809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045480" y="1662480"/>
                <a:ext cx="0" cy="30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H="1">
                <a:off x="5970240" y="1971000"/>
                <a:ext cx="74880" cy="9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854680" y="1789200"/>
                <a:ext cx="87480" cy="1814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867280" y="1843920"/>
                <a:ext cx="66240" cy="6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88" name="" descr=""/>
            <p:cNvPicPr/>
            <p:nvPr/>
          </p:nvPicPr>
          <p:blipFill>
            <a:blip r:embed="rId16"/>
            <a:stretch/>
          </p:blipFill>
          <p:spPr>
            <a:xfrm>
              <a:off x="7091640" y="1134360"/>
              <a:ext cx="416520" cy="318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9" name=""/>
            <p:cNvGrpSpPr/>
            <p:nvPr/>
          </p:nvGrpSpPr>
          <p:grpSpPr>
            <a:xfrm>
              <a:off x="7029360" y="1740240"/>
              <a:ext cx="406080" cy="426960"/>
              <a:chOff x="7029360" y="1740240"/>
              <a:chExt cx="406080" cy="426960"/>
            </a:xfrm>
          </p:grpSpPr>
          <p:pic>
            <p:nvPicPr>
              <p:cNvPr id="190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7029360" y="1740240"/>
                <a:ext cx="378360" cy="37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1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7089120" y="1852200"/>
                <a:ext cx="346320" cy="315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92" name=""/>
            <p:cNvGrpSpPr/>
            <p:nvPr/>
          </p:nvGrpSpPr>
          <p:grpSpPr>
            <a:xfrm>
              <a:off x="5969160" y="2877480"/>
              <a:ext cx="501120" cy="232920"/>
              <a:chOff x="5969160" y="2877480"/>
              <a:chExt cx="501120" cy="232920"/>
            </a:xfrm>
          </p:grpSpPr>
          <p:sp>
            <p:nvSpPr>
              <p:cNvPr id="193" name=""/>
              <p:cNvSpPr/>
              <p:nvPr/>
            </p:nvSpPr>
            <p:spPr>
              <a:xfrm>
                <a:off x="5973120" y="2981520"/>
                <a:ext cx="49680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973120" y="29703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470280" y="29703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973120" y="2970360"/>
                <a:ext cx="49248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969160" y="2877480"/>
                <a:ext cx="49644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6088680" y="2910240"/>
                <a:ext cx="245880" cy="88200"/>
                <a:chOff x="6088680" y="2910240"/>
                <a:chExt cx="245880" cy="88200"/>
              </a:xfrm>
            </p:grpSpPr>
            <p:sp>
              <p:nvSpPr>
                <p:cNvPr id="199" name=""/>
                <p:cNvSpPr/>
                <p:nvPr/>
              </p:nvSpPr>
              <p:spPr>
                <a:xfrm flipV="1">
                  <a:off x="6088680" y="291024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6257160" y="29984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6169680" y="291240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6088680" y="2909520"/>
                <a:ext cx="245880" cy="88200"/>
                <a:chOff x="6088680" y="2909520"/>
                <a:chExt cx="245880" cy="8820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6088680" y="299592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6257160" y="29095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flipV="1">
                  <a:off x="6169680" y="290952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6" name=""/>
            <p:cNvGrpSpPr/>
            <p:nvPr/>
          </p:nvGrpSpPr>
          <p:grpSpPr>
            <a:xfrm>
              <a:off x="6921720" y="2649240"/>
              <a:ext cx="501480" cy="232920"/>
              <a:chOff x="6921720" y="2649240"/>
              <a:chExt cx="501480" cy="232920"/>
            </a:xfrm>
          </p:grpSpPr>
          <p:sp>
            <p:nvSpPr>
              <p:cNvPr id="207" name=""/>
              <p:cNvSpPr/>
              <p:nvPr/>
            </p:nvSpPr>
            <p:spPr>
              <a:xfrm>
                <a:off x="6925680" y="2753280"/>
                <a:ext cx="49716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925680" y="274212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423200" y="274212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925680" y="2742120"/>
                <a:ext cx="49284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921720" y="2649240"/>
                <a:ext cx="49680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7041240" y="2682000"/>
                <a:ext cx="246240" cy="88200"/>
                <a:chOff x="7041240" y="2682000"/>
                <a:chExt cx="246240" cy="88200"/>
              </a:xfrm>
            </p:grpSpPr>
            <p:sp>
              <p:nvSpPr>
                <p:cNvPr id="213" name=""/>
                <p:cNvSpPr/>
                <p:nvPr/>
              </p:nvSpPr>
              <p:spPr>
                <a:xfrm flipV="1">
                  <a:off x="7041240" y="268200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210080" y="27702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7122240" y="268416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7041240" y="2681280"/>
                <a:ext cx="246240" cy="88200"/>
                <a:chOff x="7041240" y="2681280"/>
                <a:chExt cx="246240" cy="8820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7041240" y="276768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7210080" y="26812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V="1">
                  <a:off x="7122240" y="268128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0" name=""/>
            <p:cNvGrpSpPr/>
            <p:nvPr/>
          </p:nvGrpSpPr>
          <p:grpSpPr>
            <a:xfrm>
              <a:off x="6938640" y="3305880"/>
              <a:ext cx="501480" cy="233280"/>
              <a:chOff x="6938640" y="3305880"/>
              <a:chExt cx="501480" cy="233280"/>
            </a:xfrm>
          </p:grpSpPr>
          <p:sp>
            <p:nvSpPr>
              <p:cNvPr id="221" name=""/>
              <p:cNvSpPr/>
              <p:nvPr/>
            </p:nvSpPr>
            <p:spPr>
              <a:xfrm>
                <a:off x="6942600" y="3409920"/>
                <a:ext cx="497160" cy="1292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6942600" y="3399120"/>
                <a:ext cx="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440120" y="3399120"/>
                <a:ext cx="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942600" y="3399120"/>
                <a:ext cx="49284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938640" y="330588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7058160" y="3338640"/>
                <a:ext cx="246240" cy="88560"/>
                <a:chOff x="7058160" y="3338640"/>
                <a:chExt cx="246240" cy="88560"/>
              </a:xfrm>
            </p:grpSpPr>
            <p:sp>
              <p:nvSpPr>
                <p:cNvPr id="227" name=""/>
                <p:cNvSpPr/>
                <p:nvPr/>
              </p:nvSpPr>
              <p:spPr>
                <a:xfrm flipV="1">
                  <a:off x="7058160" y="333864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227000" y="34272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139160" y="3340800"/>
                  <a:ext cx="91440" cy="86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7058160" y="3337560"/>
                <a:ext cx="246240" cy="88560"/>
                <a:chOff x="7058160" y="3337560"/>
                <a:chExt cx="246240" cy="885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7058160" y="342432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7227000" y="333756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flipV="1">
                  <a:off x="7139160" y="3337560"/>
                  <a:ext cx="91440" cy="86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34" name=""/>
            <p:cNvGrpSpPr/>
            <p:nvPr/>
          </p:nvGrpSpPr>
          <p:grpSpPr>
            <a:xfrm>
              <a:off x="7908120" y="2857320"/>
              <a:ext cx="501480" cy="233280"/>
              <a:chOff x="7908120" y="2857320"/>
              <a:chExt cx="501480" cy="233280"/>
            </a:xfrm>
          </p:grpSpPr>
          <p:sp>
            <p:nvSpPr>
              <p:cNvPr id="235" name=""/>
              <p:cNvSpPr/>
              <p:nvPr/>
            </p:nvSpPr>
            <p:spPr>
              <a:xfrm>
                <a:off x="7912080" y="2961360"/>
                <a:ext cx="497160" cy="1292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912080" y="2950560"/>
                <a:ext cx="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8409600" y="2950560"/>
                <a:ext cx="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912080" y="2950560"/>
                <a:ext cx="49284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908120" y="285732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0" name=""/>
              <p:cNvGrpSpPr/>
              <p:nvPr/>
            </p:nvGrpSpPr>
            <p:grpSpPr>
              <a:xfrm>
                <a:off x="8027640" y="2890080"/>
                <a:ext cx="246240" cy="88560"/>
                <a:chOff x="8027640" y="2890080"/>
                <a:chExt cx="246240" cy="88560"/>
              </a:xfrm>
            </p:grpSpPr>
            <p:sp>
              <p:nvSpPr>
                <p:cNvPr id="241" name=""/>
                <p:cNvSpPr/>
                <p:nvPr/>
              </p:nvSpPr>
              <p:spPr>
                <a:xfrm flipV="1">
                  <a:off x="8027640" y="289008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8196480" y="29786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8108640" y="2892240"/>
                  <a:ext cx="91440" cy="86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4" name=""/>
              <p:cNvGrpSpPr/>
              <p:nvPr/>
            </p:nvGrpSpPr>
            <p:grpSpPr>
              <a:xfrm>
                <a:off x="8027640" y="2889000"/>
                <a:ext cx="246240" cy="88560"/>
                <a:chOff x="8027640" y="2889000"/>
                <a:chExt cx="246240" cy="8856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8027640" y="297576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8196480" y="28890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 flipV="1">
                  <a:off x="8108640" y="2889000"/>
                  <a:ext cx="91440" cy="86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48" name=""/>
            <p:cNvGrpSpPr/>
            <p:nvPr/>
          </p:nvGrpSpPr>
          <p:grpSpPr>
            <a:xfrm>
              <a:off x="7715880" y="3754440"/>
              <a:ext cx="501120" cy="233280"/>
              <a:chOff x="7715880" y="3754440"/>
              <a:chExt cx="501120" cy="233280"/>
            </a:xfrm>
          </p:grpSpPr>
          <p:sp>
            <p:nvSpPr>
              <p:cNvPr id="249" name=""/>
              <p:cNvSpPr/>
              <p:nvPr/>
            </p:nvSpPr>
            <p:spPr>
              <a:xfrm>
                <a:off x="7719840" y="3858480"/>
                <a:ext cx="496800" cy="1292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719840" y="3847680"/>
                <a:ext cx="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8217000" y="3847680"/>
                <a:ext cx="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719840" y="3847680"/>
                <a:ext cx="49248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715880" y="3754440"/>
                <a:ext cx="49644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4" name=""/>
              <p:cNvGrpSpPr/>
              <p:nvPr/>
            </p:nvGrpSpPr>
            <p:grpSpPr>
              <a:xfrm>
                <a:off x="7835400" y="3787200"/>
                <a:ext cx="245880" cy="88560"/>
                <a:chOff x="7835400" y="3787200"/>
                <a:chExt cx="245880" cy="88560"/>
              </a:xfrm>
            </p:grpSpPr>
            <p:sp>
              <p:nvSpPr>
                <p:cNvPr id="255" name=""/>
                <p:cNvSpPr/>
                <p:nvPr/>
              </p:nvSpPr>
              <p:spPr>
                <a:xfrm flipV="1">
                  <a:off x="7835400" y="378720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8003880" y="387576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916400" y="3789360"/>
                  <a:ext cx="91080" cy="86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7835400" y="3786120"/>
                <a:ext cx="245880" cy="88560"/>
                <a:chOff x="7835400" y="3786120"/>
                <a:chExt cx="245880" cy="8856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7835400" y="387288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8003880" y="37861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 flipV="1">
                  <a:off x="7916400" y="3786120"/>
                  <a:ext cx="91080" cy="86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2" name=""/>
            <p:cNvGrpSpPr/>
            <p:nvPr/>
          </p:nvGrpSpPr>
          <p:grpSpPr>
            <a:xfrm>
              <a:off x="7381440" y="4339080"/>
              <a:ext cx="501480" cy="233280"/>
              <a:chOff x="7381440" y="4339080"/>
              <a:chExt cx="501480" cy="233280"/>
            </a:xfrm>
          </p:grpSpPr>
          <p:sp>
            <p:nvSpPr>
              <p:cNvPr id="263" name=""/>
              <p:cNvSpPr/>
              <p:nvPr/>
            </p:nvSpPr>
            <p:spPr>
              <a:xfrm>
                <a:off x="7385400" y="4443120"/>
                <a:ext cx="497160" cy="1292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385400" y="4432320"/>
                <a:ext cx="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882920" y="4432320"/>
                <a:ext cx="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385400" y="4432320"/>
                <a:ext cx="49284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381440" y="433908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8" name=""/>
              <p:cNvGrpSpPr/>
              <p:nvPr/>
            </p:nvGrpSpPr>
            <p:grpSpPr>
              <a:xfrm>
                <a:off x="7500960" y="4371840"/>
                <a:ext cx="246240" cy="88560"/>
                <a:chOff x="7500960" y="4371840"/>
                <a:chExt cx="246240" cy="88560"/>
              </a:xfrm>
            </p:grpSpPr>
            <p:sp>
              <p:nvSpPr>
                <p:cNvPr id="269" name=""/>
                <p:cNvSpPr/>
                <p:nvPr/>
              </p:nvSpPr>
              <p:spPr>
                <a:xfrm flipV="1">
                  <a:off x="7500960" y="437184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669800" y="44604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7581960" y="4374000"/>
                  <a:ext cx="91440" cy="86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7500960" y="4370760"/>
                <a:ext cx="246240" cy="88560"/>
                <a:chOff x="7500960" y="4370760"/>
                <a:chExt cx="246240" cy="8856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7500960" y="445752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7669800" y="437076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flipV="1">
                  <a:off x="7581960" y="4370760"/>
                  <a:ext cx="91440" cy="86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6771600" y="4827600"/>
              <a:ext cx="501120" cy="233280"/>
              <a:chOff x="6771600" y="4827600"/>
              <a:chExt cx="501120" cy="233280"/>
            </a:xfrm>
          </p:grpSpPr>
          <p:sp>
            <p:nvSpPr>
              <p:cNvPr id="277" name=""/>
              <p:cNvSpPr/>
              <p:nvPr/>
            </p:nvSpPr>
            <p:spPr>
              <a:xfrm>
                <a:off x="6775560" y="4931640"/>
                <a:ext cx="496800" cy="1292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775560" y="4920840"/>
                <a:ext cx="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272720" y="4920840"/>
                <a:ext cx="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775560" y="4920840"/>
                <a:ext cx="49248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771600" y="4827600"/>
                <a:ext cx="49644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6891120" y="4860360"/>
                <a:ext cx="245880" cy="88560"/>
                <a:chOff x="6891120" y="4860360"/>
                <a:chExt cx="245880" cy="88560"/>
              </a:xfrm>
            </p:grpSpPr>
            <p:sp>
              <p:nvSpPr>
                <p:cNvPr id="283" name=""/>
                <p:cNvSpPr/>
                <p:nvPr/>
              </p:nvSpPr>
              <p:spPr>
                <a:xfrm flipV="1">
                  <a:off x="6891120" y="486036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7059600" y="49489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6972120" y="4862520"/>
                  <a:ext cx="91080" cy="86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6" name=""/>
              <p:cNvGrpSpPr/>
              <p:nvPr/>
            </p:nvGrpSpPr>
            <p:grpSpPr>
              <a:xfrm>
                <a:off x="6891120" y="4859280"/>
                <a:ext cx="245880" cy="88560"/>
                <a:chOff x="6891120" y="4859280"/>
                <a:chExt cx="245880" cy="8856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6891120" y="494604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7059600" y="48592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 flipV="1">
                  <a:off x="6972120" y="4859280"/>
                  <a:ext cx="91080" cy="86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0" name=""/>
            <p:cNvGrpSpPr/>
            <p:nvPr/>
          </p:nvGrpSpPr>
          <p:grpSpPr>
            <a:xfrm>
              <a:off x="5969160" y="4451040"/>
              <a:ext cx="501120" cy="232920"/>
              <a:chOff x="5969160" y="4451040"/>
              <a:chExt cx="501120" cy="232920"/>
            </a:xfrm>
          </p:grpSpPr>
          <p:sp>
            <p:nvSpPr>
              <p:cNvPr id="291" name=""/>
              <p:cNvSpPr/>
              <p:nvPr/>
            </p:nvSpPr>
            <p:spPr>
              <a:xfrm>
                <a:off x="5973120" y="4555080"/>
                <a:ext cx="49680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973120" y="454392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470280" y="454392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5973120" y="4543920"/>
                <a:ext cx="49248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969160" y="4451040"/>
                <a:ext cx="49644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6" name=""/>
              <p:cNvGrpSpPr/>
              <p:nvPr/>
            </p:nvGrpSpPr>
            <p:grpSpPr>
              <a:xfrm>
                <a:off x="6088680" y="4483800"/>
                <a:ext cx="245880" cy="88200"/>
                <a:chOff x="6088680" y="4483800"/>
                <a:chExt cx="245880" cy="88200"/>
              </a:xfrm>
            </p:grpSpPr>
            <p:sp>
              <p:nvSpPr>
                <p:cNvPr id="297" name=""/>
                <p:cNvSpPr/>
                <p:nvPr/>
              </p:nvSpPr>
              <p:spPr>
                <a:xfrm flipV="1">
                  <a:off x="6088680" y="448380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6257160" y="45720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6169680" y="448596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6088680" y="4483080"/>
                <a:ext cx="245880" cy="88200"/>
                <a:chOff x="6088680" y="4483080"/>
                <a:chExt cx="245880" cy="8820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6088680" y="456948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6257160" y="44830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 flipV="1">
                  <a:off x="6169680" y="448308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4" name=""/>
            <p:cNvSpPr/>
            <p:nvPr/>
          </p:nvSpPr>
          <p:spPr>
            <a:xfrm>
              <a:off x="5787720" y="1243440"/>
              <a:ext cx="93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rou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982200" y="1370520"/>
              <a:ext cx="159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workst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009120" y="1753560"/>
              <a:ext cx="929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ser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346880" y="1940400"/>
              <a:ext cx="100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obi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"/>
          <p:cNvSpPr/>
          <p:nvPr/>
        </p:nvSpPr>
        <p:spPr>
          <a:xfrm flipV="1">
            <a:off x="6248520" y="4827600"/>
            <a:ext cx="1440" cy="24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9719-E8A5-4E90-A66C-160A35E70E2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Network Core: Packet Switching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838080" y="4876560"/>
            <a:ext cx="7467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acket-switching versus circuit switching: human restaurant analog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ther human analogies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32" name="" descr=""/>
          <p:cNvPicPr/>
          <p:nvPr/>
        </p:nvPicPr>
        <p:blipFill>
          <a:blip r:embed="rId1"/>
          <a:stretch/>
        </p:blipFill>
        <p:spPr>
          <a:xfrm>
            <a:off x="1203480" y="2470320"/>
            <a:ext cx="645840" cy="533160"/>
          </a:xfrm>
          <a:prstGeom prst="rect">
            <a:avLst/>
          </a:prstGeom>
          <a:ln w="0">
            <a:noFill/>
          </a:ln>
        </p:spPr>
      </p:pic>
      <p:sp>
        <p:nvSpPr>
          <p:cNvPr id="1233" name=""/>
          <p:cNvSpPr/>
          <p:nvPr/>
        </p:nvSpPr>
        <p:spPr>
          <a:xfrm>
            <a:off x="3538440" y="2303640"/>
            <a:ext cx="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2320920" y="2333520"/>
            <a:ext cx="1198440" cy="3700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2320920" y="2265480"/>
            <a:ext cx="1198440" cy="26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2330280" y="2036880"/>
            <a:ext cx="1198800" cy="430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7" name=""/>
          <p:cNvGrpSpPr/>
          <p:nvPr/>
        </p:nvGrpSpPr>
        <p:grpSpPr>
          <a:xfrm>
            <a:off x="2676600" y="2066760"/>
            <a:ext cx="497160" cy="118800"/>
            <a:chOff x="2676600" y="2066760"/>
            <a:chExt cx="497160" cy="118800"/>
          </a:xfrm>
        </p:grpSpPr>
        <p:grpSp>
          <p:nvGrpSpPr>
            <p:cNvPr id="1238" name=""/>
            <p:cNvGrpSpPr/>
            <p:nvPr/>
          </p:nvGrpSpPr>
          <p:grpSpPr>
            <a:xfrm>
              <a:off x="2676600" y="2068200"/>
              <a:ext cx="497160" cy="117360"/>
              <a:chOff x="2676600" y="2068200"/>
              <a:chExt cx="497160" cy="117360"/>
            </a:xfrm>
          </p:grpSpPr>
          <p:sp>
            <p:nvSpPr>
              <p:cNvPr id="1239" name=""/>
              <p:cNvSpPr/>
              <p:nvPr/>
            </p:nvSpPr>
            <p:spPr>
              <a:xfrm flipV="1">
                <a:off x="2676600" y="2068200"/>
                <a:ext cx="1771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3017520" y="218556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2840040" y="2070360"/>
                <a:ext cx="184320" cy="114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2" name=""/>
            <p:cNvGrpSpPr/>
            <p:nvPr/>
          </p:nvGrpSpPr>
          <p:grpSpPr>
            <a:xfrm>
              <a:off x="2676600" y="2066760"/>
              <a:ext cx="497160" cy="117360"/>
              <a:chOff x="2676600" y="2066760"/>
              <a:chExt cx="497160" cy="117360"/>
            </a:xfrm>
          </p:grpSpPr>
          <p:sp>
            <p:nvSpPr>
              <p:cNvPr id="1243" name=""/>
              <p:cNvSpPr/>
              <p:nvPr/>
            </p:nvSpPr>
            <p:spPr>
              <a:xfrm>
                <a:off x="2676600" y="2181960"/>
                <a:ext cx="1771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3017520" y="206676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 flipV="1">
                <a:off x="2840040" y="2067120"/>
                <a:ext cx="184320" cy="114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46" name=""/>
          <p:cNvSpPr/>
          <p:nvPr/>
        </p:nvSpPr>
        <p:spPr>
          <a:xfrm>
            <a:off x="5416560" y="2352600"/>
            <a:ext cx="1198440" cy="3700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5425920" y="2332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5425920" y="2293920"/>
            <a:ext cx="1198800" cy="26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5435640" y="2065320"/>
            <a:ext cx="1198440" cy="430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0" name="" descr=""/>
          <p:cNvPicPr/>
          <p:nvPr/>
        </p:nvPicPr>
        <p:blipFill>
          <a:blip r:embed="rId2"/>
          <a:stretch/>
        </p:blipFill>
        <p:spPr>
          <a:xfrm>
            <a:off x="7004160" y="1546200"/>
            <a:ext cx="645840" cy="533520"/>
          </a:xfrm>
          <a:prstGeom prst="rect">
            <a:avLst/>
          </a:prstGeom>
          <a:ln w="0">
            <a:noFill/>
          </a:ln>
        </p:spPr>
      </p:pic>
      <p:pic>
        <p:nvPicPr>
          <p:cNvPr id="1251" name="" descr=""/>
          <p:cNvPicPr/>
          <p:nvPr/>
        </p:nvPicPr>
        <p:blipFill>
          <a:blip r:embed="rId3"/>
          <a:stretch/>
        </p:blipFill>
        <p:spPr>
          <a:xfrm>
            <a:off x="965160" y="1565280"/>
            <a:ext cx="646200" cy="533520"/>
          </a:xfrm>
          <a:prstGeom prst="rect">
            <a:avLst/>
          </a:prstGeom>
          <a:ln w="0">
            <a:noFill/>
          </a:ln>
        </p:spPr>
      </p:pic>
      <p:sp>
        <p:nvSpPr>
          <p:cNvPr id="1252" name=""/>
          <p:cNvSpPr/>
          <p:nvPr/>
        </p:nvSpPr>
        <p:spPr>
          <a:xfrm>
            <a:off x="1590840" y="1971720"/>
            <a:ext cx="50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 flipV="1">
            <a:off x="1895400" y="2957400"/>
            <a:ext cx="195480" cy="5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3514680" y="2390760"/>
            <a:ext cx="193356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 flipV="1">
            <a:off x="5619600" y="2724120"/>
            <a:ext cx="142920" cy="657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 flipV="1">
            <a:off x="6591240" y="1952280"/>
            <a:ext cx="504720" cy="266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2095560" y="1962000"/>
            <a:ext cx="0" cy="1000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2104920" y="2395440"/>
            <a:ext cx="200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3548160" y="2185920"/>
            <a:ext cx="147600" cy="200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3710160" y="2185920"/>
            <a:ext cx="147600" cy="2001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3871800" y="2185920"/>
            <a:ext cx="147600" cy="200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4033800" y="2185920"/>
            <a:ext cx="147600" cy="200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4195800" y="2185920"/>
            <a:ext cx="147600" cy="2001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4567320" y="2185920"/>
            <a:ext cx="147600" cy="2001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5005440" y="2181240"/>
            <a:ext cx="147600" cy="200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6" name=""/>
          <p:cNvGrpSpPr/>
          <p:nvPr/>
        </p:nvGrpSpPr>
        <p:grpSpPr>
          <a:xfrm>
            <a:off x="2857680" y="2262240"/>
            <a:ext cx="633240" cy="199800"/>
            <a:chOff x="2857680" y="2262240"/>
            <a:chExt cx="633240" cy="199800"/>
          </a:xfrm>
        </p:grpSpPr>
        <p:sp>
          <p:nvSpPr>
            <p:cNvPr id="1267" name=""/>
            <p:cNvSpPr/>
            <p:nvPr/>
          </p:nvSpPr>
          <p:spPr>
            <a:xfrm>
              <a:off x="2857680" y="2262240"/>
              <a:ext cx="147600" cy="199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3019320" y="2262240"/>
              <a:ext cx="147600" cy="1998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3181320" y="2262240"/>
              <a:ext cx="147600" cy="199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3343320" y="2262240"/>
              <a:ext cx="147600" cy="199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1" name=""/>
          <p:cNvSpPr/>
          <p:nvPr/>
        </p:nvSpPr>
        <p:spPr>
          <a:xfrm>
            <a:off x="2128680" y="2162160"/>
            <a:ext cx="147960" cy="200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1909800" y="2733840"/>
            <a:ext cx="147600" cy="1998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2305080" y="2266920"/>
            <a:ext cx="243000" cy="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 flipV="1">
            <a:off x="1971720" y="2543040"/>
            <a:ext cx="0" cy="17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3929040" y="2076480"/>
            <a:ext cx="106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627840" y="158904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887760" y="260820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6602040" y="14652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1638360" y="1312920"/>
            <a:ext cx="1211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 M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th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3743280" y="242712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.5 M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6032880" y="3046320"/>
            <a:ext cx="10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5 M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5467320" y="2205000"/>
            <a:ext cx="147600" cy="200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5629320" y="2205000"/>
            <a:ext cx="147600" cy="200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5791320" y="2205000"/>
            <a:ext cx="147600" cy="200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5" name=""/>
          <p:cNvGrpSpPr/>
          <p:nvPr/>
        </p:nvGrpSpPr>
        <p:grpSpPr>
          <a:xfrm>
            <a:off x="5711400" y="2268720"/>
            <a:ext cx="640800" cy="510480"/>
            <a:chOff x="5711400" y="2268720"/>
            <a:chExt cx="640800" cy="510480"/>
          </a:xfrm>
        </p:grpSpPr>
        <p:sp>
          <p:nvSpPr>
            <p:cNvPr id="1286" name=""/>
            <p:cNvSpPr/>
            <p:nvPr/>
          </p:nvSpPr>
          <p:spPr>
            <a:xfrm rot="19637400">
              <a:off x="5753520" y="2555280"/>
              <a:ext cx="147600" cy="199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 rot="19637400">
              <a:off x="5889600" y="2467800"/>
              <a:ext cx="147600" cy="199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 rot="19637400">
              <a:off x="6026040" y="2380320"/>
              <a:ext cx="147600" cy="199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 rot="19637400">
              <a:off x="6162120" y="2292840"/>
              <a:ext cx="147600" cy="199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0" name=""/>
          <p:cNvGrpSpPr/>
          <p:nvPr/>
        </p:nvGrpSpPr>
        <p:grpSpPr>
          <a:xfrm>
            <a:off x="3680640" y="3341520"/>
            <a:ext cx="3104280" cy="1471680"/>
            <a:chOff x="3680640" y="3341520"/>
            <a:chExt cx="3104280" cy="1471680"/>
          </a:xfrm>
        </p:grpSpPr>
        <p:pic>
          <p:nvPicPr>
            <p:cNvPr id="1291" name="" descr=""/>
            <p:cNvPicPr/>
            <p:nvPr/>
          </p:nvPicPr>
          <p:blipFill>
            <a:blip r:embed="rId4"/>
            <a:stretch/>
          </p:blipFill>
          <p:spPr>
            <a:xfrm>
              <a:off x="5765760" y="4279680"/>
              <a:ext cx="645840" cy="533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92" name=""/>
            <p:cNvGrpSpPr/>
            <p:nvPr/>
          </p:nvGrpSpPr>
          <p:grpSpPr>
            <a:xfrm>
              <a:off x="4921200" y="3341520"/>
              <a:ext cx="1207440" cy="666720"/>
              <a:chOff x="4921200" y="3341520"/>
              <a:chExt cx="1207440" cy="666720"/>
            </a:xfrm>
          </p:grpSpPr>
          <p:sp>
            <p:nvSpPr>
              <p:cNvPr id="1293" name=""/>
              <p:cNvSpPr/>
              <p:nvPr/>
            </p:nvSpPr>
            <p:spPr>
              <a:xfrm>
                <a:off x="4921200" y="3638160"/>
                <a:ext cx="1198080" cy="370080"/>
              </a:xfrm>
              <a:prstGeom prst="ellips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4921200" y="360828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4921200" y="3570120"/>
                <a:ext cx="1198080" cy="2635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4930200" y="3341520"/>
                <a:ext cx="1198440" cy="430200"/>
              </a:xfrm>
              <a:prstGeom prst="ellips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97" name=""/>
              <p:cNvGrpSpPr/>
              <p:nvPr/>
            </p:nvGrpSpPr>
            <p:grpSpPr>
              <a:xfrm>
                <a:off x="5276520" y="3371400"/>
                <a:ext cx="496800" cy="118800"/>
                <a:chOff x="5276520" y="3371400"/>
                <a:chExt cx="496800" cy="118800"/>
              </a:xfrm>
            </p:grpSpPr>
            <p:grpSp>
              <p:nvGrpSpPr>
                <p:cNvPr id="1298" name=""/>
                <p:cNvGrpSpPr/>
                <p:nvPr/>
              </p:nvGrpSpPr>
              <p:grpSpPr>
                <a:xfrm>
                  <a:off x="5276520" y="3372840"/>
                  <a:ext cx="496800" cy="117360"/>
                  <a:chOff x="5276520" y="3372840"/>
                  <a:chExt cx="496800" cy="117360"/>
                </a:xfrm>
              </p:grpSpPr>
              <p:sp>
                <p:nvSpPr>
                  <p:cNvPr id="1299" name=""/>
                  <p:cNvSpPr/>
                  <p:nvPr/>
                </p:nvSpPr>
                <p:spPr>
                  <a:xfrm flipV="1">
                    <a:off x="5276520" y="3372840"/>
                    <a:ext cx="177120" cy="2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0" name=""/>
                  <p:cNvSpPr/>
                  <p:nvPr/>
                </p:nvSpPr>
                <p:spPr>
                  <a:xfrm>
                    <a:off x="5617080" y="3490200"/>
                    <a:ext cx="15624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1" name=""/>
                  <p:cNvSpPr/>
                  <p:nvPr/>
                </p:nvSpPr>
                <p:spPr>
                  <a:xfrm>
                    <a:off x="5439960" y="3375000"/>
                    <a:ext cx="184320" cy="1148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02" name=""/>
                <p:cNvGrpSpPr/>
                <p:nvPr/>
              </p:nvGrpSpPr>
              <p:grpSpPr>
                <a:xfrm>
                  <a:off x="5276520" y="3371400"/>
                  <a:ext cx="496800" cy="117360"/>
                  <a:chOff x="5276520" y="3371400"/>
                  <a:chExt cx="496800" cy="117360"/>
                </a:xfrm>
              </p:grpSpPr>
              <p:sp>
                <p:nvSpPr>
                  <p:cNvPr id="1303" name=""/>
                  <p:cNvSpPr/>
                  <p:nvPr/>
                </p:nvSpPr>
                <p:spPr>
                  <a:xfrm>
                    <a:off x="5276520" y="3486600"/>
                    <a:ext cx="177120" cy="2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4" name=""/>
                  <p:cNvSpPr/>
                  <p:nvPr/>
                </p:nvSpPr>
                <p:spPr>
                  <a:xfrm>
                    <a:off x="5617080" y="3371400"/>
                    <a:ext cx="15624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5" name=""/>
                  <p:cNvSpPr/>
                  <p:nvPr/>
                </p:nvSpPr>
                <p:spPr>
                  <a:xfrm flipV="1">
                    <a:off x="5439960" y="3371760"/>
                    <a:ext cx="184320" cy="1148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pic>
          <p:nvPicPr>
            <p:cNvPr id="1306" name="" descr=""/>
            <p:cNvPicPr/>
            <p:nvPr/>
          </p:nvPicPr>
          <p:blipFill>
            <a:blip r:embed="rId5"/>
            <a:stretch/>
          </p:blipFill>
          <p:spPr>
            <a:xfrm>
              <a:off x="4041720" y="4194000"/>
              <a:ext cx="64584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7" name=""/>
            <p:cNvSpPr/>
            <p:nvPr/>
          </p:nvSpPr>
          <p:spPr>
            <a:xfrm flipV="1">
              <a:off x="4581360" y="3914280"/>
              <a:ext cx="466560" cy="399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 flipH="1" flipV="1">
              <a:off x="5771520" y="3971880"/>
              <a:ext cx="33300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3680640" y="4198680"/>
              <a:ext cx="40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6435000" y="4265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1" name=""/>
            <p:cNvGrpSpPr/>
            <p:nvPr/>
          </p:nvGrpSpPr>
          <p:grpSpPr>
            <a:xfrm>
              <a:off x="5407560" y="3389400"/>
              <a:ext cx="637560" cy="517320"/>
              <a:chOff x="5407560" y="3389400"/>
              <a:chExt cx="637560" cy="517320"/>
            </a:xfrm>
          </p:grpSpPr>
          <p:sp>
            <p:nvSpPr>
              <p:cNvPr id="1312" name=""/>
              <p:cNvSpPr/>
              <p:nvPr/>
            </p:nvSpPr>
            <p:spPr>
              <a:xfrm rot="19581000">
                <a:off x="5450400" y="3682440"/>
                <a:ext cx="147240" cy="200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 rot="19581000">
                <a:off x="5585040" y="3592800"/>
                <a:ext cx="147240" cy="200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 rot="19581000">
                <a:off x="5720040" y="3502800"/>
                <a:ext cx="147240" cy="200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 rot="19581000">
                <a:off x="5854320" y="3413520"/>
                <a:ext cx="147240" cy="200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16" name=""/>
          <p:cNvSpPr/>
          <p:nvPr/>
        </p:nvSpPr>
        <p:spPr>
          <a:xfrm>
            <a:off x="3254760" y="1636560"/>
            <a:ext cx="286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atistical multiplex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1949040" y="2984400"/>
            <a:ext cx="212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queue of 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aiting for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 flipV="1">
            <a:off x="2890800" y="2514240"/>
            <a:ext cx="166680" cy="52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02A6-1255-4370-B98D-934A64401C3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Packet switching versus circuit switching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 Mbit lin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ach user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00Kbps when “active”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ctive 10% of tim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ircuit-switching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0 use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acket switching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ith 35 users, probability &gt; 10 active less than .000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590040" y="139032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cket switching allows more users to use network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2" name=""/>
          <p:cNvSpPr/>
          <p:nvPr/>
        </p:nvSpPr>
        <p:spPr>
          <a:xfrm>
            <a:off x="4629240" y="3029040"/>
            <a:ext cx="304560" cy="3045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4629240" y="4629240"/>
            <a:ext cx="304560" cy="3045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4933800" y="3333600"/>
            <a:ext cx="838440" cy="4572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5772240" y="3790800"/>
            <a:ext cx="203832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5772240" y="3943440"/>
            <a:ext cx="203832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 flipV="1">
            <a:off x="5010120" y="3943080"/>
            <a:ext cx="762120" cy="6094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3904920" y="3627360"/>
            <a:ext cx="12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 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7064640" y="4075200"/>
            <a:ext cx="182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 Mbps 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0" name=""/>
          <p:cNvGrpSpPr/>
          <p:nvPr/>
        </p:nvGrpSpPr>
        <p:grpSpPr>
          <a:xfrm>
            <a:off x="5864400" y="3503520"/>
            <a:ext cx="1207440" cy="666720"/>
            <a:chOff x="5864400" y="3503520"/>
            <a:chExt cx="1207440" cy="666720"/>
          </a:xfrm>
        </p:grpSpPr>
        <p:sp>
          <p:nvSpPr>
            <p:cNvPr id="1331" name=""/>
            <p:cNvSpPr/>
            <p:nvPr/>
          </p:nvSpPr>
          <p:spPr>
            <a:xfrm>
              <a:off x="5864400" y="3800520"/>
              <a:ext cx="1198440" cy="36972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5864400" y="3732120"/>
              <a:ext cx="1198440" cy="263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5873760" y="3503520"/>
              <a:ext cx="1198080" cy="430200"/>
            </a:xfrm>
            <a:prstGeom prst="ellipse">
              <a:avLst/>
            </a:prstGeom>
            <a:solidFill>
              <a:srgbClr val="ccccff"/>
            </a:solidFill>
            <a:ln w="64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4" name=""/>
            <p:cNvGrpSpPr/>
            <p:nvPr/>
          </p:nvGrpSpPr>
          <p:grpSpPr>
            <a:xfrm>
              <a:off x="6229440" y="3628800"/>
              <a:ext cx="496800" cy="118800"/>
              <a:chOff x="6229440" y="3628800"/>
              <a:chExt cx="496800" cy="118800"/>
            </a:xfrm>
          </p:grpSpPr>
          <p:grpSp>
            <p:nvGrpSpPr>
              <p:cNvPr id="1335" name=""/>
              <p:cNvGrpSpPr/>
              <p:nvPr/>
            </p:nvGrpSpPr>
            <p:grpSpPr>
              <a:xfrm>
                <a:off x="6229440" y="3630600"/>
                <a:ext cx="496800" cy="117000"/>
                <a:chOff x="6229440" y="3630600"/>
                <a:chExt cx="496800" cy="117000"/>
              </a:xfrm>
            </p:grpSpPr>
            <p:sp>
              <p:nvSpPr>
                <p:cNvPr id="1336" name=""/>
                <p:cNvSpPr/>
                <p:nvPr/>
              </p:nvSpPr>
              <p:spPr>
                <a:xfrm flipV="1">
                  <a:off x="6229440" y="3630600"/>
                  <a:ext cx="17712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7" name=""/>
                <p:cNvSpPr/>
                <p:nvPr/>
              </p:nvSpPr>
              <p:spPr>
                <a:xfrm>
                  <a:off x="6570000" y="3747600"/>
                  <a:ext cx="156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8" name=""/>
                <p:cNvSpPr/>
                <p:nvPr/>
              </p:nvSpPr>
              <p:spPr>
                <a:xfrm>
                  <a:off x="6392880" y="3632760"/>
                  <a:ext cx="184320" cy="114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9" name=""/>
              <p:cNvGrpSpPr/>
              <p:nvPr/>
            </p:nvGrpSpPr>
            <p:grpSpPr>
              <a:xfrm>
                <a:off x="6229440" y="3628800"/>
                <a:ext cx="496800" cy="117000"/>
                <a:chOff x="6229440" y="3628800"/>
                <a:chExt cx="496800" cy="117000"/>
              </a:xfrm>
            </p:grpSpPr>
            <p:sp>
              <p:nvSpPr>
                <p:cNvPr id="1340" name=""/>
                <p:cNvSpPr/>
                <p:nvPr/>
              </p:nvSpPr>
              <p:spPr>
                <a:xfrm>
                  <a:off x="6229440" y="3743640"/>
                  <a:ext cx="17712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1" name=""/>
                <p:cNvSpPr/>
                <p:nvPr/>
              </p:nvSpPr>
              <p:spPr>
                <a:xfrm>
                  <a:off x="6570000" y="3628800"/>
                  <a:ext cx="156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2" name=""/>
                <p:cNvSpPr/>
                <p:nvPr/>
              </p:nvSpPr>
              <p:spPr>
                <a:xfrm flipV="1">
                  <a:off x="6392880" y="3629160"/>
                  <a:ext cx="184320" cy="114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3" name=""/>
          <p:cNvSpPr/>
          <p:nvPr/>
        </p:nvSpPr>
        <p:spPr>
          <a:xfrm>
            <a:off x="7077240" y="3857760"/>
            <a:ext cx="1714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DFD2-B581-47BD-87F4-D0317D0E0A1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Packet switching versus circuit switching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eat for bursty dat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source shar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call setu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xcessive congestion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acket delay and lo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tocols needed for reliable data transfer, congestion contro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Q: How to provide circuit-like behavior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ndwidth guarantees needed for audio/video app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ill an unsolved problem (see QoS, multimedia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533520" y="1371240"/>
            <a:ext cx="7619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s packet switching a “slam dunk winner?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379C-1F33-4343-80D4-E257C0B33DB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lassification of the Types of Communication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533520" y="5627160"/>
            <a:ext cx="777240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ngs are more fuzzy in practi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9" name=""/>
          <p:cNvSpPr/>
          <p:nvPr/>
        </p:nvSpPr>
        <p:spPr>
          <a:xfrm>
            <a:off x="631800" y="2214720"/>
            <a:ext cx="180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ircuit Switc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5610240" y="225432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cket Switc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5017320" y="3078000"/>
            <a:ext cx="117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gr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I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7121520" y="3036960"/>
            <a:ext cx="161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rtual Circu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T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 flipV="1">
            <a:off x="2211480" y="1588680"/>
            <a:ext cx="2049480" cy="51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4241880" y="1579680"/>
            <a:ext cx="2128680" cy="63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 flipV="1">
            <a:off x="5934240" y="2570040"/>
            <a:ext cx="3790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 flipH="1" flipV="1">
            <a:off x="6711840" y="2567160"/>
            <a:ext cx="744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5721480" y="4145040"/>
            <a:ext cx="19364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onl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UDP, endpoi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n’t -much- keep sta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3380760" y="3981600"/>
            <a:ext cx="1398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on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en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TCP, end poi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eep sta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 flipV="1">
            <a:off x="4165560" y="3522240"/>
            <a:ext cx="847800" cy="49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 flipH="1" flipV="1">
            <a:off x="5924520" y="3521160"/>
            <a:ext cx="744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3822840" y="2927520"/>
            <a:ext cx="1325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no per 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ate in router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7931520" y="3560760"/>
            <a:ext cx="1213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per flow st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 routers -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 flipV="1">
            <a:off x="561960" y="2536920"/>
            <a:ext cx="512640" cy="43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 flipH="1" flipV="1">
            <a:off x="1455840" y="2540160"/>
            <a:ext cx="527040" cy="38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1506960" y="2909880"/>
            <a:ext cx="11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dic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d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147960" y="3005280"/>
            <a:ext cx="111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dic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ar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d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 flipH="1" flipV="1">
            <a:off x="1082520" y="3814920"/>
            <a:ext cx="527040" cy="38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 flipV="1">
            <a:off x="200160" y="3868200"/>
            <a:ext cx="512640" cy="43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1452960" y="4195800"/>
            <a:ext cx="13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v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ltiplex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360" y="4302000"/>
            <a:ext cx="13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v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ltiplex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55BD-0460-448F-8ED2-5172DABB8AD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Packet-switched networks: routing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518760" y="13636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Comic Sans MS"/>
              </a:rPr>
              <a:t>Goal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move packets among routers from source to destin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e’ll study several path selection algorithms (chapter 4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datagram network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destination addres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determines next ho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outes may change during sess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alogy: driving, asking directions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virtual circuit network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ach packet carries tag  (virtual circuit ID), tag determines next ho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ixed path determined at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call setup tim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remains fixed thru cal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outers maintain per-call sta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5B5B-54D9-4A32-8919-BBC76321B6F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Access networks and physical media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401004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Comic Sans MS"/>
              </a:rPr>
              <a:t>Q: How to connect end systems to edge router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sidential access ne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stitutional access networks (school, company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751"/>
              </a:spcAft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obile access network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Comic Sans MS"/>
              </a:rPr>
              <a:t>Keep in mind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andwidth (bits per second) of access network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hared or dedicated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5" name=""/>
          <p:cNvSpPr/>
          <p:nvPr/>
        </p:nvSpPr>
        <p:spPr>
          <a:xfrm>
            <a:off x="6807240" y="1800360"/>
            <a:ext cx="1989000" cy="2009520"/>
          </a:xfrm>
          <a:custGeom>
            <a:avLst/>
            <a:gdLst/>
            <a:ahLst/>
            <a:rect l="l" t="t" r="r" b="b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4727520" y="1628640"/>
            <a:ext cx="2065320" cy="1906560"/>
          </a:xfrm>
          <a:custGeom>
            <a:avLst/>
            <a:gdLst/>
            <a:ahLst/>
            <a:rect l="l" t="t" r="r" b="b"/>
            <a:pathLst>
              <a:path w="1340" h="1191">
                <a:moveTo>
                  <a:pt x="550" y="42"/>
                </a:moveTo>
                <a:cubicBezTo>
                  <a:pt x="437" y="4"/>
                  <a:pt x="164" y="0"/>
                  <a:pt x="82" y="60"/>
                </a:cubicBezTo>
                <a:cubicBezTo>
                  <a:pt x="0" y="120"/>
                  <a:pt x="67" y="292"/>
                  <a:pt x="58" y="402"/>
                </a:cubicBezTo>
                <a:cubicBezTo>
                  <a:pt x="49" y="512"/>
                  <a:pt x="19" y="642"/>
                  <a:pt x="28" y="720"/>
                </a:cubicBezTo>
                <a:cubicBezTo>
                  <a:pt x="37" y="798"/>
                  <a:pt x="27" y="844"/>
                  <a:pt x="112" y="870"/>
                </a:cubicBezTo>
                <a:cubicBezTo>
                  <a:pt x="197" y="896"/>
                  <a:pt x="450" y="833"/>
                  <a:pt x="538" y="876"/>
                </a:cubicBezTo>
                <a:cubicBezTo>
                  <a:pt x="626" y="919"/>
                  <a:pt x="524" y="1091"/>
                  <a:pt x="640" y="1128"/>
                </a:cubicBezTo>
                <a:cubicBezTo>
                  <a:pt x="756" y="1165"/>
                  <a:pt x="1128" y="1191"/>
                  <a:pt x="1234" y="1098"/>
                </a:cubicBezTo>
                <a:cubicBezTo>
                  <a:pt x="1340" y="1005"/>
                  <a:pt x="1281" y="696"/>
                  <a:pt x="1276" y="570"/>
                </a:cubicBezTo>
                <a:cubicBezTo>
                  <a:pt x="1271" y="444"/>
                  <a:pt x="1290" y="389"/>
                  <a:pt x="1204" y="342"/>
                </a:cubicBezTo>
                <a:cubicBezTo>
                  <a:pt x="1118" y="295"/>
                  <a:pt x="868" y="338"/>
                  <a:pt x="760" y="288"/>
                </a:cubicBezTo>
                <a:cubicBezTo>
                  <a:pt x="652" y="238"/>
                  <a:pt x="663" y="80"/>
                  <a:pt x="550" y="42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5124600" y="3357720"/>
            <a:ext cx="3290760" cy="2662200"/>
          </a:xfrm>
          <a:custGeom>
            <a:avLst/>
            <a:gdLst/>
            <a:ahLst/>
            <a:rect l="l" t="t" r="r" b="b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8" name="" descr=""/>
          <p:cNvPicPr/>
          <p:nvPr/>
        </p:nvPicPr>
        <p:blipFill>
          <a:blip r:embed="rId1"/>
          <a:stretch/>
        </p:blipFill>
        <p:spPr>
          <a:xfrm>
            <a:off x="4857840" y="1790640"/>
            <a:ext cx="460440" cy="382680"/>
          </a:xfrm>
          <a:prstGeom prst="rect">
            <a:avLst/>
          </a:prstGeom>
          <a:ln w="0">
            <a:noFill/>
          </a:ln>
        </p:spPr>
      </p:pic>
      <p:pic>
        <p:nvPicPr>
          <p:cNvPr id="1379" name="" descr=""/>
          <p:cNvPicPr/>
          <p:nvPr/>
        </p:nvPicPr>
        <p:blipFill>
          <a:blip r:embed="rId2"/>
          <a:stretch/>
        </p:blipFill>
        <p:spPr>
          <a:xfrm>
            <a:off x="5359320" y="1932120"/>
            <a:ext cx="309600" cy="222120"/>
          </a:xfrm>
          <a:prstGeom prst="rect">
            <a:avLst/>
          </a:prstGeom>
          <a:ln w="0">
            <a:noFill/>
          </a:ln>
        </p:spPr>
      </p:pic>
      <p:sp>
        <p:nvSpPr>
          <p:cNvPr id="1380" name=""/>
          <p:cNvSpPr/>
          <p:nvPr/>
        </p:nvSpPr>
        <p:spPr>
          <a:xfrm flipV="1">
            <a:off x="5307120" y="2080800"/>
            <a:ext cx="126720" cy="3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1" name="" descr=""/>
          <p:cNvPicPr/>
          <p:nvPr/>
        </p:nvPicPr>
        <p:blipFill>
          <a:blip r:embed="rId3"/>
          <a:stretch/>
        </p:blipFill>
        <p:spPr>
          <a:xfrm>
            <a:off x="4857840" y="2505240"/>
            <a:ext cx="460440" cy="382320"/>
          </a:xfrm>
          <a:prstGeom prst="rect">
            <a:avLst/>
          </a:prstGeom>
          <a:ln w="0">
            <a:noFill/>
          </a:ln>
        </p:spPr>
      </p:pic>
      <p:pic>
        <p:nvPicPr>
          <p:cNvPr id="1382" name="" descr=""/>
          <p:cNvPicPr/>
          <p:nvPr/>
        </p:nvPicPr>
        <p:blipFill>
          <a:blip r:embed="rId4"/>
          <a:stretch/>
        </p:blipFill>
        <p:spPr>
          <a:xfrm>
            <a:off x="5359320" y="2646360"/>
            <a:ext cx="309600" cy="222120"/>
          </a:xfrm>
          <a:prstGeom prst="rect">
            <a:avLst/>
          </a:prstGeom>
          <a:ln w="0">
            <a:noFill/>
          </a:ln>
        </p:spPr>
      </p:pic>
      <p:sp>
        <p:nvSpPr>
          <p:cNvPr id="1383" name=""/>
          <p:cNvSpPr/>
          <p:nvPr/>
        </p:nvSpPr>
        <p:spPr>
          <a:xfrm flipV="1">
            <a:off x="5307120" y="2795760"/>
            <a:ext cx="126720" cy="2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4" name=""/>
          <p:cNvGrpSpPr/>
          <p:nvPr/>
        </p:nvGrpSpPr>
        <p:grpSpPr>
          <a:xfrm>
            <a:off x="5273640" y="2249640"/>
            <a:ext cx="77400" cy="256680"/>
            <a:chOff x="5273640" y="2249640"/>
            <a:chExt cx="77400" cy="256680"/>
          </a:xfrm>
        </p:grpSpPr>
        <p:sp>
          <p:nvSpPr>
            <p:cNvPr id="1385" name=""/>
            <p:cNvSpPr/>
            <p:nvPr/>
          </p:nvSpPr>
          <p:spPr>
            <a:xfrm>
              <a:off x="5273640" y="2249640"/>
              <a:ext cx="71280" cy="7236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5276520" y="2341800"/>
              <a:ext cx="71280" cy="7200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5279760" y="2434320"/>
              <a:ext cx="71280" cy="7200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8" name=""/>
          <p:cNvGrpSpPr/>
          <p:nvPr/>
        </p:nvGrpSpPr>
        <p:grpSpPr>
          <a:xfrm>
            <a:off x="5792760" y="2852640"/>
            <a:ext cx="231840" cy="474480"/>
            <a:chOff x="5792760" y="2852640"/>
            <a:chExt cx="231840" cy="474480"/>
          </a:xfrm>
        </p:grpSpPr>
        <p:sp>
          <p:nvSpPr>
            <p:cNvPr id="1389" name=""/>
            <p:cNvSpPr/>
            <p:nvPr/>
          </p:nvSpPr>
          <p:spPr>
            <a:xfrm>
              <a:off x="5792760" y="3217680"/>
              <a:ext cx="231840" cy="109440"/>
            </a:xfrm>
            <a:prstGeom prst="parallelogram">
              <a:avLst>
                <a:gd name="adj" fmla="val 8160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5910120" y="2855520"/>
              <a:ext cx="106560" cy="3646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5793840" y="2959200"/>
              <a:ext cx="146880" cy="3650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792760" y="2852640"/>
              <a:ext cx="231840" cy="109440"/>
            </a:xfrm>
            <a:prstGeom prst="parallelogram">
              <a:avLst>
                <a:gd name="adj" fmla="val 8160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6024600" y="2860200"/>
              <a:ext cx="0" cy="35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 flipH="1">
              <a:off x="5940720" y="3217680"/>
              <a:ext cx="83160" cy="10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812560" y="3007080"/>
              <a:ext cx="97200" cy="2102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5826600" y="3070440"/>
              <a:ext cx="73800" cy="7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7" name=""/>
          <p:cNvGrpSpPr/>
          <p:nvPr/>
        </p:nvGrpSpPr>
        <p:grpSpPr>
          <a:xfrm>
            <a:off x="6054840" y="3038400"/>
            <a:ext cx="258120" cy="96480"/>
            <a:chOff x="6054840" y="3038400"/>
            <a:chExt cx="258120" cy="96480"/>
          </a:xfrm>
        </p:grpSpPr>
        <p:sp>
          <p:nvSpPr>
            <p:cNvPr id="1398" name=""/>
            <p:cNvSpPr/>
            <p:nvPr/>
          </p:nvSpPr>
          <p:spPr>
            <a:xfrm rot="16200000">
              <a:off x="6046560" y="3053880"/>
              <a:ext cx="88920" cy="727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 rot="16200000">
              <a:off x="6139440" y="3050640"/>
              <a:ext cx="88920" cy="7236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 rot="16200000">
              <a:off x="6232320" y="3046680"/>
              <a:ext cx="88920" cy="7236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1" name=""/>
          <p:cNvSpPr/>
          <p:nvPr/>
        </p:nvSpPr>
        <p:spPr>
          <a:xfrm>
            <a:off x="5945040" y="2743200"/>
            <a:ext cx="54792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5948280" y="2738520"/>
            <a:ext cx="1800" cy="114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6496200" y="2736720"/>
            <a:ext cx="1440" cy="100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5613480" y="2095560"/>
            <a:ext cx="318960" cy="317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 flipV="1">
            <a:off x="5626080" y="2438280"/>
            <a:ext cx="306360" cy="395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 flipV="1">
            <a:off x="6210360" y="2541600"/>
            <a:ext cx="1440" cy="195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7" name=""/>
          <p:cNvGrpSpPr/>
          <p:nvPr/>
        </p:nvGrpSpPr>
        <p:grpSpPr>
          <a:xfrm>
            <a:off x="6342120" y="2827440"/>
            <a:ext cx="231840" cy="472680"/>
            <a:chOff x="6342120" y="2827440"/>
            <a:chExt cx="231840" cy="472680"/>
          </a:xfrm>
        </p:grpSpPr>
        <p:sp>
          <p:nvSpPr>
            <p:cNvPr id="1408" name=""/>
            <p:cNvSpPr/>
            <p:nvPr/>
          </p:nvSpPr>
          <p:spPr>
            <a:xfrm>
              <a:off x="6342120" y="3191040"/>
              <a:ext cx="231840" cy="109080"/>
            </a:xfrm>
            <a:prstGeom prst="parallelogram">
              <a:avLst>
                <a:gd name="adj" fmla="val 81877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6459480" y="2830320"/>
              <a:ext cx="106560" cy="3632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6343200" y="2933640"/>
              <a:ext cx="146880" cy="3636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6342120" y="2827440"/>
              <a:ext cx="231840" cy="109080"/>
            </a:xfrm>
            <a:prstGeom prst="parallelogram">
              <a:avLst>
                <a:gd name="adj" fmla="val 8187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6573960" y="2835000"/>
              <a:ext cx="0" cy="35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 flipH="1">
              <a:off x="6490080" y="3191040"/>
              <a:ext cx="83160" cy="10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6361920" y="2981160"/>
              <a:ext cx="97200" cy="2095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6375960" y="3044520"/>
              <a:ext cx="73800" cy="7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16" name="" descr=""/>
          <p:cNvPicPr/>
          <p:nvPr/>
        </p:nvPicPr>
        <p:blipFill>
          <a:blip r:embed="rId5"/>
          <a:stretch/>
        </p:blipFill>
        <p:spPr>
          <a:xfrm>
            <a:off x="5283360" y="3570120"/>
            <a:ext cx="460080" cy="397080"/>
          </a:xfrm>
          <a:prstGeom prst="rect">
            <a:avLst/>
          </a:prstGeom>
          <a:ln w="0">
            <a:noFill/>
          </a:ln>
        </p:spPr>
      </p:pic>
      <p:sp>
        <p:nvSpPr>
          <p:cNvPr id="1417" name=""/>
          <p:cNvSpPr/>
          <p:nvPr/>
        </p:nvSpPr>
        <p:spPr>
          <a:xfrm flipV="1">
            <a:off x="5734080" y="3865680"/>
            <a:ext cx="79200" cy="7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8" name="" descr=""/>
          <p:cNvPicPr/>
          <p:nvPr/>
        </p:nvPicPr>
        <p:blipFill>
          <a:blip r:embed="rId6"/>
          <a:stretch/>
        </p:blipFill>
        <p:spPr>
          <a:xfrm>
            <a:off x="5283360" y="4282920"/>
            <a:ext cx="460080" cy="397080"/>
          </a:xfrm>
          <a:prstGeom prst="rect">
            <a:avLst/>
          </a:prstGeom>
          <a:ln w="0">
            <a:noFill/>
          </a:ln>
        </p:spPr>
      </p:pic>
      <p:sp>
        <p:nvSpPr>
          <p:cNvPr id="1419" name=""/>
          <p:cNvSpPr/>
          <p:nvPr/>
        </p:nvSpPr>
        <p:spPr>
          <a:xfrm flipV="1">
            <a:off x="5734080" y="4584240"/>
            <a:ext cx="79200" cy="3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0" name=""/>
          <p:cNvGrpSpPr/>
          <p:nvPr/>
        </p:nvGrpSpPr>
        <p:grpSpPr>
          <a:xfrm>
            <a:off x="5421240" y="3979800"/>
            <a:ext cx="79200" cy="266400"/>
            <a:chOff x="5421240" y="3979800"/>
            <a:chExt cx="79200" cy="266400"/>
          </a:xfrm>
        </p:grpSpPr>
        <p:sp>
          <p:nvSpPr>
            <p:cNvPr id="1421" name=""/>
            <p:cNvSpPr/>
            <p:nvPr/>
          </p:nvSpPr>
          <p:spPr>
            <a:xfrm>
              <a:off x="5421240" y="3979800"/>
              <a:ext cx="73080" cy="7524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5424120" y="4075560"/>
              <a:ext cx="73080" cy="7488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5427360" y="4171320"/>
              <a:ext cx="73080" cy="7488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4" name=""/>
          <p:cNvSpPr/>
          <p:nvPr/>
        </p:nvSpPr>
        <p:spPr>
          <a:xfrm>
            <a:off x="5807160" y="3862440"/>
            <a:ext cx="0" cy="720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5" name="" descr=""/>
          <p:cNvPicPr/>
          <p:nvPr/>
        </p:nvPicPr>
        <p:blipFill>
          <a:blip r:embed="rId7"/>
          <a:stretch/>
        </p:blipFill>
        <p:spPr>
          <a:xfrm>
            <a:off x="6243480" y="4781520"/>
            <a:ext cx="462240" cy="397080"/>
          </a:xfrm>
          <a:prstGeom prst="rect">
            <a:avLst/>
          </a:prstGeom>
          <a:ln w="0">
            <a:noFill/>
          </a:ln>
        </p:spPr>
      </p:pic>
      <p:pic>
        <p:nvPicPr>
          <p:cNvPr id="1426" name="" descr=""/>
          <p:cNvPicPr/>
          <p:nvPr/>
        </p:nvPicPr>
        <p:blipFill>
          <a:blip r:embed="rId8"/>
          <a:stretch/>
        </p:blipFill>
        <p:spPr>
          <a:xfrm>
            <a:off x="5564160" y="4767120"/>
            <a:ext cx="458640" cy="397080"/>
          </a:xfrm>
          <a:prstGeom prst="rect">
            <a:avLst/>
          </a:prstGeom>
          <a:ln w="0">
            <a:noFill/>
          </a:ln>
        </p:spPr>
      </p:pic>
      <p:sp>
        <p:nvSpPr>
          <p:cNvPr id="1427" name=""/>
          <p:cNvSpPr/>
          <p:nvPr/>
        </p:nvSpPr>
        <p:spPr>
          <a:xfrm flipV="1">
            <a:off x="6524640" y="4716000"/>
            <a:ext cx="1440" cy="73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 flipV="1">
            <a:off x="5834160" y="4703760"/>
            <a:ext cx="0" cy="76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 flipH="1">
            <a:off x="5835240" y="4710240"/>
            <a:ext cx="693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5803920" y="4255920"/>
            <a:ext cx="112680" cy="5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6478560" y="4316400"/>
            <a:ext cx="335160" cy="46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 flipH="1">
            <a:off x="7358040" y="4313160"/>
            <a:ext cx="309600" cy="46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3" name="" descr=""/>
          <p:cNvPicPr/>
          <p:nvPr/>
        </p:nvPicPr>
        <p:blipFill>
          <a:blip r:embed="rId9"/>
          <a:stretch/>
        </p:blipFill>
        <p:spPr>
          <a:xfrm>
            <a:off x="7554960" y="3774960"/>
            <a:ext cx="225360" cy="290520"/>
          </a:xfrm>
          <a:prstGeom prst="rect">
            <a:avLst/>
          </a:prstGeom>
          <a:ln w="0">
            <a:noFill/>
          </a:ln>
        </p:spPr>
      </p:pic>
      <p:pic>
        <p:nvPicPr>
          <p:cNvPr id="1434" name="" descr=""/>
          <p:cNvPicPr/>
          <p:nvPr/>
        </p:nvPicPr>
        <p:blipFill>
          <a:blip r:embed="rId10"/>
          <a:stretch/>
        </p:blipFill>
        <p:spPr>
          <a:xfrm>
            <a:off x="6076800" y="3871800"/>
            <a:ext cx="223920" cy="289080"/>
          </a:xfrm>
          <a:prstGeom prst="rect">
            <a:avLst/>
          </a:prstGeom>
          <a:ln w="0">
            <a:noFill/>
          </a:ln>
        </p:spPr>
      </p:pic>
      <p:sp>
        <p:nvSpPr>
          <p:cNvPr id="1435" name=""/>
          <p:cNvSpPr/>
          <p:nvPr/>
        </p:nvSpPr>
        <p:spPr>
          <a:xfrm>
            <a:off x="6165720" y="3602160"/>
            <a:ext cx="1498680" cy="365040"/>
          </a:xfrm>
          <a:custGeom>
            <a:avLst/>
            <a:gdLst/>
            <a:ahLst/>
            <a:rect l="l" t="t" r="r" b="b"/>
            <a:pathLst>
              <a:path w="972" h="228">
                <a:moveTo>
                  <a:pt x="0" y="228"/>
                </a:moveTo>
                <a:cubicBezTo>
                  <a:pt x="135" y="123"/>
                  <a:pt x="270" y="18"/>
                  <a:pt x="432" y="9"/>
                </a:cubicBezTo>
                <a:cubicBezTo>
                  <a:pt x="594" y="0"/>
                  <a:pt x="783" y="85"/>
                  <a:pt x="972" y="171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6" name="" descr=""/>
          <p:cNvPicPr/>
          <p:nvPr/>
        </p:nvPicPr>
        <p:blipFill>
          <a:blip r:embed="rId11"/>
          <a:stretch/>
        </p:blipFill>
        <p:spPr>
          <a:xfrm>
            <a:off x="6461280" y="5308560"/>
            <a:ext cx="419040" cy="452520"/>
          </a:xfrm>
          <a:prstGeom prst="rect">
            <a:avLst/>
          </a:prstGeom>
          <a:ln w="0">
            <a:noFill/>
          </a:ln>
        </p:spPr>
      </p:pic>
      <p:pic>
        <p:nvPicPr>
          <p:cNvPr id="1437" name="" descr=""/>
          <p:cNvPicPr/>
          <p:nvPr/>
        </p:nvPicPr>
        <p:blipFill>
          <a:blip r:embed="rId12"/>
          <a:stretch/>
        </p:blipFill>
        <p:spPr>
          <a:xfrm>
            <a:off x="6527880" y="5443560"/>
            <a:ext cx="382680" cy="377640"/>
          </a:xfrm>
          <a:prstGeom prst="rect">
            <a:avLst/>
          </a:prstGeom>
          <a:ln w="0">
            <a:noFill/>
          </a:ln>
        </p:spPr>
      </p:pic>
      <p:grpSp>
        <p:nvGrpSpPr>
          <p:cNvPr id="1438" name=""/>
          <p:cNvGrpSpPr/>
          <p:nvPr/>
        </p:nvGrpSpPr>
        <p:grpSpPr>
          <a:xfrm>
            <a:off x="7321680" y="5346720"/>
            <a:ext cx="448920" cy="512280"/>
            <a:chOff x="7321680" y="5346720"/>
            <a:chExt cx="448920" cy="512280"/>
          </a:xfrm>
        </p:grpSpPr>
        <p:pic>
          <p:nvPicPr>
            <p:cNvPr id="1439" name="" descr=""/>
            <p:cNvPicPr/>
            <p:nvPr/>
          </p:nvPicPr>
          <p:blipFill>
            <a:blip r:embed="rId13"/>
            <a:stretch/>
          </p:blipFill>
          <p:spPr>
            <a:xfrm>
              <a:off x="7321680" y="5346720"/>
              <a:ext cx="417960" cy="45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0" name="" descr=""/>
            <p:cNvPicPr/>
            <p:nvPr/>
          </p:nvPicPr>
          <p:blipFill>
            <a:blip r:embed="rId14"/>
            <a:stretch/>
          </p:blipFill>
          <p:spPr>
            <a:xfrm>
              <a:off x="7387920" y="5481000"/>
              <a:ext cx="382680" cy="37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41" name=""/>
          <p:cNvGrpSpPr/>
          <p:nvPr/>
        </p:nvGrpSpPr>
        <p:grpSpPr>
          <a:xfrm>
            <a:off x="6862680" y="5005440"/>
            <a:ext cx="419040" cy="452160"/>
            <a:chOff x="6862680" y="5005440"/>
            <a:chExt cx="419040" cy="452160"/>
          </a:xfrm>
        </p:grpSpPr>
        <p:pic>
          <p:nvPicPr>
            <p:cNvPr id="1442" name="" descr=""/>
            <p:cNvPicPr/>
            <p:nvPr/>
          </p:nvPicPr>
          <p:blipFill>
            <a:blip r:embed="rId15"/>
            <a:stretch/>
          </p:blipFill>
          <p:spPr>
            <a:xfrm>
              <a:off x="6862680" y="5005440"/>
              <a:ext cx="419040" cy="45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3" name=""/>
            <p:cNvSpPr/>
            <p:nvPr/>
          </p:nvSpPr>
          <p:spPr>
            <a:xfrm>
              <a:off x="6984360" y="5164200"/>
              <a:ext cx="295200" cy="2934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4" name=""/>
          <p:cNvGrpSpPr/>
          <p:nvPr/>
        </p:nvGrpSpPr>
        <p:grpSpPr>
          <a:xfrm>
            <a:off x="7999560" y="4199040"/>
            <a:ext cx="230040" cy="489960"/>
            <a:chOff x="7999560" y="4199040"/>
            <a:chExt cx="230040" cy="489960"/>
          </a:xfrm>
        </p:grpSpPr>
        <p:sp>
          <p:nvSpPr>
            <p:cNvPr id="1445" name=""/>
            <p:cNvSpPr/>
            <p:nvPr/>
          </p:nvSpPr>
          <p:spPr>
            <a:xfrm>
              <a:off x="7999560" y="4575960"/>
              <a:ext cx="230040" cy="113040"/>
            </a:xfrm>
            <a:prstGeom prst="parallelogram">
              <a:avLst>
                <a:gd name="adj" fmla="val 78396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8115840" y="4202280"/>
              <a:ext cx="105480" cy="3765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8000640" y="4308840"/>
              <a:ext cx="145800" cy="3769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7999560" y="4199040"/>
              <a:ext cx="230040" cy="113040"/>
            </a:xfrm>
            <a:prstGeom prst="parallelogram">
              <a:avLst>
                <a:gd name="adj" fmla="val 78396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8229600" y="4206960"/>
              <a:ext cx="0" cy="36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 flipH="1">
              <a:off x="8146440" y="4575960"/>
              <a:ext cx="82800" cy="10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8019360" y="4358520"/>
              <a:ext cx="96480" cy="2170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8033040" y="4424040"/>
              <a:ext cx="73080" cy="7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3" name=""/>
          <p:cNvGrpSpPr/>
          <p:nvPr/>
        </p:nvGrpSpPr>
        <p:grpSpPr>
          <a:xfrm>
            <a:off x="7985160" y="4732200"/>
            <a:ext cx="230040" cy="490320"/>
            <a:chOff x="7985160" y="4732200"/>
            <a:chExt cx="230040" cy="490320"/>
          </a:xfrm>
        </p:grpSpPr>
        <p:sp>
          <p:nvSpPr>
            <p:cNvPr id="1454" name=""/>
            <p:cNvSpPr/>
            <p:nvPr/>
          </p:nvSpPr>
          <p:spPr>
            <a:xfrm>
              <a:off x="7985160" y="5109120"/>
              <a:ext cx="230040" cy="113400"/>
            </a:xfrm>
            <a:prstGeom prst="parallelogram">
              <a:avLst>
                <a:gd name="adj" fmla="val 78147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8101440" y="4735440"/>
              <a:ext cx="105480" cy="3765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7986240" y="4842360"/>
              <a:ext cx="145800" cy="3769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7985160" y="4732200"/>
              <a:ext cx="230040" cy="113400"/>
            </a:xfrm>
            <a:prstGeom prst="parallelogram">
              <a:avLst>
                <a:gd name="adj" fmla="val 7814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8215200" y="4740120"/>
              <a:ext cx="0" cy="36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 flipH="1">
              <a:off x="8132040" y="5109120"/>
              <a:ext cx="82800" cy="11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8004960" y="4891680"/>
              <a:ext cx="96480" cy="2170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8018640" y="4957560"/>
              <a:ext cx="73080" cy="7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2" name=""/>
          <p:cNvSpPr/>
          <p:nvPr/>
        </p:nvSpPr>
        <p:spPr>
          <a:xfrm flipV="1">
            <a:off x="7908840" y="4279680"/>
            <a:ext cx="0" cy="733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7905600" y="5011560"/>
            <a:ext cx="114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7902720" y="4440240"/>
            <a:ext cx="98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 flipV="1">
            <a:off x="6491160" y="2155320"/>
            <a:ext cx="506520" cy="25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7524720" y="2136600"/>
            <a:ext cx="538200" cy="25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 flipH="1">
            <a:off x="8098920" y="2541600"/>
            <a:ext cx="266760" cy="81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7246800" y="2273400"/>
            <a:ext cx="0" cy="517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7275600" y="3049560"/>
            <a:ext cx="592200" cy="441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 flipH="1">
            <a:off x="7785000" y="3608280"/>
            <a:ext cx="295200" cy="43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 flipH="1">
            <a:off x="7534080" y="2503440"/>
            <a:ext cx="618840" cy="46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 flipH="1">
            <a:off x="7543800" y="1830240"/>
            <a:ext cx="388800" cy="30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 flipH="1">
            <a:off x="8337600" y="2041560"/>
            <a:ext cx="223920" cy="21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4" name=""/>
          <p:cNvGrpSpPr/>
          <p:nvPr/>
        </p:nvGrpSpPr>
        <p:grpSpPr>
          <a:xfrm>
            <a:off x="5916600" y="2273400"/>
            <a:ext cx="554040" cy="279000"/>
            <a:chOff x="5916600" y="2273400"/>
            <a:chExt cx="554040" cy="279000"/>
          </a:xfrm>
        </p:grpSpPr>
        <p:sp>
          <p:nvSpPr>
            <p:cNvPr id="1475" name=""/>
            <p:cNvSpPr/>
            <p:nvPr/>
          </p:nvSpPr>
          <p:spPr>
            <a:xfrm>
              <a:off x="5920920" y="2397960"/>
              <a:ext cx="549360" cy="1544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5920920" y="2384640"/>
              <a:ext cx="0" cy="9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6470640" y="2384640"/>
              <a:ext cx="0" cy="9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5920920" y="2384640"/>
              <a:ext cx="544320" cy="94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5916600" y="2273400"/>
              <a:ext cx="549000" cy="1803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80" name=""/>
            <p:cNvGrpSpPr/>
            <p:nvPr/>
          </p:nvGrpSpPr>
          <p:grpSpPr>
            <a:xfrm>
              <a:off x="6048720" y="2313000"/>
              <a:ext cx="271800" cy="105120"/>
              <a:chOff x="6048720" y="2313000"/>
              <a:chExt cx="271800" cy="105120"/>
            </a:xfrm>
          </p:grpSpPr>
          <p:sp>
            <p:nvSpPr>
              <p:cNvPr id="1481" name=""/>
              <p:cNvSpPr/>
              <p:nvPr/>
            </p:nvSpPr>
            <p:spPr>
              <a:xfrm flipV="1">
                <a:off x="6048720" y="2313000"/>
                <a:ext cx="9684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6235200" y="2418120"/>
                <a:ext cx="85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6138000" y="2315160"/>
                <a:ext cx="100800" cy="102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4" name=""/>
            <p:cNvGrpSpPr/>
            <p:nvPr/>
          </p:nvGrpSpPr>
          <p:grpSpPr>
            <a:xfrm>
              <a:off x="6048720" y="2311560"/>
              <a:ext cx="271800" cy="105120"/>
              <a:chOff x="6048720" y="2311560"/>
              <a:chExt cx="271800" cy="105120"/>
            </a:xfrm>
          </p:grpSpPr>
          <p:sp>
            <p:nvSpPr>
              <p:cNvPr id="1485" name=""/>
              <p:cNvSpPr/>
              <p:nvPr/>
            </p:nvSpPr>
            <p:spPr>
              <a:xfrm>
                <a:off x="6048720" y="2414520"/>
                <a:ext cx="9684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6235200" y="2311560"/>
                <a:ext cx="85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 flipV="1">
                <a:off x="6138000" y="2311560"/>
                <a:ext cx="100800" cy="102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88" name=""/>
          <p:cNvGrpSpPr/>
          <p:nvPr/>
        </p:nvGrpSpPr>
        <p:grpSpPr>
          <a:xfrm>
            <a:off x="6970680" y="1998720"/>
            <a:ext cx="554040" cy="279000"/>
            <a:chOff x="6970680" y="1998720"/>
            <a:chExt cx="554040" cy="279000"/>
          </a:xfrm>
        </p:grpSpPr>
        <p:sp>
          <p:nvSpPr>
            <p:cNvPr id="1489" name=""/>
            <p:cNvSpPr/>
            <p:nvPr/>
          </p:nvSpPr>
          <p:spPr>
            <a:xfrm>
              <a:off x="6975000" y="2123280"/>
              <a:ext cx="549360" cy="1544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6975000" y="2109960"/>
              <a:ext cx="0" cy="9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7524720" y="2109960"/>
              <a:ext cx="0" cy="9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6975000" y="2109960"/>
              <a:ext cx="544320" cy="94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6970680" y="1998720"/>
              <a:ext cx="549000" cy="1803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4" name=""/>
            <p:cNvGrpSpPr/>
            <p:nvPr/>
          </p:nvGrpSpPr>
          <p:grpSpPr>
            <a:xfrm>
              <a:off x="7102800" y="2038320"/>
              <a:ext cx="271800" cy="105120"/>
              <a:chOff x="7102800" y="2038320"/>
              <a:chExt cx="271800" cy="105120"/>
            </a:xfrm>
          </p:grpSpPr>
          <p:sp>
            <p:nvSpPr>
              <p:cNvPr id="1495" name=""/>
              <p:cNvSpPr/>
              <p:nvPr/>
            </p:nvSpPr>
            <p:spPr>
              <a:xfrm flipV="1">
                <a:off x="7102800" y="2038320"/>
                <a:ext cx="9684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7289280" y="2143440"/>
                <a:ext cx="85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7192080" y="2040480"/>
                <a:ext cx="100800" cy="102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8" name=""/>
            <p:cNvGrpSpPr/>
            <p:nvPr/>
          </p:nvGrpSpPr>
          <p:grpSpPr>
            <a:xfrm>
              <a:off x="7102800" y="2036880"/>
              <a:ext cx="271800" cy="105120"/>
              <a:chOff x="7102800" y="2036880"/>
              <a:chExt cx="271800" cy="105120"/>
            </a:xfrm>
          </p:grpSpPr>
          <p:sp>
            <p:nvSpPr>
              <p:cNvPr id="1499" name=""/>
              <p:cNvSpPr/>
              <p:nvPr/>
            </p:nvSpPr>
            <p:spPr>
              <a:xfrm>
                <a:off x="7102800" y="2139840"/>
                <a:ext cx="9684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7289280" y="2036880"/>
                <a:ext cx="85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 flipV="1">
                <a:off x="7192080" y="2036880"/>
                <a:ext cx="100800" cy="102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02" name=""/>
          <p:cNvGrpSpPr/>
          <p:nvPr/>
        </p:nvGrpSpPr>
        <p:grpSpPr>
          <a:xfrm>
            <a:off x="6989760" y="2786040"/>
            <a:ext cx="554040" cy="280800"/>
            <a:chOff x="6989760" y="2786040"/>
            <a:chExt cx="554040" cy="280800"/>
          </a:xfrm>
        </p:grpSpPr>
        <p:sp>
          <p:nvSpPr>
            <p:cNvPr id="1503" name=""/>
            <p:cNvSpPr/>
            <p:nvPr/>
          </p:nvSpPr>
          <p:spPr>
            <a:xfrm>
              <a:off x="6994080" y="2911320"/>
              <a:ext cx="549360" cy="155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6994080" y="2898000"/>
              <a:ext cx="0" cy="9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7543800" y="2898000"/>
              <a:ext cx="0" cy="9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6994080" y="2898000"/>
              <a:ext cx="544320" cy="950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6989760" y="2786040"/>
              <a:ext cx="549000" cy="1814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8" name=""/>
            <p:cNvGrpSpPr/>
            <p:nvPr/>
          </p:nvGrpSpPr>
          <p:grpSpPr>
            <a:xfrm>
              <a:off x="7121880" y="2826000"/>
              <a:ext cx="271800" cy="105840"/>
              <a:chOff x="7121880" y="2826000"/>
              <a:chExt cx="271800" cy="105840"/>
            </a:xfrm>
          </p:grpSpPr>
          <p:sp>
            <p:nvSpPr>
              <p:cNvPr id="1509" name=""/>
              <p:cNvSpPr/>
              <p:nvPr/>
            </p:nvSpPr>
            <p:spPr>
              <a:xfrm flipV="1">
                <a:off x="7121880" y="2826000"/>
                <a:ext cx="9684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7308360" y="2931840"/>
                <a:ext cx="85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7211160" y="2828160"/>
                <a:ext cx="100800" cy="103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2" name=""/>
            <p:cNvGrpSpPr/>
            <p:nvPr/>
          </p:nvGrpSpPr>
          <p:grpSpPr>
            <a:xfrm>
              <a:off x="7121880" y="2824560"/>
              <a:ext cx="271800" cy="105840"/>
              <a:chOff x="7121880" y="2824560"/>
              <a:chExt cx="271800" cy="105840"/>
            </a:xfrm>
          </p:grpSpPr>
          <p:sp>
            <p:nvSpPr>
              <p:cNvPr id="1513" name=""/>
              <p:cNvSpPr/>
              <p:nvPr/>
            </p:nvSpPr>
            <p:spPr>
              <a:xfrm>
                <a:off x="7121880" y="2928240"/>
                <a:ext cx="9684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7308360" y="2824560"/>
                <a:ext cx="85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 flipV="1">
                <a:off x="7211160" y="2824560"/>
                <a:ext cx="100800" cy="103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16" name=""/>
          <p:cNvGrpSpPr/>
          <p:nvPr/>
        </p:nvGrpSpPr>
        <p:grpSpPr>
          <a:xfrm>
            <a:off x="8062920" y="2247840"/>
            <a:ext cx="552600" cy="279000"/>
            <a:chOff x="8062920" y="2247840"/>
            <a:chExt cx="552600" cy="279000"/>
          </a:xfrm>
        </p:grpSpPr>
        <p:sp>
          <p:nvSpPr>
            <p:cNvPr id="1517" name=""/>
            <p:cNvSpPr/>
            <p:nvPr/>
          </p:nvSpPr>
          <p:spPr>
            <a:xfrm>
              <a:off x="8067240" y="2372400"/>
              <a:ext cx="547920" cy="1544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8067240" y="2359080"/>
              <a:ext cx="0" cy="9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8615520" y="2359080"/>
              <a:ext cx="0" cy="9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8067240" y="2359080"/>
              <a:ext cx="542880" cy="94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8062920" y="2247840"/>
              <a:ext cx="547560" cy="1803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2" name=""/>
            <p:cNvGrpSpPr/>
            <p:nvPr/>
          </p:nvGrpSpPr>
          <p:grpSpPr>
            <a:xfrm>
              <a:off x="8194680" y="2287440"/>
              <a:ext cx="271080" cy="105120"/>
              <a:chOff x="8194680" y="2287440"/>
              <a:chExt cx="271080" cy="105120"/>
            </a:xfrm>
          </p:grpSpPr>
          <p:sp>
            <p:nvSpPr>
              <p:cNvPr id="1523" name=""/>
              <p:cNvSpPr/>
              <p:nvPr/>
            </p:nvSpPr>
            <p:spPr>
              <a:xfrm flipV="1">
                <a:off x="8194680" y="2287440"/>
                <a:ext cx="964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8380440" y="2392560"/>
                <a:ext cx="85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8283960" y="2289600"/>
                <a:ext cx="100440" cy="102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6" name=""/>
            <p:cNvGrpSpPr/>
            <p:nvPr/>
          </p:nvGrpSpPr>
          <p:grpSpPr>
            <a:xfrm>
              <a:off x="8194680" y="2286000"/>
              <a:ext cx="271080" cy="105120"/>
              <a:chOff x="8194680" y="2286000"/>
              <a:chExt cx="271080" cy="105120"/>
            </a:xfrm>
          </p:grpSpPr>
          <p:sp>
            <p:nvSpPr>
              <p:cNvPr id="1527" name=""/>
              <p:cNvSpPr/>
              <p:nvPr/>
            </p:nvSpPr>
            <p:spPr>
              <a:xfrm>
                <a:off x="8194680" y="2388960"/>
                <a:ext cx="964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8380440" y="2286000"/>
                <a:ext cx="85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 flipV="1">
                <a:off x="8283960" y="2286000"/>
                <a:ext cx="100440" cy="102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30" name=""/>
          <p:cNvGrpSpPr/>
          <p:nvPr/>
        </p:nvGrpSpPr>
        <p:grpSpPr>
          <a:xfrm>
            <a:off x="7848720" y="3324240"/>
            <a:ext cx="554040" cy="279000"/>
            <a:chOff x="7848720" y="3324240"/>
            <a:chExt cx="554040" cy="279000"/>
          </a:xfrm>
        </p:grpSpPr>
        <p:sp>
          <p:nvSpPr>
            <p:cNvPr id="1531" name=""/>
            <p:cNvSpPr/>
            <p:nvPr/>
          </p:nvSpPr>
          <p:spPr>
            <a:xfrm>
              <a:off x="7853040" y="3448800"/>
              <a:ext cx="549360" cy="1544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7853040" y="3435480"/>
              <a:ext cx="0" cy="9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8402760" y="3435480"/>
              <a:ext cx="0" cy="9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7853040" y="3435480"/>
              <a:ext cx="544320" cy="94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7848720" y="3324240"/>
              <a:ext cx="549000" cy="1803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6" name=""/>
            <p:cNvGrpSpPr/>
            <p:nvPr/>
          </p:nvGrpSpPr>
          <p:grpSpPr>
            <a:xfrm>
              <a:off x="7980840" y="3363840"/>
              <a:ext cx="271800" cy="105120"/>
              <a:chOff x="7980840" y="3363840"/>
              <a:chExt cx="271800" cy="105120"/>
            </a:xfrm>
          </p:grpSpPr>
          <p:sp>
            <p:nvSpPr>
              <p:cNvPr id="1537" name=""/>
              <p:cNvSpPr/>
              <p:nvPr/>
            </p:nvSpPr>
            <p:spPr>
              <a:xfrm flipV="1">
                <a:off x="7980840" y="3363840"/>
                <a:ext cx="9684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8167320" y="3468960"/>
                <a:ext cx="85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8070120" y="3366000"/>
                <a:ext cx="100800" cy="102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0" name=""/>
            <p:cNvGrpSpPr/>
            <p:nvPr/>
          </p:nvGrpSpPr>
          <p:grpSpPr>
            <a:xfrm>
              <a:off x="7980840" y="3362400"/>
              <a:ext cx="271800" cy="105120"/>
              <a:chOff x="7980840" y="3362400"/>
              <a:chExt cx="271800" cy="105120"/>
            </a:xfrm>
          </p:grpSpPr>
          <p:sp>
            <p:nvSpPr>
              <p:cNvPr id="1541" name=""/>
              <p:cNvSpPr/>
              <p:nvPr/>
            </p:nvSpPr>
            <p:spPr>
              <a:xfrm>
                <a:off x="7980840" y="3465360"/>
                <a:ext cx="9684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8167320" y="3362400"/>
                <a:ext cx="85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 flipV="1">
                <a:off x="8070120" y="3362400"/>
                <a:ext cx="100800" cy="102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44" name=""/>
          <p:cNvGrpSpPr/>
          <p:nvPr/>
        </p:nvGrpSpPr>
        <p:grpSpPr>
          <a:xfrm>
            <a:off x="7478640" y="4024440"/>
            <a:ext cx="555840" cy="282240"/>
            <a:chOff x="7478640" y="4024440"/>
            <a:chExt cx="555840" cy="282240"/>
          </a:xfrm>
        </p:grpSpPr>
        <p:sp>
          <p:nvSpPr>
            <p:cNvPr id="1545" name=""/>
            <p:cNvSpPr/>
            <p:nvPr/>
          </p:nvSpPr>
          <p:spPr>
            <a:xfrm>
              <a:off x="7482960" y="4150440"/>
              <a:ext cx="551160" cy="1562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7482960" y="4137120"/>
              <a:ext cx="0" cy="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8034480" y="4137120"/>
              <a:ext cx="0" cy="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7482960" y="4137120"/>
              <a:ext cx="546120" cy="95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7478640" y="4024440"/>
              <a:ext cx="550800" cy="182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0" name=""/>
            <p:cNvGrpSpPr/>
            <p:nvPr/>
          </p:nvGrpSpPr>
          <p:grpSpPr>
            <a:xfrm>
              <a:off x="7611120" y="4064400"/>
              <a:ext cx="272880" cy="106560"/>
              <a:chOff x="7611120" y="4064400"/>
              <a:chExt cx="272880" cy="106560"/>
            </a:xfrm>
          </p:grpSpPr>
          <p:sp>
            <p:nvSpPr>
              <p:cNvPr id="1551" name=""/>
              <p:cNvSpPr/>
              <p:nvPr/>
            </p:nvSpPr>
            <p:spPr>
              <a:xfrm flipV="1">
                <a:off x="7611120" y="4064400"/>
                <a:ext cx="9720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7798320" y="4170960"/>
                <a:ext cx="85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7700760" y="4066560"/>
                <a:ext cx="101160" cy="10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4" name=""/>
            <p:cNvGrpSpPr/>
            <p:nvPr/>
          </p:nvGrpSpPr>
          <p:grpSpPr>
            <a:xfrm>
              <a:off x="7611120" y="4062960"/>
              <a:ext cx="272880" cy="106560"/>
              <a:chOff x="7611120" y="4062960"/>
              <a:chExt cx="272880" cy="106560"/>
            </a:xfrm>
          </p:grpSpPr>
          <p:sp>
            <p:nvSpPr>
              <p:cNvPr id="1555" name=""/>
              <p:cNvSpPr/>
              <p:nvPr/>
            </p:nvSpPr>
            <p:spPr>
              <a:xfrm>
                <a:off x="7611120" y="4167360"/>
                <a:ext cx="9720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7798320" y="4062960"/>
                <a:ext cx="85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 flipV="1">
                <a:off x="7700760" y="4062960"/>
                <a:ext cx="101160" cy="10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8" name=""/>
          <p:cNvGrpSpPr/>
          <p:nvPr/>
        </p:nvGrpSpPr>
        <p:grpSpPr>
          <a:xfrm>
            <a:off x="6805440" y="4611600"/>
            <a:ext cx="552600" cy="279000"/>
            <a:chOff x="6805440" y="4611600"/>
            <a:chExt cx="552600" cy="279000"/>
          </a:xfrm>
        </p:grpSpPr>
        <p:sp>
          <p:nvSpPr>
            <p:cNvPr id="1559" name=""/>
            <p:cNvSpPr/>
            <p:nvPr/>
          </p:nvSpPr>
          <p:spPr>
            <a:xfrm>
              <a:off x="6809760" y="4736160"/>
              <a:ext cx="547920" cy="1544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6809760" y="4722840"/>
              <a:ext cx="0" cy="9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7358040" y="4722840"/>
              <a:ext cx="0" cy="9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6809760" y="4722840"/>
              <a:ext cx="542880" cy="94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6805440" y="4611600"/>
              <a:ext cx="547560" cy="1803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4" name=""/>
            <p:cNvGrpSpPr/>
            <p:nvPr/>
          </p:nvGrpSpPr>
          <p:grpSpPr>
            <a:xfrm>
              <a:off x="6937200" y="4651200"/>
              <a:ext cx="271080" cy="105120"/>
              <a:chOff x="6937200" y="4651200"/>
              <a:chExt cx="271080" cy="105120"/>
            </a:xfrm>
          </p:grpSpPr>
          <p:sp>
            <p:nvSpPr>
              <p:cNvPr id="1565" name=""/>
              <p:cNvSpPr/>
              <p:nvPr/>
            </p:nvSpPr>
            <p:spPr>
              <a:xfrm flipV="1">
                <a:off x="6937200" y="4651200"/>
                <a:ext cx="964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7122960" y="4756320"/>
                <a:ext cx="85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7026480" y="4653360"/>
                <a:ext cx="100440" cy="102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8" name=""/>
            <p:cNvGrpSpPr/>
            <p:nvPr/>
          </p:nvGrpSpPr>
          <p:grpSpPr>
            <a:xfrm>
              <a:off x="6937200" y="4649760"/>
              <a:ext cx="271080" cy="105120"/>
              <a:chOff x="6937200" y="4649760"/>
              <a:chExt cx="271080" cy="105120"/>
            </a:xfrm>
          </p:grpSpPr>
          <p:sp>
            <p:nvSpPr>
              <p:cNvPr id="1569" name=""/>
              <p:cNvSpPr/>
              <p:nvPr/>
            </p:nvSpPr>
            <p:spPr>
              <a:xfrm>
                <a:off x="6937200" y="4752720"/>
                <a:ext cx="964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7122960" y="4649760"/>
                <a:ext cx="85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 flipV="1">
                <a:off x="7026480" y="4649760"/>
                <a:ext cx="100440" cy="102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72" name=""/>
          <p:cNvGrpSpPr/>
          <p:nvPr/>
        </p:nvGrpSpPr>
        <p:grpSpPr>
          <a:xfrm>
            <a:off x="5916600" y="4160880"/>
            <a:ext cx="554040" cy="279000"/>
            <a:chOff x="5916600" y="4160880"/>
            <a:chExt cx="554040" cy="279000"/>
          </a:xfrm>
        </p:grpSpPr>
        <p:sp>
          <p:nvSpPr>
            <p:cNvPr id="1573" name=""/>
            <p:cNvSpPr/>
            <p:nvPr/>
          </p:nvSpPr>
          <p:spPr>
            <a:xfrm>
              <a:off x="5920920" y="4285440"/>
              <a:ext cx="549360" cy="1544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5920920" y="4272120"/>
              <a:ext cx="0" cy="9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6470640" y="4272120"/>
              <a:ext cx="0" cy="9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5920920" y="4272120"/>
              <a:ext cx="544320" cy="94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5916600" y="4160880"/>
              <a:ext cx="549000" cy="1803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8" name=""/>
            <p:cNvGrpSpPr/>
            <p:nvPr/>
          </p:nvGrpSpPr>
          <p:grpSpPr>
            <a:xfrm>
              <a:off x="6048720" y="4200480"/>
              <a:ext cx="271800" cy="105120"/>
              <a:chOff x="6048720" y="4200480"/>
              <a:chExt cx="271800" cy="105120"/>
            </a:xfrm>
          </p:grpSpPr>
          <p:sp>
            <p:nvSpPr>
              <p:cNvPr id="1579" name=""/>
              <p:cNvSpPr/>
              <p:nvPr/>
            </p:nvSpPr>
            <p:spPr>
              <a:xfrm flipV="1">
                <a:off x="6048720" y="4200480"/>
                <a:ext cx="9684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6235200" y="4305600"/>
                <a:ext cx="85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6138000" y="4202640"/>
                <a:ext cx="100800" cy="102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2" name=""/>
            <p:cNvGrpSpPr/>
            <p:nvPr/>
          </p:nvGrpSpPr>
          <p:grpSpPr>
            <a:xfrm>
              <a:off x="6048720" y="4199040"/>
              <a:ext cx="271800" cy="105120"/>
              <a:chOff x="6048720" y="4199040"/>
              <a:chExt cx="271800" cy="105120"/>
            </a:xfrm>
          </p:grpSpPr>
          <p:sp>
            <p:nvSpPr>
              <p:cNvPr id="1583" name=""/>
              <p:cNvSpPr/>
              <p:nvPr/>
            </p:nvSpPr>
            <p:spPr>
              <a:xfrm>
                <a:off x="6048720" y="4302000"/>
                <a:ext cx="9684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6235200" y="4199040"/>
                <a:ext cx="85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 flipV="1">
                <a:off x="6138000" y="4199040"/>
                <a:ext cx="100800" cy="102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86" name=""/>
          <p:cNvSpPr/>
          <p:nvPr/>
        </p:nvSpPr>
        <p:spPr>
          <a:xfrm>
            <a:off x="6192720" y="4430880"/>
            <a:ext cx="1800" cy="272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7" name=""/>
          <p:cNvGrpSpPr/>
          <p:nvPr/>
        </p:nvGrpSpPr>
        <p:grpSpPr>
          <a:xfrm>
            <a:off x="6022800" y="4889520"/>
            <a:ext cx="1179720" cy="287280"/>
            <a:chOff x="6022800" y="4889520"/>
            <a:chExt cx="1179720" cy="287280"/>
          </a:xfrm>
        </p:grpSpPr>
        <p:sp>
          <p:nvSpPr>
            <p:cNvPr id="1588" name=""/>
            <p:cNvSpPr/>
            <p:nvPr/>
          </p:nvSpPr>
          <p:spPr>
            <a:xfrm rot="16200000">
              <a:off x="6022080" y="4894560"/>
              <a:ext cx="74520" cy="7308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 rot="16200000">
              <a:off x="6114960" y="4892400"/>
              <a:ext cx="76320" cy="7308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 rot="16200000">
              <a:off x="6201720" y="4897800"/>
              <a:ext cx="74520" cy="7308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7202520" y="4889520"/>
              <a:ext cx="0" cy="27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6931080" y="5038560"/>
              <a:ext cx="65160" cy="76320"/>
            </a:xfrm>
            <a:custGeom>
              <a:avLst/>
              <a:gdLst/>
              <a:ahLst/>
              <a:rect l="l" t="t" r="r" b="b"/>
              <a:pathLst>
                <a:path w="41" h="48">
                  <a:moveTo>
                    <a:pt x="35" y="0"/>
                  </a:moveTo>
                  <a:cubicBezTo>
                    <a:pt x="20" y="8"/>
                    <a:pt x="8" y="16"/>
                    <a:pt x="4" y="23"/>
                  </a:cubicBezTo>
                  <a:cubicBezTo>
                    <a:pt x="0" y="30"/>
                    <a:pt x="2" y="35"/>
                    <a:pt x="8" y="39"/>
                  </a:cubicBezTo>
                  <a:cubicBezTo>
                    <a:pt x="14" y="43"/>
                    <a:pt x="34" y="46"/>
                    <a:pt x="41" y="48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6873840" y="5013360"/>
              <a:ext cx="92160" cy="130320"/>
            </a:xfrm>
            <a:custGeom>
              <a:avLst/>
              <a:gdLst/>
              <a:ahLst/>
              <a:rect l="l" t="t" r="r" b="b"/>
              <a:pathLst>
                <a:path w="58" h="82">
                  <a:moveTo>
                    <a:pt x="40" y="0"/>
                  </a:moveTo>
                  <a:cubicBezTo>
                    <a:pt x="34" y="5"/>
                    <a:pt x="10" y="24"/>
                    <a:pt x="5" y="33"/>
                  </a:cubicBezTo>
                  <a:cubicBezTo>
                    <a:pt x="0" y="42"/>
                    <a:pt x="3" y="48"/>
                    <a:pt x="7" y="55"/>
                  </a:cubicBezTo>
                  <a:cubicBezTo>
                    <a:pt x="11" y="62"/>
                    <a:pt x="20" y="71"/>
                    <a:pt x="28" y="75"/>
                  </a:cubicBezTo>
                  <a:cubicBezTo>
                    <a:pt x="36" y="79"/>
                    <a:pt x="52" y="81"/>
                    <a:pt x="58" y="82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6818400" y="4997520"/>
              <a:ext cx="115920" cy="179280"/>
            </a:xfrm>
            <a:custGeom>
              <a:avLst/>
              <a:gdLst/>
              <a:ahLst/>
              <a:rect l="l" t="t" r="r" b="b"/>
              <a:pathLst>
                <a:path w="73" h="113">
                  <a:moveTo>
                    <a:pt x="46" y="0"/>
                  </a:moveTo>
                  <a:cubicBezTo>
                    <a:pt x="40" y="5"/>
                    <a:pt x="18" y="22"/>
                    <a:pt x="11" y="33"/>
                  </a:cubicBezTo>
                  <a:cubicBezTo>
                    <a:pt x="4" y="44"/>
                    <a:pt x="0" y="57"/>
                    <a:pt x="3" y="67"/>
                  </a:cubicBezTo>
                  <a:cubicBezTo>
                    <a:pt x="6" y="77"/>
                    <a:pt x="15" y="87"/>
                    <a:pt x="27" y="95"/>
                  </a:cubicBezTo>
                  <a:cubicBezTo>
                    <a:pt x="39" y="103"/>
                    <a:pt x="64" y="109"/>
                    <a:pt x="73" y="113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 flipH="1" flipV="1">
              <a:off x="7020720" y="5023800"/>
              <a:ext cx="65160" cy="75960"/>
            </a:xfrm>
            <a:custGeom>
              <a:avLst/>
              <a:gdLst/>
              <a:ahLst/>
              <a:rect l="l" t="t" r="r" b="b"/>
              <a:pathLst>
                <a:path w="41" h="48">
                  <a:moveTo>
                    <a:pt x="35" y="0"/>
                  </a:moveTo>
                  <a:cubicBezTo>
                    <a:pt x="20" y="8"/>
                    <a:pt x="8" y="16"/>
                    <a:pt x="4" y="23"/>
                  </a:cubicBezTo>
                  <a:cubicBezTo>
                    <a:pt x="0" y="30"/>
                    <a:pt x="2" y="35"/>
                    <a:pt x="8" y="39"/>
                  </a:cubicBezTo>
                  <a:cubicBezTo>
                    <a:pt x="14" y="43"/>
                    <a:pt x="34" y="46"/>
                    <a:pt x="41" y="48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 flipH="1" flipV="1">
              <a:off x="7048440" y="4998960"/>
              <a:ext cx="92160" cy="130320"/>
            </a:xfrm>
            <a:custGeom>
              <a:avLst/>
              <a:gdLst/>
              <a:ahLst/>
              <a:rect l="l" t="t" r="r" b="b"/>
              <a:pathLst>
                <a:path w="58" h="82">
                  <a:moveTo>
                    <a:pt x="40" y="0"/>
                  </a:moveTo>
                  <a:cubicBezTo>
                    <a:pt x="34" y="5"/>
                    <a:pt x="10" y="24"/>
                    <a:pt x="5" y="33"/>
                  </a:cubicBezTo>
                  <a:cubicBezTo>
                    <a:pt x="0" y="42"/>
                    <a:pt x="3" y="48"/>
                    <a:pt x="7" y="55"/>
                  </a:cubicBezTo>
                  <a:cubicBezTo>
                    <a:pt x="11" y="62"/>
                    <a:pt x="20" y="71"/>
                    <a:pt x="28" y="75"/>
                  </a:cubicBezTo>
                  <a:cubicBezTo>
                    <a:pt x="36" y="79"/>
                    <a:pt x="52" y="81"/>
                    <a:pt x="58" y="82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 flipH="1" flipV="1">
              <a:off x="7070760" y="4963320"/>
              <a:ext cx="115920" cy="179640"/>
            </a:xfrm>
            <a:custGeom>
              <a:avLst/>
              <a:gdLst/>
              <a:ahLst/>
              <a:rect l="l" t="t" r="r" b="b"/>
              <a:pathLst>
                <a:path w="73" h="113">
                  <a:moveTo>
                    <a:pt x="46" y="0"/>
                  </a:moveTo>
                  <a:cubicBezTo>
                    <a:pt x="40" y="5"/>
                    <a:pt x="18" y="22"/>
                    <a:pt x="11" y="33"/>
                  </a:cubicBezTo>
                  <a:cubicBezTo>
                    <a:pt x="4" y="44"/>
                    <a:pt x="0" y="57"/>
                    <a:pt x="3" y="67"/>
                  </a:cubicBezTo>
                  <a:cubicBezTo>
                    <a:pt x="6" y="77"/>
                    <a:pt x="15" y="87"/>
                    <a:pt x="27" y="95"/>
                  </a:cubicBezTo>
                  <a:cubicBezTo>
                    <a:pt x="39" y="103"/>
                    <a:pt x="64" y="109"/>
                    <a:pt x="73" y="113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8" name=""/>
          <p:cNvGrpSpPr/>
          <p:nvPr/>
        </p:nvGrpSpPr>
        <p:grpSpPr>
          <a:xfrm>
            <a:off x="7304040" y="5316480"/>
            <a:ext cx="367920" cy="212760"/>
            <a:chOff x="7304040" y="5316480"/>
            <a:chExt cx="367920" cy="212760"/>
          </a:xfrm>
        </p:grpSpPr>
        <p:sp>
          <p:nvSpPr>
            <p:cNvPr id="1599" name=""/>
            <p:cNvSpPr/>
            <p:nvPr/>
          </p:nvSpPr>
          <p:spPr>
            <a:xfrm>
              <a:off x="7417080" y="5391000"/>
              <a:ext cx="64800" cy="76320"/>
            </a:xfrm>
            <a:custGeom>
              <a:avLst/>
              <a:gdLst/>
              <a:ahLst/>
              <a:rect l="l" t="t" r="r" b="b"/>
              <a:pathLst>
                <a:path w="41" h="48">
                  <a:moveTo>
                    <a:pt x="35" y="0"/>
                  </a:moveTo>
                  <a:cubicBezTo>
                    <a:pt x="20" y="8"/>
                    <a:pt x="8" y="16"/>
                    <a:pt x="4" y="23"/>
                  </a:cubicBezTo>
                  <a:cubicBezTo>
                    <a:pt x="0" y="30"/>
                    <a:pt x="2" y="35"/>
                    <a:pt x="8" y="39"/>
                  </a:cubicBezTo>
                  <a:cubicBezTo>
                    <a:pt x="14" y="43"/>
                    <a:pt x="34" y="46"/>
                    <a:pt x="41" y="48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7359840" y="5365800"/>
              <a:ext cx="92160" cy="129960"/>
            </a:xfrm>
            <a:custGeom>
              <a:avLst/>
              <a:gdLst/>
              <a:ahLst/>
              <a:rect l="l" t="t" r="r" b="b"/>
              <a:pathLst>
                <a:path w="58" h="82">
                  <a:moveTo>
                    <a:pt x="40" y="0"/>
                  </a:moveTo>
                  <a:cubicBezTo>
                    <a:pt x="34" y="5"/>
                    <a:pt x="10" y="24"/>
                    <a:pt x="5" y="33"/>
                  </a:cubicBezTo>
                  <a:cubicBezTo>
                    <a:pt x="0" y="42"/>
                    <a:pt x="3" y="48"/>
                    <a:pt x="7" y="55"/>
                  </a:cubicBezTo>
                  <a:cubicBezTo>
                    <a:pt x="11" y="62"/>
                    <a:pt x="20" y="71"/>
                    <a:pt x="28" y="75"/>
                  </a:cubicBezTo>
                  <a:cubicBezTo>
                    <a:pt x="36" y="79"/>
                    <a:pt x="52" y="81"/>
                    <a:pt x="58" y="82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7304040" y="5349600"/>
              <a:ext cx="115920" cy="179640"/>
            </a:xfrm>
            <a:custGeom>
              <a:avLst/>
              <a:gdLst/>
              <a:ahLst/>
              <a:rect l="l" t="t" r="r" b="b"/>
              <a:pathLst>
                <a:path w="73" h="113">
                  <a:moveTo>
                    <a:pt x="46" y="0"/>
                  </a:moveTo>
                  <a:cubicBezTo>
                    <a:pt x="40" y="5"/>
                    <a:pt x="18" y="22"/>
                    <a:pt x="11" y="33"/>
                  </a:cubicBezTo>
                  <a:cubicBezTo>
                    <a:pt x="4" y="44"/>
                    <a:pt x="0" y="57"/>
                    <a:pt x="3" y="67"/>
                  </a:cubicBezTo>
                  <a:cubicBezTo>
                    <a:pt x="6" y="77"/>
                    <a:pt x="15" y="87"/>
                    <a:pt x="27" y="95"/>
                  </a:cubicBezTo>
                  <a:cubicBezTo>
                    <a:pt x="39" y="103"/>
                    <a:pt x="64" y="109"/>
                    <a:pt x="73" y="113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 flipH="1" flipV="1">
              <a:off x="7506720" y="5376600"/>
              <a:ext cx="65160" cy="76320"/>
            </a:xfrm>
            <a:custGeom>
              <a:avLst/>
              <a:gdLst/>
              <a:ahLst/>
              <a:rect l="l" t="t" r="r" b="b"/>
              <a:pathLst>
                <a:path w="41" h="48">
                  <a:moveTo>
                    <a:pt x="35" y="0"/>
                  </a:moveTo>
                  <a:cubicBezTo>
                    <a:pt x="20" y="8"/>
                    <a:pt x="8" y="16"/>
                    <a:pt x="4" y="23"/>
                  </a:cubicBezTo>
                  <a:cubicBezTo>
                    <a:pt x="0" y="30"/>
                    <a:pt x="2" y="35"/>
                    <a:pt x="8" y="39"/>
                  </a:cubicBezTo>
                  <a:cubicBezTo>
                    <a:pt x="14" y="43"/>
                    <a:pt x="34" y="46"/>
                    <a:pt x="41" y="48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 flipH="1" flipV="1">
              <a:off x="7534440" y="5350680"/>
              <a:ext cx="92160" cy="129960"/>
            </a:xfrm>
            <a:custGeom>
              <a:avLst/>
              <a:gdLst/>
              <a:ahLst/>
              <a:rect l="l" t="t" r="r" b="b"/>
              <a:pathLst>
                <a:path w="58" h="82">
                  <a:moveTo>
                    <a:pt x="40" y="0"/>
                  </a:moveTo>
                  <a:cubicBezTo>
                    <a:pt x="34" y="5"/>
                    <a:pt x="10" y="24"/>
                    <a:pt x="5" y="33"/>
                  </a:cubicBezTo>
                  <a:cubicBezTo>
                    <a:pt x="0" y="42"/>
                    <a:pt x="3" y="48"/>
                    <a:pt x="7" y="55"/>
                  </a:cubicBezTo>
                  <a:cubicBezTo>
                    <a:pt x="11" y="62"/>
                    <a:pt x="20" y="71"/>
                    <a:pt x="28" y="75"/>
                  </a:cubicBezTo>
                  <a:cubicBezTo>
                    <a:pt x="36" y="79"/>
                    <a:pt x="52" y="81"/>
                    <a:pt x="58" y="82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 flipH="1" flipV="1">
              <a:off x="7556040" y="5316480"/>
              <a:ext cx="115560" cy="179280"/>
            </a:xfrm>
            <a:custGeom>
              <a:avLst/>
              <a:gdLst/>
              <a:ahLst/>
              <a:rect l="l" t="t" r="r" b="b"/>
              <a:pathLst>
                <a:path w="73" h="113">
                  <a:moveTo>
                    <a:pt x="46" y="0"/>
                  </a:moveTo>
                  <a:cubicBezTo>
                    <a:pt x="40" y="5"/>
                    <a:pt x="18" y="22"/>
                    <a:pt x="11" y="33"/>
                  </a:cubicBezTo>
                  <a:cubicBezTo>
                    <a:pt x="4" y="44"/>
                    <a:pt x="0" y="57"/>
                    <a:pt x="3" y="67"/>
                  </a:cubicBezTo>
                  <a:cubicBezTo>
                    <a:pt x="6" y="77"/>
                    <a:pt x="15" y="87"/>
                    <a:pt x="27" y="95"/>
                  </a:cubicBezTo>
                  <a:cubicBezTo>
                    <a:pt x="39" y="103"/>
                    <a:pt x="64" y="109"/>
                    <a:pt x="73" y="113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5" name=""/>
          <p:cNvGrpSpPr/>
          <p:nvPr/>
        </p:nvGrpSpPr>
        <p:grpSpPr>
          <a:xfrm>
            <a:off x="6399360" y="5268960"/>
            <a:ext cx="367920" cy="212760"/>
            <a:chOff x="6399360" y="5268960"/>
            <a:chExt cx="367920" cy="212760"/>
          </a:xfrm>
        </p:grpSpPr>
        <p:sp>
          <p:nvSpPr>
            <p:cNvPr id="1606" name=""/>
            <p:cNvSpPr/>
            <p:nvPr/>
          </p:nvSpPr>
          <p:spPr>
            <a:xfrm>
              <a:off x="6512400" y="5343480"/>
              <a:ext cx="64800" cy="76320"/>
            </a:xfrm>
            <a:custGeom>
              <a:avLst/>
              <a:gdLst/>
              <a:ahLst/>
              <a:rect l="l" t="t" r="r" b="b"/>
              <a:pathLst>
                <a:path w="41" h="48">
                  <a:moveTo>
                    <a:pt x="35" y="0"/>
                  </a:moveTo>
                  <a:cubicBezTo>
                    <a:pt x="20" y="8"/>
                    <a:pt x="8" y="16"/>
                    <a:pt x="4" y="23"/>
                  </a:cubicBezTo>
                  <a:cubicBezTo>
                    <a:pt x="0" y="30"/>
                    <a:pt x="2" y="35"/>
                    <a:pt x="8" y="39"/>
                  </a:cubicBezTo>
                  <a:cubicBezTo>
                    <a:pt x="14" y="43"/>
                    <a:pt x="34" y="46"/>
                    <a:pt x="41" y="48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6455160" y="5318280"/>
              <a:ext cx="92160" cy="129960"/>
            </a:xfrm>
            <a:custGeom>
              <a:avLst/>
              <a:gdLst/>
              <a:ahLst/>
              <a:rect l="l" t="t" r="r" b="b"/>
              <a:pathLst>
                <a:path w="58" h="82">
                  <a:moveTo>
                    <a:pt x="40" y="0"/>
                  </a:moveTo>
                  <a:cubicBezTo>
                    <a:pt x="34" y="5"/>
                    <a:pt x="10" y="24"/>
                    <a:pt x="5" y="33"/>
                  </a:cubicBezTo>
                  <a:cubicBezTo>
                    <a:pt x="0" y="42"/>
                    <a:pt x="3" y="48"/>
                    <a:pt x="7" y="55"/>
                  </a:cubicBezTo>
                  <a:cubicBezTo>
                    <a:pt x="11" y="62"/>
                    <a:pt x="20" y="71"/>
                    <a:pt x="28" y="75"/>
                  </a:cubicBezTo>
                  <a:cubicBezTo>
                    <a:pt x="36" y="79"/>
                    <a:pt x="52" y="81"/>
                    <a:pt x="58" y="82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6399360" y="5302080"/>
              <a:ext cx="115920" cy="179640"/>
            </a:xfrm>
            <a:custGeom>
              <a:avLst/>
              <a:gdLst/>
              <a:ahLst/>
              <a:rect l="l" t="t" r="r" b="b"/>
              <a:pathLst>
                <a:path w="73" h="113">
                  <a:moveTo>
                    <a:pt x="46" y="0"/>
                  </a:moveTo>
                  <a:cubicBezTo>
                    <a:pt x="40" y="5"/>
                    <a:pt x="18" y="22"/>
                    <a:pt x="11" y="33"/>
                  </a:cubicBezTo>
                  <a:cubicBezTo>
                    <a:pt x="4" y="44"/>
                    <a:pt x="0" y="57"/>
                    <a:pt x="3" y="67"/>
                  </a:cubicBezTo>
                  <a:cubicBezTo>
                    <a:pt x="6" y="77"/>
                    <a:pt x="15" y="87"/>
                    <a:pt x="27" y="95"/>
                  </a:cubicBezTo>
                  <a:cubicBezTo>
                    <a:pt x="39" y="103"/>
                    <a:pt x="64" y="109"/>
                    <a:pt x="73" y="113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 flipH="1" flipV="1">
              <a:off x="6602040" y="5329080"/>
              <a:ext cx="65160" cy="76320"/>
            </a:xfrm>
            <a:custGeom>
              <a:avLst/>
              <a:gdLst/>
              <a:ahLst/>
              <a:rect l="l" t="t" r="r" b="b"/>
              <a:pathLst>
                <a:path w="41" h="48">
                  <a:moveTo>
                    <a:pt x="35" y="0"/>
                  </a:moveTo>
                  <a:cubicBezTo>
                    <a:pt x="20" y="8"/>
                    <a:pt x="8" y="16"/>
                    <a:pt x="4" y="23"/>
                  </a:cubicBezTo>
                  <a:cubicBezTo>
                    <a:pt x="0" y="30"/>
                    <a:pt x="2" y="35"/>
                    <a:pt x="8" y="39"/>
                  </a:cubicBezTo>
                  <a:cubicBezTo>
                    <a:pt x="14" y="43"/>
                    <a:pt x="34" y="46"/>
                    <a:pt x="41" y="48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 flipH="1" flipV="1">
              <a:off x="6629760" y="5303160"/>
              <a:ext cx="92160" cy="129960"/>
            </a:xfrm>
            <a:custGeom>
              <a:avLst/>
              <a:gdLst/>
              <a:ahLst/>
              <a:rect l="l" t="t" r="r" b="b"/>
              <a:pathLst>
                <a:path w="58" h="82">
                  <a:moveTo>
                    <a:pt x="40" y="0"/>
                  </a:moveTo>
                  <a:cubicBezTo>
                    <a:pt x="34" y="5"/>
                    <a:pt x="10" y="24"/>
                    <a:pt x="5" y="33"/>
                  </a:cubicBezTo>
                  <a:cubicBezTo>
                    <a:pt x="0" y="42"/>
                    <a:pt x="3" y="48"/>
                    <a:pt x="7" y="55"/>
                  </a:cubicBezTo>
                  <a:cubicBezTo>
                    <a:pt x="11" y="62"/>
                    <a:pt x="20" y="71"/>
                    <a:pt x="28" y="75"/>
                  </a:cubicBezTo>
                  <a:cubicBezTo>
                    <a:pt x="36" y="79"/>
                    <a:pt x="52" y="81"/>
                    <a:pt x="58" y="82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 flipH="1" flipV="1">
              <a:off x="6651360" y="5268960"/>
              <a:ext cx="115560" cy="179280"/>
            </a:xfrm>
            <a:custGeom>
              <a:avLst/>
              <a:gdLst/>
              <a:ahLst/>
              <a:rect l="l" t="t" r="r" b="b"/>
              <a:pathLst>
                <a:path w="73" h="113">
                  <a:moveTo>
                    <a:pt x="46" y="0"/>
                  </a:moveTo>
                  <a:cubicBezTo>
                    <a:pt x="40" y="5"/>
                    <a:pt x="18" y="22"/>
                    <a:pt x="11" y="33"/>
                  </a:cubicBezTo>
                  <a:cubicBezTo>
                    <a:pt x="4" y="44"/>
                    <a:pt x="0" y="57"/>
                    <a:pt x="3" y="67"/>
                  </a:cubicBezTo>
                  <a:cubicBezTo>
                    <a:pt x="6" y="77"/>
                    <a:pt x="15" y="87"/>
                    <a:pt x="27" y="95"/>
                  </a:cubicBezTo>
                  <a:cubicBezTo>
                    <a:pt x="39" y="103"/>
                    <a:pt x="64" y="109"/>
                    <a:pt x="73" y="113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2D98-C232-4D97-9CB3-6804E23B41E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Residential access: point to point acces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518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ialup via mod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p to 56Kbps direct access to router (conceptually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ISDN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tegrated services digital network: 128Kbps all-digital connect to rou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ADSL: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asymmetric digital subscriber li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p to 1 Mbps home-to-rou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p to 8 Mbps router-to-hom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SL deployment: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happen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14" name=""/>
          <p:cNvGrpSpPr/>
          <p:nvPr/>
        </p:nvGrpSpPr>
        <p:grpSpPr>
          <a:xfrm>
            <a:off x="5591160" y="2543040"/>
            <a:ext cx="2554920" cy="1830240"/>
            <a:chOff x="5591160" y="2543040"/>
            <a:chExt cx="2554920" cy="1830240"/>
          </a:xfrm>
        </p:grpSpPr>
        <p:pic>
          <p:nvPicPr>
            <p:cNvPr id="1615" name="" descr=""/>
            <p:cNvPicPr/>
            <p:nvPr/>
          </p:nvPicPr>
          <p:blipFill>
            <a:blip r:embed="rId1"/>
            <a:stretch/>
          </p:blipFill>
          <p:spPr>
            <a:xfrm>
              <a:off x="5591160" y="2543040"/>
              <a:ext cx="729360" cy="6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6" name="" descr=""/>
            <p:cNvPicPr/>
            <p:nvPr/>
          </p:nvPicPr>
          <p:blipFill>
            <a:blip r:embed="rId2"/>
            <a:stretch/>
          </p:blipFill>
          <p:spPr>
            <a:xfrm>
              <a:off x="6385680" y="2778840"/>
              <a:ext cx="490320" cy="37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7" name=""/>
            <p:cNvSpPr/>
            <p:nvPr/>
          </p:nvSpPr>
          <p:spPr>
            <a:xfrm flipV="1">
              <a:off x="6302880" y="3027240"/>
              <a:ext cx="200520" cy="5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18" name="" descr=""/>
            <p:cNvPicPr/>
            <p:nvPr/>
          </p:nvPicPr>
          <p:blipFill>
            <a:blip r:embed="rId3"/>
            <a:stretch/>
          </p:blipFill>
          <p:spPr>
            <a:xfrm>
              <a:off x="5591160" y="3735360"/>
              <a:ext cx="729360" cy="63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9" name="" descr=""/>
            <p:cNvPicPr/>
            <p:nvPr/>
          </p:nvPicPr>
          <p:blipFill>
            <a:blip r:embed="rId4"/>
            <a:stretch/>
          </p:blipFill>
          <p:spPr>
            <a:xfrm>
              <a:off x="6385680" y="3970800"/>
              <a:ext cx="490320" cy="37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0" name=""/>
            <p:cNvSpPr/>
            <p:nvPr/>
          </p:nvSpPr>
          <p:spPr>
            <a:xfrm flipV="1">
              <a:off x="6302880" y="4219560"/>
              <a:ext cx="200520" cy="4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1" name=""/>
            <p:cNvGrpSpPr/>
            <p:nvPr/>
          </p:nvGrpSpPr>
          <p:grpSpPr>
            <a:xfrm>
              <a:off x="6249960" y="3308760"/>
              <a:ext cx="122760" cy="428400"/>
              <a:chOff x="6249960" y="3308760"/>
              <a:chExt cx="122760" cy="428400"/>
            </a:xfrm>
          </p:grpSpPr>
          <p:sp>
            <p:nvSpPr>
              <p:cNvPr id="1622" name=""/>
              <p:cNvSpPr/>
              <p:nvPr/>
            </p:nvSpPr>
            <p:spPr>
              <a:xfrm>
                <a:off x="6249960" y="3308760"/>
                <a:ext cx="113040" cy="1206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6254640" y="3462840"/>
                <a:ext cx="113040" cy="12024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6259680" y="3616920"/>
                <a:ext cx="113040" cy="12024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5" name=""/>
            <p:cNvSpPr/>
            <p:nvPr/>
          </p:nvSpPr>
          <p:spPr>
            <a:xfrm>
              <a:off x="6788520" y="3051720"/>
              <a:ext cx="505440" cy="529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 flipV="1">
              <a:off x="6808320" y="3623400"/>
              <a:ext cx="485280" cy="659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7" name=""/>
            <p:cNvGrpSpPr/>
            <p:nvPr/>
          </p:nvGrpSpPr>
          <p:grpSpPr>
            <a:xfrm>
              <a:off x="7268760" y="3348360"/>
              <a:ext cx="877320" cy="465480"/>
              <a:chOff x="7268760" y="3348360"/>
              <a:chExt cx="877320" cy="465480"/>
            </a:xfrm>
          </p:grpSpPr>
          <p:sp>
            <p:nvSpPr>
              <p:cNvPr id="1628" name=""/>
              <p:cNvSpPr/>
              <p:nvPr/>
            </p:nvSpPr>
            <p:spPr>
              <a:xfrm>
                <a:off x="7275600" y="3556080"/>
                <a:ext cx="870120" cy="25776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7275600" y="3534120"/>
                <a:ext cx="0" cy="15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8146080" y="3534120"/>
                <a:ext cx="0" cy="15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7275600" y="3534120"/>
                <a:ext cx="862560" cy="157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7268760" y="3348360"/>
                <a:ext cx="869400" cy="30060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33" name=""/>
              <p:cNvGrpSpPr/>
              <p:nvPr/>
            </p:nvGrpSpPr>
            <p:grpSpPr>
              <a:xfrm>
                <a:off x="7477920" y="3414600"/>
                <a:ext cx="430560" cy="175320"/>
                <a:chOff x="7477920" y="3414600"/>
                <a:chExt cx="430560" cy="175320"/>
              </a:xfrm>
            </p:grpSpPr>
            <p:sp>
              <p:nvSpPr>
                <p:cNvPr id="1634" name=""/>
                <p:cNvSpPr/>
                <p:nvPr/>
              </p:nvSpPr>
              <p:spPr>
                <a:xfrm flipV="1">
                  <a:off x="7477920" y="3414600"/>
                  <a:ext cx="153360" cy="3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5" name=""/>
                <p:cNvSpPr/>
                <p:nvPr/>
              </p:nvSpPr>
              <p:spPr>
                <a:xfrm>
                  <a:off x="7773120" y="3589920"/>
                  <a:ext cx="135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6" name=""/>
                <p:cNvSpPr/>
                <p:nvPr/>
              </p:nvSpPr>
              <p:spPr>
                <a:xfrm>
                  <a:off x="7619400" y="3418200"/>
                  <a:ext cx="159840" cy="171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7" name=""/>
              <p:cNvGrpSpPr/>
              <p:nvPr/>
            </p:nvGrpSpPr>
            <p:grpSpPr>
              <a:xfrm>
                <a:off x="7477920" y="3412440"/>
                <a:ext cx="430560" cy="175320"/>
                <a:chOff x="7477920" y="3412440"/>
                <a:chExt cx="430560" cy="175320"/>
              </a:xfrm>
            </p:grpSpPr>
            <p:sp>
              <p:nvSpPr>
                <p:cNvPr id="1638" name=""/>
                <p:cNvSpPr/>
                <p:nvPr/>
              </p:nvSpPr>
              <p:spPr>
                <a:xfrm>
                  <a:off x="7477920" y="3584160"/>
                  <a:ext cx="153360" cy="3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9" name=""/>
                <p:cNvSpPr/>
                <p:nvPr/>
              </p:nvSpPr>
              <p:spPr>
                <a:xfrm>
                  <a:off x="7773120" y="3412440"/>
                  <a:ext cx="135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0" name=""/>
                <p:cNvSpPr/>
                <p:nvPr/>
              </p:nvSpPr>
              <p:spPr>
                <a:xfrm flipV="1">
                  <a:off x="7619400" y="3412440"/>
                  <a:ext cx="159840" cy="171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98D7-34AE-46CC-BBBD-922E3651328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Residential access: cable modem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/>
          </p:nvPr>
        </p:nvSpPr>
        <p:spPr>
          <a:xfrm>
            <a:off x="533160" y="1697040"/>
            <a:ext cx="733716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HFC: hybrid fiber coa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ymmetric: up to 10Mbps upstream, 1 Mbps downstrea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etwork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f cable and fiber attaches homes to ISP rou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hared access to router among hom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sues: congestion, dimensionin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ployment: available via cable companies, e.g., MediaO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2B16-26FE-4012-AE67-786E88726DA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Residential access: cable modem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1644" name="" descr=""/>
          <p:cNvPicPr/>
          <p:nvPr/>
        </p:nvPicPr>
        <p:blipFill>
          <a:blip r:embed="rId1"/>
          <a:stretch/>
        </p:blipFill>
        <p:spPr>
          <a:xfrm>
            <a:off x="1189080" y="1246320"/>
            <a:ext cx="6465960" cy="4744800"/>
          </a:xfrm>
          <a:prstGeom prst="rect">
            <a:avLst/>
          </a:prstGeom>
          <a:ln w="0">
            <a:noFill/>
          </a:ln>
        </p:spPr>
      </p:pic>
      <p:sp>
        <p:nvSpPr>
          <p:cNvPr id="1645" name=""/>
          <p:cNvSpPr/>
          <p:nvPr/>
        </p:nvSpPr>
        <p:spPr>
          <a:xfrm>
            <a:off x="619920" y="6392880"/>
            <a:ext cx="451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: http://www.cabledatacomnews.com/cmic/diagram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C8CF-21EA-48DA-8632-4004B058BA5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Institutional access: local area network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555120" y="1216080"/>
            <a:ext cx="4419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any/univ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local area network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LAN) connects end system to edge rou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thernet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hared or dedicated cable connects end system and rou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0 Mbs, 100Mbps, Gigabit Ether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ployment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stitutions, home LANs happening no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48" name=""/>
          <p:cNvGrpSpPr/>
          <p:nvPr/>
        </p:nvGrpSpPr>
        <p:grpSpPr>
          <a:xfrm>
            <a:off x="5416560" y="2427120"/>
            <a:ext cx="2797920" cy="2350800"/>
            <a:chOff x="5416560" y="2427120"/>
            <a:chExt cx="2797920" cy="2350800"/>
          </a:xfrm>
        </p:grpSpPr>
        <p:pic>
          <p:nvPicPr>
            <p:cNvPr id="1649" name="" descr=""/>
            <p:cNvPicPr/>
            <p:nvPr/>
          </p:nvPicPr>
          <p:blipFill>
            <a:blip r:embed="rId1"/>
            <a:stretch/>
          </p:blipFill>
          <p:spPr>
            <a:xfrm>
              <a:off x="5416560" y="2427120"/>
              <a:ext cx="598320" cy="58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0" name=""/>
            <p:cNvSpPr/>
            <p:nvPr/>
          </p:nvSpPr>
          <p:spPr>
            <a:xfrm flipV="1">
              <a:off x="6002640" y="2858760"/>
              <a:ext cx="102960" cy="1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51" name="" descr=""/>
            <p:cNvPicPr/>
            <p:nvPr/>
          </p:nvPicPr>
          <p:blipFill>
            <a:blip r:embed="rId2"/>
            <a:stretch/>
          </p:blipFill>
          <p:spPr>
            <a:xfrm>
              <a:off x="5416560" y="3468960"/>
              <a:ext cx="598320" cy="58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2" name=""/>
            <p:cNvSpPr/>
            <p:nvPr/>
          </p:nvSpPr>
          <p:spPr>
            <a:xfrm flipV="1">
              <a:off x="6002640" y="3909240"/>
              <a:ext cx="102960" cy="4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53" name=""/>
            <p:cNvGrpSpPr/>
            <p:nvPr/>
          </p:nvGrpSpPr>
          <p:grpSpPr>
            <a:xfrm>
              <a:off x="5595840" y="3025800"/>
              <a:ext cx="102600" cy="389520"/>
              <a:chOff x="5595840" y="3025800"/>
              <a:chExt cx="102600" cy="389520"/>
            </a:xfrm>
          </p:grpSpPr>
          <p:sp>
            <p:nvSpPr>
              <p:cNvPr id="1654" name=""/>
              <p:cNvSpPr/>
              <p:nvPr/>
            </p:nvSpPr>
            <p:spPr>
              <a:xfrm>
                <a:off x="5595840" y="3025800"/>
                <a:ext cx="94680" cy="1098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5599800" y="3165840"/>
                <a:ext cx="94680" cy="10944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5603760" y="3305880"/>
                <a:ext cx="94680" cy="10944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57" name=""/>
            <p:cNvSpPr/>
            <p:nvPr/>
          </p:nvSpPr>
          <p:spPr>
            <a:xfrm>
              <a:off x="6098040" y="2854080"/>
              <a:ext cx="0" cy="1053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58" name="" descr=""/>
            <p:cNvPicPr/>
            <p:nvPr/>
          </p:nvPicPr>
          <p:blipFill>
            <a:blip r:embed="rId3"/>
            <a:stretch/>
          </p:blipFill>
          <p:spPr>
            <a:xfrm>
              <a:off x="6665400" y="4197600"/>
              <a:ext cx="601200" cy="58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9" name="" descr=""/>
            <p:cNvPicPr/>
            <p:nvPr/>
          </p:nvPicPr>
          <p:blipFill>
            <a:blip r:embed="rId4"/>
            <a:stretch/>
          </p:blipFill>
          <p:spPr>
            <a:xfrm>
              <a:off x="5781600" y="4176360"/>
              <a:ext cx="596520" cy="58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0" name=""/>
            <p:cNvSpPr/>
            <p:nvPr/>
          </p:nvSpPr>
          <p:spPr>
            <a:xfrm flipV="1">
              <a:off x="7031160" y="4102200"/>
              <a:ext cx="1800" cy="106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 flipV="1">
              <a:off x="6132960" y="4083480"/>
              <a:ext cx="0" cy="11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 flipH="1">
              <a:off x="6134400" y="4093200"/>
              <a:ext cx="902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6093720" y="3429360"/>
              <a:ext cx="146520" cy="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64" name=""/>
            <p:cNvGrpSpPr/>
            <p:nvPr/>
          </p:nvGrpSpPr>
          <p:grpSpPr>
            <a:xfrm>
              <a:off x="7512480" y="3749760"/>
              <a:ext cx="299160" cy="716760"/>
              <a:chOff x="7512480" y="3749760"/>
              <a:chExt cx="299160" cy="716760"/>
            </a:xfrm>
          </p:grpSpPr>
          <p:sp>
            <p:nvSpPr>
              <p:cNvPr id="1665" name=""/>
              <p:cNvSpPr/>
              <p:nvPr/>
            </p:nvSpPr>
            <p:spPr>
              <a:xfrm>
                <a:off x="7512480" y="4300920"/>
                <a:ext cx="299160" cy="165600"/>
              </a:xfrm>
              <a:prstGeom prst="parallelogram">
                <a:avLst>
                  <a:gd name="adj" fmla="val 69593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7664040" y="3754440"/>
                <a:ext cx="137520" cy="55044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7514280" y="3910680"/>
                <a:ext cx="189720" cy="55116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7512480" y="3749760"/>
                <a:ext cx="299160" cy="165600"/>
              </a:xfrm>
              <a:prstGeom prst="parallelogram">
                <a:avLst>
                  <a:gd name="adj" fmla="val 69593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7811640" y="3761280"/>
                <a:ext cx="0" cy="539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 flipH="1">
                <a:off x="7703640" y="4300920"/>
                <a:ext cx="107640" cy="16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7538040" y="3983040"/>
                <a:ext cx="125640" cy="3175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7556400" y="4078800"/>
                <a:ext cx="95400" cy="111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3" name=""/>
            <p:cNvGrpSpPr/>
            <p:nvPr/>
          </p:nvGrpSpPr>
          <p:grpSpPr>
            <a:xfrm>
              <a:off x="7915320" y="3749760"/>
              <a:ext cx="299160" cy="716760"/>
              <a:chOff x="7915320" y="3749760"/>
              <a:chExt cx="299160" cy="716760"/>
            </a:xfrm>
          </p:grpSpPr>
          <p:sp>
            <p:nvSpPr>
              <p:cNvPr id="1674" name=""/>
              <p:cNvSpPr/>
              <p:nvPr/>
            </p:nvSpPr>
            <p:spPr>
              <a:xfrm>
                <a:off x="7915320" y="4300920"/>
                <a:ext cx="299160" cy="165600"/>
              </a:xfrm>
              <a:prstGeom prst="parallelogram">
                <a:avLst>
                  <a:gd name="adj" fmla="val 69593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8066880" y="3754440"/>
                <a:ext cx="137520" cy="55044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7917120" y="3910680"/>
                <a:ext cx="189720" cy="55116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7915320" y="3749760"/>
                <a:ext cx="299160" cy="165600"/>
              </a:xfrm>
              <a:prstGeom prst="parallelogram">
                <a:avLst>
                  <a:gd name="adj" fmla="val 69593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8214480" y="3761280"/>
                <a:ext cx="0" cy="539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 flipH="1">
                <a:off x="8106480" y="4300920"/>
                <a:ext cx="107640" cy="16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7940880" y="3983040"/>
                <a:ext cx="125640" cy="3175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7959240" y="4078800"/>
                <a:ext cx="95400" cy="111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82" name=""/>
            <p:cNvSpPr/>
            <p:nvPr/>
          </p:nvSpPr>
          <p:spPr>
            <a:xfrm>
              <a:off x="6960960" y="3506040"/>
              <a:ext cx="1127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 flipV="1">
              <a:off x="7725600" y="3489840"/>
              <a:ext cx="0" cy="282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84" name=""/>
            <p:cNvGrpSpPr/>
            <p:nvPr/>
          </p:nvGrpSpPr>
          <p:grpSpPr>
            <a:xfrm>
              <a:off x="6240240" y="3290400"/>
              <a:ext cx="720360" cy="407520"/>
              <a:chOff x="6240240" y="3290400"/>
              <a:chExt cx="720360" cy="407520"/>
            </a:xfrm>
          </p:grpSpPr>
          <p:sp>
            <p:nvSpPr>
              <p:cNvPr id="1685" name=""/>
              <p:cNvSpPr/>
              <p:nvPr/>
            </p:nvSpPr>
            <p:spPr>
              <a:xfrm>
                <a:off x="6246000" y="3472200"/>
                <a:ext cx="714600" cy="2257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6246000" y="3453120"/>
                <a:ext cx="0" cy="14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6960600" y="3453120"/>
                <a:ext cx="0" cy="14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6246000" y="3453120"/>
                <a:ext cx="708120" cy="13788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6240240" y="3290400"/>
                <a:ext cx="714240" cy="263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90" name=""/>
              <p:cNvGrpSpPr/>
              <p:nvPr/>
            </p:nvGrpSpPr>
            <p:grpSpPr>
              <a:xfrm>
                <a:off x="6411960" y="3348360"/>
                <a:ext cx="353880" cy="153720"/>
                <a:chOff x="6411960" y="3348360"/>
                <a:chExt cx="353880" cy="153720"/>
              </a:xfrm>
            </p:grpSpPr>
            <p:sp>
              <p:nvSpPr>
                <p:cNvPr id="1691" name=""/>
                <p:cNvSpPr/>
                <p:nvPr/>
              </p:nvSpPr>
              <p:spPr>
                <a:xfrm flipV="1">
                  <a:off x="6411960" y="3348360"/>
                  <a:ext cx="126000" cy="2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2" name=""/>
                <p:cNvSpPr/>
                <p:nvPr/>
              </p:nvSpPr>
              <p:spPr>
                <a:xfrm>
                  <a:off x="6654600" y="3502080"/>
                  <a:ext cx="111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3" name=""/>
                <p:cNvSpPr/>
                <p:nvPr/>
              </p:nvSpPr>
              <p:spPr>
                <a:xfrm>
                  <a:off x="6528240" y="3351240"/>
                  <a:ext cx="131040" cy="150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4" name=""/>
              <p:cNvGrpSpPr/>
              <p:nvPr/>
            </p:nvGrpSpPr>
            <p:grpSpPr>
              <a:xfrm>
                <a:off x="6411960" y="3345840"/>
                <a:ext cx="353880" cy="153720"/>
                <a:chOff x="6411960" y="3345840"/>
                <a:chExt cx="353880" cy="153720"/>
              </a:xfrm>
            </p:grpSpPr>
            <p:sp>
              <p:nvSpPr>
                <p:cNvPr id="1695" name=""/>
                <p:cNvSpPr/>
                <p:nvPr/>
              </p:nvSpPr>
              <p:spPr>
                <a:xfrm>
                  <a:off x="6411960" y="3496680"/>
                  <a:ext cx="126000" cy="2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6" name=""/>
                <p:cNvSpPr/>
                <p:nvPr/>
              </p:nvSpPr>
              <p:spPr>
                <a:xfrm>
                  <a:off x="6654600" y="3345840"/>
                  <a:ext cx="111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7" name=""/>
                <p:cNvSpPr/>
                <p:nvPr/>
              </p:nvSpPr>
              <p:spPr>
                <a:xfrm flipV="1">
                  <a:off x="6528240" y="3346200"/>
                  <a:ext cx="131040" cy="150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98" name=""/>
            <p:cNvSpPr/>
            <p:nvPr/>
          </p:nvSpPr>
          <p:spPr>
            <a:xfrm>
              <a:off x="6599520" y="3684960"/>
              <a:ext cx="2160" cy="398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 flipV="1">
              <a:off x="8084880" y="3489840"/>
              <a:ext cx="0" cy="282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E099-2BA5-46DC-9309-1CD47A441FC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“</a:t>
            </a: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ool” Internet Appliance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4654440" y="1501920"/>
            <a:ext cx="3000600" cy="352872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1166760" y="1368360"/>
            <a:ext cx="1895400" cy="156060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2301840" y="3797280"/>
            <a:ext cx="2165400" cy="171288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739800" y="5477040"/>
            <a:ext cx="414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ld’s smallest we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-ccs.cs.umass.edu/~shri/iPic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281960" y="2774880"/>
            <a:ext cx="2155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 pictur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ceiva.com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997160" y="5048280"/>
            <a:ext cx="3862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-enabled toaster+weather forec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dancing-man.com/robin/toasty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FD11-2DDA-4CC2-95FD-CE0A95E0A9C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Wireless access network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3962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hared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ireles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ccess network connects end system to rout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wireless LAN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adio spectrum replaces wir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.g., Lucent Wavelan 11 Mbp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wider-area wireless acces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DPD: wireless access to ISP router via cellular networ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02" name=""/>
          <p:cNvGrpSpPr/>
          <p:nvPr/>
        </p:nvGrpSpPr>
        <p:grpSpPr>
          <a:xfrm>
            <a:off x="4990320" y="1779120"/>
            <a:ext cx="3274560" cy="3949920"/>
            <a:chOff x="4990320" y="1779120"/>
            <a:chExt cx="3274560" cy="3949920"/>
          </a:xfrm>
        </p:grpSpPr>
        <p:grpSp>
          <p:nvGrpSpPr>
            <p:cNvPr id="1703" name=""/>
            <p:cNvGrpSpPr/>
            <p:nvPr/>
          </p:nvGrpSpPr>
          <p:grpSpPr>
            <a:xfrm>
              <a:off x="5794200" y="4084560"/>
              <a:ext cx="621720" cy="793800"/>
              <a:chOff x="5794200" y="4084560"/>
              <a:chExt cx="621720" cy="793800"/>
            </a:xfrm>
          </p:grpSpPr>
          <p:pic>
            <p:nvPicPr>
              <p:cNvPr id="170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794200" y="4084560"/>
                <a:ext cx="580680" cy="700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0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886000" y="4292640"/>
                <a:ext cx="529920" cy="585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06" name=""/>
            <p:cNvGrpSpPr/>
            <p:nvPr/>
          </p:nvGrpSpPr>
          <p:grpSpPr>
            <a:xfrm>
              <a:off x="6949800" y="3998880"/>
              <a:ext cx="621360" cy="793440"/>
              <a:chOff x="6949800" y="3998880"/>
              <a:chExt cx="621360" cy="793440"/>
            </a:xfrm>
          </p:grpSpPr>
          <p:pic>
            <p:nvPicPr>
              <p:cNvPr id="170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949800" y="3998880"/>
                <a:ext cx="578880" cy="69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0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041240" y="4206960"/>
                <a:ext cx="529920" cy="585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09" name=""/>
            <p:cNvGrpSpPr/>
            <p:nvPr/>
          </p:nvGrpSpPr>
          <p:grpSpPr>
            <a:xfrm>
              <a:off x="6029280" y="2840040"/>
              <a:ext cx="580320" cy="701280"/>
              <a:chOff x="6029280" y="2840040"/>
              <a:chExt cx="580320" cy="701280"/>
            </a:xfrm>
          </p:grpSpPr>
          <p:pic>
            <p:nvPicPr>
              <p:cNvPr id="171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029280" y="2840040"/>
                <a:ext cx="580320" cy="70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11" name=""/>
              <p:cNvSpPr/>
              <p:nvPr/>
            </p:nvSpPr>
            <p:spPr>
              <a:xfrm>
                <a:off x="6198120" y="3086280"/>
                <a:ext cx="408960" cy="45468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2" name=""/>
            <p:cNvGrpSpPr/>
            <p:nvPr/>
          </p:nvGrpSpPr>
          <p:grpSpPr>
            <a:xfrm>
              <a:off x="6062400" y="2230200"/>
              <a:ext cx="766080" cy="432720"/>
              <a:chOff x="6062400" y="2230200"/>
              <a:chExt cx="766080" cy="432720"/>
            </a:xfrm>
          </p:grpSpPr>
          <p:sp>
            <p:nvSpPr>
              <p:cNvPr id="1713" name=""/>
              <p:cNvSpPr/>
              <p:nvPr/>
            </p:nvSpPr>
            <p:spPr>
              <a:xfrm>
                <a:off x="6068520" y="2423160"/>
                <a:ext cx="759960" cy="23976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6068520" y="2403000"/>
                <a:ext cx="0" cy="148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6828480" y="2403000"/>
                <a:ext cx="0" cy="148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6068520" y="2403000"/>
                <a:ext cx="753120" cy="1465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6062400" y="2230200"/>
                <a:ext cx="759240" cy="2797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18" name=""/>
              <p:cNvGrpSpPr/>
              <p:nvPr/>
            </p:nvGrpSpPr>
            <p:grpSpPr>
              <a:xfrm>
                <a:off x="6245280" y="2291400"/>
                <a:ext cx="375840" cy="163440"/>
                <a:chOff x="6245280" y="2291400"/>
                <a:chExt cx="375840" cy="163440"/>
              </a:xfrm>
            </p:grpSpPr>
            <p:sp>
              <p:nvSpPr>
                <p:cNvPr id="1719" name=""/>
                <p:cNvSpPr/>
                <p:nvPr/>
              </p:nvSpPr>
              <p:spPr>
                <a:xfrm flipV="1">
                  <a:off x="6245280" y="2291400"/>
                  <a:ext cx="133920" cy="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0" name=""/>
                <p:cNvSpPr/>
                <p:nvPr/>
              </p:nvSpPr>
              <p:spPr>
                <a:xfrm>
                  <a:off x="6503040" y="2454840"/>
                  <a:ext cx="118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1" name=""/>
                <p:cNvSpPr/>
                <p:nvPr/>
              </p:nvSpPr>
              <p:spPr>
                <a:xfrm>
                  <a:off x="6368760" y="2295000"/>
                  <a:ext cx="139320" cy="159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2" name=""/>
              <p:cNvGrpSpPr/>
              <p:nvPr/>
            </p:nvGrpSpPr>
            <p:grpSpPr>
              <a:xfrm>
                <a:off x="6245280" y="2289960"/>
                <a:ext cx="375840" cy="163440"/>
                <a:chOff x="6245280" y="2289960"/>
                <a:chExt cx="375840" cy="163440"/>
              </a:xfrm>
            </p:grpSpPr>
            <p:sp>
              <p:nvSpPr>
                <p:cNvPr id="1723" name=""/>
                <p:cNvSpPr/>
                <p:nvPr/>
              </p:nvSpPr>
              <p:spPr>
                <a:xfrm>
                  <a:off x="6245280" y="2450160"/>
                  <a:ext cx="133920" cy="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4" name=""/>
                <p:cNvSpPr/>
                <p:nvPr/>
              </p:nvSpPr>
              <p:spPr>
                <a:xfrm>
                  <a:off x="6503040" y="2289960"/>
                  <a:ext cx="118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5" name=""/>
                <p:cNvSpPr/>
                <p:nvPr/>
              </p:nvSpPr>
              <p:spPr>
                <a:xfrm flipV="1">
                  <a:off x="6368760" y="2289960"/>
                  <a:ext cx="139320" cy="159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26" name=""/>
            <p:cNvSpPr/>
            <p:nvPr/>
          </p:nvSpPr>
          <p:spPr>
            <a:xfrm flipV="1">
              <a:off x="6459480" y="2655360"/>
              <a:ext cx="0" cy="4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7" name=""/>
            <p:cNvGrpSpPr/>
            <p:nvPr/>
          </p:nvGrpSpPr>
          <p:grpSpPr>
            <a:xfrm>
              <a:off x="7194240" y="2395440"/>
              <a:ext cx="621360" cy="793440"/>
              <a:chOff x="7194240" y="2395440"/>
              <a:chExt cx="621360" cy="793440"/>
            </a:xfrm>
          </p:grpSpPr>
          <p:pic>
            <p:nvPicPr>
              <p:cNvPr id="1728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194240" y="2395440"/>
                <a:ext cx="578880" cy="69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9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7285680" y="2603520"/>
                <a:ext cx="529920" cy="585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30" name=""/>
            <p:cNvGrpSpPr/>
            <p:nvPr/>
          </p:nvGrpSpPr>
          <p:grpSpPr>
            <a:xfrm>
              <a:off x="7643520" y="3457440"/>
              <a:ext cx="621360" cy="793440"/>
              <a:chOff x="7643520" y="3457440"/>
              <a:chExt cx="621360" cy="793440"/>
            </a:xfrm>
          </p:grpSpPr>
          <p:pic>
            <p:nvPicPr>
              <p:cNvPr id="1731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7643520" y="3457440"/>
                <a:ext cx="578880" cy="69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2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7734960" y="3665520"/>
                <a:ext cx="529920" cy="585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33" name=""/>
            <p:cNvSpPr/>
            <p:nvPr/>
          </p:nvSpPr>
          <p:spPr>
            <a:xfrm>
              <a:off x="5007240" y="2884320"/>
              <a:ext cx="1169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t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6973560" y="4903560"/>
              <a:ext cx="1168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mobi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os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 flipV="1">
              <a:off x="6402240" y="1779120"/>
              <a:ext cx="0" cy="4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4990320" y="2198520"/>
              <a:ext cx="108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rou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C0BD-3B59-4DDF-B8B3-D618FE57DA76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276120" y="1868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Home network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738" name="PlaceHolder 2"/>
          <p:cNvSpPr>
            <a:spLocks noGrp="1"/>
          </p:cNvSpPr>
          <p:nvPr>
            <p:ph/>
          </p:nvPr>
        </p:nvSpPr>
        <p:spPr>
          <a:xfrm>
            <a:off x="438120" y="1266480"/>
            <a:ext cx="77709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ypical home network components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SL or cable mod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outer/firewal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ther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ireless acce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i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39" name=""/>
          <p:cNvGrpSpPr/>
          <p:nvPr/>
        </p:nvGrpSpPr>
        <p:grpSpPr>
          <a:xfrm>
            <a:off x="6753240" y="3371760"/>
            <a:ext cx="622440" cy="793800"/>
            <a:chOff x="6753240" y="3371760"/>
            <a:chExt cx="622440" cy="793800"/>
          </a:xfrm>
        </p:grpSpPr>
        <p:pic>
          <p:nvPicPr>
            <p:cNvPr id="1740" name="" descr=""/>
            <p:cNvPicPr/>
            <p:nvPr/>
          </p:nvPicPr>
          <p:blipFill>
            <a:blip r:embed="rId1"/>
            <a:stretch/>
          </p:blipFill>
          <p:spPr>
            <a:xfrm>
              <a:off x="6753240" y="3371760"/>
              <a:ext cx="581040" cy="7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1" name="" descr=""/>
            <p:cNvPicPr/>
            <p:nvPr/>
          </p:nvPicPr>
          <p:blipFill>
            <a:blip r:embed="rId2"/>
            <a:stretch/>
          </p:blipFill>
          <p:spPr>
            <a:xfrm>
              <a:off x="6845400" y="3579840"/>
              <a:ext cx="530280" cy="585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42" name=""/>
          <p:cNvGrpSpPr/>
          <p:nvPr/>
        </p:nvGrpSpPr>
        <p:grpSpPr>
          <a:xfrm>
            <a:off x="6800760" y="4330800"/>
            <a:ext cx="622080" cy="793440"/>
            <a:chOff x="6800760" y="4330800"/>
            <a:chExt cx="622080" cy="793440"/>
          </a:xfrm>
        </p:grpSpPr>
        <p:pic>
          <p:nvPicPr>
            <p:cNvPr id="1743" name="" descr=""/>
            <p:cNvPicPr/>
            <p:nvPr/>
          </p:nvPicPr>
          <p:blipFill>
            <a:blip r:embed="rId3"/>
            <a:stretch/>
          </p:blipFill>
          <p:spPr>
            <a:xfrm>
              <a:off x="6800760" y="4330800"/>
              <a:ext cx="579240" cy="69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4" name="" descr=""/>
            <p:cNvPicPr/>
            <p:nvPr/>
          </p:nvPicPr>
          <p:blipFill>
            <a:blip r:embed="rId4"/>
            <a:stretch/>
          </p:blipFill>
          <p:spPr>
            <a:xfrm>
              <a:off x="6892560" y="4538880"/>
              <a:ext cx="530280" cy="585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45" name=""/>
          <p:cNvGrpSpPr/>
          <p:nvPr/>
        </p:nvGrpSpPr>
        <p:grpSpPr>
          <a:xfrm>
            <a:off x="6108840" y="3936960"/>
            <a:ext cx="539280" cy="633240"/>
            <a:chOff x="6108840" y="3936960"/>
            <a:chExt cx="539280" cy="633240"/>
          </a:xfrm>
        </p:grpSpPr>
        <p:pic>
          <p:nvPicPr>
            <p:cNvPr id="1746" name="" descr=""/>
            <p:cNvPicPr/>
            <p:nvPr/>
          </p:nvPicPr>
          <p:blipFill>
            <a:blip r:embed="rId5"/>
            <a:stretch/>
          </p:blipFill>
          <p:spPr>
            <a:xfrm>
              <a:off x="6108840" y="3936960"/>
              <a:ext cx="53928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7" name=""/>
            <p:cNvSpPr/>
            <p:nvPr/>
          </p:nvSpPr>
          <p:spPr>
            <a:xfrm>
              <a:off x="6265440" y="4159440"/>
              <a:ext cx="380160" cy="4107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8" name=""/>
          <p:cNvSpPr/>
          <p:nvPr/>
        </p:nvSpPr>
        <p:spPr>
          <a:xfrm>
            <a:off x="6478200" y="5133960"/>
            <a:ext cx="1146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wirel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cces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7570440" y="3981600"/>
            <a:ext cx="114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wirel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lapto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3629160" y="449892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router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firew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4821120" y="4448160"/>
            <a:ext cx="776520" cy="677880"/>
          </a:xfrm>
          <a:custGeom>
            <a:avLst/>
            <a:gdLst/>
            <a:ahLst/>
            <a:rect l="l" t="t" r="r" b="b"/>
            <a:pathLst>
              <a:path w="489" h="427">
                <a:moveTo>
                  <a:pt x="489" y="427"/>
                </a:moveTo>
                <a:lnTo>
                  <a:pt x="166" y="427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2" name=""/>
          <p:cNvGraphicFramePr/>
          <p:nvPr/>
        </p:nvGraphicFramePr>
        <p:xfrm>
          <a:off x="5526000" y="3222720"/>
          <a:ext cx="598680" cy="579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75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526000" y="3222720"/>
                    <a:ext cx="598680" cy="57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4" name=""/>
          <p:cNvSpPr/>
          <p:nvPr/>
        </p:nvSpPr>
        <p:spPr>
          <a:xfrm flipV="1">
            <a:off x="5021280" y="4237920"/>
            <a:ext cx="1244520" cy="98280"/>
          </a:xfrm>
          <a:custGeom>
            <a:avLst/>
            <a:gdLst/>
            <a:ahLst/>
            <a:rect l="l" t="t" r="r" b="b"/>
            <a:pathLst>
              <a:path w="513" h="1">
                <a:moveTo>
                  <a:pt x="0" y="0"/>
                </a:moveTo>
                <a:lnTo>
                  <a:pt x="513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5" name=""/>
          <p:cNvGraphicFramePr/>
          <p:nvPr/>
        </p:nvGraphicFramePr>
        <p:xfrm>
          <a:off x="5553000" y="4951440"/>
          <a:ext cx="598680" cy="5792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7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553000" y="4951440"/>
                    <a:ext cx="598680" cy="57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7" name="modem"/>
          <p:cNvSpPr/>
          <p:nvPr/>
        </p:nvSpPr>
        <p:spPr>
          <a:xfrm>
            <a:off x="2435400" y="4232160"/>
            <a:ext cx="1033200" cy="20808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3470400" y="4368960"/>
            <a:ext cx="814320" cy="1440"/>
          </a:xfrm>
          <a:custGeom>
            <a:avLst/>
            <a:gdLst/>
            <a:ahLst/>
            <a:rect l="l" t="t" r="r" b="b"/>
            <a:pathLst>
              <a:path w="513" h="1">
                <a:moveTo>
                  <a:pt x="0" y="0"/>
                </a:moveTo>
                <a:lnTo>
                  <a:pt x="513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 flipV="1">
            <a:off x="4765680" y="3591720"/>
            <a:ext cx="776160" cy="677880"/>
          </a:xfrm>
          <a:custGeom>
            <a:avLst/>
            <a:gdLst/>
            <a:ahLst/>
            <a:rect l="l" t="t" r="r" b="b"/>
            <a:pathLst>
              <a:path w="489" h="427">
                <a:moveTo>
                  <a:pt x="489" y="427"/>
                </a:moveTo>
                <a:lnTo>
                  <a:pt x="166" y="427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 flipH="1" flipV="1">
            <a:off x="6512040" y="4613400"/>
            <a:ext cx="123840" cy="582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2373840" y="4484520"/>
            <a:ext cx="1110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c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mod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1870200" y="4351320"/>
            <a:ext cx="566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1061280" y="4305240"/>
            <a:ext cx="1238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/fr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ad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4" name=""/>
          <p:cNvGrpSpPr/>
          <p:nvPr/>
        </p:nvGrpSpPr>
        <p:grpSpPr>
          <a:xfrm>
            <a:off x="4246560" y="4146480"/>
            <a:ext cx="766440" cy="432720"/>
            <a:chOff x="4246560" y="4146480"/>
            <a:chExt cx="766440" cy="432720"/>
          </a:xfrm>
        </p:grpSpPr>
        <p:sp>
          <p:nvSpPr>
            <p:cNvPr id="1765" name=""/>
            <p:cNvSpPr/>
            <p:nvPr/>
          </p:nvSpPr>
          <p:spPr>
            <a:xfrm>
              <a:off x="4252680" y="4339440"/>
              <a:ext cx="760320" cy="2397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4252680" y="4319280"/>
              <a:ext cx="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5013000" y="4319280"/>
              <a:ext cx="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4252680" y="4319280"/>
              <a:ext cx="753480" cy="146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4246560" y="4146480"/>
              <a:ext cx="759600" cy="2797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0" name=""/>
            <p:cNvGrpSpPr/>
            <p:nvPr/>
          </p:nvGrpSpPr>
          <p:grpSpPr>
            <a:xfrm>
              <a:off x="4429440" y="4207680"/>
              <a:ext cx="376200" cy="163440"/>
              <a:chOff x="4429440" y="4207680"/>
              <a:chExt cx="376200" cy="163440"/>
            </a:xfrm>
          </p:grpSpPr>
          <p:sp>
            <p:nvSpPr>
              <p:cNvPr id="1771" name=""/>
              <p:cNvSpPr/>
              <p:nvPr/>
            </p:nvSpPr>
            <p:spPr>
              <a:xfrm flipV="1">
                <a:off x="4429440" y="4207680"/>
                <a:ext cx="13428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4687560" y="4371120"/>
                <a:ext cx="11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4553280" y="4211280"/>
                <a:ext cx="139680" cy="159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4" name=""/>
            <p:cNvGrpSpPr/>
            <p:nvPr/>
          </p:nvGrpSpPr>
          <p:grpSpPr>
            <a:xfrm>
              <a:off x="4429440" y="4206240"/>
              <a:ext cx="376200" cy="163440"/>
              <a:chOff x="4429440" y="4206240"/>
              <a:chExt cx="376200" cy="163440"/>
            </a:xfrm>
          </p:grpSpPr>
          <p:sp>
            <p:nvSpPr>
              <p:cNvPr id="1775" name=""/>
              <p:cNvSpPr/>
              <p:nvPr/>
            </p:nvSpPr>
            <p:spPr>
              <a:xfrm>
                <a:off x="4429440" y="4366440"/>
                <a:ext cx="13428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4687560" y="4206240"/>
                <a:ext cx="11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 flipV="1">
                <a:off x="4553280" y="4206240"/>
                <a:ext cx="139680" cy="159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78" name=""/>
          <p:cNvSpPr/>
          <p:nvPr/>
        </p:nvSpPr>
        <p:spPr>
          <a:xfrm>
            <a:off x="4142520" y="5632560"/>
            <a:ext cx="1390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Eth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(switch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 flipV="1">
            <a:off x="4862520" y="4875120"/>
            <a:ext cx="69840" cy="819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 flipV="1">
            <a:off x="4875120" y="3586320"/>
            <a:ext cx="444600" cy="2093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 flipV="1">
            <a:off x="4861080" y="5124600"/>
            <a:ext cx="347400" cy="528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3B3C-B4FB-45D7-9B45-4990F75A3CF7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Physical Media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783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hysical link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ransmitted data bit propagates across lin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guided media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gnals propagate in solid media: copper, fib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unguided media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gnals propagate freely, e.g., radi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4" name="PlaceHolder 3"/>
          <p:cNvSpPr>
            <a:spLocks noGrp="1"/>
          </p:cNvSpPr>
          <p:nvPr>
            <p:ph/>
          </p:nvPr>
        </p:nvSpPr>
        <p:spPr>
          <a:xfrm>
            <a:off x="4514760" y="140004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Twisted Pair (TP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wo insulated copper wir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tegory 3: traditional phone wires, 10 Mbps Ethern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tegory 5 TP: 100Mbps Ethern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5" name="" descr=""/>
          <p:cNvPicPr/>
          <p:nvPr/>
        </p:nvPicPr>
        <p:blipFill>
          <a:blip r:embed="rId1"/>
          <a:stretch/>
        </p:blipFill>
        <p:spPr>
          <a:xfrm>
            <a:off x="4219560" y="4886280"/>
            <a:ext cx="4111560" cy="3715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E49E-0910-483E-A90E-58F1B8FA8668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Physical Media: coax, fiber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787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3962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oaxial cabl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ire (signal carrier) within a wire (shield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aseband: single channel on cab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roadband: multiple channel on cab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idirection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mon use in 10Mbs Ether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8" name="" descr=""/>
          <p:cNvPicPr/>
          <p:nvPr/>
        </p:nvPicPr>
        <p:blipFill>
          <a:blip r:embed="rId1"/>
          <a:stretch/>
        </p:blipFill>
        <p:spPr>
          <a:xfrm>
            <a:off x="963720" y="5410080"/>
            <a:ext cx="2501640" cy="1086120"/>
          </a:xfrm>
          <a:prstGeom prst="rect">
            <a:avLst/>
          </a:prstGeom>
          <a:ln w="0">
            <a:noFill/>
          </a:ln>
        </p:spPr>
      </p:pic>
      <p:sp>
        <p:nvSpPr>
          <p:cNvPr id="1789" name=""/>
          <p:cNvSpPr/>
          <p:nvPr/>
        </p:nvSpPr>
        <p:spPr>
          <a:xfrm>
            <a:off x="4800600" y="1390680"/>
            <a:ext cx="3962520" cy="34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Fiber optic cab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lass fiber carrying light pul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igh-speed ope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0Mbps Eth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igh-speed point-to-point transmission (e.g., 5 Gp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w error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0" name="" descr=""/>
          <p:cNvPicPr/>
          <p:nvPr/>
        </p:nvPicPr>
        <p:blipFill>
          <a:blip r:embed="rId2"/>
          <a:stretch/>
        </p:blipFill>
        <p:spPr>
          <a:xfrm>
            <a:off x="5459400" y="5027760"/>
            <a:ext cx="2371680" cy="1460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21EC-1AC4-413E-BE5A-89AB88D123C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Physical media: radi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792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3962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gnal carried in electromagnetic spectru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physical “wire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idirection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pagation environment effect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flection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bstruction by objec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erferen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3" name=""/>
          <p:cNvSpPr/>
          <p:nvPr/>
        </p:nvSpPr>
        <p:spPr>
          <a:xfrm>
            <a:off x="4753080" y="1031760"/>
            <a:ext cx="3406680" cy="54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Radio link typ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microw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.g. up to 45 Mbps chann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LA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(e.g., WaveLA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Mbps, 11Mb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wide-area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(e.g., cellul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.g. CDPD, 10’s Kb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satell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p to 50Mbps channel (or multiple smaller channel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70 Msec end-end de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eosynchronous versus LE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B8E6-811D-4FA3-8B84-09637622653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Performance Issue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CC28-C5AE-45BA-9706-1335D6A42192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47628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Delay in packet-switched networks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/>
          </p:nvPr>
        </p:nvSpPr>
        <p:spPr>
          <a:xfrm>
            <a:off x="523800" y="1371240"/>
            <a:ext cx="381024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ckets experienc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lay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 end-to-end pat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ou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ources of delay at each ho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8" name="PlaceHolder 3"/>
          <p:cNvSpPr>
            <a:spLocks noGrp="1"/>
          </p:cNvSpPr>
          <p:nvPr>
            <p:ph/>
          </p:nvPr>
        </p:nvSpPr>
        <p:spPr>
          <a:xfrm>
            <a:off x="4505040" y="1324080"/>
            <a:ext cx="3809880" cy="29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dal processing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eck bit erro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termine output lin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ue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 waiting at output link for transmission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pends on congestion level of rout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99" name=""/>
          <p:cNvGrpSpPr/>
          <p:nvPr/>
        </p:nvGrpSpPr>
        <p:grpSpPr>
          <a:xfrm>
            <a:off x="646920" y="3965400"/>
            <a:ext cx="6006240" cy="2176200"/>
            <a:chOff x="646920" y="3965400"/>
            <a:chExt cx="6006240" cy="2176200"/>
          </a:xfrm>
        </p:grpSpPr>
        <p:pic>
          <p:nvPicPr>
            <p:cNvPr id="1800" name="" descr=""/>
            <p:cNvPicPr/>
            <p:nvPr/>
          </p:nvPicPr>
          <p:blipFill>
            <a:blip r:embed="rId1"/>
            <a:stretch/>
          </p:blipFill>
          <p:spPr>
            <a:xfrm>
              <a:off x="1298520" y="5155920"/>
              <a:ext cx="64620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1" name=""/>
            <p:cNvSpPr/>
            <p:nvPr/>
          </p:nvSpPr>
          <p:spPr>
            <a:xfrm>
              <a:off x="2340000" y="4914720"/>
              <a:ext cx="1198800" cy="3700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2340000" y="4846320"/>
              <a:ext cx="1198800" cy="263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2349720" y="4617720"/>
              <a:ext cx="1198440" cy="43056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04" name=""/>
            <p:cNvGrpSpPr/>
            <p:nvPr/>
          </p:nvGrpSpPr>
          <p:grpSpPr>
            <a:xfrm>
              <a:off x="2695680" y="4647960"/>
              <a:ext cx="497160" cy="118800"/>
              <a:chOff x="2695680" y="4647960"/>
              <a:chExt cx="497160" cy="118800"/>
            </a:xfrm>
          </p:grpSpPr>
          <p:grpSp>
            <p:nvGrpSpPr>
              <p:cNvPr id="1805" name=""/>
              <p:cNvGrpSpPr/>
              <p:nvPr/>
            </p:nvGrpSpPr>
            <p:grpSpPr>
              <a:xfrm>
                <a:off x="2695680" y="4649400"/>
                <a:ext cx="497160" cy="117360"/>
                <a:chOff x="2695680" y="4649400"/>
                <a:chExt cx="497160" cy="117360"/>
              </a:xfrm>
            </p:grpSpPr>
            <p:sp>
              <p:nvSpPr>
                <p:cNvPr id="1806" name=""/>
                <p:cNvSpPr/>
                <p:nvPr/>
              </p:nvSpPr>
              <p:spPr>
                <a:xfrm flipV="1">
                  <a:off x="2695680" y="4649400"/>
                  <a:ext cx="17748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7" name=""/>
                <p:cNvSpPr/>
                <p:nvPr/>
              </p:nvSpPr>
              <p:spPr>
                <a:xfrm>
                  <a:off x="3036600" y="4766760"/>
                  <a:ext cx="156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8" name=""/>
                <p:cNvSpPr/>
                <p:nvPr/>
              </p:nvSpPr>
              <p:spPr>
                <a:xfrm>
                  <a:off x="2859120" y="4651560"/>
                  <a:ext cx="184680" cy="114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9" name=""/>
              <p:cNvGrpSpPr/>
              <p:nvPr/>
            </p:nvGrpSpPr>
            <p:grpSpPr>
              <a:xfrm>
                <a:off x="2695680" y="4647960"/>
                <a:ext cx="497160" cy="117360"/>
                <a:chOff x="2695680" y="4647960"/>
                <a:chExt cx="497160" cy="117360"/>
              </a:xfrm>
            </p:grpSpPr>
            <p:sp>
              <p:nvSpPr>
                <p:cNvPr id="1810" name=""/>
                <p:cNvSpPr/>
                <p:nvPr/>
              </p:nvSpPr>
              <p:spPr>
                <a:xfrm>
                  <a:off x="2695680" y="4763160"/>
                  <a:ext cx="17748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1" name=""/>
                <p:cNvSpPr/>
                <p:nvPr/>
              </p:nvSpPr>
              <p:spPr>
                <a:xfrm>
                  <a:off x="3036600" y="4647960"/>
                  <a:ext cx="156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2" name=""/>
                <p:cNvSpPr/>
                <p:nvPr/>
              </p:nvSpPr>
              <p:spPr>
                <a:xfrm flipV="1">
                  <a:off x="2859120" y="4648320"/>
                  <a:ext cx="184680" cy="114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13" name=""/>
            <p:cNvSpPr/>
            <p:nvPr/>
          </p:nvSpPr>
          <p:spPr>
            <a:xfrm>
              <a:off x="5435640" y="4933800"/>
              <a:ext cx="1198800" cy="36972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5445360" y="491328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5445360" y="4875120"/>
              <a:ext cx="1198440" cy="263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5454720" y="4646520"/>
              <a:ext cx="1198440" cy="4302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17" name="" descr=""/>
            <p:cNvPicPr/>
            <p:nvPr/>
          </p:nvPicPr>
          <p:blipFill>
            <a:blip r:embed="rId2"/>
            <a:stretch/>
          </p:blipFill>
          <p:spPr>
            <a:xfrm>
              <a:off x="984240" y="4146480"/>
              <a:ext cx="646200" cy="53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8" name=""/>
            <p:cNvSpPr/>
            <p:nvPr/>
          </p:nvSpPr>
          <p:spPr>
            <a:xfrm>
              <a:off x="1609920" y="4552920"/>
              <a:ext cx="504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 flipV="1">
              <a:off x="1914480" y="5538240"/>
              <a:ext cx="19548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3533760" y="4971960"/>
              <a:ext cx="193356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2114640" y="4543200"/>
              <a:ext cx="0" cy="1000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2124360" y="4976640"/>
              <a:ext cx="199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4453200" y="4771800"/>
              <a:ext cx="147600" cy="200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3200400" y="4843440"/>
              <a:ext cx="147600" cy="199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3362400" y="4843440"/>
              <a:ext cx="147600" cy="1998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2148120" y="4743360"/>
              <a:ext cx="147600" cy="199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2324160" y="4848120"/>
              <a:ext cx="24300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 flipV="1">
              <a:off x="1990800" y="5124240"/>
              <a:ext cx="0" cy="17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5224680" y="4572000"/>
              <a:ext cx="366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646920" y="417024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907200" y="5189400"/>
              <a:ext cx="37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3490920" y="4781520"/>
              <a:ext cx="147600" cy="199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3836520" y="4384440"/>
              <a:ext cx="151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propag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 flipH="1">
              <a:off x="3633480" y="4572000"/>
              <a:ext cx="3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1958760" y="3965400"/>
              <a:ext cx="156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transmis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3056760" y="4237920"/>
              <a:ext cx="52884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2084400" y="5499000"/>
              <a:ext cx="1354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nod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process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 flipH="1">
              <a:off x="2366640" y="5543280"/>
              <a:ext cx="83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 flipH="1">
              <a:off x="3176640" y="5305320"/>
              <a:ext cx="38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3530880" y="5756040"/>
              <a:ext cx="12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queue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 flipH="1" flipV="1">
              <a:off x="3338640" y="5305320"/>
              <a:ext cx="595440" cy="55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42" name=""/>
            <p:cNvGrpSpPr/>
            <p:nvPr/>
          </p:nvGrpSpPr>
          <p:grpSpPr>
            <a:xfrm>
              <a:off x="5781960" y="4705200"/>
              <a:ext cx="497160" cy="118800"/>
              <a:chOff x="5781960" y="4705200"/>
              <a:chExt cx="497160" cy="118800"/>
            </a:xfrm>
          </p:grpSpPr>
          <p:grpSp>
            <p:nvGrpSpPr>
              <p:cNvPr id="1843" name=""/>
              <p:cNvGrpSpPr/>
              <p:nvPr/>
            </p:nvGrpSpPr>
            <p:grpSpPr>
              <a:xfrm>
                <a:off x="5781960" y="4706640"/>
                <a:ext cx="497160" cy="117360"/>
                <a:chOff x="5781960" y="4706640"/>
                <a:chExt cx="497160" cy="117360"/>
              </a:xfrm>
            </p:grpSpPr>
            <p:sp>
              <p:nvSpPr>
                <p:cNvPr id="1844" name=""/>
                <p:cNvSpPr/>
                <p:nvPr/>
              </p:nvSpPr>
              <p:spPr>
                <a:xfrm flipV="1">
                  <a:off x="5781960" y="4706640"/>
                  <a:ext cx="17712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5" name=""/>
                <p:cNvSpPr/>
                <p:nvPr/>
              </p:nvSpPr>
              <p:spPr>
                <a:xfrm>
                  <a:off x="6122880" y="4824000"/>
                  <a:ext cx="156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6" name=""/>
                <p:cNvSpPr/>
                <p:nvPr/>
              </p:nvSpPr>
              <p:spPr>
                <a:xfrm>
                  <a:off x="5945400" y="4708800"/>
                  <a:ext cx="184320" cy="114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7" name=""/>
              <p:cNvGrpSpPr/>
              <p:nvPr/>
            </p:nvGrpSpPr>
            <p:grpSpPr>
              <a:xfrm>
                <a:off x="5781960" y="4705200"/>
                <a:ext cx="497160" cy="117360"/>
                <a:chOff x="5781960" y="4705200"/>
                <a:chExt cx="497160" cy="117360"/>
              </a:xfrm>
            </p:grpSpPr>
            <p:sp>
              <p:nvSpPr>
                <p:cNvPr id="1848" name=""/>
                <p:cNvSpPr/>
                <p:nvPr/>
              </p:nvSpPr>
              <p:spPr>
                <a:xfrm>
                  <a:off x="5781960" y="4820400"/>
                  <a:ext cx="17712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9" name=""/>
                <p:cNvSpPr/>
                <p:nvPr/>
              </p:nvSpPr>
              <p:spPr>
                <a:xfrm>
                  <a:off x="6122880" y="4705200"/>
                  <a:ext cx="156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0" name=""/>
                <p:cNvSpPr/>
                <p:nvPr/>
              </p:nvSpPr>
              <p:spPr>
                <a:xfrm flipV="1">
                  <a:off x="5945400" y="4705560"/>
                  <a:ext cx="184320" cy="114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308F-EA1C-4265-BFDA-8731A5D3BDD0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title"/>
          </p:nvPr>
        </p:nvSpPr>
        <p:spPr>
          <a:xfrm>
            <a:off x="47628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Delay in packet-switched networks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852" name="PlaceHolder 2"/>
          <p:cNvSpPr>
            <a:spLocks noGrp="1"/>
          </p:cNvSpPr>
          <p:nvPr>
            <p:ph/>
          </p:nvPr>
        </p:nvSpPr>
        <p:spPr>
          <a:xfrm>
            <a:off x="523800" y="1371240"/>
            <a:ext cx="3810240" cy="25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ransmission dela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=link bandwidth (bp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=packet length (bit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me to send bits into link = L/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3" name="PlaceHolder 3"/>
          <p:cNvSpPr>
            <a:spLocks noGrp="1"/>
          </p:cNvSpPr>
          <p:nvPr>
            <p:ph/>
          </p:nvPr>
        </p:nvSpPr>
        <p:spPr>
          <a:xfrm>
            <a:off x="4476600" y="1362240"/>
            <a:ext cx="4152960" cy="29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ropagation dela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 = length of physical lin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 = propagation speed in medium (~2x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m/sec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pagation delay = d/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54" name=""/>
          <p:cNvGrpSpPr/>
          <p:nvPr/>
        </p:nvGrpSpPr>
        <p:grpSpPr>
          <a:xfrm>
            <a:off x="637560" y="4432320"/>
            <a:ext cx="6006240" cy="2176200"/>
            <a:chOff x="637560" y="4432320"/>
            <a:chExt cx="6006240" cy="2176200"/>
          </a:xfrm>
        </p:grpSpPr>
        <p:pic>
          <p:nvPicPr>
            <p:cNvPr id="1855" name="" descr=""/>
            <p:cNvPicPr/>
            <p:nvPr/>
          </p:nvPicPr>
          <p:blipFill>
            <a:blip r:embed="rId1"/>
            <a:stretch/>
          </p:blipFill>
          <p:spPr>
            <a:xfrm>
              <a:off x="1289160" y="5622840"/>
              <a:ext cx="64620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6" name=""/>
            <p:cNvSpPr/>
            <p:nvPr/>
          </p:nvSpPr>
          <p:spPr>
            <a:xfrm>
              <a:off x="2330640" y="5381640"/>
              <a:ext cx="1198800" cy="3700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2330640" y="5313240"/>
              <a:ext cx="1198800" cy="263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2340360" y="5084640"/>
              <a:ext cx="1198440" cy="43056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59" name=""/>
            <p:cNvGrpSpPr/>
            <p:nvPr/>
          </p:nvGrpSpPr>
          <p:grpSpPr>
            <a:xfrm>
              <a:off x="2686320" y="5114880"/>
              <a:ext cx="497160" cy="118800"/>
              <a:chOff x="2686320" y="5114880"/>
              <a:chExt cx="497160" cy="118800"/>
            </a:xfrm>
          </p:grpSpPr>
          <p:grpSp>
            <p:nvGrpSpPr>
              <p:cNvPr id="1860" name=""/>
              <p:cNvGrpSpPr/>
              <p:nvPr/>
            </p:nvGrpSpPr>
            <p:grpSpPr>
              <a:xfrm>
                <a:off x="2686320" y="5116320"/>
                <a:ext cx="497160" cy="117360"/>
                <a:chOff x="2686320" y="5116320"/>
                <a:chExt cx="497160" cy="117360"/>
              </a:xfrm>
            </p:grpSpPr>
            <p:sp>
              <p:nvSpPr>
                <p:cNvPr id="1861" name=""/>
                <p:cNvSpPr/>
                <p:nvPr/>
              </p:nvSpPr>
              <p:spPr>
                <a:xfrm flipV="1">
                  <a:off x="2686320" y="5116320"/>
                  <a:ext cx="17748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2" name=""/>
                <p:cNvSpPr/>
                <p:nvPr/>
              </p:nvSpPr>
              <p:spPr>
                <a:xfrm>
                  <a:off x="3027240" y="5233680"/>
                  <a:ext cx="156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3" name=""/>
                <p:cNvSpPr/>
                <p:nvPr/>
              </p:nvSpPr>
              <p:spPr>
                <a:xfrm>
                  <a:off x="2849760" y="5118480"/>
                  <a:ext cx="184680" cy="114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4" name=""/>
              <p:cNvGrpSpPr/>
              <p:nvPr/>
            </p:nvGrpSpPr>
            <p:grpSpPr>
              <a:xfrm>
                <a:off x="2686320" y="5114880"/>
                <a:ext cx="497160" cy="117360"/>
                <a:chOff x="2686320" y="5114880"/>
                <a:chExt cx="497160" cy="117360"/>
              </a:xfrm>
            </p:grpSpPr>
            <p:sp>
              <p:nvSpPr>
                <p:cNvPr id="1865" name=""/>
                <p:cNvSpPr/>
                <p:nvPr/>
              </p:nvSpPr>
              <p:spPr>
                <a:xfrm>
                  <a:off x="2686320" y="5230080"/>
                  <a:ext cx="17748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6" name=""/>
                <p:cNvSpPr/>
                <p:nvPr/>
              </p:nvSpPr>
              <p:spPr>
                <a:xfrm>
                  <a:off x="3027240" y="5114880"/>
                  <a:ext cx="156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7" name=""/>
                <p:cNvSpPr/>
                <p:nvPr/>
              </p:nvSpPr>
              <p:spPr>
                <a:xfrm flipV="1">
                  <a:off x="2849760" y="5115240"/>
                  <a:ext cx="184680" cy="114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68" name=""/>
            <p:cNvSpPr/>
            <p:nvPr/>
          </p:nvSpPr>
          <p:spPr>
            <a:xfrm>
              <a:off x="5426280" y="5400720"/>
              <a:ext cx="1198800" cy="36972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5436000" y="538020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5436000" y="5342040"/>
              <a:ext cx="1198440" cy="263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5445360" y="5113440"/>
              <a:ext cx="1198440" cy="4302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72" name="" descr=""/>
            <p:cNvPicPr/>
            <p:nvPr/>
          </p:nvPicPr>
          <p:blipFill>
            <a:blip r:embed="rId2"/>
            <a:stretch/>
          </p:blipFill>
          <p:spPr>
            <a:xfrm>
              <a:off x="974880" y="4613400"/>
              <a:ext cx="646200" cy="53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3" name=""/>
            <p:cNvSpPr/>
            <p:nvPr/>
          </p:nvSpPr>
          <p:spPr>
            <a:xfrm>
              <a:off x="1600560" y="5019840"/>
              <a:ext cx="504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 flipV="1">
              <a:off x="1905120" y="6005160"/>
              <a:ext cx="19548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3524400" y="5438880"/>
              <a:ext cx="193356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2105280" y="5010120"/>
              <a:ext cx="0" cy="1000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2115000" y="5443560"/>
              <a:ext cx="199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4443840" y="5238720"/>
              <a:ext cx="147600" cy="200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3191040" y="5310360"/>
              <a:ext cx="147600" cy="199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3353040" y="5310360"/>
              <a:ext cx="147600" cy="1998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2138760" y="5210280"/>
              <a:ext cx="147600" cy="199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2314800" y="5315040"/>
              <a:ext cx="24300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 flipV="1">
              <a:off x="1981440" y="5591160"/>
              <a:ext cx="0" cy="17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5215320" y="5038920"/>
              <a:ext cx="366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637560" y="463716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897840" y="5656320"/>
              <a:ext cx="37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3481560" y="5248440"/>
              <a:ext cx="147600" cy="199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3827160" y="4851360"/>
              <a:ext cx="151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propag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 flipH="1">
              <a:off x="3624120" y="5038920"/>
              <a:ext cx="3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1949400" y="4432320"/>
              <a:ext cx="156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transmis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3047400" y="4704840"/>
              <a:ext cx="52884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2075040" y="5965920"/>
              <a:ext cx="1354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nod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process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 flipH="1">
              <a:off x="2357280" y="6010200"/>
              <a:ext cx="83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 flipH="1">
              <a:off x="3167280" y="5772240"/>
              <a:ext cx="38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3521520" y="6222960"/>
              <a:ext cx="12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queue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 flipH="1" flipV="1">
              <a:off x="3329280" y="5772240"/>
              <a:ext cx="595440" cy="55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97" name=""/>
            <p:cNvGrpSpPr/>
            <p:nvPr/>
          </p:nvGrpSpPr>
          <p:grpSpPr>
            <a:xfrm>
              <a:off x="5772600" y="5172120"/>
              <a:ext cx="497160" cy="118800"/>
              <a:chOff x="5772600" y="5172120"/>
              <a:chExt cx="497160" cy="118800"/>
            </a:xfrm>
          </p:grpSpPr>
          <p:grpSp>
            <p:nvGrpSpPr>
              <p:cNvPr id="1898" name=""/>
              <p:cNvGrpSpPr/>
              <p:nvPr/>
            </p:nvGrpSpPr>
            <p:grpSpPr>
              <a:xfrm>
                <a:off x="5772600" y="5173560"/>
                <a:ext cx="497160" cy="117360"/>
                <a:chOff x="5772600" y="5173560"/>
                <a:chExt cx="497160" cy="117360"/>
              </a:xfrm>
            </p:grpSpPr>
            <p:sp>
              <p:nvSpPr>
                <p:cNvPr id="1899" name=""/>
                <p:cNvSpPr/>
                <p:nvPr/>
              </p:nvSpPr>
              <p:spPr>
                <a:xfrm flipV="1">
                  <a:off x="5772600" y="5173560"/>
                  <a:ext cx="17712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0" name=""/>
                <p:cNvSpPr/>
                <p:nvPr/>
              </p:nvSpPr>
              <p:spPr>
                <a:xfrm>
                  <a:off x="6113520" y="5290920"/>
                  <a:ext cx="156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1" name=""/>
                <p:cNvSpPr/>
                <p:nvPr/>
              </p:nvSpPr>
              <p:spPr>
                <a:xfrm>
                  <a:off x="5936040" y="5175720"/>
                  <a:ext cx="184320" cy="114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2" name=""/>
              <p:cNvGrpSpPr/>
              <p:nvPr/>
            </p:nvGrpSpPr>
            <p:grpSpPr>
              <a:xfrm>
                <a:off x="5772600" y="5172120"/>
                <a:ext cx="497160" cy="117360"/>
                <a:chOff x="5772600" y="5172120"/>
                <a:chExt cx="497160" cy="117360"/>
              </a:xfrm>
            </p:grpSpPr>
            <p:sp>
              <p:nvSpPr>
                <p:cNvPr id="1903" name=""/>
                <p:cNvSpPr/>
                <p:nvPr/>
              </p:nvSpPr>
              <p:spPr>
                <a:xfrm>
                  <a:off x="5772600" y="5287320"/>
                  <a:ext cx="17712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4" name=""/>
                <p:cNvSpPr/>
                <p:nvPr/>
              </p:nvSpPr>
              <p:spPr>
                <a:xfrm>
                  <a:off x="6113520" y="5172120"/>
                  <a:ext cx="156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5" name=""/>
                <p:cNvSpPr/>
                <p:nvPr/>
              </p:nvSpPr>
              <p:spPr>
                <a:xfrm flipV="1">
                  <a:off x="5936040" y="5172480"/>
                  <a:ext cx="184320" cy="114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906" name=""/>
          <p:cNvSpPr/>
          <p:nvPr/>
        </p:nvSpPr>
        <p:spPr>
          <a:xfrm>
            <a:off x="4476600" y="3790800"/>
            <a:ext cx="380052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ote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 and R are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very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fferent quantitie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4476600" y="3800520"/>
            <a:ext cx="3676680" cy="87624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8472-3A54-4B9B-8CE3-59A04B0FF936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8" name="" descr=""/>
          <p:cNvPicPr/>
          <p:nvPr/>
        </p:nvPicPr>
        <p:blipFill>
          <a:blip r:embed="rId1"/>
          <a:stretch/>
        </p:blipFill>
        <p:spPr>
          <a:xfrm>
            <a:off x="3981600" y="1290600"/>
            <a:ext cx="5162400" cy="3170160"/>
          </a:xfrm>
          <a:prstGeom prst="rect">
            <a:avLst/>
          </a:prstGeom>
          <a:ln w="0">
            <a:noFill/>
          </a:ln>
        </p:spPr>
      </p:pic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47628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Queueing delay (revisited)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910" name="PlaceHolder 2"/>
          <p:cNvSpPr>
            <a:spLocks noGrp="1"/>
          </p:cNvSpPr>
          <p:nvPr>
            <p:ph/>
          </p:nvPr>
        </p:nvSpPr>
        <p:spPr>
          <a:xfrm>
            <a:off x="571320" y="1638360"/>
            <a:ext cx="3809880" cy="17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=link bandwidth (bp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=packet length (bit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=average packet arrival ra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1" name=""/>
          <p:cNvSpPr/>
          <p:nvPr/>
        </p:nvSpPr>
        <p:spPr>
          <a:xfrm>
            <a:off x="714240" y="3552840"/>
            <a:ext cx="38102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raffic intensity = La/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571680" y="4448160"/>
            <a:ext cx="6972120" cy="19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/R ~ 0: average queueing delay sm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/R -&gt; 1: delays become la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/R &gt; 1: more “work” arriving than can be serviced, average delay infini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DB5A-BB65-43AB-AD83-61389B2A7180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"/>
          <p:cNvSpPr/>
          <p:nvPr/>
        </p:nvSpPr>
        <p:spPr>
          <a:xfrm flipV="1">
            <a:off x="1362240" y="1743120"/>
            <a:ext cx="2286000" cy="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Network Core: Packet Switching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1915" name="" descr=""/>
          <p:cNvPicPr/>
          <p:nvPr/>
        </p:nvPicPr>
        <p:blipFill>
          <a:blip r:embed="rId1"/>
          <a:stretch/>
        </p:blipFill>
        <p:spPr>
          <a:xfrm>
            <a:off x="277920" y="1927080"/>
            <a:ext cx="4228920" cy="4524480"/>
          </a:xfrm>
          <a:prstGeom prst="rect">
            <a:avLst/>
          </a:prstGeom>
          <a:ln w="0">
            <a:noFill/>
          </a:ln>
        </p:spPr>
      </p:pic>
      <p:sp>
        <p:nvSpPr>
          <p:cNvPr id="1916" name="PlaceHolder 2"/>
          <p:cNvSpPr>
            <a:spLocks noGrp="1"/>
          </p:cNvSpPr>
          <p:nvPr>
            <p:ph/>
          </p:nvPr>
        </p:nvSpPr>
        <p:spPr>
          <a:xfrm>
            <a:off x="4597200" y="1469520"/>
            <a:ext cx="4352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acket-switching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ore and forward behavi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7" name="" descr=""/>
          <p:cNvPicPr/>
          <p:nvPr/>
        </p:nvPicPr>
        <p:blipFill>
          <a:blip r:embed="rId2"/>
          <a:stretch/>
        </p:blipFill>
        <p:spPr>
          <a:xfrm>
            <a:off x="755640" y="1365120"/>
            <a:ext cx="646200" cy="533520"/>
          </a:xfrm>
          <a:prstGeom prst="rect">
            <a:avLst/>
          </a:prstGeom>
          <a:ln w="0">
            <a:noFill/>
          </a:ln>
        </p:spPr>
      </p:pic>
      <p:pic>
        <p:nvPicPr>
          <p:cNvPr id="1918" name="" descr=""/>
          <p:cNvPicPr/>
          <p:nvPr/>
        </p:nvPicPr>
        <p:blipFill>
          <a:blip r:embed="rId3"/>
          <a:stretch/>
        </p:blipFill>
        <p:spPr>
          <a:xfrm>
            <a:off x="3632040" y="1374840"/>
            <a:ext cx="646200" cy="533160"/>
          </a:xfrm>
          <a:prstGeom prst="rect">
            <a:avLst/>
          </a:prstGeom>
          <a:ln w="0">
            <a:noFill/>
          </a:ln>
        </p:spPr>
      </p:pic>
      <p:grpSp>
        <p:nvGrpSpPr>
          <p:cNvPr id="1919" name=""/>
          <p:cNvGrpSpPr/>
          <p:nvPr/>
        </p:nvGrpSpPr>
        <p:grpSpPr>
          <a:xfrm>
            <a:off x="1889280" y="1593720"/>
            <a:ext cx="568080" cy="284040"/>
            <a:chOff x="1889280" y="1593720"/>
            <a:chExt cx="568080" cy="284040"/>
          </a:xfrm>
        </p:grpSpPr>
        <p:sp>
          <p:nvSpPr>
            <p:cNvPr id="1920" name=""/>
            <p:cNvSpPr/>
            <p:nvPr/>
          </p:nvSpPr>
          <p:spPr>
            <a:xfrm>
              <a:off x="1893960" y="1720800"/>
              <a:ext cx="563400" cy="1569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1893960" y="1708200"/>
              <a:ext cx="0" cy="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2457360" y="1708200"/>
              <a:ext cx="0" cy="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1893960" y="1708200"/>
              <a:ext cx="558720" cy="950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1889280" y="1593720"/>
              <a:ext cx="563400" cy="1843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25" name=""/>
            <p:cNvGrpSpPr/>
            <p:nvPr/>
          </p:nvGrpSpPr>
          <p:grpSpPr>
            <a:xfrm>
              <a:off x="2025720" y="1635120"/>
              <a:ext cx="278640" cy="106200"/>
              <a:chOff x="2025720" y="1635120"/>
              <a:chExt cx="278640" cy="106200"/>
            </a:xfrm>
          </p:grpSpPr>
          <p:sp>
            <p:nvSpPr>
              <p:cNvPr id="1926" name=""/>
              <p:cNvSpPr/>
              <p:nvPr/>
            </p:nvSpPr>
            <p:spPr>
              <a:xfrm flipV="1">
                <a:off x="2025720" y="1635120"/>
                <a:ext cx="9936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2216880" y="1741320"/>
                <a:ext cx="87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2117520" y="1637280"/>
                <a:ext cx="103320" cy="104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9" name=""/>
            <p:cNvGrpSpPr/>
            <p:nvPr/>
          </p:nvGrpSpPr>
          <p:grpSpPr>
            <a:xfrm>
              <a:off x="2025720" y="1633320"/>
              <a:ext cx="278640" cy="106560"/>
              <a:chOff x="2025720" y="1633320"/>
              <a:chExt cx="278640" cy="106560"/>
            </a:xfrm>
          </p:grpSpPr>
          <p:sp>
            <p:nvSpPr>
              <p:cNvPr id="1930" name=""/>
              <p:cNvSpPr/>
              <p:nvPr/>
            </p:nvSpPr>
            <p:spPr>
              <a:xfrm>
                <a:off x="2025720" y="1737720"/>
                <a:ext cx="9936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2216880" y="1633320"/>
                <a:ext cx="87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 flipV="1">
                <a:off x="2117520" y="1633320"/>
                <a:ext cx="103320" cy="10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33" name=""/>
          <p:cNvGrpSpPr/>
          <p:nvPr/>
        </p:nvGrpSpPr>
        <p:grpSpPr>
          <a:xfrm>
            <a:off x="2727360" y="1574640"/>
            <a:ext cx="568080" cy="284040"/>
            <a:chOff x="2727360" y="1574640"/>
            <a:chExt cx="568080" cy="284040"/>
          </a:xfrm>
        </p:grpSpPr>
        <p:sp>
          <p:nvSpPr>
            <p:cNvPr id="1934" name=""/>
            <p:cNvSpPr/>
            <p:nvPr/>
          </p:nvSpPr>
          <p:spPr>
            <a:xfrm>
              <a:off x="2732040" y="1701720"/>
              <a:ext cx="563400" cy="1569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2732040" y="1689120"/>
              <a:ext cx="0" cy="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3295440" y="1689120"/>
              <a:ext cx="0" cy="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2732040" y="1689120"/>
              <a:ext cx="558720" cy="950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2727360" y="1574640"/>
              <a:ext cx="563400" cy="1843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39" name=""/>
            <p:cNvGrpSpPr/>
            <p:nvPr/>
          </p:nvGrpSpPr>
          <p:grpSpPr>
            <a:xfrm>
              <a:off x="2863800" y="1616040"/>
              <a:ext cx="278640" cy="106200"/>
              <a:chOff x="2863800" y="1616040"/>
              <a:chExt cx="278640" cy="106200"/>
            </a:xfrm>
          </p:grpSpPr>
          <p:sp>
            <p:nvSpPr>
              <p:cNvPr id="1940" name=""/>
              <p:cNvSpPr/>
              <p:nvPr/>
            </p:nvSpPr>
            <p:spPr>
              <a:xfrm flipV="1">
                <a:off x="2863800" y="1616040"/>
                <a:ext cx="9936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3054960" y="1722240"/>
                <a:ext cx="87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2955600" y="1618200"/>
                <a:ext cx="103320" cy="104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3" name=""/>
            <p:cNvGrpSpPr/>
            <p:nvPr/>
          </p:nvGrpSpPr>
          <p:grpSpPr>
            <a:xfrm>
              <a:off x="2863800" y="1614240"/>
              <a:ext cx="278640" cy="106560"/>
              <a:chOff x="2863800" y="1614240"/>
              <a:chExt cx="278640" cy="106560"/>
            </a:xfrm>
          </p:grpSpPr>
          <p:sp>
            <p:nvSpPr>
              <p:cNvPr id="1944" name=""/>
              <p:cNvSpPr/>
              <p:nvPr/>
            </p:nvSpPr>
            <p:spPr>
              <a:xfrm>
                <a:off x="2863800" y="1718640"/>
                <a:ext cx="9936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3054960" y="1614240"/>
                <a:ext cx="87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 flipV="1">
                <a:off x="2955600" y="1614240"/>
                <a:ext cx="103320" cy="10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47" name=""/>
          <p:cNvSpPr/>
          <p:nvPr/>
        </p:nvSpPr>
        <p:spPr>
          <a:xfrm>
            <a:off x="4791240" y="5351400"/>
            <a:ext cx="3714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4694400" y="2370240"/>
            <a:ext cx="3965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reak message into smaller chunks: “packet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0400" indent="-1404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ore-and-forward: switch waits until chunk has completely arrived, then forwards/ro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0400" indent="-1404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: what if message was sent as single un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0400" indent="-1404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13BC-DBAB-4D5C-A221-27667DE3A2B6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Some Internet Lingo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packet switched best effort networ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CP or Transmission Control Protocol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munication between end-poi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P or Internet Protocol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ow things are rout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ckets are similar to postal lett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rom, to, cont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stman handles all packets similarl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dressing is hierarchic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ETF: Internet Engineering Task Force: the bod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FC: Request For Comments: (pseudo)-standard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B4D3-7318-4A70-A625-95207041848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Why layering?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/>
          </p:nvPr>
        </p:nvSpPr>
        <p:spPr>
          <a:xfrm>
            <a:off x="546120" y="134604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aling with complex system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ularization eases maintenance, updating of sy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ange of implementation of layer’s service transparent to rest of sy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.g., change in gate procedure doesn’t affect rest of sy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olating “functions” and interactions compon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yered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reference mode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or discuss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yering considered harmful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02AF-1B6A-448A-A753-81A05B3202AC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1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Layering: logical communication 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952" name=""/>
          <p:cNvSpPr/>
          <p:nvPr/>
        </p:nvSpPr>
        <p:spPr>
          <a:xfrm>
            <a:off x="3002040" y="1601640"/>
            <a:ext cx="5943600" cy="4451400"/>
          </a:xfrm>
          <a:custGeom>
            <a:avLst/>
            <a:gdLst/>
            <a:ahLst/>
            <a:rect l="l" t="t" r="r" b="b"/>
            <a:pathLst>
              <a:path w="1340" h="1191">
                <a:moveTo>
                  <a:pt x="550" y="42"/>
                </a:moveTo>
                <a:cubicBezTo>
                  <a:pt x="437" y="4"/>
                  <a:pt x="164" y="0"/>
                  <a:pt x="82" y="60"/>
                </a:cubicBezTo>
                <a:cubicBezTo>
                  <a:pt x="0" y="120"/>
                  <a:pt x="67" y="292"/>
                  <a:pt x="58" y="402"/>
                </a:cubicBezTo>
                <a:cubicBezTo>
                  <a:pt x="49" y="512"/>
                  <a:pt x="19" y="642"/>
                  <a:pt x="28" y="720"/>
                </a:cubicBezTo>
                <a:cubicBezTo>
                  <a:pt x="37" y="798"/>
                  <a:pt x="27" y="844"/>
                  <a:pt x="112" y="870"/>
                </a:cubicBezTo>
                <a:cubicBezTo>
                  <a:pt x="197" y="896"/>
                  <a:pt x="450" y="833"/>
                  <a:pt x="538" y="876"/>
                </a:cubicBezTo>
                <a:cubicBezTo>
                  <a:pt x="626" y="919"/>
                  <a:pt x="524" y="1091"/>
                  <a:pt x="640" y="1128"/>
                </a:cubicBezTo>
                <a:cubicBezTo>
                  <a:pt x="756" y="1165"/>
                  <a:pt x="1128" y="1191"/>
                  <a:pt x="1234" y="1098"/>
                </a:cubicBezTo>
                <a:cubicBezTo>
                  <a:pt x="1340" y="1005"/>
                  <a:pt x="1281" y="696"/>
                  <a:pt x="1276" y="570"/>
                </a:cubicBezTo>
                <a:cubicBezTo>
                  <a:pt x="1271" y="444"/>
                  <a:pt x="1290" y="389"/>
                  <a:pt x="1204" y="342"/>
                </a:cubicBezTo>
                <a:cubicBezTo>
                  <a:pt x="1118" y="295"/>
                  <a:pt x="868" y="338"/>
                  <a:pt x="760" y="288"/>
                </a:cubicBezTo>
                <a:cubicBezTo>
                  <a:pt x="652" y="238"/>
                  <a:pt x="663" y="80"/>
                  <a:pt x="550" y="42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3" name=""/>
          <p:cNvGrpSpPr/>
          <p:nvPr/>
        </p:nvGrpSpPr>
        <p:grpSpPr>
          <a:xfrm>
            <a:off x="3362400" y="1952640"/>
            <a:ext cx="2332440" cy="891360"/>
            <a:chOff x="3362400" y="1952640"/>
            <a:chExt cx="2332440" cy="891360"/>
          </a:xfrm>
        </p:grpSpPr>
        <p:pic>
          <p:nvPicPr>
            <p:cNvPr id="1954" name="" descr=""/>
            <p:cNvPicPr/>
            <p:nvPr/>
          </p:nvPicPr>
          <p:blipFill>
            <a:blip r:embed="rId1"/>
            <a:stretch/>
          </p:blipFill>
          <p:spPr>
            <a:xfrm>
              <a:off x="3362400" y="1952640"/>
              <a:ext cx="1323720" cy="89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5" name="" descr=""/>
            <p:cNvPicPr/>
            <p:nvPr/>
          </p:nvPicPr>
          <p:blipFill>
            <a:blip r:embed="rId2"/>
            <a:stretch/>
          </p:blipFill>
          <p:spPr>
            <a:xfrm>
              <a:off x="4805640" y="2282760"/>
              <a:ext cx="889200" cy="5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6" name=""/>
            <p:cNvSpPr/>
            <p:nvPr/>
          </p:nvSpPr>
          <p:spPr>
            <a:xfrm flipV="1">
              <a:off x="4655160" y="2628720"/>
              <a:ext cx="363240" cy="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7" name=""/>
          <p:cNvGrpSpPr/>
          <p:nvPr/>
        </p:nvGrpSpPr>
        <p:grpSpPr>
          <a:xfrm>
            <a:off x="3362400" y="3619440"/>
            <a:ext cx="2332440" cy="893160"/>
            <a:chOff x="3362400" y="3619440"/>
            <a:chExt cx="2332440" cy="893160"/>
          </a:xfrm>
        </p:grpSpPr>
        <p:pic>
          <p:nvPicPr>
            <p:cNvPr id="1958" name="" descr=""/>
            <p:cNvPicPr/>
            <p:nvPr/>
          </p:nvPicPr>
          <p:blipFill>
            <a:blip r:embed="rId3"/>
            <a:stretch/>
          </p:blipFill>
          <p:spPr>
            <a:xfrm>
              <a:off x="3362400" y="3619440"/>
              <a:ext cx="1323720" cy="89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9" name="" descr=""/>
            <p:cNvPicPr/>
            <p:nvPr/>
          </p:nvPicPr>
          <p:blipFill>
            <a:blip r:embed="rId4"/>
            <a:stretch/>
          </p:blipFill>
          <p:spPr>
            <a:xfrm>
              <a:off x="4805640" y="3950280"/>
              <a:ext cx="889200" cy="51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0" name=""/>
            <p:cNvSpPr/>
            <p:nvPr/>
          </p:nvSpPr>
          <p:spPr>
            <a:xfrm flipV="1">
              <a:off x="4655160" y="4296960"/>
              <a:ext cx="363240" cy="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1" name=""/>
          <p:cNvGrpSpPr/>
          <p:nvPr/>
        </p:nvGrpSpPr>
        <p:grpSpPr>
          <a:xfrm>
            <a:off x="5062680" y="2995560"/>
            <a:ext cx="164160" cy="599040"/>
            <a:chOff x="5062680" y="2995560"/>
            <a:chExt cx="164160" cy="599040"/>
          </a:xfrm>
        </p:grpSpPr>
        <p:sp>
          <p:nvSpPr>
            <p:cNvPr id="1962" name=""/>
            <p:cNvSpPr/>
            <p:nvPr/>
          </p:nvSpPr>
          <p:spPr>
            <a:xfrm>
              <a:off x="5062680" y="2995560"/>
              <a:ext cx="151200" cy="16920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5069160" y="3210840"/>
              <a:ext cx="151200" cy="1681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5075640" y="3426480"/>
              <a:ext cx="151200" cy="1681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5" name=""/>
          <p:cNvGrpSpPr/>
          <p:nvPr/>
        </p:nvGrpSpPr>
        <p:grpSpPr>
          <a:xfrm>
            <a:off x="6056280" y="4433760"/>
            <a:ext cx="666000" cy="1105920"/>
            <a:chOff x="6056280" y="4433760"/>
            <a:chExt cx="666000" cy="1105920"/>
          </a:xfrm>
        </p:grpSpPr>
        <p:sp>
          <p:nvSpPr>
            <p:cNvPr id="1966" name=""/>
            <p:cNvSpPr/>
            <p:nvPr/>
          </p:nvSpPr>
          <p:spPr>
            <a:xfrm>
              <a:off x="6056280" y="5284080"/>
              <a:ext cx="666000" cy="255600"/>
            </a:xfrm>
            <a:prstGeom prst="parallelogram">
              <a:avLst>
                <a:gd name="adj" fmla="val 100377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6393600" y="4440960"/>
              <a:ext cx="306000" cy="84960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6060240" y="4681800"/>
              <a:ext cx="421920" cy="8503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6056280" y="4433760"/>
              <a:ext cx="666000" cy="255600"/>
            </a:xfrm>
            <a:prstGeom prst="parallelogram">
              <a:avLst>
                <a:gd name="adj" fmla="val 10037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6722280" y="4451400"/>
              <a:ext cx="0" cy="83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 flipH="1">
              <a:off x="6482520" y="5284080"/>
              <a:ext cx="239760" cy="24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6113520" y="4793760"/>
              <a:ext cx="280080" cy="489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6153840" y="4941720"/>
              <a:ext cx="212400" cy="172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4" name=""/>
          <p:cNvGrpSpPr/>
          <p:nvPr/>
        </p:nvGrpSpPr>
        <p:grpSpPr>
          <a:xfrm>
            <a:off x="6808680" y="4864680"/>
            <a:ext cx="741960" cy="226080"/>
            <a:chOff x="6808680" y="4864680"/>
            <a:chExt cx="741960" cy="226080"/>
          </a:xfrm>
        </p:grpSpPr>
        <p:sp>
          <p:nvSpPr>
            <p:cNvPr id="1975" name=""/>
            <p:cNvSpPr/>
            <p:nvPr/>
          </p:nvSpPr>
          <p:spPr>
            <a:xfrm rot="16200000">
              <a:off x="6809400" y="4881960"/>
              <a:ext cx="208080" cy="209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 rot="16200000">
              <a:off x="7075440" y="4873320"/>
              <a:ext cx="208080" cy="20844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 rot="16200000">
              <a:off x="7342200" y="4864320"/>
              <a:ext cx="208080" cy="20844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8" name=""/>
          <p:cNvSpPr/>
          <p:nvPr/>
        </p:nvSpPr>
        <p:spPr>
          <a:xfrm>
            <a:off x="6489720" y="4175280"/>
            <a:ext cx="157788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6500880" y="4165560"/>
            <a:ext cx="4680" cy="268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8078760" y="4160880"/>
            <a:ext cx="3240" cy="23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5535720" y="2662200"/>
            <a:ext cx="919080" cy="74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 flipV="1">
            <a:off x="5575320" y="3463920"/>
            <a:ext cx="879480" cy="9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 flipV="1">
            <a:off x="7253280" y="3703680"/>
            <a:ext cx="468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4" name=""/>
          <p:cNvGrpSpPr/>
          <p:nvPr/>
        </p:nvGrpSpPr>
        <p:grpSpPr>
          <a:xfrm>
            <a:off x="7662960" y="4397400"/>
            <a:ext cx="666000" cy="1107360"/>
            <a:chOff x="7662960" y="4397400"/>
            <a:chExt cx="666000" cy="1107360"/>
          </a:xfrm>
        </p:grpSpPr>
        <p:sp>
          <p:nvSpPr>
            <p:cNvPr id="1985" name=""/>
            <p:cNvSpPr/>
            <p:nvPr/>
          </p:nvSpPr>
          <p:spPr>
            <a:xfrm>
              <a:off x="7662960" y="5248800"/>
              <a:ext cx="666000" cy="255960"/>
            </a:xfrm>
            <a:prstGeom prst="parallelogram">
              <a:avLst>
                <a:gd name="adj" fmla="val 100236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8000280" y="4404600"/>
              <a:ext cx="306000" cy="8506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7666920" y="4645800"/>
              <a:ext cx="421920" cy="8514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7662960" y="4397400"/>
              <a:ext cx="666000" cy="255960"/>
            </a:xfrm>
            <a:prstGeom prst="parallelogram">
              <a:avLst>
                <a:gd name="adj" fmla="val 100236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8328960" y="4415040"/>
              <a:ext cx="0" cy="83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 flipH="1">
              <a:off x="8089200" y="5248800"/>
              <a:ext cx="239760" cy="24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7720200" y="4758120"/>
              <a:ext cx="280080" cy="4906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7760520" y="4906080"/>
              <a:ext cx="212400" cy="17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3" name=""/>
          <p:cNvGrpSpPr/>
          <p:nvPr/>
        </p:nvGrpSpPr>
        <p:grpSpPr>
          <a:xfrm>
            <a:off x="6408720" y="3076560"/>
            <a:ext cx="1598040" cy="653400"/>
            <a:chOff x="6408720" y="3076560"/>
            <a:chExt cx="1598040" cy="653400"/>
          </a:xfrm>
        </p:grpSpPr>
        <p:sp>
          <p:nvSpPr>
            <p:cNvPr id="1994" name=""/>
            <p:cNvSpPr/>
            <p:nvPr/>
          </p:nvSpPr>
          <p:spPr>
            <a:xfrm>
              <a:off x="6421680" y="3368160"/>
              <a:ext cx="1584720" cy="3618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6421680" y="3337560"/>
              <a:ext cx="0" cy="22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8006760" y="3337560"/>
              <a:ext cx="0" cy="22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6421680" y="3337560"/>
              <a:ext cx="1570680" cy="2210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6408720" y="3076560"/>
              <a:ext cx="1584000" cy="4219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9" name=""/>
            <p:cNvGrpSpPr/>
            <p:nvPr/>
          </p:nvGrpSpPr>
          <p:grpSpPr>
            <a:xfrm>
              <a:off x="6789960" y="3169800"/>
              <a:ext cx="784440" cy="246240"/>
              <a:chOff x="6789960" y="3169800"/>
              <a:chExt cx="784440" cy="246240"/>
            </a:xfrm>
          </p:grpSpPr>
          <p:sp>
            <p:nvSpPr>
              <p:cNvPr id="2000" name=""/>
              <p:cNvSpPr/>
              <p:nvPr/>
            </p:nvSpPr>
            <p:spPr>
              <a:xfrm flipV="1">
                <a:off x="6789960" y="3169800"/>
                <a:ext cx="279720" cy="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7327800" y="3416040"/>
                <a:ext cx="246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7048080" y="3174840"/>
                <a:ext cx="291240" cy="24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3" name=""/>
            <p:cNvGrpSpPr/>
            <p:nvPr/>
          </p:nvGrpSpPr>
          <p:grpSpPr>
            <a:xfrm>
              <a:off x="6789960" y="3166200"/>
              <a:ext cx="784440" cy="246240"/>
              <a:chOff x="6789960" y="3166200"/>
              <a:chExt cx="784440" cy="246240"/>
            </a:xfrm>
          </p:grpSpPr>
          <p:sp>
            <p:nvSpPr>
              <p:cNvPr id="2004" name=""/>
              <p:cNvSpPr/>
              <p:nvPr/>
            </p:nvSpPr>
            <p:spPr>
              <a:xfrm>
                <a:off x="6789960" y="3407400"/>
                <a:ext cx="279720" cy="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7327800" y="3166200"/>
                <a:ext cx="246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 flipV="1">
                <a:off x="7048080" y="3166200"/>
                <a:ext cx="291240" cy="24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07" name=""/>
          <p:cNvGrpSpPr/>
          <p:nvPr/>
        </p:nvGrpSpPr>
        <p:grpSpPr>
          <a:xfrm>
            <a:off x="3327480" y="1373040"/>
            <a:ext cx="5488920" cy="4439160"/>
            <a:chOff x="3327480" y="1373040"/>
            <a:chExt cx="5488920" cy="4439160"/>
          </a:xfrm>
        </p:grpSpPr>
        <p:grpSp>
          <p:nvGrpSpPr>
            <p:cNvPr id="2008" name=""/>
            <p:cNvGrpSpPr/>
            <p:nvPr/>
          </p:nvGrpSpPr>
          <p:grpSpPr>
            <a:xfrm>
              <a:off x="3404520" y="1373040"/>
              <a:ext cx="1314720" cy="1479240"/>
              <a:chOff x="3404520" y="1373040"/>
              <a:chExt cx="1314720" cy="1479240"/>
            </a:xfrm>
          </p:grpSpPr>
          <p:sp>
            <p:nvSpPr>
              <p:cNvPr id="2009" name=""/>
              <p:cNvSpPr/>
              <p:nvPr/>
            </p:nvSpPr>
            <p:spPr>
              <a:xfrm>
                <a:off x="3461040" y="1373040"/>
                <a:ext cx="1258200" cy="141804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3413880" y="1434240"/>
                <a:ext cx="1258200" cy="14180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3422160" y="1452960"/>
                <a:ext cx="123228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applic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transpor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networ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lin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physic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 flipV="1">
                <a:off x="3409200" y="1749600"/>
                <a:ext cx="124380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 flipV="1">
                <a:off x="3428280" y="2032560"/>
                <a:ext cx="124380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 flipV="1">
                <a:off x="3428280" y="2286360"/>
                <a:ext cx="1243800" cy="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 flipV="1">
                <a:off x="3404520" y="2565000"/>
                <a:ext cx="124416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6" name=""/>
            <p:cNvGrpSpPr/>
            <p:nvPr/>
          </p:nvGrpSpPr>
          <p:grpSpPr>
            <a:xfrm>
              <a:off x="3327480" y="3081960"/>
              <a:ext cx="1314720" cy="1479600"/>
              <a:chOff x="3327480" y="3081960"/>
              <a:chExt cx="1314720" cy="1479600"/>
            </a:xfrm>
          </p:grpSpPr>
          <p:sp>
            <p:nvSpPr>
              <p:cNvPr id="2017" name=""/>
              <p:cNvSpPr/>
              <p:nvPr/>
            </p:nvSpPr>
            <p:spPr>
              <a:xfrm>
                <a:off x="3384000" y="3081960"/>
                <a:ext cx="1258200" cy="141840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3336840" y="3143160"/>
                <a:ext cx="1258200" cy="14184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3343680" y="3183840"/>
                <a:ext cx="123228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applic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transpor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networ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lin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physic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 flipV="1">
                <a:off x="3332160" y="3458520"/>
                <a:ext cx="124380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 flipV="1">
                <a:off x="3351240" y="3741480"/>
                <a:ext cx="124380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 flipV="1">
                <a:off x="3351240" y="3995640"/>
                <a:ext cx="1243800" cy="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 flipV="1">
                <a:off x="3327480" y="4274280"/>
                <a:ext cx="124416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4" name=""/>
            <p:cNvGrpSpPr/>
            <p:nvPr/>
          </p:nvGrpSpPr>
          <p:grpSpPr>
            <a:xfrm>
              <a:off x="5729760" y="4332240"/>
              <a:ext cx="1314720" cy="1479960"/>
              <a:chOff x="5729760" y="4332240"/>
              <a:chExt cx="1314720" cy="1479960"/>
            </a:xfrm>
          </p:grpSpPr>
          <p:sp>
            <p:nvSpPr>
              <p:cNvPr id="2025" name=""/>
              <p:cNvSpPr/>
              <p:nvPr/>
            </p:nvSpPr>
            <p:spPr>
              <a:xfrm>
                <a:off x="5786280" y="4332240"/>
                <a:ext cx="1258200" cy="141876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5739120" y="4393440"/>
                <a:ext cx="1258200" cy="14187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5745960" y="4407480"/>
                <a:ext cx="123228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applic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transpor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networ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lin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physic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 flipV="1">
                <a:off x="5734440" y="4709160"/>
                <a:ext cx="124380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 flipV="1">
                <a:off x="5753520" y="4992120"/>
                <a:ext cx="124380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 flipV="1">
                <a:off x="5753520" y="5245920"/>
                <a:ext cx="1243800" cy="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 flipV="1">
                <a:off x="5729760" y="5524920"/>
                <a:ext cx="124416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2" name=""/>
            <p:cNvGrpSpPr/>
            <p:nvPr/>
          </p:nvGrpSpPr>
          <p:grpSpPr>
            <a:xfrm>
              <a:off x="7501680" y="4326480"/>
              <a:ext cx="1314720" cy="1479240"/>
              <a:chOff x="7501680" y="4326480"/>
              <a:chExt cx="1314720" cy="1479240"/>
            </a:xfrm>
          </p:grpSpPr>
          <p:sp>
            <p:nvSpPr>
              <p:cNvPr id="2033" name=""/>
              <p:cNvSpPr/>
              <p:nvPr/>
            </p:nvSpPr>
            <p:spPr>
              <a:xfrm>
                <a:off x="7558200" y="4326480"/>
                <a:ext cx="1258200" cy="141804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7511040" y="4387680"/>
                <a:ext cx="1258200" cy="14180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7517880" y="4404600"/>
                <a:ext cx="123228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applic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transpor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networ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lin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physic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 flipV="1">
                <a:off x="7506360" y="4703040"/>
                <a:ext cx="124380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 flipV="1">
                <a:off x="7525440" y="4986000"/>
                <a:ext cx="124380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 flipV="1">
                <a:off x="7525440" y="5239800"/>
                <a:ext cx="1243800" cy="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 flipV="1">
                <a:off x="7501680" y="5518440"/>
                <a:ext cx="124416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0" name=""/>
            <p:cNvGrpSpPr/>
            <p:nvPr/>
          </p:nvGrpSpPr>
          <p:grpSpPr>
            <a:xfrm>
              <a:off x="6535800" y="2815200"/>
              <a:ext cx="1312200" cy="945360"/>
              <a:chOff x="6535800" y="2815200"/>
              <a:chExt cx="1312200" cy="945360"/>
            </a:xfrm>
          </p:grpSpPr>
          <p:sp>
            <p:nvSpPr>
              <p:cNvPr id="2041" name=""/>
              <p:cNvSpPr/>
              <p:nvPr/>
            </p:nvSpPr>
            <p:spPr>
              <a:xfrm>
                <a:off x="6589440" y="2815200"/>
                <a:ext cx="1258560" cy="91548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6535800" y="2876400"/>
                <a:ext cx="1258560" cy="8841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6666480" y="2893680"/>
                <a:ext cx="96696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networ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lin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physic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 flipV="1">
                <a:off x="6536880" y="3191400"/>
                <a:ext cx="1244880" cy="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 flipV="1">
                <a:off x="6555960" y="3474360"/>
                <a:ext cx="124488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46" name="PlaceHolder 2"/>
          <p:cNvSpPr>
            <a:spLocks noGrp="1"/>
          </p:cNvSpPr>
          <p:nvPr>
            <p:ph/>
          </p:nvPr>
        </p:nvSpPr>
        <p:spPr>
          <a:xfrm>
            <a:off x="254160" y="1396800"/>
            <a:ext cx="2743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ach layer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istribut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tities” implement layer functions at each no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tities perform actions, exchange messages with peer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2649-AE08-4402-A14A-7B9DDD5F8F32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2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title"/>
          </p:nvPr>
        </p:nvSpPr>
        <p:spPr>
          <a:xfrm>
            <a:off x="304560" y="1328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Layering: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logical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communication 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048" name=""/>
          <p:cNvSpPr/>
          <p:nvPr/>
        </p:nvSpPr>
        <p:spPr>
          <a:xfrm>
            <a:off x="3002040" y="1601640"/>
            <a:ext cx="5943600" cy="4451400"/>
          </a:xfrm>
          <a:custGeom>
            <a:avLst/>
            <a:gdLst/>
            <a:ahLst/>
            <a:rect l="l" t="t" r="r" b="b"/>
            <a:pathLst>
              <a:path w="1340" h="1191">
                <a:moveTo>
                  <a:pt x="550" y="42"/>
                </a:moveTo>
                <a:cubicBezTo>
                  <a:pt x="437" y="4"/>
                  <a:pt x="164" y="0"/>
                  <a:pt x="82" y="60"/>
                </a:cubicBezTo>
                <a:cubicBezTo>
                  <a:pt x="0" y="120"/>
                  <a:pt x="67" y="292"/>
                  <a:pt x="58" y="402"/>
                </a:cubicBezTo>
                <a:cubicBezTo>
                  <a:pt x="49" y="512"/>
                  <a:pt x="19" y="642"/>
                  <a:pt x="28" y="720"/>
                </a:cubicBezTo>
                <a:cubicBezTo>
                  <a:pt x="37" y="798"/>
                  <a:pt x="27" y="844"/>
                  <a:pt x="112" y="870"/>
                </a:cubicBezTo>
                <a:cubicBezTo>
                  <a:pt x="197" y="896"/>
                  <a:pt x="450" y="833"/>
                  <a:pt x="538" y="876"/>
                </a:cubicBezTo>
                <a:cubicBezTo>
                  <a:pt x="626" y="919"/>
                  <a:pt x="524" y="1091"/>
                  <a:pt x="640" y="1128"/>
                </a:cubicBezTo>
                <a:cubicBezTo>
                  <a:pt x="756" y="1165"/>
                  <a:pt x="1128" y="1191"/>
                  <a:pt x="1234" y="1098"/>
                </a:cubicBezTo>
                <a:cubicBezTo>
                  <a:pt x="1340" y="1005"/>
                  <a:pt x="1281" y="696"/>
                  <a:pt x="1276" y="570"/>
                </a:cubicBezTo>
                <a:cubicBezTo>
                  <a:pt x="1271" y="444"/>
                  <a:pt x="1290" y="389"/>
                  <a:pt x="1204" y="342"/>
                </a:cubicBezTo>
                <a:cubicBezTo>
                  <a:pt x="1118" y="295"/>
                  <a:pt x="868" y="338"/>
                  <a:pt x="760" y="288"/>
                </a:cubicBezTo>
                <a:cubicBezTo>
                  <a:pt x="652" y="238"/>
                  <a:pt x="663" y="80"/>
                  <a:pt x="550" y="42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9" name="" descr=""/>
          <p:cNvPicPr/>
          <p:nvPr/>
        </p:nvPicPr>
        <p:blipFill>
          <a:blip r:embed="rId1"/>
          <a:stretch/>
        </p:blipFill>
        <p:spPr>
          <a:xfrm>
            <a:off x="3362400" y="1952640"/>
            <a:ext cx="1324080" cy="892080"/>
          </a:xfrm>
          <a:prstGeom prst="rect">
            <a:avLst/>
          </a:prstGeom>
          <a:ln w="0">
            <a:noFill/>
          </a:ln>
        </p:spPr>
      </p:pic>
      <p:sp>
        <p:nvSpPr>
          <p:cNvPr id="2050" name=""/>
          <p:cNvSpPr/>
          <p:nvPr/>
        </p:nvSpPr>
        <p:spPr>
          <a:xfrm flipV="1">
            <a:off x="4654440" y="2629080"/>
            <a:ext cx="36360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1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1324080" cy="893880"/>
          </a:xfrm>
          <a:prstGeom prst="rect">
            <a:avLst/>
          </a:prstGeom>
          <a:ln w="0">
            <a:noFill/>
          </a:ln>
        </p:spPr>
      </p:pic>
      <p:sp>
        <p:nvSpPr>
          <p:cNvPr id="2052" name=""/>
          <p:cNvSpPr/>
          <p:nvPr/>
        </p:nvSpPr>
        <p:spPr>
          <a:xfrm flipV="1">
            <a:off x="4654440" y="4297320"/>
            <a:ext cx="363600" cy="6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3" name=""/>
          <p:cNvGrpSpPr/>
          <p:nvPr/>
        </p:nvGrpSpPr>
        <p:grpSpPr>
          <a:xfrm>
            <a:off x="5062680" y="2995560"/>
            <a:ext cx="164160" cy="599040"/>
            <a:chOff x="5062680" y="2995560"/>
            <a:chExt cx="164160" cy="599040"/>
          </a:xfrm>
        </p:grpSpPr>
        <p:sp>
          <p:nvSpPr>
            <p:cNvPr id="2054" name=""/>
            <p:cNvSpPr/>
            <p:nvPr/>
          </p:nvSpPr>
          <p:spPr>
            <a:xfrm>
              <a:off x="5062680" y="2995560"/>
              <a:ext cx="151200" cy="16920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5069160" y="3210840"/>
              <a:ext cx="151200" cy="1681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5075640" y="3426480"/>
              <a:ext cx="151200" cy="1681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7" name=""/>
          <p:cNvGrpSpPr/>
          <p:nvPr/>
        </p:nvGrpSpPr>
        <p:grpSpPr>
          <a:xfrm>
            <a:off x="6056280" y="4433760"/>
            <a:ext cx="666000" cy="1105920"/>
            <a:chOff x="6056280" y="4433760"/>
            <a:chExt cx="666000" cy="1105920"/>
          </a:xfrm>
        </p:grpSpPr>
        <p:sp>
          <p:nvSpPr>
            <p:cNvPr id="2058" name=""/>
            <p:cNvSpPr/>
            <p:nvPr/>
          </p:nvSpPr>
          <p:spPr>
            <a:xfrm>
              <a:off x="6056280" y="5284080"/>
              <a:ext cx="666000" cy="255600"/>
            </a:xfrm>
            <a:prstGeom prst="parallelogram">
              <a:avLst>
                <a:gd name="adj" fmla="val 100377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6393600" y="4440960"/>
              <a:ext cx="306000" cy="84960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6060240" y="4681800"/>
              <a:ext cx="421920" cy="8503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6056280" y="4433760"/>
              <a:ext cx="666000" cy="255600"/>
            </a:xfrm>
            <a:prstGeom prst="parallelogram">
              <a:avLst>
                <a:gd name="adj" fmla="val 10037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6722280" y="4451400"/>
              <a:ext cx="0" cy="83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 flipH="1">
              <a:off x="6482520" y="5284080"/>
              <a:ext cx="239760" cy="24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6113520" y="4793760"/>
              <a:ext cx="280080" cy="489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6153840" y="4941720"/>
              <a:ext cx="212400" cy="172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6" name=""/>
          <p:cNvGrpSpPr/>
          <p:nvPr/>
        </p:nvGrpSpPr>
        <p:grpSpPr>
          <a:xfrm>
            <a:off x="6808680" y="4864680"/>
            <a:ext cx="741960" cy="226080"/>
            <a:chOff x="6808680" y="4864680"/>
            <a:chExt cx="741960" cy="226080"/>
          </a:xfrm>
        </p:grpSpPr>
        <p:sp>
          <p:nvSpPr>
            <p:cNvPr id="2067" name=""/>
            <p:cNvSpPr/>
            <p:nvPr/>
          </p:nvSpPr>
          <p:spPr>
            <a:xfrm rot="16200000">
              <a:off x="6809400" y="4881960"/>
              <a:ext cx="208080" cy="209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 rot="16200000">
              <a:off x="7075440" y="4873320"/>
              <a:ext cx="208080" cy="20844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 rot="16200000">
              <a:off x="7342200" y="4864320"/>
              <a:ext cx="208080" cy="20844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0" name=""/>
          <p:cNvSpPr/>
          <p:nvPr/>
        </p:nvSpPr>
        <p:spPr>
          <a:xfrm>
            <a:off x="6489720" y="4175280"/>
            <a:ext cx="157788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6500880" y="4165560"/>
            <a:ext cx="4680" cy="268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8078760" y="4160880"/>
            <a:ext cx="3240" cy="23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5535720" y="2662200"/>
            <a:ext cx="919080" cy="74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 flipV="1">
            <a:off x="5575320" y="3463920"/>
            <a:ext cx="879480" cy="9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 flipV="1">
            <a:off x="7253280" y="3703680"/>
            <a:ext cx="468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6" name=""/>
          <p:cNvGrpSpPr/>
          <p:nvPr/>
        </p:nvGrpSpPr>
        <p:grpSpPr>
          <a:xfrm>
            <a:off x="7662960" y="4397400"/>
            <a:ext cx="666000" cy="1107360"/>
            <a:chOff x="7662960" y="4397400"/>
            <a:chExt cx="666000" cy="1107360"/>
          </a:xfrm>
        </p:grpSpPr>
        <p:sp>
          <p:nvSpPr>
            <p:cNvPr id="2077" name=""/>
            <p:cNvSpPr/>
            <p:nvPr/>
          </p:nvSpPr>
          <p:spPr>
            <a:xfrm>
              <a:off x="7662960" y="5248800"/>
              <a:ext cx="666000" cy="255960"/>
            </a:xfrm>
            <a:prstGeom prst="parallelogram">
              <a:avLst>
                <a:gd name="adj" fmla="val 100236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8000280" y="4404600"/>
              <a:ext cx="306000" cy="8506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7666920" y="4645800"/>
              <a:ext cx="421920" cy="8514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7662960" y="4397400"/>
              <a:ext cx="666000" cy="255960"/>
            </a:xfrm>
            <a:prstGeom prst="parallelogram">
              <a:avLst>
                <a:gd name="adj" fmla="val 100236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8328960" y="4415040"/>
              <a:ext cx="0" cy="83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 flipH="1">
              <a:off x="8089200" y="5248800"/>
              <a:ext cx="239760" cy="24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7720200" y="4758120"/>
              <a:ext cx="280080" cy="4906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7760520" y="4906080"/>
              <a:ext cx="212400" cy="17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5" name=""/>
          <p:cNvGrpSpPr/>
          <p:nvPr/>
        </p:nvGrpSpPr>
        <p:grpSpPr>
          <a:xfrm>
            <a:off x="6408720" y="3076560"/>
            <a:ext cx="1598040" cy="653400"/>
            <a:chOff x="6408720" y="3076560"/>
            <a:chExt cx="1598040" cy="653400"/>
          </a:xfrm>
        </p:grpSpPr>
        <p:sp>
          <p:nvSpPr>
            <p:cNvPr id="2086" name=""/>
            <p:cNvSpPr/>
            <p:nvPr/>
          </p:nvSpPr>
          <p:spPr>
            <a:xfrm>
              <a:off x="6421680" y="3368160"/>
              <a:ext cx="1584720" cy="3618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6421680" y="3337560"/>
              <a:ext cx="0" cy="22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8006760" y="3337560"/>
              <a:ext cx="0" cy="22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6421680" y="3337560"/>
              <a:ext cx="1570680" cy="2210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6408720" y="3076560"/>
              <a:ext cx="1584000" cy="4219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1" name=""/>
            <p:cNvGrpSpPr/>
            <p:nvPr/>
          </p:nvGrpSpPr>
          <p:grpSpPr>
            <a:xfrm>
              <a:off x="6789960" y="3169800"/>
              <a:ext cx="784440" cy="246240"/>
              <a:chOff x="6789960" y="3169800"/>
              <a:chExt cx="784440" cy="246240"/>
            </a:xfrm>
          </p:grpSpPr>
          <p:sp>
            <p:nvSpPr>
              <p:cNvPr id="2092" name=""/>
              <p:cNvSpPr/>
              <p:nvPr/>
            </p:nvSpPr>
            <p:spPr>
              <a:xfrm flipV="1">
                <a:off x="6789960" y="3169800"/>
                <a:ext cx="279720" cy="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7327800" y="3416040"/>
                <a:ext cx="246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7048080" y="3174840"/>
                <a:ext cx="291240" cy="24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5" name=""/>
            <p:cNvGrpSpPr/>
            <p:nvPr/>
          </p:nvGrpSpPr>
          <p:grpSpPr>
            <a:xfrm>
              <a:off x="6789960" y="3166200"/>
              <a:ext cx="784440" cy="246240"/>
              <a:chOff x="6789960" y="3166200"/>
              <a:chExt cx="784440" cy="246240"/>
            </a:xfrm>
          </p:grpSpPr>
          <p:sp>
            <p:nvSpPr>
              <p:cNvPr id="2096" name=""/>
              <p:cNvSpPr/>
              <p:nvPr/>
            </p:nvSpPr>
            <p:spPr>
              <a:xfrm>
                <a:off x="6789960" y="3407400"/>
                <a:ext cx="279720" cy="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7327800" y="3166200"/>
                <a:ext cx="246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 flipV="1">
                <a:off x="7048080" y="3166200"/>
                <a:ext cx="291240" cy="24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99" name=""/>
          <p:cNvGrpSpPr/>
          <p:nvPr/>
        </p:nvGrpSpPr>
        <p:grpSpPr>
          <a:xfrm>
            <a:off x="3327480" y="1305000"/>
            <a:ext cx="5488920" cy="4439160"/>
            <a:chOff x="3327480" y="1305000"/>
            <a:chExt cx="5488920" cy="4439160"/>
          </a:xfrm>
        </p:grpSpPr>
        <p:grpSp>
          <p:nvGrpSpPr>
            <p:cNvPr id="2100" name=""/>
            <p:cNvGrpSpPr/>
            <p:nvPr/>
          </p:nvGrpSpPr>
          <p:grpSpPr>
            <a:xfrm>
              <a:off x="3404520" y="1305000"/>
              <a:ext cx="1314720" cy="1479240"/>
              <a:chOff x="3404520" y="1305000"/>
              <a:chExt cx="1314720" cy="1479240"/>
            </a:xfrm>
          </p:grpSpPr>
          <p:sp>
            <p:nvSpPr>
              <p:cNvPr id="2101" name=""/>
              <p:cNvSpPr/>
              <p:nvPr/>
            </p:nvSpPr>
            <p:spPr>
              <a:xfrm>
                <a:off x="3461040" y="1305000"/>
                <a:ext cx="1258200" cy="141804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3413880" y="1366200"/>
                <a:ext cx="1258200" cy="14180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3422160" y="1384920"/>
                <a:ext cx="123228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applic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transpor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networ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lin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physic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 flipV="1">
                <a:off x="3409200" y="1681560"/>
                <a:ext cx="124380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 flipV="1">
                <a:off x="3428280" y="1964520"/>
                <a:ext cx="124380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 flipV="1">
                <a:off x="3428280" y="2218320"/>
                <a:ext cx="1243800" cy="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 flipV="1">
                <a:off x="3404520" y="2496960"/>
                <a:ext cx="124416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8" name=""/>
            <p:cNvGrpSpPr/>
            <p:nvPr/>
          </p:nvGrpSpPr>
          <p:grpSpPr>
            <a:xfrm>
              <a:off x="3327480" y="3013920"/>
              <a:ext cx="1314720" cy="1479600"/>
              <a:chOff x="3327480" y="3013920"/>
              <a:chExt cx="1314720" cy="1479600"/>
            </a:xfrm>
          </p:grpSpPr>
          <p:sp>
            <p:nvSpPr>
              <p:cNvPr id="2109" name=""/>
              <p:cNvSpPr/>
              <p:nvPr/>
            </p:nvSpPr>
            <p:spPr>
              <a:xfrm>
                <a:off x="3384000" y="3013920"/>
                <a:ext cx="1258200" cy="141840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3336840" y="3075120"/>
                <a:ext cx="1258200" cy="14184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3343680" y="3115800"/>
                <a:ext cx="123228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applic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transpor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networ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lin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physic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 flipV="1">
                <a:off x="3332160" y="3390480"/>
                <a:ext cx="124380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 flipV="1">
                <a:off x="3351240" y="3673440"/>
                <a:ext cx="124380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 flipV="1">
                <a:off x="3351240" y="3927600"/>
                <a:ext cx="1243800" cy="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 flipV="1">
                <a:off x="3327480" y="4206240"/>
                <a:ext cx="124416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6" name=""/>
            <p:cNvGrpSpPr/>
            <p:nvPr/>
          </p:nvGrpSpPr>
          <p:grpSpPr>
            <a:xfrm>
              <a:off x="5729760" y="4264200"/>
              <a:ext cx="1314720" cy="1479960"/>
              <a:chOff x="5729760" y="4264200"/>
              <a:chExt cx="1314720" cy="1479960"/>
            </a:xfrm>
          </p:grpSpPr>
          <p:sp>
            <p:nvSpPr>
              <p:cNvPr id="2117" name=""/>
              <p:cNvSpPr/>
              <p:nvPr/>
            </p:nvSpPr>
            <p:spPr>
              <a:xfrm>
                <a:off x="5786280" y="4264200"/>
                <a:ext cx="1258200" cy="141876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5739120" y="4325400"/>
                <a:ext cx="1258200" cy="14187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5745960" y="4339440"/>
                <a:ext cx="123228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applic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transpor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networ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lin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physic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 flipV="1">
                <a:off x="5734440" y="4641120"/>
                <a:ext cx="124380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 flipV="1">
                <a:off x="5753520" y="4924080"/>
                <a:ext cx="124380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 flipV="1">
                <a:off x="5753520" y="5177880"/>
                <a:ext cx="1243800" cy="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 flipV="1">
                <a:off x="5729760" y="5456880"/>
                <a:ext cx="124416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4" name=""/>
            <p:cNvGrpSpPr/>
            <p:nvPr/>
          </p:nvGrpSpPr>
          <p:grpSpPr>
            <a:xfrm>
              <a:off x="7501680" y="4258440"/>
              <a:ext cx="1314720" cy="1479240"/>
              <a:chOff x="7501680" y="4258440"/>
              <a:chExt cx="1314720" cy="1479240"/>
            </a:xfrm>
          </p:grpSpPr>
          <p:sp>
            <p:nvSpPr>
              <p:cNvPr id="2125" name=""/>
              <p:cNvSpPr/>
              <p:nvPr/>
            </p:nvSpPr>
            <p:spPr>
              <a:xfrm>
                <a:off x="7558200" y="4258440"/>
                <a:ext cx="1258200" cy="141804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7511040" y="4319640"/>
                <a:ext cx="1258200" cy="14180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7517880" y="4336560"/>
                <a:ext cx="123228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applic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transpor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networ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lin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physic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 flipV="1">
                <a:off x="7506360" y="4635000"/>
                <a:ext cx="124380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 flipV="1">
                <a:off x="7525440" y="4917960"/>
                <a:ext cx="124380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 flipV="1">
                <a:off x="7525440" y="5171760"/>
                <a:ext cx="1243800" cy="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 flipV="1">
                <a:off x="7501680" y="5450400"/>
                <a:ext cx="124416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2" name=""/>
            <p:cNvGrpSpPr/>
            <p:nvPr/>
          </p:nvGrpSpPr>
          <p:grpSpPr>
            <a:xfrm>
              <a:off x="6535800" y="2747160"/>
              <a:ext cx="1312200" cy="945360"/>
              <a:chOff x="6535800" y="2747160"/>
              <a:chExt cx="1312200" cy="945360"/>
            </a:xfrm>
          </p:grpSpPr>
          <p:sp>
            <p:nvSpPr>
              <p:cNvPr id="2133" name=""/>
              <p:cNvSpPr/>
              <p:nvPr/>
            </p:nvSpPr>
            <p:spPr>
              <a:xfrm>
                <a:off x="6589440" y="2747160"/>
                <a:ext cx="1258560" cy="91548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6535800" y="2808360"/>
                <a:ext cx="1258560" cy="8841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6674400" y="2825640"/>
                <a:ext cx="96696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networ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lin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physic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 flipV="1">
                <a:off x="6536880" y="3123360"/>
                <a:ext cx="1244880" cy="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 flipV="1">
                <a:off x="6555960" y="3406320"/>
                <a:ext cx="124488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38" name=""/>
          <p:cNvSpPr/>
          <p:nvPr/>
        </p:nvSpPr>
        <p:spPr>
          <a:xfrm>
            <a:off x="3828960" y="1514520"/>
            <a:ext cx="3724200" cy="3162240"/>
          </a:xfrm>
          <a:custGeom>
            <a:avLst/>
            <a:gdLst/>
            <a:ahLst/>
            <a:rect l="l" t="t" r="r" b="b"/>
            <a:pathLst>
              <a:path w="2346" h="1992">
                <a:moveTo>
                  <a:pt x="12" y="0"/>
                </a:moveTo>
                <a:lnTo>
                  <a:pt x="0" y="288"/>
                </a:lnTo>
                <a:lnTo>
                  <a:pt x="2112" y="1812"/>
                </a:lnTo>
                <a:lnTo>
                  <a:pt x="2346" y="1992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9" name=""/>
          <p:cNvGrpSpPr/>
          <p:nvPr/>
        </p:nvGrpSpPr>
        <p:grpSpPr>
          <a:xfrm>
            <a:off x="7966080" y="4046400"/>
            <a:ext cx="700200" cy="383760"/>
            <a:chOff x="7966080" y="4046400"/>
            <a:chExt cx="700200" cy="383760"/>
          </a:xfrm>
        </p:grpSpPr>
        <p:sp>
          <p:nvSpPr>
            <p:cNvPr id="2140" name=""/>
            <p:cNvSpPr/>
            <p:nvPr/>
          </p:nvSpPr>
          <p:spPr>
            <a:xfrm>
              <a:off x="7966080" y="4046400"/>
              <a:ext cx="700200" cy="376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7988400" y="4061880"/>
              <a:ext cx="65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2" name=""/>
          <p:cNvGrpSpPr/>
          <p:nvPr/>
        </p:nvGrpSpPr>
        <p:grpSpPr>
          <a:xfrm>
            <a:off x="3451320" y="1114560"/>
            <a:ext cx="701640" cy="383760"/>
            <a:chOff x="3451320" y="1114560"/>
            <a:chExt cx="701640" cy="383760"/>
          </a:xfrm>
        </p:grpSpPr>
        <p:sp>
          <p:nvSpPr>
            <p:cNvPr id="2143" name=""/>
            <p:cNvSpPr/>
            <p:nvPr/>
          </p:nvSpPr>
          <p:spPr>
            <a:xfrm>
              <a:off x="3451320" y="1114560"/>
              <a:ext cx="701640" cy="376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3473640" y="1130040"/>
              <a:ext cx="65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5" name="PlaceHolder 2"/>
          <p:cNvSpPr>
            <a:spLocks noGrp="1"/>
          </p:cNvSpPr>
          <p:nvPr>
            <p:ph/>
          </p:nvPr>
        </p:nvSpPr>
        <p:spPr>
          <a:xfrm>
            <a:off x="254160" y="1396800"/>
            <a:ext cx="2813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.g.: transpor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ke data from ap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d addressing, reliability check info to form “datagram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nd datagram to pe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ait for peer to ack receip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alogy: post offi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146" name=""/>
          <p:cNvGrpSpPr/>
          <p:nvPr/>
        </p:nvGrpSpPr>
        <p:grpSpPr>
          <a:xfrm>
            <a:off x="5308560" y="3408480"/>
            <a:ext cx="700200" cy="383760"/>
            <a:chOff x="5308560" y="3408480"/>
            <a:chExt cx="700200" cy="383760"/>
          </a:xfrm>
        </p:grpSpPr>
        <p:sp>
          <p:nvSpPr>
            <p:cNvPr id="2147" name=""/>
            <p:cNvSpPr/>
            <p:nvPr/>
          </p:nvSpPr>
          <p:spPr>
            <a:xfrm>
              <a:off x="5308560" y="3408480"/>
              <a:ext cx="700200" cy="376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5330880" y="3423960"/>
              <a:ext cx="65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9" name=""/>
          <p:cNvSpPr/>
          <p:nvPr/>
        </p:nvSpPr>
        <p:spPr>
          <a:xfrm>
            <a:off x="6019920" y="3753000"/>
            <a:ext cx="285480" cy="218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 flipH="1" flipV="1">
            <a:off x="5448240" y="2790720"/>
            <a:ext cx="200160" cy="162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7524720" y="4714920"/>
            <a:ext cx="1257480" cy="276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rans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3438360" y="1762200"/>
            <a:ext cx="1257480" cy="276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rans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>
            <a:off x="8439120" y="4419720"/>
            <a:ext cx="9720" cy="361800"/>
          </a:xfrm>
          <a:custGeom>
            <a:avLst/>
            <a:gdLst/>
            <a:ahLst/>
            <a:rect l="l" t="t" r="r" b="b"/>
            <a:pathLst>
              <a:path w="6" h="228">
                <a:moveTo>
                  <a:pt x="6" y="22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4824360" y="2206800"/>
            <a:ext cx="890640" cy="518760"/>
          </a:xfrm>
          <a:custGeom>
            <a:avLst/>
            <a:gdLst/>
            <a:ahLst/>
            <a:rect l="l" t="t" r="r" b="b"/>
            <a:pathLst>
              <a:path w="1122" h="981">
                <a:moveTo>
                  <a:pt x="986" y="98"/>
                </a:moveTo>
                <a:lnTo>
                  <a:pt x="964" y="84"/>
                </a:lnTo>
                <a:lnTo>
                  <a:pt x="941" y="72"/>
                </a:lnTo>
                <a:lnTo>
                  <a:pt x="918" y="61"/>
                </a:lnTo>
                <a:lnTo>
                  <a:pt x="894" y="52"/>
                </a:lnTo>
                <a:lnTo>
                  <a:pt x="870" y="42"/>
                </a:lnTo>
                <a:lnTo>
                  <a:pt x="847" y="35"/>
                </a:lnTo>
                <a:lnTo>
                  <a:pt x="821" y="28"/>
                </a:lnTo>
                <a:lnTo>
                  <a:pt x="796" y="21"/>
                </a:lnTo>
                <a:lnTo>
                  <a:pt x="770" y="15"/>
                </a:lnTo>
                <a:lnTo>
                  <a:pt x="744" y="11"/>
                </a:lnTo>
                <a:lnTo>
                  <a:pt x="715" y="8"/>
                </a:lnTo>
                <a:lnTo>
                  <a:pt x="687" y="4"/>
                </a:lnTo>
                <a:lnTo>
                  <a:pt x="657" y="3"/>
                </a:lnTo>
                <a:lnTo>
                  <a:pt x="627" y="1"/>
                </a:lnTo>
                <a:lnTo>
                  <a:pt x="594" y="0"/>
                </a:lnTo>
                <a:lnTo>
                  <a:pt x="562" y="0"/>
                </a:lnTo>
                <a:lnTo>
                  <a:pt x="528" y="0"/>
                </a:lnTo>
                <a:lnTo>
                  <a:pt x="496" y="1"/>
                </a:lnTo>
                <a:lnTo>
                  <a:pt x="465" y="3"/>
                </a:lnTo>
                <a:lnTo>
                  <a:pt x="436" y="4"/>
                </a:lnTo>
                <a:lnTo>
                  <a:pt x="407" y="8"/>
                </a:lnTo>
                <a:lnTo>
                  <a:pt x="378" y="11"/>
                </a:lnTo>
                <a:lnTo>
                  <a:pt x="352" y="15"/>
                </a:lnTo>
                <a:lnTo>
                  <a:pt x="326" y="21"/>
                </a:lnTo>
                <a:lnTo>
                  <a:pt x="300" y="28"/>
                </a:lnTo>
                <a:lnTo>
                  <a:pt x="275" y="35"/>
                </a:lnTo>
                <a:lnTo>
                  <a:pt x="252" y="42"/>
                </a:lnTo>
                <a:lnTo>
                  <a:pt x="227" y="52"/>
                </a:lnTo>
                <a:lnTo>
                  <a:pt x="203" y="61"/>
                </a:lnTo>
                <a:lnTo>
                  <a:pt x="181" y="72"/>
                </a:lnTo>
                <a:lnTo>
                  <a:pt x="157" y="84"/>
                </a:lnTo>
                <a:lnTo>
                  <a:pt x="135" y="98"/>
                </a:lnTo>
                <a:lnTo>
                  <a:pt x="94" y="127"/>
                </a:lnTo>
                <a:lnTo>
                  <a:pt x="63" y="160"/>
                </a:lnTo>
                <a:lnTo>
                  <a:pt x="39" y="196"/>
                </a:lnTo>
                <a:lnTo>
                  <a:pt x="22" y="233"/>
                </a:lnTo>
                <a:lnTo>
                  <a:pt x="11" y="269"/>
                </a:lnTo>
                <a:lnTo>
                  <a:pt x="4" y="304"/>
                </a:lnTo>
                <a:lnTo>
                  <a:pt x="1" y="336"/>
                </a:lnTo>
                <a:lnTo>
                  <a:pt x="0" y="364"/>
                </a:lnTo>
                <a:lnTo>
                  <a:pt x="1" y="386"/>
                </a:lnTo>
                <a:lnTo>
                  <a:pt x="6" y="405"/>
                </a:lnTo>
                <a:lnTo>
                  <a:pt x="11" y="421"/>
                </a:lnTo>
                <a:lnTo>
                  <a:pt x="20" y="432"/>
                </a:lnTo>
                <a:lnTo>
                  <a:pt x="30" y="442"/>
                </a:lnTo>
                <a:lnTo>
                  <a:pt x="43" y="447"/>
                </a:lnTo>
                <a:lnTo>
                  <a:pt x="57" y="453"/>
                </a:lnTo>
                <a:lnTo>
                  <a:pt x="73" y="456"/>
                </a:lnTo>
                <a:lnTo>
                  <a:pt x="86" y="457"/>
                </a:lnTo>
                <a:lnTo>
                  <a:pt x="99" y="457"/>
                </a:lnTo>
                <a:lnTo>
                  <a:pt x="113" y="456"/>
                </a:lnTo>
                <a:lnTo>
                  <a:pt x="127" y="453"/>
                </a:lnTo>
                <a:lnTo>
                  <a:pt x="142" y="450"/>
                </a:lnTo>
                <a:lnTo>
                  <a:pt x="155" y="447"/>
                </a:lnTo>
                <a:lnTo>
                  <a:pt x="168" y="442"/>
                </a:lnTo>
                <a:lnTo>
                  <a:pt x="183" y="438"/>
                </a:lnTo>
                <a:lnTo>
                  <a:pt x="195" y="432"/>
                </a:lnTo>
                <a:lnTo>
                  <a:pt x="208" y="426"/>
                </a:lnTo>
                <a:lnTo>
                  <a:pt x="220" y="421"/>
                </a:lnTo>
                <a:lnTo>
                  <a:pt x="231" y="414"/>
                </a:lnTo>
                <a:lnTo>
                  <a:pt x="241" y="408"/>
                </a:lnTo>
                <a:lnTo>
                  <a:pt x="250" y="403"/>
                </a:lnTo>
                <a:lnTo>
                  <a:pt x="258" y="396"/>
                </a:lnTo>
                <a:lnTo>
                  <a:pt x="265" y="390"/>
                </a:lnTo>
                <a:lnTo>
                  <a:pt x="276" y="379"/>
                </a:lnTo>
                <a:lnTo>
                  <a:pt x="286" y="368"/>
                </a:lnTo>
                <a:lnTo>
                  <a:pt x="294" y="357"/>
                </a:lnTo>
                <a:lnTo>
                  <a:pt x="300" y="346"/>
                </a:lnTo>
                <a:lnTo>
                  <a:pt x="304" y="336"/>
                </a:lnTo>
                <a:lnTo>
                  <a:pt x="308" y="325"/>
                </a:lnTo>
                <a:lnTo>
                  <a:pt x="309" y="315"/>
                </a:lnTo>
                <a:lnTo>
                  <a:pt x="308" y="305"/>
                </a:lnTo>
                <a:lnTo>
                  <a:pt x="302" y="283"/>
                </a:lnTo>
                <a:lnTo>
                  <a:pt x="297" y="255"/>
                </a:lnTo>
                <a:lnTo>
                  <a:pt x="294" y="231"/>
                </a:lnTo>
                <a:lnTo>
                  <a:pt x="300" y="216"/>
                </a:lnTo>
                <a:lnTo>
                  <a:pt x="310" y="215"/>
                </a:lnTo>
                <a:lnTo>
                  <a:pt x="318" y="222"/>
                </a:lnTo>
                <a:lnTo>
                  <a:pt x="323" y="237"/>
                </a:lnTo>
                <a:lnTo>
                  <a:pt x="327" y="259"/>
                </a:lnTo>
                <a:lnTo>
                  <a:pt x="328" y="295"/>
                </a:lnTo>
                <a:lnTo>
                  <a:pt x="326" y="332"/>
                </a:lnTo>
                <a:lnTo>
                  <a:pt x="322" y="365"/>
                </a:lnTo>
                <a:lnTo>
                  <a:pt x="317" y="389"/>
                </a:lnTo>
                <a:lnTo>
                  <a:pt x="312" y="401"/>
                </a:lnTo>
                <a:lnTo>
                  <a:pt x="302" y="419"/>
                </a:lnTo>
                <a:lnTo>
                  <a:pt x="290" y="440"/>
                </a:lnTo>
                <a:lnTo>
                  <a:pt x="275" y="464"/>
                </a:lnTo>
                <a:lnTo>
                  <a:pt x="258" y="489"/>
                </a:lnTo>
                <a:lnTo>
                  <a:pt x="243" y="513"/>
                </a:lnTo>
                <a:lnTo>
                  <a:pt x="227" y="535"/>
                </a:lnTo>
                <a:lnTo>
                  <a:pt x="213" y="553"/>
                </a:lnTo>
                <a:lnTo>
                  <a:pt x="200" y="574"/>
                </a:lnTo>
                <a:lnTo>
                  <a:pt x="185" y="606"/>
                </a:lnTo>
                <a:lnTo>
                  <a:pt x="170" y="644"/>
                </a:lnTo>
                <a:lnTo>
                  <a:pt x="154" y="686"/>
                </a:lnTo>
                <a:lnTo>
                  <a:pt x="138" y="730"/>
                </a:lnTo>
                <a:lnTo>
                  <a:pt x="126" y="772"/>
                </a:lnTo>
                <a:lnTo>
                  <a:pt x="116" y="810"/>
                </a:lnTo>
                <a:lnTo>
                  <a:pt x="110" y="840"/>
                </a:lnTo>
                <a:lnTo>
                  <a:pt x="107" y="882"/>
                </a:lnTo>
                <a:lnTo>
                  <a:pt x="108" y="916"/>
                </a:lnTo>
                <a:lnTo>
                  <a:pt x="113" y="941"/>
                </a:lnTo>
                <a:lnTo>
                  <a:pt x="124" y="957"/>
                </a:lnTo>
                <a:lnTo>
                  <a:pt x="139" y="970"/>
                </a:lnTo>
                <a:lnTo>
                  <a:pt x="159" y="977"/>
                </a:lnTo>
                <a:lnTo>
                  <a:pt x="185" y="980"/>
                </a:lnTo>
                <a:lnTo>
                  <a:pt x="217" y="981"/>
                </a:lnTo>
                <a:lnTo>
                  <a:pt x="235" y="981"/>
                </a:lnTo>
                <a:lnTo>
                  <a:pt x="255" y="981"/>
                </a:lnTo>
                <a:lnTo>
                  <a:pt x="277" y="981"/>
                </a:lnTo>
                <a:lnTo>
                  <a:pt x="301" y="981"/>
                </a:lnTo>
                <a:lnTo>
                  <a:pt x="326" y="981"/>
                </a:lnTo>
                <a:lnTo>
                  <a:pt x="352" y="981"/>
                </a:lnTo>
                <a:lnTo>
                  <a:pt x="378" y="981"/>
                </a:lnTo>
                <a:lnTo>
                  <a:pt x="404" y="981"/>
                </a:lnTo>
                <a:lnTo>
                  <a:pt x="430" y="981"/>
                </a:lnTo>
                <a:lnTo>
                  <a:pt x="455" y="981"/>
                </a:lnTo>
                <a:lnTo>
                  <a:pt x="477" y="981"/>
                </a:lnTo>
                <a:lnTo>
                  <a:pt x="499" y="981"/>
                </a:lnTo>
                <a:lnTo>
                  <a:pt x="518" y="981"/>
                </a:lnTo>
                <a:lnTo>
                  <a:pt x="533" y="981"/>
                </a:lnTo>
                <a:lnTo>
                  <a:pt x="546" y="981"/>
                </a:lnTo>
                <a:lnTo>
                  <a:pt x="555" y="981"/>
                </a:lnTo>
                <a:lnTo>
                  <a:pt x="555" y="872"/>
                </a:lnTo>
                <a:lnTo>
                  <a:pt x="535" y="871"/>
                </a:lnTo>
                <a:lnTo>
                  <a:pt x="514" y="867"/>
                </a:lnTo>
                <a:lnTo>
                  <a:pt x="495" y="860"/>
                </a:lnTo>
                <a:lnTo>
                  <a:pt x="477" y="851"/>
                </a:lnTo>
                <a:lnTo>
                  <a:pt x="459" y="842"/>
                </a:lnTo>
                <a:lnTo>
                  <a:pt x="444" y="828"/>
                </a:lnTo>
                <a:lnTo>
                  <a:pt x="428" y="814"/>
                </a:lnTo>
                <a:lnTo>
                  <a:pt x="413" y="797"/>
                </a:lnTo>
                <a:lnTo>
                  <a:pt x="401" y="779"/>
                </a:lnTo>
                <a:lnTo>
                  <a:pt x="389" y="761"/>
                </a:lnTo>
                <a:lnTo>
                  <a:pt x="380" y="740"/>
                </a:lnTo>
                <a:lnTo>
                  <a:pt x="371" y="718"/>
                </a:lnTo>
                <a:lnTo>
                  <a:pt x="364" y="694"/>
                </a:lnTo>
                <a:lnTo>
                  <a:pt x="359" y="670"/>
                </a:lnTo>
                <a:lnTo>
                  <a:pt x="356" y="645"/>
                </a:lnTo>
                <a:lnTo>
                  <a:pt x="355" y="620"/>
                </a:lnTo>
                <a:lnTo>
                  <a:pt x="356" y="595"/>
                </a:lnTo>
                <a:lnTo>
                  <a:pt x="359" y="570"/>
                </a:lnTo>
                <a:lnTo>
                  <a:pt x="364" y="546"/>
                </a:lnTo>
                <a:lnTo>
                  <a:pt x="371" y="523"/>
                </a:lnTo>
                <a:lnTo>
                  <a:pt x="380" y="500"/>
                </a:lnTo>
                <a:lnTo>
                  <a:pt x="389" y="479"/>
                </a:lnTo>
                <a:lnTo>
                  <a:pt x="401" y="461"/>
                </a:lnTo>
                <a:lnTo>
                  <a:pt x="413" y="443"/>
                </a:lnTo>
                <a:lnTo>
                  <a:pt x="428" y="426"/>
                </a:lnTo>
                <a:lnTo>
                  <a:pt x="444" y="412"/>
                </a:lnTo>
                <a:lnTo>
                  <a:pt x="459" y="399"/>
                </a:lnTo>
                <a:lnTo>
                  <a:pt x="477" y="389"/>
                </a:lnTo>
                <a:lnTo>
                  <a:pt x="495" y="380"/>
                </a:lnTo>
                <a:lnTo>
                  <a:pt x="514" y="373"/>
                </a:lnTo>
                <a:lnTo>
                  <a:pt x="535" y="369"/>
                </a:lnTo>
                <a:lnTo>
                  <a:pt x="555" y="368"/>
                </a:lnTo>
                <a:lnTo>
                  <a:pt x="555" y="241"/>
                </a:lnTo>
                <a:lnTo>
                  <a:pt x="546" y="241"/>
                </a:lnTo>
                <a:lnTo>
                  <a:pt x="536" y="241"/>
                </a:lnTo>
                <a:lnTo>
                  <a:pt x="524" y="242"/>
                </a:lnTo>
                <a:lnTo>
                  <a:pt x="513" y="242"/>
                </a:lnTo>
                <a:lnTo>
                  <a:pt x="503" y="242"/>
                </a:lnTo>
                <a:lnTo>
                  <a:pt x="493" y="244"/>
                </a:lnTo>
                <a:lnTo>
                  <a:pt x="484" y="244"/>
                </a:lnTo>
                <a:lnTo>
                  <a:pt x="477" y="244"/>
                </a:lnTo>
                <a:lnTo>
                  <a:pt x="467" y="237"/>
                </a:lnTo>
                <a:lnTo>
                  <a:pt x="462" y="220"/>
                </a:lnTo>
                <a:lnTo>
                  <a:pt x="460" y="203"/>
                </a:lnTo>
                <a:lnTo>
                  <a:pt x="465" y="195"/>
                </a:lnTo>
                <a:lnTo>
                  <a:pt x="471" y="194"/>
                </a:lnTo>
                <a:lnTo>
                  <a:pt x="478" y="194"/>
                </a:lnTo>
                <a:lnTo>
                  <a:pt x="489" y="194"/>
                </a:lnTo>
                <a:lnTo>
                  <a:pt x="501" y="194"/>
                </a:lnTo>
                <a:lnTo>
                  <a:pt x="514" y="194"/>
                </a:lnTo>
                <a:lnTo>
                  <a:pt x="530" y="195"/>
                </a:lnTo>
                <a:lnTo>
                  <a:pt x="546" y="195"/>
                </a:lnTo>
                <a:lnTo>
                  <a:pt x="562" y="195"/>
                </a:lnTo>
                <a:lnTo>
                  <a:pt x="577" y="195"/>
                </a:lnTo>
                <a:lnTo>
                  <a:pt x="593" y="195"/>
                </a:lnTo>
                <a:lnTo>
                  <a:pt x="608" y="194"/>
                </a:lnTo>
                <a:lnTo>
                  <a:pt x="621" y="194"/>
                </a:lnTo>
                <a:lnTo>
                  <a:pt x="633" y="194"/>
                </a:lnTo>
                <a:lnTo>
                  <a:pt x="644" y="194"/>
                </a:lnTo>
                <a:lnTo>
                  <a:pt x="651" y="194"/>
                </a:lnTo>
                <a:lnTo>
                  <a:pt x="657" y="195"/>
                </a:lnTo>
                <a:lnTo>
                  <a:pt x="662" y="203"/>
                </a:lnTo>
                <a:lnTo>
                  <a:pt x="662" y="220"/>
                </a:lnTo>
                <a:lnTo>
                  <a:pt x="655" y="237"/>
                </a:lnTo>
                <a:lnTo>
                  <a:pt x="645" y="244"/>
                </a:lnTo>
                <a:lnTo>
                  <a:pt x="637" y="244"/>
                </a:lnTo>
                <a:lnTo>
                  <a:pt x="628" y="244"/>
                </a:lnTo>
                <a:lnTo>
                  <a:pt x="617" y="242"/>
                </a:lnTo>
                <a:lnTo>
                  <a:pt x="605" y="242"/>
                </a:lnTo>
                <a:lnTo>
                  <a:pt x="593" y="242"/>
                </a:lnTo>
                <a:lnTo>
                  <a:pt x="581" y="241"/>
                </a:lnTo>
                <a:lnTo>
                  <a:pt x="571" y="241"/>
                </a:lnTo>
                <a:lnTo>
                  <a:pt x="562" y="241"/>
                </a:lnTo>
                <a:lnTo>
                  <a:pt x="560" y="241"/>
                </a:lnTo>
                <a:lnTo>
                  <a:pt x="558" y="241"/>
                </a:lnTo>
                <a:lnTo>
                  <a:pt x="557" y="241"/>
                </a:lnTo>
                <a:lnTo>
                  <a:pt x="555" y="241"/>
                </a:lnTo>
                <a:lnTo>
                  <a:pt x="555" y="368"/>
                </a:lnTo>
                <a:lnTo>
                  <a:pt x="556" y="368"/>
                </a:lnTo>
                <a:lnTo>
                  <a:pt x="557" y="368"/>
                </a:lnTo>
                <a:lnTo>
                  <a:pt x="557" y="368"/>
                </a:lnTo>
                <a:lnTo>
                  <a:pt x="558" y="368"/>
                </a:lnTo>
                <a:lnTo>
                  <a:pt x="580" y="369"/>
                </a:lnTo>
                <a:lnTo>
                  <a:pt x="600" y="373"/>
                </a:lnTo>
                <a:lnTo>
                  <a:pt x="619" y="379"/>
                </a:lnTo>
                <a:lnTo>
                  <a:pt x="638" y="387"/>
                </a:lnTo>
                <a:lnTo>
                  <a:pt x="656" y="399"/>
                </a:lnTo>
                <a:lnTo>
                  <a:pt x="673" y="411"/>
                </a:lnTo>
                <a:lnTo>
                  <a:pt x="688" y="425"/>
                </a:lnTo>
                <a:lnTo>
                  <a:pt x="703" y="442"/>
                </a:lnTo>
                <a:lnTo>
                  <a:pt x="717" y="460"/>
                </a:lnTo>
                <a:lnTo>
                  <a:pt x="728" y="479"/>
                </a:lnTo>
                <a:lnTo>
                  <a:pt x="738" y="500"/>
                </a:lnTo>
                <a:lnTo>
                  <a:pt x="747" y="523"/>
                </a:lnTo>
                <a:lnTo>
                  <a:pt x="754" y="545"/>
                </a:lnTo>
                <a:lnTo>
                  <a:pt x="758" y="570"/>
                </a:lnTo>
                <a:lnTo>
                  <a:pt x="761" y="594"/>
                </a:lnTo>
                <a:lnTo>
                  <a:pt x="763" y="620"/>
                </a:lnTo>
                <a:lnTo>
                  <a:pt x="761" y="647"/>
                </a:lnTo>
                <a:lnTo>
                  <a:pt x="758" y="670"/>
                </a:lnTo>
                <a:lnTo>
                  <a:pt x="754" y="695"/>
                </a:lnTo>
                <a:lnTo>
                  <a:pt x="747" y="718"/>
                </a:lnTo>
                <a:lnTo>
                  <a:pt x="738" y="740"/>
                </a:lnTo>
                <a:lnTo>
                  <a:pt x="728" y="761"/>
                </a:lnTo>
                <a:lnTo>
                  <a:pt x="717" y="780"/>
                </a:lnTo>
                <a:lnTo>
                  <a:pt x="703" y="798"/>
                </a:lnTo>
                <a:lnTo>
                  <a:pt x="688" y="815"/>
                </a:lnTo>
                <a:lnTo>
                  <a:pt x="673" y="829"/>
                </a:lnTo>
                <a:lnTo>
                  <a:pt x="656" y="842"/>
                </a:lnTo>
                <a:lnTo>
                  <a:pt x="638" y="853"/>
                </a:lnTo>
                <a:lnTo>
                  <a:pt x="619" y="861"/>
                </a:lnTo>
                <a:lnTo>
                  <a:pt x="600" y="867"/>
                </a:lnTo>
                <a:lnTo>
                  <a:pt x="580" y="871"/>
                </a:lnTo>
                <a:lnTo>
                  <a:pt x="558" y="872"/>
                </a:lnTo>
                <a:lnTo>
                  <a:pt x="557" y="872"/>
                </a:lnTo>
                <a:lnTo>
                  <a:pt x="557" y="872"/>
                </a:lnTo>
                <a:lnTo>
                  <a:pt x="556" y="872"/>
                </a:lnTo>
                <a:lnTo>
                  <a:pt x="555" y="872"/>
                </a:lnTo>
                <a:lnTo>
                  <a:pt x="555" y="981"/>
                </a:lnTo>
                <a:lnTo>
                  <a:pt x="558" y="981"/>
                </a:lnTo>
                <a:lnTo>
                  <a:pt x="560" y="981"/>
                </a:lnTo>
                <a:lnTo>
                  <a:pt x="562" y="981"/>
                </a:lnTo>
                <a:lnTo>
                  <a:pt x="562" y="981"/>
                </a:lnTo>
                <a:lnTo>
                  <a:pt x="564" y="981"/>
                </a:lnTo>
                <a:lnTo>
                  <a:pt x="573" y="981"/>
                </a:lnTo>
                <a:lnTo>
                  <a:pt x="585" y="981"/>
                </a:lnTo>
                <a:lnTo>
                  <a:pt x="602" y="981"/>
                </a:lnTo>
                <a:lnTo>
                  <a:pt x="622" y="981"/>
                </a:lnTo>
                <a:lnTo>
                  <a:pt x="645" y="981"/>
                </a:lnTo>
                <a:lnTo>
                  <a:pt x="671" y="981"/>
                </a:lnTo>
                <a:lnTo>
                  <a:pt x="697" y="981"/>
                </a:lnTo>
                <a:lnTo>
                  <a:pt x="726" y="981"/>
                </a:lnTo>
                <a:lnTo>
                  <a:pt x="754" y="981"/>
                </a:lnTo>
                <a:lnTo>
                  <a:pt x="783" y="981"/>
                </a:lnTo>
                <a:lnTo>
                  <a:pt x="811" y="981"/>
                </a:lnTo>
                <a:lnTo>
                  <a:pt x="838" y="981"/>
                </a:lnTo>
                <a:lnTo>
                  <a:pt x="863" y="981"/>
                </a:lnTo>
                <a:lnTo>
                  <a:pt x="885" y="981"/>
                </a:lnTo>
                <a:lnTo>
                  <a:pt x="905" y="981"/>
                </a:lnTo>
                <a:lnTo>
                  <a:pt x="937" y="980"/>
                </a:lnTo>
                <a:lnTo>
                  <a:pt x="961" y="977"/>
                </a:lnTo>
                <a:lnTo>
                  <a:pt x="983" y="970"/>
                </a:lnTo>
                <a:lnTo>
                  <a:pt x="997" y="957"/>
                </a:lnTo>
                <a:lnTo>
                  <a:pt x="1009" y="941"/>
                </a:lnTo>
                <a:lnTo>
                  <a:pt x="1013" y="916"/>
                </a:lnTo>
                <a:lnTo>
                  <a:pt x="1014" y="882"/>
                </a:lnTo>
                <a:lnTo>
                  <a:pt x="1011" y="840"/>
                </a:lnTo>
                <a:lnTo>
                  <a:pt x="1005" y="810"/>
                </a:lnTo>
                <a:lnTo>
                  <a:pt x="995" y="772"/>
                </a:lnTo>
                <a:lnTo>
                  <a:pt x="983" y="730"/>
                </a:lnTo>
                <a:lnTo>
                  <a:pt x="968" y="686"/>
                </a:lnTo>
                <a:lnTo>
                  <a:pt x="951" y="644"/>
                </a:lnTo>
                <a:lnTo>
                  <a:pt x="936" y="606"/>
                </a:lnTo>
                <a:lnTo>
                  <a:pt x="921" y="574"/>
                </a:lnTo>
                <a:lnTo>
                  <a:pt x="907" y="553"/>
                </a:lnTo>
                <a:lnTo>
                  <a:pt x="894" y="535"/>
                </a:lnTo>
                <a:lnTo>
                  <a:pt x="878" y="513"/>
                </a:lnTo>
                <a:lnTo>
                  <a:pt x="863" y="489"/>
                </a:lnTo>
                <a:lnTo>
                  <a:pt x="846" y="464"/>
                </a:lnTo>
                <a:lnTo>
                  <a:pt x="831" y="440"/>
                </a:lnTo>
                <a:lnTo>
                  <a:pt x="819" y="419"/>
                </a:lnTo>
                <a:lnTo>
                  <a:pt x="809" y="401"/>
                </a:lnTo>
                <a:lnTo>
                  <a:pt x="804" y="389"/>
                </a:lnTo>
                <a:lnTo>
                  <a:pt x="799" y="365"/>
                </a:lnTo>
                <a:lnTo>
                  <a:pt x="795" y="332"/>
                </a:lnTo>
                <a:lnTo>
                  <a:pt x="794" y="295"/>
                </a:lnTo>
                <a:lnTo>
                  <a:pt x="794" y="259"/>
                </a:lnTo>
                <a:lnTo>
                  <a:pt x="797" y="237"/>
                </a:lnTo>
                <a:lnTo>
                  <a:pt x="803" y="222"/>
                </a:lnTo>
                <a:lnTo>
                  <a:pt x="811" y="215"/>
                </a:lnTo>
                <a:lnTo>
                  <a:pt x="821" y="216"/>
                </a:lnTo>
                <a:lnTo>
                  <a:pt x="827" y="231"/>
                </a:lnTo>
                <a:lnTo>
                  <a:pt x="824" y="255"/>
                </a:lnTo>
                <a:lnTo>
                  <a:pt x="819" y="283"/>
                </a:lnTo>
                <a:lnTo>
                  <a:pt x="813" y="305"/>
                </a:lnTo>
                <a:lnTo>
                  <a:pt x="812" y="315"/>
                </a:lnTo>
                <a:lnTo>
                  <a:pt x="813" y="325"/>
                </a:lnTo>
                <a:lnTo>
                  <a:pt x="817" y="336"/>
                </a:lnTo>
                <a:lnTo>
                  <a:pt x="821" y="346"/>
                </a:lnTo>
                <a:lnTo>
                  <a:pt x="827" y="357"/>
                </a:lnTo>
                <a:lnTo>
                  <a:pt x="834" y="368"/>
                </a:lnTo>
                <a:lnTo>
                  <a:pt x="845" y="379"/>
                </a:lnTo>
                <a:lnTo>
                  <a:pt x="856" y="390"/>
                </a:lnTo>
                <a:lnTo>
                  <a:pt x="863" y="396"/>
                </a:lnTo>
                <a:lnTo>
                  <a:pt x="870" y="403"/>
                </a:lnTo>
                <a:lnTo>
                  <a:pt x="879" y="408"/>
                </a:lnTo>
                <a:lnTo>
                  <a:pt x="890" y="414"/>
                </a:lnTo>
                <a:lnTo>
                  <a:pt x="901" y="421"/>
                </a:lnTo>
                <a:lnTo>
                  <a:pt x="913" y="426"/>
                </a:lnTo>
                <a:lnTo>
                  <a:pt x="925" y="432"/>
                </a:lnTo>
                <a:lnTo>
                  <a:pt x="939" y="438"/>
                </a:lnTo>
                <a:lnTo>
                  <a:pt x="952" y="442"/>
                </a:lnTo>
                <a:lnTo>
                  <a:pt x="966" y="447"/>
                </a:lnTo>
                <a:lnTo>
                  <a:pt x="980" y="450"/>
                </a:lnTo>
                <a:lnTo>
                  <a:pt x="994" y="453"/>
                </a:lnTo>
                <a:lnTo>
                  <a:pt x="1009" y="456"/>
                </a:lnTo>
                <a:lnTo>
                  <a:pt x="1022" y="457"/>
                </a:lnTo>
                <a:lnTo>
                  <a:pt x="1036" y="457"/>
                </a:lnTo>
                <a:lnTo>
                  <a:pt x="1048" y="456"/>
                </a:lnTo>
                <a:lnTo>
                  <a:pt x="1064" y="453"/>
                </a:lnTo>
                <a:lnTo>
                  <a:pt x="1078" y="447"/>
                </a:lnTo>
                <a:lnTo>
                  <a:pt x="1091" y="442"/>
                </a:lnTo>
                <a:lnTo>
                  <a:pt x="1102" y="432"/>
                </a:lnTo>
                <a:lnTo>
                  <a:pt x="1110" y="421"/>
                </a:lnTo>
                <a:lnTo>
                  <a:pt x="1116" y="405"/>
                </a:lnTo>
                <a:lnTo>
                  <a:pt x="1121" y="386"/>
                </a:lnTo>
                <a:lnTo>
                  <a:pt x="1122" y="364"/>
                </a:lnTo>
                <a:lnTo>
                  <a:pt x="1121" y="336"/>
                </a:lnTo>
                <a:lnTo>
                  <a:pt x="1118" y="304"/>
                </a:lnTo>
                <a:lnTo>
                  <a:pt x="1111" y="269"/>
                </a:lnTo>
                <a:lnTo>
                  <a:pt x="1100" y="233"/>
                </a:lnTo>
                <a:lnTo>
                  <a:pt x="1082" y="196"/>
                </a:lnTo>
                <a:lnTo>
                  <a:pt x="1058" y="160"/>
                </a:lnTo>
                <a:lnTo>
                  <a:pt x="1027" y="127"/>
                </a:lnTo>
                <a:lnTo>
                  <a:pt x="986" y="9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>
            <a:off x="4495680" y="2048040"/>
            <a:ext cx="3822840" cy="2892240"/>
          </a:xfrm>
          <a:custGeom>
            <a:avLst/>
            <a:gdLst/>
            <a:ahLst/>
            <a:rect l="l" t="t" r="r" b="b"/>
            <a:pathLst>
              <a:path w="2408" h="1822">
                <a:moveTo>
                  <a:pt x="0" y="0"/>
                </a:moveTo>
                <a:lnTo>
                  <a:pt x="6" y="126"/>
                </a:lnTo>
                <a:lnTo>
                  <a:pt x="2408" y="1822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6" name=""/>
          <p:cNvGrpSpPr/>
          <p:nvPr/>
        </p:nvGrpSpPr>
        <p:grpSpPr>
          <a:xfrm>
            <a:off x="5670720" y="2836800"/>
            <a:ext cx="699840" cy="383760"/>
            <a:chOff x="5670720" y="2836800"/>
            <a:chExt cx="699840" cy="383760"/>
          </a:xfrm>
        </p:grpSpPr>
        <p:sp>
          <p:nvSpPr>
            <p:cNvPr id="2157" name=""/>
            <p:cNvSpPr/>
            <p:nvPr/>
          </p:nvSpPr>
          <p:spPr>
            <a:xfrm>
              <a:off x="5670720" y="2836800"/>
              <a:ext cx="699840" cy="376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5692320" y="2852280"/>
              <a:ext cx="54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ac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9" name=""/>
          <p:cNvSpPr/>
          <p:nvPr/>
        </p:nvSpPr>
        <p:spPr>
          <a:xfrm>
            <a:off x="4843440" y="3911760"/>
            <a:ext cx="890640" cy="519120"/>
          </a:xfrm>
          <a:custGeom>
            <a:avLst/>
            <a:gdLst/>
            <a:ahLst/>
            <a:rect l="l" t="t" r="r" b="b"/>
            <a:pathLst>
              <a:path w="1122" h="981">
                <a:moveTo>
                  <a:pt x="986" y="98"/>
                </a:moveTo>
                <a:lnTo>
                  <a:pt x="964" y="84"/>
                </a:lnTo>
                <a:lnTo>
                  <a:pt x="941" y="72"/>
                </a:lnTo>
                <a:lnTo>
                  <a:pt x="918" y="61"/>
                </a:lnTo>
                <a:lnTo>
                  <a:pt x="894" y="52"/>
                </a:lnTo>
                <a:lnTo>
                  <a:pt x="870" y="42"/>
                </a:lnTo>
                <a:lnTo>
                  <a:pt x="847" y="35"/>
                </a:lnTo>
                <a:lnTo>
                  <a:pt x="821" y="28"/>
                </a:lnTo>
                <a:lnTo>
                  <a:pt x="796" y="21"/>
                </a:lnTo>
                <a:lnTo>
                  <a:pt x="770" y="15"/>
                </a:lnTo>
                <a:lnTo>
                  <a:pt x="744" y="11"/>
                </a:lnTo>
                <a:lnTo>
                  <a:pt x="715" y="8"/>
                </a:lnTo>
                <a:lnTo>
                  <a:pt x="687" y="4"/>
                </a:lnTo>
                <a:lnTo>
                  <a:pt x="657" y="3"/>
                </a:lnTo>
                <a:lnTo>
                  <a:pt x="627" y="1"/>
                </a:lnTo>
                <a:lnTo>
                  <a:pt x="594" y="0"/>
                </a:lnTo>
                <a:lnTo>
                  <a:pt x="562" y="0"/>
                </a:lnTo>
                <a:lnTo>
                  <a:pt x="528" y="0"/>
                </a:lnTo>
                <a:lnTo>
                  <a:pt x="496" y="1"/>
                </a:lnTo>
                <a:lnTo>
                  <a:pt x="465" y="3"/>
                </a:lnTo>
                <a:lnTo>
                  <a:pt x="436" y="4"/>
                </a:lnTo>
                <a:lnTo>
                  <a:pt x="407" y="8"/>
                </a:lnTo>
                <a:lnTo>
                  <a:pt x="378" y="11"/>
                </a:lnTo>
                <a:lnTo>
                  <a:pt x="352" y="15"/>
                </a:lnTo>
                <a:lnTo>
                  <a:pt x="326" y="21"/>
                </a:lnTo>
                <a:lnTo>
                  <a:pt x="300" y="28"/>
                </a:lnTo>
                <a:lnTo>
                  <a:pt x="275" y="35"/>
                </a:lnTo>
                <a:lnTo>
                  <a:pt x="252" y="42"/>
                </a:lnTo>
                <a:lnTo>
                  <a:pt x="227" y="52"/>
                </a:lnTo>
                <a:lnTo>
                  <a:pt x="203" y="61"/>
                </a:lnTo>
                <a:lnTo>
                  <a:pt x="181" y="72"/>
                </a:lnTo>
                <a:lnTo>
                  <a:pt x="157" y="84"/>
                </a:lnTo>
                <a:lnTo>
                  <a:pt x="135" y="98"/>
                </a:lnTo>
                <a:lnTo>
                  <a:pt x="94" y="127"/>
                </a:lnTo>
                <a:lnTo>
                  <a:pt x="63" y="160"/>
                </a:lnTo>
                <a:lnTo>
                  <a:pt x="39" y="196"/>
                </a:lnTo>
                <a:lnTo>
                  <a:pt x="22" y="233"/>
                </a:lnTo>
                <a:lnTo>
                  <a:pt x="11" y="269"/>
                </a:lnTo>
                <a:lnTo>
                  <a:pt x="4" y="304"/>
                </a:lnTo>
                <a:lnTo>
                  <a:pt x="1" y="336"/>
                </a:lnTo>
                <a:lnTo>
                  <a:pt x="0" y="364"/>
                </a:lnTo>
                <a:lnTo>
                  <a:pt x="1" y="386"/>
                </a:lnTo>
                <a:lnTo>
                  <a:pt x="6" y="405"/>
                </a:lnTo>
                <a:lnTo>
                  <a:pt x="11" y="421"/>
                </a:lnTo>
                <a:lnTo>
                  <a:pt x="20" y="432"/>
                </a:lnTo>
                <a:lnTo>
                  <a:pt x="30" y="442"/>
                </a:lnTo>
                <a:lnTo>
                  <a:pt x="43" y="447"/>
                </a:lnTo>
                <a:lnTo>
                  <a:pt x="57" y="453"/>
                </a:lnTo>
                <a:lnTo>
                  <a:pt x="73" y="456"/>
                </a:lnTo>
                <a:lnTo>
                  <a:pt x="86" y="457"/>
                </a:lnTo>
                <a:lnTo>
                  <a:pt x="99" y="457"/>
                </a:lnTo>
                <a:lnTo>
                  <a:pt x="113" y="456"/>
                </a:lnTo>
                <a:lnTo>
                  <a:pt x="127" y="453"/>
                </a:lnTo>
                <a:lnTo>
                  <a:pt x="142" y="450"/>
                </a:lnTo>
                <a:lnTo>
                  <a:pt x="155" y="447"/>
                </a:lnTo>
                <a:lnTo>
                  <a:pt x="168" y="442"/>
                </a:lnTo>
                <a:lnTo>
                  <a:pt x="183" y="438"/>
                </a:lnTo>
                <a:lnTo>
                  <a:pt x="195" y="432"/>
                </a:lnTo>
                <a:lnTo>
                  <a:pt x="208" y="426"/>
                </a:lnTo>
                <a:lnTo>
                  <a:pt x="220" y="421"/>
                </a:lnTo>
                <a:lnTo>
                  <a:pt x="231" y="414"/>
                </a:lnTo>
                <a:lnTo>
                  <a:pt x="241" y="408"/>
                </a:lnTo>
                <a:lnTo>
                  <a:pt x="250" y="403"/>
                </a:lnTo>
                <a:lnTo>
                  <a:pt x="258" y="396"/>
                </a:lnTo>
                <a:lnTo>
                  <a:pt x="265" y="390"/>
                </a:lnTo>
                <a:lnTo>
                  <a:pt x="276" y="379"/>
                </a:lnTo>
                <a:lnTo>
                  <a:pt x="286" y="368"/>
                </a:lnTo>
                <a:lnTo>
                  <a:pt x="294" y="357"/>
                </a:lnTo>
                <a:lnTo>
                  <a:pt x="300" y="346"/>
                </a:lnTo>
                <a:lnTo>
                  <a:pt x="304" y="336"/>
                </a:lnTo>
                <a:lnTo>
                  <a:pt x="308" y="325"/>
                </a:lnTo>
                <a:lnTo>
                  <a:pt x="309" y="315"/>
                </a:lnTo>
                <a:lnTo>
                  <a:pt x="308" y="305"/>
                </a:lnTo>
                <a:lnTo>
                  <a:pt x="302" y="283"/>
                </a:lnTo>
                <a:lnTo>
                  <a:pt x="297" y="255"/>
                </a:lnTo>
                <a:lnTo>
                  <a:pt x="294" y="231"/>
                </a:lnTo>
                <a:lnTo>
                  <a:pt x="300" y="216"/>
                </a:lnTo>
                <a:lnTo>
                  <a:pt x="310" y="215"/>
                </a:lnTo>
                <a:lnTo>
                  <a:pt x="318" y="222"/>
                </a:lnTo>
                <a:lnTo>
                  <a:pt x="323" y="237"/>
                </a:lnTo>
                <a:lnTo>
                  <a:pt x="327" y="259"/>
                </a:lnTo>
                <a:lnTo>
                  <a:pt x="328" y="295"/>
                </a:lnTo>
                <a:lnTo>
                  <a:pt x="326" y="332"/>
                </a:lnTo>
                <a:lnTo>
                  <a:pt x="322" y="365"/>
                </a:lnTo>
                <a:lnTo>
                  <a:pt x="317" y="389"/>
                </a:lnTo>
                <a:lnTo>
                  <a:pt x="312" y="401"/>
                </a:lnTo>
                <a:lnTo>
                  <a:pt x="302" y="419"/>
                </a:lnTo>
                <a:lnTo>
                  <a:pt x="290" y="440"/>
                </a:lnTo>
                <a:lnTo>
                  <a:pt x="275" y="464"/>
                </a:lnTo>
                <a:lnTo>
                  <a:pt x="258" y="489"/>
                </a:lnTo>
                <a:lnTo>
                  <a:pt x="243" y="513"/>
                </a:lnTo>
                <a:lnTo>
                  <a:pt x="227" y="535"/>
                </a:lnTo>
                <a:lnTo>
                  <a:pt x="213" y="553"/>
                </a:lnTo>
                <a:lnTo>
                  <a:pt x="200" y="574"/>
                </a:lnTo>
                <a:lnTo>
                  <a:pt x="185" y="606"/>
                </a:lnTo>
                <a:lnTo>
                  <a:pt x="170" y="644"/>
                </a:lnTo>
                <a:lnTo>
                  <a:pt x="154" y="686"/>
                </a:lnTo>
                <a:lnTo>
                  <a:pt x="138" y="730"/>
                </a:lnTo>
                <a:lnTo>
                  <a:pt x="126" y="772"/>
                </a:lnTo>
                <a:lnTo>
                  <a:pt x="116" y="810"/>
                </a:lnTo>
                <a:lnTo>
                  <a:pt x="110" y="840"/>
                </a:lnTo>
                <a:lnTo>
                  <a:pt x="107" y="882"/>
                </a:lnTo>
                <a:lnTo>
                  <a:pt x="108" y="916"/>
                </a:lnTo>
                <a:lnTo>
                  <a:pt x="113" y="941"/>
                </a:lnTo>
                <a:lnTo>
                  <a:pt x="124" y="957"/>
                </a:lnTo>
                <a:lnTo>
                  <a:pt x="139" y="970"/>
                </a:lnTo>
                <a:lnTo>
                  <a:pt x="159" y="977"/>
                </a:lnTo>
                <a:lnTo>
                  <a:pt x="185" y="980"/>
                </a:lnTo>
                <a:lnTo>
                  <a:pt x="217" y="981"/>
                </a:lnTo>
                <a:lnTo>
                  <a:pt x="235" y="981"/>
                </a:lnTo>
                <a:lnTo>
                  <a:pt x="255" y="981"/>
                </a:lnTo>
                <a:lnTo>
                  <a:pt x="277" y="981"/>
                </a:lnTo>
                <a:lnTo>
                  <a:pt x="301" y="981"/>
                </a:lnTo>
                <a:lnTo>
                  <a:pt x="326" y="981"/>
                </a:lnTo>
                <a:lnTo>
                  <a:pt x="352" y="981"/>
                </a:lnTo>
                <a:lnTo>
                  <a:pt x="378" y="981"/>
                </a:lnTo>
                <a:lnTo>
                  <a:pt x="404" y="981"/>
                </a:lnTo>
                <a:lnTo>
                  <a:pt x="430" y="981"/>
                </a:lnTo>
                <a:lnTo>
                  <a:pt x="455" y="981"/>
                </a:lnTo>
                <a:lnTo>
                  <a:pt x="477" y="981"/>
                </a:lnTo>
                <a:lnTo>
                  <a:pt x="499" y="981"/>
                </a:lnTo>
                <a:lnTo>
                  <a:pt x="518" y="981"/>
                </a:lnTo>
                <a:lnTo>
                  <a:pt x="533" y="981"/>
                </a:lnTo>
                <a:lnTo>
                  <a:pt x="546" y="981"/>
                </a:lnTo>
                <a:lnTo>
                  <a:pt x="555" y="981"/>
                </a:lnTo>
                <a:lnTo>
                  <a:pt x="555" y="872"/>
                </a:lnTo>
                <a:lnTo>
                  <a:pt x="535" y="871"/>
                </a:lnTo>
                <a:lnTo>
                  <a:pt x="514" y="867"/>
                </a:lnTo>
                <a:lnTo>
                  <a:pt x="495" y="860"/>
                </a:lnTo>
                <a:lnTo>
                  <a:pt x="477" y="851"/>
                </a:lnTo>
                <a:lnTo>
                  <a:pt x="459" y="842"/>
                </a:lnTo>
                <a:lnTo>
                  <a:pt x="444" y="828"/>
                </a:lnTo>
                <a:lnTo>
                  <a:pt x="428" y="814"/>
                </a:lnTo>
                <a:lnTo>
                  <a:pt x="413" y="797"/>
                </a:lnTo>
                <a:lnTo>
                  <a:pt x="401" y="779"/>
                </a:lnTo>
                <a:lnTo>
                  <a:pt x="389" y="761"/>
                </a:lnTo>
                <a:lnTo>
                  <a:pt x="380" y="740"/>
                </a:lnTo>
                <a:lnTo>
                  <a:pt x="371" y="718"/>
                </a:lnTo>
                <a:lnTo>
                  <a:pt x="364" y="694"/>
                </a:lnTo>
                <a:lnTo>
                  <a:pt x="359" y="670"/>
                </a:lnTo>
                <a:lnTo>
                  <a:pt x="356" y="645"/>
                </a:lnTo>
                <a:lnTo>
                  <a:pt x="355" y="620"/>
                </a:lnTo>
                <a:lnTo>
                  <a:pt x="356" y="595"/>
                </a:lnTo>
                <a:lnTo>
                  <a:pt x="359" y="570"/>
                </a:lnTo>
                <a:lnTo>
                  <a:pt x="364" y="546"/>
                </a:lnTo>
                <a:lnTo>
                  <a:pt x="371" y="523"/>
                </a:lnTo>
                <a:lnTo>
                  <a:pt x="380" y="500"/>
                </a:lnTo>
                <a:lnTo>
                  <a:pt x="389" y="479"/>
                </a:lnTo>
                <a:lnTo>
                  <a:pt x="401" y="461"/>
                </a:lnTo>
                <a:lnTo>
                  <a:pt x="413" y="443"/>
                </a:lnTo>
                <a:lnTo>
                  <a:pt x="428" y="426"/>
                </a:lnTo>
                <a:lnTo>
                  <a:pt x="444" y="412"/>
                </a:lnTo>
                <a:lnTo>
                  <a:pt x="459" y="399"/>
                </a:lnTo>
                <a:lnTo>
                  <a:pt x="477" y="389"/>
                </a:lnTo>
                <a:lnTo>
                  <a:pt x="495" y="380"/>
                </a:lnTo>
                <a:lnTo>
                  <a:pt x="514" y="373"/>
                </a:lnTo>
                <a:lnTo>
                  <a:pt x="535" y="369"/>
                </a:lnTo>
                <a:lnTo>
                  <a:pt x="555" y="368"/>
                </a:lnTo>
                <a:lnTo>
                  <a:pt x="555" y="241"/>
                </a:lnTo>
                <a:lnTo>
                  <a:pt x="546" y="241"/>
                </a:lnTo>
                <a:lnTo>
                  <a:pt x="536" y="241"/>
                </a:lnTo>
                <a:lnTo>
                  <a:pt x="524" y="242"/>
                </a:lnTo>
                <a:lnTo>
                  <a:pt x="513" y="242"/>
                </a:lnTo>
                <a:lnTo>
                  <a:pt x="503" y="242"/>
                </a:lnTo>
                <a:lnTo>
                  <a:pt x="493" y="244"/>
                </a:lnTo>
                <a:lnTo>
                  <a:pt x="484" y="244"/>
                </a:lnTo>
                <a:lnTo>
                  <a:pt x="477" y="244"/>
                </a:lnTo>
                <a:lnTo>
                  <a:pt x="467" y="237"/>
                </a:lnTo>
                <a:lnTo>
                  <a:pt x="462" y="220"/>
                </a:lnTo>
                <a:lnTo>
                  <a:pt x="460" y="203"/>
                </a:lnTo>
                <a:lnTo>
                  <a:pt x="465" y="195"/>
                </a:lnTo>
                <a:lnTo>
                  <a:pt x="471" y="194"/>
                </a:lnTo>
                <a:lnTo>
                  <a:pt x="478" y="194"/>
                </a:lnTo>
                <a:lnTo>
                  <a:pt x="489" y="194"/>
                </a:lnTo>
                <a:lnTo>
                  <a:pt x="501" y="194"/>
                </a:lnTo>
                <a:lnTo>
                  <a:pt x="514" y="194"/>
                </a:lnTo>
                <a:lnTo>
                  <a:pt x="530" y="195"/>
                </a:lnTo>
                <a:lnTo>
                  <a:pt x="546" y="195"/>
                </a:lnTo>
                <a:lnTo>
                  <a:pt x="562" y="195"/>
                </a:lnTo>
                <a:lnTo>
                  <a:pt x="577" y="195"/>
                </a:lnTo>
                <a:lnTo>
                  <a:pt x="593" y="195"/>
                </a:lnTo>
                <a:lnTo>
                  <a:pt x="608" y="194"/>
                </a:lnTo>
                <a:lnTo>
                  <a:pt x="621" y="194"/>
                </a:lnTo>
                <a:lnTo>
                  <a:pt x="633" y="194"/>
                </a:lnTo>
                <a:lnTo>
                  <a:pt x="644" y="194"/>
                </a:lnTo>
                <a:lnTo>
                  <a:pt x="651" y="194"/>
                </a:lnTo>
                <a:lnTo>
                  <a:pt x="657" y="195"/>
                </a:lnTo>
                <a:lnTo>
                  <a:pt x="662" y="203"/>
                </a:lnTo>
                <a:lnTo>
                  <a:pt x="662" y="220"/>
                </a:lnTo>
                <a:lnTo>
                  <a:pt x="655" y="237"/>
                </a:lnTo>
                <a:lnTo>
                  <a:pt x="645" y="244"/>
                </a:lnTo>
                <a:lnTo>
                  <a:pt x="637" y="244"/>
                </a:lnTo>
                <a:lnTo>
                  <a:pt x="628" y="244"/>
                </a:lnTo>
                <a:lnTo>
                  <a:pt x="617" y="242"/>
                </a:lnTo>
                <a:lnTo>
                  <a:pt x="605" y="242"/>
                </a:lnTo>
                <a:lnTo>
                  <a:pt x="593" y="242"/>
                </a:lnTo>
                <a:lnTo>
                  <a:pt x="581" y="241"/>
                </a:lnTo>
                <a:lnTo>
                  <a:pt x="571" y="241"/>
                </a:lnTo>
                <a:lnTo>
                  <a:pt x="562" y="241"/>
                </a:lnTo>
                <a:lnTo>
                  <a:pt x="560" y="241"/>
                </a:lnTo>
                <a:lnTo>
                  <a:pt x="558" y="241"/>
                </a:lnTo>
                <a:lnTo>
                  <a:pt x="557" y="241"/>
                </a:lnTo>
                <a:lnTo>
                  <a:pt x="555" y="241"/>
                </a:lnTo>
                <a:lnTo>
                  <a:pt x="555" y="368"/>
                </a:lnTo>
                <a:lnTo>
                  <a:pt x="556" y="368"/>
                </a:lnTo>
                <a:lnTo>
                  <a:pt x="557" y="368"/>
                </a:lnTo>
                <a:lnTo>
                  <a:pt x="557" y="368"/>
                </a:lnTo>
                <a:lnTo>
                  <a:pt x="558" y="368"/>
                </a:lnTo>
                <a:lnTo>
                  <a:pt x="580" y="369"/>
                </a:lnTo>
                <a:lnTo>
                  <a:pt x="600" y="373"/>
                </a:lnTo>
                <a:lnTo>
                  <a:pt x="619" y="379"/>
                </a:lnTo>
                <a:lnTo>
                  <a:pt x="638" y="387"/>
                </a:lnTo>
                <a:lnTo>
                  <a:pt x="656" y="399"/>
                </a:lnTo>
                <a:lnTo>
                  <a:pt x="673" y="411"/>
                </a:lnTo>
                <a:lnTo>
                  <a:pt x="688" y="425"/>
                </a:lnTo>
                <a:lnTo>
                  <a:pt x="703" y="442"/>
                </a:lnTo>
                <a:lnTo>
                  <a:pt x="717" y="460"/>
                </a:lnTo>
                <a:lnTo>
                  <a:pt x="728" y="479"/>
                </a:lnTo>
                <a:lnTo>
                  <a:pt x="738" y="500"/>
                </a:lnTo>
                <a:lnTo>
                  <a:pt x="747" y="523"/>
                </a:lnTo>
                <a:lnTo>
                  <a:pt x="754" y="545"/>
                </a:lnTo>
                <a:lnTo>
                  <a:pt x="758" y="570"/>
                </a:lnTo>
                <a:lnTo>
                  <a:pt x="761" y="594"/>
                </a:lnTo>
                <a:lnTo>
                  <a:pt x="763" y="620"/>
                </a:lnTo>
                <a:lnTo>
                  <a:pt x="761" y="647"/>
                </a:lnTo>
                <a:lnTo>
                  <a:pt x="758" y="670"/>
                </a:lnTo>
                <a:lnTo>
                  <a:pt x="754" y="695"/>
                </a:lnTo>
                <a:lnTo>
                  <a:pt x="747" y="718"/>
                </a:lnTo>
                <a:lnTo>
                  <a:pt x="738" y="740"/>
                </a:lnTo>
                <a:lnTo>
                  <a:pt x="728" y="761"/>
                </a:lnTo>
                <a:lnTo>
                  <a:pt x="717" y="780"/>
                </a:lnTo>
                <a:lnTo>
                  <a:pt x="703" y="798"/>
                </a:lnTo>
                <a:lnTo>
                  <a:pt x="688" y="815"/>
                </a:lnTo>
                <a:lnTo>
                  <a:pt x="673" y="829"/>
                </a:lnTo>
                <a:lnTo>
                  <a:pt x="656" y="842"/>
                </a:lnTo>
                <a:lnTo>
                  <a:pt x="638" y="853"/>
                </a:lnTo>
                <a:lnTo>
                  <a:pt x="619" y="861"/>
                </a:lnTo>
                <a:lnTo>
                  <a:pt x="600" y="867"/>
                </a:lnTo>
                <a:lnTo>
                  <a:pt x="580" y="871"/>
                </a:lnTo>
                <a:lnTo>
                  <a:pt x="558" y="872"/>
                </a:lnTo>
                <a:lnTo>
                  <a:pt x="557" y="872"/>
                </a:lnTo>
                <a:lnTo>
                  <a:pt x="557" y="872"/>
                </a:lnTo>
                <a:lnTo>
                  <a:pt x="556" y="872"/>
                </a:lnTo>
                <a:lnTo>
                  <a:pt x="555" y="872"/>
                </a:lnTo>
                <a:lnTo>
                  <a:pt x="555" y="981"/>
                </a:lnTo>
                <a:lnTo>
                  <a:pt x="558" y="981"/>
                </a:lnTo>
                <a:lnTo>
                  <a:pt x="560" y="981"/>
                </a:lnTo>
                <a:lnTo>
                  <a:pt x="562" y="981"/>
                </a:lnTo>
                <a:lnTo>
                  <a:pt x="562" y="981"/>
                </a:lnTo>
                <a:lnTo>
                  <a:pt x="564" y="981"/>
                </a:lnTo>
                <a:lnTo>
                  <a:pt x="573" y="981"/>
                </a:lnTo>
                <a:lnTo>
                  <a:pt x="585" y="981"/>
                </a:lnTo>
                <a:lnTo>
                  <a:pt x="602" y="981"/>
                </a:lnTo>
                <a:lnTo>
                  <a:pt x="622" y="981"/>
                </a:lnTo>
                <a:lnTo>
                  <a:pt x="645" y="981"/>
                </a:lnTo>
                <a:lnTo>
                  <a:pt x="671" y="981"/>
                </a:lnTo>
                <a:lnTo>
                  <a:pt x="697" y="981"/>
                </a:lnTo>
                <a:lnTo>
                  <a:pt x="726" y="981"/>
                </a:lnTo>
                <a:lnTo>
                  <a:pt x="754" y="981"/>
                </a:lnTo>
                <a:lnTo>
                  <a:pt x="783" y="981"/>
                </a:lnTo>
                <a:lnTo>
                  <a:pt x="811" y="981"/>
                </a:lnTo>
                <a:lnTo>
                  <a:pt x="838" y="981"/>
                </a:lnTo>
                <a:lnTo>
                  <a:pt x="863" y="981"/>
                </a:lnTo>
                <a:lnTo>
                  <a:pt x="885" y="981"/>
                </a:lnTo>
                <a:lnTo>
                  <a:pt x="905" y="981"/>
                </a:lnTo>
                <a:lnTo>
                  <a:pt x="937" y="980"/>
                </a:lnTo>
                <a:lnTo>
                  <a:pt x="961" y="977"/>
                </a:lnTo>
                <a:lnTo>
                  <a:pt x="983" y="970"/>
                </a:lnTo>
                <a:lnTo>
                  <a:pt x="997" y="957"/>
                </a:lnTo>
                <a:lnTo>
                  <a:pt x="1009" y="941"/>
                </a:lnTo>
                <a:lnTo>
                  <a:pt x="1013" y="916"/>
                </a:lnTo>
                <a:lnTo>
                  <a:pt x="1014" y="882"/>
                </a:lnTo>
                <a:lnTo>
                  <a:pt x="1011" y="840"/>
                </a:lnTo>
                <a:lnTo>
                  <a:pt x="1005" y="810"/>
                </a:lnTo>
                <a:lnTo>
                  <a:pt x="995" y="772"/>
                </a:lnTo>
                <a:lnTo>
                  <a:pt x="983" y="730"/>
                </a:lnTo>
                <a:lnTo>
                  <a:pt x="968" y="686"/>
                </a:lnTo>
                <a:lnTo>
                  <a:pt x="951" y="644"/>
                </a:lnTo>
                <a:lnTo>
                  <a:pt x="936" y="606"/>
                </a:lnTo>
                <a:lnTo>
                  <a:pt x="921" y="574"/>
                </a:lnTo>
                <a:lnTo>
                  <a:pt x="907" y="553"/>
                </a:lnTo>
                <a:lnTo>
                  <a:pt x="894" y="535"/>
                </a:lnTo>
                <a:lnTo>
                  <a:pt x="878" y="513"/>
                </a:lnTo>
                <a:lnTo>
                  <a:pt x="863" y="489"/>
                </a:lnTo>
                <a:lnTo>
                  <a:pt x="846" y="464"/>
                </a:lnTo>
                <a:lnTo>
                  <a:pt x="831" y="440"/>
                </a:lnTo>
                <a:lnTo>
                  <a:pt x="819" y="419"/>
                </a:lnTo>
                <a:lnTo>
                  <a:pt x="809" y="401"/>
                </a:lnTo>
                <a:lnTo>
                  <a:pt x="804" y="389"/>
                </a:lnTo>
                <a:lnTo>
                  <a:pt x="799" y="365"/>
                </a:lnTo>
                <a:lnTo>
                  <a:pt x="795" y="332"/>
                </a:lnTo>
                <a:lnTo>
                  <a:pt x="794" y="295"/>
                </a:lnTo>
                <a:lnTo>
                  <a:pt x="794" y="259"/>
                </a:lnTo>
                <a:lnTo>
                  <a:pt x="797" y="237"/>
                </a:lnTo>
                <a:lnTo>
                  <a:pt x="803" y="222"/>
                </a:lnTo>
                <a:lnTo>
                  <a:pt x="811" y="215"/>
                </a:lnTo>
                <a:lnTo>
                  <a:pt x="821" y="216"/>
                </a:lnTo>
                <a:lnTo>
                  <a:pt x="827" y="231"/>
                </a:lnTo>
                <a:lnTo>
                  <a:pt x="824" y="255"/>
                </a:lnTo>
                <a:lnTo>
                  <a:pt x="819" y="283"/>
                </a:lnTo>
                <a:lnTo>
                  <a:pt x="813" y="305"/>
                </a:lnTo>
                <a:lnTo>
                  <a:pt x="812" y="315"/>
                </a:lnTo>
                <a:lnTo>
                  <a:pt x="813" y="325"/>
                </a:lnTo>
                <a:lnTo>
                  <a:pt x="817" y="336"/>
                </a:lnTo>
                <a:lnTo>
                  <a:pt x="821" y="346"/>
                </a:lnTo>
                <a:lnTo>
                  <a:pt x="827" y="357"/>
                </a:lnTo>
                <a:lnTo>
                  <a:pt x="834" y="368"/>
                </a:lnTo>
                <a:lnTo>
                  <a:pt x="845" y="379"/>
                </a:lnTo>
                <a:lnTo>
                  <a:pt x="856" y="390"/>
                </a:lnTo>
                <a:lnTo>
                  <a:pt x="863" y="396"/>
                </a:lnTo>
                <a:lnTo>
                  <a:pt x="870" y="403"/>
                </a:lnTo>
                <a:lnTo>
                  <a:pt x="879" y="408"/>
                </a:lnTo>
                <a:lnTo>
                  <a:pt x="890" y="414"/>
                </a:lnTo>
                <a:lnTo>
                  <a:pt x="901" y="421"/>
                </a:lnTo>
                <a:lnTo>
                  <a:pt x="913" y="426"/>
                </a:lnTo>
                <a:lnTo>
                  <a:pt x="925" y="432"/>
                </a:lnTo>
                <a:lnTo>
                  <a:pt x="939" y="438"/>
                </a:lnTo>
                <a:lnTo>
                  <a:pt x="952" y="442"/>
                </a:lnTo>
                <a:lnTo>
                  <a:pt x="966" y="447"/>
                </a:lnTo>
                <a:lnTo>
                  <a:pt x="980" y="450"/>
                </a:lnTo>
                <a:lnTo>
                  <a:pt x="994" y="453"/>
                </a:lnTo>
                <a:lnTo>
                  <a:pt x="1009" y="456"/>
                </a:lnTo>
                <a:lnTo>
                  <a:pt x="1022" y="457"/>
                </a:lnTo>
                <a:lnTo>
                  <a:pt x="1036" y="457"/>
                </a:lnTo>
                <a:lnTo>
                  <a:pt x="1048" y="456"/>
                </a:lnTo>
                <a:lnTo>
                  <a:pt x="1064" y="453"/>
                </a:lnTo>
                <a:lnTo>
                  <a:pt x="1078" y="447"/>
                </a:lnTo>
                <a:lnTo>
                  <a:pt x="1091" y="442"/>
                </a:lnTo>
                <a:lnTo>
                  <a:pt x="1102" y="432"/>
                </a:lnTo>
                <a:lnTo>
                  <a:pt x="1110" y="421"/>
                </a:lnTo>
                <a:lnTo>
                  <a:pt x="1116" y="405"/>
                </a:lnTo>
                <a:lnTo>
                  <a:pt x="1121" y="386"/>
                </a:lnTo>
                <a:lnTo>
                  <a:pt x="1122" y="364"/>
                </a:lnTo>
                <a:lnTo>
                  <a:pt x="1121" y="336"/>
                </a:lnTo>
                <a:lnTo>
                  <a:pt x="1118" y="304"/>
                </a:lnTo>
                <a:lnTo>
                  <a:pt x="1111" y="269"/>
                </a:lnTo>
                <a:lnTo>
                  <a:pt x="1100" y="233"/>
                </a:lnTo>
                <a:lnTo>
                  <a:pt x="1082" y="196"/>
                </a:lnTo>
                <a:lnTo>
                  <a:pt x="1058" y="160"/>
                </a:lnTo>
                <a:lnTo>
                  <a:pt x="1027" y="127"/>
                </a:lnTo>
                <a:lnTo>
                  <a:pt x="986" y="9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E35A-8905-4311-950A-982F10089030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0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Layering: physical communication 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grpSp>
        <p:nvGrpSpPr>
          <p:cNvPr id="2161" name=""/>
          <p:cNvGrpSpPr/>
          <p:nvPr/>
        </p:nvGrpSpPr>
        <p:grpSpPr>
          <a:xfrm>
            <a:off x="1731960" y="1670040"/>
            <a:ext cx="5981760" cy="4497480"/>
            <a:chOff x="1731960" y="1670040"/>
            <a:chExt cx="5981760" cy="4497480"/>
          </a:xfrm>
        </p:grpSpPr>
        <p:sp>
          <p:nvSpPr>
            <p:cNvPr id="2162" name=""/>
            <p:cNvSpPr/>
            <p:nvPr/>
          </p:nvSpPr>
          <p:spPr>
            <a:xfrm>
              <a:off x="1731960" y="1670040"/>
              <a:ext cx="5981760" cy="4497480"/>
            </a:xfrm>
            <a:custGeom>
              <a:avLst/>
              <a:gdLst/>
              <a:ahLst/>
              <a:rect l="l" t="t" r="r" b="b"/>
              <a:pathLst>
                <a:path w="1340" h="1191">
                  <a:moveTo>
                    <a:pt x="550" y="42"/>
                  </a:moveTo>
                  <a:cubicBezTo>
                    <a:pt x="437" y="4"/>
                    <a:pt x="164" y="0"/>
                    <a:pt x="82" y="60"/>
                  </a:cubicBezTo>
                  <a:cubicBezTo>
                    <a:pt x="0" y="120"/>
                    <a:pt x="67" y="292"/>
                    <a:pt x="58" y="402"/>
                  </a:cubicBezTo>
                  <a:cubicBezTo>
                    <a:pt x="49" y="512"/>
                    <a:pt x="19" y="642"/>
                    <a:pt x="28" y="720"/>
                  </a:cubicBezTo>
                  <a:cubicBezTo>
                    <a:pt x="37" y="798"/>
                    <a:pt x="27" y="844"/>
                    <a:pt x="112" y="870"/>
                  </a:cubicBezTo>
                  <a:cubicBezTo>
                    <a:pt x="197" y="896"/>
                    <a:pt x="450" y="833"/>
                    <a:pt x="538" y="876"/>
                  </a:cubicBezTo>
                  <a:cubicBezTo>
                    <a:pt x="626" y="919"/>
                    <a:pt x="524" y="1091"/>
                    <a:pt x="640" y="1128"/>
                  </a:cubicBezTo>
                  <a:cubicBezTo>
                    <a:pt x="756" y="1165"/>
                    <a:pt x="1128" y="1191"/>
                    <a:pt x="1234" y="1098"/>
                  </a:cubicBezTo>
                  <a:cubicBezTo>
                    <a:pt x="1340" y="1005"/>
                    <a:pt x="1281" y="696"/>
                    <a:pt x="1276" y="570"/>
                  </a:cubicBezTo>
                  <a:cubicBezTo>
                    <a:pt x="1271" y="444"/>
                    <a:pt x="1290" y="389"/>
                    <a:pt x="1204" y="342"/>
                  </a:cubicBezTo>
                  <a:cubicBezTo>
                    <a:pt x="1118" y="295"/>
                    <a:pt x="868" y="338"/>
                    <a:pt x="760" y="288"/>
                  </a:cubicBezTo>
                  <a:cubicBezTo>
                    <a:pt x="652" y="238"/>
                    <a:pt x="663" y="80"/>
                    <a:pt x="550" y="42"/>
                  </a:cubicBez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63" name=""/>
            <p:cNvGrpSpPr/>
            <p:nvPr/>
          </p:nvGrpSpPr>
          <p:grpSpPr>
            <a:xfrm>
              <a:off x="2093760" y="2023920"/>
              <a:ext cx="2348640" cy="901080"/>
              <a:chOff x="2093760" y="2023920"/>
              <a:chExt cx="2348640" cy="901080"/>
            </a:xfrm>
          </p:grpSpPr>
          <p:pic>
            <p:nvPicPr>
              <p:cNvPr id="216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093760" y="2023920"/>
                <a:ext cx="1333080" cy="901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6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547080" y="2357640"/>
                <a:ext cx="895320" cy="52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66" name=""/>
              <p:cNvSpPr/>
              <p:nvPr/>
            </p:nvSpPr>
            <p:spPr>
              <a:xfrm flipV="1">
                <a:off x="3395520" y="2707200"/>
                <a:ext cx="365760" cy="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7" name=""/>
            <p:cNvGrpSpPr/>
            <p:nvPr/>
          </p:nvGrpSpPr>
          <p:grpSpPr>
            <a:xfrm>
              <a:off x="2093760" y="3708360"/>
              <a:ext cx="2348640" cy="902520"/>
              <a:chOff x="2093760" y="3708360"/>
              <a:chExt cx="2348640" cy="902520"/>
            </a:xfrm>
          </p:grpSpPr>
          <p:pic>
            <p:nvPicPr>
              <p:cNvPr id="216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093760" y="3708360"/>
                <a:ext cx="1333080" cy="902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6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547080" y="4042800"/>
                <a:ext cx="895320" cy="52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70" name=""/>
              <p:cNvSpPr/>
              <p:nvPr/>
            </p:nvSpPr>
            <p:spPr>
              <a:xfrm flipV="1">
                <a:off x="3395520" y="4393080"/>
                <a:ext cx="365760" cy="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1" name=""/>
            <p:cNvGrpSpPr/>
            <p:nvPr/>
          </p:nvGrpSpPr>
          <p:grpSpPr>
            <a:xfrm>
              <a:off x="3805200" y="3078000"/>
              <a:ext cx="165600" cy="605520"/>
              <a:chOff x="3805200" y="3078000"/>
              <a:chExt cx="165600" cy="605520"/>
            </a:xfrm>
          </p:grpSpPr>
          <p:sp>
            <p:nvSpPr>
              <p:cNvPr id="2172" name=""/>
              <p:cNvSpPr/>
              <p:nvPr/>
            </p:nvSpPr>
            <p:spPr>
              <a:xfrm>
                <a:off x="3805200" y="3078000"/>
                <a:ext cx="152640" cy="1710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3811680" y="3295800"/>
                <a:ext cx="152640" cy="16992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3818160" y="3513600"/>
                <a:ext cx="152640" cy="16992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5" name=""/>
            <p:cNvGrpSpPr/>
            <p:nvPr/>
          </p:nvGrpSpPr>
          <p:grpSpPr>
            <a:xfrm>
              <a:off x="4805280" y="4530600"/>
              <a:ext cx="671040" cy="1118520"/>
              <a:chOff x="4805280" y="4530600"/>
              <a:chExt cx="671040" cy="1118520"/>
            </a:xfrm>
          </p:grpSpPr>
          <p:sp>
            <p:nvSpPr>
              <p:cNvPr id="2176" name=""/>
              <p:cNvSpPr/>
              <p:nvPr/>
            </p:nvSpPr>
            <p:spPr>
              <a:xfrm>
                <a:off x="4805280" y="5390640"/>
                <a:ext cx="671040" cy="258480"/>
              </a:xfrm>
              <a:prstGeom prst="parallelogram">
                <a:avLst>
                  <a:gd name="adj" fmla="val 100010"/>
                </a:avLst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5145120" y="4537800"/>
                <a:ext cx="308520" cy="85932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4809240" y="4781520"/>
                <a:ext cx="425160" cy="860040"/>
              </a:xfrm>
              <a:prstGeom prst="rect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4805280" y="4530600"/>
                <a:ext cx="671040" cy="258480"/>
              </a:xfrm>
              <a:prstGeom prst="parallelogram">
                <a:avLst>
                  <a:gd name="adj" fmla="val 100010"/>
                </a:avLst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5476320" y="4548600"/>
                <a:ext cx="0" cy="84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 flipH="1">
                <a:off x="5234040" y="5390640"/>
                <a:ext cx="241560" cy="25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4862880" y="4894920"/>
                <a:ext cx="282240" cy="495720"/>
              </a:xfrm>
              <a:prstGeom prst="rect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4903560" y="5044320"/>
                <a:ext cx="214200" cy="17424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4" name=""/>
            <p:cNvGrpSpPr/>
            <p:nvPr/>
          </p:nvGrpSpPr>
          <p:grpSpPr>
            <a:xfrm>
              <a:off x="5562720" y="4966560"/>
              <a:ext cx="746640" cy="228960"/>
              <a:chOff x="5562720" y="4966560"/>
              <a:chExt cx="746640" cy="228960"/>
            </a:xfrm>
          </p:grpSpPr>
          <p:sp>
            <p:nvSpPr>
              <p:cNvPr id="2185" name=""/>
              <p:cNvSpPr/>
              <p:nvPr/>
            </p:nvSpPr>
            <p:spPr>
              <a:xfrm rot="16200000">
                <a:off x="5562360" y="4984560"/>
                <a:ext cx="210960" cy="2106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 rot="16200000">
                <a:off x="5830560" y="4976280"/>
                <a:ext cx="210960" cy="20952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 rot="16200000">
                <a:off x="6099120" y="4967280"/>
                <a:ext cx="210960" cy="20952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88" name=""/>
            <p:cNvSpPr/>
            <p:nvPr/>
          </p:nvSpPr>
          <p:spPr>
            <a:xfrm>
              <a:off x="5241960" y="4270320"/>
              <a:ext cx="15876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5253120" y="4260960"/>
              <a:ext cx="4680" cy="26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6840360" y="4255920"/>
              <a:ext cx="5040" cy="233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4281480" y="2741760"/>
              <a:ext cx="925560" cy="75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 flipV="1">
              <a:off x="4321080" y="3551400"/>
              <a:ext cx="885960" cy="93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 flipV="1">
              <a:off x="6010200" y="3793680"/>
              <a:ext cx="4680" cy="46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94" name=""/>
            <p:cNvGrpSpPr/>
            <p:nvPr/>
          </p:nvGrpSpPr>
          <p:grpSpPr>
            <a:xfrm>
              <a:off x="6423120" y="4494240"/>
              <a:ext cx="670680" cy="1118520"/>
              <a:chOff x="6423120" y="4494240"/>
              <a:chExt cx="670680" cy="1118520"/>
            </a:xfrm>
          </p:grpSpPr>
          <p:sp>
            <p:nvSpPr>
              <p:cNvPr id="2195" name=""/>
              <p:cNvSpPr/>
              <p:nvPr/>
            </p:nvSpPr>
            <p:spPr>
              <a:xfrm>
                <a:off x="6423120" y="5354280"/>
                <a:ext cx="670680" cy="258480"/>
              </a:xfrm>
              <a:prstGeom prst="parallelogram">
                <a:avLst>
                  <a:gd name="adj" fmla="val 99956"/>
                </a:avLst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6762960" y="4501440"/>
                <a:ext cx="308160" cy="85932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6427080" y="4745160"/>
                <a:ext cx="425160" cy="860040"/>
              </a:xfrm>
              <a:prstGeom prst="rect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6423120" y="4494240"/>
                <a:ext cx="670680" cy="258480"/>
              </a:xfrm>
              <a:prstGeom prst="parallelogram">
                <a:avLst>
                  <a:gd name="adj" fmla="val 99956"/>
                </a:avLst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7093800" y="4512240"/>
                <a:ext cx="0" cy="84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 flipH="1">
                <a:off x="6852240" y="5354280"/>
                <a:ext cx="241200" cy="25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6480720" y="4858560"/>
                <a:ext cx="281880" cy="495720"/>
              </a:xfrm>
              <a:prstGeom prst="rect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6521400" y="5007960"/>
                <a:ext cx="213840" cy="17424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3" name=""/>
            <p:cNvGrpSpPr/>
            <p:nvPr/>
          </p:nvGrpSpPr>
          <p:grpSpPr>
            <a:xfrm>
              <a:off x="5160960" y="3160800"/>
              <a:ext cx="1607400" cy="659160"/>
              <a:chOff x="5160960" y="3160800"/>
              <a:chExt cx="1607400" cy="659160"/>
            </a:xfrm>
          </p:grpSpPr>
          <p:sp>
            <p:nvSpPr>
              <p:cNvPr id="2204" name=""/>
              <p:cNvSpPr/>
              <p:nvPr/>
            </p:nvSpPr>
            <p:spPr>
              <a:xfrm>
                <a:off x="5173920" y="3454920"/>
                <a:ext cx="1594080" cy="36504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5173920" y="3424320"/>
                <a:ext cx="0" cy="22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6768360" y="3424320"/>
                <a:ext cx="0" cy="22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5173920" y="3424320"/>
                <a:ext cx="1580040" cy="2232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5160960" y="3160800"/>
                <a:ext cx="1593000" cy="42588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09" name=""/>
              <p:cNvGrpSpPr/>
              <p:nvPr/>
            </p:nvGrpSpPr>
            <p:grpSpPr>
              <a:xfrm>
                <a:off x="5544360" y="3254760"/>
                <a:ext cx="789120" cy="248400"/>
                <a:chOff x="5544360" y="3254760"/>
                <a:chExt cx="789120" cy="248400"/>
              </a:xfrm>
            </p:grpSpPr>
            <p:sp>
              <p:nvSpPr>
                <p:cNvPr id="2210" name=""/>
                <p:cNvSpPr/>
                <p:nvPr/>
              </p:nvSpPr>
              <p:spPr>
                <a:xfrm flipV="1">
                  <a:off x="5544360" y="3254760"/>
                  <a:ext cx="281520" cy="5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1" name=""/>
                <p:cNvSpPr/>
                <p:nvPr/>
              </p:nvSpPr>
              <p:spPr>
                <a:xfrm>
                  <a:off x="6085440" y="3503160"/>
                  <a:ext cx="248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2" name=""/>
                <p:cNvSpPr/>
                <p:nvPr/>
              </p:nvSpPr>
              <p:spPr>
                <a:xfrm>
                  <a:off x="5803920" y="3259800"/>
                  <a:ext cx="293040" cy="243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3" name=""/>
              <p:cNvGrpSpPr/>
              <p:nvPr/>
            </p:nvGrpSpPr>
            <p:grpSpPr>
              <a:xfrm>
                <a:off x="5544360" y="3251160"/>
                <a:ext cx="789120" cy="248400"/>
                <a:chOff x="5544360" y="3251160"/>
                <a:chExt cx="789120" cy="248400"/>
              </a:xfrm>
            </p:grpSpPr>
            <p:sp>
              <p:nvSpPr>
                <p:cNvPr id="2214" name=""/>
                <p:cNvSpPr/>
                <p:nvPr/>
              </p:nvSpPr>
              <p:spPr>
                <a:xfrm>
                  <a:off x="5544360" y="3494520"/>
                  <a:ext cx="281520" cy="5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5" name=""/>
                <p:cNvSpPr/>
                <p:nvPr/>
              </p:nvSpPr>
              <p:spPr>
                <a:xfrm>
                  <a:off x="6085440" y="3251160"/>
                  <a:ext cx="248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6" name=""/>
                <p:cNvSpPr/>
                <p:nvPr/>
              </p:nvSpPr>
              <p:spPr>
                <a:xfrm flipV="1">
                  <a:off x="5803920" y="3251160"/>
                  <a:ext cx="293040" cy="243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217" name=""/>
          <p:cNvGrpSpPr/>
          <p:nvPr/>
        </p:nvGrpSpPr>
        <p:grpSpPr>
          <a:xfrm>
            <a:off x="2136600" y="1427040"/>
            <a:ext cx="1324080" cy="1495440"/>
            <a:chOff x="2136600" y="1427040"/>
            <a:chExt cx="1324080" cy="1495440"/>
          </a:xfrm>
        </p:grpSpPr>
        <p:sp>
          <p:nvSpPr>
            <p:cNvPr id="2218" name=""/>
            <p:cNvSpPr/>
            <p:nvPr/>
          </p:nvSpPr>
          <p:spPr>
            <a:xfrm>
              <a:off x="2193840" y="1427040"/>
              <a:ext cx="1266840" cy="14335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2146320" y="1488960"/>
              <a:ext cx="1266840" cy="14335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2158200" y="1503360"/>
              <a:ext cx="123228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transpo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lin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 flipV="1">
              <a:off x="2141640" y="1807560"/>
              <a:ext cx="125244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 flipV="1">
              <a:off x="2160720" y="2093400"/>
              <a:ext cx="125244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 flipV="1">
              <a:off x="2160720" y="2350800"/>
              <a:ext cx="1252440" cy="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 flipV="1">
              <a:off x="2136600" y="2631600"/>
              <a:ext cx="125280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5" name=""/>
          <p:cNvGrpSpPr/>
          <p:nvPr/>
        </p:nvGrpSpPr>
        <p:grpSpPr>
          <a:xfrm>
            <a:off x="2058840" y="3154320"/>
            <a:ext cx="1324080" cy="1495440"/>
            <a:chOff x="2058840" y="3154320"/>
            <a:chExt cx="1324080" cy="1495440"/>
          </a:xfrm>
        </p:grpSpPr>
        <p:sp>
          <p:nvSpPr>
            <p:cNvPr id="2226" name=""/>
            <p:cNvSpPr/>
            <p:nvPr/>
          </p:nvSpPr>
          <p:spPr>
            <a:xfrm>
              <a:off x="2116080" y="3154320"/>
              <a:ext cx="1266840" cy="14335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2068560" y="3216240"/>
              <a:ext cx="1266840" cy="14335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2080440" y="3230640"/>
              <a:ext cx="123228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transpo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lin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 flipV="1">
              <a:off x="2063880" y="3534840"/>
              <a:ext cx="125244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 flipV="1">
              <a:off x="2082960" y="3820680"/>
              <a:ext cx="125244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 flipV="1">
              <a:off x="2082960" y="4078080"/>
              <a:ext cx="1252440" cy="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 flipV="1">
              <a:off x="2058840" y="4358880"/>
              <a:ext cx="125280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3" name=""/>
          <p:cNvGrpSpPr/>
          <p:nvPr/>
        </p:nvGrpSpPr>
        <p:grpSpPr>
          <a:xfrm>
            <a:off x="4476600" y="4417920"/>
            <a:ext cx="1324080" cy="1495440"/>
            <a:chOff x="4476600" y="4417920"/>
            <a:chExt cx="1324080" cy="1495440"/>
          </a:xfrm>
        </p:grpSpPr>
        <p:sp>
          <p:nvSpPr>
            <p:cNvPr id="2234" name=""/>
            <p:cNvSpPr/>
            <p:nvPr/>
          </p:nvSpPr>
          <p:spPr>
            <a:xfrm>
              <a:off x="4533840" y="4417920"/>
              <a:ext cx="1266840" cy="14335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4486320" y="4479840"/>
              <a:ext cx="1266840" cy="14335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4498200" y="4494240"/>
              <a:ext cx="123228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transpo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lin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 flipV="1">
              <a:off x="4481640" y="4798440"/>
              <a:ext cx="125244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 flipV="1">
              <a:off x="4500720" y="5084280"/>
              <a:ext cx="125244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 flipV="1">
              <a:off x="4500720" y="5341680"/>
              <a:ext cx="1252440" cy="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 flipV="1">
              <a:off x="4476600" y="5622480"/>
              <a:ext cx="125280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1" name=""/>
          <p:cNvGrpSpPr/>
          <p:nvPr/>
        </p:nvGrpSpPr>
        <p:grpSpPr>
          <a:xfrm>
            <a:off x="6259680" y="4411800"/>
            <a:ext cx="1323360" cy="1495440"/>
            <a:chOff x="6259680" y="4411800"/>
            <a:chExt cx="1323360" cy="1495440"/>
          </a:xfrm>
        </p:grpSpPr>
        <p:sp>
          <p:nvSpPr>
            <p:cNvPr id="2242" name=""/>
            <p:cNvSpPr/>
            <p:nvPr/>
          </p:nvSpPr>
          <p:spPr>
            <a:xfrm>
              <a:off x="6316560" y="4411800"/>
              <a:ext cx="1266480" cy="14335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6269040" y="4473720"/>
              <a:ext cx="1266480" cy="14335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6280560" y="4488120"/>
              <a:ext cx="123228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transpo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lin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 flipV="1">
              <a:off x="6264360" y="4792320"/>
              <a:ext cx="125208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 flipV="1">
              <a:off x="6283440" y="5078160"/>
              <a:ext cx="125208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 flipV="1">
              <a:off x="6283440" y="5335560"/>
              <a:ext cx="1252080" cy="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 flipV="1">
              <a:off x="6259680" y="5616360"/>
              <a:ext cx="125244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9" name=""/>
          <p:cNvGrpSpPr/>
          <p:nvPr/>
        </p:nvGrpSpPr>
        <p:grpSpPr>
          <a:xfrm>
            <a:off x="5288040" y="2884320"/>
            <a:ext cx="1320840" cy="955800"/>
            <a:chOff x="5288040" y="2884320"/>
            <a:chExt cx="1320840" cy="955800"/>
          </a:xfrm>
        </p:grpSpPr>
        <p:sp>
          <p:nvSpPr>
            <p:cNvPr id="2250" name=""/>
            <p:cNvSpPr/>
            <p:nvPr/>
          </p:nvSpPr>
          <p:spPr>
            <a:xfrm>
              <a:off x="5342040" y="2884320"/>
              <a:ext cx="1266840" cy="9255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5288040" y="2946240"/>
              <a:ext cx="1266840" cy="893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5438880" y="2960640"/>
              <a:ext cx="966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lin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 flipV="1">
              <a:off x="5289480" y="3265200"/>
              <a:ext cx="1252800" cy="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 flipV="1">
              <a:off x="5308560" y="3550680"/>
              <a:ext cx="125280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5" name=""/>
          <p:cNvSpPr/>
          <p:nvPr/>
        </p:nvSpPr>
        <p:spPr>
          <a:xfrm>
            <a:off x="2940120" y="1638360"/>
            <a:ext cx="6120" cy="1028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"/>
          <p:cNvSpPr/>
          <p:nvPr/>
        </p:nvSpPr>
        <p:spPr>
          <a:xfrm>
            <a:off x="6165720" y="3048120"/>
            <a:ext cx="6480" cy="2730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 flipV="1">
            <a:off x="5549760" y="3015720"/>
            <a:ext cx="0" cy="615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5543640" y="3035160"/>
            <a:ext cx="625320" cy="3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6165720" y="5765760"/>
            <a:ext cx="787680" cy="9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 flipV="1">
            <a:off x="6953400" y="4606920"/>
            <a:ext cx="12600" cy="1168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 flipV="1">
            <a:off x="2971800" y="2682720"/>
            <a:ext cx="1403280" cy="28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4346640" y="2698920"/>
            <a:ext cx="1212840" cy="9651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3" name=""/>
          <p:cNvGrpSpPr/>
          <p:nvPr/>
        </p:nvGrpSpPr>
        <p:grpSpPr>
          <a:xfrm>
            <a:off x="6661080" y="4178160"/>
            <a:ext cx="704880" cy="384120"/>
            <a:chOff x="6661080" y="4178160"/>
            <a:chExt cx="704880" cy="384120"/>
          </a:xfrm>
        </p:grpSpPr>
        <p:sp>
          <p:nvSpPr>
            <p:cNvPr id="2264" name=""/>
            <p:cNvSpPr/>
            <p:nvPr/>
          </p:nvSpPr>
          <p:spPr>
            <a:xfrm>
              <a:off x="6661080" y="4178160"/>
              <a:ext cx="704880" cy="380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6683760" y="4194000"/>
              <a:ext cx="65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6" name=""/>
          <p:cNvGrpSpPr/>
          <p:nvPr/>
        </p:nvGrpSpPr>
        <p:grpSpPr>
          <a:xfrm>
            <a:off x="2610000" y="1257480"/>
            <a:ext cx="704880" cy="384120"/>
            <a:chOff x="2610000" y="1257480"/>
            <a:chExt cx="704880" cy="384120"/>
          </a:xfrm>
        </p:grpSpPr>
        <p:sp>
          <p:nvSpPr>
            <p:cNvPr id="2267" name=""/>
            <p:cNvSpPr/>
            <p:nvPr/>
          </p:nvSpPr>
          <p:spPr>
            <a:xfrm>
              <a:off x="2610000" y="1257480"/>
              <a:ext cx="704880" cy="380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2632680" y="1273320"/>
              <a:ext cx="65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8FA7-4A21-4F3E-8246-AD9C07368FB3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2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1" dur="500"/>
                                        <p:tgtEl>
                                          <p:spTgt spid="2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500"/>
                            </p:stCondLst>
                            <p:childTnLst>
                              <p:par>
                                <p:cTn id="12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4000"/>
                            </p:stCondLst>
                            <p:childTnLst>
                              <p:par>
                                <p:cTn id="13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450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2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9" name="PlaceHolder 1"/>
          <p:cNvSpPr>
            <a:spLocks noGrp="1"/>
          </p:cNvSpPr>
          <p:nvPr>
            <p:ph type="title"/>
          </p:nvPr>
        </p:nvSpPr>
        <p:spPr>
          <a:xfrm>
            <a:off x="54612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Protocol layering and data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270" name="PlaceHolder 2"/>
          <p:cNvSpPr>
            <a:spLocks noGrp="1"/>
          </p:cNvSpPr>
          <p:nvPr>
            <p:ph/>
          </p:nvPr>
        </p:nvSpPr>
        <p:spPr>
          <a:xfrm>
            <a:off x="695160" y="1530000"/>
            <a:ext cx="77724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layer takes data from abov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ds header information to create new data uni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sses new data unit to layer belo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71" name=""/>
          <p:cNvGrpSpPr/>
          <p:nvPr/>
        </p:nvGrpSpPr>
        <p:grpSpPr>
          <a:xfrm>
            <a:off x="1892160" y="3618000"/>
            <a:ext cx="1732680" cy="2009160"/>
            <a:chOff x="1892160" y="3618000"/>
            <a:chExt cx="1732680" cy="2009160"/>
          </a:xfrm>
        </p:grpSpPr>
        <p:grpSp>
          <p:nvGrpSpPr>
            <p:cNvPr id="2272" name=""/>
            <p:cNvGrpSpPr/>
            <p:nvPr/>
          </p:nvGrpSpPr>
          <p:grpSpPr>
            <a:xfrm>
              <a:off x="1892160" y="3618000"/>
              <a:ext cx="1732680" cy="2009160"/>
              <a:chOff x="1892160" y="3618000"/>
              <a:chExt cx="1732680" cy="2009160"/>
            </a:xfrm>
          </p:grpSpPr>
          <p:sp>
            <p:nvSpPr>
              <p:cNvPr id="2273" name=""/>
              <p:cNvSpPr/>
              <p:nvPr/>
            </p:nvSpPr>
            <p:spPr>
              <a:xfrm>
                <a:off x="1966320" y="3618000"/>
                <a:ext cx="1658520" cy="192600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1904400" y="3701160"/>
                <a:ext cx="1658520" cy="19260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 flipV="1">
                <a:off x="1898280" y="4129560"/>
                <a:ext cx="1639800" cy="6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 flipV="1">
                <a:off x="1923120" y="4513680"/>
                <a:ext cx="1639800" cy="6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 flipV="1">
                <a:off x="1923120" y="4859280"/>
                <a:ext cx="1639800" cy="6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 flipV="1">
                <a:off x="1892160" y="5236920"/>
                <a:ext cx="1639800" cy="6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79" name=""/>
            <p:cNvSpPr/>
            <p:nvPr/>
          </p:nvSpPr>
          <p:spPr>
            <a:xfrm>
              <a:off x="1977840" y="3774960"/>
              <a:ext cx="150192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ppl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transpo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li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0" name=""/>
          <p:cNvGrpSpPr/>
          <p:nvPr/>
        </p:nvGrpSpPr>
        <p:grpSpPr>
          <a:xfrm>
            <a:off x="4267080" y="3598920"/>
            <a:ext cx="1732680" cy="2009160"/>
            <a:chOff x="4267080" y="3598920"/>
            <a:chExt cx="1732680" cy="2009160"/>
          </a:xfrm>
        </p:grpSpPr>
        <p:grpSp>
          <p:nvGrpSpPr>
            <p:cNvPr id="2281" name=""/>
            <p:cNvGrpSpPr/>
            <p:nvPr/>
          </p:nvGrpSpPr>
          <p:grpSpPr>
            <a:xfrm>
              <a:off x="4267080" y="3598920"/>
              <a:ext cx="1732680" cy="2009160"/>
              <a:chOff x="4267080" y="3598920"/>
              <a:chExt cx="1732680" cy="2009160"/>
            </a:xfrm>
          </p:grpSpPr>
          <p:sp>
            <p:nvSpPr>
              <p:cNvPr id="2282" name=""/>
              <p:cNvSpPr/>
              <p:nvPr/>
            </p:nvSpPr>
            <p:spPr>
              <a:xfrm>
                <a:off x="4341240" y="3598920"/>
                <a:ext cx="1658520" cy="192600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4279320" y="3682080"/>
                <a:ext cx="1658520" cy="19260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 flipV="1">
                <a:off x="4273200" y="4110480"/>
                <a:ext cx="1639800" cy="6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 flipV="1">
                <a:off x="4298040" y="4494600"/>
                <a:ext cx="1639800" cy="6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 flipV="1">
                <a:off x="4298040" y="4840200"/>
                <a:ext cx="1639800" cy="6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 flipV="1">
                <a:off x="4267080" y="5217840"/>
                <a:ext cx="1639800" cy="6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8" name=""/>
            <p:cNvSpPr/>
            <p:nvPr/>
          </p:nvSpPr>
          <p:spPr>
            <a:xfrm>
              <a:off x="4352760" y="3755880"/>
              <a:ext cx="150192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ppl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transpo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li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9" name=""/>
          <p:cNvSpPr/>
          <p:nvPr/>
        </p:nvSpPr>
        <p:spPr>
          <a:xfrm>
            <a:off x="2200680" y="308448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4257360" y="3141720"/>
            <a:ext cx="179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1076400" y="3181320"/>
            <a:ext cx="5848200" cy="2828880"/>
          </a:xfrm>
          <a:custGeom>
            <a:avLst/>
            <a:gdLst/>
            <a:ahLst/>
            <a:rect l="l" t="t" r="r" b="b"/>
            <a:pathLst>
              <a:path w="4572" h="1752">
                <a:moveTo>
                  <a:pt x="0" y="264"/>
                </a:moveTo>
                <a:lnTo>
                  <a:pt x="0" y="1752"/>
                </a:lnTo>
                <a:lnTo>
                  <a:pt x="4572" y="1746"/>
                </a:lnTo>
                <a:lnTo>
                  <a:pt x="4572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2" name=""/>
          <p:cNvGrpSpPr/>
          <p:nvPr/>
        </p:nvGrpSpPr>
        <p:grpSpPr>
          <a:xfrm>
            <a:off x="165240" y="3753000"/>
            <a:ext cx="1667880" cy="1553040"/>
            <a:chOff x="165240" y="3753000"/>
            <a:chExt cx="1667880" cy="1553040"/>
          </a:xfrm>
        </p:grpSpPr>
        <p:sp>
          <p:nvSpPr>
            <p:cNvPr id="2293" name=""/>
            <p:cNvSpPr/>
            <p:nvPr/>
          </p:nvSpPr>
          <p:spPr>
            <a:xfrm>
              <a:off x="1215720" y="3753000"/>
              <a:ext cx="599760" cy="314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1215720" y="4162320"/>
              <a:ext cx="599760" cy="314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1233360" y="4546800"/>
              <a:ext cx="599760" cy="314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1233360" y="4927680"/>
              <a:ext cx="599760" cy="314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97" name=""/>
            <p:cNvGrpSpPr/>
            <p:nvPr/>
          </p:nvGrpSpPr>
          <p:grpSpPr>
            <a:xfrm>
              <a:off x="804600" y="4133880"/>
              <a:ext cx="486720" cy="407160"/>
              <a:chOff x="804600" y="4133880"/>
              <a:chExt cx="486720" cy="407160"/>
            </a:xfrm>
          </p:grpSpPr>
          <p:sp>
            <p:nvSpPr>
              <p:cNvPr id="2298" name=""/>
              <p:cNvSpPr/>
              <p:nvPr/>
            </p:nvSpPr>
            <p:spPr>
              <a:xfrm>
                <a:off x="880560" y="4162680"/>
                <a:ext cx="329760" cy="3142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804600" y="4133880"/>
                <a:ext cx="312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994680" y="420372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1" name=""/>
            <p:cNvGrpSpPr/>
            <p:nvPr/>
          </p:nvGrpSpPr>
          <p:grpSpPr>
            <a:xfrm>
              <a:off x="825480" y="4518000"/>
              <a:ext cx="486360" cy="407160"/>
              <a:chOff x="825480" y="4518000"/>
              <a:chExt cx="486360" cy="407160"/>
            </a:xfrm>
          </p:grpSpPr>
          <p:sp>
            <p:nvSpPr>
              <p:cNvPr id="2302" name=""/>
              <p:cNvSpPr/>
              <p:nvPr/>
            </p:nvSpPr>
            <p:spPr>
              <a:xfrm>
                <a:off x="901440" y="4546800"/>
                <a:ext cx="329400" cy="3142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825480" y="4518000"/>
                <a:ext cx="312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1015560" y="4587840"/>
                <a:ext cx="296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5" name=""/>
            <p:cNvGrpSpPr/>
            <p:nvPr/>
          </p:nvGrpSpPr>
          <p:grpSpPr>
            <a:xfrm>
              <a:off x="498240" y="4518000"/>
              <a:ext cx="486720" cy="407160"/>
              <a:chOff x="498240" y="4518000"/>
              <a:chExt cx="486720" cy="407160"/>
            </a:xfrm>
          </p:grpSpPr>
          <p:sp>
            <p:nvSpPr>
              <p:cNvPr id="2306" name=""/>
              <p:cNvSpPr/>
              <p:nvPr/>
            </p:nvSpPr>
            <p:spPr>
              <a:xfrm>
                <a:off x="574200" y="4546800"/>
                <a:ext cx="329760" cy="3142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498240" y="4518000"/>
                <a:ext cx="312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688320" y="45878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9" name=""/>
            <p:cNvGrpSpPr/>
            <p:nvPr/>
          </p:nvGrpSpPr>
          <p:grpSpPr>
            <a:xfrm>
              <a:off x="498240" y="4897440"/>
              <a:ext cx="813240" cy="407160"/>
              <a:chOff x="498240" y="4897440"/>
              <a:chExt cx="813240" cy="407160"/>
            </a:xfrm>
          </p:grpSpPr>
          <p:grpSp>
            <p:nvGrpSpPr>
              <p:cNvPr id="2310" name=""/>
              <p:cNvGrpSpPr/>
              <p:nvPr/>
            </p:nvGrpSpPr>
            <p:grpSpPr>
              <a:xfrm>
                <a:off x="825120" y="4897440"/>
                <a:ext cx="486360" cy="407160"/>
                <a:chOff x="825120" y="4897440"/>
                <a:chExt cx="486360" cy="407160"/>
              </a:xfrm>
            </p:grpSpPr>
            <p:sp>
              <p:nvSpPr>
                <p:cNvPr id="2311" name=""/>
                <p:cNvSpPr/>
                <p:nvPr/>
              </p:nvSpPr>
              <p:spPr>
                <a:xfrm>
                  <a:off x="901080" y="4926240"/>
                  <a:ext cx="329400" cy="3142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2" name=""/>
                <p:cNvSpPr/>
                <p:nvPr/>
              </p:nvSpPr>
              <p:spPr>
                <a:xfrm>
                  <a:off x="825120" y="4897440"/>
                  <a:ext cx="3121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3" name=""/>
                <p:cNvSpPr/>
                <p:nvPr/>
              </p:nvSpPr>
              <p:spPr>
                <a:xfrm>
                  <a:off x="1015200" y="4967280"/>
                  <a:ext cx="296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Comic Sans MS"/>
                    </a:rPr>
                    <a:t>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4" name=""/>
              <p:cNvGrpSpPr/>
              <p:nvPr/>
            </p:nvGrpSpPr>
            <p:grpSpPr>
              <a:xfrm>
                <a:off x="498240" y="4897440"/>
                <a:ext cx="486720" cy="407160"/>
                <a:chOff x="498240" y="4897440"/>
                <a:chExt cx="486720" cy="407160"/>
              </a:xfrm>
            </p:grpSpPr>
            <p:sp>
              <p:nvSpPr>
                <p:cNvPr id="2315" name=""/>
                <p:cNvSpPr/>
                <p:nvPr/>
              </p:nvSpPr>
              <p:spPr>
                <a:xfrm>
                  <a:off x="574200" y="4926240"/>
                  <a:ext cx="329760" cy="3142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6" name=""/>
                <p:cNvSpPr/>
                <p:nvPr/>
              </p:nvSpPr>
              <p:spPr>
                <a:xfrm>
                  <a:off x="498240" y="4897440"/>
                  <a:ext cx="3124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7" name=""/>
                <p:cNvSpPr/>
                <p:nvPr/>
              </p:nvSpPr>
              <p:spPr>
                <a:xfrm>
                  <a:off x="688320" y="49672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Comic Sans MS"/>
                    </a:rPr>
                    <a:t>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318" name=""/>
            <p:cNvGrpSpPr/>
            <p:nvPr/>
          </p:nvGrpSpPr>
          <p:grpSpPr>
            <a:xfrm>
              <a:off x="165240" y="4898880"/>
              <a:ext cx="486720" cy="407160"/>
              <a:chOff x="165240" y="4898880"/>
              <a:chExt cx="486720" cy="407160"/>
            </a:xfrm>
          </p:grpSpPr>
          <p:sp>
            <p:nvSpPr>
              <p:cNvPr id="2319" name=""/>
              <p:cNvSpPr/>
              <p:nvPr/>
            </p:nvSpPr>
            <p:spPr>
              <a:xfrm>
                <a:off x="241200" y="4927680"/>
                <a:ext cx="329760" cy="3142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165240" y="4898880"/>
                <a:ext cx="312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>
                <a:off x="355320" y="496872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22" name=""/>
          <p:cNvGrpSpPr/>
          <p:nvPr/>
        </p:nvGrpSpPr>
        <p:grpSpPr>
          <a:xfrm>
            <a:off x="6051600" y="3695760"/>
            <a:ext cx="1667880" cy="1553040"/>
            <a:chOff x="6051600" y="3695760"/>
            <a:chExt cx="1667880" cy="1553040"/>
          </a:xfrm>
        </p:grpSpPr>
        <p:sp>
          <p:nvSpPr>
            <p:cNvPr id="2323" name=""/>
            <p:cNvSpPr/>
            <p:nvPr/>
          </p:nvSpPr>
          <p:spPr>
            <a:xfrm>
              <a:off x="7102080" y="3695760"/>
              <a:ext cx="599760" cy="314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7102080" y="4105080"/>
              <a:ext cx="599760" cy="314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7119720" y="4489560"/>
              <a:ext cx="599760" cy="314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7119720" y="4870440"/>
              <a:ext cx="599760" cy="314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27" name=""/>
            <p:cNvGrpSpPr/>
            <p:nvPr/>
          </p:nvGrpSpPr>
          <p:grpSpPr>
            <a:xfrm>
              <a:off x="6690960" y="4076640"/>
              <a:ext cx="486720" cy="407160"/>
              <a:chOff x="6690960" y="4076640"/>
              <a:chExt cx="486720" cy="407160"/>
            </a:xfrm>
          </p:grpSpPr>
          <p:sp>
            <p:nvSpPr>
              <p:cNvPr id="2328" name=""/>
              <p:cNvSpPr/>
              <p:nvPr/>
            </p:nvSpPr>
            <p:spPr>
              <a:xfrm>
                <a:off x="6766920" y="4105440"/>
                <a:ext cx="329760" cy="3142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6690960" y="4076640"/>
                <a:ext cx="312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6881040" y="41464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1" name=""/>
            <p:cNvGrpSpPr/>
            <p:nvPr/>
          </p:nvGrpSpPr>
          <p:grpSpPr>
            <a:xfrm>
              <a:off x="6711840" y="4460760"/>
              <a:ext cx="486360" cy="407160"/>
              <a:chOff x="6711840" y="4460760"/>
              <a:chExt cx="486360" cy="407160"/>
            </a:xfrm>
          </p:grpSpPr>
          <p:sp>
            <p:nvSpPr>
              <p:cNvPr id="2332" name=""/>
              <p:cNvSpPr/>
              <p:nvPr/>
            </p:nvSpPr>
            <p:spPr>
              <a:xfrm>
                <a:off x="6787800" y="4489560"/>
                <a:ext cx="329400" cy="3142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6711840" y="4460760"/>
                <a:ext cx="312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6901920" y="4530600"/>
                <a:ext cx="296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5" name=""/>
            <p:cNvGrpSpPr/>
            <p:nvPr/>
          </p:nvGrpSpPr>
          <p:grpSpPr>
            <a:xfrm>
              <a:off x="6384600" y="4460760"/>
              <a:ext cx="486720" cy="407160"/>
              <a:chOff x="6384600" y="4460760"/>
              <a:chExt cx="486720" cy="407160"/>
            </a:xfrm>
          </p:grpSpPr>
          <p:sp>
            <p:nvSpPr>
              <p:cNvPr id="2336" name=""/>
              <p:cNvSpPr/>
              <p:nvPr/>
            </p:nvSpPr>
            <p:spPr>
              <a:xfrm>
                <a:off x="6460560" y="4489560"/>
                <a:ext cx="329760" cy="3142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6384600" y="4460760"/>
                <a:ext cx="312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6574680" y="4530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9" name=""/>
            <p:cNvGrpSpPr/>
            <p:nvPr/>
          </p:nvGrpSpPr>
          <p:grpSpPr>
            <a:xfrm>
              <a:off x="6384600" y="4840200"/>
              <a:ext cx="813240" cy="407160"/>
              <a:chOff x="6384600" y="4840200"/>
              <a:chExt cx="813240" cy="407160"/>
            </a:xfrm>
          </p:grpSpPr>
          <p:grpSp>
            <p:nvGrpSpPr>
              <p:cNvPr id="2340" name=""/>
              <p:cNvGrpSpPr/>
              <p:nvPr/>
            </p:nvGrpSpPr>
            <p:grpSpPr>
              <a:xfrm>
                <a:off x="6711480" y="4840200"/>
                <a:ext cx="486360" cy="407160"/>
                <a:chOff x="6711480" y="4840200"/>
                <a:chExt cx="486360" cy="407160"/>
              </a:xfrm>
            </p:grpSpPr>
            <p:sp>
              <p:nvSpPr>
                <p:cNvPr id="2341" name=""/>
                <p:cNvSpPr/>
                <p:nvPr/>
              </p:nvSpPr>
              <p:spPr>
                <a:xfrm>
                  <a:off x="6787440" y="4869000"/>
                  <a:ext cx="329400" cy="3142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2" name=""/>
                <p:cNvSpPr/>
                <p:nvPr/>
              </p:nvSpPr>
              <p:spPr>
                <a:xfrm>
                  <a:off x="6711480" y="4840200"/>
                  <a:ext cx="3121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3" name=""/>
                <p:cNvSpPr/>
                <p:nvPr/>
              </p:nvSpPr>
              <p:spPr>
                <a:xfrm>
                  <a:off x="6901560" y="4910040"/>
                  <a:ext cx="296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Comic Sans MS"/>
                    </a:rPr>
                    <a:t>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4" name=""/>
              <p:cNvGrpSpPr/>
              <p:nvPr/>
            </p:nvGrpSpPr>
            <p:grpSpPr>
              <a:xfrm>
                <a:off x="6384600" y="4840200"/>
                <a:ext cx="486720" cy="407160"/>
                <a:chOff x="6384600" y="4840200"/>
                <a:chExt cx="486720" cy="407160"/>
              </a:xfrm>
            </p:grpSpPr>
            <p:sp>
              <p:nvSpPr>
                <p:cNvPr id="2345" name=""/>
                <p:cNvSpPr/>
                <p:nvPr/>
              </p:nvSpPr>
              <p:spPr>
                <a:xfrm>
                  <a:off x="6460560" y="4869000"/>
                  <a:ext cx="329760" cy="3142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6" name=""/>
                <p:cNvSpPr/>
                <p:nvPr/>
              </p:nvSpPr>
              <p:spPr>
                <a:xfrm>
                  <a:off x="6384600" y="4840200"/>
                  <a:ext cx="3124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7" name=""/>
                <p:cNvSpPr/>
                <p:nvPr/>
              </p:nvSpPr>
              <p:spPr>
                <a:xfrm>
                  <a:off x="6574680" y="49100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Comic Sans MS"/>
                    </a:rPr>
                    <a:t>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348" name=""/>
            <p:cNvGrpSpPr/>
            <p:nvPr/>
          </p:nvGrpSpPr>
          <p:grpSpPr>
            <a:xfrm>
              <a:off x="6051600" y="4841640"/>
              <a:ext cx="486720" cy="407160"/>
              <a:chOff x="6051600" y="4841640"/>
              <a:chExt cx="486720" cy="407160"/>
            </a:xfrm>
          </p:grpSpPr>
          <p:sp>
            <p:nvSpPr>
              <p:cNvPr id="2349" name=""/>
              <p:cNvSpPr/>
              <p:nvPr/>
            </p:nvSpPr>
            <p:spPr>
              <a:xfrm>
                <a:off x="6127560" y="4870440"/>
                <a:ext cx="329760" cy="3142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6051600" y="4841640"/>
                <a:ext cx="312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6241680" y="49114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52" name=""/>
          <p:cNvSpPr/>
          <p:nvPr/>
        </p:nvSpPr>
        <p:spPr>
          <a:xfrm>
            <a:off x="7755840" y="3646440"/>
            <a:ext cx="124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"/>
          <p:cNvSpPr/>
          <p:nvPr/>
        </p:nvSpPr>
        <p:spPr>
          <a:xfrm>
            <a:off x="7764480" y="4046400"/>
            <a:ext cx="123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seg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"/>
          <p:cNvSpPr/>
          <p:nvPr/>
        </p:nvSpPr>
        <p:spPr>
          <a:xfrm>
            <a:off x="7792560" y="4456080"/>
            <a:ext cx="135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data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"/>
          <p:cNvSpPr/>
          <p:nvPr/>
        </p:nvSpPr>
        <p:spPr>
          <a:xfrm>
            <a:off x="7911000" y="4865760"/>
            <a:ext cx="89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fr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6D41-60F2-4E67-A067-AD3B62ECEE19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6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Internet structure: network of network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357" name="PlaceHolder 2"/>
          <p:cNvSpPr>
            <a:spLocks noGrp="1"/>
          </p:cNvSpPr>
          <p:nvPr>
            <p:ph/>
          </p:nvPr>
        </p:nvSpPr>
        <p:spPr>
          <a:xfrm>
            <a:off x="352440" y="1428480"/>
            <a:ext cx="43624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oughly hierarchic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national/international backbone providers (NBP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.g. BBN/GTE, Sprint, AT&amp;T, IBM, UUNe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terconnect (peer) with each other privately, or at public Network Access Point (NAPs)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regional ISP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nect into NBP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local ISP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compan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nect into regional ISP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8" name=""/>
          <p:cNvSpPr/>
          <p:nvPr/>
        </p:nvSpPr>
        <p:spPr>
          <a:xfrm>
            <a:off x="4924440" y="4191120"/>
            <a:ext cx="3848040" cy="685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BP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4981680" y="2962440"/>
            <a:ext cx="3848040" cy="790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BP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0" name=""/>
          <p:cNvGrpSpPr/>
          <p:nvPr/>
        </p:nvGrpSpPr>
        <p:grpSpPr>
          <a:xfrm>
            <a:off x="4790880" y="3751200"/>
            <a:ext cx="800280" cy="459720"/>
            <a:chOff x="4790880" y="3751200"/>
            <a:chExt cx="800280" cy="459720"/>
          </a:xfrm>
        </p:grpSpPr>
        <p:sp>
          <p:nvSpPr>
            <p:cNvPr id="2361" name=""/>
            <p:cNvSpPr/>
            <p:nvPr/>
          </p:nvSpPr>
          <p:spPr>
            <a:xfrm>
              <a:off x="4790880" y="3781080"/>
              <a:ext cx="800280" cy="390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4792680" y="3751200"/>
              <a:ext cx="79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NA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3" name=""/>
          <p:cNvGrpSpPr/>
          <p:nvPr/>
        </p:nvGrpSpPr>
        <p:grpSpPr>
          <a:xfrm>
            <a:off x="8086320" y="3760920"/>
            <a:ext cx="800280" cy="459720"/>
            <a:chOff x="8086320" y="3760920"/>
            <a:chExt cx="800280" cy="459720"/>
          </a:xfrm>
        </p:grpSpPr>
        <p:sp>
          <p:nvSpPr>
            <p:cNvPr id="2364" name=""/>
            <p:cNvSpPr/>
            <p:nvPr/>
          </p:nvSpPr>
          <p:spPr>
            <a:xfrm>
              <a:off x="8086320" y="3790800"/>
              <a:ext cx="800280" cy="390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8088120" y="3760920"/>
              <a:ext cx="79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NA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6" name=""/>
          <p:cNvSpPr/>
          <p:nvPr/>
        </p:nvSpPr>
        <p:spPr>
          <a:xfrm>
            <a:off x="6753240" y="3848040"/>
            <a:ext cx="181080" cy="190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 flipV="1">
            <a:off x="5238720" y="3524400"/>
            <a:ext cx="399960" cy="2570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 flipH="1" flipV="1">
            <a:off x="8210160" y="3590640"/>
            <a:ext cx="343080" cy="1998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 flipH="1" flipV="1">
            <a:off x="6810120" y="3647880"/>
            <a:ext cx="2844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5229360" y="4152960"/>
            <a:ext cx="390240" cy="33336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 flipH="1">
            <a:off x="8477280" y="4181400"/>
            <a:ext cx="247680" cy="19044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"/>
          <p:cNvSpPr/>
          <p:nvPr/>
        </p:nvSpPr>
        <p:spPr>
          <a:xfrm>
            <a:off x="6829560" y="4057560"/>
            <a:ext cx="0" cy="26676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"/>
          <p:cNvSpPr/>
          <p:nvPr/>
        </p:nvSpPr>
        <p:spPr>
          <a:xfrm>
            <a:off x="6772320" y="2600280"/>
            <a:ext cx="1952640" cy="590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7010280" y="2952720"/>
            <a:ext cx="133560" cy="1429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7120080" y="271764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gional 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>
            <a:off x="5086440" y="4695840"/>
            <a:ext cx="1952640" cy="590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6296040" y="4724280"/>
            <a:ext cx="133200" cy="142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5262480" y="481320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gional 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9" name=""/>
          <p:cNvGrpSpPr/>
          <p:nvPr/>
        </p:nvGrpSpPr>
        <p:grpSpPr>
          <a:xfrm>
            <a:off x="7419960" y="2066760"/>
            <a:ext cx="1056960" cy="695160"/>
            <a:chOff x="7419960" y="2066760"/>
            <a:chExt cx="1056960" cy="695160"/>
          </a:xfrm>
        </p:grpSpPr>
        <p:sp>
          <p:nvSpPr>
            <p:cNvPr id="2380" name=""/>
            <p:cNvSpPr/>
            <p:nvPr/>
          </p:nvSpPr>
          <p:spPr>
            <a:xfrm>
              <a:off x="7419960" y="2066760"/>
              <a:ext cx="1056960" cy="695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7524720" y="2098440"/>
              <a:ext cx="676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o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I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2" name=""/>
          <p:cNvGrpSpPr/>
          <p:nvPr/>
        </p:nvGrpSpPr>
        <p:grpSpPr>
          <a:xfrm>
            <a:off x="5429160" y="5133960"/>
            <a:ext cx="1056960" cy="695160"/>
            <a:chOff x="5429160" y="5133960"/>
            <a:chExt cx="1056960" cy="695160"/>
          </a:xfrm>
        </p:grpSpPr>
        <p:sp>
          <p:nvSpPr>
            <p:cNvPr id="2383" name=""/>
            <p:cNvSpPr/>
            <p:nvPr/>
          </p:nvSpPr>
          <p:spPr>
            <a:xfrm>
              <a:off x="5429160" y="5133960"/>
              <a:ext cx="1056960" cy="695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5533920" y="5165640"/>
              <a:ext cx="676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o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I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5" name=""/>
          <p:cNvSpPr/>
          <p:nvPr/>
        </p:nvSpPr>
        <p:spPr>
          <a:xfrm>
            <a:off x="6124680" y="5181480"/>
            <a:ext cx="10476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>
            <a:off x="8010360" y="2610000"/>
            <a:ext cx="105120" cy="114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75AA-6DB6-40F3-9E24-6B64EC8F3BE2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National Backbone Provider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388" name=""/>
          <p:cNvSpPr/>
          <p:nvPr/>
        </p:nvSpPr>
        <p:spPr>
          <a:xfrm>
            <a:off x="823680" y="1368360"/>
            <a:ext cx="48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.g. Sprint US backbone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9" name="" descr=""/>
          <p:cNvPicPr/>
          <p:nvPr/>
        </p:nvPicPr>
        <p:blipFill>
          <a:blip r:embed="rId1"/>
          <a:stretch/>
        </p:blipFill>
        <p:spPr>
          <a:xfrm>
            <a:off x="700200" y="1878120"/>
            <a:ext cx="7775640" cy="4535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A823-5206-4787-A2F3-687A508A0803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PlaceHolder 1"/>
          <p:cNvSpPr>
            <a:spLocks noGrp="1"/>
          </p:cNvSpPr>
          <p:nvPr>
            <p:ph type="title"/>
          </p:nvPr>
        </p:nvSpPr>
        <p:spPr>
          <a:xfrm>
            <a:off x="476280" y="33300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Internet History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391" name="PlaceHolder 2"/>
          <p:cNvSpPr>
            <a:spLocks noGrp="1"/>
          </p:cNvSpPr>
          <p:nvPr>
            <p:ph/>
          </p:nvPr>
        </p:nvSpPr>
        <p:spPr>
          <a:xfrm>
            <a:off x="533520" y="1790280"/>
            <a:ext cx="36957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961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Kleinrock - queueing theory shows effectiveness of packet-switch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964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Baran - packet-switching in military ne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967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RPAnet conceived by Advanced Research Projects Agenc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969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first ARPAnet node operation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2" name="PlaceHolder 3"/>
          <p:cNvSpPr>
            <a:spLocks noGrp="1"/>
          </p:cNvSpPr>
          <p:nvPr>
            <p:ph/>
          </p:nvPr>
        </p:nvSpPr>
        <p:spPr>
          <a:xfrm>
            <a:off x="4495680" y="1800360"/>
            <a:ext cx="3810240" cy="44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972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RPAnet demonstrated publicl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CP (Network Control Protocol) first host-host protocol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rst e-mail progra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RPAnet has 15 nod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3" name=""/>
          <p:cNvSpPr/>
          <p:nvPr/>
        </p:nvSpPr>
        <p:spPr>
          <a:xfrm>
            <a:off x="523800" y="1028880"/>
            <a:ext cx="777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1961-1972: Early packet-switching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4051-9E9C-4C8F-9266-26070F596028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4" name="PlaceHolder 1"/>
          <p:cNvSpPr>
            <a:spLocks noGrp="1"/>
          </p:cNvSpPr>
          <p:nvPr>
            <p:ph type="title"/>
          </p:nvPr>
        </p:nvSpPr>
        <p:spPr>
          <a:xfrm>
            <a:off x="476280" y="33300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Internet History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395" name="PlaceHolder 2"/>
          <p:cNvSpPr>
            <a:spLocks noGrp="1"/>
          </p:cNvSpPr>
          <p:nvPr>
            <p:ph/>
          </p:nvPr>
        </p:nvSpPr>
        <p:spPr>
          <a:xfrm>
            <a:off x="228600" y="1695600"/>
            <a:ext cx="4152960" cy="44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970: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ALOHAnet satellite network in Hawai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aloutsos is born 26 May ‘7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973: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Metcalfe’s PhD thesis proposes Etherne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974: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Cerf and Kahn - architecture for interconnecting network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late70’s: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proprietary architectures: DECnet, SNA, XN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late 70’s: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switching fixed length packets (ATM precursor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979: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ARPAnet has 200 nod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6" name="PlaceHolder 3"/>
          <p:cNvSpPr>
            <a:spLocks noGrp="1"/>
          </p:cNvSpPr>
          <p:nvPr>
            <p:ph/>
          </p:nvPr>
        </p:nvSpPr>
        <p:spPr>
          <a:xfrm>
            <a:off x="4495680" y="1800360"/>
            <a:ext cx="3810240" cy="44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Cerf and Kahn’s internetworking principle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inimalism, autonomy - no internal changes required to interconnect network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est effort service mod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ateless rout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centralized contro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define today’s Internet architectu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7" name=""/>
          <p:cNvSpPr/>
          <p:nvPr/>
        </p:nvSpPr>
        <p:spPr>
          <a:xfrm>
            <a:off x="523800" y="1028880"/>
            <a:ext cx="79725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1972-1980: Internetworking, new and proprietary n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>
            <a:off x="4457880" y="1771560"/>
            <a:ext cx="3809880" cy="41436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F5E9-74D7-4950-B809-3F93D91FA406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PlaceHolder 1"/>
          <p:cNvSpPr>
            <a:spLocks noGrp="1"/>
          </p:cNvSpPr>
          <p:nvPr>
            <p:ph type="title"/>
          </p:nvPr>
        </p:nvSpPr>
        <p:spPr>
          <a:xfrm>
            <a:off x="476280" y="33300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Internet History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400" name="PlaceHolder 2"/>
          <p:cNvSpPr>
            <a:spLocks noGrp="1"/>
          </p:cNvSpPr>
          <p:nvPr>
            <p:ph/>
          </p:nvPr>
        </p:nvSpPr>
        <p:spPr>
          <a:xfrm>
            <a:off x="533160" y="1790280"/>
            <a:ext cx="38098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983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deployment of TCP/I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982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smtp e-mail protocol defined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983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DNS defined for name-to-IP-address transl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985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ftp protocol defin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988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TCP congestion contro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1" name="PlaceHolder 3"/>
          <p:cNvSpPr>
            <a:spLocks noGrp="1"/>
          </p:cNvSpPr>
          <p:nvPr>
            <p:ph/>
          </p:nvPr>
        </p:nvSpPr>
        <p:spPr>
          <a:xfrm>
            <a:off x="4495680" y="1800360"/>
            <a:ext cx="3810240" cy="44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w national networks: Csnet, BITnet, NSFnet, Minit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00,000 hosts connected to confederation of network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2" name=""/>
          <p:cNvSpPr/>
          <p:nvPr/>
        </p:nvSpPr>
        <p:spPr>
          <a:xfrm>
            <a:off x="523800" y="1028880"/>
            <a:ext cx="79628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1980-1990: new protocols, a proliferation of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2965-43F4-4D5C-955D-7A8178C4C50D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What’s a protocol?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44680" y="121572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marL="212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definition of a behavi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12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re: the format of a communication exchange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12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quence of actions, format of information, predefined interpretation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12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"/>
          <p:cNvSpPr/>
          <p:nvPr/>
        </p:nvSpPr>
        <p:spPr>
          <a:xfrm>
            <a:off x="1413000" y="3160800"/>
            <a:ext cx="1761840" cy="276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7329600" y="3306600"/>
            <a:ext cx="354960" cy="932760"/>
            <a:chOff x="7329600" y="3306600"/>
            <a:chExt cx="354960" cy="932760"/>
          </a:xfrm>
        </p:grpSpPr>
        <p:sp>
          <p:nvSpPr>
            <p:cNvPr id="322" name=""/>
            <p:cNvSpPr/>
            <p:nvPr/>
          </p:nvSpPr>
          <p:spPr>
            <a:xfrm>
              <a:off x="7329600" y="4023720"/>
              <a:ext cx="354960" cy="215640"/>
            </a:xfrm>
            <a:prstGeom prst="parallelogram">
              <a:avLst>
                <a:gd name="adj" fmla="val 63412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509240" y="3312720"/>
              <a:ext cx="163080" cy="71640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331400" y="3515760"/>
              <a:ext cx="225000" cy="7171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329600" y="3306600"/>
              <a:ext cx="354960" cy="215640"/>
            </a:xfrm>
            <a:prstGeom prst="parallelogram">
              <a:avLst>
                <a:gd name="adj" fmla="val 63412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684560" y="3321720"/>
              <a:ext cx="0" cy="70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7556400" y="4023720"/>
              <a:ext cx="127800" cy="20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360200" y="3610440"/>
              <a:ext cx="149040" cy="413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381440" y="3735000"/>
              <a:ext cx="113040" cy="14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30" name=""/>
          <p:cNvGraphicFramePr/>
          <p:nvPr/>
        </p:nvGraphicFramePr>
        <p:xfrm>
          <a:off x="4699080" y="3021120"/>
          <a:ext cx="622080" cy="50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9080" y="3021120"/>
                    <a:ext cx="62208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32" name="" descr=""/>
          <p:cNvPicPr/>
          <p:nvPr/>
        </p:nvPicPr>
        <p:blipFill>
          <a:blip r:embed="rId3"/>
          <a:stretch/>
        </p:blipFill>
        <p:spPr>
          <a:xfrm>
            <a:off x="865080" y="2765520"/>
            <a:ext cx="561960" cy="69372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4"/>
          <a:stretch/>
        </p:blipFill>
        <p:spPr>
          <a:xfrm>
            <a:off x="3284640" y="3160800"/>
            <a:ext cx="676080" cy="69048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1863000" y="2873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1127160" y="3741480"/>
            <a:ext cx="2085840" cy="36180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853280" y="3530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089000" y="4151160"/>
            <a:ext cx="2162160" cy="438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1489320" y="4083120"/>
            <a:ext cx="1069200" cy="703800"/>
            <a:chOff x="1489320" y="4083120"/>
            <a:chExt cx="1069200" cy="703800"/>
          </a:xfrm>
        </p:grpSpPr>
        <p:sp>
          <p:nvSpPr>
            <p:cNvPr id="339" name=""/>
            <p:cNvSpPr/>
            <p:nvPr/>
          </p:nvSpPr>
          <p:spPr>
            <a:xfrm>
              <a:off x="1555560" y="4151160"/>
              <a:ext cx="93348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489320" y="4083120"/>
              <a:ext cx="1069200" cy="70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Got th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time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1" name=""/>
          <p:cNvSpPr/>
          <p:nvPr/>
        </p:nvSpPr>
        <p:spPr>
          <a:xfrm flipV="1">
            <a:off x="1251000" y="4722840"/>
            <a:ext cx="1952640" cy="3333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1612080" y="4749840"/>
            <a:ext cx="784080" cy="459720"/>
            <a:chOff x="1612080" y="4749840"/>
            <a:chExt cx="784080" cy="459720"/>
          </a:xfrm>
        </p:grpSpPr>
        <p:sp>
          <p:nvSpPr>
            <p:cNvPr id="343" name=""/>
            <p:cNvSpPr/>
            <p:nvPr/>
          </p:nvSpPr>
          <p:spPr>
            <a:xfrm>
              <a:off x="1679400" y="4827240"/>
              <a:ext cx="704880" cy="29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612080" y="4749840"/>
              <a:ext cx="78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2: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5305320" y="3044880"/>
            <a:ext cx="2026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TCP conn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req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5099040" y="5036760"/>
            <a:ext cx="2343240" cy="4287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375160" y="3370320"/>
            <a:ext cx="1762200" cy="276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5051520" y="3865320"/>
            <a:ext cx="2085840" cy="36180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5285880" y="3797280"/>
            <a:ext cx="2026440" cy="703800"/>
            <a:chOff x="5285880" y="3797280"/>
            <a:chExt cx="2026440" cy="703800"/>
          </a:xfrm>
        </p:grpSpPr>
        <p:sp>
          <p:nvSpPr>
            <p:cNvPr id="350" name=""/>
            <p:cNvSpPr/>
            <p:nvPr/>
          </p:nvSpPr>
          <p:spPr>
            <a:xfrm>
              <a:off x="5403960" y="3865320"/>
              <a:ext cx="1438200" cy="28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285880" y="3797280"/>
              <a:ext cx="2026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TCP conn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reply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5099040" y="4475160"/>
            <a:ext cx="2400480" cy="4190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5156280" y="4151160"/>
            <a:ext cx="3794040" cy="307080"/>
            <a:chOff x="5156280" y="4151160"/>
            <a:chExt cx="3794040" cy="307080"/>
          </a:xfrm>
        </p:grpSpPr>
        <p:sp>
          <p:nvSpPr>
            <p:cNvPr id="354" name=""/>
            <p:cNvSpPr/>
            <p:nvPr/>
          </p:nvSpPr>
          <p:spPr>
            <a:xfrm>
              <a:off x="5219640" y="4200480"/>
              <a:ext cx="3333960" cy="18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156280" y="4151160"/>
              <a:ext cx="3794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Comic Sans MS"/>
                </a:rPr>
                <a:t>Get http://gaia.cs.umass.edu/index.ht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5913000" y="5045040"/>
            <a:ext cx="962640" cy="459720"/>
            <a:chOff x="5913000" y="5045040"/>
            <a:chExt cx="962640" cy="459720"/>
          </a:xfrm>
        </p:grpSpPr>
        <p:sp>
          <p:nvSpPr>
            <p:cNvPr id="357" name=""/>
            <p:cNvSpPr/>
            <p:nvPr/>
          </p:nvSpPr>
          <p:spPr>
            <a:xfrm>
              <a:off x="6032160" y="5122800"/>
              <a:ext cx="704880" cy="29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13000" y="5045040"/>
              <a:ext cx="96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&lt;file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4213080" y="2351160"/>
            <a:ext cx="0" cy="38574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3830760" y="5483160"/>
            <a:ext cx="826920" cy="459720"/>
            <a:chOff x="3830760" y="5483160"/>
            <a:chExt cx="826920" cy="459720"/>
          </a:xfrm>
        </p:grpSpPr>
        <p:sp>
          <p:nvSpPr>
            <p:cNvPr id="361" name=""/>
            <p:cNvSpPr/>
            <p:nvPr/>
          </p:nvSpPr>
          <p:spPr>
            <a:xfrm>
              <a:off x="3908160" y="5580000"/>
              <a:ext cx="648000" cy="2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830760" y="5483160"/>
              <a:ext cx="82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FDB2-56BF-4FDD-B561-D2BBD46A851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3" name="PlaceHolder 1"/>
          <p:cNvSpPr>
            <a:spLocks noGrp="1"/>
          </p:cNvSpPr>
          <p:nvPr>
            <p:ph type="title"/>
          </p:nvPr>
        </p:nvSpPr>
        <p:spPr>
          <a:xfrm>
            <a:off x="476280" y="33300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Internet History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404" name="PlaceHolder 2"/>
          <p:cNvSpPr>
            <a:spLocks noGrp="1"/>
          </p:cNvSpPr>
          <p:nvPr>
            <p:ph/>
          </p:nvPr>
        </p:nvSpPr>
        <p:spPr>
          <a:xfrm>
            <a:off x="418680" y="1790280"/>
            <a:ext cx="409572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Early 1990’s: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RPAnet decommission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991: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SF lifts restrictions on commercial use of NSFnet (decommissioned, 1995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early 1990s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WWW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ypertext [Bush 1945, Nelson 1960’s]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TML, http: Berners-Le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994: Mosaic, later Netscap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ate 1990’s: commercializatio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of the WWW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5" name="PlaceHolder 3"/>
          <p:cNvSpPr>
            <a:spLocks noGrp="1"/>
          </p:cNvSpPr>
          <p:nvPr>
            <p:ph/>
          </p:nvPr>
        </p:nvSpPr>
        <p:spPr>
          <a:xfrm>
            <a:off x="4876560" y="1800360"/>
            <a:ext cx="3429000" cy="44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Late 1990’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st. 50 million computers on Inter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st. 100 million+ us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ckbone links running at 1 Gbp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6" name=""/>
          <p:cNvSpPr/>
          <p:nvPr/>
        </p:nvSpPr>
        <p:spPr>
          <a:xfrm>
            <a:off x="523800" y="1028880"/>
            <a:ext cx="79628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1990’s: commercialization, the WW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634B-632C-431B-8409-4ED391FDDB5E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Introduction: Summary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/>
          </p:nvPr>
        </p:nvSpPr>
        <p:spPr>
          <a:xfrm>
            <a:off x="574560" y="1565280"/>
            <a:ext cx="4384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Comic Sans MS"/>
              </a:rPr>
              <a:t>Covered a “ton” of material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ernet overview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at’s a protocol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twork edge, core, access networ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acket-switching versus circuit-switch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rformance: loss, dela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ayering and service model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ackbones, NAPs, ISP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istor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9" name="PlaceHolder 3"/>
          <p:cNvSpPr>
            <a:spLocks noGrp="1"/>
          </p:cNvSpPr>
          <p:nvPr>
            <p:ph/>
          </p:nvPr>
        </p:nvSpPr>
        <p:spPr>
          <a:xfrm>
            <a:off x="5114520" y="1579320"/>
            <a:ext cx="3724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You now have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text, overview, “feel” of network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re depth, detail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lat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 cour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29FF-2F1D-448D-9BB5-0D70667F8807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Faloutsos Golden Rules of Networking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thing is absolute in networks researc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s applies for first ru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re are no complicated concepts, just obscure jargon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7A4D-C201-4FFC-8A8C-114BB4A00FE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entralised versus Distributed Protocol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entralised: all information is collected in one place and then process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tributed: decisions are taken locally with partial or summary of the inform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8CCF-C0A9-4234-AE5F-D17B8924494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The Principles of the Internet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al: Interconnect existing net technologi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RPA packet radio, and ARPAN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acket switching? Felxibility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ade-off: poorer non-guaranteed performan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Design Philosophy of The DARPA Internet Protocols”, David Clark, MI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31B6-07B4-44B3-A580-ABB9D14728B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8T19:08:27Z</dcterms:created>
  <dc:creator>Don Towsley</dc:creator>
  <dc:description/>
  <dc:language>en-US</dc:language>
  <cp:lastModifiedBy>M Faloutsos</cp:lastModifiedBy>
  <dcterms:modified xsi:type="dcterms:W3CDTF">2005-03-31T19:00:36Z</dcterms:modified>
  <cp:revision>120</cp:revision>
  <dc:subject/>
  <dc:title>Part I: Introduction</dc:title>
</cp:coreProperties>
</file>