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FA-BDA6-4EF2-9520-1D06B407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1EA-A088-4902-B5A4-7C06E703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A1B-5F21-49A9-AA0C-6125CAFB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CAB-0C1C-4B2B-BC62-E051E29C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FBA-BF49-4800-9133-F59588B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4D7-9FA1-43A1-B516-A97E23E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7A6-1759-409E-B041-D5AEB783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DFD-CB8C-40F4-86DF-8C1D76E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FEE-2B54-430C-A1A4-8F090D0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13C-602A-4BBE-8869-90EFBFD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4E0-E504-4772-81C1-339C68B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294-F4F7-4E04-99A5-B6AA8FB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C52-D507-42F5-8A86-2D16DCD84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40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05280" y="1150560"/>
            <a:ext cx="8304840" cy="4982760"/>
            <a:chOff x="305280" y="1150560"/>
            <a:chExt cx="8304840" cy="4982760"/>
          </a:xfrm>
        </p:grpSpPr>
        <p:grpSp>
          <p:nvGrpSpPr>
            <p:cNvPr id="43" name=""/>
            <p:cNvGrpSpPr/>
            <p:nvPr/>
          </p:nvGrpSpPr>
          <p:grpSpPr>
            <a:xfrm>
              <a:off x="793440" y="1150560"/>
              <a:ext cx="7416360" cy="3026160"/>
              <a:chOff x="793440" y="1150560"/>
              <a:chExt cx="7416360" cy="3026160"/>
            </a:xfrm>
          </p:grpSpPr>
          <p:sp>
            <p:nvSpPr>
              <p:cNvPr id="44" name=""/>
              <p:cNvSpPr/>
              <p:nvPr/>
            </p:nvSpPr>
            <p:spPr>
              <a:xfrm flipV="1">
                <a:off x="8209800" y="1166760"/>
                <a:ext cx="0" cy="300924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V="1">
                <a:off x="6730920" y="1704240"/>
                <a:ext cx="0" cy="247212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4872240" y="1150560"/>
                <a:ext cx="0" cy="5439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5251680" y="3632400"/>
                <a:ext cx="0" cy="5439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4510080" y="3085920"/>
                <a:ext cx="0" cy="54612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772080" y="3632400"/>
                <a:ext cx="0" cy="5439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3030840" y="1692720"/>
                <a:ext cx="0" cy="140040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292840" y="3364560"/>
                <a:ext cx="0" cy="8121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1551960" y="3090960"/>
                <a:ext cx="0" cy="27324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813960" y="3364560"/>
                <a:ext cx="0" cy="81216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793440" y="3364560"/>
                <a:ext cx="148608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58760" y="3632760"/>
                <a:ext cx="147888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534680" y="3091320"/>
                <a:ext cx="296496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17880" y="1694880"/>
                <a:ext cx="370620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72600" y="1155600"/>
                <a:ext cx="333036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712840" y="4781160"/>
              <a:ext cx="16675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 rot="5400000">
              <a:off x="4364640" y="4884840"/>
              <a:ext cx="14396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2804040" y="4827600"/>
              <a:ext cx="1650960" cy="9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 rot="5400000">
              <a:off x="7056720" y="4579920"/>
              <a:ext cx="1780920" cy="13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 rot="5400000">
              <a:off x="-1800" y="4947840"/>
              <a:ext cx="149220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 rot="5400000">
              <a:off x="1316880" y="4732560"/>
              <a:ext cx="18748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H="1">
              <a:off x="319320" y="6113160"/>
              <a:ext cx="82836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8600" y="6095880"/>
            <a:ext cx="86868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amonn Keogh</cp:lastModifiedBy>
  <dcterms:modified xsi:type="dcterms:W3CDTF">2007-03-16T18:29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