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6ABC-7683-47D8-90FB-2E295282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D79-0FF4-4DC5-8521-FA41C422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AF1-FD5B-4E46-9B35-7D6E10DA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C77-0862-4B32-B5E7-860D8E8F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76F-A2CA-4812-BC82-F9594DD9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1A3-AC07-40B8-B9EA-132C0765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481-B238-4D79-95BE-E82427CD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6E1-E883-4449-9697-C6873C5A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93D-E0B1-40D8-9497-AC6F31E2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FC9-28CC-471B-9712-CD57F4DB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B0A-A19A-42DE-8B87-5861A8EF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847-4EE1-46AE-A884-D037FE37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0706-421B-4AB0-8DB0-D185716A1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408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05280" y="1150560"/>
            <a:ext cx="8304840" cy="4982760"/>
            <a:chOff x="305280" y="1150560"/>
            <a:chExt cx="8304840" cy="4982760"/>
          </a:xfrm>
        </p:grpSpPr>
        <p:grpSp>
          <p:nvGrpSpPr>
            <p:cNvPr id="43" name=""/>
            <p:cNvGrpSpPr/>
            <p:nvPr/>
          </p:nvGrpSpPr>
          <p:grpSpPr>
            <a:xfrm>
              <a:off x="793440" y="1150560"/>
              <a:ext cx="7416360" cy="3026160"/>
              <a:chOff x="793440" y="1150560"/>
              <a:chExt cx="7416360" cy="3026160"/>
            </a:xfrm>
          </p:grpSpPr>
          <p:sp>
            <p:nvSpPr>
              <p:cNvPr id="44" name=""/>
              <p:cNvSpPr/>
              <p:nvPr/>
            </p:nvSpPr>
            <p:spPr>
              <a:xfrm flipV="1">
                <a:off x="8209800" y="1166760"/>
                <a:ext cx="0" cy="300924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V="1">
                <a:off x="6730920" y="1704240"/>
                <a:ext cx="0" cy="247212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4872240" y="1150560"/>
                <a:ext cx="0" cy="54396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5251680" y="3632400"/>
                <a:ext cx="0" cy="54396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V="1">
                <a:off x="4510080" y="3085920"/>
                <a:ext cx="0" cy="54612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3772080" y="3632400"/>
                <a:ext cx="0" cy="54396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V="1">
                <a:off x="3030840" y="1692720"/>
                <a:ext cx="0" cy="140040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2292840" y="3364560"/>
                <a:ext cx="0" cy="81216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1551960" y="3090960"/>
                <a:ext cx="0" cy="27324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813960" y="3364560"/>
                <a:ext cx="0" cy="81216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793440" y="3364560"/>
                <a:ext cx="1486080" cy="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3758760" y="3632760"/>
                <a:ext cx="1478880" cy="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1534680" y="3091320"/>
                <a:ext cx="2964960" cy="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17880" y="1694880"/>
                <a:ext cx="3706200" cy="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72600" y="1155600"/>
                <a:ext cx="3330360" cy="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 rot="5400000">
              <a:off x="5712840" y="4781160"/>
              <a:ext cx="166752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 rot="5400000">
              <a:off x="4364640" y="4884840"/>
              <a:ext cx="143964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2804040" y="4827600"/>
              <a:ext cx="1650960" cy="9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 rot="5400000">
              <a:off x="7056720" y="4579920"/>
              <a:ext cx="1780920" cy="132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 rot="5400000">
              <a:off x="-1800" y="4947840"/>
              <a:ext cx="1492200" cy="8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 rot="5400000">
              <a:off x="1316880" y="4732560"/>
              <a:ext cx="18748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 flipH="1">
              <a:off x="319320" y="6113160"/>
              <a:ext cx="82836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28600" y="6095880"/>
            <a:ext cx="868680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amonn Keogh</cp:lastModifiedBy>
  <dcterms:modified xsi:type="dcterms:W3CDTF">2007-03-16T18:29:4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